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9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40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11.jpeg" ContentType="image/jpeg"/>
  <Override PartName="/ppt/media/image46.png" ContentType="image/png"/>
  <Override PartName="/ppt/media/image39.jpeg" ContentType="image/jpeg"/>
  <Override PartName="/ppt/media/image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5.png" ContentType="image/png"/>
  <Override PartName="/ppt/media/image42.jpeg" ContentType="image/jpe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  <p:custShowLst>
    <p:custShow name="Custom Show 2" id="0">
      <p:sldLst>
        <p:sld r:id="rId4"/>
        <p:sld r:id="rId5"/>
        <p:sld r:id="rId6"/>
        <p:sld r:id="rId7"/>
        <p:sld r:id="rId8"/>
        <p:sld r:id="rId9"/>
        <p:sld r:id="rId11"/>
        <p:sld r:id="rId12"/>
        <p:sld r:id="rId13"/>
        <p:sld r:id="rId17"/>
        <p:sld r:id="rId21"/>
        <p:sld r:id="rId23"/>
        <p:sld r:id="rId25"/>
        <p:sld r:id="rId27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FBC-AC11-451C-A37D-6AACBFD6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11B-D9B5-4039-8B22-D7940CFC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819-2B06-48D8-94BF-87383DB0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8CD-A29D-486E-8EF2-F87501AB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A5DE-9CF3-4CDC-A997-C2ACE233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8BD7-7FD6-4FB2-810A-A29FC353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B98F-E288-4B4F-811C-4D8938F3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7C99-C289-4E58-93A4-A806C1E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7038-3075-40F5-AE82-059BCC92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05B-E285-4C49-AB9B-CAABDB6F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0B04-0296-424D-9918-34808D91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068-B339-418B-9C14-C1907D4C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3316-35B3-4123-BB3D-A58B3F4B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23F3-2F52-4CFB-9F5C-CB0692A8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E19-E1D3-4136-AC3E-A18A663F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EE22-15DA-44A9-8FB6-35E2A6A7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8CB-BE1B-4049-9EDF-CC97F8EC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2AE-7943-4E98-B261-32DF6B03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55A-6378-413F-94C4-F215A4DE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93E-4370-4F2D-AAF0-A6080D2E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E88-531C-41FF-A8AF-B677159B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95D-F907-4871-9B51-73485BE7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F81-5DD2-433B-AF13-5AAFEBD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E39-2A93-4B90-B8DF-D8AC412E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2D7-2A14-42B3-BFFD-AEF6BC2D9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E70E-B0F6-4418-AB77-EC5FB4B03A19}" type="slidenum">
              <a:rPr b="0" lang="ar-SA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hyperlink" Target="http://www.google.com/imgres?imgurl=http://faculty.ccbcmd.edu/courses/bio141/labmanua/lab14/images/strep_pyogenes01.jpg&amp;imgrefurl=http://student.ccbcmd.edu/courses/bio141/labmanua/lab14/gpsp.html&amp;usg=__NL266kBKLSmfGmGFYvJb62Ucxs8=&amp;h=297&amp;w=394&amp;sz=80&amp;hl=en&amp;start=52&amp;zoom=1&amp;tbnid=LNR-hTNXOYhZjM:&amp;tbnh=93&amp;tbnw=124&amp;ei=HKJZUKObDafk4QSf7YH4CA&amp;prev=/search%3Fq%3DGRAM%2BPOSITIVE%2BCOCCI%26start%3D40%26hl%3Den%26safe%3Dactive%26sa%3DN%26gbv%3D2%26tbm%3Disch&amp;itbs=1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epts.washington.edu/nnptc/online_training/std_handbook/gallery/images/diplococci2.jpg&amp;imgrefurl=http://depts.washington.edu/nnptc/online_training/std_handbook/gallery/pages/diplococci2.html&amp;usg=__gJOZlbj-7MH1J9zgziz7Cu6KcFI=&amp;h=353&amp;w=500&amp;sz=30&amp;hl=en&amp;start=1&amp;zoom=1&amp;tbnid=oLrAXX0ZBNUYKM:&amp;tbnh=92&amp;tbnw=130&amp;ei=86lZULTGKIiRhQedlIHwDQ&amp;prev=/search%3Fq%3Dgram%2Bnegative%2Bdiplococci%26hl%3Den%26safe%3Dactive%26gbv%3D2%26tbm%3Disch&amp;itbs=1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google.com/imgres?imgurl=http://hicsigwiki.asid.net.au/images/b/b5/GNDC.jpg&amp;imgrefurl=http://hicsigwiki.asid.net.au/index.php%3Ftitle%3DBacterial_Gram_stain_images&amp;usg=__P5KFzd30Vffo8kuID0rsNnj9FIE=&amp;h=143&amp;w=178&amp;sz=8&amp;hl=en&amp;start=11&amp;zoom=1&amp;tbnid=Lz8TFU1pn7Tv9M:&amp;tbnh=81&amp;tbnw=101&amp;ei=86lZULTGKIiRhQedlIHwDQ&amp;prev=/search%3Fq%3Dgram%2Bnegative%2Bdiplococci%26hl%3Den%26safe%3Dactive%26gbv%3D2%26tbm%3Disch&amp;itbs=1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0433-C0E2-4C20-AE28-A926D48CD0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 POSITIVE &amp;  GRAM  NEGA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1920" y="632412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ndalus"/>
              </a:rPr>
              <a:t>Dr. Fawzia AL-Otaibi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Gram  posi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occi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acil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 /facltative          Anaerobe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erobe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to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oco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/facultative anaerobe                                  Anaerobic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ny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steria                                                                Clostridiu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car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tobacillus ,Bacillu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BCA2-2DE5-4FEC-81F2-0A27B871DF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Straight Connector 7"/>
          <p:cNvSpPr/>
          <p:nvPr/>
        </p:nvSpPr>
        <p:spPr>
          <a:xfrm>
            <a:off x="1295280" y="1065240"/>
            <a:ext cx="50292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2" name="Straight Arrow Connector 13"/>
          <p:cNvCxnSpPr/>
          <p:nvPr/>
        </p:nvCxnSpPr>
        <p:spPr>
          <a:xfrm flipH="1">
            <a:off x="1293120" y="1066320"/>
            <a:ext cx="3960" cy="2293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3" name="Straight Arrow Connector 15"/>
          <p:cNvCxnSpPr/>
          <p:nvPr/>
        </p:nvCxnSpPr>
        <p:spPr>
          <a:xfrm flipH="1">
            <a:off x="6323760" y="1068480"/>
            <a:ext cx="2520" cy="303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4" name="Straight Arrow Connector 18"/>
          <p:cNvCxnSpPr/>
          <p:nvPr/>
        </p:nvCxnSpPr>
        <p:spPr>
          <a:xfrm flipH="1">
            <a:off x="1294560" y="175248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5" name="Straight Connector 22"/>
          <p:cNvSpPr/>
          <p:nvPr/>
        </p:nvSpPr>
        <p:spPr>
          <a:xfrm>
            <a:off x="1295280" y="1751040"/>
            <a:ext cx="2286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6" name="Straight Arrow Connector 24"/>
          <p:cNvCxnSpPr/>
          <p:nvPr/>
        </p:nvCxnSpPr>
        <p:spPr>
          <a:xfrm flipH="1">
            <a:off x="3579120" y="1752120"/>
            <a:ext cx="3960" cy="305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7" name="Straight Arrow Connector 26"/>
          <p:cNvCxnSpPr/>
          <p:nvPr/>
        </p:nvCxnSpPr>
        <p:spPr>
          <a:xfrm flipH="1">
            <a:off x="1064520" y="2819520"/>
            <a:ext cx="396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8" name="Straight Connector 32"/>
          <p:cNvSpPr/>
          <p:nvPr/>
        </p:nvSpPr>
        <p:spPr>
          <a:xfrm flipH="1">
            <a:off x="6322680" y="1752480"/>
            <a:ext cx="3240" cy="236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Straight Connector 34"/>
          <p:cNvSpPr/>
          <p:nvPr/>
        </p:nvSpPr>
        <p:spPr>
          <a:xfrm>
            <a:off x="3352680" y="4113360"/>
            <a:ext cx="449604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0" name="Straight Arrow Connector 36"/>
          <p:cNvCxnSpPr/>
          <p:nvPr/>
        </p:nvCxnSpPr>
        <p:spPr>
          <a:xfrm flipH="1">
            <a:off x="3351960" y="411480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1" name="Straight Arrow Connector 38"/>
          <p:cNvCxnSpPr/>
          <p:nvPr/>
        </p:nvCxnSpPr>
        <p:spPr>
          <a:xfrm flipH="1">
            <a:off x="7846200" y="4114800"/>
            <a:ext cx="2520" cy="381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2" name="Straight Arrow Connector 40"/>
          <p:cNvCxnSpPr/>
          <p:nvPr/>
        </p:nvCxnSpPr>
        <p:spPr>
          <a:xfrm flipH="1">
            <a:off x="3579120" y="2211120"/>
            <a:ext cx="3960" cy="76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6472-D793-4B7D-977B-7CC54EA802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828800" y="1542960"/>
            <a:ext cx="5970600" cy="4934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452680" cy="2095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444600" y="304920"/>
            <a:ext cx="2822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3185-6A5E-4DEB-AC56-DABB054F00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88786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5B3E-BD32-422A-BAAF-E2EBDE3731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0" name="Picture 2" descr="C:\Documents and Settings\Dr.Fauzia\My Documents\My Pictures\Gram_Positive_Classification.png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653-96CA-44B4-8FA6-99F7EB8C7F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838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posi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agulase-positive most importa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athoge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. epidermidi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d other coagulase negative staphylococci egS saprophiti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762120" y="3962520"/>
            <a:ext cx="65530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ept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talase-nega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hains or pair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trep. pyoge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trep.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Viridans-type stre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nterococcus faeca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7" descr="C:\Documents and Settings\Dr.Fauzia\My Documents\My Pictures\coccus.gif"/>
          <p:cNvPicPr/>
          <p:nvPr/>
        </p:nvPicPr>
        <p:blipFill>
          <a:blip r:embed="rId1"/>
          <a:stretch/>
        </p:blipFill>
        <p:spPr>
          <a:xfrm>
            <a:off x="5562720" y="914400"/>
            <a:ext cx="2508120" cy="2522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Documents and Settings\Dr.Fauzia\My Documents\My Pictures\catal.jpg"/>
          <p:cNvPicPr/>
          <p:nvPr/>
        </p:nvPicPr>
        <p:blipFill>
          <a:blip r:embed="rId2"/>
          <a:stretch/>
        </p:blipFill>
        <p:spPr>
          <a:xfrm>
            <a:off x="5715000" y="4267080"/>
            <a:ext cx="256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AFBB-8FEF-49B6-B0E7-E871C60180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867560" cy="288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48080" y="3624120"/>
            <a:ext cx="4190760" cy="26672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2790720" y="30574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am-positive cocci in ch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2585160" y="629136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am-positive cocci in cluster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36CB-8A64-45A8-927A-965CF36DB5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3" name="Picture 2" descr="C:\Documents and Settings\Dr.Fauzia\My Documents\My Pictures\princ_rm_photo_of_mrsa_abscess.jpg"/>
          <p:cNvPicPr/>
          <p:nvPr/>
        </p:nvPicPr>
        <p:blipFill>
          <a:blip r:embed="rId1"/>
          <a:stretch/>
        </p:blipFill>
        <p:spPr>
          <a:xfrm>
            <a:off x="838080" y="3124080"/>
            <a:ext cx="2948040" cy="27432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2987280" y="5335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1066680" y="5181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BSCES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3" descr="C:\Documents and Settings\Dr.Fauzia\My Documents\My Pictures\grapes.gif"/>
          <p:cNvPicPr/>
          <p:nvPr/>
        </p:nvPicPr>
        <p:blipFill>
          <a:blip r:embed="rId2"/>
          <a:stretch/>
        </p:blipFill>
        <p:spPr>
          <a:xfrm>
            <a:off x="5181480" y="1905120"/>
            <a:ext cx="2400480" cy="28573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6"/>
          <p:cNvSpPr/>
          <p:nvPr/>
        </p:nvSpPr>
        <p:spPr>
          <a:xfrm>
            <a:off x="4876920" y="525780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am positive cocci in cluster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8" name="Picture 4" descr="C:\Documents and Settings\Dr.Fauzia\My Documents\My Pictures\abscess_5931_lg.jpg"/>
          <p:cNvPicPr/>
          <p:nvPr/>
        </p:nvPicPr>
        <p:blipFill>
          <a:blip r:embed="rId3"/>
          <a:stretch/>
        </p:blipFill>
        <p:spPr>
          <a:xfrm>
            <a:off x="838080" y="106668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50F1-979A-4929-A9D6-101DFA336F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2" descr="C:\Documents and Settings\Dr.Fauzia\My Documents\My Pictures\134_posCocci.jpg"/>
          <p:cNvPicPr/>
          <p:nvPr/>
        </p:nvPicPr>
        <p:blipFill>
          <a:blip r:embed="rId1"/>
          <a:stretch/>
        </p:blipFill>
        <p:spPr>
          <a:xfrm>
            <a:off x="380880" y="152280"/>
            <a:ext cx="3276720" cy="2590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3581280" cy="2971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C:\Documents and Settings\Dr.Fauzia\My Documents\My Pictures\michael-abbey-streptococcus-pyogenes-bacteria-gram-positive-cocci-brightfield.jpg"/>
          <p:cNvPicPr/>
          <p:nvPr/>
        </p:nvPicPr>
        <p:blipFill>
          <a:blip r:embed="rId3"/>
          <a:stretch/>
        </p:blipFill>
        <p:spPr>
          <a:xfrm>
            <a:off x="380880" y="3352680"/>
            <a:ext cx="375624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914400" y="2743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oup A 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4800600" y="6248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eptococcus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5" name="Picture 6" descr="C:\Documents and Settings\Dr.Fauzia\My Documents\My Pictures\str-mutans.bmp"/>
          <p:cNvPicPr/>
          <p:nvPr/>
        </p:nvPicPr>
        <p:blipFill>
          <a:blip r:embed="rId4"/>
          <a:stretch/>
        </p:blipFill>
        <p:spPr>
          <a:xfrm>
            <a:off x="4952880" y="228600"/>
            <a:ext cx="3114720" cy="22525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0"/>
          <p:cNvSpPr/>
          <p:nvPr/>
        </p:nvSpPr>
        <p:spPr>
          <a:xfrm>
            <a:off x="4952880" y="2666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eptococcus virida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coc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viridans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flora -infective end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pyogenes dividedby type of haemolysi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52FA-0999-4E0A-B99C-3266E1E4C0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5800" y="22096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 A, beta hemolytic stre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yngitis, cellul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heumatic fev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grating polyarthriti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dit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unologic cross reactiv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ute glomerulonephr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ema, hypertension, hematur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-antibody complex deposi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C50E-669C-4220-9881-BD14637764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2" name="Picture 7" descr="C:\Documents and Settings\Dr.Fauzia\My Documents\My Pictures\impet7.jpg"/>
          <p:cNvPicPr/>
          <p:nvPr/>
        </p:nvPicPr>
        <p:blipFill>
          <a:blip r:embed="rId1"/>
          <a:stretch/>
        </p:blipFill>
        <p:spPr>
          <a:xfrm>
            <a:off x="4267080" y="914400"/>
            <a:ext cx="3327480" cy="2819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Documents and Settings\Dr.Fauzia\My Documents\My Pictures\necfasc.jpg"/>
          <p:cNvPicPr/>
          <p:nvPr/>
        </p:nvPicPr>
        <p:blipFill>
          <a:blip r:embed="rId2"/>
          <a:stretch/>
        </p:blipFill>
        <p:spPr>
          <a:xfrm>
            <a:off x="685800" y="3657600"/>
            <a:ext cx="3124080" cy="2638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243828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oup A streptococci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5" name="Picture 4" descr="C:\Documents and Settings\Dr.Fauzia\My Documents\My Pictures\cellulitis5.jpg"/>
          <p:cNvPicPr/>
          <p:nvPr/>
        </p:nvPicPr>
        <p:blipFill>
          <a:blip r:embed="rId3"/>
          <a:stretch/>
        </p:blipFill>
        <p:spPr>
          <a:xfrm>
            <a:off x="6248520" y="3809880"/>
            <a:ext cx="2387520" cy="2362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:\Documents and Settings\Dr.Fauzia\My Documents\My Pictures\cellulitis_794_lg.jpg"/>
          <p:cNvPicPr/>
          <p:nvPr/>
        </p:nvPicPr>
        <p:blipFill>
          <a:blip r:embed="rId4"/>
          <a:stretch/>
        </p:blipFill>
        <p:spPr>
          <a:xfrm>
            <a:off x="3962520" y="4038480"/>
            <a:ext cx="2238120" cy="2210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C:\Documents and Settings\Dr.Fauzia\My Documents\My Pictures\strep-thr.jpg"/>
          <p:cNvPicPr/>
          <p:nvPr/>
        </p:nvPicPr>
        <p:blipFill>
          <a:blip r:embed="rId5"/>
          <a:stretch/>
        </p:blipFill>
        <p:spPr>
          <a:xfrm>
            <a:off x="457200" y="9907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484-517A-4275-A46E-96EE6BFBC3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53384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77120" cy="3913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Bacterial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. pneumoni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968E-5383-44DA-92AB-5A1B268B08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3" descr="pneumococcus"/>
          <p:cNvPicPr/>
          <p:nvPr/>
        </p:nvPicPr>
        <p:blipFill>
          <a:blip r:embed="rId1"/>
          <a:stretch/>
        </p:blipFill>
        <p:spPr>
          <a:xfrm>
            <a:off x="2360520" y="1324080"/>
            <a:ext cx="434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RAM POSITIVE BACIL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83B4-23BB-444C-940C-8ED1CC53C0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152280" y="874800"/>
            <a:ext cx="2590920" cy="1671480"/>
          </a:xfrm>
          <a:prstGeom prst="rect">
            <a:avLst/>
          </a:prstGeom>
          <a:ln w="0">
            <a:noFill/>
          </a:ln>
        </p:spPr>
      </p:pic>
      <p:pic>
        <p:nvPicPr>
          <p:cNvPr id="304" name="Diagram 2" descr=""/>
          <p:cNvPicPr/>
          <p:nvPr/>
        </p:nvPicPr>
        <p:blipFill>
          <a:blip r:embed="rId2"/>
          <a:stretch/>
        </p:blipFill>
        <p:spPr>
          <a:xfrm>
            <a:off x="2189160" y="1066680"/>
            <a:ext cx="66801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erobic 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etani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. perfring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 gangarene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botulinum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ulis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weakness--&gt;paraly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plopia,  dysphagia--&gt;respiratory fail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9FCB-3299-497D-A47B-FA6826C6DC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8" name="Picture 3" descr="c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"/>
          <p:cNvPicPr/>
          <p:nvPr/>
        </p:nvPicPr>
        <p:blipFill>
          <a:blip r:embed="rId2"/>
          <a:stretch/>
        </p:blipFill>
        <p:spPr>
          <a:xfrm>
            <a:off x="4419720" y="20574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t2.gstatic.com/images?q=tbn:ANd9GcQomCxJiSShggm0Whxq-dGK43A69UPhlzwy4cXPk3RxSpABhEMJ3E0pYk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1981080"/>
            <a:ext cx="18921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erobic gram-positive bacill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4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. diphtheria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ver, pharyngitis, cervical lymphadenopath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ck, gray, adherent membra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quelae--&gt;airway obstruction, my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4161-0DB3-41F5-B842-223729446E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B77A-5307-40FE-9B20-2FAD3DA024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ram-Negative Co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gonorrho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Gon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Mening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th Gram-negative intracellular dip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oraxella catarrh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7" name="Picture 9" descr="http://t0.gstatic.com/images?q=tbn:ANd9GcQpW179pkNXE2aRFStiUZACWQqZnkNHIuNtVw5AiFTOMSsQ0jDJZwQq4x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191120"/>
            <a:ext cx="313056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http://t3.gstatic.com/images?q=tbn:ANd9GcRICJwaTjfdOLoQHb1rG-0Qm9eOc20LZOLmHvcMkIOLkxdPnvqGOosp9G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4191120"/>
            <a:ext cx="25146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teric Bacteria  they ferment sugars most important are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hig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Yersinia and Klebsiella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rote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2763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B3D3-ED3A-4B06-863D-D55E21C841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3"/>
          <p:cNvSpPr/>
          <p:nvPr/>
        </p:nvSpPr>
        <p:spPr>
          <a:xfrm>
            <a:off x="3618000" y="556272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am-negative bacilli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astidious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ordetella pertus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Campylobacter jej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Legionella pneumophi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aerobic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acteroides fragi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Fuso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048120" cy="2104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http://t0.gstatic.com/images?q=tbn:ANd9GcTlBN0MbP_VJT7VeWHEamD0nJldgYkofx-QwtivGkR729BCcvTqDWMaTo7u"/>
          <p:cNvPicPr/>
          <p:nvPr/>
        </p:nvPicPr>
        <p:blipFill>
          <a:blip r:embed="rId2"/>
          <a:stretch/>
        </p:blipFill>
        <p:spPr>
          <a:xfrm>
            <a:off x="4952880" y="4191120"/>
            <a:ext cx="3200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non fermentative i.e. they do not ferment sugars e.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eudomonas that causes infection 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munocompromised patients                        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ise negative non fermentative e.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inobacter spe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B90C-E5A5-4AFD-9A2F-88AED26A98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comma shaped and also fermentative most importan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Vibrio cholera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causes cholera which is a disease characterized by severe diarrhea and dehyd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DB5E-BC0D-4496-947C-F172B8A70B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  S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F90-0585-4972-B74C-53B925B14D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990720"/>
            <a:ext cx="377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in 1884 by the Danish physician Hans Christian Gra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mportant tool in bacterial taxonomy, distinguishing so-called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remain coloured after the staining procedure, from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do not retain dye and need to be counter-stain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applied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re cultur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bacteria or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inical specimen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49620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6172200" y="3029040"/>
            <a:ext cx="1790640" cy="1671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3962520" y="48006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p: Pure culture of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. coli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Gram-negative rod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ottom: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eisseria gonorrhoea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a smear of urethral pu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ram-negative cocci, with pus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715000" y="1047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Gram-stainable bac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nusual gram-posi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pirocha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Obligate intra-cellular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6" name="Picture 5" descr="http://t2.gstatic.com/images?q=tbn:ANd9GcS7imn9u5I12FQ5P8qzXgRzoNDKTwvg2k2Hhy2i-SZjFnxDT2XNtJuNvg"/>
          <p:cNvPicPr/>
          <p:nvPr/>
        </p:nvPicPr>
        <p:blipFill>
          <a:blip r:embed="rId1"/>
          <a:stretch/>
        </p:blipFill>
        <p:spPr>
          <a:xfrm>
            <a:off x="3505320" y="1676520"/>
            <a:ext cx="11714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usual Gram-posi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ycoplasm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mallest free-living organis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 cell wal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M. pneumonia, M. genital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780D-5525-4030-990F-32CB2EDC62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posi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hick, homogenous sheath of peptidoglycan 20-80 n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c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htly bound acidic polysaccharides, includin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ichoic acid and lipoteichoic aci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n crystal violet and stain pur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nega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uter membrane containing lipopolysaccharide (LP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ll of peptidoglyc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iplasmic spa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ner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ose crystal violet and stain pink from safranin counterst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7617-C765-4D0E-A7D1-CB58CB2A34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5" descr="cell wall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1480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Negat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E7A3-5359-47D1-939E-190306C134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336760" y="1943280"/>
            <a:ext cx="507960" cy="86328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280"/>
              <a:gd name="textAreaBottom" fmla="*/ 813240 h 863280"/>
            </a:gdLst>
            <a:ahLst/>
            <a:rect l="textAreaLeft" t="textAreaTop" r="textAreaRight" b="textAreaBottom"/>
            <a:pathLst>
              <a:path w="21600" h="36699">
                <a:moveTo>
                  <a:pt x="7290" y="0"/>
                </a:moveTo>
                <a:arcTo wR="7290" hR="7290" stAng="16200000" swAng="-5400000"/>
                <a:lnTo>
                  <a:pt x="0" y="29409"/>
                </a:lnTo>
                <a:arcTo wR="7290" hR="7290" stAng="10800000" swAng="-5400000"/>
                <a:lnTo>
                  <a:pt x="14310" y="36699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8" name="Group 12"/>
          <p:cNvGrpSpPr/>
          <p:nvPr/>
        </p:nvGrpSpPr>
        <p:grpSpPr>
          <a:xfrm>
            <a:off x="2438280" y="1701720"/>
            <a:ext cx="825480" cy="216000"/>
            <a:chOff x="2438280" y="1701720"/>
            <a:chExt cx="825480" cy="216000"/>
          </a:xfrm>
        </p:grpSpPr>
        <p:sp>
          <p:nvSpPr>
            <p:cNvPr id="109" name="Freeform 7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32"/>
                  </a:lnTo>
                  <a:lnTo>
                    <a:pt x="56" y="0"/>
                  </a:lnTo>
                  <a:lnTo>
                    <a:pt x="440" y="0"/>
                  </a:lnTo>
                  <a:lnTo>
                    <a:pt x="440" y="32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32"/>
                  </a:lnTo>
                  <a:lnTo>
                    <a:pt x="104" y="32"/>
                  </a:lnTo>
                  <a:lnTo>
                    <a:pt x="56" y="32"/>
                  </a:lnTo>
                  <a:lnTo>
                    <a:pt x="56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4" name="Oval 14"/>
          <p:cNvSpPr/>
          <p:nvPr/>
        </p:nvSpPr>
        <p:spPr>
          <a:xfrm>
            <a:off x="3263760" y="196848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3263760" y="205740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3263760" y="214632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263760" y="223524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Oval 18"/>
          <p:cNvSpPr/>
          <p:nvPr/>
        </p:nvSpPr>
        <p:spPr>
          <a:xfrm>
            <a:off x="3263760" y="232416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Freeform 20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3098880" y="2705040"/>
            <a:ext cx="863640" cy="1015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3289320" y="3822840"/>
            <a:ext cx="507960" cy="86364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6714">
                <a:moveTo>
                  <a:pt x="7290" y="0"/>
                </a:moveTo>
                <a:arcTo wR="7290" hR="7290" stAng="16200000" swAng="-5400000"/>
                <a:lnTo>
                  <a:pt x="0" y="29424"/>
                </a:lnTo>
                <a:arcTo wR="7290" hR="7290" stAng="10800000" swAng="-5400000"/>
                <a:lnTo>
                  <a:pt x="14310" y="36714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" name="Group 29"/>
          <p:cNvGrpSpPr/>
          <p:nvPr/>
        </p:nvGrpSpPr>
        <p:grpSpPr>
          <a:xfrm>
            <a:off x="3390840" y="3581280"/>
            <a:ext cx="825480" cy="216000"/>
            <a:chOff x="3390840" y="3581280"/>
            <a:chExt cx="825480" cy="216000"/>
          </a:xfrm>
        </p:grpSpPr>
        <p:sp>
          <p:nvSpPr>
            <p:cNvPr id="124" name="Freeform 24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104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24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84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Freeform 28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9" name="Oval 31"/>
          <p:cNvSpPr/>
          <p:nvPr/>
        </p:nvSpPr>
        <p:spPr>
          <a:xfrm>
            <a:off x="4216320" y="383544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Oval 32"/>
          <p:cNvSpPr/>
          <p:nvPr/>
        </p:nvSpPr>
        <p:spPr>
          <a:xfrm>
            <a:off x="4216320" y="392436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4216320" y="401328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4216320" y="410220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216320" y="419112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Freeform 36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Freeform 37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4051440" y="4584600"/>
            <a:ext cx="863640" cy="1018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AutoShape 39"/>
          <p:cNvSpPr/>
          <p:nvPr/>
        </p:nvSpPr>
        <p:spPr>
          <a:xfrm>
            <a:off x="5765760" y="238752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" name="Group 45"/>
          <p:cNvGrpSpPr/>
          <p:nvPr/>
        </p:nvGrpSpPr>
        <p:grpSpPr>
          <a:xfrm>
            <a:off x="5867280" y="2146320"/>
            <a:ext cx="825480" cy="215640"/>
            <a:chOff x="5867280" y="2146320"/>
            <a:chExt cx="825480" cy="215640"/>
          </a:xfrm>
        </p:grpSpPr>
        <p:sp>
          <p:nvSpPr>
            <p:cNvPr id="139" name="Freeform 40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Freeform 41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112"/>
                  </a:moveTo>
                  <a:lnTo>
                    <a:pt x="0" y="32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32"/>
                  </a:lnTo>
                  <a:lnTo>
                    <a:pt x="432" y="56"/>
                  </a:lnTo>
                  <a:lnTo>
                    <a:pt x="384" y="56"/>
                  </a:lnTo>
                  <a:lnTo>
                    <a:pt x="384" y="32"/>
                  </a:lnTo>
                  <a:lnTo>
                    <a:pt x="96" y="32"/>
                  </a:lnTo>
                  <a:lnTo>
                    <a:pt x="48" y="32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Freeform 42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Freeform 43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Freeform 44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4" name="Oval 47"/>
          <p:cNvSpPr/>
          <p:nvPr/>
        </p:nvSpPr>
        <p:spPr>
          <a:xfrm>
            <a:off x="6692760" y="2413080"/>
            <a:ext cx="76320" cy="633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Oval 48"/>
          <p:cNvSpPr/>
          <p:nvPr/>
        </p:nvSpPr>
        <p:spPr>
          <a:xfrm>
            <a:off x="6692760" y="250200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Oval 49"/>
          <p:cNvSpPr/>
          <p:nvPr/>
        </p:nvSpPr>
        <p:spPr>
          <a:xfrm>
            <a:off x="6692760" y="259092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Oval 50"/>
          <p:cNvSpPr/>
          <p:nvPr/>
        </p:nvSpPr>
        <p:spPr>
          <a:xfrm>
            <a:off x="6692760" y="267984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51"/>
          <p:cNvSpPr/>
          <p:nvPr/>
        </p:nvSpPr>
        <p:spPr>
          <a:xfrm>
            <a:off x="6692760" y="276876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Freeform 52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Freeform 53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AutoShape 54"/>
          <p:cNvSpPr/>
          <p:nvPr/>
        </p:nvSpPr>
        <p:spPr>
          <a:xfrm>
            <a:off x="6527880" y="3149640"/>
            <a:ext cx="876240" cy="101520"/>
          </a:xfrm>
          <a:prstGeom prst="roundRect">
            <a:avLst>
              <a:gd name="adj" fmla="val 50000"/>
            </a:avLst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AutoShape 55"/>
          <p:cNvSpPr/>
          <p:nvPr/>
        </p:nvSpPr>
        <p:spPr>
          <a:xfrm>
            <a:off x="1473120" y="542304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3" name="Group 61"/>
          <p:cNvGrpSpPr/>
          <p:nvPr/>
        </p:nvGrpSpPr>
        <p:grpSpPr>
          <a:xfrm>
            <a:off x="1574640" y="5181480"/>
            <a:ext cx="838440" cy="216000"/>
            <a:chOff x="1574640" y="5181480"/>
            <a:chExt cx="838440" cy="216000"/>
          </a:xfrm>
        </p:grpSpPr>
        <p:sp>
          <p:nvSpPr>
            <p:cNvPr id="154" name="Freeform 56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Freeform 57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40" y="0"/>
                  </a:lnTo>
                  <a:lnTo>
                    <a:pt x="440" y="24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Freeform 58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Freeform 59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Freeform 60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9" name="Oval 63"/>
          <p:cNvSpPr/>
          <p:nvPr/>
        </p:nvSpPr>
        <p:spPr>
          <a:xfrm>
            <a:off x="2400480" y="544824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2400480" y="553716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2400480" y="5626080"/>
            <a:ext cx="88560" cy="507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2400480" y="571500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400480" y="580392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AutoShape 70"/>
          <p:cNvSpPr/>
          <p:nvPr/>
        </p:nvSpPr>
        <p:spPr>
          <a:xfrm>
            <a:off x="2235240" y="6184800"/>
            <a:ext cx="876240" cy="1018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74"/>
          <p:cNvSpPr/>
          <p:nvPr/>
        </p:nvSpPr>
        <p:spPr>
          <a:xfrm>
            <a:off x="1448280" y="167652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ystal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Rectangle 75"/>
          <p:cNvSpPr/>
          <p:nvPr/>
        </p:nvSpPr>
        <p:spPr>
          <a:xfrm>
            <a:off x="1447560" y="18543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Rectangle 76"/>
          <p:cNvSpPr/>
          <p:nvPr/>
        </p:nvSpPr>
        <p:spPr>
          <a:xfrm>
            <a:off x="6629040" y="152388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'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Rectangle 77"/>
          <p:cNvSpPr/>
          <p:nvPr/>
        </p:nvSpPr>
        <p:spPr>
          <a:xfrm>
            <a:off x="6628320" y="17017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Rectangle 78"/>
          <p:cNvSpPr/>
          <p:nvPr/>
        </p:nvSpPr>
        <p:spPr>
          <a:xfrm>
            <a:off x="5866200" y="411480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olorise with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Rectangle 79"/>
          <p:cNvSpPr/>
          <p:nvPr/>
        </p:nvSpPr>
        <p:spPr>
          <a:xfrm>
            <a:off x="5867280" y="429264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eto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80"/>
          <p:cNvSpPr/>
          <p:nvPr/>
        </p:nvSpPr>
        <p:spPr>
          <a:xfrm>
            <a:off x="4151520" y="5880240"/>
            <a:ext cx="19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unterstain wi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81"/>
          <p:cNvSpPr/>
          <p:nvPr/>
        </p:nvSpPr>
        <p:spPr>
          <a:xfrm>
            <a:off x="4152240" y="605808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methyl r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7835760" y="419112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Freeform 98"/>
          <p:cNvSpPr/>
          <p:nvPr/>
        </p:nvSpPr>
        <p:spPr>
          <a:xfrm>
            <a:off x="8229600" y="419112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Freeform 99"/>
          <p:cNvSpPr/>
          <p:nvPr/>
        </p:nvSpPr>
        <p:spPr>
          <a:xfrm>
            <a:off x="8305920" y="388620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Freeform 102"/>
          <p:cNvSpPr/>
          <p:nvPr/>
        </p:nvSpPr>
        <p:spPr>
          <a:xfrm>
            <a:off x="8001000" y="373392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Freeform 103"/>
          <p:cNvSpPr/>
          <p:nvPr/>
        </p:nvSpPr>
        <p:spPr>
          <a:xfrm>
            <a:off x="8001000" y="4495680"/>
            <a:ext cx="584280" cy="19080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Freeform 106"/>
          <p:cNvSpPr/>
          <p:nvPr/>
        </p:nvSpPr>
        <p:spPr>
          <a:xfrm>
            <a:off x="8610480" y="4038480"/>
            <a:ext cx="241560" cy="15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1" name="Group 121"/>
          <p:cNvGrpSpPr/>
          <p:nvPr/>
        </p:nvGrpSpPr>
        <p:grpSpPr>
          <a:xfrm>
            <a:off x="4051440" y="2260440"/>
            <a:ext cx="1333440" cy="203400"/>
            <a:chOff x="4051440" y="2260440"/>
            <a:chExt cx="1333440" cy="203400"/>
          </a:xfrm>
        </p:grpSpPr>
        <p:sp>
          <p:nvSpPr>
            <p:cNvPr id="182" name="Freeform 119"/>
            <p:cNvSpPr/>
            <p:nvPr/>
          </p:nvSpPr>
          <p:spPr>
            <a:xfrm>
              <a:off x="5207040" y="2374920"/>
              <a:ext cx="177840" cy="889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40"/>
                  </a:moveTo>
                  <a:lnTo>
                    <a:pt x="0" y="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Line 120"/>
            <p:cNvSpPr/>
            <p:nvPr/>
          </p:nvSpPr>
          <p:spPr>
            <a:xfrm>
              <a:off x="4051440" y="2260440"/>
              <a:ext cx="11556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84" name="Group 124"/>
          <p:cNvGrpSpPr/>
          <p:nvPr/>
        </p:nvGrpSpPr>
        <p:grpSpPr>
          <a:xfrm>
            <a:off x="5092560" y="3606840"/>
            <a:ext cx="1244520" cy="711000"/>
            <a:chOff x="5092560" y="3606840"/>
            <a:chExt cx="1244520" cy="711000"/>
          </a:xfrm>
        </p:grpSpPr>
        <p:sp>
          <p:nvSpPr>
            <p:cNvPr id="185" name="Freeform 122"/>
            <p:cNvSpPr/>
            <p:nvPr/>
          </p:nvSpPr>
          <p:spPr>
            <a:xfrm>
              <a:off x="5092560" y="419076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80"/>
                  </a:moveTo>
                  <a:lnTo>
                    <a:pt x="88" y="0"/>
                  </a:lnTo>
                  <a:lnTo>
                    <a:pt x="104" y="24"/>
                  </a:lnTo>
                  <a:lnTo>
                    <a:pt x="112" y="4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Line 123"/>
            <p:cNvSpPr/>
            <p:nvPr/>
          </p:nvSpPr>
          <p:spPr>
            <a:xfrm flipH="1">
              <a:off x="5257440" y="3606840"/>
              <a:ext cx="1079640" cy="62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87" name="Group 127"/>
          <p:cNvGrpSpPr/>
          <p:nvPr/>
        </p:nvGrpSpPr>
        <p:grpSpPr>
          <a:xfrm>
            <a:off x="3098880" y="4940280"/>
            <a:ext cx="850680" cy="888840"/>
            <a:chOff x="3098880" y="4940280"/>
            <a:chExt cx="850680" cy="888840"/>
          </a:xfrm>
        </p:grpSpPr>
        <p:sp>
          <p:nvSpPr>
            <p:cNvPr id="188" name="Freeform 125"/>
            <p:cNvSpPr/>
            <p:nvPr/>
          </p:nvSpPr>
          <p:spPr>
            <a:xfrm>
              <a:off x="3098880" y="5676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56" y="0"/>
                  </a:lnTo>
                  <a:lnTo>
                    <a:pt x="80" y="16"/>
                  </a:lnTo>
                  <a:lnTo>
                    <a:pt x="96" y="3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Line 126"/>
            <p:cNvSpPr/>
            <p:nvPr/>
          </p:nvSpPr>
          <p:spPr>
            <a:xfrm flipH="1">
              <a:off x="3225960" y="4940280"/>
              <a:ext cx="72360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0" name="Rectangle 131"/>
          <p:cNvSpPr/>
          <p:nvPr/>
        </p:nvSpPr>
        <p:spPr>
          <a:xfrm>
            <a:off x="7238880" y="525780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Rectangle 132"/>
          <p:cNvSpPr/>
          <p:nvPr/>
        </p:nvSpPr>
        <p:spPr>
          <a:xfrm>
            <a:off x="7314840" y="54864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urp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Rectangle 133"/>
          <p:cNvSpPr/>
          <p:nvPr/>
        </p:nvSpPr>
        <p:spPr>
          <a:xfrm>
            <a:off x="7086960" y="617220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Rectangle 134"/>
          <p:cNvSpPr/>
          <p:nvPr/>
        </p:nvSpPr>
        <p:spPr>
          <a:xfrm>
            <a:off x="7238520" y="6400800"/>
            <a:ext cx="128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i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AutoShape 135"/>
          <p:cNvSpPr/>
          <p:nvPr/>
        </p:nvSpPr>
        <p:spPr>
          <a:xfrm>
            <a:off x="4483080" y="152388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Freeform 136"/>
          <p:cNvSpPr/>
          <p:nvPr/>
        </p:nvSpPr>
        <p:spPr>
          <a:xfrm>
            <a:off x="4876920" y="1523880"/>
            <a:ext cx="571320" cy="2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Freeform 137"/>
          <p:cNvSpPr/>
          <p:nvPr/>
        </p:nvSpPr>
        <p:spPr>
          <a:xfrm>
            <a:off x="4952880" y="1219320"/>
            <a:ext cx="228600" cy="164880"/>
          </a:xfrm>
          <a:custGeom>
            <a:avLst/>
            <a:gdLst>
              <a:gd name="textAreaLeft" fmla="*/ 0 w 228600"/>
              <a:gd name="textAreaRight" fmla="*/ 228960 w 228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Freeform 138"/>
          <p:cNvSpPr/>
          <p:nvPr/>
        </p:nvSpPr>
        <p:spPr>
          <a:xfrm>
            <a:off x="4648320" y="106668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Freeform 139"/>
          <p:cNvSpPr/>
          <p:nvPr/>
        </p:nvSpPr>
        <p:spPr>
          <a:xfrm>
            <a:off x="4648320" y="1828800"/>
            <a:ext cx="583920" cy="190440"/>
          </a:xfrm>
          <a:custGeom>
            <a:avLst/>
            <a:gdLst>
              <a:gd name="textAreaLeft" fmla="*/ 0 w 583920"/>
              <a:gd name="textAreaRight" fmla="*/ 584280 w 583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Freeform 140"/>
          <p:cNvSpPr/>
          <p:nvPr/>
        </p:nvSpPr>
        <p:spPr>
          <a:xfrm>
            <a:off x="5257800" y="137160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147"/>
          <p:cNvSpPr/>
          <p:nvPr/>
        </p:nvSpPr>
        <p:spPr>
          <a:xfrm>
            <a:off x="6159600" y="5943600"/>
            <a:ext cx="342720" cy="88920"/>
          </a:xfrm>
          <a:prstGeom prst="roundRect">
            <a:avLst>
              <a:gd name="adj" fmla="val 50000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148"/>
          <p:cNvSpPr/>
          <p:nvPr/>
        </p:nvSpPr>
        <p:spPr>
          <a:xfrm>
            <a:off x="6553080" y="594360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149"/>
          <p:cNvSpPr/>
          <p:nvPr/>
        </p:nvSpPr>
        <p:spPr>
          <a:xfrm>
            <a:off x="6629400" y="563868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150"/>
          <p:cNvSpPr/>
          <p:nvPr/>
        </p:nvSpPr>
        <p:spPr>
          <a:xfrm>
            <a:off x="6324480" y="548640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151"/>
          <p:cNvSpPr/>
          <p:nvPr/>
        </p:nvSpPr>
        <p:spPr>
          <a:xfrm>
            <a:off x="6324480" y="6248520"/>
            <a:ext cx="584280" cy="190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152"/>
          <p:cNvSpPr/>
          <p:nvPr/>
        </p:nvSpPr>
        <p:spPr>
          <a:xfrm>
            <a:off x="6934320" y="579132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Text Box 153"/>
          <p:cNvSpPr/>
          <p:nvPr/>
        </p:nvSpPr>
        <p:spPr>
          <a:xfrm>
            <a:off x="1905120" y="43344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am St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0081-C80C-4E96-8986-E43D5DF6C1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Picture 2" descr="C:\Documents and Settings\Dr.Fauzia\My Documents\My Pictures\gram stain.bmp"/>
          <p:cNvPicPr/>
          <p:nvPr/>
        </p:nvPicPr>
        <p:blipFill>
          <a:blip r:embed="rId1"/>
          <a:stretch/>
        </p:blipFill>
        <p:spPr>
          <a:xfrm>
            <a:off x="1981080" y="457200"/>
            <a:ext cx="4853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30BD-85BB-4374-81C2-4F5CFBC91E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0" name="Picture 2" descr="D:\CONTENT\ch04\0058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9452-E6F0-440F-BDBE-A63C9399A5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648320" y="990720"/>
            <a:ext cx="39243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990720"/>
            <a:ext cx="398772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648320" y="4114800"/>
            <a:ext cx="392436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04920" y="4191120"/>
            <a:ext cx="398772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629320" y="2514600"/>
            <a:ext cx="1612800" cy="2286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07840" y="1295280"/>
            <a:ext cx="279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5334120" y="175248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5562720" y="214632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5181480" y="4343400"/>
            <a:ext cx="291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6858000" y="4800600"/>
            <a:ext cx="927000" cy="3301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6934320" y="5410080"/>
            <a:ext cx="927000" cy="3304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16"/>
          <p:cNvSpPr/>
          <p:nvPr/>
        </p:nvSpPr>
        <p:spPr>
          <a:xfrm>
            <a:off x="5705640" y="5014800"/>
            <a:ext cx="92700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5638680" y="5637240"/>
            <a:ext cx="92736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2438280" y="1828800"/>
            <a:ext cx="47016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2286000" y="2133720"/>
            <a:ext cx="46980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1003320" y="1371600"/>
            <a:ext cx="29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3200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1752480" y="1752480"/>
            <a:ext cx="47016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914400" y="1905120"/>
            <a:ext cx="469800" cy="431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2057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1371600" y="24382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851760" y="4419720"/>
            <a:ext cx="299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29"/>
          <p:cNvSpPr/>
          <p:nvPr/>
        </p:nvSpPr>
        <p:spPr>
          <a:xfrm>
            <a:off x="2209680" y="50547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30"/>
          <p:cNvSpPr/>
          <p:nvPr/>
        </p:nvSpPr>
        <p:spPr>
          <a:xfrm>
            <a:off x="2438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31"/>
          <p:cNvSpPr/>
          <p:nvPr/>
        </p:nvSpPr>
        <p:spPr>
          <a:xfrm>
            <a:off x="1295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1600200" y="4978440"/>
            <a:ext cx="46980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16:42Z</dcterms:created>
  <dc:creator>Robin Smith</dc:creator>
  <dc:description/>
  <dc:language>en-US</dc:language>
  <cp:lastModifiedBy>sultan alwathnani</cp:lastModifiedBy>
  <cp:lastPrinted>2002-01-26T13:51:29Z</cp:lastPrinted>
  <dcterms:modified xsi:type="dcterms:W3CDTF">2014-10-12T06:01:17Z</dcterms:modified>
  <cp:revision>302</cp:revision>
  <dc:subject/>
  <dc:title>Streptococci</dc:title>
</cp:coreProperties>
</file>