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F41C-F9A9-4CA3-A84D-50DC72A04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B171-5E2D-4A17-98AA-86DCC8EDC74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3683-04E6-48D2-84F1-C6D81F2F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3794-17EC-4BB6-85DC-AD021119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3544-55E5-4FF0-8077-AD5A07FC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CF4-0184-4F3E-838B-00AC7212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0946-9FA0-4FE7-BEC0-BC5D34CE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697E-378B-464A-B5D9-95FB1566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5D2A-F16C-41E3-B94A-63D35E22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9CEC-2718-4ADA-8709-62370522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7CC9-980E-4537-84CE-E5DEDF44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C3A0-28DA-4929-9453-755552FD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826D-63B1-42CC-81C5-FF601706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40C-C279-40FA-B029-3DD8FFEE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9D77-30C7-44C2-AC95-95041334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52EB-15BA-4404-A40C-6E07E371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D640-6B00-4117-BED9-AB0FDF74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D5FC-F0B1-41E3-A095-544BD83E3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B971-EB3E-4E20-BEC7-BCDE1C2D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8FA6-A7BE-496C-A374-0AFABCEC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AE23-57F4-427E-8098-56175BC3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D5C6-4B97-4FC3-A877-4D67A0A1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DB3F-CE8E-4F6B-8224-B600F36B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74F-FDBA-460D-B292-60D62346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8A5-A15E-42A0-9E37-9393D5B3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043-2650-49FB-AFEF-569B32CA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B236-6AB0-4726-890E-A9C737E659DD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8A48-A90F-463B-A2F4-A85E98D30DD7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duckol.com/uploadFiles/upimg26/Microfiltration-Membrane-Filters.jpg&amp;imgrefurl=http://www.duckol.com/Wholesale_m/Membrane-Switch-56036.htm&amp;usg=__P9oH-z4D-qmRCGcHk5qq7IUjNPo=&amp;h=360&amp;w=360&amp;sz=25&amp;hl=en&amp;start=4&amp;zoom=1&amp;tbnid=Fo27iUeAdcieTM:&amp;tbnh=121&amp;tbnw=121&amp;prev=/images%3Fq%3DMEMBRANE%2BFILTERS%26hl%3Den%26safe%3Dactive%26gbv%3D2%26tbs%3Disch:1&amp;itbs=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m/imgres?imgurl=http://images2.opticsplanet.com/640-640/opplanet-whatman-filter-holders-for-nuclepore-membrane-filters-whatman-420200.jpg&amp;imgrefurl=http://www.opticsplanet.net/printable-whatman-filter-holders-for-nuclepore-membrane-filters-whatman-420200.html&amp;usg=__-6h4s7ngtXvhow07wJ4VzDwj0eI=&amp;h=246&amp;w=246&amp;sz=24&amp;hl=en&amp;start=12&amp;zoom=1&amp;tbnid=35FVmUfK3cURBM:&amp;tbnh=110&amp;tbnw=110&amp;prev=/images%3Fq%3DMEMBRANE%2BFILTERS%26hl%3Den%26safe%3Dactive%26gbv%3D2%26tbs%3Disch:1&amp;itbs=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m/imgres?imgurl=http://www.trinityfiltration.in/images/membrane-filters.jpg&amp;imgrefurl=http://www.trinityfiltration.in/membrane-filters-for-critical-pharmaceutical-application.html&amp;usg=__ju5fCM1xbUqgnl_IIEG9Ms-2xRU=&amp;h=231&amp;w=230&amp;sz=10&amp;hl=en&amp;start=9&amp;zoom=0&amp;tbnid=4ZGd9vK2iMgHGM:&amp;tbnh=108&amp;tbnw=108&amp;prev=/images%3Fq%3DMEMBRANE%2BFILTERS%26hl%3Den%26safe%3Dactive%26gbv%3D2%26tbs%3Disch:1&amp;itbs=1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google.com/imgres?imgurl=http://imghost1.indiamart.com/data2/YY/NJ/MY-1857873/membrane_pic-500x500-250x250.jpg&amp;imgrefurl=http://www.indiamart.com/nishotechsystems/seperation-technologies.html&amp;usg=__wLfYWbndq_7fMhxtAoepepofDXs=&amp;h=250&amp;w=250&amp;sz=9&amp;hl=en&amp;start=15&amp;zoom=1&amp;tbnid=wionk_8EKOMzXM:&amp;tbnh=111&amp;tbnw=111&amp;prev=/images%3Fq%3DMEMBRANE%2BFILTERS%26hl%3Den%26safe%3Dactive%26gbv%3D2%26tbs%3Disch:1&amp;itbs=1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home.netvigator.com/~pdsuter/pic/machine003.jpg&amp;imgrefurl=http://home.netvigator.com/~pdsuter/bread_machine.html&amp;usg=__v9wMu_0Z2pmqH75VnAHeYV4MUP4=&amp;h=388&amp;w=350&amp;sz=34&amp;hl=en&amp;start=10&amp;zoom=1&amp;tbnid=Ebw2yJKQ-mhOjM:&amp;tbnh=123&amp;tbnw=111&amp;prev=/images%3Fq%3DHOT%2BAIR%2BOVEN%26hl%3Den%26safe%3Dactive%26sa%3DG%26gbv%3D2%26tbs%3Disch:1&amp;itbs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supplierlist.com/photo_images/70930/12L_Simple_Autoclave.jpg&amp;imgrefurl=http://www.supplierlist.com/made_in_china/products/p0/Autoclave/30857_manufacturers.htm&amp;usg=__YqlPiu14UAuPwYA_m16-WaOHIVo=&amp;h=336&amp;w=336&amp;sz=24&amp;hl=en&amp;start=3&amp;zoom=1&amp;tbnid=_7dcwyvnfhz3jM:&amp;tbnh=119&amp;tbnw=119&amp;prev=/images%3Fq%3DAUTOCLAVES%26hl%3Den%26safe%3Dactive%26sa%3DG%26gbv%3D2%26tbs%3Disch:1&amp;itbs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google.com/imgres?imgurl=http://img.directindustry.com/images_di/photo-g/laboratory-autoclave-with-hydraulic-door-305058.jpg&amp;imgrefurl=http://www.directindustry.com/prod/priorclave/laboratory-autoclave-with-hydraulic-door-23066-305058.html&amp;usg=__Uwvdy60hxYHVPFf4gSCwRaE2wTE=&amp;h=651&amp;w=831&amp;sz=211&amp;hl=en&amp;start=2&amp;zoom=1&amp;tbnid=y8mNYJ04N1XtxM:&amp;tbnh=113&amp;tbnw=144&amp;prev=/images%3Fq%3DAUTOCLAVES%26hl%3Den%26safe%3Dactive%26sa%3DG%26gbv%3D2%26tbs%3Disch:1&amp;itbs=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google.com/imgres?imgurl=http://www.lifelinemedical.net/_images/manautoclave-01b.jpg&amp;imgrefurl=http://www.lifelinemedical.net/manual_autoclaves.html&amp;usg=__8-pYakhkqCkQjbaX5N5Fs5AgwsM=&amp;h=308&amp;w=424&amp;sz=95&amp;hl=en&amp;start=4&amp;zoom=1&amp;tbnid=dNI8EWwQs12WjM:&amp;tbnh=92&amp;tbnw=126&amp;prev=/images%3Fq%3DAUTOCLAVES%26hl%3Den%26safe%3Dactive%26sa%3DG%26gbv%3D2%26tbs%3Disch:1&amp;itbs=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rds.yahoo.com/_ylt=A0WTb_o.XLlMVCwA0yWJzbkF;_ylu=X3oDMTBqY2pzbGhoBHBvcwMxMQRzZWMDc3IEdnRpZAM-/SIG=1k7ejdo7v/EXP=1287302590/**http%3A//images.search.yahoo.com/images/view%3Fback=http%253A%252F%252Fimages.search.yahoo.com%252Fsearch%252Fimages%253Fp%253Dschematic%252Bdiagram%252Bof%252Bautoclaves%2526ei%253Dutf-8%2526y%253DSearch%2526fr%253Dyfp-t-701%26w=293%26h=238%26imgurl=www.swingstargroup.com%252Fimages%252Fbattery_rectifier.jpg%26rurl=http%253A%252F%252Fwww.swingstargroup.com%252Flha_construction.htm%26size=25KB%26name=Sterilizers%252C%2BAut...%26p=schematic%2Bdiagram%2Bof%2Bautoclaves%26oid=8d9ca6ae4b539bb97990611433d12e95%26fr2=%26spell_query=schematic%2B%2Bof%2Bautoclaves%26no=11%26tt=15%26sigr=11i55tua3%26sigi=11jftar63%26sigb=13dlv8kor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tradevv.com/2009/07/24/newera1_432969_450/autoclave-tape.jpg&amp;imgrefurl=http://www.tradevv.com/chinasuppliers/newera1_p_69b49/china-Autoclave-Tape.html&amp;usg=__xaBaz_SzR_6eF8p_RD4qJ-2ZIB4=&amp;h=450&amp;w=450&amp;sz=27&amp;hl=en&amp;start=2&amp;zoom=1&amp;tbnid=-fl8eKyMIEsIRM:&amp;tbnh=127&amp;tbnw=127&amp;prev=/images%3Fq%3DAUTOCLAVE%2B%2BTAPE%26hl%3Den%26safe%3Dactive%26sa%3DG%26gbv%3D2%26tbs%3Disch:1&amp;itbs=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com/imgres?imgurl=http://www.appletonwoods.co.uk/acatalog/GC471.jpg&amp;imgrefurl=http://www.appletonwoods.co.uk/acatalog/Autoclave_Indicator_Tubes.html&amp;usg=__88qBwPivzadrsB_XUNeHuOtGhK4=&amp;h=220&amp;w=260&amp;sz=14&amp;hl=en&amp;start=14&amp;zoom=1&amp;tbnid=ULCXGhvYA4_e_M:&amp;tbnh=95&amp;tbnw=112&amp;prev=/images%3Fq%3DBROWNE%2527S%2BTUBES%26hl%3Den%26safe%3Dactive%26sa%3DG%26gbv%3D2%26tbs%3Disch:1&amp;itbs=1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jarimagazine.com/wp-content/uploads/2009/03/pasteurization-300x236.jpg&amp;imgrefurl=http://majarimagazine.com/2009/03/milk-pasteurization-and-sterilization/&amp;usg=__VNL8gL_pMq3187NXIGSO4RPrcC8=&amp;h=236&amp;w=300&amp;sz=17&amp;hl=en&amp;start=1&amp;zoom=1&amp;tbnid=iEuoaM0o78EDyM:&amp;tbnh=91&amp;tbnw=116&amp;prev=/images%3Fq%3DPASTEURIZATION%26hl%3Den%26safe%3Dactive%26sa%3DG%26gbv%3D2%26tbs%3Disch:1&amp;itbs=1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prlog.org/10383255-chemical-disinfectants.jpg&amp;imgrefurl=http://www.prlog.org/10383255-use-of-chemical-disinfectants.html&amp;usg=__LFbaZGdUee78g07KL8kRLuVFDds=&amp;h=250&amp;w=163&amp;sz=11&amp;hl=en&amp;start=3&amp;zoom=1&amp;tbnid=HzalTD8j-GR8PM:&amp;tbnh=111&amp;tbnw=72&amp;prev=/images%3Fq%3DCHEMICAL%2BDISINFECTANTS%26hl%3Den%26safe%3Dactive%26sa%3DG%26gbv%3D2%26tbs%3Disch:1&amp;itbs=1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google.com/imgres?imgurl=http://www.chemistryland.com/CHM130W/06-Nomenclature/NomenclatureHealth/Chlorates.jpg&amp;imgrefurl=http://www.chemistryland.com/CHM130W/06-Nomenclature/NomenclatureHealth/NomenHealth.htm&amp;usg=__4P8nVvpOT2a6-qgAjtsBuJ2r6ts=&amp;h=560&amp;w=512&amp;sz=66&amp;hl=en&amp;start=8&amp;zoom=1&amp;tbnid=Ef73UlvzVqfq-M:&amp;tbnh=133&amp;tbnw=122&amp;prev=/images%3Fq%3DSYMBOL%2BSTERILIZATION%2BAND%2BDISINFECTION%26hl%3Den%26safe%3Dactive%26gbv%3D2%26tbs%3Disch:1&amp;itbs=1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shutterstock.com/display_pic_with_logo/388663/388663,1245079056,31/stock-vector-hand-washing-32072236.jpg&amp;imgrefurl=http://www.shutterstock.com/pic-32072236/stock-vector-hand-washing.html&amp;usg=__3gjTJdu9k_PX_XEjtg7zBOPU-r4=&amp;h=470&amp;w=447&amp;sz=74&amp;hl=en&amp;start=17&amp;zoom=1&amp;tbnid=fd2MPtPi-CXbJM:&amp;tbnh=129&amp;tbnw=123&amp;prev=/images%3Fq%3Dsymbol%2Bhand%2Bwashing%26hl%3Den%26safe%3Dactive%26sa%3DG%26gbv%3D2%26tbs%3Disch:1&amp;itbs=1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viviente.com/images/ionizing_radiation.png&amp;imgrefurl=http://www.viviente.com/2007/11/&amp;usg=__B0vav05IzaGHZINjr0M42oIU4eA=&amp;h=489&amp;w=589&amp;sz=62&amp;hl=en&amp;start=4&amp;zoom=1&amp;tbnid=MKoKR8K9RL-97M:&amp;tbnh=112&amp;tbnw=135&amp;prev=/images%3Fq%3DIONIZING%2BRADIATION%26hl%3Den%26safe%3Dactive%26sa%3DG%26gbv%3D2%26tbs%3Disch:1&amp;itb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Sterilization &amp; Disinfe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rof. Hanan Habib &amp; Dr. AbdulAziz Al-khataf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llege Of Medicine-KS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t3.gstatic.com/images?q=tbn:Fo27iUeAdcieTM:http://www.duckol.com/uploadFiles/upimg26/Microfiltration-Membrane-Filt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620640"/>
            <a:ext cx="2735280" cy="316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t1.gstatic.com/images?q=tbn:35FVmUfK3cURBM:http://images2.opticsplanet.com/640-640/opplanet-whatman-filter-holders-for-nuclepore-membrane-filters-whatman-42020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620640"/>
            <a:ext cx="2447640" cy="302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t1.gstatic.com/images?q=tbn:4ZGd9vK2iMgHGM:http://www.trinityfiltration.in/images/membrane-filter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4149720"/>
            <a:ext cx="2737080" cy="223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http://t3.gstatic.com/images?q=tbn:wionk_8EKOMzXM:http://imghost1.indiamart.com/data2/YY/NJ/MY-1857873/membrane_pic-500x500-250x25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4221000"/>
            <a:ext cx="2664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  <a:ea typeface="SimSun"/>
              </a:rPr>
              <a:t>Chemic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Some strong chemical substances may be used to achieve sterilization e.g.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Gluteraldehyd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thylene ox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Sterilization by Heat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Most common method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SimSu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Dry Hea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Dry Heat- kills microorganisms by destroying their oxidative process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ahoma"/>
                <a:ea typeface="SimSun"/>
              </a:rPr>
              <a:t>Simplest method is exposing item to be sterilized to the naked flame e.g. Bunsen burner- for sterilizing bacteriological loops, knives, blad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Hot air oven </a:t>
            </a:r>
            <a:r>
              <a:rPr b="1" lang="en-US" sz="2000" spc="-1" strike="noStrike">
                <a:solidFill>
                  <a:srgbClr val="ffc000"/>
                </a:solidFill>
                <a:latin typeface="Tahoma"/>
                <a:ea typeface="SimSun"/>
              </a:rPr>
              <a:t>expose items to 160 °C for 1 hou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Has electric element in chamber as source of heat plus a fan to circulate air for even distribution of heat in chamber. Oven without fan is dangerous. Used for items that are lacking water such a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Me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Glassw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Ointment / Oils/ Waxes /Pow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2" descr="http://t2.gstatic.com/images?q=tbn:Ebw2yJKQ-mhOjM:http://home.netvigator.com/~pdsuter/pic/machine0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4797360"/>
            <a:ext cx="194328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  <a:ea typeface="SimSun"/>
              </a:rPr>
              <a:t>Moist He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s hot water. Moist heat kills microorganisms by </a:t>
            </a:r>
            <a:r>
              <a:rPr b="1" lang="en-US" sz="2400" spc="-1" strike="noStrike">
                <a:solidFill>
                  <a:srgbClr val="00b0f0"/>
                </a:solidFill>
                <a:latin typeface="Tahoma"/>
                <a:ea typeface="SimSun"/>
              </a:rPr>
              <a:t>denaturating protei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Autoclavin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standard sterilization method in hospit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equipment is called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Autoclav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nd it works under the same principle as the pressure cooker wher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water boils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at increased atmosphere pressure i.e. because of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increase pressur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boiling point of water is </a:t>
            </a:r>
            <a:r>
              <a:rPr b="1" lang="en-US" sz="2400" spc="-1" strike="noStrike">
                <a:solidFill>
                  <a:srgbClr val="ffc000"/>
                </a:solidFill>
                <a:latin typeface="Tahoma"/>
                <a:ea typeface="SimSun"/>
              </a:rPr>
              <a:t>&gt;100 °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autoclave is a tough double walled chamber in which air is replaced by pure saturated steam under press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ttp://t0.gstatic.com/images?q=tbn:_7dcwyvnfhz3jM:http://www.supplierlist.com/photo_images/70930/12L_Simple_Autoclav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933720"/>
            <a:ext cx="2160720" cy="201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http://t1.gstatic.com/images?q=tbn:y8mNYJ04N1XtxM:http://img.directindustry.com/images_di/photo-g/laboratory-autoclave-with-hydraulic-door-30505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549360"/>
            <a:ext cx="3748320" cy="468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ttp://t0.gstatic.com/images?q=tbn:dNI8EWwQs12WjM:http://www.lifelinemedical.net/_images/manautoclave-01b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93080" y="393372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Go to full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51640" y="620640"/>
            <a:ext cx="3097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  <a:ea typeface="SimSun"/>
              </a:rPr>
              <a:t>Advantages of Autoclav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emp. &gt; 100 C therefo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spores kill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Condensation of steam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genera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extra he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he condensation also allows the steam to </a:t>
            </a:r>
            <a:r>
              <a:rPr b="0" lang="en-US" sz="2800" spc="-1" strike="noStrike">
                <a:solidFill>
                  <a:srgbClr val="c2ebff"/>
                </a:solidFill>
                <a:latin typeface="Tahoma"/>
                <a:ea typeface="SimSun"/>
              </a:rPr>
              <a:t>penetrat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rapidly into porous materi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Note: that autoclavable items must be steam permeable. Can not be used for items that are lacking w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ai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in the chamber is evacuated and filled with saturated steam. The chamber is closed tightly the steam keeps on filling into it and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pressure gradually increas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 The items to be sterilized get completely surrounded by saturated steam (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  <a:ea typeface="SimSun"/>
              </a:rPr>
              <a:t>moist hea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) which on contact with the surface of material to be sterilized condenses to release it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latent hea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of condensation which adds to already raised temperature of steam so that eventually all the microorganisms in what ever form are kill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The usual temperature achieved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121 °C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 at a pressure of 15 pps. at exposure time of only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15 mins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Monitoring of Autoclave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Physical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 of thermocouple to measure accurately the tempera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Chem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- it consists of heat sensitive chemical that changes color at the right temperature and exposure tim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e.g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.    a)-  Autoclave ta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b)- Browne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  <a:ea typeface="SimSun"/>
              </a:rPr>
              <a:t>’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s tub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Biolog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where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spo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-bearing organism is added during the sterilization process and then cultured later to ensure that it has been kille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t0.gstatic.com/images?q=tbn:-fl8eKyMIEsIRM:http://image.tradevv.com/2009/07/24/newera1_432969_450/autoclave-tap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33360"/>
            <a:ext cx="3382920" cy="3313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ttp://t3.gstatic.com/images?q=tbn:ULCXGhvYA4_e_M:http://www.appletonwoods.co.uk/acatalog/GC47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407664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http://t1.gstatic.com/images?q=tbn:ANd9GcRYNqbj5I97mYRGojmkfPMHnK5f-yc_EJaj5Gn1BD7vL9fshDg5tg"/>
          <p:cNvPicPr/>
          <p:nvPr/>
        </p:nvPicPr>
        <p:blipFill>
          <a:blip r:embed="rId5"/>
          <a:stretch/>
        </p:blipFill>
        <p:spPr>
          <a:xfrm>
            <a:off x="1116000" y="3716280"/>
            <a:ext cx="4103640" cy="1825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http://t3.gstatic.com/images?q=tbn:ANd9GcSLKIW2EebW_NisJ5BnG5uC6dgr2XSY7vL1e2fZycNJQd-EWWi4"/>
          <p:cNvPicPr/>
          <p:nvPr/>
        </p:nvPicPr>
        <p:blipFill>
          <a:blip r:embed="rId6"/>
          <a:stretch/>
        </p:blipFill>
        <p:spPr>
          <a:xfrm>
            <a:off x="1187280" y="620640"/>
            <a:ext cx="3384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pore test ( biological indicator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1" name="Picture 2" descr="http://t3.gstatic.com/images?q=tbn:ANd9GcSdboxK-R_6CWjC3sgi7dGMAGcDSgah81KIauTKkKMHBTiQiVaN"/>
          <p:cNvPicPr/>
          <p:nvPr/>
        </p:nvPicPr>
        <p:blipFill>
          <a:blip r:embed="rId1"/>
          <a:stretch/>
        </p:blipFill>
        <p:spPr>
          <a:xfrm>
            <a:off x="2340000" y="2060640"/>
            <a:ext cx="4032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jecti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1- Define the terms sterilization, disinfectant and antisepsis,  disinfectant and antisept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2- Classify the different methods of sterilization in physical and chemical meth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3- To recall the different physical methods of sterilizatio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4- Know and realizes heat is the most important method of sterilization and that it should be used where ever that is pos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  <a:ea typeface="SimSun"/>
              </a:rPr>
              <a:t>Moist heat: Other Applic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Pasteuriz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d heat at temperatures sufficient to inactivate harmful  organism in </a:t>
            </a:r>
            <a:r>
              <a:rPr b="0" lang="en-US" sz="2400" spc="-1" strike="noStrike">
                <a:solidFill>
                  <a:srgbClr val="c2ebff"/>
                </a:solidFill>
                <a:latin typeface="Tahoma"/>
                <a:ea typeface="SimSun"/>
              </a:rPr>
              <a:t>mil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   The temperatures  of sterilization is not  achiev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emperature may be 74°C,  for 3-5 seconds. (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Flash  metho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 or 62°C for 30 minutes. (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Conventional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Boil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quite common  especially in domestic circumsta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Methods of pasteuriz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= 63-66 C for 30 minutes (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conventional metho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=72-73 C for 3-5 seco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flash method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ASTEURIZ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7" name="Picture 2" descr="http://t0.gstatic.com/images?q=tbn:iEuoaM0o78EDyM:http://majarimagazine.com/wp-content/uploads/2009/03/pasteurization-300x23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249228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http://www.emt-india.net/process/dairy/img/Pasteurization.gif"/>
          <p:cNvPicPr/>
          <p:nvPr/>
        </p:nvPicPr>
        <p:blipFill>
          <a:blip r:embed="rId3"/>
          <a:stretch/>
        </p:blipFill>
        <p:spPr>
          <a:xfrm>
            <a:off x="1476360" y="2421000"/>
            <a:ext cx="3600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Pasteurization of mil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revent diseases like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yphoid f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rucell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ubercul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Q f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  <a:ea typeface="SimSun"/>
              </a:rPr>
              <a:t>II .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Sterilization by Chemic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Useful for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SimSun"/>
              </a:rPr>
              <a:t>heat sensitive material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.g. plastics and lensed instruments endoscopes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1. </a:t>
            </a:r>
            <a:r>
              <a:rPr b="1" lang="en-US" sz="1800" spc="-1" strike="noStrike">
                <a:solidFill>
                  <a:srgbClr val="ffc000"/>
                </a:solidFill>
                <a:latin typeface="Tahoma"/>
                <a:ea typeface="SimSun"/>
              </a:rPr>
              <a:t>Ethylene Oxide Chamb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thylene oxide alkylates DNA molecules and thereby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inactivates microorganis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thylenes oxide may cause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SimSun"/>
              </a:rPr>
              <a:t>explos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if used pure so it is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mixed with an inert gas .Requires high humidity and used at relative humidity    50-60%  .Temperature : </a:t>
            </a:r>
            <a:r>
              <a:rPr b="0" lang="en-US" sz="1800" spc="-1" strike="noStrike">
                <a:solidFill>
                  <a:srgbClr val="00b0f0"/>
                </a:solidFill>
                <a:latin typeface="Tahoma"/>
                <a:ea typeface="SimSun"/>
              </a:rPr>
              <a:t>55-60°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and exposure period </a:t>
            </a:r>
            <a:r>
              <a:rPr b="0" lang="en-US" sz="1800" spc="-1" strike="noStrike">
                <a:solidFill>
                  <a:srgbClr val="92d050"/>
                </a:solidFill>
                <a:latin typeface="Tahoma"/>
                <a:ea typeface="SimSun"/>
              </a:rPr>
              <a:t>4-6 hour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2.   </a:t>
            </a:r>
            <a:r>
              <a:rPr b="1" lang="en-US" sz="1800" spc="-1" strike="noStrike">
                <a:solidFill>
                  <a:srgbClr val="ffc000"/>
                </a:solidFill>
                <a:latin typeface="Tahoma"/>
                <a:ea typeface="SimSun"/>
              </a:rPr>
              <a:t>Activated alkaline Gluteraldehyde 2%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Immerse item in solution for about 20 mins.  If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mycobacterium tuberculosi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or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spor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present then immersion period 2-3 hou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Factors influencing activity of disinfecta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1. Activity directly proportional t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temper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2. Directly proportional t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up to a poi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optimum concentration.  After this level no advantage in further increases in concentr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http://t1.gstatic.com/images?q=tbn:HzalTD8j-GR8PM:http://www.prlog.org/10383255-chemical-disinfectan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5229360"/>
            <a:ext cx="1152360" cy="1295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http://t3.gstatic.com/images?q=tbn:Ef73UlvzVqfq-M:http://www.chemistryland.com/CHM130W/06-Nomenclature/NomenclatureHealth/Chlorate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5157720"/>
            <a:ext cx="1368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Factors influencing activity of disinfecta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3.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May be inactivate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b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Di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Organic matter : Proteins, Pus, Blood, Mucus and F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Non organic: Cork, Hard  water and Some plastic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4.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Tim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: Disinfectants need time to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5.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Range of Action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: Disinfectants not equally effective against the whole spectrum of microbes.  e.g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Chlorhexidin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less active against Gram negative bacteria than Gram positive cocc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Hypochlorite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Gluteraldehyd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re more active against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hepatitis viruses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an most other disinfecta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umma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600200"/>
          <a:ext cx="7859880" cy="4619520"/>
        </p:xfrm>
        <a:graphic>
          <a:graphicData uri="http://schemas.openxmlformats.org/drawingml/2006/table">
            <a:tbl>
              <a:tblPr/>
              <a:tblGrid>
                <a:gridCol w="1549440"/>
                <a:gridCol w="790560"/>
                <a:gridCol w="1020600"/>
                <a:gridCol w="801720"/>
                <a:gridCol w="603360"/>
                <a:gridCol w="831960"/>
                <a:gridCol w="701640"/>
                <a:gridCol w="156060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Disinfecta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GP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ctivity again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T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nactivated b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orros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GN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por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rote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o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henol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ud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Iz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olub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henolic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e.g. clears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o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hlori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ompou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or</a:t>
                      </a: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 +</a:t>
                      </a: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</a:t>
                      </a: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buffered Solutio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Lodoph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Slow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Chorhexidi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(Hibitane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70°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lcoh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ctr" pos="19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Formaldehy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(slow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ctr" pos="19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Glutaraldehy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(Cide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ospital disinfection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Articl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isinfec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oors, walls                 Phenolics fluids 1-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rfaces tables            Hypochlorite, Alcoho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ki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rge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nds            Chlorhexidine, Iod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coh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tient skin                  70% Alcohol, Iod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ahoma"/>
              </a:rPr>
              <a:t>Endoscop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Gluteraldehyde 2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Cidex), subatmospheric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Tahoma"/>
              </a:rPr>
              <a:t>Thermometer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70% Alcohol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ortant poi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instrument or item used for sterile body site should be ster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instrument or item used for non-sterile body site  can be disinf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d washing is the most important to prevent hospital acquired inf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jectives-cont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5- Know the different types of heat sterilization method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6- Know dry heat as applied in hot air oven and moist heat as applied in autocla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7- Know the principles of autoclave function and control method of sterilization proc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8- Know the importance of non heat sterilization methods and their use for sterilization of heat sensitive obje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ttp://t0.gstatic.com/images?q=tbn:fd2MPtPi-CXbJM:http://image.shutterstock.com/display_pic_with_logo/388663/388663,1245079056,31/stock-vector-hand-washing-3207223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3573360"/>
            <a:ext cx="5256360" cy="2735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http://t0.gstatic.com/images?q=tbn:8O4k7tUPUvJS_M:http://www.justbathroomsigns.com/img/lg/S/Hand-Wash-Hygiene-Sign-S-4871.gif"/>
          <p:cNvPicPr/>
          <p:nvPr/>
        </p:nvPicPr>
        <p:blipFill>
          <a:blip r:embed="rId3"/>
          <a:stretch/>
        </p:blipFill>
        <p:spPr>
          <a:xfrm>
            <a:off x="5940360" y="620640"/>
            <a:ext cx="2376720" cy="2592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http://t2.gstatic.com/images?q=tbn:Mw9mdRi1ZDUo-M:http://www.defendingfoodsafety.com/uploads/image/Hand%2520Washing.jpg"/>
          <p:cNvPicPr/>
          <p:nvPr/>
        </p:nvPicPr>
        <p:blipFill>
          <a:blip r:embed="rId4"/>
          <a:stretch/>
        </p:blipFill>
        <p:spPr>
          <a:xfrm>
            <a:off x="1908000" y="692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jectives-cont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ddff"/>
                </a:solidFill>
                <a:latin typeface="Footlight MT Light"/>
              </a:rPr>
              <a:t>9-Know the difference between antiseptics and disinfect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ddff"/>
                </a:solidFill>
                <a:latin typeface="Footlight MT Light"/>
              </a:rPr>
              <a:t>10- Classify the disinfectants and antiseptics and know factors affecting their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ddff"/>
                </a:solidFill>
                <a:latin typeface="Footlight MT Light"/>
              </a:rPr>
              <a:t>11- Know different applications for different disinfections and antiseptic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fini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Sterilization: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complete killing of all forms of microorganisms, including bacterial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sp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Disinfection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 killing or removing of harmful vegetative microorganis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Disinfectant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chemical substance used to achieve disinfe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Antiseptic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disinfectant that can be safely used on living tiss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  <a:ea typeface="SimSun"/>
              </a:rPr>
              <a:t>Methods of steriliz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Physical Metho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Chemical Method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PHYSIC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HEAT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: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Most important should be used whenever possib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could be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-Dry heat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t temperature of 160˚C for one h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- Moist hea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eg. in the autocla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t 121 or 134 C for 10 or 15 minu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Radi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SimSun"/>
              </a:rPr>
              <a:t>U.V. ligh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Has limited sterilizing power because of poor penetration into most materials. Generally used in irradiation of air in certain areas such as operating rooms an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tuberculos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la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SimSun"/>
              </a:rPr>
              <a:t>Ionizing radiation-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e.g.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SimSun"/>
              </a:rPr>
              <a:t>Gamma radi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: has greater energy than U.V. light, therefore more effective. Used mainly in industrial facilities e.g.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sterilization of disposable plastic syringes, gloves, specimens containers and Petri dish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5" descr="http://t2.gstatic.com/images?q=tbn:MKoKR8K9RL-97M:http://www.viviente.com/images/ionizing_radiatio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549360"/>
            <a:ext cx="1285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Filtr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May be done under either negative or positive pressure. Best known example is the </a:t>
            </a:r>
            <a:r>
              <a:rPr b="1" i="1" lang="en-US" sz="2800" spc="-1" strike="noStrike">
                <a:solidFill>
                  <a:srgbClr val="00b0f0"/>
                </a:solidFill>
                <a:latin typeface="Tahoma"/>
                <a:ea typeface="SimSun"/>
              </a:rPr>
              <a:t>membrane filt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made from cellulose acetate. Generally removes most bacteria but viruses and some small bacteria e.g. </a:t>
            </a:r>
            <a:r>
              <a:rPr b="0" i="1" lang="en-US" sz="2800" spc="-1" strike="noStrike">
                <a:solidFill>
                  <a:srgbClr val="ffc000"/>
                </a:solidFill>
                <a:latin typeface="Tahoma"/>
                <a:ea typeface="SimSun"/>
              </a:rPr>
              <a:t>Chlamyd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&amp; </a:t>
            </a:r>
            <a:r>
              <a:rPr b="0" i="1" lang="en-US" sz="2800" spc="-1" strike="noStrike">
                <a:solidFill>
                  <a:srgbClr val="ffc000"/>
                </a:solidFill>
                <a:latin typeface="Tahoma"/>
                <a:ea typeface="SimSun"/>
              </a:rPr>
              <a:t>Mycoplasm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may pass through. Thus filtration does not technically sterilize items but is adequate for circumstances under which is u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ebff"/>
                </a:solidFill>
                <a:latin typeface="Tahoma"/>
                <a:ea typeface="SimSun"/>
              </a:rPr>
              <a:t>Main use: for heat labile substances e.g. sera, antibioti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07:27:43Z</dcterms:created>
  <dc:creator>Prof.Kambal</dc:creator>
  <dc:description/>
  <dc:language>en-US</dc:language>
  <cp:lastModifiedBy>DRHANNAN</cp:lastModifiedBy>
  <dcterms:modified xsi:type="dcterms:W3CDTF">2014-10-12T05:53:57Z</dcterms:modified>
  <cp:revision>50</cp:revision>
  <dc:subject/>
  <dc:title>Sterilization &amp; Disinfection</dc:title>
</cp:coreProperties>
</file>