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990-638D-457B-8B9E-2A508776C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38FA-9388-40A6-A4E2-5C5F689999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F6D-655C-41C8-B966-18DA8497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65C-2E3B-44F8-AE19-ECD52528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A69-DB90-4D88-8727-0261206A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017-AB1B-4FE6-B2C6-C8A7860F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0FCC-9011-4FFA-AB4D-BED7B0BF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A6FC-CA7C-425A-8BF5-2556574E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084D-7553-4C7C-A74E-8BEB1FC5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32F-E7C4-4BC4-97B2-C1866C17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F424-171F-434F-AA77-4BFE3627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3DDA-CCF0-471A-B1EC-E7195866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F990-E875-4A4E-BEF4-44DCE0D8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6E6-911B-4CE9-8D31-DBDD4CD2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3F54-1DC8-414F-A335-DC35A33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C6D5-941F-4DBB-A0CD-6B15127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9C68-9090-40CC-BB45-A2890E4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458C-632C-4210-AF1A-82CC54D8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0DF7-A255-4D0C-A592-5E146C3F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41C-EB0D-44F2-B38B-74FE66BE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EDE-ECE1-439A-A26C-052EE819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FE0-13D2-4A85-B263-7A77619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648-E042-4569-BB9F-3694F8FE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B0B-A547-40DE-B31F-5243944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D4C-1791-4679-B6CB-CA41DE7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1D6-A368-4A5B-BAD3-87CEE84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CFCE-2C21-4594-88EB-217CC2F770F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C0F-E19E-41D9-8D76-A4A8636AE82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jarimagazine.com/wp-content/uploads/2009/03/pasteurization-300x236.jpg&amp;imgrefurl=http://majarimagazine.com/2009/03/milk-pasteurization-and-sterilization/&amp;usg=__VNL8gL_pMq3187NXIGSO4RPrcC8=&amp;h=236&amp;w=300&amp;sz=17&amp;hl=en&amp;start=1&amp;zoom=1&amp;tbnid=iEuoaM0o78EDyM:&amp;tbnh=91&amp;tbnw=116&amp;prev=/images%3Fq%3DPASTEURIZATION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viente.com/images/ionizing_radiation.png&amp;imgrefurl=http://www.viviente.com/2007/11/&amp;usg=__B0vav05IzaGHZINjr0M42oIU4eA=&amp;h=489&amp;w=589&amp;sz=62&amp;hl=en&amp;start=4&amp;zoom=1&amp;tbnid=MKoKR8K9RL-97M:&amp;tbnh=112&amp;tbnw=135&amp;prev=/images%3Fq%3DIONIZING%2BRADIATION%26hl%3Den%26safe%3Dactive%26sa%3DG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f. Hanan Habib &amp; Dr. AbdulAziz Al-kha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ege Of Medicine-K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e.g.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thylene ox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ost common method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by destroying their oxidative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e.g. Bunsen burner-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Oven without fan is dangerous. Used for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97360"/>
            <a:ext cx="194328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s hot water. Moist heat kills microorganisms by </a:t>
            </a:r>
            <a:r>
              <a:rPr b="1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gene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penetr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that autoclavable items must be steam permeable. Can not be used for items that are lacking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at a pressure of 15 pps. at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076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ttp://t1.gstatic.com/images?q=tbn:ANd9GcRYNqbj5I97mYRGojmkfPMHnK5f-yc_EJaj5Gn1BD7vL9fshDg5tg"/>
          <p:cNvPicPr/>
          <p:nvPr/>
        </p:nvPicPr>
        <p:blipFill>
          <a:blip r:embed="rId5"/>
          <a:stretch/>
        </p:blipFill>
        <p:spPr>
          <a:xfrm>
            <a:off x="1116000" y="3716280"/>
            <a:ext cx="4103640" cy="182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ttp://t3.gstatic.com/images?q=tbn:ANd9GcSLKIW2EebW_NisJ5BnG5uC6dgr2XSY7vL1e2fZycNJQd-EWWi4"/>
          <p:cNvPicPr/>
          <p:nvPr/>
        </p:nvPicPr>
        <p:blipFill>
          <a:blip r:embed="rId6"/>
          <a:stretch/>
        </p:blipFill>
        <p:spPr>
          <a:xfrm>
            <a:off x="1187280" y="620640"/>
            <a:ext cx="33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ore test ( biological indicato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1" name="Picture 2" descr="http://t3.gstatic.com/images?q=tbn:ANd9GcSdboxK-R_6CWjC3sgi7dGMAGcDSgah81KIauTKkKMHBTiQiVaN"/>
          <p:cNvPicPr/>
          <p:nvPr/>
        </p:nvPicPr>
        <p:blipFill>
          <a:blip r:embed="rId1"/>
          <a:stretch/>
        </p:blipFill>
        <p:spPr>
          <a:xfrm>
            <a:off x="2340000" y="2060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1- Define the terms sterilization, disinfectant and antisepsis,  disinfectant and antisep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2- Classify the different methods of sterilization in physical and chemical meth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3- To recall the different physical methods of steriliz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4- Know and realizes heat is the most important method of sterilization and that it should be used where ever that is po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0" lang="en-US" sz="2400" spc="-1" strike="noStrike">
                <a:solidFill>
                  <a:srgbClr val="c2ebff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of sterilization is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ond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ute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thods of 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 63-66 C for 30 minutes (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conventional metho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72-73 C for 3-5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flash metho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2" descr="http://t0.gstatic.com/images?q=tbn:iEuoaM0o78EDyM:http://majarimagazine.com/wp-content/uploads/2009/03/pasteurization-300x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49228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www.emt-india.net/process/dairy/img/Pasteurization.gif"/>
          <p:cNvPicPr/>
          <p:nvPr/>
        </p:nvPicPr>
        <p:blipFill>
          <a:blip r:embed="rId3"/>
          <a:stretch/>
        </p:blipFill>
        <p:spPr>
          <a:xfrm>
            <a:off x="1476360" y="242100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II .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d instruments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 .Requires high humidity and used at relative humidity    50-60%  .Te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um tuberculosi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o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spo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present then immersion period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ay be inactivat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 Hard  water 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Ch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), subatmospher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rtant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sterile body site should be ster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non-sterile body site  can be disinf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 washing is the most important to prevent hospital acquired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5- Know the different types of heat sterilization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6- Know dry heat as applied in hot air oven and moist heat as applied in autoc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7- Know the principles of autoclave function and control method of sterilization pro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8- Know the importance of non heat sterilization methods and their use for sterilization of heat sensitive obj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9-Know the difference between antiseptics and disinfe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0- Classify the disinfectants and antiseptics and know factors affecting their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1- Know different applications for different disinfections and antisept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ould be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in the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or 134 C for 10 or 15 min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such as operating rooms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has greater energy than U.V. light, therefore more effective. Used mainly in industrial facilities e.g.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http://t2.gstatic.com/images?q=tbn:MKoKR8K9RL-97M:http://www.viviente.com/images/ionizing_radiati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49360"/>
            <a:ext cx="128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Best known example is the </a:t>
            </a:r>
            <a:r>
              <a:rPr b="1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from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Main use: for heat labile substances e.g. sera,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DRHANNAN</cp:lastModifiedBy>
  <dcterms:modified xsi:type="dcterms:W3CDTF">2014-10-12T05:53:57Z</dcterms:modified>
  <cp:revision>50</cp:revision>
  <dc:subject/>
  <dc:title>Sterilization &amp; Disinfection</dc:title>
</cp:coreProperties>
</file>