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move the slide</a:t>
            </a:r>
            <a:endParaRPr b="0" lang="en-US" sz="4300" spc="-1" strike="noStrike">
              <a:solidFill>
                <a:srgbClr val="545e70"/>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CB4A-0C9A-4682-9A58-C382FE924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14DB-9D9B-4EB3-AB45-99A4851FC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912A-DA5D-4C4C-9D00-7EE7F8FEC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A142-BBC9-41F0-973D-11B08781F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70AD4-EE97-476E-86CF-21C127933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85B56-FB9E-4749-B9BE-FDD2D0997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A1881-9877-4A5A-A5FE-73CD8488E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90578-AB92-4DB0-96FA-6A187B0E4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367A2-8F02-4CFE-A6CD-49A7043C0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DC24D-3D23-4E44-87FF-D7543A80E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D0CB0-5A6F-425E-87FF-54F112A95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3FE15-6AD6-49C0-88CF-3BE21747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B99ED-252D-46FE-92D8-13070FF71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0F0EC-6362-4492-AA2B-601517CD6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55C4-A987-4459-B3B9-20485662A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A3448-A9C6-42B4-A9DF-859F738E1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FEB09-A0B9-48A9-A34A-A35793631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4AA1C-4D65-4448-8F60-E75DD80C5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A0756-3687-41AF-8579-E02F367BE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72B64-FC1E-4BCE-BDDB-3248777CF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7E477-A4AA-4ECA-8C22-FAF7B7EE2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2B594-A7AF-43EC-B37F-275D62170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69BD0-4F9E-4F2F-A8E6-AEA453BA6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51CA5-1F45-4EFB-9AAF-82F63825D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95EEB-D59C-4E52-BF8C-DA0630404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ECD16-7B3A-4F32-B0BD-BC463F4AE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686F9-2E58-4439-A584-1EBB436F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02B4A-BDDC-424D-B46E-CB5D71755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F3E22-0046-428F-8160-DEDF07D10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B9403-A9B0-447B-8B43-4F306618E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937C2-407C-44FA-94E0-21EA29C5E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7DB10-5607-4B47-ABEA-3F406D867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003FA4-30F2-4105-B75F-D3BA30E11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DCE808-830A-42D6-A181-2CF825F802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D5053-D90B-437C-8B3A-9FDE416FA2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B7D82-717A-45A1-944B-D58EF2C33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BEEC41-A770-44A8-8B72-0A3BC6A8F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D6065-9E2C-47A0-A462-C9B9C3A6F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CCE05-8E88-478B-9579-672C1889A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E318B-230F-45C7-828D-E2B595481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60AD0-83F1-44DE-894F-A248D8D09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A5F60-390C-4A3A-9FE4-4F5A59D4A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DE8D1-7C9A-4EC5-A824-809899808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D3DA8-C023-4A63-91B1-A67A210E0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8B7D5-175C-4CE5-B621-806FF9CA5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E203B6-570A-4C87-B68C-7ECFA611B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D240AA-54CA-4D34-8A35-7A68FDAB7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CEC60F-D9BF-43D0-A96C-9B258D3E52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0D82-0F01-46F6-A899-4146D0003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347D2-3FCE-4D56-89FD-4F9BF3796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D64AB6-D57D-416B-9234-9D9EC487EB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4F06D-5FE8-499E-9BDC-61D9A6BEF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370B1C-ECAD-4EC9-AFB1-75C9D1F42E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8DEAA6-2F28-4001-B117-76F67EAF4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7A6E9-E966-414F-857F-E1B6F7620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E5B00-A658-4FAC-87A8-0A01AC72A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22ACF3-4B51-42CA-B437-59001335D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02FF6-D586-41BF-A321-65A27B497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D763A9-B8F8-471E-A6F8-DC3B54F26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DC1B-4D4C-451E-BCEC-47B24805F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7671F9-7D6E-4FAF-9599-6D2A992546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6EF6B3-3584-4B32-B685-B14703C07C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F191E-5633-41BA-9F29-E974B4656C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B1BDD-BC9B-4338-83C0-3DCD1AC14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0258C-43AF-48D7-A7DB-581A70571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C6B1D-EF9E-481E-830C-2E0B9CCB7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83A15D-8AA2-472C-8BB9-D3A686486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B230C-7851-48C3-833C-AFFEDC79B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2D611-F780-48BA-9A27-F760E3A21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58802-9BDE-4F2E-91ED-7C1C4208E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A1F6-6B67-4768-9592-2FAA1161B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D5A66-AFD7-437E-B1D8-346D78CF2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142181-6133-408F-A260-DB19223A83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B0B05E-3509-47E9-ACBB-5A1756FF40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D05E77-F17C-466A-A3CA-EB24CFFE27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E0173F-701A-4A30-944B-0CE6EF4D1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CCC347-1105-40BC-819D-7325D91830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7337D-E88A-4440-8B92-55C7A79E4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B9A7A-1837-48EB-9BDB-C42AD25DB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E90CF-9DD7-4C0D-A3CD-E840C5A8A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2AEEC-B011-442D-858E-294207FF5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2B68-BBB3-492A-86C2-1710E8687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7AB38-B2DB-4E16-A994-6EF4617BF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20AF5-7919-4B86-BBEC-029EFABC3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A5EAA-10E7-4798-8550-DD55062E64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990C4B-B3BC-4311-8486-45D749ECD7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C2F395-F45A-4E79-8CA9-C331EB7739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D0E9-03E2-43A7-91F8-419F53BD3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4f8fa">
              <a:alpha val="33000"/>
            </a:srgbClr>
          </a:solidFill>
          <a:ln cap="rnd" w="3240">
            <a:solidFill>
              <a:srgbClr val="a0b5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0860-40BA-409E-B013-5CE1C6CA2120}"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4f8fa">
              <a:alpha val="33000"/>
            </a:srgbClr>
          </a:solidFill>
          <a:ln cap="rnd" w="3240">
            <a:solidFill>
              <a:srgbClr val="a0b5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b8563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A790-D364-43DC-AEF3-540371EADC59}"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b8563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D271-EA3E-41F8-B99A-B5B833058985}"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FD17-BCD7-47C3-BFC4-FE38D112AA3A}"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7DD9-D7B7-4094-A8DA-3016F2D46548}"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27D0-964E-4260-9057-F924CB158004}"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3cad6">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5d1d7">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A806-A52A-48E5-99D1-23B193E4FEA6}"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90720" y="2895480"/>
            <a:ext cx="778824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Gill Sans MT"/>
              </a:rPr>
              <a:t>CELL INJURY for Medical (lecture 3)</a:t>
            </a:r>
            <a:br>
              <a:rPr sz="3900"/>
            </a:br>
            <a:endParaRPr b="0" lang="en-US" sz="3900" spc="-1" strike="noStrike">
              <a:solidFill>
                <a:srgbClr val="545e70"/>
              </a:solidFill>
              <a:latin typeface="Gill Sans MT"/>
            </a:endParaRPr>
          </a:p>
        </p:txBody>
      </p:sp>
      <p:sp>
        <p:nvSpPr>
          <p:cNvPr id="326" name="PlaceHolder 2"/>
          <p:cNvSpPr>
            <a:spLocks noGrp="1"/>
          </p:cNvSpPr>
          <p:nvPr>
            <p:ph type="subTitle"/>
          </p:nvPr>
        </p:nvSpPr>
        <p:spPr>
          <a:xfrm>
            <a:off x="1431720" y="4800600"/>
            <a:ext cx="74070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Gill Sans MT"/>
              </a:rPr>
              <a:t>Sufia Husai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Gill Sans MT"/>
              </a:rPr>
              <a:t>Assistant Prof  &amp; Consultant</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Gill Sans MT"/>
              </a:rPr>
              <a:t>KKUH, Riyad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802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e70"/>
                </a:solidFill>
                <a:latin typeface="Gill Sans MT"/>
              </a:rPr>
              <a:t>Adaptation to environmental stress</a:t>
            </a:r>
            <a:br>
              <a:rPr sz="4000"/>
            </a:br>
            <a:endParaRPr b="0" lang="en-US" sz="3200" spc="-1" strike="noStrike">
              <a:solidFill>
                <a:srgbClr val="545e70"/>
              </a:solidFill>
              <a:latin typeface="Gill Sans MT"/>
            </a:endParaRPr>
          </a:p>
        </p:txBody>
      </p:sp>
      <p:sp>
        <p:nvSpPr>
          <p:cNvPr id="347" name=""/>
          <p:cNvSpPr txBox="1"/>
          <p:nvPr/>
        </p:nvSpPr>
        <p:spPr>
          <a:xfrm>
            <a:off x="838080" y="837720"/>
            <a:ext cx="8305920" cy="57913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ells are constantly adjusting their structure and function to accommodate changing demands i.e. they adapt within physiological limits.</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s cells encounter physiologic stresses or pathologic stimuli, they can undergo adaptation. The principal adaptive responses are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trophy,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plasia,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rophy,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taplasia.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OTE: If the adaptive capability is exceeded or if the external stress is harmful, cell injury develops. Within certain limits injury is reversible, and cells return to normal but severe or persistent stress results in irreversible injury and death of the affected cells.)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Hypertrophy</a:t>
            </a:r>
            <a:endParaRPr b="0" lang="en-US" sz="4300" spc="-1" strike="noStrike">
              <a:solidFill>
                <a:srgbClr val="545e70"/>
              </a:solidFill>
              <a:latin typeface="Gill Sans MT"/>
            </a:endParaRPr>
          </a:p>
        </p:txBody>
      </p:sp>
      <p:sp>
        <p:nvSpPr>
          <p:cNvPr id="349" name=""/>
          <p:cNvSpPr txBox="1"/>
          <p:nvPr/>
        </p:nvSpPr>
        <p:spPr>
          <a:xfrm>
            <a:off x="1142640" y="1447560"/>
            <a:ext cx="7791480" cy="5105160"/>
          </a:xfrm>
          <a:prstGeom prst="rect">
            <a:avLst/>
          </a:prstGeom>
          <a:noFill/>
          <a:ln w="0">
            <a:noFill/>
          </a:ln>
        </p:spPr>
        <p:txBody>
          <a:bodyPr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s an increase in the size of the tissue/organ due to the </a:t>
            </a:r>
            <a:r>
              <a:rPr b="1" lang="en-US" sz="2700" spc="-1" strike="noStrike">
                <a:solidFill>
                  <a:srgbClr val="000000"/>
                </a:solidFill>
                <a:latin typeface="Gill Sans MT"/>
              </a:rPr>
              <a:t>increase in the size of the cells</a:t>
            </a:r>
            <a:r>
              <a:rPr b="0" lang="en-US" sz="2700" spc="-1" strike="noStrike">
                <a:solidFill>
                  <a:srgbClr val="000000"/>
                </a:solidFill>
                <a:latin typeface="Gill Sans MT"/>
              </a:rPr>
              <a:t>. </a:t>
            </a:r>
            <a:endParaRPr b="0" lang="en-US" sz="27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creased demands lead to hypertrophy.</a:t>
            </a:r>
            <a:endParaRPr b="0" lang="en-US" sz="27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ypertrophy takes place in cells that are not capable of dividing e.g. striated muscles.</a:t>
            </a:r>
            <a:endParaRPr b="0" lang="en-US" sz="27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ill Sans MT"/>
              </a:rPr>
              <a:t>Hypertrophy can be physiologic or pathologic</a:t>
            </a:r>
            <a:endParaRPr b="0" lang="en-US" sz="2700" spc="-1" strike="noStrike">
              <a:solidFill>
                <a:srgbClr val="000000"/>
              </a:solidFill>
              <a:latin typeface="Gill Sans MT"/>
            </a:endParaRPr>
          </a:p>
          <a:p>
            <a:pPr lvl="1" marL="639720" indent="-282600">
              <a:lnSpc>
                <a:spcPct val="90000"/>
              </a:lnSpc>
              <a:spcBef>
                <a:spcPts val="550"/>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ysiological: the skeletal muscles undergo only hypertrophy in response to increased demand by exercise. </a:t>
            </a:r>
            <a:endParaRPr b="0" lang="en-US" sz="2400" spc="-1" strike="noStrike">
              <a:solidFill>
                <a:srgbClr val="000000"/>
              </a:solidFill>
              <a:latin typeface="Gill Sans MT"/>
            </a:endParaRPr>
          </a:p>
          <a:p>
            <a:pPr lvl="1" marL="639720" indent="-282600">
              <a:lnSpc>
                <a:spcPct val="90000"/>
              </a:lnSpc>
              <a:spcBef>
                <a:spcPts val="550"/>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hologic: the cardiomyocytes of the heart hypertrophy in hypertension or aortic valve disease. </a:t>
            </a:r>
            <a:endParaRPr b="0" lang="en-US" sz="24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51" name="Picture 2" descr="http://image.slidesharecdn.com/cellinjuryadaptationandaccumulations-090911041402-phpapp01/95/slide-4-728.jpg?125266071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2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Hyperplasia</a:t>
            </a:r>
            <a:endParaRPr b="0" lang="en-US" sz="4300" spc="-1" strike="noStrike">
              <a:solidFill>
                <a:srgbClr val="545e70"/>
              </a:solidFill>
              <a:latin typeface="Gill Sans MT"/>
            </a:endParaRPr>
          </a:p>
        </p:txBody>
      </p:sp>
      <p:sp>
        <p:nvSpPr>
          <p:cNvPr id="353" name=""/>
          <p:cNvSpPr txBox="1"/>
          <p:nvPr/>
        </p:nvSpPr>
        <p:spPr>
          <a:xfrm>
            <a:off x="1066320" y="838080"/>
            <a:ext cx="8077320" cy="601992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s the increase in the size of an organ or tissue caused by an</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crease in the number of cells.</a:t>
            </a:r>
            <a:r>
              <a:rPr b="0" lang="en-US" sz="2000" spc="-1" strike="noStrike">
                <a:solidFill>
                  <a:srgbClr val="000000"/>
                </a:solidFill>
                <a:latin typeface="Gill Sans MT"/>
              </a:rPr>
              <a:t> Increased demands lead to</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plasia.</a:t>
            </a:r>
            <a:r>
              <a:rPr b="1" lang="en-US" sz="2000" spc="-1" strike="noStrike">
                <a:solidFill>
                  <a:srgbClr val="000000"/>
                </a:solidFill>
                <a:latin typeface="Gill Sans MT"/>
              </a:rPr>
              <a:t> </a:t>
            </a:r>
            <a:r>
              <a:rPr b="0" lang="en-US" sz="2000" spc="-1" strike="noStrike">
                <a:solidFill>
                  <a:srgbClr val="000000"/>
                </a:solidFill>
                <a:latin typeface="Gill Sans MT"/>
              </a:rPr>
              <a:t>Hyperplasia takes place if the cell population is</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pable of replication. Hyperplasia can be physiologic or pathologic. </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Physiologic hyperplasia </a:t>
            </a:r>
            <a:r>
              <a:rPr b="0" lang="en-US" sz="2000" spc="-1" strike="noStrike">
                <a:solidFill>
                  <a:srgbClr val="000000"/>
                </a:solidFill>
                <a:latin typeface="Gill Sans MT"/>
              </a:rPr>
              <a:t>are of two types </a:t>
            </a:r>
            <a:endParaRPr b="0" lang="en-US" sz="2000" spc="-1" strike="noStrike">
              <a:solidFill>
                <a:srgbClr val="000000"/>
              </a:solidFill>
              <a:latin typeface="Gill Sans MT"/>
            </a:endParaRPr>
          </a:p>
          <a:p>
            <a:pPr lvl="1" marL="843120" indent="-44784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rmonal hyperplasia e.g. the proliferation of the glands of the female breast at puberty and during pregnancy</a:t>
            </a:r>
            <a:endParaRPr b="0" lang="en-US" sz="2000" spc="-1" strike="noStrike">
              <a:solidFill>
                <a:srgbClr val="000000"/>
              </a:solidFill>
              <a:latin typeface="Gill Sans MT"/>
            </a:endParaRPr>
          </a:p>
          <a:p>
            <a:pPr lvl="1" marL="843120" indent="-44784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ensatory hyperplasia e.g. when a portion of liver is partially resected, the remaining cells  multiply and restore the liver to its original weight.  </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Pathologic hyperplasia </a:t>
            </a:r>
            <a:r>
              <a:rPr b="0" lang="en-US" sz="2000" spc="-1" strike="noStrike">
                <a:solidFill>
                  <a:srgbClr val="000000"/>
                </a:solidFill>
                <a:latin typeface="Gill Sans MT"/>
              </a:rPr>
              <a:t>are caused by abnormal excessive hormonal or growth factor stimulation e.g.  excess estrogen leads to endometrial hyperplasia which causes abnormal menstrual bleeding. Sometimes pathologic hyperplasia acts as the base for cancer to develop from. Thus, patients with hyperplasia of the endometrium are at increased risk of developing endometrial cancer.</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Hypertrophy and hyperplasia</a:t>
            </a:r>
            <a:endParaRPr b="0" lang="en-US" sz="4300" spc="-1" strike="noStrike">
              <a:solidFill>
                <a:srgbClr val="545e70"/>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ypertrophy and hyperplasia can occur together, e.g. </a:t>
            </a:r>
            <a:endParaRPr b="0" lang="en-US" sz="28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uterus during pregnancy  in which there is smooth muscle hypertrophy and hyperplasia.</a:t>
            </a:r>
            <a:endParaRPr b="0" lang="en-US" sz="28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nign prostatic hyperplasia</a:t>
            </a: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57" name="Picture 2" descr="http://image.slidesharecdn.com/cellinjuryadaptationandaccumulations-090911041402-phpapp01/95/slide-5-728.jpg?1252660713"/>
          <p:cNvPicPr/>
          <p:nvPr/>
        </p:nvPicPr>
        <p:blipFill>
          <a:blip r:embed="rId1"/>
          <a:stretch/>
        </p:blipFill>
        <p:spPr>
          <a:xfrm>
            <a:off x="0" y="0"/>
            <a:ext cx="9220320" cy="691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218960" y="-360"/>
            <a:ext cx="749916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Gill Sans MT"/>
              </a:rPr>
              <a:t>Atrophy</a:t>
            </a:r>
            <a:endParaRPr b="0" lang="en-US" sz="3900" spc="-1" strike="noStrike">
              <a:solidFill>
                <a:srgbClr val="545e70"/>
              </a:solidFill>
              <a:latin typeface="Gill Sans MT"/>
            </a:endParaRPr>
          </a:p>
        </p:txBody>
      </p:sp>
      <p:sp>
        <p:nvSpPr>
          <p:cNvPr id="359" name=""/>
          <p:cNvSpPr txBox="1"/>
          <p:nvPr/>
        </p:nvSpPr>
        <p:spPr>
          <a:xfrm>
            <a:off x="990720" y="609120"/>
            <a:ext cx="8153280" cy="62485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rophy is the shrinkage in the size of the cell. Reduced demand leads to atrophy. When a sufficient number of cells are involved, the entire organ decreases in size, becoming atrophic. </a:t>
            </a:r>
            <a:endParaRPr b="0" lang="en-US" sz="1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rophic cells are not dead but have diminished function. In atrophy there is decreased protein synthesis and increased protein degradation in cells.</a:t>
            </a:r>
            <a:endParaRPr b="0" lang="en-US" sz="1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uses of atrophy include </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creased workload or disuse(e.g. immobilization of a limb in fracture), </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ss of innervation (lack of neural stimulation to the peripheral muscles caused by injury to the supplying nerve causes atrophy of that muscle)</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minished blood supply,</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adequate nutrition</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ss of endocrine stimulation (e.g. the loss of hormone stimulation in menopause)</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ing :senile atrophy of brain can lead to dementia. </a:t>
            </a:r>
            <a:endParaRPr b="0" lang="en-US" sz="1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me of these stimuli are physiologic (the loss of hormone stimulation in menopause) and others pathologic (denervatio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Involution</a:t>
            </a:r>
            <a:endParaRPr b="0" lang="en-US" sz="4300" spc="-1" strike="noStrike">
              <a:solidFill>
                <a:srgbClr val="545e70"/>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the reduction in the cell numbe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Hypoplasia and aplasia</a:t>
            </a:r>
            <a:endParaRPr b="0" lang="en-US" sz="4300" spc="-1" strike="noStrike">
              <a:solidFill>
                <a:srgbClr val="545e70"/>
              </a:solidFill>
              <a:latin typeface="Gill Sans MT"/>
            </a:endParaRPr>
          </a:p>
        </p:txBody>
      </p:sp>
      <p:sp>
        <p:nvSpPr>
          <p:cNvPr id="363" name=""/>
          <p:cNvSpPr txBox="1"/>
          <p:nvPr/>
        </p:nvSpPr>
        <p:spPr>
          <a:xfrm>
            <a:off x="1142640" y="1447560"/>
            <a:ext cx="779148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ypoplasia refers to an organ that does not reach its full size. It is a developmental disorders and not an adaptive response.</a:t>
            </a: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lasia is the failure of cell production and it is also a developmental disorders e.g. during fetal growth aplasia can lead to agenesis of organs.</a:t>
            </a: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Metaplasia</a:t>
            </a:r>
            <a:endParaRPr b="0" lang="en-US" sz="4300" spc="-1" strike="noStrike">
              <a:solidFill>
                <a:srgbClr val="545e70"/>
              </a:solidFill>
              <a:latin typeface="Gill Sans MT"/>
            </a:endParaRPr>
          </a:p>
        </p:txBody>
      </p:sp>
      <p:sp>
        <p:nvSpPr>
          <p:cNvPr id="365" name=""/>
          <p:cNvSpPr txBox="1"/>
          <p:nvPr/>
        </p:nvSpPr>
        <p:spPr>
          <a:xfrm>
            <a:off x="990720" y="837720"/>
            <a:ext cx="8153280" cy="57913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metaplasia the cells adapt by changing (differentiating) from one type of cell into another type of cell. This is known as metaplasia.</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re the cells sensitive to a particular causative agent are replaced by another cell types better able to tolerate the difficult  environment.  </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taplasia is usually a reversible provided the causative agent is removed.</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xamples include:</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quamous metaplasia:</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umnar cell metaplasia</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sseous metaplasia</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yeloid metaplasia</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a:p>
            <a:pPr marL="596880" indent="-514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HOLOGIC CALCIFICATION</a:t>
            </a:r>
            <a:endParaRPr b="0" lang="en-US" sz="3200" spc="-1" strike="noStrike">
              <a:solidFill>
                <a:srgbClr val="000000"/>
              </a:solidFill>
              <a:latin typeface="Gill Sans MT"/>
            </a:endParaRPr>
          </a:p>
          <a:p>
            <a:pPr marL="596880" indent="-514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APTATION TO ENVIRONMENTAL STR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e70"/>
                </a:solidFill>
                <a:latin typeface="Gill Sans MT"/>
              </a:rPr>
              <a:t>1) Squamous metaplasia</a:t>
            </a:r>
            <a:endParaRPr b="0" lang="en-US" sz="4400" spc="-1" strike="noStrike">
              <a:solidFill>
                <a:srgbClr val="545e70"/>
              </a:solidFill>
              <a:latin typeface="Gill Sans MT"/>
            </a:endParaRPr>
          </a:p>
        </p:txBody>
      </p:sp>
      <p:sp>
        <p:nvSpPr>
          <p:cNvPr id="367" name=""/>
          <p:cNvSpPr txBox="1"/>
          <p:nvPr/>
        </p:nvSpPr>
        <p:spPr>
          <a:xfrm>
            <a:off x="1066320" y="1294920"/>
            <a:ext cx="8077320" cy="4800600"/>
          </a:xfrm>
          <a:prstGeom prst="rect">
            <a:avLst/>
          </a:prstGeom>
          <a:noFill/>
          <a:ln w="0">
            <a:noFill/>
          </a:ln>
        </p:spPr>
        <p:txBody>
          <a:bodyPr anchor="t">
            <a:normAutofit fontScale="88000"/>
          </a:bodyPr>
          <a:p>
            <a:pPr marL="321120" indent="-248400">
              <a:spcBef>
                <a:spcPts val="601"/>
              </a:spcBef>
              <a:buClr>
                <a:srgbClr val="d1634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it the columnar cells are replaced by squamous cells.  </a:t>
            </a:r>
            <a:r>
              <a:rPr b="0" lang="en-US" sz="2000" spc="-1" strike="noStrike">
                <a:solidFill>
                  <a:srgbClr val="000000"/>
                </a:solidFill>
                <a:latin typeface="Gill Sans MT"/>
              </a:rPr>
              <a:t>It is seen in:</a:t>
            </a:r>
            <a:endParaRPr b="0" lang="en-US" sz="2000" spc="-1" strike="noStrike">
              <a:solidFill>
                <a:srgbClr val="000000"/>
              </a:solidFill>
              <a:latin typeface="Gill Sans MT"/>
            </a:endParaRPr>
          </a:p>
          <a:p>
            <a:pPr lvl="1" marL="562680" indent="-208080">
              <a:spcBef>
                <a:spcPts val="550"/>
              </a:spcBef>
              <a:buClr>
                <a:srgbClr val="d163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cervix</a:t>
            </a:r>
            <a:r>
              <a:rPr b="0" lang="en-US" sz="2000" spc="-1" strike="noStrike">
                <a:solidFill>
                  <a:srgbClr val="000000"/>
                </a:solidFill>
                <a:latin typeface="Gill Sans MT"/>
              </a:rPr>
              <a:t>: replacement  takes place at the squamocolumnar junction.</a:t>
            </a:r>
            <a:endParaRPr b="0" lang="en-US" sz="2000" spc="-1" strike="noStrike">
              <a:solidFill>
                <a:srgbClr val="000000"/>
              </a:solidFill>
              <a:latin typeface="Gill Sans MT"/>
            </a:endParaRPr>
          </a:p>
          <a:p>
            <a:pPr lvl="1" marL="562680" indent="-208080">
              <a:spcBef>
                <a:spcPts val="550"/>
              </a:spcBef>
              <a:buClr>
                <a:srgbClr val="d163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respiratory tract</a:t>
            </a:r>
            <a:r>
              <a:rPr b="0" lang="en-US" sz="2000" spc="-1" strike="noStrike">
                <a:solidFill>
                  <a:srgbClr val="000000"/>
                </a:solidFill>
                <a:latin typeface="Gill Sans MT"/>
              </a:rPr>
              <a:t>: the columnar epithelium of the bronchus is replaced by squamous cell following chronic injury in chronic smokers. The squamous epithelium is able to survive under circumstances that the more fragile columnar epithelium would not tolerate.  Although the metaplastic squamous epithelium will survive better,  the important protective functions of columnar epithelium are lost, such as mucus secretion and ciliary action.  </a:t>
            </a:r>
            <a:endParaRPr b="0" lang="en-US" sz="2000" spc="-1" strike="noStrike">
              <a:solidFill>
                <a:srgbClr val="000000"/>
              </a:solidFill>
              <a:latin typeface="Gill Sans MT"/>
            </a:endParaRPr>
          </a:p>
          <a:p>
            <a:pPr marL="321120" indent="-248400">
              <a:spcBef>
                <a:spcPts val="601"/>
              </a:spcBef>
              <a:buClr>
                <a:srgbClr val="d1634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f the causative agent persists, it may provide the base (predispose to) for malignant transformation. In fact, it is thought that cigarette smoking initially causes squamous metaplasia, and later squamous cell cancers arise from it.  </a:t>
            </a:r>
            <a:endParaRPr b="0" lang="en-US" sz="2000" spc="-1" strike="noStrike">
              <a:solidFill>
                <a:srgbClr val="000000"/>
              </a:solidFill>
              <a:latin typeface="Gill Sans MT"/>
            </a:endParaRPr>
          </a:p>
          <a:p>
            <a:pPr marL="321120" indent="-248400">
              <a:spcBef>
                <a:spcPts val="601"/>
              </a:spcBef>
              <a:buClr>
                <a:srgbClr val="d1634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milarly squamous cell carcinoma of cervix also arises from the squamous metaplasia in the cervis.</a:t>
            </a:r>
            <a:endParaRPr b="0" lang="en-US" sz="2000" spc="-1" strike="noStrike">
              <a:solidFill>
                <a:srgbClr val="000000"/>
              </a:solidFill>
              <a:latin typeface="Gill Sans MT"/>
            </a:endParaRPr>
          </a:p>
          <a:p>
            <a:pPr marL="321120" indent="-2484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e70"/>
                </a:solidFill>
                <a:latin typeface="Gill Sans MT"/>
              </a:rPr>
              <a:t>Columnar, osseous and myeloid metaplasia </a:t>
            </a:r>
            <a:endParaRPr b="0" lang="en-US" sz="3200" spc="-1" strike="noStrike">
              <a:solidFill>
                <a:srgbClr val="545e70"/>
              </a:solidFill>
              <a:latin typeface="Gill Sans MT"/>
            </a:endParaRPr>
          </a:p>
        </p:txBody>
      </p:sp>
      <p:sp>
        <p:nvSpPr>
          <p:cNvPr id="369" name=""/>
          <p:cNvSpPr txBox="1"/>
          <p:nvPr/>
        </p:nvSpPr>
        <p:spPr>
          <a:xfrm>
            <a:off x="990720" y="1447920"/>
            <a:ext cx="8153280" cy="54100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ill Sans MT"/>
              </a:rPr>
              <a:t>2) Columnar cell metaplasia: </a:t>
            </a:r>
            <a:r>
              <a:rPr b="0" lang="en-US" sz="2400" spc="-1" strike="noStrike">
                <a:solidFill>
                  <a:srgbClr val="000000"/>
                </a:solidFill>
                <a:latin typeface="Gill Sans MT"/>
              </a:rPr>
              <a:t>it is the replacement of the squamous lining by columnar cells. It is seen in the esophagus in chronic gastro-esophageal reflux disease. The normal stratified squamous epithelium of the lower esophagus undergoes metaplastic transformation to columnar epithelium. This change is called as Barrett’s oesophagus and it can be precancerous and lead to development of adenocarcinoma of esophagus.</a:t>
            </a: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ill Sans MT"/>
              </a:rPr>
              <a:t>3) Osseous metaplasia: </a:t>
            </a:r>
            <a:r>
              <a:rPr b="0" lang="en-US" sz="2400" spc="-1" strike="noStrike">
                <a:solidFill>
                  <a:srgbClr val="000000"/>
                </a:solidFill>
                <a:latin typeface="Gill Sans MT"/>
              </a:rPr>
              <a:t>it is the formation of new bone at sites of tissue injury. Cartilagenous metaplasia may also occur.</a:t>
            </a: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ill Sans MT"/>
              </a:rPr>
              <a:t>4) Myeloid metaplasia (extramedullary hematopoiesis): </a:t>
            </a:r>
            <a:r>
              <a:rPr b="0" lang="en-US" sz="2400" spc="-1" strike="noStrike">
                <a:solidFill>
                  <a:srgbClr val="000000"/>
                </a:solidFill>
                <a:latin typeface="Gill Sans MT"/>
              </a:rPr>
              <a:t>is the proliferation of hematopoietic tissue in sites other then the bone marrow such as liver or spleen.</a:t>
            </a: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71" name="Picture 2" descr="http://image.slidesharecdn.com/cellinjuryadaptationandaccumulations-090911041402-phpapp01/95/slide-21-728.jpg?1252660713"/>
          <p:cNvPicPr/>
          <p:nvPr/>
        </p:nvPicPr>
        <p:blipFill>
          <a:blip r:embed="rId1"/>
          <a:stretch/>
        </p:blipFill>
        <p:spPr>
          <a:xfrm>
            <a:off x="-101520" y="-19080"/>
            <a:ext cx="9245520" cy="693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73" name="Picture 2" descr="http://image.slidesharecdn.com/cellinjuryadaptationandaccumulations-090911041402-phpapp01/95/slide-3-728.jpg?1252660713"/>
          <p:cNvPicPr/>
          <p:nvPr/>
        </p:nvPicPr>
        <p:blipFill>
          <a:blip r:embed="rId1">
            <a:biLevel thresh="50000"/>
          </a:blip>
          <a:stretch/>
        </p:blipFill>
        <p:spPr>
          <a:xfrm>
            <a:off x="0" y="-133200"/>
            <a:ext cx="9321840" cy="699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Pathologic Calcification </a:t>
            </a:r>
            <a:endParaRPr b="0" lang="en-US" sz="4300" spc="-1" strike="noStrike">
              <a:solidFill>
                <a:srgbClr val="545e70"/>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hologic calcification is the abnormal tissue deposition of calcium salts. There are two forms of pathologic calcification. </a:t>
            </a:r>
            <a:endParaRPr b="0" lang="en-US" sz="2400" spc="-1" strike="noStrike">
              <a:solidFill>
                <a:srgbClr val="000000"/>
              </a:solidFill>
              <a:latin typeface="Gill Sans MT"/>
            </a:endParaRPr>
          </a:p>
          <a:p>
            <a:pPr marL="82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dystrophic calcification:  </a:t>
            </a:r>
            <a:r>
              <a:rPr b="0" lang="en-US" sz="2400" spc="-1" strike="noStrike">
                <a:solidFill>
                  <a:srgbClr val="000000"/>
                </a:solidFill>
                <a:latin typeface="Gill Sans MT"/>
              </a:rPr>
              <a:t>is the deposition of calcium in dead or dying tissues;  here the serum calcium  levels are normal and calcium metabolism is normal. </a:t>
            </a:r>
            <a:endParaRPr b="0" lang="en-US" sz="2400" spc="-1" strike="noStrike">
              <a:solidFill>
                <a:srgbClr val="000000"/>
              </a:solidFill>
              <a:latin typeface="Gill Sans MT"/>
            </a:endParaRPr>
          </a:p>
          <a:p>
            <a:pPr marL="82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metastatic calcification:</a:t>
            </a:r>
            <a:r>
              <a:rPr b="0" lang="en-US" sz="2400" spc="-1" strike="noStrike">
                <a:solidFill>
                  <a:srgbClr val="000000"/>
                </a:solidFill>
                <a:latin typeface="Gill Sans MT"/>
              </a:rPr>
              <a:t> is the deposition of calcium salts in normal and healthy tissue; it is seen in hypercalcemia. The serum calcium levels are elevated and the calcium metabolism is abnormal</a:t>
            </a:r>
            <a:endParaRPr b="0" lang="en-US" sz="2400" spc="-1" strike="noStrike">
              <a:solidFill>
                <a:srgbClr val="000000"/>
              </a:solidFill>
              <a:latin typeface="Gill Sans MT"/>
            </a:endParaRPr>
          </a:p>
          <a:p>
            <a:pPr marL="8244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218960" y="-360"/>
            <a:ext cx="7924680" cy="4800600"/>
          </a:xfrm>
          <a:prstGeom prst="rect">
            <a:avLst/>
          </a:prstGeom>
          <a:noFill/>
          <a:ln w="0">
            <a:noFill/>
          </a:ln>
        </p:spPr>
        <p:txBody>
          <a:bodyPr anchor="t">
            <a:normAutofit fontScale="76000"/>
          </a:bodyPr>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688b"/>
                </a:solidFill>
                <a:latin typeface="Gill Sans MT"/>
              </a:rPr>
              <a:t>Dystrophic calcification:  </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en in areas of necrosis or damage e.g. </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lood vessels: in the atheromas of advanced atherosclerosis</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art: in aging or damaged/scarred heart valves. </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tuberculous lymph node can be converted to stone by the calcium.</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fat necrosis.</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sammoma body (see later)</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reas of trauma</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688b"/>
                </a:solidFill>
                <a:latin typeface="Gill Sans MT"/>
              </a:rPr>
              <a:t>Metastatic calcification: </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t is seen mainly in kidneys, lung and stomach.  It is associated with</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calcemia. There are four principal causes of hypercalcemia: </a:t>
            </a:r>
            <a:endParaRPr b="0" lang="en-US" sz="2000" spc="-1" strike="noStrike">
              <a:solidFill>
                <a:srgbClr val="000000"/>
              </a:solidFill>
              <a:latin typeface="Gill Sans MT"/>
            </a:endParaRPr>
          </a:p>
          <a:p>
            <a:pPr marL="277200" indent="-214560">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parathyroidism: increased secretion of parathyroid hormone</a:t>
            </a:r>
            <a:endParaRPr b="0" lang="en-US" sz="2000" spc="-1" strike="noStrike">
              <a:solidFill>
                <a:srgbClr val="000000"/>
              </a:solidFill>
              <a:latin typeface="Gill Sans MT"/>
            </a:endParaRPr>
          </a:p>
          <a:p>
            <a:pPr marL="277200" indent="-214560">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struction of bone in bone tumors e.g. multiple myeloma, leukemia and metastatic cancer in bone </a:t>
            </a:r>
            <a:endParaRPr b="0" lang="en-US" sz="2000" spc="-1" strike="noStrike">
              <a:solidFill>
                <a:srgbClr val="000000"/>
              </a:solidFill>
              <a:latin typeface="Gill Sans MT"/>
            </a:endParaRPr>
          </a:p>
          <a:p>
            <a:pPr marL="277200" indent="-214560">
              <a:lnSpc>
                <a:spcPct val="90000"/>
              </a:lnSpc>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itamin D intoxication/hypervitaminosis D. </a:t>
            </a:r>
            <a:endParaRPr b="0" lang="en-US" sz="2000" spc="-1" strike="noStrike">
              <a:solidFill>
                <a:srgbClr val="000000"/>
              </a:solidFill>
              <a:latin typeface="Gill Sans MT"/>
            </a:endParaRPr>
          </a:p>
          <a:p>
            <a:pPr marL="277200" indent="-214560">
              <a:lnSpc>
                <a:spcPct val="90000"/>
              </a:lnSpc>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nal failure (causes retention of phosphate leading to secondary hyperparathyroidism) </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2952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e70"/>
                </a:solidFill>
                <a:latin typeface="Gill Sans MT"/>
              </a:rPr>
              <a:t>Morphology of pathologic calcification (dystrophic or metastatic, both look the same)</a:t>
            </a:r>
            <a:endParaRPr b="0" lang="en-US" sz="2800" spc="-1" strike="noStrike">
              <a:solidFill>
                <a:srgbClr val="545e70"/>
              </a:solidFill>
              <a:latin typeface="Gill Sans MT"/>
            </a:endParaRPr>
          </a:p>
        </p:txBody>
      </p:sp>
      <p:sp>
        <p:nvSpPr>
          <p:cNvPr id="333" name=""/>
          <p:cNvSpPr txBox="1"/>
          <p:nvPr/>
        </p:nvSpPr>
        <p:spPr>
          <a:xfrm>
            <a:off x="1066320" y="1447920"/>
            <a:ext cx="8077320" cy="541008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 deposition occurs anywhere in the body e.g. in wall of blood vessels, kidneys, lungs, stomach, skin etc. </a:t>
            </a:r>
            <a:endParaRPr b="0" lang="en-US" sz="24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ever the site of deposition, the calcium salts appear macroscopically as fine, white granules or clumps, often felt as gritty deposits.</a:t>
            </a:r>
            <a:endParaRPr b="0" lang="en-US" sz="24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stologically, calcium salts  are basophilic, amorphous granular. They can be intracellular, extracellular, or  both.</a:t>
            </a:r>
            <a:endParaRPr b="0" lang="en-US" sz="24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sammoma body</a:t>
            </a:r>
            <a:r>
              <a:rPr b="0" lang="en-US" sz="2400" spc="-1" strike="noStrike">
                <a:solidFill>
                  <a:srgbClr val="000000"/>
                </a:solidFill>
                <a:latin typeface="Gill Sans MT"/>
              </a:rPr>
              <a:t> is a type of dystrophic calcification made up of concentric lamellated calcified structures, They </a:t>
            </a:r>
            <a:r>
              <a:rPr b="1" lang="en-US" sz="2400" spc="-1" strike="noStrike">
                <a:solidFill>
                  <a:srgbClr val="000000"/>
                </a:solidFill>
                <a:latin typeface="Gill Sans MT"/>
              </a:rPr>
              <a:t>are seen in </a:t>
            </a:r>
            <a:r>
              <a:rPr b="0" lang="en-US" sz="2400" spc="-1" strike="noStrike">
                <a:solidFill>
                  <a:srgbClr val="000000"/>
                </a:solidFill>
                <a:latin typeface="Gill Sans MT"/>
              </a:rPr>
              <a:t>papillary cancers in the body (e.g. thyroid, ovary, kidney) and in meningiomas of the brain.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Pathologic Calcification </a:t>
            </a:r>
            <a:endParaRPr b="0" lang="en-US" sz="4300" spc="-1" strike="noStrike">
              <a:solidFill>
                <a:srgbClr val="545e70"/>
              </a:solidFill>
              <a:latin typeface="Gill Sans MT"/>
            </a:endParaRPr>
          </a:p>
        </p:txBody>
      </p:sp>
      <p:pic>
        <p:nvPicPr>
          <p:cNvPr id="335" name="Picture 2" descr="http://cmapspublic3.ihmc.us/rid=1GPCBG3QQ-P21FNK-CKB/pathological%20calcification.cmap?rid=1GPCBG3QQ-P21FNK-CKB&amp;partName=htmljpeg"/>
          <p:cNvPicPr/>
          <p:nvPr/>
        </p:nvPicPr>
        <p:blipFill>
          <a:blip r:embed="rId1"/>
          <a:stretch/>
        </p:blipFill>
        <p:spPr>
          <a:xfrm>
            <a:off x="0" y="18288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4120" y="-162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88b"/>
                </a:solidFill>
                <a:latin typeface="Gill Sans MT"/>
              </a:rPr>
              <a:t>Pathologic Calcification </a:t>
            </a:r>
            <a:endParaRPr b="0" lang="en-US" sz="3600" spc="-1" strike="noStrike">
              <a:solidFill>
                <a:srgbClr val="545e70"/>
              </a:solidFill>
              <a:latin typeface="Gill Sans MT"/>
            </a:endParaRPr>
          </a:p>
        </p:txBody>
      </p:sp>
      <p:pic>
        <p:nvPicPr>
          <p:cNvPr id="337" name="Picture 2" descr="http://farm4.static.flickr.com/3019/2821387805_99829bffa2_m.jpg"/>
          <p:cNvPicPr/>
          <p:nvPr/>
        </p:nvPicPr>
        <p:blipFill>
          <a:blip r:embed="rId1"/>
          <a:stretch/>
        </p:blipFill>
        <p:spPr>
          <a:xfrm>
            <a:off x="55440" y="990720"/>
            <a:ext cx="4957920" cy="4647960"/>
          </a:xfrm>
          <a:prstGeom prst="rect">
            <a:avLst/>
          </a:prstGeom>
          <a:ln w="0">
            <a:noFill/>
          </a:ln>
        </p:spPr>
      </p:pic>
      <p:pic>
        <p:nvPicPr>
          <p:cNvPr id="338" name="Picture 4" descr="http://upload.wikimedia.org/wikipedia/commons/3/3a/Amyloidosis,_dystrophic_calcification,_H%26E.jpg"/>
          <p:cNvPicPr/>
          <p:nvPr/>
        </p:nvPicPr>
        <p:blipFill>
          <a:blip r:embed="rId2"/>
          <a:stretch/>
        </p:blipFill>
        <p:spPr>
          <a:xfrm>
            <a:off x="5386320" y="0"/>
            <a:ext cx="3757680" cy="3687840"/>
          </a:xfrm>
          <a:prstGeom prst="rect">
            <a:avLst/>
          </a:prstGeom>
          <a:ln w="0">
            <a:noFill/>
          </a:ln>
        </p:spPr>
      </p:pic>
      <p:pic>
        <p:nvPicPr>
          <p:cNvPr id="339" name="Picture 2" descr=""/>
          <p:cNvPicPr/>
          <p:nvPr/>
        </p:nvPicPr>
        <p:blipFill>
          <a:blip r:embed="rId3"/>
          <a:stretch/>
        </p:blipFill>
        <p:spPr>
          <a:xfrm>
            <a:off x="4406760" y="3687840"/>
            <a:ext cx="4773600" cy="31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304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Psammoma bodies</a:t>
            </a:r>
            <a:endParaRPr b="0" lang="en-US" sz="4300" spc="-1" strike="noStrike">
              <a:solidFill>
                <a:srgbClr val="545e70"/>
              </a:solidFill>
              <a:latin typeface="Gill Sans MT"/>
            </a:endParaRPr>
          </a:p>
        </p:txBody>
      </p:sp>
      <p:pic>
        <p:nvPicPr>
          <p:cNvPr id="341" name="Picture 2" descr="https://encrypted-tbn1.gstatic.com/images?q=tbn:ANd9GcSGrrKJBg0c4-B5ZFr-oWgfZr2a_Cq9oE638Uh0EJzpaCTwotLwTw"/>
          <p:cNvPicPr/>
          <p:nvPr/>
        </p:nvPicPr>
        <p:blipFill>
          <a:blip r:embed="rId1"/>
          <a:stretch/>
        </p:blipFill>
        <p:spPr>
          <a:xfrm>
            <a:off x="6099120" y="304920"/>
            <a:ext cx="3044880" cy="2438280"/>
          </a:xfrm>
          <a:prstGeom prst="rect">
            <a:avLst/>
          </a:prstGeom>
          <a:ln w="0">
            <a:noFill/>
          </a:ln>
        </p:spPr>
      </p:pic>
      <p:pic>
        <p:nvPicPr>
          <p:cNvPr id="342" name="Picture 4" descr="http://webpathology.com/slides/slides/Kidney_MetanephricAdenoma7.jpg"/>
          <p:cNvPicPr/>
          <p:nvPr/>
        </p:nvPicPr>
        <p:blipFill>
          <a:blip r:embed="rId2"/>
          <a:stretch/>
        </p:blipFill>
        <p:spPr>
          <a:xfrm>
            <a:off x="4067280" y="3048120"/>
            <a:ext cx="5076720" cy="3809880"/>
          </a:xfrm>
          <a:prstGeom prst="rect">
            <a:avLst/>
          </a:prstGeom>
          <a:ln w="0">
            <a:noFill/>
          </a:ln>
        </p:spPr>
      </p:pic>
      <p:pic>
        <p:nvPicPr>
          <p:cNvPr id="343" name="Picture 6" descr="http://www.mrcophth.com/pathology/opticnervepathology/psammomatoustype1.jpg"/>
          <p:cNvPicPr/>
          <p:nvPr/>
        </p:nvPicPr>
        <p:blipFill>
          <a:blip r:embed="rId3"/>
          <a:stretch/>
        </p:blipFill>
        <p:spPr>
          <a:xfrm>
            <a:off x="0" y="304812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45e70"/>
              </a:solidFill>
              <a:latin typeface="Gill Sans MT"/>
            </a:endParaRPr>
          </a:p>
        </p:txBody>
      </p:sp>
      <p:sp>
        <p:nvSpPr>
          <p:cNvPr id="345" name="PlaceHolder 2"/>
          <p:cNvSpPr>
            <a:spLocks noGrp="1"/>
          </p:cNvSpPr>
          <p:nvPr>
            <p:ph/>
          </p:nvPr>
        </p:nvSpPr>
        <p:spPr>
          <a:xfrm>
            <a:off x="2209680" y="1066680"/>
            <a:ext cx="6934320" cy="150984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851"/>
                </a:solidFill>
                <a:latin typeface="Gill Sans MT"/>
              </a:rPr>
              <a:t>Adaptation to environmental str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8:51:52Z</dcterms:created>
  <dc:creator>drsofia</dc:creator>
  <dc:description/>
  <dc:language>en-US</dc:language>
  <cp:lastModifiedBy>sufia husain</cp:lastModifiedBy>
  <dcterms:modified xsi:type="dcterms:W3CDTF">2014-09-15T19:10:25Z</dcterms:modified>
  <cp:revision>147</cp:revision>
  <dc:subject/>
  <dc:title>CELL INJURY</dc:title>
</cp:coreProperties>
</file>