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wmf" ContentType="image/x-wmf"/>
  <Override PartName="/ppt/media/image15.png" ContentType="image/png"/>
  <Override PartName="/ppt/media/image24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514-8EEF-4617-85FF-9507D58301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742-8B97-4055-92AD-330C283EE4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87EA-C415-432B-906E-195F116CAE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C92F-FC93-46CB-98F3-22A1010F93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C02-5887-4069-99E3-09AFA3BCC3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88D0-1D25-4634-9FC9-6F2AC38BE3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B069-E4B5-403E-8E96-22BC79D378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CA70-157A-4FC1-A61C-D3DE7672F9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E726-F640-4433-A42D-471A1B9951F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DD6F-5694-463A-8606-E52BE4A1DE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801-C8DA-4C94-A5AA-63BAD11BEF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452D-5DD3-495F-9230-5CE177395B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8855-3750-4149-8C93-D1DDCCF9923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281D-998B-4212-B0F3-399B426D7F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176-584D-42B8-933A-C8AB4F640E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31D5-7537-4DB5-B331-15AEFAFCC1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799-629D-47D9-B64C-8438B7E7C3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01F4-6F26-4552-B051-6EEFA8DC5CA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C90C-C012-4EC8-BC88-A91914D6A7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38B5-6336-4F5D-A36D-5723565C38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1B17-6F54-45B6-9218-D62DF51328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7B87-3525-4EFD-A52C-18A5E6C5E3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213-1464-4C61-AD62-91F382FC48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2C8-9EE9-4810-81E1-5AD50FF18A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06C-14DD-4CF2-860A-B6056970A7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0E5A-1412-48B3-91C5-E04022B4758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2BB2-E77E-4FE7-BF53-68870ADDC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E3C-C832-4886-9354-FD6AE74AFB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7B5-12D5-47B4-8A53-59E086F47F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98E2-BF3A-4D9B-8056-9B128AB79B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2EB8-BC6E-4160-978A-0C29E36277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E8A-8765-447B-8DB3-FAC1DC9748D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526-D2E6-4C01-86E8-D58C7EF70D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46FF-FFBB-4ADA-9BC4-19616500FC1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3750-08E5-4CA9-B85A-43F00DC0378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522-2BAA-4597-8D5C-6891CBFA95F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D8F-5E8D-464B-AE56-FACD330419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0F5-D478-47AA-B8B2-2ACAC90A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EE1-CE1C-4912-9D6B-AACAF40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812-05A7-492E-B870-25AC81F6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D62-0F66-4BD6-8697-60DB90B5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519-EC4A-468E-9452-D7D1425B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FAA9-CA88-4DFC-BDCA-506EEC07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A74-0E2F-4DF4-A74B-3DFF0C3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508D-C33F-4E71-9665-4EE1F33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97BD-C345-464F-A582-9ACC9E92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7CF-FC08-418C-967C-C5F864C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17C-D188-4BDE-9236-665348B7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547-30DD-4E64-9199-CA38EA6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5B7-C42E-4E07-8928-CEE23A2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C09C-16B5-44FF-8205-B5DEEE1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1CFC-30D5-4FA4-9DD4-B6375F0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B872-FBCE-4963-B4F5-134B254C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78EB-2BB6-4A64-A758-9AD35D2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4EDC-E4B3-4F0C-AA60-0C03A06B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A0D1-D88F-4E58-955A-D49D1A9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AD96-6551-4408-9AE1-0B47F16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D68B-A0E4-4C7B-8839-6AF58E9A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3F56-6244-4B55-91E5-E2061993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349-10B0-4993-BFF3-FB13156D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D665-0B3E-4CBD-9B09-1F764D4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1640-6D83-47EB-A4B1-74E93A0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CE5B-79AB-4553-9270-8D79E6F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BA54-4B32-436E-BBBF-0127035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2BFE-E2B7-4A96-95A0-9AF8D30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7816-6F4C-45D5-8B5F-783F495E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FF1A-321F-4FEC-9F4A-DC03B3EA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516-3927-453D-9A00-F43FE69F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F7B-44AA-441D-A3AE-FB72E10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CF8-C1B3-4E35-8299-4F164FEF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783-BB76-4EDC-9E09-E83E653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987-E81A-4234-8657-C4AAA50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663-3388-4EF5-8541-ED8909F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390-59E8-405A-AFA0-EF58590B642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C7D9-E179-444D-A8B1-ADB8F3E37ACF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E4A2-D42D-407E-BF2E-CEA0FAEB1BB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.sa/imgres?imgurl=http://imghost.indiamart.com/data/Q/G/MY-1386710/soft-gelatin-capsules_10757794_250x250.jpg&amp;imgrefurl=http://dir.indiamart.com/impcat/soft-gelatin-capsules.html&amp;usg=__ctbHQfPmJMQj0m0qYPO4PLbmaNE=&amp;h=250&amp;w=250&amp;sz=10&amp;hl=ar&amp;start=7&amp;tbnid=2J5d3wfgmKUbBM:&amp;tbnh=111&amp;tbnw=111&amp;prev=/images%3Fq%3Dsoft%2Bgelatin%2Bcapsule%26gbv%3D2%26hl%3Dar%26safe%3Dactive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0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skinstep.com/product_images/acne-controle-fluid-ampoule-03494187001.jpg&amp;imgrefurl=http://www.skinstep.com/elene/&amp;usg=__1MZFGMaJK3hwVCZ5N8wtLZCXpXk=&amp;h=350&amp;w=350&amp;sz=61&amp;hl=ar&amp;start=7&amp;tbnid=nxrySF-bPv4NNM:&amp;tbnh=120&amp;tbnw=120&amp;prev=/images%3Fq%3Dampoule%26gbv%3D2%26hl%3Dar%26safe%3Dactiv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53"/>
          <p:cNvSpPr/>
          <p:nvPr/>
        </p:nvSpPr>
        <p:spPr>
          <a:xfrm>
            <a:off x="324000" y="83664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 I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dministration and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765000"/>
          <a:ext cx="8785080" cy="5950080"/>
        </p:xfrm>
        <a:graphic>
          <a:graphicData uri="http://schemas.openxmlformats.org/drawingml/2006/table">
            <a:tbl>
              <a:tblPr/>
              <a:tblGrid>
                <a:gridCol w="3089160"/>
                <a:gridCol w="5695920"/>
              </a:tblGrid>
              <a:tr h="63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9720">
                <a:tc>
                  <a:txBody>
                    <a:bodyPr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truction by pH &amp;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irst pass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gs given orally are first taken to the liver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via portal circulation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y are metabolized before reaching to the blood to be distributed to all other body com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Picture 004"/>
          <p:cNvPicPr/>
          <p:nvPr/>
        </p:nvPicPr>
        <p:blipFill>
          <a:blip r:embed="rId1"/>
          <a:srcRect l="0" t="0" r="8522" b="5357"/>
          <a:stretch/>
        </p:blipFill>
        <p:spPr>
          <a:xfrm>
            <a:off x="471636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ere does it occ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t  w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lu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pass effect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oavai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conc. of drug in 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high first pass effect should not be given orally but parente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utoShape 2" descr=""/>
          <p:cNvPicPr/>
          <p:nvPr/>
        </p:nvPicPr>
        <p:blipFill>
          <a:blip r:embed="rId1"/>
          <a:stretch/>
        </p:blipFill>
        <p:spPr>
          <a:xfrm>
            <a:off x="871560" y="-311040"/>
            <a:ext cx="7924680" cy="136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8435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gar-coated to mask bad t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ic 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solve only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pow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liq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 (e.g. Cough syr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(mixture of solid in liquids e.g. antibioti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907920"/>
            <a:ext cx="2376720" cy="201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90792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oft-gelatin-capsules_10757794_250x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9528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50920" y="3068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64000" y="26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78800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>
            <a:hlinkClick r:id="rId9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>
            <a:hlinkClick r:id="rId10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5545080"/>
                <a:gridCol w="30970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 effec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used in emerg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irst pass effec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GIT irri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ood drug – inter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able tabl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 fo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t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4200" y="1000080"/>
          <a:ext cx="8713800" cy="5440320"/>
        </p:xfrm>
        <a:graphic>
          <a:graphicData uri="http://schemas.openxmlformats.org/drawingml/2006/table">
            <a:tbl>
              <a:tblPr/>
              <a:tblGrid>
                <a:gridCol w="5280120"/>
                <a:gridCol w="3433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7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, vomiting,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pati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 (50%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egular absorption &amp;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itation of rectal muco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WordArt 14"/>
          <p:cNvSpPr txBox="1"/>
          <p:nvPr/>
        </p:nvSpPr>
        <p:spPr>
          <a:xfrm>
            <a:off x="1357200" y="35388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38172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stric irr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od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rug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rst pas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availability than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issue necrosis or abscess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reaction (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1619280" y="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13840"/>
            <a:ext cx="85690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the student should be able 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pharmacology and its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fferent routes of drug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advantages and disadvantages of various routes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various mechanisms of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different factors affecting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bioavailability and factors aff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9280" y="214200"/>
          <a:ext cx="8785440" cy="3070440"/>
        </p:xfrm>
        <a:graphic>
          <a:graphicData uri="http://schemas.openxmlformats.org/drawingml/2006/table">
            <a:tbl>
              <a:tblPr/>
              <a:tblGrid>
                <a:gridCol w="6516720"/>
                <a:gridCol w="226872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dermal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of drug (0.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tivity tes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9280" y="3032280"/>
          <a:ext cx="8785440" cy="3597120"/>
        </p:xfrm>
        <a:graphic>
          <a:graphicData uri="http://schemas.openxmlformats.org/drawingml/2006/table">
            <a:tbl>
              <a:tblPr/>
              <a:tblGrid>
                <a:gridCol w="6634440"/>
                <a:gridCol w="2151000"/>
              </a:tblGrid>
              <a:tr h="579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Subcutaneous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(0.1 ml – 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for sustained release effec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orly soluble suspension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for slow-release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ant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.g. insulin zinc prepar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1280" y="214200"/>
          <a:ext cx="8964720" cy="6613560"/>
        </p:xfrm>
        <a:graphic>
          <a:graphicData uri="http://schemas.openxmlformats.org/drawingml/2006/table">
            <a:tbl>
              <a:tblPr/>
              <a:tblGrid>
                <a:gridCol w="5267520"/>
                <a:gridCol w="369720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muscular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ate volumes (3-5 m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longed duration of 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y preparations or poorly  soluble substances can be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, abscess, tissue necrosis may happ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765000"/>
          <a:ext cx="8785440" cy="5753160"/>
        </p:xfrm>
        <a:graphic>
          <a:graphicData uri="http://schemas.openxmlformats.org/drawingml/2006/table">
            <a:tbl>
              <a:tblPr/>
              <a:tblGrid>
                <a:gridCol w="5329440"/>
                <a:gridCol w="345600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volume (500ml can be given by infu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or 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ubl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oily solutions or poorly soluble subst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4"/>
          <p:cNvSpPr/>
          <p:nvPr/>
        </p:nvSpPr>
        <p:spPr>
          <a:xfrm>
            <a:off x="1357200" y="71280"/>
            <a:ext cx="55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venous admini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poule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acne-controle-fluid-ampoule-03494187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1720"/>
            <a:ext cx="3024360" cy="259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204" name="Picture 4" descr="Internal_Standard_Ampoule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5938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04292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Sing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0364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Repe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pecial Ut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imit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0.1 ml – 1 ml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moderate volumes 3-5 ml,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- necrosis may hap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ml can be given by infusio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percutaneous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llergy test, topical antibacterial and steroids and  local anesthe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Inhalation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836640"/>
          <a:ext cx="8713800" cy="5807160"/>
        </p:xfrm>
        <a:graphic>
          <a:graphicData uri="http://schemas.openxmlformats.org/drawingml/2006/table">
            <a:tbl>
              <a:tblPr/>
              <a:tblGrid>
                <a:gridCol w="5616720"/>
                <a:gridCol w="30970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4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due to large surface are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itable for emerg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mited systemic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latile gases  e.g. anesth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erosol, nebulizer for asth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uitable for irritant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WordArt 14"/>
          <p:cNvSpPr txBox="1"/>
          <p:nvPr/>
        </p:nvSpPr>
        <p:spPr>
          <a:xfrm>
            <a:off x="1928880" y="189000"/>
            <a:ext cx="5572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548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edicated adhesive patch applied to skin to provide systemic effect  (prolonged drug ac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e nicotine patches (quit smo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Scopolamine (vestibular depressant, antiemetic for motion sickne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patch"/>
          <p:cNvPicPr/>
          <p:nvPr/>
        </p:nvPicPr>
        <p:blipFill>
          <a:blip r:embed="rId1"/>
          <a:stretch/>
        </p:blipFill>
        <p:spPr>
          <a:xfrm>
            <a:off x="6215040" y="414324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"/>
          <p:cNvSpPr txBox="1"/>
          <p:nvPr/>
        </p:nvSpPr>
        <p:spPr>
          <a:xfrm>
            <a:off x="1428840" y="214200"/>
            <a:ext cx="57830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07672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19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nebulizer"/>
          <p:cNvPicPr/>
          <p:nvPr/>
        </p:nvPicPr>
        <p:blipFill>
          <a:blip r:embed="rId3"/>
          <a:stretch/>
        </p:blipFill>
        <p:spPr>
          <a:xfrm>
            <a:off x="231840" y="3586320"/>
            <a:ext cx="4176720" cy="2881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blood circulation through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mmended book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00040" y="121392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transported from the site of administration into the systemic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3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14200" y="1341360"/>
            <a:ext cx="8715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cell membrane occurs through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3"/>
          <p:cNvSpPr txBox="1"/>
          <p:nvPr/>
        </p:nvSpPr>
        <p:spPr>
          <a:xfrm>
            <a:off x="1071720" y="333360"/>
            <a:ext cx="69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ellMembrane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239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water soluble drug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ionized or polar or charged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are absorbed via diffusion through aqueous channels or pores in cell membrane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filtration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soluble drug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(unionized or non polar, uncharged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are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"/>
          <p:cNvSpPr txBox="1"/>
          <p:nvPr/>
        </p:nvSpPr>
        <p:spPr>
          <a:xfrm>
            <a:off x="1835280" y="333360"/>
            <a:ext cx="511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or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5904000"/>
          </a:xfrm>
          <a:prstGeom prst="rect">
            <a:avLst/>
          </a:prstGeom>
          <a:ln w="31680">
            <a:solidFill>
              <a:srgbClr val="5f5f5f"/>
            </a:solidFill>
            <a:round/>
          </a:ln>
        </p:spPr>
      </p:pic>
      <p:sp>
        <p:nvSpPr>
          <p:cNvPr id="244" name="WordArt 3"/>
          <p:cNvSpPr txBox="1"/>
          <p:nvPr/>
        </p:nvSpPr>
        <p:spPr>
          <a:xfrm>
            <a:off x="1187280" y="189000"/>
            <a:ext cx="684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170172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7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long concentration grad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no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pka of drug - pH of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552600" y="260280"/>
            <a:ext cx="401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4358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rma :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os: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rmac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the science that deals with the drugs regarding names, pharmacokinetics, pharmacodynamics, side effects and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42560" y="1241280"/>
            <a:ext cx="8929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(weak acids or bases) exist in two forms ionized (water soluble) &amp; unionized forms (lipid soluble) in equilibrium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nionized form                     ionize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unionized form is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onized / ionized ratio is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pH of the medium and pKa of the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27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028"/>
          <p:cNvSpPr txBox="1"/>
          <p:nvPr/>
        </p:nvSpPr>
        <p:spPr>
          <a:xfrm>
            <a:off x="2484360" y="18900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Line 1029"/>
          <p:cNvSpPr/>
          <p:nvPr/>
        </p:nvSpPr>
        <p:spPr>
          <a:xfrm>
            <a:off x="3203640" y="314172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30"/>
          <p:cNvSpPr/>
          <p:nvPr/>
        </p:nvSpPr>
        <p:spPr>
          <a:xfrm flipH="1">
            <a:off x="3203280" y="3357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8786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a value (pKa &lt; 6) of the acidic drug, the stronger the acid e.g aspirin         (Pka= 3.0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a value (pKa &gt;8) of a basic drug, the stronger the base e.g propranolol         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asic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less ionized and more lipid soluble and more diffusible in a relatively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asic med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ore than the pk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cidic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ore lipid soluble and more absorbable in a relatively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cidic med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ss than the pk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 of the med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Affects degree of ionization of dru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acidic drug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st absorbed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tom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in acidic medium of stomach, drug exists in nonionized form that is lipid soluble and easily absorbe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basic drug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st absorbed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test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n basic medium of intestine, drug exists in unionized form that is lipid soluble and easily absorbed)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1-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rrange the following drugs in ascending order from least to greatest in rate of absorption in small intestine (pH=7.8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rfarin            pka=5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7640" y="98064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unus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gain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 of sugar, amino ac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odopa is used in treatment of parkinso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265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uptake of membrane-bound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expulsion of membrane-bound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ytosis occ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high molecular weight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molecules such as pep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ar sub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vitamin B12 &amp;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12 combines with intrinsic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combines with transfer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48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Pharmacology is divided into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the absorption, distribu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bolism &amp; excre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Mechanisms of drug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Pharmacological effects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283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pending on particle size and disintegration, ease of dissolu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solution &gt; suspension &gt; capsule &gt; tab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 of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(aqueous preparation better than oily, suspension prep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stability in gastric 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Penicillin &amp; insul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87868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rea available for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 has large surface area than stomach due to intestinal microvi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absorptive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blood flow increases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 has greater blood flow than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motility (transit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reduce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4572000" y="393372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19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increase gastric emptying enhances absorption (metoclopramid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slow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aspirin, penicill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tty me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bsor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antifungal drug  (e.g. griseofulvi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7600" y="189000"/>
          <a:ext cx="8745480" cy="6480000"/>
        </p:xfrm>
        <a:graphic>
          <a:graphicData uri="http://schemas.openxmlformats.org/drawingml/2006/table">
            <a:tbl>
              <a:tblPr/>
              <a:tblGrid>
                <a:gridCol w="4222800"/>
                <a:gridCol w="4522680"/>
              </a:tblGrid>
              <a:tr h="1025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0920" y="189000"/>
          <a:ext cx="8713800" cy="651672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31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routes of administration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administration is the suitable route to provide rapi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.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n emergency and provide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 is best avoided during emergency or when severe first pass metabolism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may cross any cell membrane by simple diffusion, active transport, facilitated diffusion, and pin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of dru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DM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studies of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DM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sor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tabolis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rmacokinet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780000" y="2060640"/>
            <a:ext cx="19443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771640" y="414972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0920" y="3716280"/>
            <a:ext cx="2735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340000" y="5516640"/>
            <a:ext cx="2592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516720" y="1987560"/>
            <a:ext cx="2446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659640" y="476280"/>
            <a:ext cx="2303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7451640" y="2997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5076720" y="6165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7380360" y="472572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6154560" y="5445000"/>
            <a:ext cx="288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organ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84360" y="90792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9640" y="33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227640" y="3645000"/>
            <a:ext cx="2446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4427640" y="4506840"/>
            <a:ext cx="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V="1">
            <a:off x="7524720" y="126792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5435640" y="4437000"/>
            <a:ext cx="720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al via gastrointestinal tract (GI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enteral administration = inj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al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18728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utes of drug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1332000" y="11592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79280" y="692280"/>
            <a:ext cx="89647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Advantag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on, easy, self use, convenient, cheap, no need for 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low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IT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by pH &amp; enzymes e.g. insu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od -drug  or drug-drug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pas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complete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w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t sui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omiting &amp; unconscious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mergency &amp; bad tast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4-09-15T05:38:02Z</dcterms:modified>
  <cp:revision>278</cp:revision>
  <dc:subject/>
  <dc:title>GENERAL PHARMACOLOGY</dc:title>
</cp:coreProperties>
</file>