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6.wmf" ContentType="image/x-wmf"/>
  <Override PartName="/ppt/media/image15.png" ContentType="image/png"/>
  <Override PartName="/ppt/media/image24.gif" ContentType="image/gi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AD62-EA10-4396-9269-D12C4F79E03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17CE-CCA8-4867-83E3-CA67CF281D6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C6E-0785-4F86-B0E7-771515C78F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DCEB-B1A5-4F03-9E6F-6973D40B2A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0354-1174-42BF-8838-E134FFE5AB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D449-E935-40F4-BF55-6E9B7BE1657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2DA5-C54F-421C-9AEE-46CFD874ABD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BC8D-6E0E-41AF-9EE1-49FE0E632D9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9EC8-6CCB-46E5-9298-FC0424603CE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78A0-12A5-40DA-886C-76E58DC478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3939-AD6D-4F70-BAEC-267B8F055F5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73A9-E344-47FA-8EB2-E13934FF0D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73D-CDE0-48D4-B1FC-4B8AC7D4E5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9FF-3810-4858-A958-E18A9FA6D4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EDCE-93CB-4F64-B361-75312E4E747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BAAD-E2C8-46DF-AD81-25965EDC75F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CBD4-5C0D-400C-9ACE-281079CFBD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AB9B-E766-4405-92DB-4650199FB20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B0EC-EE5D-48CE-A05F-A837C52603A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C415-5245-4536-8564-011FB61CADC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E4F9-9574-4CAA-8D2A-344FAC8B1F5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61F-E66C-4E66-A27E-84E2AF08FC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D88B-3C53-4F49-8BC7-804BD0E479C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0A7B-1358-4691-9556-996256AE16F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D999-6CD1-4D24-ADA4-4D113FB529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9DF1-C172-4390-B9AF-248A343218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D125-8599-4DD5-B3F6-0E105703D5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7E54-FCA3-4F29-98C8-4D4A966B29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415-6327-4B30-AD69-FACE01C12B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1492-7087-4725-B0FE-BAAC8D89087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5AFC-2A0E-4595-9649-831DDF0030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3D80-1385-4FD5-B09E-4F9601C294B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96C-8909-45F4-8038-A7E64ABD2A9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068A-BEA8-45CA-B79D-087B9D8786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160D-DADB-4D0A-981B-ADCFCF39A6F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E2F5-E752-4647-AC19-DE996C88D7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BF9-D29A-4C04-8DFD-38645FBB177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67F-373E-4CFC-B9FB-72DB0402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955-6CB9-4D2A-A822-A7E4CEA8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BCA-C257-4943-9A87-BA085090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840-8615-4BCB-8A73-CFDE8CAB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6E70-F07F-4504-8837-C7A7661A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907-B8AE-49E7-81C8-7C1B8AED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DBEA-0334-47CE-8A3D-F4DDC4C5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4614-7FBA-4E0D-A997-ACAD7DF3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6C2D-D087-4B05-A9D6-AD3D058B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3050-180B-4DCA-8C74-5EDC31CF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612-3626-4586-81FE-AB0EDC3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173C-BAD5-4D23-9BC8-4360BC54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F704-C509-41EE-A31B-6B9A904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A84-9F23-41DA-8119-0FFC0F4D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EA2E-D13F-4E67-977A-4B621EAB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29B8-10B4-46C3-99AC-D0D4E9CB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0CF5-D635-43BD-BB9B-416EBCF2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EFC7-B6FA-42EF-AFE6-B31CF9C1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742FF-0530-4F44-8F0E-5AD25997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0FE7-D89D-467E-B38A-A918BAC3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1A009-9DB6-421D-B7E5-FBFDC168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F9B5-96C3-4DE1-8709-FEDC669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2F4-80A5-4681-A8D7-34A141AF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5713F-3343-4F35-8A4F-B0C50C28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264AC-BDF0-40DC-8F1D-EAE18F32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C6A2-29DD-463C-9DAF-ABE8774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CDED3-12B4-4166-988A-8B68ED29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5D7C-BB0C-446F-B479-0EDBA4E2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F58E-DF86-4118-A9DF-333AC4DE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E56DE-6717-475D-B7E3-E4754BFA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F872-80A7-4F5E-839F-B1E18AF6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39C-6748-438A-B0B8-D00B70DD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A03-2A5A-40AD-810E-516EDFC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DF4-28BD-4925-9649-DB7245D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16EC-C68F-4B28-BFC5-321920B7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BDF-448E-48F7-9ABD-3180D9A5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9DDD-9CDB-4677-9105-4632CE09668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6295-E095-4DC8-8E45-316095A16730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0EAC-3E58-417D-9480-50785EA039A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t 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effect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utoShape 2" descr=""/>
          <p:cNvPicPr/>
          <p:nvPr/>
        </p:nvPicPr>
        <p:blipFill>
          <a:blip r:embed="rId1"/>
          <a:stretch/>
        </p:blipFill>
        <p:spPr>
          <a:xfrm>
            <a:off x="871560" y="-311040"/>
            <a:ext cx="792468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6516720"/>
                <a:gridCol w="226872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6634440"/>
                <a:gridCol w="215100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nd for slow-release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mplant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1280" y="214200"/>
          <a:ext cx="8964720" cy="661356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3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or 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4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pecial Ut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imit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836640"/>
          <a:ext cx="8713800" cy="5807160"/>
        </p:xfrm>
        <a:graphic>
          <a:graphicData uri="http://schemas.openxmlformats.org/drawingml/2006/table">
            <a:tbl>
              <a:tblPr/>
              <a:tblGrid>
                <a:gridCol w="5616720"/>
                <a:gridCol w="3097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erosol, nebulizer for asth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(quit smo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(vestibular depressant, antiemetic for motion sicknes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19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nebulizer"/>
          <p:cNvPicPr/>
          <p:nvPr/>
        </p:nvPicPr>
        <p:blipFill>
          <a:blip r:embed="rId3"/>
          <a:stretch/>
        </p:blipFill>
        <p:spPr>
          <a:xfrm>
            <a:off x="231840" y="3586320"/>
            <a:ext cx="4176720" cy="2881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blood circulation through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00040" y="1213920"/>
            <a:ext cx="84247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transported from the site of administration into the systemic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39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 or charged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are absorbed via diffusion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s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unionized or non polar, uncharged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4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46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7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8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rma :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os: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names, pharmacokinetics, pharmacodynamics, side effects and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42560" y="1241280"/>
            <a:ext cx="89298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(weak acids or bases)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unionized form                     ionize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unionized form 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onized / ionized ratio is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y pH of the medium and pKa of the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Line 1029"/>
          <p:cNvSpPr/>
          <p:nvPr/>
        </p:nvSpPr>
        <p:spPr>
          <a:xfrm>
            <a:off x="3203640" y="314172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30"/>
          <p:cNvSpPr/>
          <p:nvPr/>
        </p:nvSpPr>
        <p:spPr>
          <a:xfrm flipH="1">
            <a:off x="3203280" y="335772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85480" y="2858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asic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less ionized and more lipid soluble and more diffusible in a relatively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basic med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more than the p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idic 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ore lipid soluble and more absorbable in a relatively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cidic med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ss than the pk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</a:rPr>
              <a:t>Affects degree of ionization of dru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ic drugs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est absorbed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stoma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in acidic medium of stomach, drug exists in nonionized form that is lipid soluble and easily absorbed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ic drug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st absorbed i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test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 basic medium of intestine, drug exists in unionized form that is lipid soluble and easily absorbed)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agains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5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pept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Pharmacology is divided into two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6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3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5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2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DM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332000" y="11592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79280" y="692280"/>
            <a:ext cx="89647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Advantag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, easy, self use, convenient, cheap, no need for 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low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IT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by pH &amp; enzymes e.g. insu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od -drug  or drug-drug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pas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complete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w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t sui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omiting &amp; unconscious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mergency &amp; bad tast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09-15T05:38:02Z</dcterms:modified>
  <cp:revision>278</cp:revision>
  <dc:subject/>
  <dc:title>GENERAL PHARMACOLOGY</dc:title>
</cp:coreProperties>
</file>