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5829-81BF-4086-9613-ED54C5234CF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C8CF-8F69-4F50-BDAF-6CCBC5F5371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07C0-F177-43F4-890E-4BEA085515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1D1C-A28F-4A34-9B6F-1DFE549CCAB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86F2-4ABA-46E6-8E50-B7BCA964A5D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B8C1-F2A6-4389-9C91-F352381B1D6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4407-0FCF-4D1B-AD8E-1AA8866B367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9399-E0A7-46B6-88A7-A3C8F84C113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D7FC-FBFC-4614-A5E8-C48893FC3E7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608A-CBFB-49CB-AF2B-CDD19E6410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4412-73BF-4549-AC63-2EBF2457353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3F13-4AB7-4BED-9EBB-E4EDE94103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3DC6-343F-48E6-A400-49E2AD8A542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5DB6-C33D-41A7-B5CC-14947BDE8E5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2874-828A-47BF-9065-CA76CC67856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DDC8-37CE-48CC-A3A6-8E9B6FB088A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EFCF-E125-4E67-9EE6-DD886AD40D2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D3FD-F641-487A-8DA2-12AD1534581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6146-C55D-4F66-B8AF-255DFD1753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45F8-8B8D-4DBD-8234-786E9A9867C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512D-49A9-4840-A421-4A8E85B0012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C6F3-B16F-4B65-9255-31C7D3E510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CD69-9F11-4B09-9617-BA11D1E159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C6A0-0CA4-49E9-9D5E-F4187F938E4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57C7-28E3-4D1A-9F25-CFDB7B50EED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1EFA-A039-4EF5-8402-79AABE85A79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7E85-10D2-4F46-A3B5-5ADA99E34E9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69F-3DC2-410E-8817-E3B3AE30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E16-FBF5-4AF4-92F0-BE3F7EA4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D61-D8B0-4EE8-A91D-0B145DB9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44F-2CFD-44CF-9A67-185E45A6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DAC1-9DA2-4EC0-97A4-48BDB96C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C689-560A-4B9B-8B64-48CAFE17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A68B-C70D-404C-8AD6-9E6EA7EE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9197-BF0D-4E66-9AFF-3F353B32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69A8-36A5-4808-A513-A97E46A9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67AD-919F-4D8B-A9FA-9F70E63A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26DB-AB98-484D-9A03-9196F318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85E-7282-4EC7-B297-02890D78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4FCD-BAA6-47D6-8278-45F400D4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8A62-5B34-4210-8D73-529ACA0E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E58C-4C3E-4EA5-B259-8D107987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4DBD-2913-4EDB-83CC-EDCC411D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9F2A-F11C-455E-913D-E855B58B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EFAA-D236-4421-97BD-F9E53CAC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7AF1-89C1-4C8E-B8A0-962913BF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E1BE-4286-43A3-8206-A9009030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5642-C134-4C25-9B94-55294FED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C59D-0B28-46B8-8A5B-45AEE316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F37-DD1D-4CCF-A402-93B39C33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FEB1-CF07-4022-B6C3-CFF0A676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189B-32D8-4DF9-B2DD-3843C5F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D636-35EE-430D-8DA9-FD90C13C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F4C51-1B36-4FE9-9C50-D172BCE3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3816-9AF8-4CF6-B1DD-C41DFCF8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696E-35D7-4A93-B2AD-EBA8E9FD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6CF38-EFC6-4724-898B-AAAA7DFF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D6EAD-AA76-4046-9812-7B857184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E989-B1CB-439F-B7BA-61971885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7BDE-D927-4AFE-A856-D614363B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255-799D-4408-A2EE-188B2CF2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8BD4-154A-4850-8264-6142C9E5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9D980-80A6-4878-A491-B62E96B7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2F2BA-9E12-430D-A8E8-CF5BCA37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FD6CD-96D8-45FC-AA80-798EB0F2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96D0D-074E-497A-BAEF-9FEC8D6F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96D6-FC13-4117-BE36-32A8842A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E7ED-EACD-4CEE-876A-3E1084A8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BFCD7-8FDC-4D32-AC59-802541A3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488C8-96C0-46F8-B2FD-5C8EEC1D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25ED9-8232-48E8-ACDC-DCE49AD2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435-618E-41FF-8BCC-1DF2A7F4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5C57-99DA-457D-8A0F-F97980AC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E59BF-139E-411E-8EFC-97E4DC7C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043B1-E645-4FB6-95A9-AE3B3AFE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FC952-24E2-43A3-921B-CBEB592A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B8A5B-146B-4FEB-9D94-E2296D47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E0A37-6B35-4776-9DE8-6672A6EE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23775-B144-45E6-966C-DC566CE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51B1-D20C-46F8-BF3B-AC34627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6E232-EEDC-4950-84CB-7A3517FC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FDC01-C7A4-4E09-870E-7F8F27D9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F32-76FE-4E5F-B1B5-7081E37D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7DEDC-F409-417E-A485-65FD63AB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BF970-0338-40B3-95C6-0DCE97FB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29DC-C62C-4809-A2BE-D4B4BE7B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1F27E-7132-497E-B860-76B0C790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8FAE1-D7EE-48AB-9DEE-62DDE3E8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98E49-C54C-44F7-832C-DCA2CD5F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E8789-3726-4E7E-8C7D-5CB19A6A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DA2F2-1AB4-42C7-A65E-1C862EB7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5382-211B-45D5-B3D9-E13EA1F8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39229-CAEA-4FF3-B0B6-DD75B437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467-2819-4A44-85D8-B0E2109F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04DBF-5AAC-4725-B4C2-CB740702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AB276-029B-482C-A36A-3E3586A7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A1832-56B1-471A-91CD-69BF06A5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D6732-C72F-4B9F-94EC-931E40FA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3E6A4-F700-40A4-B3F6-47E12EC9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1E49E-45DB-4FF4-A9ED-6798E443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C4825-C6F7-416B-A5DC-795111DA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422DF-CE1F-4DBE-BCE4-0910020D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14B24-7314-444B-A1D5-B43B96A3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2DF9C-89DE-49CB-9DD7-0EEB70AE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117-3555-4119-BD51-FC621604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C4D5B-6483-4B00-B0C1-E0F5496F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A9C24-8BF7-4EEF-BB97-9B595036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FC84C-B7C2-4804-826C-EBEBC336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8428C-DF9D-48D1-9A90-8B837F31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88AAE-35EE-45D9-B87E-E3AD7C8C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F96D5-B43D-45D4-88F6-4BDC7913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57B3-3D5A-426C-9808-3521F3D4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F27B1-4FF9-4F5D-B4D7-0FADAE01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5A7AB-C8FA-43EE-8B09-D20611EB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956E8-0655-4439-8492-9177D30F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A4A-7001-449B-BC96-B0802816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A71F6-3AF1-4F2D-AAC7-8622817F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9C8DB-99B8-48E0-BAD9-8FCCA29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12EEA-C0EE-4581-8058-CE107ED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BBA73-73B9-4E46-AB14-71C81FA1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7AB87-548A-467C-9346-53D25D31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F82B3-FD60-4874-8CFC-1C282ECE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B09AF-BB23-40C9-B2A2-F8E838EC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F53D-BBED-4EC1-B3D5-22CDF36E4D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CA5A-01FC-4818-A9D5-3F99C9AF15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5263-E474-484C-ACBF-8748BE0E26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194E-7DEF-4273-9A3A-D9E2BF6AAD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ABEF-BAD5-4509-B94B-E8E59D49CA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B10D-9BE8-4401-8532-D83D35660D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AF28-6FDB-4E12-804A-411DBDDC2C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6D09-8893-4602-8232-6B80016CB6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docx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78" name="WordArt 30"/>
          <p:cNvSpPr txBox="1"/>
          <p:nvPr/>
        </p:nvSpPr>
        <p:spPr>
          <a:xfrm>
            <a:off x="1571760" y="171468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57160" y="307188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71280" y="260280"/>
            <a:ext cx="9144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-acetyl transfer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acetyl group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en-US" sz="3200" spc="-1" strike="noStrike" baseline="62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onoamine oxidase enzyme (MAO)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of catecholamines as adrena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.g. Alcohol dehydrogenase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lcoh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dehyd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ldehyde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ic aci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2O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42560" y="142920"/>
            <a:ext cx="9001080" cy="61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enzyme system = Cytochrome P-450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ore than 20 families CYP1, CYP2,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families are identified as A, B, and C etc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uma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3 isoenzyme families are important CYP1, CYP2 and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5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2"/>
          <p:cNvGraphicFramePr/>
          <p:nvPr/>
        </p:nvGraphicFramePr>
        <p:xfrm>
          <a:off x="4429080" y="3286080"/>
          <a:ext cx="4330800" cy="32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1" name="Object 2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3286080"/>
                    <a:ext cx="433080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4"/>
          <p:cNvSpPr/>
          <p:nvPr/>
        </p:nvSpPr>
        <p:spPr>
          <a:xfrm>
            <a:off x="142920" y="10717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P 3A4/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 out biotransformation of 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number (30–50%) of dru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ed in liver and intestine (responsibl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ass metabolism at this site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42920" y="214200"/>
            <a:ext cx="878688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ses of hepatic metabolic reaction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 reactions includ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si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reactions includ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4643280" y="1071720"/>
            <a:ext cx="4286520" cy="5643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"/>
          <p:cNvSpPr/>
          <p:nvPr/>
        </p:nvSpPr>
        <p:spPr>
          <a:xfrm>
            <a:off x="301680" y="214200"/>
            <a:ext cx="71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dition of oxygen or removal of hydroge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ost important drug metabolizing rea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358040" cy="71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78920" y="189000"/>
            <a:ext cx="8750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micr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ytochrome P450 enzymes, NADPH and oxyg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n 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cytosol  or mitochondr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xidases and dehydrogenas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95520" indent="-18504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–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95520" indent="-18504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ine – MA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95520" indent="-18504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– Xanthine 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hydrogen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dehydrogenase &amp; aldehyde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xid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noamine oxidase (MAO):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catecholamines as adrenaline and seroton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moclobemide is MAO inhibitor and used as antidepressant since it increases serotonin in brai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AutoShape 2" descr=""/>
          <p:cNvPicPr/>
          <p:nvPr/>
        </p:nvPicPr>
        <p:blipFill>
          <a:blip r:embed="rId1"/>
          <a:stretch/>
        </p:blipFill>
        <p:spPr>
          <a:xfrm>
            <a:off x="1620720" y="42840"/>
            <a:ext cx="5767560" cy="65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anthine oxid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xanth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ic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 accumul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U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puri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hibitor of xanthine oxidase and used in gout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AutoShape 2" descr=""/>
          <p:cNvPicPr/>
          <p:nvPr/>
        </p:nvPicPr>
        <p:blipFill>
          <a:blip r:embed="rId1"/>
          <a:stretch/>
        </p:blipFill>
        <p:spPr>
          <a:xfrm>
            <a:off x="1620720" y="42840"/>
            <a:ext cx="5767560" cy="65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29600" cy="592200"/>
          </a:xfrm>
          <a:prstGeom prst="rect">
            <a:avLst/>
          </a:prstGeom>
          <a:ln w="0">
            <a:noFill/>
          </a:ln>
        </p:spPr>
      </p:pic>
      <p:pic>
        <p:nvPicPr>
          <p:cNvPr id="414" name="Content Placeholder 3" descr=""/>
          <p:cNvPicPr/>
          <p:nvPr/>
        </p:nvPicPr>
        <p:blipFill>
          <a:blip r:embed="rId2"/>
          <a:srcRect l="2803" t="0" r="0" b="0"/>
          <a:stretch/>
        </p:blipFill>
        <p:spPr>
          <a:xfrm>
            <a:off x="182520" y="928800"/>
            <a:ext cx="8890200" cy="5857920"/>
          </a:xfrm>
          <a:prstGeom prst="rect">
            <a:avLst/>
          </a:prstGeom>
          <a:ln w="0">
            <a:noFill/>
          </a:ln>
        </p:spPr>
      </p:pic>
      <p:sp>
        <p:nvSpPr>
          <p:cNvPr id="415" name="Frame 11"/>
          <p:cNvSpPr/>
          <p:nvPr/>
        </p:nvSpPr>
        <p:spPr>
          <a:xfrm>
            <a:off x="6588000" y="1052640"/>
            <a:ext cx="1266840" cy="785520"/>
          </a:xfrm>
          <a:custGeom>
            <a:avLst/>
            <a:gdLst/>
            <a:ahLst/>
            <a:rect l="l" t="t" r="r" b="b"/>
            <a:pathLst>
              <a:path w="1266825" h="785812">
                <a:moveTo>
                  <a:pt x="0" y="0"/>
                </a:moveTo>
                <a:lnTo>
                  <a:pt x="1266825" y="0"/>
                </a:lnTo>
                <a:lnTo>
                  <a:pt x="1266825" y="785812"/>
                </a:lnTo>
                <a:lnTo>
                  <a:pt x="0" y="785812"/>
                </a:lnTo>
                <a:lnTo>
                  <a:pt x="0" y="0"/>
                </a:lnTo>
                <a:close/>
                <a:moveTo>
                  <a:pt x="98227" y="98227"/>
                </a:moveTo>
                <a:lnTo>
                  <a:pt x="98227" y="687586"/>
                </a:lnTo>
                <a:lnTo>
                  <a:pt x="1168599" y="687586"/>
                </a:lnTo>
                <a:lnTo>
                  <a:pt x="1168599" y="98227"/>
                </a:lnTo>
                <a:lnTo>
                  <a:pt x="98227" y="9822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ame 5"/>
          <p:cNvSpPr/>
          <p:nvPr/>
        </p:nvSpPr>
        <p:spPr>
          <a:xfrm>
            <a:off x="2268360" y="981000"/>
            <a:ext cx="1656000" cy="863640"/>
          </a:xfrm>
          <a:custGeom>
            <a:avLst/>
            <a:gdLst/>
            <a:ahLst/>
            <a:rect l="l" t="t" r="r" b="b"/>
            <a:pathLst>
              <a:path w="1655762" h="863600">
                <a:moveTo>
                  <a:pt x="0" y="0"/>
                </a:moveTo>
                <a:lnTo>
                  <a:pt x="1655762" y="0"/>
                </a:lnTo>
                <a:lnTo>
                  <a:pt x="1655762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2" y="755650"/>
                </a:lnTo>
                <a:lnTo>
                  <a:pt x="1547812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ame 6"/>
          <p:cNvSpPr/>
          <p:nvPr/>
        </p:nvSpPr>
        <p:spPr>
          <a:xfrm>
            <a:off x="6286680" y="4143240"/>
            <a:ext cx="1655640" cy="863640"/>
          </a:xfrm>
          <a:custGeom>
            <a:avLst/>
            <a:gdLst/>
            <a:ahLst/>
            <a:rect l="l" t="t" r="r" b="b"/>
            <a:pathLst>
              <a:path w="1655763" h="863600">
                <a:moveTo>
                  <a:pt x="0" y="0"/>
                </a:moveTo>
                <a:lnTo>
                  <a:pt x="1655763" y="0"/>
                </a:lnTo>
                <a:lnTo>
                  <a:pt x="1655763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3" y="755650"/>
                </a:lnTo>
                <a:lnTo>
                  <a:pt x="1547813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14200" y="1341360"/>
            <a:ext cx="8715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, students shoul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importance of biotrans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sites for drug metabo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major phase I and phase II metabolic rea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odulation of liver microsomal enzymes by inducers and inhib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wo drugs that are known as enzyme inducers and inhibitor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impact of first pass metabolism on drug bioavailabil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WordArt 3"/>
          <p:cNvSpPr txBox="1"/>
          <p:nvPr/>
        </p:nvSpPr>
        <p:spPr>
          <a:xfrm>
            <a:off x="2357280" y="404640"/>
            <a:ext cx="441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uction reaction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oxygen or addition of hydroge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microsomal or non microsomal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od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642960" y="46432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 Narrow"/>
              </a:rPr>
              <a:t>Levodopa (DOPA)                                             Dop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2" descr=""/>
          <p:cNvPicPr/>
          <p:nvPr/>
        </p:nvPicPr>
        <p:blipFill>
          <a:blip r:embed="rId1"/>
          <a:stretch/>
        </p:blipFill>
        <p:spPr>
          <a:xfrm>
            <a:off x="642960" y="3143160"/>
            <a:ext cx="3000240" cy="976320"/>
          </a:xfrm>
          <a:prstGeom prst="rect">
            <a:avLst/>
          </a:prstGeom>
          <a:ln w="0">
            <a:noFill/>
          </a:ln>
        </p:spPr>
      </p:pic>
      <p:sp>
        <p:nvSpPr>
          <p:cNvPr id="421" name="Line 6"/>
          <p:cNvSpPr/>
          <p:nvPr/>
        </p:nvSpPr>
        <p:spPr>
          <a:xfrm>
            <a:off x="3429000" y="4714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4" descr=""/>
          <p:cNvPicPr/>
          <p:nvPr/>
        </p:nvPicPr>
        <p:blipFill>
          <a:blip r:embed="rId2"/>
          <a:stretch/>
        </p:blipFill>
        <p:spPr>
          <a:xfrm>
            <a:off x="5796000" y="2924280"/>
            <a:ext cx="3133800" cy="12668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5"/>
          <p:cNvSpPr/>
          <p:nvPr/>
        </p:nvSpPr>
        <p:spPr>
          <a:xfrm>
            <a:off x="3429000" y="41432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Narrow"/>
              </a:rPr>
              <a:t>DOPA- decarb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</a:t>
            </a: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on microsoma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by addition of water molecules in presence of enzymes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sterases or amidase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st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mid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ylchol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eurotransmitte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er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te + chol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e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doca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d as local anesthetic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500040" y="1609560"/>
            <a:ext cx="8001000" cy="87588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e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ter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Acid +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714240" y="4786200"/>
            <a:ext cx="6986880" cy="87588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id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id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 Acid + 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70920" y="92880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pro-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levodopa to dopam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ation of drug (termination of actio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metaboli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ntoxic drug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oxic metabolit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cetamo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patotoxic metabolite (hepatic necr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might undergo phase I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AutoShape 2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218440" cy="57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71280" y="1483920"/>
            <a:ext cx="90727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of metabolite coming from (phase I) with endogenous substance as methyl group, acetyl group, sulphate, amino acid or glucouronic acid to produce conjugate that i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ter solu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asily excreted in urine or 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75564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Conjugat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285840" y="7128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conjugation reac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42920" y="857160"/>
          <a:ext cx="8929800" cy="5715000"/>
        </p:xfrm>
        <a:graphic>
          <a:graphicData uri="http://schemas.openxmlformats.org/drawingml/2006/table">
            <a:tbl>
              <a:tblPr/>
              <a:tblGrid>
                <a:gridCol w="4857840"/>
                <a:gridCol w="407196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njugation 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ouronide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Glucouron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ylation (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 </a:t>
                      </a:r>
                      <a:r>
                        <a:rPr b="1" lang="en-US" sz="3200" spc="-1" strike="noStrike" baseline="6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N-acet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tion  (SO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 baseline="64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 _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Sulfo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ation ( 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meth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 acids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lycine conju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71280" y="1143000"/>
            <a:ext cx="9001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non microsom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cep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e conjugation is a microsomal process (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most comm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ucouronyl transfer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 neonates may result into toxicity with chloramphenicol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Gray baby syndrom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AutoShap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5797440" cy="62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pharmacologically inactiv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ater solub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excreted in urine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AutoShape 2" descr=""/>
          <p:cNvPicPr/>
          <p:nvPr/>
        </p:nvPicPr>
        <p:blipFill>
          <a:blip r:embed="rId1"/>
          <a:stretch/>
        </p:blipFill>
        <p:spPr>
          <a:xfrm>
            <a:off x="682560" y="262080"/>
            <a:ext cx="7454880" cy="87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71280" y="1285920"/>
            <a:ext cx="900144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: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neonates &amp; elder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s: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liver diseases</a:t>
            </a:r>
            <a:r>
              <a:rPr b="0" lang="en-U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ree of Protein Binding: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of metabol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 use of drugs: 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Induction &amp; inhibi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of metabol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enetic polymorph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Title 2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93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71280" y="0"/>
            <a:ext cx="900144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1" lang="th-TH" sz="2800" spc="-1" strike="noStrike">
                <a:solidFill>
                  <a:srgbClr val="000000"/>
                </a:solidFill>
                <a:latin typeface="Lucida Sans Unicode"/>
                <a:ea typeface="Cordia New"/>
              </a:rPr>
              <a:t>enetic polymorph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istence of more than one phenotype due to genetic variation in rate of metabol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.g. Isoniazid (anti- tuberculosis drug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Slow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peripheral neuropath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Rapid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hepatiti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50920" y="1125360"/>
            <a:ext cx="8447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emical reactions which occur in the body to change drugs from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lipid soluble form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to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water soluble form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 are easily excreted by the kidne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AutoShape 2" descr=""/>
          <p:cNvPicPr/>
          <p:nvPr/>
        </p:nvPicPr>
        <p:blipFill>
          <a:blip r:embed="rId1"/>
          <a:stretch/>
        </p:blipFill>
        <p:spPr>
          <a:xfrm>
            <a:off x="901800" y="262080"/>
            <a:ext cx="7924680" cy="645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4256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Enzyme Induction &amp; inhibi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ducer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increase activities of liver microsomal enzymes &amp; increase the metabolism of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hibito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decrease activities of liver microsomal enzymes &amp; decrease the metabolism of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71280" y="214200"/>
            <a:ext cx="43578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du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garette 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barbit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pn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yto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epilep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ampi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 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4429080" y="214200"/>
            <a:ext cx="46530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hib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e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met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bio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oconazol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fun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abolism  and excretion of  the inducer drug itself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ion of the inducer drug itself &amp;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may 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crease in the pharmacological action of the drug by repeated administratio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may occ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action of one drug by administration of another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oral contraceptives &amp; phenyto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ducer).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of oral contraceptive may lead to pregnancy if combined with phenyto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14200" y="21420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hibition may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the metabolism  and excretion of  the inhibitor drug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 the action of the inhibitor  drug &amp;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warfarin &amp; erythromyc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hibito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warfarin metabolism may lead to increase its anticoagulant effec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eeding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50920" y="128268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activation or termination of drug 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toxific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ctivation of prodrug </a:t>
            </a:r>
            <a:r>
              <a:rPr b="1" lang="en-US" sz="2700" spc="-1" strike="noStrike">
                <a:solidFill>
                  <a:srgbClr val="0000cc"/>
                </a:solidFill>
                <a:latin typeface="Lucida Sans Unicode"/>
              </a:rPr>
              <a:t>(convert inactive form of drug to active form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7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gan sites of drug metabolis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iver </a:t>
            </a: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(the major sit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u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Mucos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o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ne 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idase (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A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7120" indent="-627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of catecholamines as adrena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lumen (bacterial flor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lucouronida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Plasm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54160" indent="-22860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1280" y="1071720"/>
          <a:ext cx="9001440" cy="5179680"/>
        </p:xfrm>
        <a:graphic>
          <a:graphicData uri="http://schemas.openxmlformats.org/drawingml/2006/table">
            <a:tbl>
              <a:tblPr/>
              <a:tblGrid>
                <a:gridCol w="5869080"/>
                <a:gridCol w="3132360"/>
              </a:tblGrid>
              <a:tr h="8982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ubst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73240"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C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techo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o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-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m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ethy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ransferase 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COM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techolam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.g. adrena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e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611280" y="1979640"/>
            <a:ext cx="1008000" cy="36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27" descr=""/>
          <p:cNvPicPr/>
          <p:nvPr/>
        </p:nvPicPr>
        <p:blipFill>
          <a:blip r:embed="rId2"/>
          <a:srcRect l="7920" t="3701" r="2972" b="3637"/>
          <a:stretch/>
        </p:blipFill>
        <p:spPr>
          <a:xfrm>
            <a:off x="222120" y="1844640"/>
            <a:ext cx="8742600" cy="2941560"/>
          </a:xfrm>
          <a:prstGeom prst="rect">
            <a:avLst/>
          </a:prstGeom>
          <a:ln w="0">
            <a:noFill/>
          </a:ln>
        </p:spPr>
      </p:pic>
      <p:sp>
        <p:nvSpPr>
          <p:cNvPr id="393" name="Flowchart: Process 5"/>
          <p:cNvSpPr/>
          <p:nvPr/>
        </p:nvSpPr>
        <p:spPr>
          <a:xfrm>
            <a:off x="324000" y="1844640"/>
            <a:ext cx="143964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lowchart: Process 6"/>
          <p:cNvSpPr/>
          <p:nvPr/>
        </p:nvSpPr>
        <p:spPr>
          <a:xfrm>
            <a:off x="5435640" y="1844640"/>
            <a:ext cx="144000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222120" y="5184720"/>
            <a:ext cx="874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nephrine = adrenaline can be metabolized by COMT or M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70920" y="259920"/>
            <a:ext cx="89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llular sites of drug metaboli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4-10-14T06:51:18Z</dcterms:modified>
  <cp:revision>263</cp:revision>
  <dc:subject/>
  <dc:title>GENERAL PHARMACOLOGY</dc:title>
</cp:coreProperties>
</file>