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6CEA-C331-4C92-9524-5672E9CF790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357D-0EF5-4CCA-A59B-56626D962AF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098D-2188-40D4-B9F4-26D6481E34F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FC0E-931B-46E9-AF69-477D87654F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5B6D-8A88-4A14-AD49-F95A0AB149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FFCA-53DB-4C60-8EC3-C7973C5BF4D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6AC7-962C-44F3-B8DC-E94F11C4AF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E8F0-B200-4823-BE42-D72C14916DA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1642-3302-4FEC-9169-B277AC72E85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15CA-09D1-4D81-A187-346D82000F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7AE-D422-4F06-B562-A6194B7F01E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74DB-5335-4363-BE30-9046DD6A158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B7E7-053D-4E89-9FEF-054B1507BE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DE91-B620-412C-8341-7364E226D9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409F-0DB2-411B-8678-A8381FBF240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639B-0795-4C7E-BC51-981236DE785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04F3-C18E-4DC9-B208-C213730991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57C5-0A28-4549-ACAB-B1652165F90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0C46-102C-443E-9DD3-0F2946802AC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5CC2-BC1C-4451-878B-45FF42C7EE4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AEEB-F419-4B9E-B7E5-7EEBF7832FA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06C3-98A9-4DDF-8845-4162318124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A6CD-3077-4F01-A1C3-EFA10212EA9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447D-5B11-4562-A9DA-D92F0769674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868A-8811-4848-AACA-5BAEB3D13C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C821-1830-4AD1-83F9-FFA8DB57F43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C6C2-E575-43C8-B4A6-1B83FC8E6B9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41D-AFB1-43B9-A55B-B907EEC7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742-D17C-4375-8C7F-0E06AD74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9D7-B89B-4293-8991-B4BB3502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0BF-08CC-4BC4-B170-E1672A4B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F003-AE62-4E76-8DAC-D417E27B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E0C8-06B8-4D3F-9EAC-BEBA002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FF1A-2414-4C8B-A148-CE2EFD1E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B8E1-9769-44B6-B9F2-187064FB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F710-01E1-4564-AF99-037634F3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D29D-340F-4B94-986A-4592B191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5684-7B89-42DD-8CB8-0C08EBB5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DD0-3323-4624-A2E4-C035AB94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48C7-7028-43F3-AAC8-D3910CAD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5445-F70F-4DF6-90EF-E6E28FBE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8BA4-4A13-4936-993F-967C1B7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9855-A326-43D6-991B-2C5F1670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1FE1-8DDC-4C78-8B24-EC07BE4A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9163-5948-4268-B5C7-19403BBB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67E79-229C-4BA4-9A84-F73E75CE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54D5-1980-4B79-97ED-E2908F86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084A-C11B-4FDD-9110-F856CC1E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2612D-CDFC-4797-AC49-31E0DC7A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5BC-2975-4D32-B47B-98344EA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16FA5-4AFB-4C8F-A76B-308C409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EF6DA-69E3-4831-A2C5-9804DF22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47AE8-CB07-491E-94EE-F9F6D515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36D8-AAB3-42E6-843F-E9C644F8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2B6B0-E555-41AA-955E-D0DE0014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08A16-00D3-42EC-AB75-4F9356CE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D4DE-27DF-48F6-A0F0-3E163A28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D781F-2EF2-416F-A9FE-0635B19C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D14C7-EC61-4AF5-8632-8B03D6A7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8DF9-9489-42BD-A643-91D9349F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841B-4863-4F03-9945-6B6AAF64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384C-79C4-4A74-9DEF-5E0FF94E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3E675-D812-4311-B669-D04FC2A9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8D88-1231-449F-84FE-EA262FF4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9D62-5E6C-459E-9C0C-ECC2E027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E7C79-23FE-40F4-BCA4-66E6DB6F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B1F8-4472-44BF-889B-698BD9A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3F933-05B0-4C12-94CA-96E90736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E23F9-421D-4486-8F7A-6210C1BC2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3D8A7-9651-4C73-9C0F-EED48F96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ACE24-B3DE-4147-9261-E73D3A46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C51-46AC-4580-954C-37646467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30553-7C24-4D29-9D90-33C6E9F6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CC98E-96B1-45C5-8B09-0C337F1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F4EF1-E5F7-4FB8-8045-38518469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98407-7C76-4D70-92C1-D47C7AEB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B5808-2E7B-4196-9BFD-B4147D25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3068C-C2D1-41C8-BA1D-3161ACD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CFC5-9C70-439B-A3C3-C0DE447E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1FA9A-732E-49C7-9064-C7A40B16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16FC6-1163-4084-91BF-8D8595C7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3217E-774B-41AF-90DA-71863230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97A-0EFA-464C-B3AA-619ED92B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E7C66-8ED9-4DD0-8F8B-406861EE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5738-5BF9-423F-A4D0-9495CD51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10BE9-CA74-4F60-A120-89690E10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55BF-74B7-41F9-B2ED-EE4C23A5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83E8E-A005-43EF-BFE9-FC30C090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AD6A-3B7D-484E-91E8-1E37A09B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855CC-CCBB-41A1-B869-B047DD54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0874F-E089-4487-84C8-FF0D6F1B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13F15-A8E3-40A2-AEA2-85A38B3E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70945-FA68-4E13-BD6F-3AA82E25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89B-535D-4F7A-9C35-68649BE0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58462-12F7-4706-ABF0-C358C887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50F0-8CC1-4AA6-BF32-62B0FB664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19A27-65C6-4D9A-A669-F45AD2CC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8D183-031C-436D-A682-C425643B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CE05C-8BE0-455A-9895-1EA0B694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4B02D-F0A7-441E-A09D-3BFB47D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F5013-B69D-49B8-90CB-3E103625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454DB-06B1-4FCA-A40F-32AAF5B0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18688-092B-4760-A36E-CCA374D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B20D8-685A-4EE8-8D32-06063981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433-81D4-4C34-8491-6B3237D5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33DC-4223-4338-9B33-DC7EA838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92257-76BF-4D9E-BB45-A97384F4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66A11-D92C-42E3-836D-53E865C9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04F65-4EC7-40DE-A9C1-9AFD5F78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01DCB-2935-4737-85F2-51C562FB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78229-4817-426A-A715-6911945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9511E-A616-4E33-BD34-68B4F0BA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86D6D-0EEA-4D19-B413-7F58EFC6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DF9A1-EF21-41E1-85BF-C78D138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1E963-010B-4506-B29F-2703495B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537-C5DA-4C9C-A12F-77687884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6241D-BE0C-4B62-8736-11E0BF2B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45133-0095-4354-83E8-46BAA984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3B668-CC6B-4F7F-8ABC-0669790E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A249F-4C4C-4C48-A445-8491452E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18401-A69F-4B4D-9393-755BBF95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7B015-4299-4714-9CD6-00041B52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2A25C-0AAA-40E1-B348-E9458B9D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A92F-ED7A-4083-AE23-7C3E8BFE94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40D7-6640-4D8A-BE1C-FDCF1201C5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BE16-9163-4A28-9A5B-AAC4978F29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05ED-6C01-4646-BA79-070653F3F3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5EB7-B036-4CB3-AA13-ECC7C8914B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5A1B-2A31-418D-A229-3BAAB88860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17D7-35E0-4E01-BD9E-044E8B042C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6558-9A3C-44C5-AF8A-E818A48CDE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docx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78" name="WordArt 30"/>
          <p:cNvSpPr txBox="1"/>
          <p:nvPr/>
        </p:nvSpPr>
        <p:spPr>
          <a:xfrm>
            <a:off x="1571760" y="171468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57160" y="307188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71280" y="260280"/>
            <a:ext cx="9144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-acetyl transfer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acetyl group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en-US" sz="3200" spc="-1" strike="noStrike" baseline="62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onoamine oxidase enzyme (MAO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.g. Alcohol dehydrogenase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lcoh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dehyd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ldehyde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ic aci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2O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2560" y="142920"/>
            <a:ext cx="9001080" cy="61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enzyme system = Cytochrome P-450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ore than 20 families CYP1, CYP2,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families are identified as A, B, and C etc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uma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isoenzyme families are important CYP1, CYP2 and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5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2"/>
          <p:cNvGraphicFramePr/>
          <p:nvPr/>
        </p:nvGraphicFramePr>
        <p:xfrm>
          <a:off x="4429080" y="3286080"/>
          <a:ext cx="4330800" cy="32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01" name="Object 2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3286080"/>
                    <a:ext cx="433080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4"/>
          <p:cNvSpPr/>
          <p:nvPr/>
        </p:nvSpPr>
        <p:spPr>
          <a:xfrm>
            <a:off x="142920" y="10717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P 3A4/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out biotransformation of 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number (30–50%) of dru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ed in liver and intestine (responsibl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ass metabolism at this site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429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 of hepatic metabolic re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 reactions includ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si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reactions inclu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4643280" y="1071720"/>
            <a:ext cx="4286520" cy="564336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"/>
          <p:cNvSpPr/>
          <p:nvPr/>
        </p:nvSpPr>
        <p:spPr>
          <a:xfrm>
            <a:off x="301680" y="214200"/>
            <a:ext cx="71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dition of oxygen or removal of hydroge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st important drug metabolizing re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AutoShape 2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358040" cy="71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78920" y="189000"/>
            <a:ext cx="8750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0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micr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ytochrome P450 enzymes, NADPH and oxyg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 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cytosol  or mitochondr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xidases and dehydrogen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95520" indent="-18504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–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95520" indent="-18504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ine – MA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95520" indent="-18504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– Xanthine 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95560" indent="-207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hydrogen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dehydrogenase &amp; aldehyde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xid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oamine oxidase (MAO):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catecholamines as adrenaline and seroton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moclobemide is MAO inhibitor and used as antidepressant since it increases serotonin in brai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AutoShape 2" descr=""/>
          <p:cNvPicPr/>
          <p:nvPr/>
        </p:nvPicPr>
        <p:blipFill>
          <a:blip r:embed="rId1"/>
          <a:stretch/>
        </p:blipFill>
        <p:spPr>
          <a:xfrm>
            <a:off x="1620720" y="42840"/>
            <a:ext cx="5767560" cy="65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anthine oxid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xanth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c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 accumul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U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puri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hibitor of xanthine oxidase and used in gout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AutoShape 2" descr=""/>
          <p:cNvPicPr/>
          <p:nvPr/>
        </p:nvPicPr>
        <p:blipFill>
          <a:blip r:embed="rId1"/>
          <a:stretch/>
        </p:blipFill>
        <p:spPr>
          <a:xfrm>
            <a:off x="1620720" y="42840"/>
            <a:ext cx="5767560" cy="65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592200"/>
          </a:xfrm>
          <a:prstGeom prst="rect">
            <a:avLst/>
          </a:prstGeom>
          <a:ln w="0">
            <a:noFill/>
          </a:ln>
        </p:spPr>
      </p:pic>
      <p:pic>
        <p:nvPicPr>
          <p:cNvPr id="414" name="Content Placeholder 3" descr=""/>
          <p:cNvPicPr/>
          <p:nvPr/>
        </p:nvPicPr>
        <p:blipFill>
          <a:blip r:embed="rId2"/>
          <a:srcRect l="2803" t="0" r="0" b="0"/>
          <a:stretch/>
        </p:blipFill>
        <p:spPr>
          <a:xfrm>
            <a:off x="182520" y="928800"/>
            <a:ext cx="8890200" cy="5857920"/>
          </a:xfrm>
          <a:prstGeom prst="rect">
            <a:avLst/>
          </a:prstGeom>
          <a:ln w="0">
            <a:noFill/>
          </a:ln>
        </p:spPr>
      </p:pic>
      <p:sp>
        <p:nvSpPr>
          <p:cNvPr id="415" name="Frame 11"/>
          <p:cNvSpPr/>
          <p:nvPr/>
        </p:nvSpPr>
        <p:spPr>
          <a:xfrm>
            <a:off x="6588000" y="1052640"/>
            <a:ext cx="1266840" cy="785520"/>
          </a:xfrm>
          <a:custGeom>
            <a:avLst/>
            <a:gdLst/>
            <a:ahLst/>
            <a:rect l="l" t="t" r="r" b="b"/>
            <a:pathLst>
              <a:path w="1266825" h="785812">
                <a:moveTo>
                  <a:pt x="0" y="0"/>
                </a:moveTo>
                <a:lnTo>
                  <a:pt x="1266825" y="0"/>
                </a:lnTo>
                <a:lnTo>
                  <a:pt x="1266825" y="785812"/>
                </a:lnTo>
                <a:lnTo>
                  <a:pt x="0" y="785812"/>
                </a:lnTo>
                <a:lnTo>
                  <a:pt x="0" y="0"/>
                </a:lnTo>
                <a:close/>
                <a:moveTo>
                  <a:pt x="98227" y="98227"/>
                </a:moveTo>
                <a:lnTo>
                  <a:pt x="98227" y="687586"/>
                </a:lnTo>
                <a:lnTo>
                  <a:pt x="1168599" y="687586"/>
                </a:lnTo>
                <a:lnTo>
                  <a:pt x="1168599" y="98227"/>
                </a:lnTo>
                <a:lnTo>
                  <a:pt x="98227" y="9822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ame 5"/>
          <p:cNvSpPr/>
          <p:nvPr/>
        </p:nvSpPr>
        <p:spPr>
          <a:xfrm>
            <a:off x="2268360" y="981000"/>
            <a:ext cx="1656000" cy="863640"/>
          </a:xfrm>
          <a:custGeom>
            <a:avLst/>
            <a:gdLst/>
            <a:ahLst/>
            <a:rect l="l" t="t" r="r" b="b"/>
            <a:pathLst>
              <a:path w="1655762" h="863600">
                <a:moveTo>
                  <a:pt x="0" y="0"/>
                </a:moveTo>
                <a:lnTo>
                  <a:pt x="1655762" y="0"/>
                </a:lnTo>
                <a:lnTo>
                  <a:pt x="1655762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2" y="755650"/>
                </a:lnTo>
                <a:lnTo>
                  <a:pt x="1547812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ame 6"/>
          <p:cNvSpPr/>
          <p:nvPr/>
        </p:nvSpPr>
        <p:spPr>
          <a:xfrm>
            <a:off x="6286680" y="4143240"/>
            <a:ext cx="1655640" cy="863640"/>
          </a:xfrm>
          <a:custGeom>
            <a:avLst/>
            <a:gdLst/>
            <a:ahLst/>
            <a:rect l="l" t="t" r="r" b="b"/>
            <a:pathLst>
              <a:path w="1655763" h="863600">
                <a:moveTo>
                  <a:pt x="0" y="0"/>
                </a:moveTo>
                <a:lnTo>
                  <a:pt x="1655763" y="0"/>
                </a:lnTo>
                <a:lnTo>
                  <a:pt x="1655763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3" y="755650"/>
                </a:lnTo>
                <a:lnTo>
                  <a:pt x="1547813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14200" y="1341360"/>
            <a:ext cx="8715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students shoul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bio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sites for drug metabo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major phase I and phase II metabolic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odulation of liver microsomal enzymes by inducers and inhib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wo drugs that are known as enzyme inducers and inhibito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impact of first pass metabolism on drug bioavailabil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WordArt 3"/>
          <p:cNvSpPr txBox="1"/>
          <p:nvPr/>
        </p:nvSpPr>
        <p:spPr>
          <a:xfrm>
            <a:off x="2357280" y="404640"/>
            <a:ext cx="441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tion re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oxygen or addition of hydroge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microsomal or non microsomal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od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642960" y="4643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 Narrow"/>
              </a:rPr>
              <a:t>Levodopa (DOPA)                                             Dop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2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3000240" cy="976320"/>
          </a:xfrm>
          <a:prstGeom prst="rect">
            <a:avLst/>
          </a:prstGeom>
          <a:ln w="0">
            <a:noFill/>
          </a:ln>
        </p:spPr>
      </p:pic>
      <p:sp>
        <p:nvSpPr>
          <p:cNvPr id="421" name="Line 6"/>
          <p:cNvSpPr/>
          <p:nvPr/>
        </p:nvSpPr>
        <p:spPr>
          <a:xfrm>
            <a:off x="3429000" y="4714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4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3133800" cy="12668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5"/>
          <p:cNvSpPr/>
          <p:nvPr/>
        </p:nvSpPr>
        <p:spPr>
          <a:xfrm>
            <a:off x="3429000" y="41432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DOPA- decarb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</a:t>
            </a: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on microsoma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by addition of water molecules in presence of enzymes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sterases or amidase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st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mid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ylchol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urotransmitte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te + chol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e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doca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d as local anesthetic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500040" y="1609560"/>
            <a:ext cx="8001000" cy="87588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ter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Acid +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714240" y="4786200"/>
            <a:ext cx="6986880" cy="87588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mid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id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Acid + 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70920" y="92880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pro-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levodopa to dopam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ation of drug (termination of act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metaboli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ntoxic drug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metabolit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etamo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patotoxic metabolite (hepatic necr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might undergo phase I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AutoShape 2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218440" cy="57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71280" y="1483920"/>
            <a:ext cx="9072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of metabolite coming from (phase I) with endogenous substance as methyl group, acetyl group, sulphate, amino acid or glucouronic acid to produce conjugate that i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solu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asily excreted in urine or 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755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Conjugat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285840" y="7128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conjugation re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42920" y="857160"/>
          <a:ext cx="8929800" cy="5715000"/>
        </p:xfrm>
        <a:graphic>
          <a:graphicData uri="http://schemas.openxmlformats.org/drawingml/2006/table">
            <a:tbl>
              <a:tblPr/>
              <a:tblGrid>
                <a:gridCol w="4857840"/>
                <a:gridCol w="407196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jugation 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uronide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Glucouron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ylation (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 </a:t>
                      </a:r>
                      <a:r>
                        <a:rPr b="1" lang="en-US" sz="3200" spc="-1" strike="noStrike" baseline="6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N-acet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tion  (SO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 baseline="64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_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Sulfo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ation ( 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meth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 acids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lycin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71280" y="1143000"/>
            <a:ext cx="900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non microsom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e conjugation is a microsomal process (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most comm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uronyl transf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 neonates may result into toxicity with chloramphenicol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ray baby syndrom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AutoShap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5797440" cy="62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harmacologically inactiv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ater solub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excreted in urin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7" name="AutoShape 2" descr=""/>
          <p:cNvPicPr/>
          <p:nvPr/>
        </p:nvPicPr>
        <p:blipFill>
          <a:blip r:embed="rId1"/>
          <a:stretch/>
        </p:blipFill>
        <p:spPr>
          <a:xfrm>
            <a:off x="682560" y="262080"/>
            <a:ext cx="7454880" cy="87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71280" y="1285920"/>
            <a:ext cx="90014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: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neonates &amp; elder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s: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liver diseases</a:t>
            </a:r>
            <a:r>
              <a:rPr b="0" lang="en-U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ee of Protein Binding: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use of drugs: 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Induction &amp; inhibi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9" name="Title 2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93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71280" y="0"/>
            <a:ext cx="9001440" cy="60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Lucida Sans Unicode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xistence of more than one phenotype due to genetic variation in rate of metabol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.g. Isoniazid (anti- tuberculosis drug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Slow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eripheral neuropath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Rapid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patiti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50920" y="1125360"/>
            <a:ext cx="8447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mical reactions which occur in the body to change drugs from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lipid soluble form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water soluble form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 are easily excreted by the kidne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AutoShape 2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924680" cy="645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14256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Enzyme Induction &amp; inhibi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ducer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increase activities of liver microsomal enzymes &amp; increase the metabolism of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hibito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decrease activities of liver microsomal enzymes &amp; decrease the metabolism of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3"/>
          <p:cNvSpPr/>
          <p:nvPr/>
        </p:nvSpPr>
        <p:spPr>
          <a:xfrm>
            <a:off x="71280" y="214200"/>
            <a:ext cx="43578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du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garette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pn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yto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epilep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 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4429080" y="214200"/>
            <a:ext cx="46530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hib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e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met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bio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fun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abolism  and excretion of  the inducer drug itself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ion of the inducer drug itself &amp;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crease in the pharmacological action of the drug by repeated administratio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may occ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action of one drug by administration of another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oral contraceptives &amp; phenyto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ducer).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of oral contraceptive may lead to pregnancy if combined with phenyto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hibition may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the metabolism  and excretion of  the inhibitor drug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 the action of the inhibitor  drug &amp;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warfarin &amp; erythromyc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hibito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warfarin metabolism may lead to increase its anticoagulant effec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leeding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50920" y="128268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activation or termination of drug 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oxific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tivation of prodrug </a:t>
            </a:r>
            <a:r>
              <a:rPr b="1" lang="en-US" sz="2700" spc="-1" strike="noStrike">
                <a:solidFill>
                  <a:srgbClr val="0000cc"/>
                </a:solidFill>
                <a:latin typeface="Lucida Sans Unicode"/>
              </a:rPr>
              <a:t>(convert inactive form of drug to active form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7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gan sites of drug metabolis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iver </a:t>
            </a: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(the major sit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u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Mucos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o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e 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idase (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A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7120" indent="-627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lumen (bacterial flor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lucouronida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Plasm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54160" indent="-2286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1280" y="1071720"/>
          <a:ext cx="9001440" cy="5179680"/>
        </p:xfrm>
        <a:graphic>
          <a:graphicData uri="http://schemas.openxmlformats.org/drawingml/2006/table">
            <a:tbl>
              <a:tblPr/>
              <a:tblGrid>
                <a:gridCol w="5869080"/>
                <a:gridCol w="3132360"/>
              </a:tblGrid>
              <a:tr h="898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bst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techo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o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-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m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ethy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ransferase 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OM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echolam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.g. adrena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611280" y="1979640"/>
            <a:ext cx="1008000" cy="36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27" descr=""/>
          <p:cNvPicPr/>
          <p:nvPr/>
        </p:nvPicPr>
        <p:blipFill>
          <a:blip r:embed="rId2"/>
          <a:srcRect l="7920" t="3701" r="2972" b="3637"/>
          <a:stretch/>
        </p:blipFill>
        <p:spPr>
          <a:xfrm>
            <a:off x="222120" y="1844640"/>
            <a:ext cx="8742600" cy="2941560"/>
          </a:xfrm>
          <a:prstGeom prst="rect">
            <a:avLst/>
          </a:prstGeom>
          <a:ln w="0">
            <a:noFill/>
          </a:ln>
        </p:spPr>
      </p:pic>
      <p:sp>
        <p:nvSpPr>
          <p:cNvPr id="393" name="Flowchart: Process 5"/>
          <p:cNvSpPr/>
          <p:nvPr/>
        </p:nvSpPr>
        <p:spPr>
          <a:xfrm>
            <a:off x="324000" y="1844640"/>
            <a:ext cx="143964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owchart: Process 6"/>
          <p:cNvSpPr/>
          <p:nvPr/>
        </p:nvSpPr>
        <p:spPr>
          <a:xfrm>
            <a:off x="5435640" y="1844640"/>
            <a:ext cx="144000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222120" y="5184720"/>
            <a:ext cx="87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nephrine = adrenaline can be metabolized by COMT or M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70920" y="259920"/>
            <a:ext cx="89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ular sites of drug metaboli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4-10-14T06:51:18Z</dcterms:modified>
  <cp:revision>263</cp:revision>
  <dc:subject/>
  <dc:title>GENERAL PHARMACOLOGY</dc:title>
</cp:coreProperties>
</file>