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D6DA-74CA-43A7-9C11-9386CF6A76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2BD-CCF0-4755-9F21-91AF6D85DC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78F-6668-4D36-83BF-879E4E03F0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7A2-9F38-4EF0-AE43-3E3905AAEB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F1DD-1D15-4FA2-8D9E-D83CEBD640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588-D9AE-49EB-BFED-B9094D8D0C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F4B-9C94-4CFE-9670-4324A85448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78EC-20A6-42B1-9F7E-A5600043F0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1DE-097E-4849-BC98-7BEF6C94A5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88F-37AE-43F2-BA10-05572B4837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3638-B33C-4ABA-9E35-3F46D606D3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C4F-B7A9-405F-9DEE-3EF13EC058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9C36-4CB1-4093-AF7C-0D2342DC38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E71-E656-40C5-B0F4-78464A9F3D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84BB-061D-4463-948E-9581E82C5A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E5FB-7591-4304-90E6-7B06675FD4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180-431B-4917-A917-DC39E7B8F1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409-37E6-4381-B98A-FEAE34AB2A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EC4-72A6-43F4-83A6-66B330B2CE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9E5-6B02-42DA-991F-74229C53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71B-2E5D-4554-826E-B5E8156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1BF-CFFD-4F96-AA0C-4661D434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6A9-753D-43EA-9FAA-D6B594DD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F8E-6E17-4E83-8C6D-6FAEC9DA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24BC-7DB6-4E8F-AD27-993B38A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D165-8351-4852-A857-91C92B0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F70-2E8C-4933-AD3C-188EB12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A9CD-F2BD-4111-9860-FF8ABB82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7DE6-9A42-4E66-A876-9C291DC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985E-6378-4948-AA5D-66A4F21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FFB-C143-4BB1-81FE-7030302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9AC-7C67-420F-8622-1A45AF7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DED-414B-4C1F-A523-0772FAF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E14-6F7E-4F20-91EE-84370DB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7442-F90C-4BB5-8F09-C9F353D5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310-B5EA-4D99-8F1A-500D9D37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E1DC-AC36-4794-A545-187ACF09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5EF6-562B-4B6E-8B5B-7BA3D89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9548-1A4F-4292-A27B-8EB6001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CAAD-E336-4F40-B6F1-51E05BA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0A38-B793-4954-83BE-35ADA6D7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847-4E06-4817-8236-1C9C525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82BF-0D0D-44DC-8A66-F2A3A2A7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5BA6-9603-4811-AC4B-0570995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7C2B-A44B-4BB2-B1EE-7417E857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63D1-5EE0-499A-A140-2B614A01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32C1-8660-423F-B659-9BB4DEF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ED4C-6B36-4A37-8002-B103ADA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A349-D406-4C12-BAD0-98F79C86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7D583-B575-4F15-A275-D4A985FC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1597-3E8B-45EF-A48F-A009C1B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16D1-727B-4E8E-8807-A033A42B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F0B-C98D-40E8-AB91-BACB627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D96A-2277-4C8A-84F5-B3C3B7C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1906-FD84-48FD-99C9-B5FB8CA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E789-4763-4119-BE3F-8C16698E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CC55-F319-4F34-AA4E-AF23CEC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6356-55DA-4D83-9106-A9FDA7C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3E0E-C756-4687-937D-D0ADD5D0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1DD9-40F5-4246-A834-83C74A5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45A8-216A-42C5-BEA8-7DFB0DE8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D2DC-13BB-4C8C-9172-D22CA826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50C-1562-4ABB-9AB4-40D66FC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E0D-6798-40BE-9DCC-6A9F177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C8A-64B0-4691-B5FB-B64E1DA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CA2-3194-417B-9CAB-714F70A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086-DB61-4924-9B2F-ED733DB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0FC-E1A5-4627-8A73-6DE2AAD3DEB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54B-B2F0-432E-9B44-4EEA95B355AB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414-2A3D-4524-9007-7FB0284579B6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4E7-DD30-4969-AE9A-552362BD026D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 drugs can be reabsorbed back into blood circulation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tubular drug reabsorption back into blo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bile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nterohepatic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Units are mg/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429400" cy="50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10-15T07:46:02Z</dcterms:modified>
  <cp:revision>213</cp:revision>
  <dc:subject/>
  <dc:title>GENERAL PHARMACOLOGY</dc:title>
</cp:coreProperties>
</file>