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48DC-5627-473C-BB90-9E02EBEE5F9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BE7A-1237-4A00-B759-DE06C588A63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2A34-68F7-4AE3-B50B-4147839FA6D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6CA3-1FD9-4C24-B7C1-367984A5858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D98B-AA7F-405D-A2A7-B4ABD31F7BC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1B0D-C26A-451A-B98F-1FD630528E9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EC41-2973-4868-8E96-272E7F76E28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AF6A-2CC4-4E51-983D-E9A6C3C843C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C380-B044-4E7A-815F-14C6851994C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9030-B111-4CC0-8F0C-8837A28BDDF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357C-CD07-4C7C-A2C2-02BBCED7F83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302D-CC69-4109-AC58-EB458CD1DD7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F083-1A2A-4AD3-A03D-86BE49C7A35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3FFD-D224-4343-86AE-1ADFFCFE63A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5E0C-332E-49D1-A963-66932C372F4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603C-88C3-4A33-9667-8B506E433CC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2E73-C3C5-438F-BC7A-7BFF50C44ED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7D7F-5FC3-4E39-A110-7194A080D03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B7A9-2FA6-4118-83DE-CE75FF34EE4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13F-E9DB-4488-82D3-2B1F8A07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2B79-C4AE-449B-8428-D17A6ADC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A850-37EA-4047-A8A4-95BED81C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4C35-AEAB-42FD-B289-321E51F6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0EF4-73E4-496E-861F-176A1B13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1682-1106-49D9-BB79-A8F9CB5F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B221-F668-4208-B0E2-D35CAD33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823F-264D-42BE-8332-26EB7FAF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7D95-61BB-4B18-A42C-C31A19CE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F0B4-DBE0-4093-B77A-8CF15C95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3BA5-47B3-4D0C-B41E-452AE549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A815-5390-49D7-A304-96326B26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E4ED-4FDF-4442-BF2B-EDC4FC48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2C84-9A05-4305-8F39-D0475559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36DF-3932-4B3B-B2CC-BCA86B35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28E6-CB55-4B25-82C1-FDED9A73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9633-0329-492D-9819-80A3F999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C95A6-3AF7-4505-A44E-22B336CA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19784-48C2-45EE-B7D5-82B0460D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7588B-595F-4112-AE10-6CC035BA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D38BD-9C91-44E3-A9A7-B690499A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27B8C-B2DF-4676-97F3-A019C13D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F228-CA51-4CC6-90C8-69E52905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A3871-820A-4873-805A-2E362A8D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55539-ED2F-45B6-AF81-5925B903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BFE43-DD12-4E6E-A189-A7612504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5F6AB-6E44-42E5-A50A-14BBC189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24AE1-09B0-498A-9819-695C385C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9F40E-37F6-4294-AE27-1684256C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8F980-10AB-46CF-AF07-C0519190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188E8-B1CC-4647-BB92-A82AACD1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B411D-AA0B-4181-9FB8-65919B26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0DDAD-3BFB-4B1A-8A73-14826FA4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88F4-B0DE-4135-849B-CAF069D9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0D899-9FD5-4C13-B4C6-6107429D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65F30-5303-4CB8-B61A-23674082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26EA5-5904-4963-BEB5-C83EB6EC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C2417-9B8D-467E-9C5C-F5AF0287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64609-F60F-4C4C-B5B4-08DF0E33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F4498-44F5-499B-898C-4C80FE0B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2E385-42B1-4EE0-AB0D-10FB3A93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A6462-4C84-4BFF-BE0E-A20A7052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40C37-7609-47DC-B168-8EE0B62E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CD9A-7E07-48A8-A48B-70F5C5A0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865B-AD41-4A9D-8602-D38A0753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BF2-DDAC-409E-936C-D106EBFB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E5F6-04BF-4242-9937-A2AB71FE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638-72B5-4196-BA8B-190D3025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2051-1779-48FD-A863-3EA07CBD6A38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60F1-A7A7-41E4-954B-4A547746C762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8CD2-DAA4-44D9-89BB-CA2F185B7260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0A9B-48FE-48DD-A1E1-1ECF737976AD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187280" y="2060640"/>
            <a:ext cx="67694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Drug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755640" y="422100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ndalus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ndalus"/>
              </a:rPr>
              <a:t>Pharmac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logo"/>
          <p:cNvPicPr/>
          <p:nvPr/>
        </p:nvPicPr>
        <p:blipFill>
          <a:blip r:embed="rId1"/>
          <a:stretch/>
        </p:blipFill>
        <p:spPr>
          <a:xfrm>
            <a:off x="7812000" y="404640"/>
            <a:ext cx="90828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13840" y="214200"/>
            <a:ext cx="864396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sive tubular re-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stal convoluted tubules &amp; collecting 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diffusion of unionized, lipophil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ophilic drugs can be reabsorbed back into blood circulation and excretion in urine will be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ized drugs are poorly reabsorbed &amp; so urinary excretion will be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69440" cy="640872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33744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  <p:sp>
        <p:nvSpPr>
          <p:cNvPr id="201" name="Oval 5"/>
          <p:cNvSpPr/>
          <p:nvPr/>
        </p:nvSpPr>
        <p:spPr>
          <a:xfrm>
            <a:off x="457200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395280" y="83664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421164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4788000" y="2565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5292720" y="2349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500364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3708360" y="249228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485928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457200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71636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5"/>
          <p:cNvSpPr/>
          <p:nvPr/>
        </p:nvSpPr>
        <p:spPr>
          <a:xfrm>
            <a:off x="457200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471636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4572000" y="9079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478800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9"/>
          <p:cNvSpPr/>
          <p:nvPr/>
        </p:nvSpPr>
        <p:spPr>
          <a:xfrm>
            <a:off x="4500720" y="2421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4716360" y="119700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1"/>
          <p:cNvSpPr/>
          <p:nvPr/>
        </p:nvSpPr>
        <p:spPr>
          <a:xfrm>
            <a:off x="500364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>
            <a:off x="4427640" y="549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3"/>
          <p:cNvSpPr/>
          <p:nvPr/>
        </p:nvSpPr>
        <p:spPr>
          <a:xfrm>
            <a:off x="478800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4859280" y="333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5"/>
          <p:cNvSpPr/>
          <p:nvPr/>
        </p:nvSpPr>
        <p:spPr>
          <a:xfrm>
            <a:off x="39528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61128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 drug= water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611280" y="692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 polar drug = lipid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8"/>
          <p:cNvSpPr/>
          <p:nvPr/>
        </p:nvSpPr>
        <p:spPr>
          <a:xfrm>
            <a:off x="5003640" y="1341360"/>
            <a:ext cx="14292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9"/>
          <p:cNvSpPr/>
          <p:nvPr/>
        </p:nvSpPr>
        <p:spPr>
          <a:xfrm>
            <a:off x="5003640" y="1557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3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72 -0.07052 C 0.01042 0.03168 0.01302 0.12578 0.00816 0.22543 C 0.0059 0.37919 0.0283 0.33364 -0.09826 0.3311 C -0.10139 0.32971 -0.10469 0.32832 -0.10781 0.32694 C -0.11337 0.32462 -0.12517 0.32902 -0.12517 0.32902 L -0.12517 0.3163 E">
                                      <p:cBhvr>
                                        <p:cTn id="7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2.65896E-006 C 0.01633 0.08671 -0.00954 0.18012 0.00799 0.26636 C 0.00747 0.30428 0.0073 0.34243 0.00626 0.38035 C 0.00521 0.42335 0.00539 0.39145 0.00313 0.3889 C 0.00105 0.38659 -0.00225 0.38752 -0.00485 0.38682 C -0.0085 0.38567 -0.01562 0.38289 -0.01909 0.38266 C -0.07673 0.37873 -0.07465 0.40509 -0.07465 0.37179 E">
                                      <p:cBhvr>
                                        <p:cTn id="75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3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1 0.01573 C 0.00903 0.02197 0.01007 0.02844 0.01007 0.03469 C 0.01007 0.4837 0.10678 0.43191 -0.11215 0.42775 C -0.12829 0.42521 -0.1434 0.42359 -0.15972 0.42359 E">
                                      <p:cBhvr>
                                        <p:cTn id="85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3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3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3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3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3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3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pH trapping (Ion trapping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pH of urine by chemicals can inhibit or enhance the tubular drug reabsorption back into bloo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 trapping is used to enhance renal clearance of drugs during toxic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is normally slightly acidic and favors excretion of 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basic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pH trapping (Ion trapping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idificatio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urine using ammonium chloride (NH4Cl) increases excretion o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asic drugs as amphetamine.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lkalinization of  urin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ing sodium bicarbonate NaHC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s excretion o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idic drugs as aspir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7640" y="259920"/>
            <a:ext cx="8785080" cy="6264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excreted mainly by the kidney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glycosides antibiotics (as gentamyc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se drugs should be prescribed carefull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with renal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derl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Biliary Excre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2560" y="105264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4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to few drugs that are excreted into f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drugs are secreted from the liver into bile by active transporters, then into duoden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rugs undergo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nterohepatic circula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 into systemic blood circulation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Enterohepatic circul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750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excreted in the bile in the form of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glucouronides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be  hydrolyzed in  intestine by bacterial flora liberating  free drugs that can be reabsorbed back into blood if lipid solu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longs the duration of action of drugs e.g.  digoxin, morphine, thyrox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enterohepatic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5840" y="277920"/>
            <a:ext cx="84009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Plasma half-life (t ½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893440" cy="559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time required for the plasma concentration of a drug to fall to half of its initial concen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easure of duration of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dosing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rugs of short plasma half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, tubocura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rugs of long plasma half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oxin, thyrox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8000" y="286920"/>
            <a:ext cx="67690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Dru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is lecture, students should be able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main and minor routes of Excretion including renal elimination and biliary excre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enterohepatic circulation and its consequences on duration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some pharmacokinetics terms including clearance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half-life (t ½), multiple dosing, steady state levels, maintenance dose and Loading dose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50752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Factors that may increase half-life (t ½ 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14200" y="928440"/>
            <a:ext cx="8715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ased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al inhibi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ased cl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gh binding of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bi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terohepatic recyc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1280" y="190440"/>
            <a:ext cx="9001440" cy="65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eady state leve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e at which the therapeutic plasma concentration of the drug remains constant with the therapeutic window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the range between effective and toxic levels of drugs). Units are mg/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steady st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of drug administration = elimination ra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61b"/>
                </a:solidFill>
                <a:latin typeface="Garamond"/>
              </a:rPr>
              <a:t>Therapeutic wind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611280" y="1214280"/>
            <a:ext cx="8032680" cy="509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Steady state of a drug</a:t>
            </a:r>
            <a:r>
              <a:rPr b="0" lang="ar-SA" sz="3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457200" y="1125360"/>
            <a:ext cx="8229600" cy="532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13840" y="188640"/>
            <a:ext cx="864396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How many half-lives would be necessary to reach steady stat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teady state concentration is attained after 3-5 half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.g. Morp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Steady state leve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8429400" cy="505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42920" y="117360"/>
            <a:ext cx="8786880" cy="666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ading d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large initial dose that is given to achieve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rapid therapeutic plasma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administration of the drug,  the plasma concentration decreases due to distribution of drug to other t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oses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balances the drug distribu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important for drugs with long halv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89308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linical applications of Loading dose 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50560" y="1052640"/>
            <a:ext cx="87138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ading dose may be desirable if the time required to attain steady state of drug (4 elimination t1/2 values) is long and rapid relief is required in  the condition being tre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t1/2 of lidocaine (antiarrhythmic drug)  is usually 1-2 hour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rrhythmias after myocardial infarction are life-threatening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ne cannot wait 4-8 hours to achieve a therapeutic concentr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a loading dose of lidocaine in the coronary care unit is stand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42920" y="117360"/>
            <a:ext cx="8786880" cy="666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intenance d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doses required to  maintain the therapeutic level of the drug constant or the steady state of the dru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oses balance the amount of drug lost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during metabolism and clear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tient needs to take regular doses of a drug such a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oxicillin ( 500 mg) / 8 hours to maintain the therapeutic leve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drugs are readily excreted and poorly re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le drugs are reabsorbed back and excretion will be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drugs are best excreted in alkaline urine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dium bicarbon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drugs are best excreted in acidic urine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monium chlori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hepatic circulation prolongs half life of the dru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Routes of Excre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2560" y="1314000"/>
            <a:ext cx="867708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ain Routes of Excre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Excre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ary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or Routes of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vary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mmary excretion via mil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/ Dermal excretion via swe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QUESTION"/>
          <p:cNvPicPr/>
          <p:nvPr/>
        </p:nvPicPr>
        <p:blipFill>
          <a:blip r:embed="rId1"/>
          <a:stretch/>
        </p:blipFill>
        <p:spPr>
          <a:xfrm>
            <a:off x="5940360" y="981000"/>
            <a:ext cx="2376720" cy="4103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j0078711"/>
          <p:cNvPicPr/>
          <p:nvPr/>
        </p:nvPicPr>
        <p:blipFill>
          <a:blip r:embed="rId2"/>
          <a:stretch/>
        </p:blipFill>
        <p:spPr>
          <a:xfrm>
            <a:off x="1476360" y="1916280"/>
            <a:ext cx="2057400" cy="39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Ex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e of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unit of kidney is 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onsists o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 of Hen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ng 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23"/>
          <p:cNvPicPr/>
          <p:nvPr/>
        </p:nvPicPr>
        <p:blipFill>
          <a:blip r:embed="rId1"/>
          <a:stretch/>
        </p:blipFill>
        <p:spPr>
          <a:xfrm>
            <a:off x="71280" y="115920"/>
            <a:ext cx="8964720" cy="66690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89" name="Text Box 5"/>
          <p:cNvSpPr/>
          <p:nvPr/>
        </p:nvSpPr>
        <p:spPr>
          <a:xfrm>
            <a:off x="2050920" y="260280"/>
            <a:ext cx="482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611280" y="53737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d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nal Excretion inclu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principle processes that determine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ary excretion of drug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merular fil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tubular reabsorp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tubular se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751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6516720" y="3357720"/>
            <a:ext cx="1800360" cy="286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Glomerular filtration (GF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s upon renal blood flow (600 ml/mi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 20% of renal blood flow = 125 ml/m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merular filtration occur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ow molecular weight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500" spc="-1" strike="noStrike">
                <a:solidFill>
                  <a:srgbClr val="0000cc"/>
                </a:solidFill>
                <a:latin typeface="Arial"/>
              </a:rPr>
              <a:t>free drugs (unbound to plasma protein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re filter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605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ve tubular secreti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urs mainly in proximal tubules; increases drug concentration in 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anioni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cationic tranporter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te active secretion of anionic and cationic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ransport drug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gain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c. grad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 is an example of actively secreted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87156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9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stem for Acidic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cy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phonam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ransport of acidic drugs is blocked by probene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9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9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stem for Basic drug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op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n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stigm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Hanan Hagar</cp:lastModifiedBy>
  <dcterms:modified xsi:type="dcterms:W3CDTF">2014-10-15T07:46:02Z</dcterms:modified>
  <cp:revision>213</cp:revision>
  <dc:subject/>
  <dc:title>GENERAL PHARMACOLOGY</dc:title>
</cp:coreProperties>
</file>