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FA5-C43E-478C-A72D-FCF8C1182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694-7156-4E8D-A9DA-414888606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4B28-8FF4-4819-ADE4-0E14096B2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D384-9711-4369-AB5A-1F6F026EA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D046-86B5-48A7-B55D-DD35B1E0A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C2A4-A25B-4AE6-B412-523BCE80D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98A1-8FBC-45CC-8B98-C46901E09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9D4-E4E6-4CD4-A5E3-967C8B9B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0B1-1AF6-4FC1-97FD-EA5562D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108-C5AA-41F5-AD0C-0F1E112A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C9D-F529-4B2D-98E0-ACCF87BC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52B-8CB7-465A-9690-88CB1E8B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D053-CDD8-4AF9-8898-AAE2875F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ECA1-E37D-48E8-876E-F2A88A23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428E-77D6-487D-861E-306658FB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DADD-B705-4A2F-9D3B-00C91CED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2279-8FBD-4BDB-B93A-5C127E47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D4B-4840-4307-9B98-1510127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F21-98BB-4BF8-9742-9F8FCF4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DE5C-1D33-418F-AD20-10071BF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6237-BBFC-4634-8D49-6196718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CAE6-7E48-4662-BD8C-2555ABB7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885B-26F0-4AE9-8212-20304AE3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E3C1-D47F-446C-90E4-B0C4DFFD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A0FC5-6418-4EB0-B8B6-9E77DDEC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5FC64-D55B-43D7-9D0B-B7722169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C0CD4-5CE9-4952-9D38-433E8018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22913-8EAD-4382-A14C-EF376DD1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AA9CA-209A-4153-9919-2B23B487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723-E455-4828-93E1-B3D391C3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6D4E5-9C8A-4635-8249-1B9A2D20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D67C1-23DF-4C69-96F1-8ED91E58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76C3D-5FBF-4F5A-B1F6-3853265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0CD99-4F9B-4004-9118-F490833A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A09F6-1376-4F1A-BF67-9F680876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865B3-8FA9-43D1-9209-DEF66261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05703-1E5F-4AD6-BF7B-93173746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1FAF6-2217-4BBE-815E-B1A42734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B267D-FE5C-4F4A-9BD1-92E9541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3FC15-89E3-4121-8685-B07F6616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A2F-A71D-47E2-91D4-599EE9AA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1390D-E0CD-4C12-87A3-CB05D68C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F895D-B8BE-4D27-B558-25FF5302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C4726-45C2-4BEE-B5D0-EE85F5FF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180CB-D13E-42B2-88D3-90C415B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BD432-CB38-4631-9C68-D481060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0330C-312A-411B-A1FF-A0BD1B2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AF9D8-88D3-465F-AD0A-A6D940DC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5E5C8-05B8-4F9D-A433-328824D2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9A41C-360B-4D3A-B629-54FAA239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D8185-FA83-4788-AE53-DB5C68D8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2EA-1571-44B3-9EF2-5920F5AB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E476A-715C-4EE3-88DB-B82A22FE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E42CB-AF7A-4330-9218-0D947EBF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E1B76-A8F6-496F-BC00-AAC51E6A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80990-E6A8-49DD-AEC1-FD8AB431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A2A5B-AE39-49F5-B05E-038519F3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CB3DD-2ADA-4002-969C-41CD0C7B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D461A-2B03-42F2-98F5-49EC3EE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0F733-246F-4C92-B4CA-C023747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11C58-D668-4A95-912A-DC208808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8A692-0F7C-4F2E-BC6C-CFF29979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7D1-8264-4027-8FF5-B1DAF0E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57783-1F5E-4DD0-B39C-477F44F7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2EA0-CAEC-491A-954A-6E5E6BA7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6AB52-24AC-401F-AD1E-CB01FF11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94ABF-CAF0-46E7-83BF-B8604FCE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51CEA-AFA6-4DAA-B287-B0737364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82277-DBA6-48B3-BA0C-208AAF5E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D41D-2B98-4CA6-93E5-1F245A1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7465-7337-4F8E-A982-4BD8775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A0546-71D3-4712-8B9E-F4FAF17E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EC28-718D-41D2-8355-5E5FAAA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DA3-5EDC-4A00-B4F2-C227FD5F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4E2F9-B88A-41DD-B746-C821035A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60EC-D73D-4D90-8F91-F987209B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4BC5F-DA43-44EB-A132-2C6CE1AD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2329E-1C04-4688-830A-D90FDEDA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5639C-C0F5-4164-A46D-EBB10658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A4E26-A4E6-4886-8967-96E710B5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9C5A4-AEF5-4948-8C99-B8031C5D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B8B1C-2670-411C-A769-5A18E633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4B037-8699-44EF-8EDD-6323226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F2BEB-8C2E-4B52-BB15-F2F599A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293-90C2-4744-B82E-E8B6BB4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4653F-A8B0-4544-BB4C-8B973B9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68865-1316-4BBD-A96C-4B12C40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71F5A-B2B7-42EE-934F-FB0FB04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74EAF-A281-42C1-B07F-5D17EEA5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08547-5F25-419C-AA87-B738E242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44518-8CD3-454F-B130-907E167D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0A1D-1616-4283-8CEC-72586A9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F2174-D290-43A5-88BD-D9478FB3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F4A7-0323-4C47-B586-5596D73C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379C-1ADC-4593-8E20-BA7AF9A7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A0B-410E-47E4-A4CE-2D3E99E2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D138F-B4C7-46C3-B64B-2792121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FE755-7096-45E9-9AB9-2AA34DFE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8EF3-226B-4C3F-8E32-A529CDAE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5516-B307-4FDE-A85E-4C347CF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0355-5B7E-4DA8-A3E8-5233D153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E26D-1B89-4E58-98BE-51FE7796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D68A-42DF-450E-97DD-006D8AD3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596F-F6A2-4A15-BF53-7284120EEFB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9137-F12F-436B-ACF0-6E3E6CA5E82B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4492-EC43-4971-86FE-F1585519BC62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FC03-874F-4CC4-818F-D566D83ADA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E206-36A9-4893-8513-7FE527FD5F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DCD-2FF5-494D-B9A4-B408FB4215A9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9E79-0496-4D52-B94C-E497061743D4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B46B-3A3C-4CBC-AEAF-2BC141B087B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oogle.com/imgres?imgurl=http://img.dailymail.co.uk/i/pix/2007/09_02/waspDM0909_468x397.jpg&amp;imgrefurl=http://www.dailymail.co.uk/news/article-480887/Summers-sting-bizarre-weather-brought-wasps-vast-numbers.html&amp;usg=__qKw9xSaTjrciaiKHlTQ_f39W-Aw=&amp;h=397&amp;w=468&amp;sz=31&amp;hl=en&amp;start=36&amp;zoom=1&amp;itbs=1&amp;tbnid=Zv4eDWb3dbZqsM:&amp;tbnh=109&amp;tbnw=128&amp;prev=/images?q=wasps&amp;start=20&amp;hl=en&amp;safe=active&amp;sa=N&amp;gbv=2&amp;ndsp=20&amp;tbs=isch:1&amp;ei=4shYTengF4OUOvXi4YIF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Autocrine &amp;     Paracrin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Pharmacology   (Part 11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Prof. AZZA EL-MEDAN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http://www.india-shopping.net/india-ayurveda-products/image/fainting.gif"/>
          <p:cNvPicPr/>
          <p:nvPr/>
        </p:nvPicPr>
        <p:blipFill>
          <a:blip r:embed="rId1"/>
          <a:stretch/>
        </p:blipFill>
        <p:spPr>
          <a:xfrm>
            <a:off x="914400" y="3773520"/>
            <a:ext cx="5492880" cy="3889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Administrator\Pictures\AnAn.gif"/>
          <p:cNvPicPr/>
          <p:nvPr/>
        </p:nvPicPr>
        <p:blipFill>
          <a:blip r:embed="rId2"/>
          <a:srcRect l="1327" t="2165" r="8610" b="2707"/>
          <a:stretch/>
        </p:blipFill>
        <p:spPr>
          <a:xfrm>
            <a:off x="4038480" y="3429000"/>
            <a:ext cx="5181840" cy="3352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t2.gstatic.com/images?q=tbn:ANd9GcRLpdVHcIw3sUPWD5jEtjyA22IgxrsXlY1ug_rFbN_U8fWErnZYB_XZ99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133720"/>
            <a:ext cx="1521000" cy="1295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33520" y="152280"/>
            <a:ext cx="45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mechanism during allergic reactions [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gE anti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urface of mast cell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Tw Cen MT"/>
              </a:rPr>
              <a:t>Continue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zymes as trypsin or drugs as morphine or other chemicals can liberate histamine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ssue injury by trauma or bur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214200" y="1887480"/>
          <a:ext cx="7215480" cy="3854520"/>
        </p:xfrm>
        <a:graphic>
          <a:graphicData uri="http://schemas.openxmlformats.org/drawingml/2006/table">
            <a:tbl>
              <a:tblPr/>
              <a:tblGrid>
                <a:gridCol w="1357560"/>
                <a:gridCol w="2143080"/>
                <a:gridCol w="3714840"/>
              </a:tblGrid>
              <a:tr h="7052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Recept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Tissue Lo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Biologic Eff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mooth muscle, endotheli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 allergic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astric pariet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retion of gas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entral nervou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urotrans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</a:tr>
              <a:tr h="111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st cells, eosinophils, 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gulating immune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</a:tr>
            </a:tbl>
          </a:graphicData>
        </a:graphic>
      </p:graphicFrame>
      <p:sp>
        <p:nvSpPr>
          <p:cNvPr id="429" name="Down Arrow Callout 16"/>
          <p:cNvSpPr/>
          <p:nvPr/>
        </p:nvSpPr>
        <p:spPr>
          <a:xfrm>
            <a:off x="214200" y="500040"/>
            <a:ext cx="2909880" cy="1357200"/>
          </a:xfrm>
          <a:prstGeom prst="downArrowCallout">
            <a:avLst>
              <a:gd name="adj1" fmla="val 24996"/>
              <a:gd name="adj2" fmla="val 25004"/>
              <a:gd name="adj3" fmla="val 25000"/>
              <a:gd name="adj4" fmla="val 64977"/>
            </a:avLst>
          </a:prstGeom>
          <a:solidFill>
            <a:srgbClr val="000000"/>
          </a:solidFill>
          <a:ln w="38160">
            <a:solidFill>
              <a:srgbClr val="ffccff"/>
            </a:solidFill>
            <a:round/>
          </a:ln>
          <a:effectLst>
            <a:outerShdw dist="8892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istamine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w Cen MT"/>
              </a:rPr>
              <a:t>Adverse Effects Of Histam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ypotension, tachycardia, flush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eadache, visual disturbances, increase skin tempera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Bronchoconstriction, dyspnea, diarrh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5142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Histamine receptors antagonis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Group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4402080" cy="6235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5"/>
          <p:cNvSpPr/>
          <p:nvPr/>
        </p:nvSpPr>
        <p:spPr>
          <a:xfrm>
            <a:off x="314280" y="433440"/>
            <a:ext cx="3043440" cy="18003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henhydra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rst gene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642960" y="1473120"/>
            <a:ext cx="81439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Has a  Sedating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Clinical us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Allergic conditions : rhinitis, conjuctiv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Insomnia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Motion sick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0"/>
          <p:cNvSpPr/>
          <p:nvPr/>
        </p:nvSpPr>
        <p:spPr>
          <a:xfrm>
            <a:off x="6629400" y="685800"/>
            <a:ext cx="2038320" cy="87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 ( Blocke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Group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4407120" cy="62434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5"/>
          <p:cNvSpPr/>
          <p:nvPr/>
        </p:nvSpPr>
        <p:spPr>
          <a:xfrm>
            <a:off x="314280" y="433440"/>
            <a:ext cx="3043440" cy="13737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atadine  (Second 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10" descr=""/>
          <p:cNvPicPr/>
          <p:nvPr/>
        </p:nvPicPr>
        <p:blipFill>
          <a:blip r:embed="rId2"/>
          <a:stretch/>
        </p:blipFill>
        <p:spPr>
          <a:xfrm>
            <a:off x="480960" y="1468440"/>
            <a:ext cx="8309160" cy="51213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Group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4407120" cy="6243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meti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642960" y="1473120"/>
            <a:ext cx="814392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crease  gastric acid secre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Used in the treatment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peptic ulc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Group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4407120" cy="62434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AHI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642960" y="1473120"/>
            <a:ext cx="81439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Used in treatment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           </a:t>
            </a: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vertigo in middle 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3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14240" y="99072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w Cen MT"/>
              </a:rPr>
              <a:t>EICOSANOIDS</a:t>
            </a:r>
            <a:br>
              <a:rPr sz="5400"/>
            </a:b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7" descr=""/>
          <p:cNvPicPr/>
          <p:nvPr/>
        </p:nvPicPr>
        <p:blipFill>
          <a:blip r:embed="rId1"/>
          <a:stretch/>
        </p:blipFill>
        <p:spPr>
          <a:xfrm>
            <a:off x="979560" y="4267080"/>
            <a:ext cx="69231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 the end of lecture the Students should be able t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y storage sites of histam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lain the synthesis, release &amp; inactivation of histam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st histamine receptors regardi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ype, major location, major biologic effe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lain the clinical uses of histamine receptors antagonis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INHIBITORS OF EICOSANOI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14"/>
          <p:cNvGrpSpPr/>
          <p:nvPr/>
        </p:nvGrpSpPr>
        <p:grpSpPr>
          <a:xfrm>
            <a:off x="655560" y="457200"/>
            <a:ext cx="7693200" cy="6129000"/>
            <a:chOff x="655560" y="457200"/>
            <a:chExt cx="7693200" cy="6129000"/>
          </a:xfrm>
        </p:grpSpPr>
        <p:sp>
          <p:nvSpPr>
            <p:cNvPr id="455" name="Text Box 2"/>
            <p:cNvSpPr/>
            <p:nvPr/>
          </p:nvSpPr>
          <p:spPr>
            <a:xfrm>
              <a:off x="3124080" y="45720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Phospholip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"/>
            <p:cNvSpPr/>
            <p:nvPr/>
          </p:nvSpPr>
          <p:spPr>
            <a:xfrm>
              <a:off x="4122000" y="990360"/>
              <a:ext cx="277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</a:rPr>
                <a:t>Phospholipase</a:t>
              </a:r>
              <a:r>
                <a:rPr b="1" lang="en-US" sz="2400" spc="-1" strike="noStrike">
                  <a:solidFill>
                    <a:srgbClr val="ff0000"/>
                  </a:solidFill>
                  <a:latin typeface="Berlin Sans FB Demi"/>
                </a:rPr>
                <a:t> 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Berlin Sans FB Dem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3098880" y="1665360"/>
              <a:ext cx="31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Arachid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3932280" y="8380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4465800" y="3810240"/>
              <a:ext cx="3809880" cy="94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Prostaglandin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4618080" y="5639040"/>
              <a:ext cx="3346560" cy="947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Thromboxane (TXA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4574520" y="4953240"/>
              <a:ext cx="2440800" cy="520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Berlin Sans FB Demi"/>
                </a:rPr>
                <a:t>Prostacycli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>
              <a:off x="2331360" y="2209680"/>
              <a:ext cx="15238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2"/>
            <p:cNvSpPr/>
            <p:nvPr/>
          </p:nvSpPr>
          <p:spPr>
            <a:xfrm>
              <a:off x="5654880" y="304812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</a:rPr>
                <a:t>Cyclooxygen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3"/>
            <p:cNvSpPr/>
            <p:nvPr/>
          </p:nvSpPr>
          <p:spPr>
            <a:xfrm>
              <a:off x="655560" y="388620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Leukotrie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4618080" y="213372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700560" y="2590920"/>
              <a:ext cx="22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</a:rPr>
                <a:t>Lipoxygen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Box 16"/>
          <p:cNvSpPr/>
          <p:nvPr/>
        </p:nvSpPr>
        <p:spPr>
          <a:xfrm>
            <a:off x="228600" y="228600"/>
            <a:ext cx="1752480" cy="7034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erlin Sans FB Demi"/>
              </a:rPr>
              <a:t>Dru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7"/>
          <p:cNvSpPr/>
          <p:nvPr/>
        </p:nvSpPr>
        <p:spPr>
          <a:xfrm>
            <a:off x="5791320" y="2438280"/>
            <a:ext cx="19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</a:rPr>
              <a:t>NS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8"/>
          <p:cNvSpPr/>
          <p:nvPr/>
        </p:nvSpPr>
        <p:spPr>
          <a:xfrm>
            <a:off x="395280" y="99072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</a:rPr>
              <a:t>Corticoster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9"/>
          <p:cNvSpPr/>
          <p:nvPr/>
        </p:nvSpPr>
        <p:spPr>
          <a:xfrm>
            <a:off x="513000" y="19810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</a:rPr>
              <a:t>Zileu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21"/>
          <p:cNvSpPr/>
          <p:nvPr/>
        </p:nvSpPr>
        <p:spPr>
          <a:xfrm>
            <a:off x="3505320" y="1219320"/>
            <a:ext cx="855720" cy="187200"/>
          </a:xfrm>
          <a:prstGeom prst="pie">
            <a:avLst/>
          </a:prstGeom>
          <a:noFill/>
          <a:ln w="7632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7"/>
          <p:cNvSpPr/>
          <p:nvPr/>
        </p:nvSpPr>
        <p:spPr>
          <a:xfrm>
            <a:off x="1943280" y="2319480"/>
            <a:ext cx="941040" cy="395280"/>
          </a:xfrm>
          <a:prstGeom prst="pie">
            <a:avLst/>
          </a:prstGeom>
          <a:noFill/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Prostanoids &amp; Leukotrienes Antagonis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Aspiri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NSA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hibits cyclooxygenase enzymes ( COX1 &amp; COX2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, inhibits synthesis of PGD &amp; thromboxane A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as Anti-inflammatory &amp; Antiplate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Zafirlukast   /     Zileut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hibit lipooxygenase enzy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hibits synthesis of leukotrien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mainly in treatment of bronchial asth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Comparison in actions  between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Prostaglandi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romboxane A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Vascular smooth muscle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952880" y="396252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tent vasoconstrictor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Prostaglandi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Tw Cen MT"/>
                <a:ea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Thromboxane A</a:t>
            </a:r>
            <a:r>
              <a:rPr b="1" lang="en-US" sz="3200" spc="-1" strike="noStrike" baseline="-25000">
                <a:solidFill>
                  <a:srgbClr val="7030a0"/>
                </a:solidFill>
                <a:latin typeface="Tw Cen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200400" cy="1454040"/>
          </a:xfrm>
          <a:prstGeom prst="rect">
            <a:avLst/>
          </a:prstGeom>
          <a:ln w="0">
            <a:noFill/>
          </a:ln>
        </p:spPr>
      </p:pic>
      <p:sp>
        <p:nvSpPr>
          <p:cNvPr id="482" name="Content Placeholder 3"/>
          <p:cNvSpPr/>
          <p:nvPr/>
        </p:nvSpPr>
        <p:spPr>
          <a:xfrm>
            <a:off x="533520" y="41148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tent vasodilator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2710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Blood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75248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Prostaglandins</a:t>
            </a:r>
            <a:r>
              <a:rPr b="0" lang="en-US" sz="2900" spc="-1" strike="noStrike">
                <a:solidFill>
                  <a:srgbClr val="00b0f0"/>
                </a:solidFill>
                <a:latin typeface="Berlin Sans FB Dem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erlin Sans FB Demi"/>
              </a:rPr>
              <a:t>inhibit platelet aggreg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905200" y="244440"/>
            <a:ext cx="5705280" cy="4498920"/>
          </a:xfrm>
          <a:prstGeom prst="rect">
            <a:avLst/>
          </a:prstGeom>
          <a:ln w="0">
            <a:noFill/>
          </a:ln>
        </p:spPr>
      </p:pic>
      <p:sp>
        <p:nvSpPr>
          <p:cNvPr id="487" name="TextBox 4"/>
          <p:cNvSpPr/>
          <p:nvPr/>
        </p:nvSpPr>
        <p:spPr>
          <a:xfrm>
            <a:off x="228600" y="1600200"/>
            <a:ext cx="274320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TXA2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 potent inducer of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latelet aggregation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62120" y="2971800"/>
            <a:ext cx="7122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Both play important role  in inflammatory reactions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Inflammation</a:t>
            </a: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3160" y="4571640"/>
            <a:ext cx="7391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romboxa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              (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bronchoconstriction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)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Bronchial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914400" cy="120348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533520" y="2666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glandins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95b22"/>
                </a:solidFill>
                <a:latin typeface="Arial"/>
              </a:rPr>
              <a:t>bronchorelaxation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terine smooth muscl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533520" y="3691800"/>
            <a:ext cx="8229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Prostaglandins ( PGE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), derived from membrane lipid in the endometrium   increase uterine contractions 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→  Dysmenorrhea/ Labor contra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657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inu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cribe the synthesi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ify drugs that inhibit synthesi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umerate the pharmacological action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umerate the clinical uses of PGs analog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120" y="2895480"/>
            <a:ext cx="712332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Prostaglandins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GIT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790800" cy="2952720"/>
          </a:xfrm>
          <a:prstGeom prst="rect">
            <a:avLst/>
          </a:prstGeom>
          <a:ln w="0">
            <a:noFill/>
          </a:ln>
        </p:spPr>
      </p:pic>
      <p:sp>
        <p:nvSpPr>
          <p:cNvPr id="502" name="TextBox 5"/>
          <p:cNvSpPr/>
          <p:nvPr/>
        </p:nvSpPr>
        <p:spPr>
          <a:xfrm>
            <a:off x="1004400" y="464832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G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mot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GIT secretion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Prostaglandins (E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w Cen MT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↓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</a:rPr>
              <a:t>acid  secre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</a:rPr>
              <a:t>Mucin secre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181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46479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Prostaglandins 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increase  renal bl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low and diuresi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w Cen MT"/>
              </a:rPr>
              <a:t>Kiden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657680" y="1752480"/>
            <a:ext cx="427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Central and peripheral nervous syst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272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ever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009960" cy="3467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4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Clinical uses of prostaglandins  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Analo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(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ynthetic prostaglandins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8479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w Cen MT"/>
              </a:rPr>
              <a:t>Carboprost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0" y="1752480"/>
            <a:ext cx="845820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duce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medical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abortion in  first trimest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6"/>
          <p:cNvSpPr/>
          <p:nvPr/>
        </p:nvSpPr>
        <p:spPr>
          <a:xfrm>
            <a:off x="228600" y="3657600"/>
            <a:ext cx="8458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Tw Cen MT"/>
                <a:ea typeface="Arial"/>
              </a:rPr>
              <a:t>2) Treatment of 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  <a:ea typeface="Arial"/>
              </a:rPr>
              <a:t>postpartum haemorrhage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(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vasoconstriction +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uterine muscle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ontraction)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7656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eye drops /in treatment of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open angle glaucoma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ill Sans Ultra Bold"/>
              </a:rPr>
              <a:t>(↓</a:t>
            </a:r>
            <a:r>
              <a:rPr b="1" lang="en-US" sz="2800" spc="-1" strike="noStrike">
                <a:solidFill>
                  <a:srgbClr val="002060"/>
                </a:solidFill>
                <a:latin typeface="JansonText-Roman"/>
              </a:rPr>
              <a:t> IOP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by enhancing outflow of the aqueous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humar</a:t>
            </a:r>
            <a:r>
              <a:rPr b="0" lang="en-US" sz="2800" spc="-1" strike="noStrike">
                <a:solidFill>
                  <a:srgbClr val="002060"/>
                </a:solidFill>
                <a:latin typeface="Tw Cen M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Latanopro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743720" cy="3429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2"/>
          <p:cNvSpPr/>
          <p:nvPr/>
        </p:nvSpPr>
        <p:spPr>
          <a:xfrm rot="20152200">
            <a:off x="5128920" y="2741400"/>
            <a:ext cx="1220760" cy="209520"/>
          </a:xfrm>
          <a:prstGeom prst="rect">
            <a:avLst/>
          </a:prstGeom>
          <a:solidFill>
            <a:srgbClr val="b0c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w Cen MT"/>
              </a:rPr>
              <a:t>Misoprostol</a:t>
            </a:r>
            <a:br>
              <a:rPr sz="4800"/>
            </a:br>
            <a:r>
              <a:rPr b="1" lang="en-US" sz="4800" spc="-1" strike="noStrike">
                <a:solidFill>
                  <a:srgbClr val="7030a0"/>
                </a:solidFill>
                <a:latin typeface="Tw Cen MT"/>
              </a:rPr>
              <a:t>(analog PGE1)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2438280"/>
            <a:ext cx="7391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iven along with non-steroidal anti-inflammatory drugs to reduce the incidence of peptic ulcer and its manifestation as heartburn &amp; gastric pai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w Cen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Picture 13" descr=""/>
          <p:cNvPicPr/>
          <p:nvPr/>
        </p:nvPicPr>
        <p:blipFill>
          <a:blip r:embed="rId1"/>
          <a:stretch/>
        </p:blipFill>
        <p:spPr>
          <a:xfrm>
            <a:off x="6400800" y="0"/>
            <a:ext cx="257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w Cen MT"/>
              </a:rPr>
              <a:t>Thank you</a:t>
            </a: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CLASSIFICATION  OF MEDIATO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609480" y="1981080"/>
            <a:ext cx="8000640" cy="4419000"/>
            <a:chOff x="609480" y="1981080"/>
            <a:chExt cx="8000640" cy="4419000"/>
          </a:xfrm>
        </p:grpSpPr>
        <p:sp>
          <p:nvSpPr>
            <p:cNvPr id="365" name="Text Box 3"/>
            <p:cNvSpPr/>
            <p:nvPr/>
          </p:nvSpPr>
          <p:spPr>
            <a:xfrm>
              <a:off x="609480" y="5029200"/>
              <a:ext cx="2019240" cy="131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ONOAM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Histam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rotonin …et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4"/>
            <p:cNvGrpSpPr/>
            <p:nvPr/>
          </p:nvGrpSpPr>
          <p:grpSpPr>
            <a:xfrm>
              <a:off x="5086440" y="1989360"/>
              <a:ext cx="1908000" cy="4410720"/>
              <a:chOff x="5086440" y="1989360"/>
              <a:chExt cx="1908000" cy="4410720"/>
            </a:xfrm>
          </p:grpSpPr>
          <p:sp>
            <p:nvSpPr>
              <p:cNvPr id="367" name="Text Box 5"/>
              <p:cNvSpPr/>
              <p:nvPr/>
            </p:nvSpPr>
            <p:spPr>
              <a:xfrm>
                <a:off x="5086440" y="2708640"/>
                <a:ext cx="1908000" cy="3691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EPTID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 Narrow"/>
                  </a:rPr>
                  <a:t>Contractants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Angiotensin Endothel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P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Vasopress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 Narrow"/>
                  </a:rPr>
                  <a:t>Relaxants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Kinin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AN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Tachykinins [SP]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VI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6"/>
              <p:cNvSpPr/>
              <p:nvPr/>
            </p:nvSpPr>
            <p:spPr>
              <a:xfrm>
                <a:off x="5930280" y="1989360"/>
                <a:ext cx="0" cy="65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Text Box 7"/>
            <p:cNvSpPr/>
            <p:nvPr/>
          </p:nvSpPr>
          <p:spPr>
            <a:xfrm>
              <a:off x="1340640" y="2673360"/>
              <a:ext cx="2257200" cy="1976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Calibri"/>
                </a:rPr>
                <a:t>EICOSANOI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rostanoi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Prostagland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Thromboxane A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ukotrie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244960" y="2005200"/>
              <a:ext cx="0" cy="62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9"/>
            <p:cNvSpPr/>
            <p:nvPr/>
          </p:nvSpPr>
          <p:spPr>
            <a:xfrm>
              <a:off x="3158280" y="5061960"/>
              <a:ext cx="1686960" cy="13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PUR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TP / A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denos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937080" y="1989360"/>
              <a:ext cx="0" cy="28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1"/>
            <p:cNvGrpSpPr/>
            <p:nvPr/>
          </p:nvGrpSpPr>
          <p:grpSpPr>
            <a:xfrm>
              <a:off x="4174560" y="2019960"/>
              <a:ext cx="711000" cy="2409120"/>
              <a:chOff x="4174560" y="2019960"/>
              <a:chExt cx="711000" cy="2409120"/>
            </a:xfrm>
          </p:grpSpPr>
          <p:sp>
            <p:nvSpPr>
              <p:cNvPr id="374" name="Text Box 12"/>
              <p:cNvSpPr/>
              <p:nvPr/>
            </p:nvSpPr>
            <p:spPr>
              <a:xfrm>
                <a:off x="4174560" y="3816000"/>
                <a:ext cx="711000" cy="613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481640" y="2019960"/>
                <a:ext cx="0" cy="177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14"/>
            <p:cNvSpPr/>
            <p:nvPr/>
          </p:nvSpPr>
          <p:spPr>
            <a:xfrm>
              <a:off x="7196760" y="2628360"/>
              <a:ext cx="1413360" cy="223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OTH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ytok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hemok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Growth Facto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.et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7798320" y="2001600"/>
              <a:ext cx="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3966120" y="2029320"/>
              <a:ext cx="0" cy="280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937080" y="1981080"/>
              <a:ext cx="68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5"/>
          <p:cNvSpPr/>
          <p:nvPr/>
        </p:nvSpPr>
        <p:spPr>
          <a:xfrm>
            <a:off x="428760" y="428760"/>
            <a:ext cx="1857240" cy="100620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ista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6"/>
          <p:cNvGrpSpPr/>
          <p:nvPr/>
        </p:nvGrpSpPr>
        <p:grpSpPr>
          <a:xfrm>
            <a:off x="428760" y="1000080"/>
            <a:ext cx="2643120" cy="1447200"/>
            <a:chOff x="428760" y="1000080"/>
            <a:chExt cx="2643120" cy="1447200"/>
          </a:xfrm>
        </p:grpSpPr>
        <p:sp>
          <p:nvSpPr>
            <p:cNvPr id="382" name="TextBox 7"/>
            <p:cNvSpPr/>
            <p:nvPr/>
          </p:nvSpPr>
          <p:spPr>
            <a:xfrm>
              <a:off x="500040" y="1500120"/>
              <a:ext cx="2571840" cy="947160"/>
            </a:xfrm>
            <a:prstGeom prst="rect">
              <a:avLst/>
            </a:prstGeom>
            <a:solidFill>
              <a:srgbClr val="2e31b8"/>
            </a:solidFill>
            <a:ln w="28440">
              <a:solidFill>
                <a:srgbClr val="6600ff"/>
              </a:solidFill>
              <a:miter/>
            </a:ln>
            <a:effectLst>
              <a:outerShdw dist="50760" dir="5400000" blurRad="0" rotWithShape="0">
                <a:srgbClr val="66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nard MT Condensed"/>
                </a:rPr>
                <a:t>Neurotransmi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Down Arrow 15"/>
            <p:cNvSpPr/>
            <p:nvPr/>
          </p:nvSpPr>
          <p:spPr>
            <a:xfrm>
              <a:off x="428760" y="1000080"/>
              <a:ext cx="571320" cy="5004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Box 10"/>
          <p:cNvSpPr/>
          <p:nvPr/>
        </p:nvSpPr>
        <p:spPr>
          <a:xfrm>
            <a:off x="457200" y="2209680"/>
            <a:ext cx="2514600" cy="13737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Allergic &amp; Inflammatory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533520" y="3962520"/>
            <a:ext cx="2438280" cy="9471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Gastric acid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torage Si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94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Tw Cen MT"/>
              </a:rPr>
              <a:t>Biosynthesis</a:t>
            </a:r>
            <a:r>
              <a:rPr b="1" lang="en-US" sz="48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9" name="صورة 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acti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"/>
          <p:cNvGrpSpPr/>
          <p:nvPr/>
        </p:nvGrpSpPr>
        <p:grpSpPr>
          <a:xfrm>
            <a:off x="609480" y="1600200"/>
            <a:ext cx="6782040" cy="4191120"/>
            <a:chOff x="609480" y="1600200"/>
            <a:chExt cx="6782040" cy="4191120"/>
          </a:xfrm>
        </p:grpSpPr>
        <p:sp>
          <p:nvSpPr>
            <p:cNvPr id="393" name="Line 8"/>
            <p:cNvSpPr/>
            <p:nvPr/>
          </p:nvSpPr>
          <p:spPr>
            <a:xfrm>
              <a:off x="1534680" y="221256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>
              <a:off x="1534680" y="400572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6"/>
            <p:cNvSpPr/>
            <p:nvPr/>
          </p:nvSpPr>
          <p:spPr>
            <a:xfrm>
              <a:off x="914040" y="16002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Histam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5"/>
            <p:cNvSpPr/>
            <p:nvPr/>
          </p:nvSpPr>
          <p:spPr>
            <a:xfrm>
              <a:off x="609480" y="34650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histamine </a:t>
              </a:r>
              <a:r>
                <a:rPr b="0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(Oxidation)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609480" y="525456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imidazole acetic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3"/>
            <p:cNvSpPr/>
            <p:nvPr/>
          </p:nvSpPr>
          <p:spPr>
            <a:xfrm>
              <a:off x="1524600" y="2514240"/>
              <a:ext cx="462672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Imidazole N-methyltransfer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"/>
            <p:cNvSpPr/>
            <p:nvPr/>
          </p:nvSpPr>
          <p:spPr>
            <a:xfrm>
              <a:off x="1572120" y="4303800"/>
              <a:ext cx="25434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Diamine oxid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C:\Users\Administrator\AppData\Local\Microsoft\Windows\Temporary Internet Files\Content.IE5\26HYVZA7\ch14f4[1].jpg"/>
          <p:cNvPicPr/>
          <p:nvPr/>
        </p:nvPicPr>
        <p:blipFill>
          <a:blip r:embed="rId1"/>
          <a:srcRect l="14694" t="2003" r="3263" b="2003"/>
          <a:stretch/>
        </p:blipFill>
        <p:spPr>
          <a:xfrm>
            <a:off x="1676520" y="1447920"/>
            <a:ext cx="7180200" cy="51433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9"/>
          <p:cNvSpPr/>
          <p:nvPr/>
        </p:nvSpPr>
        <p:spPr>
          <a:xfrm>
            <a:off x="6286680" y="471492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6286680" y="42004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1"/>
          <p:cNvSpPr/>
          <p:nvPr/>
        </p:nvSpPr>
        <p:spPr>
          <a:xfrm>
            <a:off x="2666880" y="56386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4"/>
          <p:cNvGrpSpPr/>
          <p:nvPr/>
        </p:nvGrpSpPr>
        <p:grpSpPr>
          <a:xfrm>
            <a:off x="3809880" y="5638680"/>
            <a:ext cx="357480" cy="428760"/>
            <a:chOff x="3809880" y="5638680"/>
            <a:chExt cx="357480" cy="428760"/>
          </a:xfrm>
        </p:grpSpPr>
        <p:sp>
          <p:nvSpPr>
            <p:cNvPr id="405" name="Oval 30"/>
            <p:cNvSpPr/>
            <p:nvPr/>
          </p:nvSpPr>
          <p:spPr>
            <a:xfrm>
              <a:off x="3809880" y="5638680"/>
              <a:ext cx="357480" cy="42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32"/>
            <p:cNvSpPr/>
            <p:nvPr/>
          </p:nvSpPr>
          <p:spPr>
            <a:xfrm>
              <a:off x="3894840" y="5852880"/>
              <a:ext cx="214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Box 38"/>
          <p:cNvSpPr/>
          <p:nvPr/>
        </p:nvSpPr>
        <p:spPr>
          <a:xfrm>
            <a:off x="6286680" y="522936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9"/>
          <p:cNvSpPr/>
          <p:nvPr/>
        </p:nvSpPr>
        <p:spPr>
          <a:xfrm>
            <a:off x="6643800" y="5429160"/>
            <a:ext cx="3571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40"/>
          <p:cNvSpPr/>
          <p:nvPr/>
        </p:nvSpPr>
        <p:spPr>
          <a:xfrm>
            <a:off x="6643800" y="485784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1"/>
          <p:cNvSpPr/>
          <p:nvPr/>
        </p:nvSpPr>
        <p:spPr>
          <a:xfrm>
            <a:off x="6643800" y="435780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2"/>
          <p:cNvSpPr/>
          <p:nvPr/>
        </p:nvSpPr>
        <p:spPr>
          <a:xfrm>
            <a:off x="4572000" y="4429080"/>
            <a:ext cx="785880" cy="928800"/>
          </a:xfrm>
          <a:prstGeom prst="ellipse">
            <a:avLst/>
          </a:prstGeom>
          <a:noFill/>
          <a:ln w="57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43"/>
          <p:cNvSpPr/>
          <p:nvPr/>
        </p:nvSpPr>
        <p:spPr>
          <a:xfrm>
            <a:off x="4498920" y="4357800"/>
            <a:ext cx="928800" cy="106524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48"/>
          <p:cNvGrpSpPr/>
          <p:nvPr/>
        </p:nvGrpSpPr>
        <p:grpSpPr>
          <a:xfrm>
            <a:off x="7786800" y="4071960"/>
            <a:ext cx="1143000" cy="1785960"/>
            <a:chOff x="7786800" y="4071960"/>
            <a:chExt cx="1143000" cy="1785960"/>
          </a:xfrm>
        </p:grpSpPr>
        <p:pic>
          <p:nvPicPr>
            <p:cNvPr id="414" name="Picture 2" descr="2009_1"/>
            <p:cNvPicPr/>
            <p:nvPr/>
          </p:nvPicPr>
          <p:blipFill>
            <a:blip r:embed="rId2"/>
            <a:srcRect l="4999" t="21227" r="65010" b="19812"/>
            <a:stretch/>
          </p:blipFill>
          <p:spPr>
            <a:xfrm>
              <a:off x="7786800" y="4071960"/>
              <a:ext cx="11430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Box 47"/>
            <p:cNvSpPr/>
            <p:nvPr/>
          </p:nvSpPr>
          <p:spPr>
            <a:xfrm>
              <a:off x="8143920" y="5029200"/>
              <a:ext cx="500040" cy="745560"/>
            </a:xfrm>
            <a:prstGeom prst="rect">
              <a:avLst/>
            </a:prstGeom>
            <a:solidFill>
              <a:srgbClr val="0033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H 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2" descr="2009_1"/>
          <p:cNvPicPr/>
          <p:nvPr/>
        </p:nvPicPr>
        <p:blipFill>
          <a:blip r:embed="rId3"/>
          <a:stretch/>
        </p:blipFill>
        <p:spPr>
          <a:xfrm>
            <a:off x="6924600" y="3279600"/>
            <a:ext cx="1365480" cy="1371600"/>
          </a:xfrm>
          <a:prstGeom prst="rect">
            <a:avLst/>
          </a:prstGeom>
          <a:ln w="0">
            <a:noFill/>
          </a:ln>
        </p:spPr>
      </p:pic>
      <p:cxnSp>
        <p:nvCxnSpPr>
          <p:cNvPr id="417" name="Straight Arrow Connector 51"/>
          <p:cNvCxnSpPr/>
          <p:nvPr/>
        </p:nvCxnSpPr>
        <p:spPr>
          <a:xfrm flipV="1">
            <a:off x="5300640" y="4885920"/>
            <a:ext cx="558000" cy="4536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18" name="Arc 53"/>
          <p:cNvSpPr/>
          <p:nvPr/>
        </p:nvSpPr>
        <p:spPr>
          <a:xfrm flipV="1">
            <a:off x="4186080" y="4929120"/>
            <a:ext cx="857520" cy="9288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Arrow Connector 55"/>
          <p:cNvCxnSpPr>
            <a:stCxn id="418" idx="3"/>
          </p:cNvCxnSpPr>
          <p:nvPr/>
        </p:nvCxnSpPr>
        <p:spPr>
          <a:xfrm flipH="1">
            <a:off x="4043160" y="5856840"/>
            <a:ext cx="551520" cy="108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20" name="TextBox 60"/>
          <p:cNvSpPr/>
          <p:nvPr/>
        </p:nvSpPr>
        <p:spPr>
          <a:xfrm>
            <a:off x="150012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ve presynaptic auto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5:12Z</dcterms:created>
  <dc:creator>Cheryl Tajon</dc:creator>
  <dc:description/>
  <dc:language>en-US</dc:language>
  <cp:lastModifiedBy>aalmedany</cp:lastModifiedBy>
  <dcterms:modified xsi:type="dcterms:W3CDTF">2014-11-03T05:21:13Z</dcterms:modified>
  <cp:revision>222</cp:revision>
  <dc:subject/>
  <dc:title>Nonsteroidal Antiinflammatory Drugs (NSAIDs)</dc:title>
</cp:coreProperties>
</file>