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8.jpeg" ContentType="image/jpeg"/>
  <Override PartName="/ppt/media/image1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A99E-CF77-4320-9ACF-EE98F76D6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517A-AB73-45CC-A5AD-9D79FD4A7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093E-16B8-4325-9866-2A647D88D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C09E-A486-4990-9ED0-32738A89B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ED32-C8C0-4C0F-A4B8-703BDDA2BF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0CA0-993E-481D-9BA2-C6F847977F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3C9F-B4FB-4347-B32B-7C3813163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7DB-469F-48BE-8319-9F2379B2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36DD-DE35-4D76-B524-B292717E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E6E-4439-4655-BD7B-FE84BD53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F91-F839-43FB-A8AA-ED0121D0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1FAB-BDF0-413A-A51A-38346BD5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91AE-F3AA-477C-83C5-EE599F03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DE4C-01AD-4889-8658-AC896463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3C9E-19AF-46ED-AA54-DE0BE95C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A0F65-FFEB-4344-9CC5-C4873B62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BF95-DDFA-4E28-904E-E7D2D5B2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8C3D-F942-4DC3-B774-23EA62D4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D30-372A-40FA-BE84-E671F272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9CC6-DAFA-4F51-BBFF-9C6C0D9D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C5D2-2008-4F10-8EE0-83528EB2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E877-6423-4C08-8E49-0E2E94F3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DD04-B7F0-4A98-A20C-36615108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DA59-5160-4ADA-8990-7F7A7224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1AC79-F4A8-476E-9FE8-0CA15A20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9F9E7-3079-46E3-8299-03168D37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6E3BF-98F7-4566-94C7-E2243AE6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17939-2E9C-4B49-9C18-92022555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200A3-99E3-4483-995D-8D7DB2B0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6DBB-F2F8-45FF-9160-86486762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052E0-32BF-40AD-B2B0-2ED6CB69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BA448-08AD-4FB9-A680-3E62928A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5F03A-F8E4-4D91-922A-3BA57968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93A61-7214-4164-9E37-9F8909AC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33F6C-5C97-4C32-83A2-EF925EC8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7C510-A1D7-4552-B9EB-13BFEEB9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0BE5C-7A26-43C3-BCA9-BBE346D8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7EC57-33A3-43D7-8B1A-90F60211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5A3A4F-AE95-40B2-BD2F-B89465C8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D15E2-3DEB-484A-AA08-E451361D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0D7D-F2FC-416C-A68D-D5CF3A67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106E4D-0CA7-4D83-A68B-77AD73C4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781D51-7AA5-484F-A162-FFB25EF7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735F8-3E20-48E1-BE26-BF83CEAB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98F7E6-8857-43AA-B15F-7BD9F647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D0236-AE89-4893-AFA1-206B743F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74B844-6814-4D1B-87E7-D3FFDD98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A5875-38B1-476B-9FEC-C5064C56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52207C-C7C0-42B7-974F-234207EB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F8462-C9AC-4690-9FCC-C68FF7C3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CD306-9D2D-42F3-B95D-B28CED90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52A-4042-43C9-9F39-5520D0E1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231E1-6666-46BF-B267-007446E4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9B046-67BB-41ED-BBD1-808E20170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19026-82EA-49D3-B0CD-6A737E36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EABDCE-35CE-4DDD-A44A-531D11B1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993F03-9018-4407-A1E4-E347A232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3E921-3887-499F-A014-42946CB9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46F27D-92E6-4F6E-8C49-6B328068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64390E-02FA-4842-94EC-D222E82E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242A1-6816-43EF-AF65-4E7CE98D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749B97-80C3-4CAE-A45B-D477198E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AB1-5C90-41C1-906E-45F05A5C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E5FB67-A092-4268-8648-88EBFC64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6FA89-81FB-4552-9584-E635E21E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D7A2C-D795-4F8C-9F21-6CE2FA85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3BA5F-81D6-4155-8AB7-B54F9A21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3D2E3-F8B2-4940-BFB4-0B410592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A2050-004E-4558-AE49-3985D267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E601B-AA0E-4C05-9E68-38B393A7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F78E4-7095-44DE-AB2A-2D9E6916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09D2F-1A3D-43B8-80A1-FE88C121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1F3D4-A034-4697-AD6D-FEF25F88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6ED-B770-42D8-9603-8873EEF4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CB882-F292-40F2-9FB4-F9784350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F7826-BA1C-4976-B9EE-E582522E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EB32F-BF91-4026-AF02-94792F2E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82A5FF-19A2-4D63-B983-4B08223D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E600D7-20C4-4F63-82B1-0B7D89E2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72AEAE-FB00-472B-9325-AC0E2D4B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EBFD4-D700-4EE9-90CA-8AAB7D3C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D739ED-0782-4340-B689-84EB0985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AC9BA9-7D0E-4412-B55E-4D162BFC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7C9572-01A8-4AFC-A868-0EA09115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4BCF-8D5C-47CD-8245-A9031C86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33DA0-AD81-4BAB-BE6A-0DB57A98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988141-6F9E-4B05-BFD0-9BCF0338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806D73-55DC-4D20-813C-DD2A507D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C505D-D3CC-42E4-846F-6F704FC5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D3B734-4599-4C88-AE08-2BB5571F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8464B-FEDD-4B96-B2C5-864D599B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A8BBF-98C7-45EF-895E-D72EC126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E3562-6762-42E1-98AE-A836D209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DBAB0-E7E7-4340-8286-D6046D4E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B3865-FB3B-43E6-B11D-3869A4B2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3BE-82D1-4EB6-B724-85A9FCBB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42656-53DD-43A6-9456-90C8158E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7CC43-7B5A-40E9-B7F4-5E43D8A6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9D063-3A3A-425D-A58E-2F1A0021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EB679-352C-4DAC-8291-3EA597D3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BCA68-26F9-4122-A096-626EE3A4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E422E-5CFB-4313-B975-6BC58D7D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44BCA-30B1-45DF-857D-C3A13B26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5B11-CB7F-404C-B431-E4772EE533F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78C1-A24C-447D-B9C0-603D97C8AF3E}" type="slidenum">
              <a:rPr b="1" lang="en-US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04E5-0389-443F-B736-B3E373028C68}" type="slidenum">
              <a:rPr b="1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9DA1-6BEB-4945-8D7E-FB835156DE8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2D4A-D3D8-499A-A3B9-F51603E8E8E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1F20-1CDA-46C0-B0E6-BB45D9485C2E}" type="slidenum">
              <a:rPr b="1" lang="en-US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7F0A-510B-419B-8D1B-36BC0CE70C3B}" type="slidenum">
              <a:rPr b="1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FC83-F018-44E4-8DD8-58920DDD3B7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google.com/imgres?imgurl=http://img.dailymail.co.uk/i/pix/2007/09_02/waspDM0909_468x397.jpg&amp;imgrefurl=http://www.dailymail.co.uk/news/article-480887/Summers-sting-bizarre-weather-brought-wasps-vast-numbers.html&amp;usg=__qKw9xSaTjrciaiKHlTQ_f39W-Aw=&amp;h=397&amp;w=468&amp;sz=31&amp;hl=en&amp;start=36&amp;zoom=1&amp;itbs=1&amp;tbnid=Zv4eDWb3dbZqsM:&amp;tbnh=109&amp;tbnw=128&amp;prev=/images?q=wasps&amp;start=20&amp;hl=en&amp;safe=active&amp;sa=N&amp;gbv=2&amp;ndsp=20&amp;tbs=isch:1&amp;ei=4shYTengF4OUOvXi4YIF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Autocrine &amp;     Paracrin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Pharmacology   (Part 11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091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Prof. AZZA EL-MEDANY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http://www.india-shopping.net/india-ayurveda-products/image/fainting.gif"/>
          <p:cNvPicPr/>
          <p:nvPr/>
        </p:nvPicPr>
        <p:blipFill>
          <a:blip r:embed="rId1"/>
          <a:stretch/>
        </p:blipFill>
        <p:spPr>
          <a:xfrm>
            <a:off x="914400" y="3773520"/>
            <a:ext cx="5492880" cy="3889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C:\Users\Administrator\Pictures\AnAn.gif"/>
          <p:cNvPicPr/>
          <p:nvPr/>
        </p:nvPicPr>
        <p:blipFill>
          <a:blip r:embed="rId2"/>
          <a:srcRect l="1327" t="2165" r="8610" b="2707"/>
          <a:stretch/>
        </p:blipFill>
        <p:spPr>
          <a:xfrm>
            <a:off x="4038480" y="3429000"/>
            <a:ext cx="5181840" cy="3352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http://t2.gstatic.com/images?q=tbn:ANd9GcRLpdVHcIw3sUPWD5jEtjyA22IgxrsXlY1ug_rFbN_U8fWErnZYB_XZ99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133720"/>
            <a:ext cx="1521000" cy="12952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533520" y="152280"/>
            <a:ext cx="45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E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0" y="1676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mechanism during allergic reactions [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gE antibo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s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surface of mast cells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5f55"/>
                </a:solidFill>
                <a:latin typeface="Tw Cen MT"/>
              </a:rPr>
              <a:t>      </a:t>
            </a:r>
            <a:r>
              <a:rPr b="1" lang="en-US" sz="5400" spc="-1" strike="noStrike">
                <a:solidFill>
                  <a:srgbClr val="ff0000"/>
                </a:solidFill>
                <a:latin typeface="Tw Cen MT"/>
              </a:rPr>
              <a:t>Continue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zymes as trypsin or drugs as morphine or other chemicals can liberate histamine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issue injury by trauma or bur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214200" y="1887480"/>
          <a:ext cx="7215480" cy="3854520"/>
        </p:xfrm>
        <a:graphic>
          <a:graphicData uri="http://schemas.openxmlformats.org/drawingml/2006/table">
            <a:tbl>
              <a:tblPr/>
              <a:tblGrid>
                <a:gridCol w="1357560"/>
                <a:gridCol w="2143080"/>
                <a:gridCol w="3714840"/>
              </a:tblGrid>
              <a:tr h="7052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Recept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Major Tissue Lo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Major Biologic Eff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9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ernard MT Condensed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mooth muscle, endothelial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ute allergic respo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679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ernard MT Condensed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astric parietal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cretion of gas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79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ernard MT Condensed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b9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entral nervous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b9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eurotransmi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b9ff"/>
                    </a:solidFill>
                  </a:tcPr>
                </a:tc>
              </a:tr>
              <a:tr h="1111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ernard MT Condensed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st cells, eosinophils, T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egulating immune respo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ff"/>
                    </a:solidFill>
                  </a:tcPr>
                </a:tc>
              </a:tr>
            </a:tbl>
          </a:graphicData>
        </a:graphic>
      </p:graphicFrame>
      <p:sp>
        <p:nvSpPr>
          <p:cNvPr id="429" name="Down Arrow Callout 16"/>
          <p:cNvSpPr/>
          <p:nvPr/>
        </p:nvSpPr>
        <p:spPr>
          <a:xfrm>
            <a:off x="214200" y="500040"/>
            <a:ext cx="2909880" cy="1357200"/>
          </a:xfrm>
          <a:prstGeom prst="downArrowCallout">
            <a:avLst>
              <a:gd name="adj1" fmla="val 24996"/>
              <a:gd name="adj2" fmla="val 25004"/>
              <a:gd name="adj3" fmla="val 25000"/>
              <a:gd name="adj4" fmla="val 64977"/>
            </a:avLst>
          </a:prstGeom>
          <a:solidFill>
            <a:srgbClr val="000000"/>
          </a:solidFill>
          <a:ln w="38160">
            <a:solidFill>
              <a:srgbClr val="ffccff"/>
            </a:solidFill>
            <a:round/>
          </a:ln>
          <a:effectLst>
            <a:outerShdw dist="8892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Histamine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w Cen MT"/>
              </a:rPr>
              <a:t>Adverse Effects Of Histami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Hypotension, tachycardia, flush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Headache, visual disturbances, increase skin tempera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Bronchoconstriction, dyspnea, diarrh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51424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Histamine receptors antagonis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Group 2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4402080" cy="623592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15"/>
          <p:cNvSpPr/>
          <p:nvPr/>
        </p:nvSpPr>
        <p:spPr>
          <a:xfrm>
            <a:off x="314280" y="433440"/>
            <a:ext cx="3043440" cy="1800360"/>
          </a:xfrm>
          <a:prstGeom prst="rect">
            <a:avLst/>
          </a:prstGeom>
          <a:solidFill>
            <a:srgbClr val="575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henhydra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rst gener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0"/>
          <p:cNvSpPr/>
          <p:nvPr/>
        </p:nvSpPr>
        <p:spPr>
          <a:xfrm>
            <a:off x="642960" y="1473120"/>
            <a:ext cx="814392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Has a  Sedating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Clinical us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 Narrow"/>
              </a:rPr>
              <a:t>Allergic conditions : rhinitis, conjuctiv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 Narrow"/>
              </a:rPr>
              <a:t>Insomnia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 Narrow"/>
              </a:rPr>
              <a:t>Motion sick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0"/>
          <p:cNvSpPr/>
          <p:nvPr/>
        </p:nvSpPr>
        <p:spPr>
          <a:xfrm>
            <a:off x="6629400" y="685800"/>
            <a:ext cx="2038320" cy="87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0f8"/>
              </a:gs>
            </a:gsLst>
            <a:lin ang="8100000"/>
          </a:gra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2e31b8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 antagonists ( Blocker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Group 2" descr=""/>
          <p:cNvPicPr/>
          <p:nvPr/>
        </p:nvPicPr>
        <p:blipFill>
          <a:blip r:embed="rId1"/>
          <a:stretch/>
        </p:blipFill>
        <p:spPr>
          <a:xfrm>
            <a:off x="171360" y="212760"/>
            <a:ext cx="4407120" cy="624348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15"/>
          <p:cNvSpPr/>
          <p:nvPr/>
        </p:nvSpPr>
        <p:spPr>
          <a:xfrm>
            <a:off x="314280" y="433440"/>
            <a:ext cx="3043440" cy="1373760"/>
          </a:xfrm>
          <a:prstGeom prst="rect">
            <a:avLst/>
          </a:prstGeom>
          <a:solidFill>
            <a:srgbClr val="575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atadine  (Second gen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10" descr=""/>
          <p:cNvPicPr/>
          <p:nvPr/>
        </p:nvPicPr>
        <p:blipFill>
          <a:blip r:embed="rId2"/>
          <a:stretch/>
        </p:blipFill>
        <p:spPr>
          <a:xfrm>
            <a:off x="480960" y="1468440"/>
            <a:ext cx="8309160" cy="512136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0"/>
          <p:cNvSpPr/>
          <p:nvPr/>
        </p:nvSpPr>
        <p:spPr>
          <a:xfrm>
            <a:off x="6686640" y="857160"/>
            <a:ext cx="203832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0f8"/>
              </a:gs>
            </a:gsLst>
            <a:lin ang="8100000"/>
          </a:gra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2e31b8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 antagon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Group 2" descr=""/>
          <p:cNvPicPr/>
          <p:nvPr/>
        </p:nvPicPr>
        <p:blipFill>
          <a:blip r:embed="rId1"/>
          <a:stretch/>
        </p:blipFill>
        <p:spPr>
          <a:xfrm>
            <a:off x="171360" y="212760"/>
            <a:ext cx="4407120" cy="62434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15"/>
          <p:cNvSpPr/>
          <p:nvPr/>
        </p:nvSpPr>
        <p:spPr>
          <a:xfrm>
            <a:off x="314280" y="433440"/>
            <a:ext cx="3043440" cy="520560"/>
          </a:xfrm>
          <a:prstGeom prst="rect">
            <a:avLst/>
          </a:prstGeom>
          <a:solidFill>
            <a:srgbClr val="575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metid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642960" y="1473120"/>
            <a:ext cx="814392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ecrease  gastric acid secre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Used in the treatment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4000" spc="-1" strike="noStrike">
                <a:solidFill>
                  <a:srgbClr val="0070c0"/>
                </a:solidFill>
                <a:latin typeface="Arial Narrow"/>
              </a:rPr>
              <a:t>peptic ulc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20"/>
          <p:cNvSpPr/>
          <p:nvPr/>
        </p:nvSpPr>
        <p:spPr>
          <a:xfrm>
            <a:off x="6686640" y="857160"/>
            <a:ext cx="203832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0f8"/>
              </a:gs>
            </a:gsLst>
            <a:lin ang="8100000"/>
          </a:gra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2e31b8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 antagon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Group 2" descr=""/>
          <p:cNvPicPr/>
          <p:nvPr/>
        </p:nvPicPr>
        <p:blipFill>
          <a:blip r:embed="rId1"/>
          <a:stretch/>
        </p:blipFill>
        <p:spPr>
          <a:xfrm>
            <a:off x="171360" y="212760"/>
            <a:ext cx="4407120" cy="62434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15"/>
          <p:cNvSpPr/>
          <p:nvPr/>
        </p:nvSpPr>
        <p:spPr>
          <a:xfrm>
            <a:off x="314280" y="433440"/>
            <a:ext cx="3043440" cy="520560"/>
          </a:xfrm>
          <a:prstGeom prst="rect">
            <a:avLst/>
          </a:prstGeom>
          <a:solidFill>
            <a:srgbClr val="575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AHI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642960" y="1473120"/>
            <a:ext cx="8143920" cy="28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Arial Narrow"/>
              </a:rPr>
              <a:t>Used in treatment 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 Narrow"/>
              </a:rPr>
              <a:t>           </a:t>
            </a:r>
            <a:r>
              <a:rPr b="1" lang="en-US" sz="2600" spc="-1" strike="noStrike">
                <a:solidFill>
                  <a:srgbClr val="0070c0"/>
                </a:solidFill>
                <a:latin typeface="Arial Narrow"/>
              </a:rPr>
              <a:t>vertigo in middle e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0"/>
          <p:cNvSpPr/>
          <p:nvPr/>
        </p:nvSpPr>
        <p:spPr>
          <a:xfrm>
            <a:off x="6686640" y="857160"/>
            <a:ext cx="203832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0f8"/>
              </a:gs>
            </a:gsLst>
            <a:lin ang="8100000"/>
          </a:gra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2e31b8"/>
                </a:solidFill>
                <a:latin typeface="Arial Narrow"/>
              </a:rPr>
              <a:t>3</a:t>
            </a: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 antagon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14240" y="99072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w Cen MT"/>
              </a:rPr>
              <a:t>EICOSANOIDS</a:t>
            </a:r>
            <a:br>
              <a:rPr sz="5400"/>
            </a:b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50" name="Picture 7" descr=""/>
          <p:cNvPicPr/>
          <p:nvPr/>
        </p:nvPicPr>
        <p:blipFill>
          <a:blip r:embed="rId1"/>
          <a:stretch/>
        </p:blipFill>
        <p:spPr>
          <a:xfrm>
            <a:off x="979560" y="4267080"/>
            <a:ext cx="69231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OBJECTIV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t the end of lecture the Students should be able to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cify storage sites of histam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plain the synthesis, release &amp; inactivation of histam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st histamine receptors regarding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ype, major location, major biologic effe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plain the clinical uses of histamine receptors antagonis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3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312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INHIBITORS OF EICOSANOI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14"/>
          <p:cNvGrpSpPr/>
          <p:nvPr/>
        </p:nvGrpSpPr>
        <p:grpSpPr>
          <a:xfrm>
            <a:off x="655560" y="457200"/>
            <a:ext cx="7693200" cy="6129000"/>
            <a:chOff x="655560" y="457200"/>
            <a:chExt cx="7693200" cy="6129000"/>
          </a:xfrm>
        </p:grpSpPr>
        <p:sp>
          <p:nvSpPr>
            <p:cNvPr id="455" name="Text Box 2"/>
            <p:cNvSpPr/>
            <p:nvPr/>
          </p:nvSpPr>
          <p:spPr>
            <a:xfrm>
              <a:off x="3124080" y="457200"/>
              <a:ext cx="28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</a:rPr>
                <a:t>Phospholipi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3"/>
            <p:cNvSpPr/>
            <p:nvPr/>
          </p:nvSpPr>
          <p:spPr>
            <a:xfrm>
              <a:off x="4122000" y="990360"/>
              <a:ext cx="2778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Berlin Sans FB Demi"/>
                </a:rPr>
                <a:t>Phospholipase</a:t>
              </a:r>
              <a:r>
                <a:rPr b="1" lang="en-US" sz="2400" spc="-1" strike="noStrike">
                  <a:solidFill>
                    <a:srgbClr val="ff0000"/>
                  </a:solidFill>
                  <a:latin typeface="Berlin Sans FB Demi"/>
                </a:rPr>
                <a:t> 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Berlin Sans FB Dem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4"/>
            <p:cNvSpPr/>
            <p:nvPr/>
          </p:nvSpPr>
          <p:spPr>
            <a:xfrm>
              <a:off x="3098880" y="1665360"/>
              <a:ext cx="314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</a:rPr>
                <a:t>Arachidon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5"/>
            <p:cNvSpPr/>
            <p:nvPr/>
          </p:nvSpPr>
          <p:spPr>
            <a:xfrm>
              <a:off x="3932280" y="8380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4465800" y="3810240"/>
              <a:ext cx="3809880" cy="947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</a:rPr>
                <a:t>Prostaglandin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4618080" y="5639040"/>
              <a:ext cx="3346560" cy="947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</a:rPr>
                <a:t>Thromboxane (TXA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4574520" y="4953240"/>
              <a:ext cx="2440800" cy="520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030a0"/>
                  </a:solidFill>
                  <a:latin typeface="Berlin Sans FB Demi"/>
                </a:rPr>
                <a:t>Prostacycli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H="1">
              <a:off x="2331360" y="2209680"/>
              <a:ext cx="15238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Text Box 12"/>
            <p:cNvSpPr/>
            <p:nvPr/>
          </p:nvSpPr>
          <p:spPr>
            <a:xfrm>
              <a:off x="5654880" y="3048120"/>
              <a:ext cx="26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Berlin Sans FB Demi"/>
                </a:rPr>
                <a:t>Cyclooxygenas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3"/>
            <p:cNvSpPr/>
            <p:nvPr/>
          </p:nvSpPr>
          <p:spPr>
            <a:xfrm>
              <a:off x="655560" y="388620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</a:rPr>
                <a:t>Leukotrie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4"/>
            <p:cNvSpPr/>
            <p:nvPr/>
          </p:nvSpPr>
          <p:spPr>
            <a:xfrm>
              <a:off x="4618080" y="2133720"/>
              <a:ext cx="12952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700560" y="2590920"/>
              <a:ext cx="22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Berlin Sans FB Demi"/>
                </a:rPr>
                <a:t>Lipoxygen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TextBox 16"/>
          <p:cNvSpPr/>
          <p:nvPr/>
        </p:nvSpPr>
        <p:spPr>
          <a:xfrm>
            <a:off x="228600" y="228600"/>
            <a:ext cx="1752480" cy="7034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Berlin Sans FB Demi"/>
              </a:rPr>
              <a:t>Drug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7"/>
          <p:cNvSpPr/>
          <p:nvPr/>
        </p:nvSpPr>
        <p:spPr>
          <a:xfrm>
            <a:off x="5791320" y="2438280"/>
            <a:ext cx="19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erlin Sans FB Demi"/>
              </a:rPr>
              <a:t>NS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8"/>
          <p:cNvSpPr/>
          <p:nvPr/>
        </p:nvSpPr>
        <p:spPr>
          <a:xfrm>
            <a:off x="395280" y="99072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erlin Sans FB Demi"/>
              </a:rPr>
              <a:t>Corticostero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9"/>
          <p:cNvSpPr/>
          <p:nvPr/>
        </p:nvSpPr>
        <p:spPr>
          <a:xfrm>
            <a:off x="513000" y="1981080"/>
            <a:ext cx="19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erlin Sans FB Demi"/>
              </a:rPr>
              <a:t>Zileut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21"/>
          <p:cNvSpPr/>
          <p:nvPr/>
        </p:nvSpPr>
        <p:spPr>
          <a:xfrm>
            <a:off x="3505320" y="1219320"/>
            <a:ext cx="855720" cy="187200"/>
          </a:xfrm>
          <a:prstGeom prst="pie">
            <a:avLst/>
          </a:prstGeom>
          <a:noFill/>
          <a:ln w="7632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27"/>
          <p:cNvSpPr/>
          <p:nvPr/>
        </p:nvSpPr>
        <p:spPr>
          <a:xfrm>
            <a:off x="1943280" y="2319480"/>
            <a:ext cx="941040" cy="395280"/>
          </a:xfrm>
          <a:prstGeom prst="pie">
            <a:avLst/>
          </a:prstGeom>
          <a:noFill/>
          <a:ln w="572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Prostanoids &amp; Leukotrienes Antagonis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Aspirin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: NSAI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hibits cyclooxygenase enzymes ( COX1 &amp; COX2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, inhibits synthesis of PGD &amp; thromboxane A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as Anti-inflammatory &amp; Antiplatel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Zafirlukast   /     Zileut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hibit lipooxygenase enzy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hibits synthesis of leukotrien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sed mainly in treatment of bronchial asthm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Comparison in actions  between</a:t>
            </a: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Prostaglandin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Thromboxane A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Vascular smooth muscles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952880" y="3962520"/>
            <a:ext cx="3733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otent vasoconstrictor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Prostaglandi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 fontScale="99000"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2060"/>
                </a:solidFill>
                <a:latin typeface="Tw Cen MT"/>
                <a:ea typeface="Arial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Thromboxane A</a:t>
            </a:r>
            <a:r>
              <a:rPr b="1" lang="en-US" sz="3200" spc="-1" strike="noStrike" baseline="-25000">
                <a:solidFill>
                  <a:srgbClr val="7030a0"/>
                </a:solidFill>
                <a:latin typeface="Tw Cen 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1" name="Picture 3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200400" cy="1454040"/>
          </a:xfrm>
          <a:prstGeom prst="rect">
            <a:avLst/>
          </a:prstGeom>
          <a:ln w="0">
            <a:noFill/>
          </a:ln>
        </p:spPr>
      </p:pic>
      <p:sp>
        <p:nvSpPr>
          <p:cNvPr id="482" name="Content Placeholder 3"/>
          <p:cNvSpPr/>
          <p:nvPr/>
        </p:nvSpPr>
        <p:spPr>
          <a:xfrm>
            <a:off x="533520" y="41148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otent vasodilators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 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4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2710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9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Blood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752480" y="49528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Berlin Sans FB Demi"/>
              </a:rPr>
              <a:t> </a:t>
            </a:r>
            <a:r>
              <a:rPr b="0" lang="en-US" sz="2900" spc="-1" strike="noStrike">
                <a:solidFill>
                  <a:srgbClr val="ff0000"/>
                </a:solidFill>
                <a:latin typeface="Berlin Sans FB Demi"/>
              </a:rPr>
              <a:t>Prostaglandins</a:t>
            </a:r>
            <a:r>
              <a:rPr b="0" lang="en-US" sz="2900" spc="-1" strike="noStrike">
                <a:solidFill>
                  <a:srgbClr val="00b0f0"/>
                </a:solidFill>
                <a:latin typeface="Berlin Sans FB Dem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erlin Sans FB Demi"/>
              </a:rPr>
              <a:t>inhibit platelet aggregat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905200" y="244440"/>
            <a:ext cx="5705280" cy="4498920"/>
          </a:xfrm>
          <a:prstGeom prst="rect">
            <a:avLst/>
          </a:prstGeom>
          <a:ln w="0">
            <a:noFill/>
          </a:ln>
        </p:spPr>
      </p:pic>
      <p:sp>
        <p:nvSpPr>
          <p:cNvPr id="487" name="TextBox 4"/>
          <p:cNvSpPr/>
          <p:nvPr/>
        </p:nvSpPr>
        <p:spPr>
          <a:xfrm>
            <a:off x="228600" y="1600200"/>
            <a:ext cx="274320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TXA2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 potent inducer of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platelet aggregation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762120" y="2971800"/>
            <a:ext cx="7122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Both play important role  in inflammatory reactions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w Cen MT"/>
              </a:rPr>
              <a:t>Inflammation</a:t>
            </a:r>
            <a:r>
              <a:rPr b="1" lang="en-US" sz="4000" spc="-1" strike="noStrike">
                <a:solidFill>
                  <a:srgbClr val="002060"/>
                </a:solidFill>
                <a:latin typeface="Tw Cen MT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533160" y="4571640"/>
            <a:ext cx="73911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hromboxa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               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     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                              (</a:t>
            </a:r>
            <a:r>
              <a:rPr b="1" lang="en-US" sz="2800" spc="-1" strike="noStrike">
                <a:solidFill>
                  <a:srgbClr val="b95b22"/>
                </a:solidFill>
                <a:latin typeface="Tw Cen MT"/>
              </a:rPr>
              <a:t>bronchoconstriction</a:t>
            </a:r>
            <a:r>
              <a:rPr b="1" lang="en-US" sz="2800" spc="-1" strike="noStrike">
                <a:solidFill>
                  <a:srgbClr val="b95b22"/>
                </a:solidFill>
                <a:latin typeface="Tw Cen MT"/>
              </a:rPr>
              <a:t>)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Bronchial smooth muscle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914400" cy="1203480"/>
          </a:xfrm>
          <a:prstGeom prst="rect">
            <a:avLst/>
          </a:prstGeom>
          <a:ln w="0">
            <a:noFill/>
          </a:ln>
        </p:spPr>
      </p:pic>
      <p:sp>
        <p:nvSpPr>
          <p:cNvPr id="493" name="TextBox 4"/>
          <p:cNvSpPr/>
          <p:nvPr/>
        </p:nvSpPr>
        <p:spPr>
          <a:xfrm>
            <a:off x="533520" y="26668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taglandins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95b22"/>
                </a:solidFill>
                <a:latin typeface="Arial"/>
              </a:rPr>
              <a:t>bronchorelaxation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676520" cy="22352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Uterine smooth muscl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7" name="Rectangle 2"/>
          <p:cNvSpPr/>
          <p:nvPr/>
        </p:nvSpPr>
        <p:spPr>
          <a:xfrm>
            <a:off x="533520" y="3691800"/>
            <a:ext cx="82296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Prostaglandins ( PGE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w Cen MT"/>
              </a:rPr>
              <a:t>2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2900" spc="-1" strike="noStrike">
                <a:solidFill>
                  <a:srgbClr val="0070c0"/>
                </a:solidFill>
                <a:latin typeface="Tw Cen MT"/>
              </a:rPr>
              <a:t>), derived from membrane lipid in the endometrium   increase uterine contractions 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2900" spc="-1" strike="noStrike">
                <a:solidFill>
                  <a:srgbClr val="0070c0"/>
                </a:solidFill>
                <a:latin typeface="Tw Cen MT"/>
              </a:rPr>
              <a:t>→  Dysmenorrhea/ Labor contra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3657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tinu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5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scribe the synthesis of eicosanoi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assify drugs that inhibit synthesis of eicosanoi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7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umerate the pharmacological actions of eicosanoi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umerate the clinical uses of PGs analog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120" y="2895480"/>
            <a:ext cx="712332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-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Prostaglandins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title"/>
          </p:nvPr>
        </p:nvSpPr>
        <p:spPr>
          <a:xfrm>
            <a:off x="1523520" y="16761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GIT smooth muscle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790800" cy="2952720"/>
          </a:xfrm>
          <a:prstGeom prst="rect">
            <a:avLst/>
          </a:prstGeom>
          <a:ln w="0">
            <a:noFill/>
          </a:ln>
        </p:spPr>
      </p:pic>
      <p:sp>
        <p:nvSpPr>
          <p:cNvPr id="502" name="TextBox 5"/>
          <p:cNvSpPr/>
          <p:nvPr/>
        </p:nvSpPr>
        <p:spPr>
          <a:xfrm>
            <a:off x="1004400" y="4648320"/>
            <a:ext cx="261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G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</a:rPr>
              <a:t>moti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3810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GIT secretions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Prostaglandins (E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w Cen MT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↓</a:t>
            </a:r>
            <a:r>
              <a:rPr b="1" lang="en-US" sz="2900" spc="-1" strike="noStrike" u="sng">
                <a:solidFill>
                  <a:srgbClr val="0070c0"/>
                </a:solidFill>
                <a:uFillTx/>
                <a:latin typeface="Tw Cen MT"/>
              </a:rPr>
              <a:t>acid  secretio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900" spc="-1" strike="noStrike" u="sng">
                <a:solidFill>
                  <a:srgbClr val="0070c0"/>
                </a:solidFill>
                <a:uFillTx/>
                <a:latin typeface="Tw Cen MT"/>
              </a:rPr>
              <a:t>Mucin secre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1813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533160" y="2743200"/>
            <a:ext cx="464796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2" marL="703800" indent="0" rtl="1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Prostaglandins 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 increase  renal blo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703800" indent="0" rtl="1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703800" indent="0" rtl="1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flow and diuresis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Tw Cen MT"/>
              </a:rPr>
              <a:t>Kiden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657680" y="1752480"/>
            <a:ext cx="4276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Central and peripheral nervous syste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1272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Fever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009960" cy="34671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473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Clinical uses of prostaglandins  </a:t>
            </a: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Analo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(  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Synthetic prostaglandins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5181480" y="228600"/>
            <a:ext cx="3657600" cy="284796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Tw Cen MT"/>
              </a:rPr>
              <a:t>Carboprost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7" name="TextBox 6"/>
          <p:cNvSpPr/>
          <p:nvPr/>
        </p:nvSpPr>
        <p:spPr>
          <a:xfrm>
            <a:off x="0" y="1752480"/>
            <a:ext cx="8458200" cy="38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b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Induce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medical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 abortion in  first trimeste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Box 6"/>
          <p:cNvSpPr/>
          <p:nvPr/>
        </p:nvSpPr>
        <p:spPr>
          <a:xfrm>
            <a:off x="228600" y="3657600"/>
            <a:ext cx="84582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Tw Cen MT"/>
                <a:ea typeface="Arial"/>
              </a:rPr>
              <a:t>2) Treatment of </a:t>
            </a:r>
            <a:r>
              <a:rPr b="1" lang="en-US" sz="2900" spc="-1" strike="noStrike" u="sng">
                <a:solidFill>
                  <a:srgbClr val="0070c0"/>
                </a:solidFill>
                <a:uFillTx/>
                <a:latin typeface="Tw Cen MT"/>
                <a:ea typeface="Arial"/>
              </a:rPr>
              <a:t>postpartum haemorrhage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     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(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vasoconstriction + </a:t>
            </a: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uterine muscle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contraction)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5410080" y="685800"/>
            <a:ext cx="3009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3504960"/>
            <a:ext cx="7656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eye drops /in treatment of 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open angle glaucoma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Gill Sans Ultra Bold"/>
              </a:rPr>
              <a:t>(↓</a:t>
            </a:r>
            <a:r>
              <a:rPr b="1" lang="en-US" sz="2800" spc="-1" strike="noStrike">
                <a:solidFill>
                  <a:srgbClr val="002060"/>
                </a:solidFill>
                <a:latin typeface="JansonText-Roman"/>
              </a:rPr>
              <a:t> IOP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by enhancing outflow of the aqueous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humar</a:t>
            </a:r>
            <a:r>
              <a:rPr b="0" lang="en-US" sz="2800" spc="-1" strike="noStrike">
                <a:solidFill>
                  <a:srgbClr val="002060"/>
                </a:solidFill>
                <a:latin typeface="Tw Cen MT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</a:rPr>
              <a:t>Latanopro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743720" cy="342900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12"/>
          <p:cNvSpPr/>
          <p:nvPr/>
        </p:nvSpPr>
        <p:spPr>
          <a:xfrm rot="20152200">
            <a:off x="5128920" y="2741400"/>
            <a:ext cx="1220760" cy="209520"/>
          </a:xfrm>
          <a:prstGeom prst="rect">
            <a:avLst/>
          </a:prstGeom>
          <a:solidFill>
            <a:srgbClr val="b0ca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w Cen MT"/>
              </a:rPr>
              <a:t>Misoprostol</a:t>
            </a:r>
            <a:br>
              <a:rPr sz="4800"/>
            </a:br>
            <a:r>
              <a:rPr b="1" lang="en-US" sz="4800" spc="-1" strike="noStrike">
                <a:solidFill>
                  <a:srgbClr val="7030a0"/>
                </a:solidFill>
                <a:latin typeface="Tw Cen MT"/>
              </a:rPr>
              <a:t>(analog PGE1)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2438280"/>
            <a:ext cx="7391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Given along with non-steroidal anti-inflammatory drugs to reduce the incidence of peptic ulcer and its manifestation as heartburn &amp; gastric pai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w Cen M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6" name="Picture 13" descr=""/>
          <p:cNvPicPr/>
          <p:nvPr/>
        </p:nvPicPr>
        <p:blipFill>
          <a:blip r:embed="rId1"/>
          <a:stretch/>
        </p:blipFill>
        <p:spPr>
          <a:xfrm>
            <a:off x="6400800" y="0"/>
            <a:ext cx="2573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160" y="19047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w Cen MT"/>
              </a:rPr>
              <a:t>Thank you</a:t>
            </a:r>
            <a:r>
              <a:rPr b="0" lang="en-US" sz="60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CLASSIFICATION  OF MEDIATO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64" name="Group 2"/>
          <p:cNvGrpSpPr/>
          <p:nvPr/>
        </p:nvGrpSpPr>
        <p:grpSpPr>
          <a:xfrm>
            <a:off x="609480" y="1981080"/>
            <a:ext cx="8000640" cy="4419000"/>
            <a:chOff x="609480" y="1981080"/>
            <a:chExt cx="8000640" cy="4419000"/>
          </a:xfrm>
        </p:grpSpPr>
        <p:sp>
          <p:nvSpPr>
            <p:cNvPr id="365" name="Text Box 3"/>
            <p:cNvSpPr/>
            <p:nvPr/>
          </p:nvSpPr>
          <p:spPr>
            <a:xfrm>
              <a:off x="609480" y="5029200"/>
              <a:ext cx="2019240" cy="1314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MONOAMI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Histami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Serotonin …et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Group 4"/>
            <p:cNvGrpSpPr/>
            <p:nvPr/>
          </p:nvGrpSpPr>
          <p:grpSpPr>
            <a:xfrm>
              <a:off x="5086440" y="1989360"/>
              <a:ext cx="1908000" cy="4410720"/>
              <a:chOff x="5086440" y="1989360"/>
              <a:chExt cx="1908000" cy="4410720"/>
            </a:xfrm>
          </p:grpSpPr>
          <p:sp>
            <p:nvSpPr>
              <p:cNvPr id="367" name="Text Box 5"/>
              <p:cNvSpPr/>
              <p:nvPr/>
            </p:nvSpPr>
            <p:spPr>
              <a:xfrm>
                <a:off x="5086440" y="2708640"/>
                <a:ext cx="1908000" cy="3691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PEPTID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 Narrow"/>
                  </a:rPr>
                  <a:t>Contractants 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Angiotensin Endotheli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NPY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Vasopressi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 Narrow"/>
                  </a:rPr>
                  <a:t>Relaxants 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Kinines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AN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Tachykinins [SP]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VIP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6"/>
              <p:cNvSpPr/>
              <p:nvPr/>
            </p:nvSpPr>
            <p:spPr>
              <a:xfrm>
                <a:off x="5930280" y="1989360"/>
                <a:ext cx="0" cy="658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Text Box 7"/>
            <p:cNvSpPr/>
            <p:nvPr/>
          </p:nvSpPr>
          <p:spPr>
            <a:xfrm>
              <a:off x="1340640" y="2673360"/>
              <a:ext cx="2257200" cy="1976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000000"/>
                  </a:solidFill>
                  <a:uFillTx/>
                  <a:latin typeface="Calibri"/>
                </a:rPr>
                <a:t>EICOSANOI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rostanoi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Prostagland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Calibri"/>
                </a:rPr>
                <a:t>Thromboxane A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eukotrie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8"/>
            <p:cNvSpPr/>
            <p:nvPr/>
          </p:nvSpPr>
          <p:spPr>
            <a:xfrm>
              <a:off x="2244960" y="2005200"/>
              <a:ext cx="0" cy="62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 Box 9"/>
            <p:cNvSpPr/>
            <p:nvPr/>
          </p:nvSpPr>
          <p:spPr>
            <a:xfrm>
              <a:off x="3158280" y="5061960"/>
              <a:ext cx="1686960" cy="1314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PURI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ATP / AD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Adenos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0"/>
            <p:cNvSpPr/>
            <p:nvPr/>
          </p:nvSpPr>
          <p:spPr>
            <a:xfrm>
              <a:off x="937080" y="1989360"/>
              <a:ext cx="0" cy="2877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1"/>
            <p:cNvGrpSpPr/>
            <p:nvPr/>
          </p:nvGrpSpPr>
          <p:grpSpPr>
            <a:xfrm>
              <a:off x="4174560" y="2019960"/>
              <a:ext cx="711000" cy="2409120"/>
              <a:chOff x="4174560" y="2019960"/>
              <a:chExt cx="711000" cy="2409120"/>
            </a:xfrm>
          </p:grpSpPr>
          <p:sp>
            <p:nvSpPr>
              <p:cNvPr id="374" name="Text Box 12"/>
              <p:cNvSpPr/>
              <p:nvPr/>
            </p:nvSpPr>
            <p:spPr>
              <a:xfrm>
                <a:off x="4174560" y="3816000"/>
                <a:ext cx="711000" cy="6130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NO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3"/>
              <p:cNvSpPr/>
              <p:nvPr/>
            </p:nvSpPr>
            <p:spPr>
              <a:xfrm>
                <a:off x="4481640" y="2019960"/>
                <a:ext cx="0" cy="1775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Text Box 14"/>
            <p:cNvSpPr/>
            <p:nvPr/>
          </p:nvSpPr>
          <p:spPr>
            <a:xfrm>
              <a:off x="7196760" y="2628360"/>
              <a:ext cx="1413360" cy="2238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OTH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ytoki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hemok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Growth Facto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…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.etc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"/>
            <p:cNvSpPr/>
            <p:nvPr/>
          </p:nvSpPr>
          <p:spPr>
            <a:xfrm>
              <a:off x="7798320" y="2001600"/>
              <a:ext cx="0" cy="62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6"/>
            <p:cNvSpPr/>
            <p:nvPr/>
          </p:nvSpPr>
          <p:spPr>
            <a:xfrm>
              <a:off x="3966120" y="2029320"/>
              <a:ext cx="0" cy="280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7"/>
            <p:cNvSpPr/>
            <p:nvPr/>
          </p:nvSpPr>
          <p:spPr>
            <a:xfrm>
              <a:off x="937080" y="1981080"/>
              <a:ext cx="68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5"/>
          <p:cNvSpPr/>
          <p:nvPr/>
        </p:nvSpPr>
        <p:spPr>
          <a:xfrm>
            <a:off x="428760" y="428760"/>
            <a:ext cx="1857240" cy="1006200"/>
          </a:xfrm>
          <a:prstGeom prst="rect">
            <a:avLst/>
          </a:prstGeom>
          <a:solidFill>
            <a:srgbClr val="2e31b8"/>
          </a:soli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ernard MT Condense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istam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6"/>
          <p:cNvGrpSpPr/>
          <p:nvPr/>
        </p:nvGrpSpPr>
        <p:grpSpPr>
          <a:xfrm>
            <a:off x="428760" y="1000080"/>
            <a:ext cx="2643120" cy="1447200"/>
            <a:chOff x="428760" y="1000080"/>
            <a:chExt cx="2643120" cy="1447200"/>
          </a:xfrm>
        </p:grpSpPr>
        <p:sp>
          <p:nvSpPr>
            <p:cNvPr id="382" name="TextBox 7"/>
            <p:cNvSpPr/>
            <p:nvPr/>
          </p:nvSpPr>
          <p:spPr>
            <a:xfrm>
              <a:off x="500040" y="1500120"/>
              <a:ext cx="2571840" cy="947160"/>
            </a:xfrm>
            <a:prstGeom prst="rect">
              <a:avLst/>
            </a:prstGeom>
            <a:solidFill>
              <a:srgbClr val="2e31b8"/>
            </a:solidFill>
            <a:ln w="28440">
              <a:solidFill>
                <a:srgbClr val="6600ff"/>
              </a:solidFill>
              <a:miter/>
            </a:ln>
            <a:effectLst>
              <a:outerShdw dist="50760" dir="5400000" blurRad="0" rotWithShape="0">
                <a:srgbClr val="66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ernard MT Condensed"/>
                </a:rPr>
                <a:t>Neurotransmit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Down Arrow 15"/>
            <p:cNvSpPr/>
            <p:nvPr/>
          </p:nvSpPr>
          <p:spPr>
            <a:xfrm>
              <a:off x="428760" y="1000080"/>
              <a:ext cx="571320" cy="5004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Box 10"/>
          <p:cNvSpPr/>
          <p:nvPr/>
        </p:nvSpPr>
        <p:spPr>
          <a:xfrm>
            <a:off x="457200" y="2209680"/>
            <a:ext cx="2514600" cy="1373760"/>
          </a:xfrm>
          <a:prstGeom prst="rect">
            <a:avLst/>
          </a:prstGeom>
          <a:solidFill>
            <a:srgbClr val="2e31b8"/>
          </a:soli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Allergic &amp; Inflammatory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533520" y="3962520"/>
            <a:ext cx="2438280" cy="947160"/>
          </a:xfrm>
          <a:prstGeom prst="rect">
            <a:avLst/>
          </a:prstGeom>
          <a:solidFill>
            <a:srgbClr val="2e31b8"/>
          </a:soli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Gastric acid se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torage Si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7" name="Content Placeholder 3" descr=""/>
          <p:cNvPicPr/>
          <p:nvPr/>
        </p:nvPicPr>
        <p:blipFill>
          <a:blip r:embed="rId1"/>
          <a:stretch/>
        </p:blipFill>
        <p:spPr>
          <a:xfrm>
            <a:off x="609480" y="1596960"/>
            <a:ext cx="81694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Tw Cen MT"/>
              </a:rPr>
              <a:t>Biosynthesis</a:t>
            </a:r>
            <a:r>
              <a:rPr b="1" lang="en-US" sz="4800" spc="-1" strike="noStrike">
                <a:solidFill>
                  <a:srgbClr val="775f55"/>
                </a:solidFill>
                <a:latin typeface="Tw Cen MT"/>
              </a:rPr>
              <a:t> 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9" name="صورة 1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Inactiv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"/>
          <p:cNvGrpSpPr/>
          <p:nvPr/>
        </p:nvGrpSpPr>
        <p:grpSpPr>
          <a:xfrm>
            <a:off x="609480" y="1600200"/>
            <a:ext cx="6782040" cy="4191120"/>
            <a:chOff x="609480" y="1600200"/>
            <a:chExt cx="6782040" cy="4191120"/>
          </a:xfrm>
        </p:grpSpPr>
        <p:sp>
          <p:nvSpPr>
            <p:cNvPr id="393" name="Line 8"/>
            <p:cNvSpPr/>
            <p:nvPr/>
          </p:nvSpPr>
          <p:spPr>
            <a:xfrm>
              <a:off x="1534680" y="2212560"/>
              <a:ext cx="0" cy="12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7"/>
            <p:cNvSpPr/>
            <p:nvPr/>
          </p:nvSpPr>
          <p:spPr>
            <a:xfrm>
              <a:off x="1534680" y="4005720"/>
              <a:ext cx="0" cy="12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6"/>
            <p:cNvSpPr/>
            <p:nvPr/>
          </p:nvSpPr>
          <p:spPr>
            <a:xfrm>
              <a:off x="914040" y="1600200"/>
              <a:ext cx="647748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Histam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5"/>
            <p:cNvSpPr/>
            <p:nvPr/>
          </p:nvSpPr>
          <p:spPr>
            <a:xfrm>
              <a:off x="609480" y="3465000"/>
              <a:ext cx="647748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Methyl histamine </a:t>
              </a:r>
              <a:r>
                <a:rPr b="0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(Oxidation)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"/>
            <p:cNvSpPr/>
            <p:nvPr/>
          </p:nvSpPr>
          <p:spPr>
            <a:xfrm>
              <a:off x="609480" y="5254560"/>
              <a:ext cx="647748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Methyl imidazole acetic a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3"/>
            <p:cNvSpPr/>
            <p:nvPr/>
          </p:nvSpPr>
          <p:spPr>
            <a:xfrm>
              <a:off x="1524600" y="2514240"/>
              <a:ext cx="462672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030a0"/>
                  </a:solidFill>
                  <a:latin typeface="Berlin Sans FB"/>
                  <a:ea typeface="Times New Roman"/>
                </a:rPr>
                <a:t>Imidazole N-methyltransfer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"/>
            <p:cNvSpPr/>
            <p:nvPr/>
          </p:nvSpPr>
          <p:spPr>
            <a:xfrm>
              <a:off x="1572120" y="4303800"/>
              <a:ext cx="254340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030a0"/>
                  </a:solidFill>
                  <a:latin typeface="Berlin Sans FB"/>
                  <a:ea typeface="Times New Roman"/>
                </a:rPr>
                <a:t>Diamine oxid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5" descr="C:\Users\Administrator\AppData\Local\Microsoft\Windows\Temporary Internet Files\Content.IE5\26HYVZA7\ch14f4[1].jpg"/>
          <p:cNvPicPr/>
          <p:nvPr/>
        </p:nvPicPr>
        <p:blipFill>
          <a:blip r:embed="rId1"/>
          <a:srcRect l="14694" t="2003" r="3263" b="2003"/>
          <a:stretch/>
        </p:blipFill>
        <p:spPr>
          <a:xfrm>
            <a:off x="1676520" y="1447920"/>
            <a:ext cx="7180200" cy="514332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9"/>
          <p:cNvSpPr/>
          <p:nvPr/>
        </p:nvSpPr>
        <p:spPr>
          <a:xfrm>
            <a:off x="6286680" y="4714920"/>
            <a:ext cx="500040" cy="745560"/>
          </a:xfrm>
          <a:prstGeom prst="rect">
            <a:avLst/>
          </a:prstGeom>
          <a:solidFill>
            <a:srgbClr val="00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H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ernard MT Condense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20"/>
          <p:cNvSpPr/>
          <p:nvPr/>
        </p:nvSpPr>
        <p:spPr>
          <a:xfrm>
            <a:off x="6286680" y="4200480"/>
            <a:ext cx="500040" cy="745560"/>
          </a:xfrm>
          <a:prstGeom prst="rect">
            <a:avLst/>
          </a:prstGeom>
          <a:solidFill>
            <a:srgbClr val="00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H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ernard MT Condense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1"/>
          <p:cNvSpPr/>
          <p:nvPr/>
        </p:nvSpPr>
        <p:spPr>
          <a:xfrm>
            <a:off x="2666880" y="5638680"/>
            <a:ext cx="500040" cy="745560"/>
          </a:xfrm>
          <a:prstGeom prst="rect">
            <a:avLst/>
          </a:prstGeom>
          <a:solidFill>
            <a:srgbClr val="00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H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ernard MT Condense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34"/>
          <p:cNvGrpSpPr/>
          <p:nvPr/>
        </p:nvGrpSpPr>
        <p:grpSpPr>
          <a:xfrm>
            <a:off x="3809880" y="5638680"/>
            <a:ext cx="357480" cy="428760"/>
            <a:chOff x="3809880" y="5638680"/>
            <a:chExt cx="357480" cy="428760"/>
          </a:xfrm>
        </p:grpSpPr>
        <p:sp>
          <p:nvSpPr>
            <p:cNvPr id="405" name="Oval 30"/>
            <p:cNvSpPr/>
            <p:nvPr/>
          </p:nvSpPr>
          <p:spPr>
            <a:xfrm>
              <a:off x="3809880" y="5638680"/>
              <a:ext cx="357480" cy="428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Straight Connector 32"/>
            <p:cNvSpPr/>
            <p:nvPr/>
          </p:nvSpPr>
          <p:spPr>
            <a:xfrm>
              <a:off x="3894840" y="5852880"/>
              <a:ext cx="214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Box 38"/>
          <p:cNvSpPr/>
          <p:nvPr/>
        </p:nvSpPr>
        <p:spPr>
          <a:xfrm>
            <a:off x="6286680" y="5229360"/>
            <a:ext cx="500040" cy="745560"/>
          </a:xfrm>
          <a:prstGeom prst="rect">
            <a:avLst/>
          </a:prstGeom>
          <a:solidFill>
            <a:srgbClr val="00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H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ernard MT Condense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39"/>
          <p:cNvSpPr/>
          <p:nvPr/>
        </p:nvSpPr>
        <p:spPr>
          <a:xfrm>
            <a:off x="6643800" y="5429160"/>
            <a:ext cx="3571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40"/>
          <p:cNvSpPr/>
          <p:nvPr/>
        </p:nvSpPr>
        <p:spPr>
          <a:xfrm>
            <a:off x="6643800" y="4857840"/>
            <a:ext cx="3571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41"/>
          <p:cNvSpPr/>
          <p:nvPr/>
        </p:nvSpPr>
        <p:spPr>
          <a:xfrm>
            <a:off x="6643800" y="4357800"/>
            <a:ext cx="3571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42"/>
          <p:cNvSpPr/>
          <p:nvPr/>
        </p:nvSpPr>
        <p:spPr>
          <a:xfrm>
            <a:off x="4572000" y="4429080"/>
            <a:ext cx="785880" cy="928800"/>
          </a:xfrm>
          <a:prstGeom prst="ellipse">
            <a:avLst/>
          </a:prstGeom>
          <a:noFill/>
          <a:ln w="57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43"/>
          <p:cNvSpPr/>
          <p:nvPr/>
        </p:nvSpPr>
        <p:spPr>
          <a:xfrm>
            <a:off x="4498920" y="4357800"/>
            <a:ext cx="928800" cy="106524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48"/>
          <p:cNvGrpSpPr/>
          <p:nvPr/>
        </p:nvGrpSpPr>
        <p:grpSpPr>
          <a:xfrm>
            <a:off x="7786800" y="4071960"/>
            <a:ext cx="1143000" cy="1785960"/>
            <a:chOff x="7786800" y="4071960"/>
            <a:chExt cx="1143000" cy="1785960"/>
          </a:xfrm>
        </p:grpSpPr>
        <p:pic>
          <p:nvPicPr>
            <p:cNvPr id="414" name="Picture 2" descr="2009_1"/>
            <p:cNvPicPr/>
            <p:nvPr/>
          </p:nvPicPr>
          <p:blipFill>
            <a:blip r:embed="rId2"/>
            <a:srcRect l="4999" t="21227" r="65010" b="19812"/>
            <a:stretch/>
          </p:blipFill>
          <p:spPr>
            <a:xfrm>
              <a:off x="7786800" y="4071960"/>
              <a:ext cx="11430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Box 47"/>
            <p:cNvSpPr/>
            <p:nvPr/>
          </p:nvSpPr>
          <p:spPr>
            <a:xfrm>
              <a:off x="8143920" y="5029200"/>
              <a:ext cx="500040" cy="745560"/>
            </a:xfrm>
            <a:prstGeom prst="rect">
              <a:avLst/>
            </a:prstGeom>
            <a:solidFill>
              <a:srgbClr val="0033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ernard MT Condensed"/>
                </a:rPr>
                <a:t>H 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Bernard MT Condensed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Picture 2" descr="2009_1"/>
          <p:cNvPicPr/>
          <p:nvPr/>
        </p:nvPicPr>
        <p:blipFill>
          <a:blip r:embed="rId3"/>
          <a:stretch/>
        </p:blipFill>
        <p:spPr>
          <a:xfrm>
            <a:off x="6924600" y="3279600"/>
            <a:ext cx="1365480" cy="1371600"/>
          </a:xfrm>
          <a:prstGeom prst="rect">
            <a:avLst/>
          </a:prstGeom>
          <a:ln w="0">
            <a:noFill/>
          </a:ln>
        </p:spPr>
      </p:pic>
      <p:cxnSp>
        <p:nvCxnSpPr>
          <p:cNvPr id="417" name="Straight Arrow Connector 51"/>
          <p:cNvCxnSpPr/>
          <p:nvPr/>
        </p:nvCxnSpPr>
        <p:spPr>
          <a:xfrm flipV="1">
            <a:off x="5300640" y="4885920"/>
            <a:ext cx="558000" cy="45360"/>
          </a:xfrm>
          <a:prstGeom prst="straightConnector1">
            <a:avLst/>
          </a:prstGeom>
          <a:ln w="57240">
            <a:solidFill>
              <a:srgbClr val="ff0066"/>
            </a:solidFill>
            <a:miter/>
            <a:tailEnd len="med" type="arrow" w="med"/>
          </a:ln>
        </p:spPr>
      </p:cxnSp>
      <p:sp>
        <p:nvSpPr>
          <p:cNvPr id="418" name="Arc 53"/>
          <p:cNvSpPr/>
          <p:nvPr/>
        </p:nvSpPr>
        <p:spPr>
          <a:xfrm flipV="1">
            <a:off x="4186080" y="4929120"/>
            <a:ext cx="857520" cy="928800"/>
          </a:xfrm>
          <a:prstGeom prst="pie">
            <a:avLst/>
          </a:pr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Straight Arrow Connector 55"/>
          <p:cNvCxnSpPr>
            <a:stCxn id="418" idx="3"/>
          </p:cNvCxnSpPr>
          <p:nvPr/>
        </p:nvCxnSpPr>
        <p:spPr>
          <a:xfrm flipH="1">
            <a:off x="4043160" y="5856840"/>
            <a:ext cx="551520" cy="1080"/>
          </a:xfrm>
          <a:prstGeom prst="straightConnector1">
            <a:avLst/>
          </a:prstGeom>
          <a:ln w="57240">
            <a:solidFill>
              <a:srgbClr val="ff0066"/>
            </a:solidFill>
            <a:miter/>
            <a:tailEnd len="med" type="arrow" w="med"/>
          </a:ln>
        </p:spPr>
      </p:cxnSp>
      <p:sp>
        <p:nvSpPr>
          <p:cNvPr id="420" name="TextBox 60"/>
          <p:cNvSpPr/>
          <p:nvPr/>
        </p:nvSpPr>
        <p:spPr>
          <a:xfrm>
            <a:off x="1500120" y="62866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ve presynaptic auto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55:12Z</dcterms:created>
  <dc:creator>Cheryl Tajon</dc:creator>
  <dc:description/>
  <dc:language>en-US</dc:language>
  <cp:lastModifiedBy>aalmedany</cp:lastModifiedBy>
  <dcterms:modified xsi:type="dcterms:W3CDTF">2014-11-03T05:21:13Z</dcterms:modified>
  <cp:revision>222</cp:revision>
  <dc:subject/>
  <dc:title>Nonsteroidal Antiinflammatory Drugs (NSAIDs)</dc:title>
</cp:coreProperties>
</file>