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6.gif" ContentType="image/gif"/>
  <Override PartName="/ppt/media/image20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9B39937-A8DD-4D39-A22E-42D0045F6CF8}" type="doc">
      <dgm:prSet loTypeId="urn:microsoft.com/office/officeart/2005/8/layout/hierarchy1" loCatId="hierarchy" qsTypeId="urn:microsoft.com/office/officeart/2005/8/quickstyle/simple1" qsCatId="simple" csTypeId="urn:microsoft.com/office/officeart/2005/8/colors/accent2_2" csCatId="accent2" phldr="1"/>
      <dgm:spPr/>
      <dgm:t>
        <a:bodyPr/>
        <a:lstStyle/>
        <a:p>
          <a:pPr rtl="1"/>
          <a:endParaRPr lang="ar-SA"/>
        </a:p>
      </dgm:t>
    </dgm:pt>
    <dgm:pt modelId="{D4E1747B-1CFE-4720-8525-AF25337BECD9}">
      <dgm:prSet phldrT="[Text]"/>
      <dgm:spPr/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: is excessive fluid in the tissues </a:t>
          </a:r>
          <a:endParaRPr lang="ar-SA" b="1" dirty="0">
            <a:solidFill>
              <a:srgbClr val="C00000"/>
            </a:solidFill>
          </a:endParaRPr>
        </a:p>
      </dgm:t>
    </dgm:pt>
    <dgm:pt modelId="{F693BA5A-6FEE-4C8C-9E52-E6E12A7C756F}" type="par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535CC99C-AF24-4621-8FB1-7008E7E34E2F}" type="sib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AA50BACD-0559-4493-A5A9-3806438E823A}">
      <dgm:prSet phldrT="[Text]"/>
      <dgm:spPr/>
      <dgm:t>
        <a:bodyPr/>
        <a:lstStyle/>
        <a:p>
          <a:pPr rtl="1"/>
          <a:r>
            <a:rPr lang="en-US" dirty="0" smtClean="0"/>
            <a:t>Intracellular</a:t>
          </a:r>
          <a:endParaRPr lang="ar-SA" dirty="0"/>
        </a:p>
      </dgm:t>
    </dgm:pt>
    <dgm:pt modelId="{F42CD7B0-9E6E-4598-8516-CA8C95A8807B}" type="parTrans" cxnId="{8243D580-CD1B-43DD-B7AD-608995296A8A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01544099-3D3D-490D-A909-D0777E3711D4}" type="sibTrans" cxnId="{8243D580-CD1B-43DD-B7AD-608995296A8A}">
      <dgm:prSet/>
      <dgm:spPr/>
      <dgm:t>
        <a:bodyPr/>
        <a:lstStyle/>
        <a:p>
          <a:pPr rtl="1"/>
          <a:endParaRPr lang="ar-SA"/>
        </a:p>
      </dgm:t>
    </dgm:pt>
    <dgm:pt modelId="{1AE192A2-D8B2-4E66-98BE-CB5E1E580298}">
      <dgm:prSet phldrT="[Text]"/>
      <dgm:spPr/>
      <dgm:t>
        <a:bodyPr/>
        <a:lstStyle/>
        <a:p>
          <a:pPr rtl="1"/>
          <a:r>
            <a:rPr lang="en-US" dirty="0" smtClean="0"/>
            <a:t>Extracellular</a:t>
          </a:r>
          <a:endParaRPr lang="ar-SA" dirty="0"/>
        </a:p>
      </dgm:t>
    </dgm:pt>
    <dgm:pt modelId="{CFF1D3B3-A0EC-4BE5-B1DC-7583533B677B}" type="parTrans" cxnId="{39939F2B-F59F-49FF-A0C7-23B081DB98D5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BE9A30A6-A000-4C2D-A05A-5CD59F311E88}" type="sibTrans" cxnId="{39939F2B-F59F-49FF-A0C7-23B081DB98D5}">
      <dgm:prSet/>
      <dgm:spPr/>
      <dgm:t>
        <a:bodyPr/>
        <a:lstStyle/>
        <a:p>
          <a:pPr rtl="1"/>
          <a:endParaRPr lang="ar-SA"/>
        </a:p>
      </dgm:t>
    </dgm:pt>
    <dgm:pt modelId="{BD96BFEC-C70A-4E1C-B424-C4D23A041C18}" type="pres">
      <dgm:prSet presAssocID="{19B39937-A8DD-4D39-A22E-42D0045F6CF8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pPr rtl="1"/>
          <a:endParaRPr lang="ar-SA"/>
        </a:p>
      </dgm:t>
    </dgm:pt>
    <dgm:pt modelId="{A8B9B752-AF1C-45FA-974D-797D8C3D9388}" type="pres">
      <dgm:prSet presAssocID="{D4E1747B-1CFE-4720-8525-AF25337BECD9}" presName="hierRoot1" presStyleCnt="0"/>
      <dgm:spPr/>
      <dgm:t>
        <a:bodyPr/>
        <a:lstStyle/>
        <a:p>
          <a:endParaRPr lang="en-US"/>
        </a:p>
      </dgm:t>
    </dgm:pt>
    <dgm:pt modelId="{1ECF5841-7025-408F-AAE8-F87078345679}" type="pres">
      <dgm:prSet presAssocID="{D4E1747B-1CFE-4720-8525-AF25337BECD9}" presName="composite" presStyleCnt="0"/>
      <dgm:spPr/>
      <dgm:t>
        <a:bodyPr/>
        <a:lstStyle/>
        <a:p>
          <a:endParaRPr lang="en-US"/>
        </a:p>
      </dgm:t>
    </dgm:pt>
    <dgm:pt modelId="{BA6906F2-CA68-4110-B0EC-7E39F7A9D5DB}" type="pres">
      <dgm:prSet presAssocID="{D4E1747B-1CFE-4720-8525-AF25337BECD9}" presName="background" presStyleLbl="node0" presStyleIdx="0" presStyleCnt="1"/>
      <dgm:spPr/>
      <dgm:t>
        <a:bodyPr/>
        <a:lstStyle/>
        <a:p>
          <a:endParaRPr lang="en-US"/>
        </a:p>
      </dgm:t>
    </dgm:pt>
    <dgm:pt modelId="{D9B31181-C7C4-49E0-A567-3AEEDE6DBE16}" type="pres">
      <dgm:prSet presAssocID="{D4E1747B-1CFE-4720-8525-AF25337BECD9}" presName="text" presStyleLbl="fgAcc0" presStyleIdx="0" presStyleCnt="1" custAng="0" custLinFactNeighborX="2808" custLinFactNeighborY="20456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7F7847A7-1B33-4798-88DD-4723F79E4BBC}" type="pres">
      <dgm:prSet presAssocID="{D4E1747B-1CFE-4720-8525-AF25337BECD9}" presName="hierChild2" presStyleCnt="0"/>
      <dgm:spPr/>
      <dgm:t>
        <a:bodyPr/>
        <a:lstStyle/>
        <a:p>
          <a:endParaRPr lang="en-US"/>
        </a:p>
      </dgm:t>
    </dgm:pt>
    <dgm:pt modelId="{8174C8FD-2CC6-4AA7-AD4F-E2D46E83058E}" type="pres">
      <dgm:prSet presAssocID="{F42CD7B0-9E6E-4598-8516-CA8C95A8807B}" presName="Name10" presStyleLbl="parChTrans1D2" presStyleIdx="0" presStyleCnt="2"/>
      <dgm:spPr/>
      <dgm:t>
        <a:bodyPr/>
        <a:lstStyle/>
        <a:p>
          <a:pPr rtl="1"/>
          <a:endParaRPr lang="ar-SA"/>
        </a:p>
      </dgm:t>
    </dgm:pt>
    <dgm:pt modelId="{26826634-E0EC-45B5-B45A-13ED567BEE6C}" type="pres">
      <dgm:prSet presAssocID="{AA50BACD-0559-4493-A5A9-3806438E823A}" presName="hierRoot2" presStyleCnt="0"/>
      <dgm:spPr/>
      <dgm:t>
        <a:bodyPr/>
        <a:lstStyle/>
        <a:p>
          <a:endParaRPr lang="en-US"/>
        </a:p>
      </dgm:t>
    </dgm:pt>
    <dgm:pt modelId="{551E79D9-AD3B-4CD7-8622-27353263B3CD}" type="pres">
      <dgm:prSet presAssocID="{AA50BACD-0559-4493-A5A9-3806438E823A}" presName="composite2" presStyleCnt="0"/>
      <dgm:spPr/>
      <dgm:t>
        <a:bodyPr/>
        <a:lstStyle/>
        <a:p>
          <a:endParaRPr lang="en-US"/>
        </a:p>
      </dgm:t>
    </dgm:pt>
    <dgm:pt modelId="{CA06E414-D4E3-4311-A471-8C4D32341919}" type="pres">
      <dgm:prSet presAssocID="{AA50BACD-0559-4493-A5A9-3806438E823A}" presName="background2" presStyleLbl="node2" presStyleIdx="0" presStyleCnt="2"/>
      <dgm:spPr/>
      <dgm:t>
        <a:bodyPr/>
        <a:lstStyle/>
        <a:p>
          <a:endParaRPr lang="en-US"/>
        </a:p>
      </dgm:t>
    </dgm:pt>
    <dgm:pt modelId="{02D9C912-B239-444F-B14A-E06F281567B9}" type="pres">
      <dgm:prSet presAssocID="{AA50BACD-0559-4493-A5A9-3806438E823A}" presName="text2" presStyleLbl="fgAcc2" presStyleIdx="0" presStyleCnt="2" custLinFactNeighborX="-2688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D7D39E72-0A95-4AE2-BAB7-4FA7C95BB284}" type="pres">
      <dgm:prSet presAssocID="{AA50BACD-0559-4493-A5A9-3806438E823A}" presName="hierChild3" presStyleCnt="0"/>
      <dgm:spPr/>
      <dgm:t>
        <a:bodyPr/>
        <a:lstStyle/>
        <a:p>
          <a:endParaRPr lang="en-US"/>
        </a:p>
      </dgm:t>
    </dgm:pt>
    <dgm:pt modelId="{C226A4DF-DA1B-4FC3-9BA9-5EAF963BA286}" type="pres">
      <dgm:prSet presAssocID="{CFF1D3B3-A0EC-4BE5-B1DC-7583533B677B}" presName="Name10" presStyleLbl="parChTrans1D2" presStyleIdx="1" presStyleCnt="2"/>
      <dgm:spPr/>
      <dgm:t>
        <a:bodyPr/>
        <a:lstStyle/>
        <a:p>
          <a:pPr rtl="1"/>
          <a:endParaRPr lang="ar-SA"/>
        </a:p>
      </dgm:t>
    </dgm:pt>
    <dgm:pt modelId="{E0D01EEB-D060-42FD-AA25-B59FB420B038}" type="pres">
      <dgm:prSet presAssocID="{1AE192A2-D8B2-4E66-98BE-CB5E1E580298}" presName="hierRoot2" presStyleCnt="0"/>
      <dgm:spPr/>
      <dgm:t>
        <a:bodyPr/>
        <a:lstStyle/>
        <a:p>
          <a:endParaRPr lang="en-US"/>
        </a:p>
      </dgm:t>
    </dgm:pt>
    <dgm:pt modelId="{F304E326-D70F-4BDA-BFEF-26F286046473}" type="pres">
      <dgm:prSet presAssocID="{1AE192A2-D8B2-4E66-98BE-CB5E1E580298}" presName="composite2" presStyleCnt="0"/>
      <dgm:spPr/>
      <dgm:t>
        <a:bodyPr/>
        <a:lstStyle/>
        <a:p>
          <a:endParaRPr lang="en-US"/>
        </a:p>
      </dgm:t>
    </dgm:pt>
    <dgm:pt modelId="{26BED423-56B2-4937-932A-F802B305206B}" type="pres">
      <dgm:prSet presAssocID="{1AE192A2-D8B2-4E66-98BE-CB5E1E580298}" presName="background2" presStyleLbl="node2" presStyleIdx="1" presStyleCnt="2"/>
      <dgm:spPr/>
      <dgm:t>
        <a:bodyPr/>
        <a:lstStyle/>
        <a:p>
          <a:endParaRPr lang="en-US"/>
        </a:p>
      </dgm:t>
    </dgm:pt>
    <dgm:pt modelId="{E2F391F3-CA26-4F1B-8695-D3CD7829E74D}" type="pres">
      <dgm:prSet presAssocID="{1AE192A2-D8B2-4E66-98BE-CB5E1E580298}" presName="text2" presStyleLbl="fgAcc2" presStyleIdx="1" presStyleCnt="2" custLinFactNeighborX="-1024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C2B912D2-6704-4D77-A44B-EF528F4473BA}" type="pres">
      <dgm:prSet presAssocID="{1AE192A2-D8B2-4E66-98BE-CB5E1E580298}" presName="hierChild3" presStyleCnt="0"/>
      <dgm:spPr/>
      <dgm:t>
        <a:bodyPr/>
        <a:lstStyle/>
        <a:p>
          <a:endParaRPr lang="en-US"/>
        </a:p>
      </dgm:t>
    </dgm:pt>
  </dgm:ptLst>
  <dgm:cxnLst>
    <dgm:cxn modelId="{2D187C15-4AA5-445B-98EC-5A7C9FAA5DA4}" type="presOf" srcId="{1AE192A2-D8B2-4E66-98BE-CB5E1E580298}" destId="{E2F391F3-CA26-4F1B-8695-D3CD7829E74D}" srcOrd="0" destOrd="0" presId="urn:microsoft.com/office/officeart/2005/8/layout/hierarchy1"/>
    <dgm:cxn modelId="{BE12B8AE-647A-4364-BFFF-D68C25278277}" type="presOf" srcId="{D4E1747B-1CFE-4720-8525-AF25337BECD9}" destId="{D9B31181-C7C4-49E0-A567-3AEEDE6DBE16}" srcOrd="0" destOrd="0" presId="urn:microsoft.com/office/officeart/2005/8/layout/hierarchy1"/>
    <dgm:cxn modelId="{B527682C-D228-43B1-AE7C-281826B0B07E}" type="presOf" srcId="{F42CD7B0-9E6E-4598-8516-CA8C95A8807B}" destId="{8174C8FD-2CC6-4AA7-AD4F-E2D46E83058E}" srcOrd="0" destOrd="0" presId="urn:microsoft.com/office/officeart/2005/8/layout/hierarchy1"/>
    <dgm:cxn modelId="{39939F2B-F59F-49FF-A0C7-23B081DB98D5}" srcId="{D4E1747B-1CFE-4720-8525-AF25337BECD9}" destId="{1AE192A2-D8B2-4E66-98BE-CB5E1E580298}" srcOrd="1" destOrd="0" parTransId="{CFF1D3B3-A0EC-4BE5-B1DC-7583533B677B}" sibTransId="{BE9A30A6-A000-4C2D-A05A-5CD59F311E88}"/>
    <dgm:cxn modelId="{8243D580-CD1B-43DD-B7AD-608995296A8A}" srcId="{D4E1747B-1CFE-4720-8525-AF25337BECD9}" destId="{AA50BACD-0559-4493-A5A9-3806438E823A}" srcOrd="0" destOrd="0" parTransId="{F42CD7B0-9E6E-4598-8516-CA8C95A8807B}" sibTransId="{01544099-3D3D-490D-A909-D0777E3711D4}"/>
    <dgm:cxn modelId="{D7131861-9F3E-4C99-8B4D-E03E549495E3}" srcId="{19B39937-A8DD-4D39-A22E-42D0045F6CF8}" destId="{D4E1747B-1CFE-4720-8525-AF25337BECD9}" srcOrd="0" destOrd="0" parTransId="{F693BA5A-6FEE-4C8C-9E52-E6E12A7C756F}" sibTransId="{535CC99C-AF24-4621-8FB1-7008E7E34E2F}"/>
    <dgm:cxn modelId="{BC198382-7B5D-4EDE-8BA0-D10B1DA8F1C9}" type="presOf" srcId="{CFF1D3B3-A0EC-4BE5-B1DC-7583533B677B}" destId="{C226A4DF-DA1B-4FC3-9BA9-5EAF963BA286}" srcOrd="0" destOrd="0" presId="urn:microsoft.com/office/officeart/2005/8/layout/hierarchy1"/>
    <dgm:cxn modelId="{45849BE5-E2C5-4404-A00F-754559107D29}" type="presOf" srcId="{AA50BACD-0559-4493-A5A9-3806438E823A}" destId="{02D9C912-B239-444F-B14A-E06F281567B9}" srcOrd="0" destOrd="0" presId="urn:microsoft.com/office/officeart/2005/8/layout/hierarchy1"/>
    <dgm:cxn modelId="{649DBAA3-5311-4C1E-B99C-D15505F8F49F}" type="presOf" srcId="{19B39937-A8DD-4D39-A22E-42D0045F6CF8}" destId="{BD96BFEC-C70A-4E1C-B424-C4D23A041C18}" srcOrd="0" destOrd="0" presId="urn:microsoft.com/office/officeart/2005/8/layout/hierarchy1"/>
    <dgm:cxn modelId="{963AC0BC-8EC4-4979-A4B6-B251E48C9B83}" type="presParOf" srcId="{BD96BFEC-C70A-4E1C-B424-C4D23A041C18}" destId="{A8B9B752-AF1C-45FA-974D-797D8C3D9388}" srcOrd="0" destOrd="0" presId="urn:microsoft.com/office/officeart/2005/8/layout/hierarchy1"/>
    <dgm:cxn modelId="{53BC1F36-CAD7-49A4-B585-3CFB1239A871}" type="presParOf" srcId="{A8B9B752-AF1C-45FA-974D-797D8C3D9388}" destId="{1ECF5841-7025-408F-AAE8-F87078345679}" srcOrd="0" destOrd="0" presId="urn:microsoft.com/office/officeart/2005/8/layout/hierarchy1"/>
    <dgm:cxn modelId="{22D55D84-62A4-4EE4-91BE-1D2E5826CD83}" type="presParOf" srcId="{1ECF5841-7025-408F-AAE8-F87078345679}" destId="{BA6906F2-CA68-4110-B0EC-7E39F7A9D5DB}" srcOrd="0" destOrd="0" presId="urn:microsoft.com/office/officeart/2005/8/layout/hierarchy1"/>
    <dgm:cxn modelId="{7D43A5F3-37DD-4308-8B93-2F372F80746E}" type="presParOf" srcId="{1ECF5841-7025-408F-AAE8-F87078345679}" destId="{D9B31181-C7C4-49E0-A567-3AEEDE6DBE16}" srcOrd="1" destOrd="0" presId="urn:microsoft.com/office/officeart/2005/8/layout/hierarchy1"/>
    <dgm:cxn modelId="{697CF336-04B7-471E-8AD7-64F153B92956}" type="presParOf" srcId="{A8B9B752-AF1C-45FA-974D-797D8C3D9388}" destId="{7F7847A7-1B33-4798-88DD-4723F79E4BBC}" srcOrd="1" destOrd="0" presId="urn:microsoft.com/office/officeart/2005/8/layout/hierarchy1"/>
    <dgm:cxn modelId="{5C4BAF76-2755-4380-A3A8-3917EB119C1A}" type="presParOf" srcId="{7F7847A7-1B33-4798-88DD-4723F79E4BBC}" destId="{8174C8FD-2CC6-4AA7-AD4F-E2D46E83058E}" srcOrd="0" destOrd="0" presId="urn:microsoft.com/office/officeart/2005/8/layout/hierarchy1"/>
    <dgm:cxn modelId="{7F48AA85-FAA8-4B5E-BFB0-85240105038B}" type="presParOf" srcId="{7F7847A7-1B33-4798-88DD-4723F79E4BBC}" destId="{26826634-E0EC-45B5-B45A-13ED567BEE6C}" srcOrd="1" destOrd="0" presId="urn:microsoft.com/office/officeart/2005/8/layout/hierarchy1"/>
    <dgm:cxn modelId="{0D9EC2B9-FFCD-4CD9-A6C4-4A9759784D6A}" type="presParOf" srcId="{26826634-E0EC-45B5-B45A-13ED567BEE6C}" destId="{551E79D9-AD3B-4CD7-8622-27353263B3CD}" srcOrd="0" destOrd="0" presId="urn:microsoft.com/office/officeart/2005/8/layout/hierarchy1"/>
    <dgm:cxn modelId="{0F5AE29D-6FD4-4A10-A1DB-39039430C6C2}" type="presParOf" srcId="{551E79D9-AD3B-4CD7-8622-27353263B3CD}" destId="{CA06E414-D4E3-4311-A471-8C4D32341919}" srcOrd="0" destOrd="0" presId="urn:microsoft.com/office/officeart/2005/8/layout/hierarchy1"/>
    <dgm:cxn modelId="{1BB34152-6978-4197-8712-4D7522E807E0}" type="presParOf" srcId="{551E79D9-AD3B-4CD7-8622-27353263B3CD}" destId="{02D9C912-B239-444F-B14A-E06F281567B9}" srcOrd="1" destOrd="0" presId="urn:microsoft.com/office/officeart/2005/8/layout/hierarchy1"/>
    <dgm:cxn modelId="{A4E347B6-87A3-4EB1-BBA8-AB7B90FA646D}" type="presParOf" srcId="{26826634-E0EC-45B5-B45A-13ED567BEE6C}" destId="{D7D39E72-0A95-4AE2-BAB7-4FA7C95BB284}" srcOrd="1" destOrd="0" presId="urn:microsoft.com/office/officeart/2005/8/layout/hierarchy1"/>
    <dgm:cxn modelId="{845CBF43-15C1-4512-BD03-D2B51F821334}" type="presParOf" srcId="{7F7847A7-1B33-4798-88DD-4723F79E4BBC}" destId="{C226A4DF-DA1B-4FC3-9BA9-5EAF963BA286}" srcOrd="2" destOrd="0" presId="urn:microsoft.com/office/officeart/2005/8/layout/hierarchy1"/>
    <dgm:cxn modelId="{952B5EEA-4C5B-4DCE-834C-E731529579EE}" type="presParOf" srcId="{7F7847A7-1B33-4798-88DD-4723F79E4BBC}" destId="{E0D01EEB-D060-42FD-AA25-B59FB420B038}" srcOrd="3" destOrd="0" presId="urn:microsoft.com/office/officeart/2005/8/layout/hierarchy1"/>
    <dgm:cxn modelId="{5214BACB-3B62-4D54-8712-9BCB8C62DD95}" type="presParOf" srcId="{E0D01EEB-D060-42FD-AA25-B59FB420B038}" destId="{F304E326-D70F-4BDA-BFEF-26F286046473}" srcOrd="0" destOrd="0" presId="urn:microsoft.com/office/officeart/2005/8/layout/hierarchy1"/>
    <dgm:cxn modelId="{4D932661-0FB6-431C-B5E4-00A45BE87855}" type="presParOf" srcId="{F304E326-D70F-4BDA-BFEF-26F286046473}" destId="{26BED423-56B2-4937-932A-F802B305206B}" srcOrd="0" destOrd="0" presId="urn:microsoft.com/office/officeart/2005/8/layout/hierarchy1"/>
    <dgm:cxn modelId="{31F3D8DF-A9EB-4327-A27C-32DE1C2185FF}" type="presParOf" srcId="{F304E326-D70F-4BDA-BFEF-26F286046473}" destId="{E2F391F3-CA26-4F1B-8695-D3CD7829E74D}" srcOrd="1" destOrd="0" presId="urn:microsoft.com/office/officeart/2005/8/layout/hierarchy1"/>
    <dgm:cxn modelId="{ECE6B4B6-52BB-41E6-AF8E-1345867FA663}" type="presParOf" srcId="{E0D01EEB-D060-42FD-AA25-B59FB420B038}" destId="{C2B912D2-6704-4D77-A44B-EF528F4473BA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D0998EB7-80B3-4A78-A9D9-4381ECC2596A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sz="2400" b="1" dirty="0" smtClean="0">
              <a:solidFill>
                <a:srgbClr val="C00000"/>
              </a:solidFill>
            </a:rPr>
            <a:t>filtration</a:t>
          </a:r>
          <a:r>
            <a:rPr lang="en-US" sz="2300" b="1" dirty="0" smtClean="0">
              <a:solidFill>
                <a:srgbClr val="C00000"/>
              </a:solidFill>
            </a:rPr>
            <a:t>.</a:t>
          </a:r>
          <a:endParaRPr lang="ar-SA" sz="23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F0036EED-8765-47AE-B411-AEC85CD29F0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</a:t>
          </a:r>
          <a:endParaRPr lang="ar-SA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1D8AC17D-D46F-4C9F-9C1D-02C166E0715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b="1" dirty="0" smtClean="0">
              <a:solidFill>
                <a:srgbClr val="C00000"/>
              </a:solidFill>
            </a:rPr>
            <a:t>capillary pressure</a:t>
          </a:r>
          <a:endParaRPr lang="en-US" b="1" dirty="0">
            <a:solidFill>
              <a:srgbClr val="C00000"/>
            </a:solidFill>
          </a:endParaRPr>
        </a:p>
      </dgm:t>
    </dgm:pt>
    <dgm:pt modelId="{28E02CB2-9AA6-429D-BE38-4389560D0168}" type="parTrans" cxnId="{1AA77C4A-D84B-4E7F-BD22-D3AAA145151B}">
      <dgm:prSet/>
      <dgm:spPr/>
      <dgm:t>
        <a:bodyPr/>
        <a:lstStyle/>
        <a:p>
          <a:endParaRPr lang="en-US"/>
        </a:p>
      </dgm:t>
    </dgm:pt>
    <dgm:pt modelId="{DB3EAD3C-1AFD-4B05-A260-72889A7C1FE9}" type="sibTrans" cxnId="{1AA77C4A-D84B-4E7F-BD22-D3AAA145151B}">
      <dgm:prSet/>
      <dgm:spPr/>
      <dgm:t>
        <a:bodyPr/>
        <a:lstStyle/>
        <a:p>
          <a:endParaRPr lang="en-US"/>
        </a:p>
      </dgm:t>
    </dgm:pt>
    <dgm:pt modelId="{F135172D-5EF9-4B37-8335-97EB7670ADF9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sz="2800" b="1" dirty="0" smtClean="0">
              <a:solidFill>
                <a:srgbClr val="C00000"/>
              </a:solidFill>
            </a:rPr>
            <a:t>Heart failure</a:t>
          </a:r>
          <a:r>
            <a:rPr lang="en-US" sz="1900" dirty="0" smtClean="0">
              <a:solidFill>
                <a:schemeClr val="accent3">
                  <a:lumMod val="75000"/>
                </a:schemeClr>
              </a:solidFill>
            </a:rPr>
            <a:t>.</a:t>
          </a:r>
          <a:endParaRPr lang="en-US" sz="1900" dirty="0"/>
        </a:p>
      </dgm:t>
    </dgm:pt>
    <dgm:pt modelId="{4FFEE464-D35F-45E2-87CD-A683E04DE4A4}" type="sibTrans" cxnId="{4F29E404-8CD1-49BA-8655-3A91937F03FB}">
      <dgm:prSet/>
      <dgm:spPr/>
      <dgm:t>
        <a:bodyPr/>
        <a:lstStyle/>
        <a:p>
          <a:endParaRPr lang="en-US"/>
        </a:p>
      </dgm:t>
    </dgm:pt>
    <dgm:pt modelId="{8DF94A40-E03F-4D4D-9BE0-1A9F761BCA63}" type="parTrans" cxnId="{4F29E404-8CD1-49BA-8655-3A91937F03FB}">
      <dgm:prSet/>
      <dgm:spPr/>
      <dgm:t>
        <a:bodyPr/>
        <a:lstStyle/>
        <a:p>
          <a:endParaRPr lang="en-US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4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1" presStyleCnt="4"/>
      <dgm:spPr/>
      <dgm:t>
        <a:bodyPr/>
        <a:lstStyle/>
        <a:p>
          <a:pPr rtl="1"/>
          <a:endParaRPr lang="ar-SA"/>
        </a:p>
      </dgm:t>
    </dgm:pt>
    <dgm:pt modelId="{3104DDBD-C2AF-4147-85C4-111EE76C1BD7}" type="pres">
      <dgm:prSet presAssocID="{DB3EAD3C-1AFD-4B05-A260-72889A7C1FE9}" presName="sp" presStyleCnt="0"/>
      <dgm:spPr/>
    </dgm:pt>
    <dgm:pt modelId="{4FFF4ED3-B45A-4A4D-8F63-13FAEDA10739}" type="pres">
      <dgm:prSet presAssocID="{1D8AC17D-D46F-4C9F-9C1D-02C166E07155}" presName="arrowAndChildren" presStyleCnt="0"/>
      <dgm:spPr/>
    </dgm:pt>
    <dgm:pt modelId="{69F12ED5-25A4-4B82-973F-68F15149ACE2}" type="pres">
      <dgm:prSet presAssocID="{1D8AC17D-D46F-4C9F-9C1D-02C166E07155}" presName="parentTextArrow" presStyleLbl="node1" presStyleIdx="2" presStyleCnt="4" custLinFactNeighborX="-8359" custLinFactNeighborY="4226"/>
      <dgm:spPr/>
      <dgm:t>
        <a:bodyPr/>
        <a:lstStyle/>
        <a:p>
          <a:endParaRPr lang="en-US"/>
        </a:p>
      </dgm:t>
    </dgm:pt>
    <dgm:pt modelId="{2C9EDE95-252E-44FD-893D-76F1329EA117}" type="pres">
      <dgm:prSet presAssocID="{4FFEE464-D35F-45E2-87CD-A683E04DE4A4}" presName="sp" presStyleCnt="0"/>
      <dgm:spPr/>
    </dgm:pt>
    <dgm:pt modelId="{74883F86-2637-45D8-BF3D-9FD1B8D989B3}" type="pres">
      <dgm:prSet presAssocID="{F135172D-5EF9-4B37-8335-97EB7670ADF9}" presName="arrowAndChildren" presStyleCnt="0"/>
      <dgm:spPr/>
    </dgm:pt>
    <dgm:pt modelId="{A3DAA4D2-1F64-448A-91F9-753D6226279E}" type="pres">
      <dgm:prSet presAssocID="{F135172D-5EF9-4B37-8335-97EB7670ADF9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12E1074B-D219-4DE8-A542-58ADDA8B7F33}" type="presOf" srcId="{1D8AC17D-D46F-4C9F-9C1D-02C166E07155}" destId="{69F12ED5-25A4-4B82-973F-68F15149ACE2}" srcOrd="0" destOrd="0" presId="urn:microsoft.com/office/officeart/2005/8/layout/process4"/>
    <dgm:cxn modelId="{36DC3558-8E49-4C45-8212-D2CDC423F1B0}" type="presOf" srcId="{F0036EED-8765-47AE-B411-AEC85CD29F05}" destId="{D06F8725-AD24-426C-A88C-A34CE208ED28}" srcOrd="0" destOrd="0" presId="urn:microsoft.com/office/officeart/2005/8/layout/process4"/>
    <dgm:cxn modelId="{0257F5A8-C1E8-49FB-9330-A98E4A672E40}" type="presOf" srcId="{D0998EB7-80B3-4A78-A9D9-4381ECC2596A}" destId="{6F527CA3-93C7-447E-995B-DEAF78CB0353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4F29E404-8CD1-49BA-8655-3A91937F03FB}" srcId="{6AD1C19E-4ED6-44D6-B99D-77C7DC8557F5}" destId="{F135172D-5EF9-4B37-8335-97EB7670ADF9}" srcOrd="0" destOrd="0" parTransId="{8DF94A40-E03F-4D4D-9BE0-1A9F761BCA63}" sibTransId="{4FFEE464-D35F-45E2-87CD-A683E04DE4A4}"/>
    <dgm:cxn modelId="{1AA77C4A-D84B-4E7F-BD22-D3AAA145151B}" srcId="{6AD1C19E-4ED6-44D6-B99D-77C7DC8557F5}" destId="{1D8AC17D-D46F-4C9F-9C1D-02C166E07155}" srcOrd="1" destOrd="0" parTransId="{28E02CB2-9AA6-429D-BE38-4389560D0168}" sibTransId="{DB3EAD3C-1AFD-4B05-A260-72889A7C1FE9}"/>
    <dgm:cxn modelId="{26423F1B-454C-4852-84A5-EED90111D93F}" type="presOf" srcId="{F135172D-5EF9-4B37-8335-97EB7670ADF9}" destId="{A3DAA4D2-1F64-448A-91F9-753D6226279E}" srcOrd="0" destOrd="0" presId="urn:microsoft.com/office/officeart/2005/8/layout/process4"/>
    <dgm:cxn modelId="{E262E947-C368-4D71-8B1F-346371F4D782}" type="presOf" srcId="{6AD1C19E-4ED6-44D6-B99D-77C7DC8557F5}" destId="{D413DE7F-6B0C-4DB8-A3EF-9ACECB11FE3B}" srcOrd="0" destOrd="0" presId="urn:microsoft.com/office/officeart/2005/8/layout/process4"/>
    <dgm:cxn modelId="{82B1C54F-B7A1-44CF-BC8F-45E7DADED452}" srcId="{6AD1C19E-4ED6-44D6-B99D-77C7DC8557F5}" destId="{F0036EED-8765-47AE-B411-AEC85CD29F05}" srcOrd="3" destOrd="0" parTransId="{C6D03AA2-9FEB-4200-9DB6-E14AA62BC415}" sibTransId="{7C11BAD0-85AE-4443-957B-C76DE80661B5}"/>
    <dgm:cxn modelId="{18E3EE43-1479-4B65-B71C-BB21C9921E18}" type="presParOf" srcId="{D413DE7F-6B0C-4DB8-A3EF-9ACECB11FE3B}" destId="{522A3F99-6E1D-4C7F-B71C-B4D9E1669EDD}" srcOrd="0" destOrd="0" presId="urn:microsoft.com/office/officeart/2005/8/layout/process4"/>
    <dgm:cxn modelId="{A43BBC51-84F0-47A8-BDBE-CCE4898F1C82}" type="presParOf" srcId="{522A3F99-6E1D-4C7F-B71C-B4D9E1669EDD}" destId="{D06F8725-AD24-426C-A88C-A34CE208ED28}" srcOrd="0" destOrd="0" presId="urn:microsoft.com/office/officeart/2005/8/layout/process4"/>
    <dgm:cxn modelId="{FDFBE19F-4B35-4BAB-B7D2-EA8196CA2B64}" type="presParOf" srcId="{D413DE7F-6B0C-4DB8-A3EF-9ACECB11FE3B}" destId="{B8D8B5D8-20D9-4856-902E-F548B810B7A0}" srcOrd="1" destOrd="0" presId="urn:microsoft.com/office/officeart/2005/8/layout/process4"/>
    <dgm:cxn modelId="{0C0505BB-50CC-42EA-838B-D45402BCF025}" type="presParOf" srcId="{D413DE7F-6B0C-4DB8-A3EF-9ACECB11FE3B}" destId="{EE05D40C-5FBC-4B75-9738-7EECA6F762A9}" srcOrd="2" destOrd="0" presId="urn:microsoft.com/office/officeart/2005/8/layout/process4"/>
    <dgm:cxn modelId="{B1B46194-C6C5-48B1-A66B-47CC39C60AA9}" type="presParOf" srcId="{EE05D40C-5FBC-4B75-9738-7EECA6F762A9}" destId="{6F527CA3-93C7-447E-995B-DEAF78CB0353}" srcOrd="0" destOrd="0" presId="urn:microsoft.com/office/officeart/2005/8/layout/process4"/>
    <dgm:cxn modelId="{C875CC23-D2F6-45A7-A250-EF2629163459}" type="presParOf" srcId="{D413DE7F-6B0C-4DB8-A3EF-9ACECB11FE3B}" destId="{3104DDBD-C2AF-4147-85C4-111EE76C1BD7}" srcOrd="3" destOrd="0" presId="urn:microsoft.com/office/officeart/2005/8/layout/process4"/>
    <dgm:cxn modelId="{98577828-8778-445D-9888-EFD6E5C2711A}" type="presParOf" srcId="{D413DE7F-6B0C-4DB8-A3EF-9ACECB11FE3B}" destId="{4FFF4ED3-B45A-4A4D-8F63-13FAEDA10739}" srcOrd="4" destOrd="0" presId="urn:microsoft.com/office/officeart/2005/8/layout/process4"/>
    <dgm:cxn modelId="{C7949CB8-BAFB-447D-8A04-4640136E39D0}" type="presParOf" srcId="{4FFF4ED3-B45A-4A4D-8F63-13FAEDA10739}" destId="{69F12ED5-25A4-4B82-973F-68F15149ACE2}" srcOrd="0" destOrd="0" presId="urn:microsoft.com/office/officeart/2005/8/layout/process4"/>
    <dgm:cxn modelId="{5858F20F-98C4-4683-8B93-D875E750A2E5}" type="presParOf" srcId="{D413DE7F-6B0C-4DB8-A3EF-9ACECB11FE3B}" destId="{2C9EDE95-252E-44FD-893D-76F1329EA117}" srcOrd="5" destOrd="0" presId="urn:microsoft.com/office/officeart/2005/8/layout/process4"/>
    <dgm:cxn modelId="{0BE7DCAB-71AE-4182-89A2-2508D322C609}" type="presParOf" srcId="{D413DE7F-6B0C-4DB8-A3EF-9ACECB11FE3B}" destId="{74883F86-2637-45D8-BF3D-9FD1B8D989B3}" srcOrd="6" destOrd="0" presId="urn:microsoft.com/office/officeart/2005/8/layout/process4"/>
    <dgm:cxn modelId="{3A0D52B1-D882-4190-9D1C-42FC30CB4E5A}" type="presParOf" srcId="{74883F86-2637-45D8-BF3D-9FD1B8D989B3}" destId="{A3DAA4D2-1F64-448A-91F9-753D6226279E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411B5F31-E468-46D9-9523-308ED68F8A7F}">
      <dgm:prSet custT="1"/>
      <dgm:spPr>
        <a:solidFill>
          <a:srgbClr val="00B0F0"/>
        </a:solidFill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inflammation of tissues.</a:t>
          </a:r>
        </a:p>
      </dgm:t>
    </dgm:pt>
    <dgm:pt modelId="{753E2B6F-C5FF-4F03-A5FB-D9586B46DEC2}" type="par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066F35D3-1835-405F-8934-7AE8B6A0A312}" type="sib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90226686-5000-4627-B708-2BA0C69EF76B}">
      <dgm:prSet custT="1"/>
      <dgm:spPr>
        <a:solidFill>
          <a:srgbClr val="00B0F0"/>
        </a:solidFill>
        <a:ln>
          <a:solidFill>
            <a:srgbClr val="00B0F0"/>
          </a:solidFill>
        </a:ln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membrane permeability. </a:t>
          </a:r>
          <a:endParaRPr lang="ar-SA" sz="3200" b="1" dirty="0">
            <a:solidFill>
              <a:srgbClr val="C00000"/>
            </a:solidFill>
          </a:endParaRPr>
        </a:p>
      </dgm:t>
    </dgm:pt>
    <dgm:pt modelId="{FBBB60F0-F7D4-4FE7-9161-47F5AB346F55}" type="par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0F43EAD7-6188-4669-A768-D32EF32A937D}" type="sib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D0998EB7-80B3-4A78-A9D9-4381ECC2596A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Na inside cells.</a:t>
          </a:r>
          <a:endParaRPr lang="ar-SA" sz="32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29279143-375F-463F-ADEC-BDD464B5F34D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water</a:t>
          </a:r>
          <a:endParaRPr lang="ar-SA" sz="3200" b="1" dirty="0">
            <a:solidFill>
              <a:srgbClr val="C00000"/>
            </a:solidFill>
          </a:endParaRPr>
        </a:p>
      </dgm:t>
    </dgm:pt>
    <dgm:pt modelId="{076AA41F-7118-4C26-BA07-6E57F3296AD9}" type="par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A0F2E208-8295-404D-B80E-21C2C9252069}" type="sib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F0036EED-8765-47AE-B411-AEC85CD29F05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edema</a:t>
          </a:r>
          <a:endParaRPr lang="ar-SA" sz="3200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5"/>
      <dgm:spPr/>
      <dgm:t>
        <a:bodyPr/>
        <a:lstStyle/>
        <a:p>
          <a:pPr rtl="1"/>
          <a:endParaRPr lang="ar-SA"/>
        </a:p>
      </dgm:t>
    </dgm:pt>
    <dgm:pt modelId="{AE824276-D672-4182-B03F-B9287C94DE6D}" type="pres">
      <dgm:prSet presAssocID="{A0F2E208-8295-404D-B80E-21C2C9252069}" presName="sp" presStyleCnt="0"/>
      <dgm:spPr/>
      <dgm:t>
        <a:bodyPr/>
        <a:lstStyle/>
        <a:p>
          <a:endParaRPr lang="en-US"/>
        </a:p>
      </dgm:t>
    </dgm:pt>
    <dgm:pt modelId="{692FAD59-BDC5-4382-992B-13A8B268220B}" type="pres">
      <dgm:prSet presAssocID="{29279143-375F-463F-ADEC-BDD464B5F34D}" presName="arrowAndChildren" presStyleCnt="0"/>
      <dgm:spPr/>
      <dgm:t>
        <a:bodyPr/>
        <a:lstStyle/>
        <a:p>
          <a:endParaRPr lang="en-US"/>
        </a:p>
      </dgm:t>
    </dgm:pt>
    <dgm:pt modelId="{76D400B7-F54A-4EBA-B1E6-331871BFD112}" type="pres">
      <dgm:prSet presAssocID="{29279143-375F-463F-ADEC-BDD464B5F34D}" presName="parentTextArrow" presStyleLbl="node1" presStyleIdx="1" presStyleCnt="5" custLinFactNeighborY="982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2" presStyleCnt="5"/>
      <dgm:spPr/>
      <dgm:t>
        <a:bodyPr/>
        <a:lstStyle/>
        <a:p>
          <a:pPr rtl="1"/>
          <a:endParaRPr lang="ar-SA"/>
        </a:p>
      </dgm:t>
    </dgm:pt>
    <dgm:pt modelId="{DD06F7E1-7544-41E2-A428-9FCE51CA4F97}" type="pres">
      <dgm:prSet presAssocID="{0F43EAD7-6188-4669-A768-D32EF32A937D}" presName="sp" presStyleCnt="0"/>
      <dgm:spPr/>
      <dgm:t>
        <a:bodyPr/>
        <a:lstStyle/>
        <a:p>
          <a:endParaRPr lang="en-US"/>
        </a:p>
      </dgm:t>
    </dgm:pt>
    <dgm:pt modelId="{E546F1D8-701F-4CDF-9941-EED73548A366}" type="pres">
      <dgm:prSet presAssocID="{90226686-5000-4627-B708-2BA0C69EF76B}" presName="arrowAndChildren" presStyleCnt="0"/>
      <dgm:spPr/>
      <dgm:t>
        <a:bodyPr/>
        <a:lstStyle/>
        <a:p>
          <a:endParaRPr lang="en-US"/>
        </a:p>
      </dgm:t>
    </dgm:pt>
    <dgm:pt modelId="{072F9DF9-7306-4AE3-BC46-E1563EC9BAC5}" type="pres">
      <dgm:prSet presAssocID="{90226686-5000-4627-B708-2BA0C69EF76B}" presName="parentTextArrow" presStyleLbl="node1" presStyleIdx="3" presStyleCnt="5" custLinFactNeighborX="391" custLinFactNeighborY="3091"/>
      <dgm:spPr/>
      <dgm:t>
        <a:bodyPr/>
        <a:lstStyle/>
        <a:p>
          <a:pPr rtl="1"/>
          <a:endParaRPr lang="ar-SA"/>
        </a:p>
      </dgm:t>
    </dgm:pt>
    <dgm:pt modelId="{8914C780-F6C4-4ABE-BBEA-B8FD41FE00EA}" type="pres">
      <dgm:prSet presAssocID="{066F35D3-1835-405F-8934-7AE8B6A0A312}" presName="sp" presStyleCnt="0"/>
      <dgm:spPr/>
      <dgm:t>
        <a:bodyPr/>
        <a:lstStyle/>
        <a:p>
          <a:endParaRPr lang="en-US"/>
        </a:p>
      </dgm:t>
    </dgm:pt>
    <dgm:pt modelId="{CC431BFE-059F-42BE-96D7-7094EB254C4F}" type="pres">
      <dgm:prSet presAssocID="{411B5F31-E468-46D9-9523-308ED68F8A7F}" presName="arrowAndChildren" presStyleCnt="0"/>
      <dgm:spPr/>
      <dgm:t>
        <a:bodyPr/>
        <a:lstStyle/>
        <a:p>
          <a:endParaRPr lang="en-US"/>
        </a:p>
      </dgm:t>
    </dgm:pt>
    <dgm:pt modelId="{0A22112A-4870-471D-B460-4BE28B6A68F4}" type="pres">
      <dgm:prSet presAssocID="{411B5F31-E468-46D9-9523-308ED68F8A7F}" presName="parentTextArrow" presStyleLbl="node1" presStyleIdx="4" presStyleCnt="5"/>
      <dgm:spPr/>
      <dgm:t>
        <a:bodyPr/>
        <a:lstStyle/>
        <a:p>
          <a:pPr rtl="1"/>
          <a:endParaRPr lang="ar-SA"/>
        </a:p>
      </dgm:t>
    </dgm:pt>
  </dgm:ptLst>
  <dgm:cxnLst>
    <dgm:cxn modelId="{C1A4F17C-9742-4077-8DE2-F9F0129B2390}" srcId="{6AD1C19E-4ED6-44D6-B99D-77C7DC8557F5}" destId="{29279143-375F-463F-ADEC-BDD464B5F34D}" srcOrd="3" destOrd="0" parTransId="{076AA41F-7118-4C26-BA07-6E57F3296AD9}" sibTransId="{A0F2E208-8295-404D-B80E-21C2C9252069}"/>
    <dgm:cxn modelId="{EE8A20D5-5A1C-41CF-A2DA-8D74034644D2}" srcId="{6AD1C19E-4ED6-44D6-B99D-77C7DC8557F5}" destId="{411B5F31-E468-46D9-9523-308ED68F8A7F}" srcOrd="0" destOrd="0" parTransId="{753E2B6F-C5FF-4F03-A5FB-D9586B46DEC2}" sibTransId="{066F35D3-1835-405F-8934-7AE8B6A0A312}"/>
    <dgm:cxn modelId="{FE7180CB-C22E-4C31-96D6-0A133DE01D35}" srcId="{6AD1C19E-4ED6-44D6-B99D-77C7DC8557F5}" destId="{90226686-5000-4627-B708-2BA0C69EF76B}" srcOrd="1" destOrd="0" parTransId="{FBBB60F0-F7D4-4FE7-9161-47F5AB346F55}" sibTransId="{0F43EAD7-6188-4669-A768-D32EF32A937D}"/>
    <dgm:cxn modelId="{49AF0AFC-7B23-4344-A5E9-B996B798321F}" type="presOf" srcId="{29279143-375F-463F-ADEC-BDD464B5F34D}" destId="{76D400B7-F54A-4EBA-B1E6-331871BFD112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E44E9715-95D8-45FD-9ADE-9244711207D2}" type="presOf" srcId="{D0998EB7-80B3-4A78-A9D9-4381ECC2596A}" destId="{6F527CA3-93C7-447E-995B-DEAF78CB0353}" srcOrd="0" destOrd="0" presId="urn:microsoft.com/office/officeart/2005/8/layout/process4"/>
    <dgm:cxn modelId="{DD1FBD91-E5DD-404D-8DEF-FCDB9DCA0FE4}" type="presOf" srcId="{90226686-5000-4627-B708-2BA0C69EF76B}" destId="{072F9DF9-7306-4AE3-BC46-E1563EC9BAC5}" srcOrd="0" destOrd="0" presId="urn:microsoft.com/office/officeart/2005/8/layout/process4"/>
    <dgm:cxn modelId="{C9D29488-671B-4533-9C00-046FB7625316}" type="presOf" srcId="{6AD1C19E-4ED6-44D6-B99D-77C7DC8557F5}" destId="{D413DE7F-6B0C-4DB8-A3EF-9ACECB11FE3B}" srcOrd="0" destOrd="0" presId="urn:microsoft.com/office/officeart/2005/8/layout/process4"/>
    <dgm:cxn modelId="{CA0A5DC5-6DBE-4B40-A336-958E66A28D83}" type="presOf" srcId="{F0036EED-8765-47AE-B411-AEC85CD29F05}" destId="{D06F8725-AD24-426C-A88C-A34CE208ED28}" srcOrd="0" destOrd="0" presId="urn:microsoft.com/office/officeart/2005/8/layout/process4"/>
    <dgm:cxn modelId="{82B1C54F-B7A1-44CF-BC8F-45E7DADED452}" srcId="{6AD1C19E-4ED6-44D6-B99D-77C7DC8557F5}" destId="{F0036EED-8765-47AE-B411-AEC85CD29F05}" srcOrd="4" destOrd="0" parTransId="{C6D03AA2-9FEB-4200-9DB6-E14AA62BC415}" sibTransId="{7C11BAD0-85AE-4443-957B-C76DE80661B5}"/>
    <dgm:cxn modelId="{3F8E7DE4-B001-402D-9437-2F878705D283}" type="presOf" srcId="{411B5F31-E468-46D9-9523-308ED68F8A7F}" destId="{0A22112A-4870-471D-B460-4BE28B6A68F4}" srcOrd="0" destOrd="0" presId="urn:microsoft.com/office/officeart/2005/8/layout/process4"/>
    <dgm:cxn modelId="{805362B3-7948-48F5-97BD-284528DE65F5}" type="presParOf" srcId="{D413DE7F-6B0C-4DB8-A3EF-9ACECB11FE3B}" destId="{522A3F99-6E1D-4C7F-B71C-B4D9E1669EDD}" srcOrd="0" destOrd="0" presId="urn:microsoft.com/office/officeart/2005/8/layout/process4"/>
    <dgm:cxn modelId="{6C70A8C3-6C24-47D5-A138-C073C6693464}" type="presParOf" srcId="{522A3F99-6E1D-4C7F-B71C-B4D9E1669EDD}" destId="{D06F8725-AD24-426C-A88C-A34CE208ED28}" srcOrd="0" destOrd="0" presId="urn:microsoft.com/office/officeart/2005/8/layout/process4"/>
    <dgm:cxn modelId="{CD9953F2-7FD1-4BD7-9F08-966F04F008C6}" type="presParOf" srcId="{D413DE7F-6B0C-4DB8-A3EF-9ACECB11FE3B}" destId="{AE824276-D672-4182-B03F-B9287C94DE6D}" srcOrd="1" destOrd="0" presId="urn:microsoft.com/office/officeart/2005/8/layout/process4"/>
    <dgm:cxn modelId="{9D382CFF-9D35-4DDE-85BA-809061CE67A3}" type="presParOf" srcId="{D413DE7F-6B0C-4DB8-A3EF-9ACECB11FE3B}" destId="{692FAD59-BDC5-4382-992B-13A8B268220B}" srcOrd="2" destOrd="0" presId="urn:microsoft.com/office/officeart/2005/8/layout/process4"/>
    <dgm:cxn modelId="{68FF0EDD-FFBD-4B66-ABF3-27F922562509}" type="presParOf" srcId="{692FAD59-BDC5-4382-992B-13A8B268220B}" destId="{76D400B7-F54A-4EBA-B1E6-331871BFD112}" srcOrd="0" destOrd="0" presId="urn:microsoft.com/office/officeart/2005/8/layout/process4"/>
    <dgm:cxn modelId="{F0C53181-2118-4B97-8C39-BABC0C7710F9}" type="presParOf" srcId="{D413DE7F-6B0C-4DB8-A3EF-9ACECB11FE3B}" destId="{B8D8B5D8-20D9-4856-902E-F548B810B7A0}" srcOrd="3" destOrd="0" presId="urn:microsoft.com/office/officeart/2005/8/layout/process4"/>
    <dgm:cxn modelId="{05A2CAC3-79D7-4087-ABE6-62EFBF34708F}" type="presParOf" srcId="{D413DE7F-6B0C-4DB8-A3EF-9ACECB11FE3B}" destId="{EE05D40C-5FBC-4B75-9738-7EECA6F762A9}" srcOrd="4" destOrd="0" presId="urn:microsoft.com/office/officeart/2005/8/layout/process4"/>
    <dgm:cxn modelId="{C9D04835-B940-49B2-90E8-63FAB3835E19}" type="presParOf" srcId="{EE05D40C-5FBC-4B75-9738-7EECA6F762A9}" destId="{6F527CA3-93C7-447E-995B-DEAF78CB0353}" srcOrd="0" destOrd="0" presId="urn:microsoft.com/office/officeart/2005/8/layout/process4"/>
    <dgm:cxn modelId="{D5C74917-4C77-406B-8ACC-2EF6856824B1}" type="presParOf" srcId="{D413DE7F-6B0C-4DB8-A3EF-9ACECB11FE3B}" destId="{DD06F7E1-7544-41E2-A428-9FCE51CA4F97}" srcOrd="5" destOrd="0" presId="urn:microsoft.com/office/officeart/2005/8/layout/process4"/>
    <dgm:cxn modelId="{FE7A2F5E-2E2C-49CB-BE87-DD51CF0E10CB}" type="presParOf" srcId="{D413DE7F-6B0C-4DB8-A3EF-9ACECB11FE3B}" destId="{E546F1D8-701F-4CDF-9941-EED73548A366}" srcOrd="6" destOrd="0" presId="urn:microsoft.com/office/officeart/2005/8/layout/process4"/>
    <dgm:cxn modelId="{E30DD447-4CC6-4132-A6B5-C64296E15907}" type="presParOf" srcId="{E546F1D8-701F-4CDF-9941-EED73548A366}" destId="{072F9DF9-7306-4AE3-BC46-E1563EC9BAC5}" srcOrd="0" destOrd="0" presId="urn:microsoft.com/office/officeart/2005/8/layout/process4"/>
    <dgm:cxn modelId="{58C99D26-22CC-4133-A637-402E90009C52}" type="presParOf" srcId="{D413DE7F-6B0C-4DB8-A3EF-9ACECB11FE3B}" destId="{8914C780-F6C4-4ABE-BBEA-B8FD41FE00EA}" srcOrd="7" destOrd="0" presId="urn:microsoft.com/office/officeart/2005/8/layout/process4"/>
    <dgm:cxn modelId="{87C216A0-5F14-4D94-B0F4-58B61BFBF56F}" type="presParOf" srcId="{D413DE7F-6B0C-4DB8-A3EF-9ACECB11FE3B}" destId="{CC431BFE-059F-42BE-96D7-7094EB254C4F}" srcOrd="8" destOrd="0" presId="urn:microsoft.com/office/officeart/2005/8/layout/process4"/>
    <dgm:cxn modelId="{D6263B97-46D0-472D-A9F5-3D945ED4B3CE}" type="presParOf" srcId="{CC431BFE-059F-42BE-96D7-7094EB254C4F}" destId="{0A22112A-4870-471D-B460-4BE28B6A68F4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6CD4B4-26AF-4D78-82CE-96A9FFC5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F555B7-4F23-4CFA-8C38-232D75CCC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CDF55-A5C2-402F-A9B4-256918E439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8CA860-E272-4AFF-8669-15F31AB2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9FD8F1-D515-4B0D-BDCA-3D9A87062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Img"/>
          </p:nvPr>
        </p:nvSpPr>
        <p:spPr>
          <a:xfrm>
            <a:off x="1687680" y="609120"/>
            <a:ext cx="3484080" cy="2457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3"/>
          <p:cNvSpPr>
            <a:spLocks noGrp="1"/>
          </p:cNvSpPr>
          <p:nvPr>
            <p:ph type="body"/>
          </p:nvPr>
        </p:nvSpPr>
        <p:spPr>
          <a:xfrm>
            <a:off x="495360" y="3124800"/>
            <a:ext cx="5866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terms refer to the concentration of dissolved materials in a cell’s environment compared to the concentration within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gains water from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-” means “below” (below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looses water to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-” means “above” (above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nic enviro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n cel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” means “same 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C5705B-F24C-4C36-907E-4B7E726C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08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4702B-547C-4EDC-8289-AA9DACD7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B95-4E57-41F4-84A6-10C68DB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E7F-3BF0-4872-9A77-E87CF6E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B34-D502-4B97-8BB3-3C783E38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F8E-DFCF-4E2F-B256-B547139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EE3C-0D97-4AD1-8BC1-65F979D7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88D9-3024-4900-9A8F-D83DCC4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F2CE-7A8B-4AAF-9BFD-CF2F8E0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E54-D907-46E5-84AD-446CBEF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6DE-BF10-4B35-84CC-FE835DA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A18-6846-4A42-9686-924FC42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AA2-E0B8-4606-9BFB-98097F1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D5A-CFE1-47D9-B809-5E2A5E88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C3D8-DABF-4C76-B525-3AC0B20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8A86-5962-450D-AED9-64DE0D8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C08-7C22-42AD-83CB-FF7362B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9A0B-49C2-4A81-8975-7750FA6D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824-18B8-4859-A85A-301D54DF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CD35-8BE3-4999-BD27-40088460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49DC-721D-45B0-9FE3-2892658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B14A-17D8-4CCC-B4C7-33FC3E9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127D-EFF4-4105-BE81-51C1ACC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7777-6B19-4A88-B5D5-FD92AB5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FF0-F300-4708-B303-38EB914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F887-A8CF-49A0-AE03-952F3351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A55C-B68E-45D3-9560-D6ED02B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DDC6-1899-4B7F-ABA7-63CD279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E8A6-FF3E-4E3D-ABAE-EE27BD9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BADA-90A4-44D2-A069-0336257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D428-07E8-4283-AA27-F26A467B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A5D5-601D-4B6B-8841-BA6086A3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B526-BE10-4201-8552-9EE938F7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8231-80F8-48D2-901A-33EA5433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848F-51CE-4BF0-9B75-A33FB9D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0D6-9AEF-44D7-A83F-57EAC3E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2437-9AD0-4F70-B3C2-A5BA7882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116D-F076-4765-BAFB-35D676F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6457-F164-4B3E-8338-6B8FC0A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BA44-8BB4-4345-9435-A957F94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13A8-0A70-4CFC-B8BD-65E1A53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791B-ACB2-45DD-8084-EBECB91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78EA-9328-4A2F-B883-19CCE63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B278-0DA5-4806-8E96-7FEBAEE8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F3F8-0D25-480D-8AC4-C5A511C5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968A-CD01-497B-A733-1C6156BA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121-4FDD-4936-99CD-B545C8B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D656-1688-4B6C-A122-FFE86CFF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7E8F-9CF6-4E5A-916B-1D589BCD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3006-2BE9-4FE9-A8E8-1D1D73B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0278-5DF7-4133-AAF7-57EA07A2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A55D-CFA9-49C8-80C8-5F5D884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056C5-E8AB-4423-B393-3FB5DB63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90BB-BB54-43AA-B7EB-D3DFA0D0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04DB-317A-40E7-8944-06A66A2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994D-9803-42BD-AE60-9B759AAF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0FE2-74A2-4811-909F-0FA61F4D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6A3-6090-40AF-91CA-35C7E97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9C52-1012-4151-B620-AF2DEAD8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953-2557-4D6D-8A04-565E33C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36F-88AE-4AA1-92D5-1C6792F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032-9E74-4322-816B-A1C3C31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9051B-D488-4205-830B-B32F6F595A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F3ADE7-7242-4491-BDC1-88114D929E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CAD36-BCD3-4EBA-9A7B-817BEBA3CA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F8E4E5-D20A-4F02-98D4-11518EE6EE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F6324-91C2-47F5-9CA2-272D96AFDE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imagelibrary.cfm?ImgLibID=C02502401&amp;Content_Type=CH" TargetMode="External"/><Relationship Id="rId2" Type="http://schemas.openxmlformats.org/officeDocument/2006/relationships/slideLayout" Target="../slideLayouts/slideLayout4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ounded Rectangle 3"/>
          <p:cNvSpPr/>
          <p:nvPr/>
        </p:nvSpPr>
        <p:spPr>
          <a:xfrm>
            <a:off x="762120" y="533520"/>
            <a:ext cx="7772040" cy="50288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TORS AFFE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an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0-5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es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 age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380880" y="4190760"/>
            <a:ext cx="360" cy="1067040"/>
          </a:xfrm>
          <a:prstGeom prst="line">
            <a:avLst/>
          </a:prstGeom>
          <a:ln w="5715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Transport Through The Cell Memb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the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-soluble substances e.g. ions, glucose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through the bi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 -soluble substance (O2, CO2, N2, alcohol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GUYTON 4-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ypes Of Membrane Trans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Dif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-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rim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econd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Osmosis.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transport across cell membrane.jpg"/>
          <p:cNvPicPr/>
          <p:nvPr/>
        </p:nvPicPr>
        <p:blipFill>
          <a:blip r:embed="rId1"/>
          <a:stretch/>
        </p:blipFill>
        <p:spPr>
          <a:xfrm>
            <a:off x="228600" y="609480"/>
            <a:ext cx="8475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ounded Rectangle 4"/>
          <p:cNvSpPr/>
          <p:nvPr/>
        </p:nvSpPr>
        <p:spPr>
          <a:xfrm>
            <a:off x="685800" y="4800600"/>
            <a:ext cx="6476760" cy="17521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440" cy="30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 movement of substance either through the membrane directly or in combination with carrier prote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838080" y="4876920"/>
            <a:ext cx="609552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mple diffusion &amp; facilitated transport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input of energy = pow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gradient or 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 transport = directly us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Simple Diff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arrier mediated transport down an electrochemical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nonelectrolytes (uncharged) from high concentration to low concen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electrolytes (charged) depend on both chemical as will as electrical potential dif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Rate Of Simple Diffusion Depend 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Amount of substance avail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he number of opening in the cell membrane for the substance (por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ga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Chemical concentration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diffusion= P x A (Co-C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Electrical potential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D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 61 log C1/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Molecular size of the sub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Lipid solu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 medi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port down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glucose &amp; amino ac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Features Of Carrier Mediated Transport (Facilitaed diffus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satur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            binding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ll protein is occupied we achieve full sat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 The rate of diffusion reaches a maximum (Vmax) when all the carriers are functioning as rapidly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2- stereopecificity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ding site recognize a specific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glucose but not L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3276360" y="249228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819160" y="2209680"/>
            <a:ext cx="7192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7"/>
          <p:cNvSpPr/>
          <p:nvPr/>
        </p:nvSpPr>
        <p:spPr>
          <a:xfrm flipV="1">
            <a:off x="380880" y="19810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4284360" y="263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0"/>
          <p:cNvSpPr/>
          <p:nvPr/>
        </p:nvSpPr>
        <p:spPr>
          <a:xfrm flipV="1">
            <a:off x="3657600" y="1981080"/>
            <a:ext cx="360" cy="4446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ody Water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w body fat, low bone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LINDA  1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060920"/>
            <a:ext cx="8229240" cy="46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3- Competi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 similar substance can compete for the same binding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 galactose  /  D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      binding site          substance protein complex         conformational changes          release of sub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133360" y="4190760"/>
            <a:ext cx="2890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4495680" y="426708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2209680" y="464796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6553080" y="464796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Active Transpor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ph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      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energy          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carrier –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809880" y="24382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429000" y="350496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504960" y="3504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3504960" y="411480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- Primary Active Transpor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nergy is supplied directly from A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  ADP +P+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641"/>
              </a:spcBef>
              <a:buClr>
                <a:srgbClr val="800080"/>
              </a:buClr>
              <a:buFont typeface="StarSymbol"/>
              <a:buAutoNum type="alphaUcPeriod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dium-Potassium pump (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-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pum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ts present in all 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3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        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2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ut         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209680" y="2819160"/>
            <a:ext cx="9144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2590560" y="449568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2666880" y="495288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GUYTON 4-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racteristic  Of The Pum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protein is formed from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Na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K out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Pas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Na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ntration differ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he basis of nerve signal transmi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–ve potential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aintains a normal cell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785160"/>
            <a:ext cx="8229240" cy="55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imary active transport of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C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²+ ATP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arcoplasmic reticulum (S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mitochond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some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a low Ca²+ concentration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930960"/>
            <a:ext cx="8229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. - primary active transport of hydrogen lons H+-K ATP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om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idne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ump to the lu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+-K ATPase inhibitors (treat ulc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). (omepraz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-614160" algn="ctr">
              <a:lnSpc>
                <a:spcPct val="100000"/>
              </a:lnSpc>
              <a:buClr>
                <a:srgbClr val="c00000"/>
              </a:buClr>
              <a:buFont typeface="StarSymbol"/>
              <a:buAutoNum type="arabicParenR" startAt="2"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econdary Active Transport:</a:t>
            </a:r>
            <a:br>
              <a:rPr sz="4400"/>
            </a:b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813320"/>
            <a:ext cx="8686440" cy="384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 transport and 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ransport of one or more solutes against an electrochemical gradient ,coupled to the transport of another solute down an electrochemical gradi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hill’’ solute is 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supplied indirectly form primary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aily intake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004"/>
          <p:cNvPicPr/>
          <p:nvPr/>
        </p:nvPicPr>
        <p:blipFill>
          <a:blip r:embed="rId1"/>
          <a:stretch/>
        </p:blipFill>
        <p:spPr>
          <a:xfrm>
            <a:off x="179280" y="1484280"/>
            <a:ext cx="896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4480" indent="-294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l solutes move in the same dir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‘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cell’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.g. –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glucose 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mino acid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the intestinal tract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GUYTON 4-10"/>
          <p:cNvPicPr/>
          <p:nvPr/>
        </p:nvPicPr>
        <p:blipFill>
          <a:blip r:embed="rId1"/>
          <a:stretch/>
        </p:blipFill>
        <p:spPr>
          <a:xfrm>
            <a:off x="5181480" y="2666880"/>
            <a:ext cx="37335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LINDA  1-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240" cy="43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ving to the interior causing  other substance to mov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+ 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ent in many cell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change in the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LINDA  1-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11999" t="18081" r="11999" b="16645"/>
          <a:stretch/>
        </p:blipFill>
        <p:spPr>
          <a:xfrm>
            <a:off x="33120" y="0"/>
            <a:ext cx="9110520" cy="6857640"/>
          </a:xfrm>
          <a:prstGeom prst="rect">
            <a:avLst/>
          </a:prstGeom>
          <a:ln w="63500">
            <a:solidFill>
              <a:srgbClr val="66ffff"/>
            </a:solidFill>
            <a:miter/>
          </a:ln>
        </p:spPr>
      </p:pic>
      <p:sp>
        <p:nvSpPr>
          <p:cNvPr id="280" name="Rounded Rectangle 4"/>
          <p:cNvSpPr/>
          <p:nvPr/>
        </p:nvSpPr>
        <p:spPr>
          <a:xfrm>
            <a:off x="0" y="4800600"/>
            <a:ext cx="4723920" cy="2057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114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Water Intake and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4767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l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b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vel of physical activ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2760" cy="52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ypothalamic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irst c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timu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a decline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0%–1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increases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smola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–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n steady state  water intake = water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400" spc="-1" strike="noStrike" u="sng">
                <a:solidFill>
                  <a:srgbClr val="bfbfbf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own Arrow 4"/>
          <p:cNvSpPr/>
          <p:nvPr/>
        </p:nvSpPr>
        <p:spPr>
          <a:xfrm flipH="1">
            <a:off x="456480" y="2895480"/>
            <a:ext cx="380520" cy="68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Down Arrow 5"/>
          <p:cNvSpPr/>
          <p:nvPr/>
        </p:nvSpPr>
        <p:spPr>
          <a:xfrm flipV="1">
            <a:off x="457200" y="3733920"/>
            <a:ext cx="380520" cy="609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the TB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762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320" y="115056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occupie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in fluid compart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racellular fluid (ICF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xtracellular fluid (ECF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fluid (I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49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56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definition of physiolog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ysiology is the study of t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func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ganisms as integrated systems of molecule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lls, tissues, and organs, in health and diseas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81280" y="533520"/>
            <a:ext cx="4347720" cy="7905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MA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819520" y="4521240"/>
            <a:ext cx="1839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0240" y="228600"/>
            <a:ext cx="5027400" cy="71100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LUID COM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_s1037"/>
          <p:cNvSpPr/>
          <p:nvPr/>
        </p:nvSpPr>
        <p:spPr>
          <a:xfrm>
            <a:off x="914400" y="152388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TRA CELLU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_s1039"/>
          <p:cNvSpPr/>
          <p:nvPr/>
        </p:nvSpPr>
        <p:spPr>
          <a:xfrm>
            <a:off x="5638680" y="160020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RA CEL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_s1040"/>
          <p:cNvSpPr/>
          <p:nvPr/>
        </p:nvSpPr>
        <p:spPr>
          <a:xfrm>
            <a:off x="2819520" y="3470400"/>
            <a:ext cx="2553840" cy="796680"/>
          </a:xfrm>
          <a:prstGeom prst="roundRect">
            <a:avLst>
              <a:gd name="adj" fmla="val 50000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ST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_s1041"/>
          <p:cNvSpPr/>
          <p:nvPr/>
        </p:nvSpPr>
        <p:spPr>
          <a:xfrm>
            <a:off x="228600" y="3581280"/>
            <a:ext cx="2420640" cy="68544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_s1042"/>
          <p:cNvSpPr/>
          <p:nvPr/>
        </p:nvSpPr>
        <p:spPr>
          <a:xfrm>
            <a:off x="5562720" y="3505320"/>
            <a:ext cx="2957040" cy="76176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CEL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flipH="1" rot="16200000">
            <a:off x="6058080" y="3695400"/>
            <a:ext cx="1752120" cy="2895120"/>
          </a:xfrm>
          <a:custGeom>
            <a:avLst/>
            <a:gdLst>
              <a:gd name="textAreaLeft" fmla="*/ -360 w 1752120"/>
              <a:gd name="textAreaRight" fmla="*/ 1501560 w 1752120"/>
              <a:gd name="textAreaTop" fmla="*/ 1930320 h 2895120"/>
              <a:gd name="textAreaBottom" fmla="*/ 2895480 h 2895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_s1043"/>
          <p:cNvSpPr/>
          <p:nvPr/>
        </p:nvSpPr>
        <p:spPr>
          <a:xfrm>
            <a:off x="2895480" y="4572000"/>
            <a:ext cx="2590560" cy="2285640"/>
          </a:xfrm>
          <a:prstGeom prst="roundRect">
            <a:avLst>
              <a:gd name="adj" fmla="val 0"/>
            </a:avLst>
          </a:prstGeom>
          <a:solidFill>
            <a:srgbClr val="0099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 o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o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estive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1828800" y="914400"/>
            <a:ext cx="502920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1"/>
          <p:cNvSpPr/>
          <p:nvPr/>
        </p:nvSpPr>
        <p:spPr>
          <a:xfrm>
            <a:off x="167652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655308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1066680" y="3047760"/>
            <a:ext cx="609588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4"/>
          <p:cNvSpPr/>
          <p:nvPr/>
        </p:nvSpPr>
        <p:spPr>
          <a:xfrm>
            <a:off x="990720" y="30463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66696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679140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1752480" y="25909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Calibri"/>
              </a:rPr>
              <a:t>Intracellular fluid (ICF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B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concentration of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Extracellular fluid (EC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 side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B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-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circulating in the blood vess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4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- Interstitial flu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bathing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ra filtration of pla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3/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762760" cy="16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and interstitial fluid are alm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ing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ame composi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p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prote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Trancecellular fluid compartmen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724040"/>
            <a:ext cx="8686440" cy="40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SF, GIT fluid, biliary fluid, synovial fluid, intrapelural fluid, intraperitoneal fluid, intrapericardial fluid and intraoccular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326320"/>
            <a:ext cx="8686440" cy="28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BW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2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4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8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.5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0.5 L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of Body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5444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universal sol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re broadly classified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ctroly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inorganic salts, all acids and bases, and som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Nonelectrolyt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examples include glucose, lipids, creatinine, an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ount = 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es, osm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moles/li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osmoles/li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l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= osmoles/k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k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In biological solu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moles per liter  (m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osmoles per  (mOs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M=1/10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Osm=1/1000  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ly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in milliequivalents per liter (mEq/L),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of the number of electrical charg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ter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q/L = (concentration of ion in [mg/L]/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ic weight of ion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ber of elect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s on on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ingle charged ions, 1 mEq = 1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bivalent ions, 1 mEq = 1/2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books.sitamol.net/images/guyton.jpg"/>
          <p:cNvPicPr/>
          <p:nvPr/>
        </p:nvPicPr>
        <p:blipFill>
          <a:blip r:embed="rId1"/>
          <a:stretch/>
        </p:blipFill>
        <p:spPr>
          <a:xfrm>
            <a:off x="2667600" y="990720"/>
            <a:ext cx="3447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006"/>
          <p:cNvPicPr/>
          <p:nvPr/>
        </p:nvPicPr>
        <p:blipFill>
          <a:blip r:embed="rId1"/>
          <a:stretch/>
        </p:blipFill>
        <p:spPr>
          <a:xfrm>
            <a:off x="0" y="762120"/>
            <a:ext cx="91436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634760"/>
            <a:ext cx="86864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ch fluid compartment of the body ha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inctive patte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electrol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tracellular fluid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similar (except for the high protein content of plas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hlor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maj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440" cy="59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racellular flu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s low sodium and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hosph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compartment must have almost the same concentration of positive charge (cations) as of negative charge (an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lectroneutral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GUYTON 4-1"/>
          <p:cNvPicPr/>
          <p:nvPr/>
        </p:nvPicPr>
        <p:blipFill>
          <a:blip r:embed="rId1"/>
          <a:stretch/>
        </p:blipFill>
        <p:spPr>
          <a:xfrm>
            <a:off x="1403280" y="260280"/>
            <a:ext cx="61923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04920" y="1344600"/>
            <a:ext cx="8686440" cy="47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in K 60-100%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2065680"/>
            <a:ext cx="8686440" cy="33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natremia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natremi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the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3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6700" spc="-1" strike="noStrike">
                <a:solidFill>
                  <a:srgbClr val="c00000"/>
                </a:solidFill>
                <a:latin typeface="Calibri"/>
              </a:rPr>
              <a:t>Homeostasis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240" cy="49525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one of the cornerstones of medic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the stud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ow the body work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ell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4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609480" y="1143000"/>
            <a:ext cx="8381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 fluxes are restricted and move selectivel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rients, respiratory gases, and wast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direc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s the only fluid that circulates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and links external and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lalities of all body fluids are equal;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lute concentrations are quickly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990720" y="304920"/>
            <a:ext cx="73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781320" cy="6418080"/>
          </a:xfrm>
          <a:prstGeom prst="rect">
            <a:avLst/>
          </a:prstGeom>
          <a:ln w="9525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194400" y="6324480"/>
            <a:ext cx="358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for M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7680" y="2445120"/>
            <a:ext cx="8229240" cy="22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general mech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mple diffusion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cilitated transport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469960"/>
            <a:ext cx="822924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 diffusion of water from a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to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w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20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Osmotic equilibrium is maintained between intracellular and extracellular fluids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2062440"/>
            <a:ext cx="8686440" cy="33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m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s in concentration of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extracellular fluid can caus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remendo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 in cell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ex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0 mosm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6665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666880" y="304920"/>
          <a:ext cx="4798800" cy="63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47988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361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372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375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337240" cy="58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nvironment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er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WATER IN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loses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Is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change in cell volu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WATER IN CELL, more solutes in ce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gain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378360"/>
            <a:ext cx="8229240" cy="59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s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not swell or shrink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0.9% solution of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ide or 5% glucos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same in and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welling)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in is higher than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hrink) 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out is higher than 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5143320" y="3643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4"/>
          <p:cNvSpPr/>
          <p:nvPr/>
        </p:nvSpPr>
        <p:spPr>
          <a:xfrm flipV="1">
            <a:off x="4929120" y="5357520"/>
            <a:ext cx="360" cy="30492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4"/>
          <p:cNvSpPr/>
          <p:nvPr/>
        </p:nvSpPr>
        <p:spPr>
          <a:xfrm>
            <a:off x="3809880" y="2971800"/>
            <a:ext cx="151920" cy="45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Up Arrow 5"/>
          <p:cNvSpPr/>
          <p:nvPr/>
        </p:nvSpPr>
        <p:spPr>
          <a:xfrm>
            <a:off x="3657600" y="4572000"/>
            <a:ext cx="151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lucose and other solutions administered for nutritive purpo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255320"/>
            <a:ext cx="86864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ople who can not take adequate amount of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ared in isotonic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762120" y="762120"/>
            <a:ext cx="7468920" cy="5938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4772160" y="2417760"/>
            <a:ext cx="16696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626000" y="246204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225440" y="177156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035000" y="352260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830240" y="599904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69800" y="1712880"/>
            <a:ext cx="2465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195560" y="3490920"/>
            <a:ext cx="164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4670280" y="610884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830840" y="6066000"/>
            <a:ext cx="3277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8200" y="5952960"/>
            <a:ext cx="22618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6502320" y="517536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662880" y="5140440"/>
            <a:ext cx="20538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 flipV="1">
            <a:off x="3446280" y="4489200"/>
            <a:ext cx="13320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6"/>
          <p:cNvSpPr/>
          <p:nvPr/>
        </p:nvSpPr>
        <p:spPr>
          <a:xfrm flipH="1" flipV="1">
            <a:off x="4340160" y="381312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4209120" y="1909800"/>
            <a:ext cx="6552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3789360" y="1522440"/>
            <a:ext cx="9201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951200" y="1289160"/>
            <a:ext cx="1615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3533760" y="283536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865600" y="53895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395520" y="471024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3546360" y="432288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4478400" y="475128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5"/>
          <p:cNvSpPr/>
          <p:nvPr/>
        </p:nvSpPr>
        <p:spPr>
          <a:xfrm flipH="1" flipV="1">
            <a:off x="3279600" y="4825800"/>
            <a:ext cx="1681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2538360" y="549108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27"/>
          <p:cNvSpPr/>
          <p:nvPr/>
        </p:nvSpPr>
        <p:spPr>
          <a:xfrm rot="10800000">
            <a:off x="4467600" y="339444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8"/>
          <p:cNvSpPr/>
          <p:nvPr/>
        </p:nvSpPr>
        <p:spPr>
          <a:xfrm>
            <a:off x="4284720" y="433080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29"/>
          <p:cNvSpPr/>
          <p:nvPr/>
        </p:nvSpPr>
        <p:spPr>
          <a:xfrm flipH="1" flipV="1">
            <a:off x="4402080" y="5040000"/>
            <a:ext cx="11268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4487760" y="338472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4487760" y="383688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2933640" y="358452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 flipH="1" flipV="1">
            <a:off x="5049720" y="352260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34"/>
          <p:cNvSpPr/>
          <p:nvPr/>
        </p:nvSpPr>
        <p:spPr>
          <a:xfrm flipH="1">
            <a:off x="5087880" y="397980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35"/>
          <p:cNvSpPr/>
          <p:nvPr/>
        </p:nvSpPr>
        <p:spPr>
          <a:xfrm flipH="1" flipV="1">
            <a:off x="5111640" y="403056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36"/>
          <p:cNvSpPr/>
          <p:nvPr/>
        </p:nvSpPr>
        <p:spPr>
          <a:xfrm>
            <a:off x="3314880" y="279576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3439800" y="3147840"/>
            <a:ext cx="103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Structur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160"/>
            <a:ext cx="8686440" cy="44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meostasis is the ability to mainta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latively stable internal environ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an ever-changing outsid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ternal environment of the bod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ECF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ynamic state of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different body systems operate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rmo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 provid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233000"/>
            <a:ext cx="868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ariab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e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ange i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hree interdependent components of control mechanis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ep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monitors the environments and responds to changes (stimu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trol cent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determines the set point at which the variable is mai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ffec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provides the means to respond to the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gulation of body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875600"/>
            <a:ext cx="8229240" cy="41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ervous system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sory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central nervous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motor out 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rmonal system of reg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crine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,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: insulin control glucose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38080" y="1008000"/>
            <a:ext cx="7435440" cy="5849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1036800" y="4681440"/>
            <a:ext cx="1110960" cy="877680"/>
          </a:xfrm>
          <a:prstGeom prst="rect">
            <a:avLst/>
          </a:prstGeom>
          <a:solidFill>
            <a:schemeClr val="accent1"/>
          </a:solidFill>
          <a:ln w="15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781200" y="476100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127160" y="323856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463760" y="10843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1271520" y="3206880"/>
            <a:ext cx="1012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620720" y="1052640"/>
            <a:ext cx="107928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6780240" y="4167360"/>
            <a:ext cx="19188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937560" y="4135320"/>
            <a:ext cx="142920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093480" y="5520600"/>
            <a:ext cx="2331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 rot="1420800">
            <a:off x="2666160" y="49690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 rot="1420800">
            <a:off x="4972680" y="60328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96960" y="2432160"/>
            <a:ext cx="1661760" cy="350640"/>
          </a:xfrm>
          <a:prstGeom prst="rect">
            <a:avLst/>
          </a:prstGeom>
          <a:solidFill>
            <a:schemeClr val="accent1"/>
          </a:solidFill>
          <a:ln w="15875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110120" y="1012680"/>
            <a:ext cx="853560" cy="418680"/>
          </a:xfrm>
          <a:prstGeom prst="rect">
            <a:avLst/>
          </a:prstGeom>
          <a:solidFill>
            <a:srgbClr val="ffcc66"/>
          </a:solidFill>
          <a:ln w="15875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6"/>
          <p:cNvSpPr/>
          <p:nvPr/>
        </p:nvSpPr>
        <p:spPr>
          <a:xfrm>
            <a:off x="6130800" y="11239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278400" y="1093680"/>
            <a:ext cx="137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5837400" y="2365200"/>
            <a:ext cx="1169640" cy="350640"/>
          </a:xfrm>
          <a:prstGeom prst="rect">
            <a:avLst/>
          </a:prstGeom>
          <a:solidFill>
            <a:srgbClr val="ffcccc"/>
          </a:solidFill>
          <a:ln w="15875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003320" y="914400"/>
            <a:ext cx="75308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tic Imbal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2995920"/>
            <a:ext cx="8686440" cy="14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homeostasis or the body’s normal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omeostasis &amp; Contr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8360" y="1152720"/>
            <a:ext cx="4352400" cy="51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uccessful comp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ostasis re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ilure to compens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physi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22540" t="0" r="23671" b="3597"/>
          <a:stretch/>
        </p:blipFill>
        <p:spPr>
          <a:xfrm>
            <a:off x="4826160" y="1023840"/>
            <a:ext cx="4008240" cy="54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2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hanges in The Body Fluid Compartments (ECF &amp; ICF) and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286000" y="99072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ecture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609480"/>
            <a:ext cx="9143640" cy="228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3657600"/>
            <a:ext cx="9143640" cy="75960"/>
          </a:xfrm>
          <a:prstGeom prst="rect">
            <a:avLst/>
          </a:prstGeom>
          <a:solidFill>
            <a:srgbClr val="cc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352600"/>
            <a:ext cx="8762760" cy="69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ody Fluids &amp; Electroly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71600" y="990720"/>
            <a:ext cx="6324120" cy="3962160"/>
          </a:xfrm>
          <a:prstGeom prst="rect">
            <a:avLst/>
          </a:prstGeom>
          <a:noFill/>
          <a:ln w="317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152280" y="1219320"/>
            <a:ext cx="68544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52280" y="2057400"/>
            <a:ext cx="1904760" cy="6854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52280" y="4495680"/>
            <a:ext cx="1599840" cy="2282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52280" y="5181480"/>
            <a:ext cx="1904760" cy="3045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ECF ICCF electrolyte concen.jpg"/>
          <p:cNvPicPr/>
          <p:nvPr/>
        </p:nvPicPr>
        <p:blipFill>
          <a:blip r:embed="rId1"/>
          <a:stretch/>
        </p:blipFill>
        <p:spPr>
          <a:xfrm>
            <a:off x="930960" y="838080"/>
            <a:ext cx="70696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436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447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450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s And Osmolarities of ECF and ICF </a:t>
            </a:r>
            <a:br>
              <a:rPr sz="4000"/>
            </a:b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In Abnormal  Sta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factors can cause the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hyd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ravenous infusion (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bnormal sw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677520"/>
            <a:ext cx="8229240" cy="51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ounded Rectangle 5"/>
          <p:cNvSpPr/>
          <p:nvPr/>
        </p:nvSpPr>
        <p:spPr>
          <a:xfrm>
            <a:off x="1523880" y="2286000"/>
            <a:ext cx="2057040" cy="53316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Rounded Rectangle 4"/>
          <p:cNvSpPr/>
          <p:nvPr/>
        </p:nvSpPr>
        <p:spPr>
          <a:xfrm>
            <a:off x="5943600" y="2209680"/>
            <a:ext cx="1523520" cy="609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nges in 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emoving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dd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ounded Rectangle 6"/>
          <p:cNvSpPr/>
          <p:nvPr/>
        </p:nvSpPr>
        <p:spPr>
          <a:xfrm>
            <a:off x="38088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Rounded Rectangle 7"/>
          <p:cNvSpPr/>
          <p:nvPr/>
        </p:nvSpPr>
        <p:spPr>
          <a:xfrm>
            <a:off x="464832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0" y="304920"/>
            <a:ext cx="8762760" cy="6248160"/>
          </a:xfrm>
          <a:prstGeom prst="rect">
            <a:avLst/>
          </a:prstGeom>
          <a:ln>
            <a:solidFill>
              <a:srgbClr val="f79646"/>
            </a:solidFill>
            <a:round/>
          </a:ln>
        </p:spPr>
      </p:pic>
      <p:sp>
        <p:nvSpPr>
          <p:cNvPr id="466" name="Rounded Rectangle 2"/>
          <p:cNvSpPr/>
          <p:nvPr/>
        </p:nvSpPr>
        <p:spPr>
          <a:xfrm>
            <a:off x="4876920" y="3200400"/>
            <a:ext cx="3809520" cy="304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04920" y="685800"/>
            <a:ext cx="50288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4"/>
          <p:cNvSpPr/>
          <p:nvPr/>
        </p:nvSpPr>
        <p:spPr>
          <a:xfrm>
            <a:off x="304920" y="3657600"/>
            <a:ext cx="3352320" cy="25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 contraction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770040"/>
            <a:ext cx="8686440" cy="59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smolarity of fluid lost ≈ osmolarity of EC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loss of isosmotic flui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volume in EC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 arterial pres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3276360" y="5029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3276360" y="5638680"/>
            <a:ext cx="360" cy="22860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Straight Arrow Connector 6"/>
          <p:cNvCxnSpPr/>
          <p:nvPr/>
        </p:nvCxnSpPr>
        <p:spPr>
          <a:xfrm>
            <a:off x="2971800" y="4343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74" name="Straight Arrow Connector 8"/>
          <p:cNvCxnSpPr/>
          <p:nvPr/>
        </p:nvCxnSpPr>
        <p:spPr>
          <a:xfrm>
            <a:off x="2971800" y="5486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2286000" y="990720"/>
            <a:ext cx="6104160" cy="5562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-429840" y="304920"/>
            <a:ext cx="6199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Loss of 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Water  dep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6934320" y="5943600"/>
            <a:ext cx="19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erosmoto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3"/>
          <p:cNvSpPr/>
          <p:nvPr/>
        </p:nvSpPr>
        <p:spPr>
          <a:xfrm>
            <a:off x="3809880" y="3505320"/>
            <a:ext cx="502884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48600"/>
            <a:ext cx="822924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t the end of this session, the students should be abl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and describe daily intake and output of water and maintenance of water bal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st and describe of body fluid compartments as intra-cellular fluid (ICF) Extra-cellular fluid (ECF), interstitial fluid, trans-cellular fluid and total body water (TBW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be the composition of each fluid compartment, in terms of volume and ions and represent them in graphic for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ology factor influencing body fluid: age, sex, adipose tissue, etc. Pathological factors: Dehydration, fluid infu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430200"/>
            <a:ext cx="8229240" cy="61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Water  deprivation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0" name="Straight Arrow Connector 5"/>
          <p:cNvCxnSpPr/>
          <p:nvPr/>
        </p:nvCxnSpPr>
        <p:spPr>
          <a:xfrm flipV="1">
            <a:off x="2057400" y="2666880"/>
            <a:ext cx="1800" cy="45756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81" name="Straight Arrow Connector 7"/>
          <p:cNvCxnSpPr/>
          <p:nvPr/>
        </p:nvCxnSpPr>
        <p:spPr>
          <a:xfrm flipH="1">
            <a:off x="2133360" y="3657600"/>
            <a:ext cx="21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001"/>
          <p:cNvPicPr/>
          <p:nvPr/>
        </p:nvPicPr>
        <p:blipFill>
          <a:blip r:embed="rId1"/>
          <a:srcRect l="39047" t="2222" r="38035" b="71586"/>
          <a:stretch/>
        </p:blipFill>
        <p:spPr>
          <a:xfrm>
            <a:off x="2514600" y="1121400"/>
            <a:ext cx="3047760" cy="26121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"/>
          <p:cNvSpPr/>
          <p:nvPr/>
        </p:nvSpPr>
        <p:spPr>
          <a:xfrm>
            <a:off x="228600" y="380880"/>
            <a:ext cx="868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Loss of hypertonic sol. e.g. Adrenal insu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001"/>
          <p:cNvPicPr/>
          <p:nvPr/>
        </p:nvPicPr>
        <p:blipFill>
          <a:blip r:embed="rId2"/>
          <a:srcRect l="73095" t="32779" r="3332" b="40158"/>
          <a:stretch/>
        </p:blipFill>
        <p:spPr>
          <a:xfrm>
            <a:off x="2121480" y="3429000"/>
            <a:ext cx="3440880" cy="29628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1905120" y="4495680"/>
            <a:ext cx="46116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3"/>
          <a:srcRect l="0" t="0" r="0" b="16523"/>
          <a:stretch/>
        </p:blipFill>
        <p:spPr>
          <a:xfrm>
            <a:off x="6477120" y="1066680"/>
            <a:ext cx="2429640" cy="15998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8"/>
          <p:cNvSpPr/>
          <p:nvPr/>
        </p:nvSpPr>
        <p:spPr>
          <a:xfrm>
            <a:off x="5486400" y="5943600"/>
            <a:ext cx="259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6"/>
          <p:cNvSpPr/>
          <p:nvPr/>
        </p:nvSpPr>
        <p:spPr>
          <a:xfrm>
            <a:off x="1752480" y="3505320"/>
            <a:ext cx="601956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22924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79600" indent="-579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oss of hypertonic solu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.g. Adrenal insufficie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 Aldosterone de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+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osmolarity in both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I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3"/>
          <p:cNvSpPr/>
          <p:nvPr/>
        </p:nvSpPr>
        <p:spPr>
          <a:xfrm>
            <a:off x="1447560" y="47242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447560" y="36576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1447560" y="42670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1447560" y="5257800"/>
            <a:ext cx="360" cy="30456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520" cy="601956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2"/>
          <p:cNvSpPr/>
          <p:nvPr/>
        </p:nvSpPr>
        <p:spPr>
          <a:xfrm>
            <a:off x="3429000" y="297180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422640" y="1371600"/>
            <a:ext cx="8284680" cy="3504960"/>
          </a:xfrm>
          <a:prstGeom prst="rect">
            <a:avLst/>
          </a:prstGeom>
          <a:ln w="0">
            <a:noFill/>
          </a:ln>
        </p:spPr>
      </p:pic>
      <p:sp>
        <p:nvSpPr>
          <p:cNvPr id="498" name="Rounded Rectangle 2"/>
          <p:cNvSpPr/>
          <p:nvPr/>
        </p:nvSpPr>
        <p:spPr>
          <a:xfrm>
            <a:off x="5181480" y="2057400"/>
            <a:ext cx="3276360" cy="266652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55120" y="5715000"/>
            <a:ext cx="492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815040"/>
            <a:ext cx="822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2" name="Straight Arrow Connector 8"/>
          <p:cNvCxnSpPr/>
          <p:nvPr/>
        </p:nvCxnSpPr>
        <p:spPr>
          <a:xfrm flipV="1">
            <a:off x="761760" y="2057400"/>
            <a:ext cx="360" cy="533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add saline.jpg"/>
          <p:cNvPicPr/>
          <p:nvPr/>
        </p:nvPicPr>
        <p:blipFill>
          <a:blip r:embed="rId1"/>
          <a:stretch/>
        </p:blipFill>
        <p:spPr>
          <a:xfrm>
            <a:off x="345600" y="151920"/>
            <a:ext cx="8035920" cy="6521040"/>
          </a:xfrm>
          <a:prstGeom prst="rect">
            <a:avLst/>
          </a:prstGeom>
          <a:ln w="0">
            <a:noFill/>
          </a:ln>
        </p:spPr>
      </p:pic>
      <p:sp>
        <p:nvSpPr>
          <p:cNvPr id="504" name="Rounded Rectangle 2"/>
          <p:cNvSpPr/>
          <p:nvPr/>
        </p:nvSpPr>
        <p:spPr>
          <a:xfrm>
            <a:off x="762120" y="3657600"/>
            <a:ext cx="3580920" cy="2133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Rounded Rectangle 3"/>
          <p:cNvSpPr/>
          <p:nvPr/>
        </p:nvSpPr>
        <p:spPr>
          <a:xfrm>
            <a:off x="4876920" y="1066680"/>
            <a:ext cx="2895120" cy="2361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Rounded Rectangle 4"/>
          <p:cNvSpPr/>
          <p:nvPr/>
        </p:nvSpPr>
        <p:spPr>
          <a:xfrm>
            <a:off x="4724280" y="3581280"/>
            <a:ext cx="2971440" cy="22856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3760" y="4724280"/>
            <a:ext cx="459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2- High NaC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1295280" y="2361960"/>
            <a:ext cx="360" cy="38124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1295280" y="34290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1447560" y="38862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1295280" y="28954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3" name="Straight Arrow Connector 7"/>
          <p:cNvCxnSpPr/>
          <p:nvPr/>
        </p:nvCxnSpPr>
        <p:spPr>
          <a:xfrm flipV="1">
            <a:off x="1295280" y="4039200"/>
            <a:ext cx="1080" cy="456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add saline.jpg"/>
          <p:cNvPicPr/>
          <p:nvPr/>
        </p:nvPicPr>
        <p:blipFill>
          <a:blip r:embed="rId1"/>
          <a:srcRect l="4527" t="52735" r="50003" b="9001"/>
          <a:stretch/>
        </p:blipFill>
        <p:spPr>
          <a:xfrm>
            <a:off x="2114640" y="3886200"/>
            <a:ext cx="3904920" cy="2666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ng hypotonic solution e.g. Syndrome of inappropriate antidiurtic hormone (SI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609480" y="2133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609480" y="3276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add saline.jpg"/>
          <p:cNvPicPr/>
          <p:nvPr/>
        </p:nvPicPr>
        <p:blipFill>
          <a:blip r:embed="rId2"/>
          <a:srcRect l="5638" t="13095" r="52219" b="47265"/>
          <a:stretch/>
        </p:blipFill>
        <p:spPr>
          <a:xfrm>
            <a:off x="5029200" y="1371600"/>
            <a:ext cx="3594240" cy="2742840"/>
          </a:xfrm>
          <a:prstGeom prst="rect">
            <a:avLst/>
          </a:prstGeom>
          <a:ln w="0">
            <a:noFill/>
          </a:ln>
        </p:spPr>
      </p:pic>
      <p:sp>
        <p:nvSpPr>
          <p:cNvPr id="519" name="Rounded Rectangle 7"/>
          <p:cNvSpPr/>
          <p:nvPr/>
        </p:nvSpPr>
        <p:spPr>
          <a:xfrm>
            <a:off x="2133720" y="3886200"/>
            <a:ext cx="3885840" cy="25905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body cont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-70%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0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 ha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2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Kg of water = L of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add saline.jpg"/>
          <p:cNvPicPr/>
          <p:nvPr/>
        </p:nvPicPr>
        <p:blipFill>
          <a:blip r:embed="rId1"/>
          <a:stretch/>
        </p:blipFill>
        <p:spPr>
          <a:xfrm>
            <a:off x="815760" y="641520"/>
            <a:ext cx="7191360" cy="58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2" name="Rounded Rectangle 2"/>
          <p:cNvSpPr/>
          <p:nvPr/>
        </p:nvSpPr>
        <p:spPr>
          <a:xfrm>
            <a:off x="3505320" y="190512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Rounded Rectangle 3"/>
          <p:cNvSpPr/>
          <p:nvPr/>
        </p:nvSpPr>
        <p:spPr>
          <a:xfrm>
            <a:off x="3657600" y="426708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00080" y="1714320"/>
            <a:ext cx="722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4"/>
          <p:cNvSpPr/>
          <p:nvPr/>
        </p:nvSpPr>
        <p:spPr>
          <a:xfrm flipH="1">
            <a:off x="2286000" y="2286000"/>
            <a:ext cx="228600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572000" y="2286000"/>
            <a:ext cx="190476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13226771"/>
              </p:ext>
            </p:extLst>
          </p:nvPr>
        </p:nvGraphicFramePr>
        <p:xfrm>
          <a:off x="1143000" y="838080"/>
          <a:ext cx="664344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28" name="Rectangle 6"/>
          <p:cNvSpPr/>
          <p:nvPr/>
        </p:nvSpPr>
        <p:spPr>
          <a:xfrm>
            <a:off x="380880" y="5943600"/>
            <a:ext cx="84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7"/>
          <p:cNvSpPr/>
          <p:nvPr/>
        </p:nvSpPr>
        <p:spPr>
          <a:xfrm rot="1881600">
            <a:off x="7890480" y="2755440"/>
            <a:ext cx="369000" cy="1142640"/>
          </a:xfrm>
          <a:prstGeom prst="downArrow">
            <a:avLst>
              <a:gd name="adj1" fmla="val 50000"/>
              <a:gd name="adj2" fmla="val 51083"/>
            </a:avLst>
          </a:prstGeom>
          <a:solidFill>
            <a:srgbClr val="7030a0"/>
          </a:solidFill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228600" y="22860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267080" y="0"/>
            <a:ext cx="4463640" cy="2971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http://subcutaneous.net/wp-content/uploads/2011/05/Subcutaneous-Oedema.jpg"/>
          <p:cNvPicPr/>
          <p:nvPr/>
        </p:nvPicPr>
        <p:blipFill>
          <a:blip r:embed="rId4"/>
          <a:srcRect l="9598" t="6403" r="12002" b="10401"/>
          <a:stretch/>
        </p:blipFill>
        <p:spPr>
          <a:xfrm>
            <a:off x="4952880" y="3429000"/>
            <a:ext cx="37335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719420481"/>
              </p:ext>
            </p:extLst>
          </p:nvPr>
        </p:nvGraphicFramePr>
        <p:xfrm>
          <a:off x="1447920" y="2133720"/>
          <a:ext cx="6095520" cy="453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41" name="Straight Arrow Connector 12"/>
          <p:cNvCxnSpPr/>
          <p:nvPr/>
        </p:nvCxnSpPr>
        <p:spPr>
          <a:xfrm flipV="1">
            <a:off x="2895480" y="3581280"/>
            <a:ext cx="1800" cy="381240"/>
          </a:xfrm>
          <a:prstGeom prst="straightConnector1">
            <a:avLst/>
          </a:prstGeom>
          <a:ln>
            <a:solidFill>
              <a:srgbClr val="1f497d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542" name="Straight Arrow Connector 15"/>
          <p:cNvCxnSpPr/>
          <p:nvPr/>
        </p:nvCxnSpPr>
        <p:spPr>
          <a:xfrm flipV="1">
            <a:off x="3581280" y="4800600"/>
            <a:ext cx="1800" cy="381240"/>
          </a:xfrm>
          <a:prstGeom prst="straightConnector1">
            <a:avLst/>
          </a:prstGeom>
          <a:ln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543" name="Rectangle 16"/>
          <p:cNvSpPr/>
          <p:nvPr/>
        </p:nvSpPr>
        <p:spPr>
          <a:xfrm>
            <a:off x="152280" y="685800"/>
            <a:ext cx="845784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nottinghamchildhealth.org.uk/CAL/inotropes/Capillary%20bed.gif"/>
          <p:cNvPicPr/>
          <p:nvPr/>
        </p:nvPicPr>
        <p:blipFill>
          <a:blip r:embed="rId5"/>
          <a:stretch/>
        </p:blipFill>
        <p:spPr>
          <a:xfrm rot="10800000">
            <a:off x="1295640" y="2057400"/>
            <a:ext cx="6636960" cy="4571640"/>
          </a:xfrm>
          <a:prstGeom prst="rect">
            <a:avLst/>
          </a:prstGeom>
          <a:ln w="762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68158627"/>
              </p:ext>
            </p:extLst>
          </p:nvPr>
        </p:nvGraphicFramePr>
        <p:xfrm>
          <a:off x="1143000" y="1357200"/>
          <a:ext cx="6452640" cy="5119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53" name="Straight Arrow Connector 12"/>
          <p:cNvCxnSpPr/>
          <p:nvPr/>
        </p:nvCxnSpPr>
        <p:spPr>
          <a:xfrm flipV="1">
            <a:off x="2133360" y="2514600"/>
            <a:ext cx="360" cy="609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233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2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ell membrane structure and transport across cell membra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 the end of this session, the students should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fluid mosaic model of membrane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permeability and list factors influencing perme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describe carried-mediated transport processes: Primary active transport, secondary active transport, facilitates diffu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ll Membra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, pliable and ela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- 10 nanometer th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referred to as the plasma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rcRect l="11999" t="16670" r="11999" b="1667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solidFill>
              <a:srgbClr val="66ffff"/>
            </a:solidFill>
            <a:miter/>
          </a:ln>
        </p:spPr>
      </p:pic>
      <p:sp>
        <p:nvSpPr>
          <p:cNvPr id="265" name="Rounded Rectangle 2"/>
          <p:cNvSpPr/>
          <p:nvPr/>
        </p:nvSpPr>
        <p:spPr>
          <a:xfrm>
            <a:off x="1295280" y="685800"/>
            <a:ext cx="6476760" cy="761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Rounded Rectangle 3"/>
          <p:cNvSpPr/>
          <p:nvPr/>
        </p:nvSpPr>
        <p:spPr>
          <a:xfrm>
            <a:off x="2057400" y="56386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5486400" y="35812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80880" y="29718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3505320" y="396252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7848720" y="48006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 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olipids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lesterol 13%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li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   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5105520" y="2666880"/>
            <a:ext cx="360000" cy="1512360"/>
          </a:xfrm>
          <a:prstGeom prst="rightBrace">
            <a:avLst>
              <a:gd name="adj1" fmla="val 34985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1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he Cell Membrane Phospholipids Consist Of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ycerol head (hydrophil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atty acid ‘’tails’’ (hydrophob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4" descr="phys1"/>
          <p:cNvPicPr/>
          <p:nvPr/>
        </p:nvPicPr>
        <p:blipFill>
          <a:blip r:embed="rId1"/>
          <a:srcRect l="43666" t="22122" r="0" b="24985"/>
          <a:stretch/>
        </p:blipFill>
        <p:spPr>
          <a:xfrm>
            <a:off x="4495680" y="2514600"/>
            <a:ext cx="3218040" cy="2590560"/>
          </a:xfrm>
          <a:prstGeom prst="rect">
            <a:avLst/>
          </a:prstGeom>
          <a:ln w="0">
            <a:noFill/>
          </a:ln>
        </p:spPr>
      </p:pic>
      <p:sp>
        <p:nvSpPr>
          <p:cNvPr id="567" name="Oval 4"/>
          <p:cNvSpPr/>
          <p:nvPr/>
        </p:nvSpPr>
        <p:spPr>
          <a:xfrm>
            <a:off x="5334120" y="205740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5257800" y="358128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019920" y="5334120"/>
            <a:ext cx="99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5410080" y="1752480"/>
            <a:ext cx="190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ell 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4"/>
          <p:cNvPicPr/>
          <p:nvPr/>
        </p:nvPicPr>
        <p:blipFill>
          <a:blip r:embed="rId1"/>
          <a:stretch/>
        </p:blipFill>
        <p:spPr>
          <a:xfrm>
            <a:off x="457200" y="838080"/>
            <a:ext cx="8392680" cy="57909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48320" y="5257800"/>
            <a:ext cx="1676160" cy="761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952880" y="533412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ipheral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048120" y="1523880"/>
            <a:ext cx="1523520" cy="8377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3276720" y="152388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cell membrane proteins.jpg"/>
          <p:cNvPicPr/>
          <p:nvPr/>
        </p:nvPicPr>
        <p:blipFill>
          <a:blip r:embed="rId1"/>
          <a:stretch/>
        </p:blipFill>
        <p:spPr>
          <a:xfrm>
            <a:off x="1136520" y="120600"/>
            <a:ext cx="687024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The Cell Membrane Protei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egral protei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 the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 provide structur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     Peripheral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in on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ormone receptors .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ell surface antige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6" descr="phys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GUYTON 4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95280" y="333360"/>
            <a:ext cx="8218080" cy="14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chemeClr val="folHlink"/>
                </a:solidFill>
                <a:latin typeface="Calibri"/>
              </a:rPr>
              <a:t>The Cell Membrane Carbohydrates:</a:t>
            </a:r>
            <a:r>
              <a:rPr b="1" lang="en-GB" sz="3600" spc="-1" strike="noStrike">
                <a:solidFill>
                  <a:schemeClr val="folHlink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3680" y="2182680"/>
            <a:ext cx="822924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(most of i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s (1/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glycans (mainly carbohydrate substance bound together by prote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’’ part is in the surface form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loose coat of carbohydr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UYTON 2-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folHlink"/>
                </a:solidFill>
                <a:latin typeface="Calibri"/>
              </a:rPr>
              <a:t>Function Of Carbohydra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es cell to each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as receptors substances (help ligend to recognize its receptor 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nter in to immune rea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ost of cells overall –ve surf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  <Words>2934</Words>
  <Paragraphs>7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58:15Z</dcterms:created>
  <dc:creator>DR.ABDUL MAJEED</dc:creator>
  <dc:description/>
  <dc:language>en-US</dc:language>
  <cp:lastModifiedBy>GCUSER</cp:lastModifiedBy>
  <dcterms:modified xsi:type="dcterms:W3CDTF">2014-09-01T10:02:16Z</dcterms:modified>
  <cp:revision>77</cp:revision>
  <dc:subject/>
  <dc:title>Introduction to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23</vt:r8>
  </property>
</Properties>
</file>