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2A15-56F3-403A-B056-A2CD5B3CE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6CEE-8F0C-4F22-9BF6-58043B461B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CE1-5D40-4E41-9903-0BA2037721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78C-6C23-4B79-BAFE-B2336078B5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623-A489-4FDA-8260-D7BEE45172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C36-6F47-4D34-9443-4831DAF437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3A2-263B-4C56-A81B-453BB3FFD8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2F08-24EC-4330-804E-3A8C5A36EF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EE8-F8C8-4E8E-BF79-853DDD8A13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69B-8325-4630-951D-49F8E9932D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7585-61A9-41F0-8B35-C926DD545C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F50-28D3-43E6-948E-4759413BEB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BA0D-7185-4F2A-9F3E-B183ED3075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01CD-E2D8-43FB-86DB-4190C6C56E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6ED-FFA3-4A5D-ABDB-99323368B5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7991-9260-4242-9164-2394161147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B6B3-BBB9-4E12-8A5A-AF50A73CD3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BB6-FF15-489B-905D-94492B9425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69C-4F52-46E9-AA2C-927E0197AD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DBF8-6841-4070-9C2B-DF41864568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333-6300-4B84-BD93-DF98883559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45BB-D89A-4377-922B-23737EF4BD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5D4-3089-4203-A7DC-ED401DF3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71D-1480-498D-9FA4-2BB70793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5A865-9F21-48A6-8145-C5D9BAB5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683F5-7AEC-43F0-BF86-C662F0D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5FEF2-A3F4-4B16-A72F-EC48781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29A95-15B1-42D5-A5D2-2BEF8B5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2369-B67C-4AF7-BEA9-EB6D88E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106AE-0897-403A-B6AC-557647A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D813F-8AA2-470C-9FA7-70A95D0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8C15-550E-4E7E-BD4D-D4BFF2A5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E8305-A305-44EB-8CC0-D6A289B7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C60-A6DF-41D3-AEC9-1D4F2F2E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E9D-58D8-40C8-B65D-551EF870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A87D-B320-47F7-BF37-803D471E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490C-CF6F-4E1F-94D7-89EE0C0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4300-AD14-42B0-9894-92B8278E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A488-D38A-40C4-81B5-CC6E033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A7DC-7516-4AF3-B839-D545B9F1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DC13-5C9F-4379-9D5B-52C4D3A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540-9A11-46D0-96DB-007C670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C72-41B8-4417-8C5F-1494CA4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947-06CA-4CF4-8BEB-8EF88FB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5C1-F655-4988-ADD4-A07C109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557-467C-4797-A428-C71D8DA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F6B-7B85-4648-B399-8B3BA3C1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2DD6-C73D-4E02-8521-4BC34E70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F987-CB6B-4C48-82C5-23412DB6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DCCD-A4F3-463C-B684-F2B62776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9DB7-FD51-44E6-9AA2-ADB8C48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EBAD-42DD-4EB3-A555-E508EBD8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7487-57B8-43BA-98FB-2FDA8C2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7A2-BBB2-4D8B-A75F-D30E2F1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8E1A-05D1-47FE-A071-5FAB4096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1E65-3ACB-49CC-8EB8-8163F06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C8FD-D2D8-476C-8280-E523B84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54D1-D768-4C34-8F1F-D49BFB6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3E03-3F50-440C-B2FE-8D9FADFC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A4B0-06EC-4BB1-A90B-A481ECF8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2277-468A-4D42-85BA-E1883E9B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FCC3-6A8A-46B2-B897-16F0B87F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8029-B854-448E-89E4-67C6EF77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FA4F-BF28-4D16-B3F5-CB104119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94D-56B8-48B1-BF2B-B097E95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204E-8FE9-433C-BCC3-1BEE3353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CE7B-4AE8-4AA1-9A92-41D53C7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6560-D3C7-497C-BA0F-BAB4275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DAA5-E357-4A71-B195-EC4A37A1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CE63-910C-4814-AE50-EEB3CFF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9822-EB69-42A6-96E9-1B88F8A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2285-DA07-4DF9-B962-E6C994CB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356C-6A5A-45A3-A4EC-54BC30EB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0D52-7DF5-4119-ABE0-ABFD1A47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D1FC-8D33-48DE-81EE-B3BC5025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B7A-3F99-4B55-AF5B-82B05B5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B332-BF11-40D1-B247-9F1EBE79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2828-E739-46DC-8AD0-FC6E94B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6A1C-FDF0-417E-B6E8-078A7F9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C33C-F670-4734-9922-885B638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4F23-94F5-4C49-AE5A-1595FBB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282D-AE2C-4686-98E0-CAE995A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1486-D925-4C31-A418-7270657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10D8-F197-4F03-9A14-785646E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E0E0-5D2C-4C4A-BAEF-A98056A2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F226-66F4-4068-97CB-F4D3A11E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561-9798-4CF9-BD08-331FDB4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1E77-C150-47E6-B569-798772C9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257D-695B-4997-8B06-23305A64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8332-9AB8-4418-A0B7-C7E791EB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FC3B-566F-42B4-AA6D-FA528B4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56F9-AC35-492D-A0B8-4406EF09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D392-3F8D-476C-8395-B6E09A6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154B-D28A-45A2-BE0A-7ACE27AC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5452-A09C-4BCE-8B4C-7F236E5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6D47-F890-47F4-93B1-0E4F0A2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0192-7E35-44F2-A1D2-E9E33D7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35E-5C8C-44A7-8FA6-33D021E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6824-6FF0-49AB-A2D8-5B4F6AD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F50F-AA68-4931-8949-C3AB7CD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187B-C8DC-459E-82B0-843F6660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6E5A-0FE9-4973-BD21-EF1D08C4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1BAC-18BE-425B-8BFD-62628A8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7418-40A0-4576-835D-EA4F27E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7025-A6F8-4B63-A062-638E5EC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C8C0-8D1A-4930-BDD1-1C2E19F0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D1C2A-3AC6-4E60-B80E-E7C44CF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0636F-347A-4E29-853F-B9E1F60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2F9-6444-485B-84B6-A1D2893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AA56-C22A-4ACC-A5BB-72E84F6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ADF7-5BBB-437E-B8EE-9A204457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6B71-0134-45F8-AC97-F279EC8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9E596-CFC0-4D17-A02B-1526A49C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0DB20-3E70-4FDE-ACC5-75FB1FD4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68F0B-6575-4BCA-B8A2-6A98BDFB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6AE7-BA6C-43E2-A316-D1F3E19A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4C5A-C850-43C6-92B3-8E585E86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B0FA-8BE8-4A58-8EBC-013551C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54989-06D8-49AA-9B47-9C7C9DB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71C-547C-4755-B7D3-596E7F2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A48D-3E48-4FF0-BE07-A004CDA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751F-E95B-4706-B0B7-BABF78D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3173-43D3-48D2-9125-F39BE14F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F1F1C-1E8C-4DD5-ABCC-BDBDFD9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20061-EBD0-45B4-9C27-BEF7A81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19B3C-3140-49C1-A927-1D403F35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F809-8D3E-4F2A-94FE-761E5BD5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4855-A287-443E-952D-0DFC96B1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983BF-5263-4545-BCB1-A9A541E0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77B10-27B3-46B5-A48D-A6AEC303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DE75-E0BA-48DA-B942-14C25D6C7B3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086D-7FDD-46A5-9E9B-FB6B0CD466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6CF-294F-4F95-B334-33AB1EA8F72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252-76E7-4AED-A9D8-6C0270B10A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8739-A553-422B-B1F7-CD07560D647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48E0-52E8-49B5-BD78-7637F85D77B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18C5-EE9B-4411-89A6-8BD94A6B8A8A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D0C-EC6E-49E1-8A83-8A92A07DCF6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E405-245B-4AEE-8877-E386611F55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AA8B-4D18-4652-8F45-09D1FB8BB57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4DC7-6F80-486F-884B-850D197326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0280" y="628560"/>
            <a:ext cx="8126280" cy="1644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812880" indent="-8128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Dr Nervana Bayou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TEXTBOOK OF MEDICAL  PHYS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UYTON &amp; HALL 1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UNIT   VI  CHAPTERS 32-3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8BF-72CD-470D-8A42-D74672AEB14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COMPOSIT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5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ellular compon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Blood Cells (Erythr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Blood Cells (Leuc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d8"/>
                </a:solidFill>
                <a:latin typeface="Arial"/>
              </a:rPr>
              <a:t>Platelets (Thromb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Plasm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8% water + ions + plasma proteins e.g. (Albumin, globulin, Fibrinog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e ionic composition as interstitial  flu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873-647F-4CDC-B035-A89E52C1904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FUNCTIONS OF BLOOD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436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981080" indent="-609480">
              <a:spcBef>
                <a:spcPts val="700"/>
              </a:spcBef>
              <a:buClr>
                <a:srgbClr val="8d89a4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2, CO2, nutrient, hormones, was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moeos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 of body temperature, ECF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tecting against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 Blood Cells,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lood clotting prevent bloo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F520-D3D2-4C0C-B0B1-98DD3452B56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lood Volum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 li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ul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acked cells volume (PC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lasma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31" descr="1"/>
          <p:cNvPicPr/>
          <p:nvPr/>
        </p:nvPicPr>
        <p:blipFill>
          <a:blip r:embed="rId1"/>
          <a:stretch/>
        </p:blipFill>
        <p:spPr>
          <a:xfrm>
            <a:off x="5041800" y="2057400"/>
            <a:ext cx="4033800" cy="35053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FD6-06C0-494B-9F29-7C74763141D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Blood Cells Form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56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rythropoiesis: Formation of RBC (erythr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ucopoiesis: Formation of WBC (leucocyte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d8"/>
                </a:solidFill>
                <a:latin typeface="Arial"/>
              </a:rPr>
              <a:t>Thrombopoiesis: Formation of platelets (thromb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322-E195-4A57-A038-E1D348BF820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Red Blood Cells </a:t>
            </a: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(RBC)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mic Sans MS"/>
              </a:rPr>
              <a:t>Func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uff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2C1-78B4-4865-886E-4F997FE664D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8" descr="http://www.healtone.com/product_images/uploaded_images/Blood-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9400" indent="-74304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hape &amp; si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Biconcave D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nucl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meter 7-8 mm x 2.5 mm , 1 m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volume 90-95 m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= 4.7 to 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34 g/dl of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14-16 g/dl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29D-D5FE-41B8-8F04-0BD04265C4F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7"/>
          <p:cNvGrpSpPr/>
          <p:nvPr/>
        </p:nvGrpSpPr>
        <p:grpSpPr>
          <a:xfrm>
            <a:off x="5791320" y="1828800"/>
            <a:ext cx="2341080" cy="3671280"/>
            <a:chOff x="5791320" y="1828800"/>
            <a:chExt cx="2341080" cy="3671280"/>
          </a:xfrm>
        </p:grpSpPr>
        <p:pic>
          <p:nvPicPr>
            <p:cNvPr id="437" name="Picture 8" descr="177524"/>
            <p:cNvPicPr/>
            <p:nvPr/>
          </p:nvPicPr>
          <p:blipFill>
            <a:blip r:embed="rId1"/>
            <a:srcRect l="0" t="11018" r="83003" b="18460"/>
            <a:stretch/>
          </p:blipFill>
          <p:spPr>
            <a:xfrm>
              <a:off x="5791320" y="1940040"/>
              <a:ext cx="2341080" cy="35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9"/>
            <p:cNvSpPr/>
            <p:nvPr/>
          </p:nvSpPr>
          <p:spPr>
            <a:xfrm>
              <a:off x="7856640" y="1828800"/>
              <a:ext cx="27576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roduction of RB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120" y="9903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-ut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ew weeks of embryo nucleated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lk s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trimester mainly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ver &amp; spleen &amp;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months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fter Bir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 flat bone continue to produce RBC into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ft of long bone stop to produce RBC at puberty while epiphysi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4A0-63E0-4233-BA1D-C87317C1515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radioguraphics.net/tt/attach/1/3002320641.jpg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ne marrow"/>
          <p:cNvPicPr/>
          <p:nvPr/>
        </p:nvPicPr>
        <p:blipFill>
          <a:blip r:embed="rId1"/>
          <a:stretch/>
        </p:blipFill>
        <p:spPr>
          <a:xfrm>
            <a:off x="1981080" y="536400"/>
            <a:ext cx="45244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images.radiopaedia.org/images/2898475/2f6e0f47b8b308f0becb034aed62e8.png"/>
          <p:cNvPicPr/>
          <p:nvPr/>
        </p:nvPicPr>
        <p:blipFill>
          <a:blip r:embed="rId1"/>
          <a:srcRect l="0" t="0" r="0" b="18015"/>
          <a:stretch/>
        </p:blipFill>
        <p:spPr>
          <a:xfrm>
            <a:off x="990720" y="533520"/>
            <a:ext cx="765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https://encrypted-tbn1.gstatic.com/images?q=tbn:ANd9GcSuSQqMKliznJNhrndmV8DApnkoQaTAQicvP8hu6Dix-z_z1feROA"/>
          <p:cNvPicPr/>
          <p:nvPr/>
        </p:nvPicPr>
        <p:blipFill>
          <a:blip r:embed="rId1"/>
          <a:stretch/>
        </p:blipFill>
        <p:spPr>
          <a:xfrm>
            <a:off x="990720" y="838080"/>
            <a:ext cx="7078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Production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6" name="Picture 6" descr="1"/>
          <p:cNvPicPr/>
          <p:nvPr/>
        </p:nvPicPr>
        <p:blipFill>
          <a:blip r:embed="rId1"/>
          <a:stretch/>
        </p:blipFill>
        <p:spPr>
          <a:xfrm>
            <a:off x="395280" y="1219320"/>
            <a:ext cx="8273880" cy="49528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B577-2519-45BA-9EBD-430A3A22EE4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P stem cell.png"/>
          <p:cNvPicPr/>
          <p:nvPr/>
        </p:nvPicPr>
        <p:blipFill>
          <a:blip r:embed="rId1"/>
          <a:srcRect l="0" t="0" r="0" b="3951"/>
          <a:stretch/>
        </p:blipFill>
        <p:spPr>
          <a:xfrm>
            <a:off x="390600" y="228600"/>
            <a:ext cx="8601120" cy="59817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685800" y="624852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ripotent Stem Cells in Bone Marrow and Cord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y Ambreen Shaikh and Deepa Bhartiy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ebioscience.com/media/images/pathways/hematopoiesis-from-pluripotent-stem-cell.jpg"/>
          <p:cNvPicPr/>
          <p:nvPr/>
        </p:nvPicPr>
        <p:blipFill>
          <a:blip r:embed="rId1"/>
          <a:stretch/>
        </p:blipFill>
        <p:spPr>
          <a:xfrm>
            <a:off x="2057400" y="272880"/>
            <a:ext cx="450684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Puk presentation 015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Genesis (Production)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blood cell are formed fro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uripotential hematopoietic stem cell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ommitted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W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owth of different stems cells are controlled by different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580-D1F4-4BC9-9335-FE351662F57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Genesis (production) of RBC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6" name="Picture 6" descr="2 001"/>
          <p:cNvPicPr/>
          <p:nvPr/>
        </p:nvPicPr>
        <p:blipFill>
          <a:blip r:embed="rId1"/>
          <a:stretch/>
        </p:blipFill>
        <p:spPr>
          <a:xfrm>
            <a:off x="609480" y="1143000"/>
            <a:ext cx="7817040" cy="53006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087-1EC4-4771-BAF6-3C82CFA80BE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tages of differentiation of RBC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tages of RBC develop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Committed stem ce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er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Comic Sans MS"/>
              </a:rPr>
              <a:t>basophil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olychromatophil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orthochromatic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ticul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Mature erythr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In cases of rapi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BC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duction 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reticlocyte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in the circu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6688080" y="1989000"/>
          <a:ext cx="1816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1989000"/>
                    <a:ext cx="1816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E6B7-0012-4FEE-9BE0-D0615723C96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18284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5680" indent="-2732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RBC development is characterize b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crease in cell siz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isappearance of nucle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ppearance of hemoglobin (H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CCC-8701-450F-A342-93AE1756273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http://3.bp.blogspot.com/-PfuJW2agJco/TdUWYxT4weI/AAAAAAAAAFg/J_aoejLjbUk/s1600/genesis+rbc.jpg"/>
          <p:cNvPicPr/>
          <p:nvPr/>
        </p:nvPicPr>
        <p:blipFill>
          <a:blip r:embed="rId1"/>
          <a:stretch/>
        </p:blipFill>
        <p:spPr>
          <a:xfrm>
            <a:off x="6400800" y="609480"/>
            <a:ext cx="249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Regulation of RBC production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stimulated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rythropoie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ormone produced by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idne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response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pox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low oxygen in the bl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ypoxia ( oxygen) caused 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w RBC count (Ana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igh 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long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ung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E4AB-E203-4C37-9EC2-0BF3B47E3BA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Down Arrow 5"/>
          <p:cNvSpPr/>
          <p:nvPr/>
        </p:nvSpPr>
        <p:spPr>
          <a:xfrm>
            <a:off x="2590920" y="34290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issue oxygenation and RBC form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2" name="Picture 5" descr="4"/>
          <p:cNvPicPr/>
          <p:nvPr/>
        </p:nvPicPr>
        <p:blipFill>
          <a:blip r:embed="rId1"/>
          <a:stretch/>
        </p:blipFill>
        <p:spPr>
          <a:xfrm>
            <a:off x="1676520" y="1219320"/>
            <a:ext cx="5351400" cy="54147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4DD-69B7-4F5D-ADEA-1BA0ED5B251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19_03"/>
          <p:cNvPicPr/>
          <p:nvPr/>
        </p:nvPicPr>
        <p:blipFill>
          <a:blip r:embed="rId1"/>
          <a:srcRect l="0" t="2285" r="38750" b="11427"/>
          <a:stretch/>
        </p:blipFill>
        <p:spPr>
          <a:xfrm>
            <a:off x="2666880" y="457200"/>
            <a:ext cx="5181840" cy="5754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457200" y="15238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Erythropoietin: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yco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renal corte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at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grow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rly ste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no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ect matur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lik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High erythropoietin levels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lycyt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4A5A-D89C-4D27-B330-5C90F8C15EC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of the kidneys in RBC form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8" name="Picture 3" descr="5"/>
          <p:cNvPicPr/>
          <p:nvPr/>
        </p:nvPicPr>
        <p:blipFill>
          <a:blip r:embed="rId1"/>
          <a:stretch/>
        </p:blipFill>
        <p:spPr>
          <a:xfrm>
            <a:off x="1368360" y="1676520"/>
            <a:ext cx="6099120" cy="4725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BA7B-5EE7-4786-B545-FB98562DF80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omic Sans MS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Tahoma"/>
              </a:rPr>
              <a:t>At the end of this lecture student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ecef"/>
                </a:solidFill>
                <a:latin typeface="Comic Sans MS"/>
                <a:ea typeface="Tahoma"/>
              </a:rPr>
              <a:t>Describe Cellular and non-cellular components of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ahoma"/>
              </a:rPr>
              <a:t>Recognise functions of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ahoma"/>
              </a:rPr>
              <a:t>Recognize sites of RBC formation at different development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CA0-7A17-4A1A-AE0F-4624E7D7D70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  <a:ea typeface="Tahoma"/>
              </a:rPr>
              <a:t>At the end of this lecture student should be able 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Comic Sans MS"/>
                <a:ea typeface="Tahoma"/>
              </a:rPr>
              <a:t>Describe different stages of RBC differenti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  <a:ea typeface="Tahoma"/>
              </a:rPr>
              <a:t>Describe features of RBC matur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29e99"/>
                </a:solidFill>
                <a:latin typeface="Comic Sans MS"/>
                <a:ea typeface="Tahoma"/>
              </a:rPr>
              <a:t>Describe regulation of RBC production and erythropoietin hormone secretion in response to hypoxi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  <a:ea typeface="Tahoma"/>
              </a:rPr>
              <a:t>Recognize clinical conditions associated with high level of erythropoitein in the blo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A6DC-B9A0-4499-9E71-F72D98758A0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blood5"/>
          <p:cNvPicPr/>
          <p:nvPr/>
        </p:nvPicPr>
        <p:blipFill>
          <a:blip r:embed="rId1"/>
          <a:stretch/>
        </p:blipFill>
        <p:spPr>
          <a:xfrm>
            <a:off x="304920" y="3733920"/>
            <a:ext cx="368136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blood7"/>
          <p:cNvPicPr/>
          <p:nvPr/>
        </p:nvPicPr>
        <p:blipFill>
          <a:blip r:embed="rId2"/>
          <a:stretch/>
        </p:blipFill>
        <p:spPr>
          <a:xfrm>
            <a:off x="304920" y="380880"/>
            <a:ext cx="3673440" cy="2940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blood1"/>
          <p:cNvPicPr/>
          <p:nvPr/>
        </p:nvPicPr>
        <p:blipFill>
          <a:blip r:embed="rId3"/>
          <a:stretch/>
        </p:blipFill>
        <p:spPr>
          <a:xfrm>
            <a:off x="4495680" y="533520"/>
            <a:ext cx="3886200" cy="2592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3995640" y="1413000"/>
            <a:ext cx="7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2" descr="http://thumbs.dreamstime.com/z/blood-extraction-25215632.jpg"/>
          <p:cNvPicPr/>
          <p:nvPr/>
        </p:nvPicPr>
        <p:blipFill>
          <a:blip r:embed="rId4"/>
          <a:stretch/>
        </p:blipFill>
        <p:spPr>
          <a:xfrm>
            <a:off x="4572000" y="3886200"/>
            <a:ext cx="376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Black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4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Tahoma"/>
              </a:rPr>
              <a:t>At the end of this lecture you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scribe Cellular and non-cellular component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function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sites of RBC formation at different development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DFB-9592-421A-982C-76802BC52B9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different stages of RBC differen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features of RBC matur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regulation of RBC production and erythropoietin hormone secretion in response to hypoxi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Recognize clinical conditions associated with high level of erythropoitein in the bloo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4EF-D18C-40C8-8C97-B45DEBB1EDB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ood Composi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6" name="Picture 7" descr="1"/>
          <p:cNvPicPr/>
          <p:nvPr/>
        </p:nvPicPr>
        <p:blipFill>
          <a:blip r:embed="rId1"/>
          <a:stretch/>
        </p:blipFill>
        <p:spPr>
          <a:xfrm>
            <a:off x="950760" y="1219320"/>
            <a:ext cx="7359840" cy="5333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s://encrypted-tbn3.gstatic.com/images?q=tbn:ANd9GcRmTwfnb40DTPiRlyQoMtsgm7UYin2QDdHBxtAK6IlmmnruPR6T_A"/>
          <p:cNvPicPr/>
          <p:nvPr/>
        </p:nvPicPr>
        <p:blipFill>
          <a:blip r:embed="rId2"/>
          <a:stretch/>
        </p:blipFill>
        <p:spPr>
          <a:xfrm>
            <a:off x="7315200" y="685800"/>
            <a:ext cx="1143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_x000c_19-01c_1.jpg                                                   0001C664_x000e_  Macintosh HD                 BA03BFAA:"/>
          <p:cNvPicPr/>
          <p:nvPr/>
        </p:nvPicPr>
        <p:blipFill>
          <a:blip r:embed="rId1"/>
          <a:stretch/>
        </p:blipFill>
        <p:spPr>
          <a:xfrm>
            <a:off x="1440" y="138240"/>
            <a:ext cx="9141120" cy="658152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2"/>
          <p:cNvSpPr/>
          <p:nvPr/>
        </p:nvSpPr>
        <p:spPr>
          <a:xfrm>
            <a:off x="685800" y="45720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f9e98e"/>
          </a:solidFill>
          <a:ln w="19080">
            <a:solidFill>
              <a:srgbClr val="fcf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3"/>
          <p:cNvSpPr/>
          <p:nvPr/>
        </p:nvSpPr>
        <p:spPr>
          <a:xfrm>
            <a:off x="914400" y="59436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Fil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2" name="Picture 3" descr="Blood"/>
          <p:cNvPicPr/>
          <p:nvPr/>
        </p:nvPicPr>
        <p:blipFill>
          <a:blip r:embed="rId1"/>
          <a:stretch/>
        </p:blipFill>
        <p:spPr>
          <a:xfrm>
            <a:off x="380880" y="1371600"/>
            <a:ext cx="5616720" cy="482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ttps://encrypted-tbn1.gstatic.com/images?q=tbn:ANd9GcSR8uW7jt0WxficbcW4Ii4DlGVy7Z7-IYbL2UQ_pQrIOAhKLZ46cg"/>
          <p:cNvPicPr/>
          <p:nvPr/>
        </p:nvPicPr>
        <p:blipFill>
          <a:blip r:embed="rId2"/>
          <a:stretch/>
        </p:blipFill>
        <p:spPr>
          <a:xfrm>
            <a:off x="6629400" y="3049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s://encrypted-tbn1.gstatic.com/images?q=tbn:ANd9GcQNhva0ckzxwhGWFcvA65AdODQdqjh1LThQp-o-3Aj7rflgDemZGw"/>
          <p:cNvPicPr/>
          <p:nvPr/>
        </p:nvPicPr>
        <p:blipFill>
          <a:blip r:embed="rId3"/>
          <a:stretch/>
        </p:blipFill>
        <p:spPr>
          <a:xfrm>
            <a:off x="6629400" y="1981080"/>
            <a:ext cx="193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42:57Z</dcterms:created>
  <dc:creator>Dr.Sitelbanat</dc:creator>
  <dc:description/>
  <dc:language>en-US</dc:language>
  <cp:lastModifiedBy>Abdullah A. Bogis</cp:lastModifiedBy>
  <dcterms:modified xsi:type="dcterms:W3CDTF">2013-09-07T11:34:19Z</dcterms:modified>
  <cp:revision>41</cp:revision>
  <dc:subject/>
  <dc:title>BLOOD PHYSIOLOGY</dc:title>
</cp:coreProperties>
</file>