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25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1FEF-D03A-40DE-BB76-E661240AC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68C1-597A-4CCD-9552-68DD07618DC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E252-E0D8-4842-813F-8FED3C26E89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4BED-387A-4A78-AF7F-92CB2597CD2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2B74-6958-40C3-A580-4E3C377B24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A4B7-CD16-4B48-A46C-4AFE7C31FCD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E216-D2ED-420F-AD66-447B5075FFD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D8B8-0D63-4595-8E05-423DEDC6A36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6D06-AC8C-4DF2-8F46-747684188CF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EE86-34BD-43A3-AEA8-C6B7236E9B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19B8-343F-42A3-94DC-293E6F4B6F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2581-B439-44CF-A705-2AEB175543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170A-BDB8-4AD7-A57F-5D45299E32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83F0-1EE9-48A0-A7FD-6A7DB10E1E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78A9-4435-46E3-BA04-81A222EE79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CF4C-1CDC-4068-9151-5AD5EAFBC96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324F-E31E-4D13-AE3E-3AC5C15676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B7C1-4575-4855-BE59-01F5764865D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0BE1-4024-4940-B248-2372357B6E1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07C9-2D54-406A-B10A-2A203ACCC1A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A3E9-B1A3-40ED-9F5B-67C829941EB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E6A9-C439-4708-B0EB-2A3B2EB2C5F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1E0-B776-46D1-B302-1451E4C9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69BE-8221-4F5A-B320-2A695D64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D5D5D-57B7-4AA1-8E2E-3DC896A3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DE15F-F498-4821-9EE5-D5366B0F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51AAD-3F75-4C13-A024-69ABB322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355EB-53DD-4330-BFF2-DC5376B7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D24BE-228E-44D6-B0C3-D21DEB98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275B0-0557-4DA9-8F34-0D3EDA68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ABA6E-907D-43B9-8845-CDD33F00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ABBBA-A0BA-4844-B965-99615DC8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EC608-07B5-45C6-9A71-0BE6C027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8D18-5F29-4F0C-8644-2E3415DC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8907-7A29-448C-8F23-9C3F5737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B55F-0065-457A-8C05-47E21487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2CB9-1713-41C7-B30C-1BFC1F2C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49A7-F95D-46B6-B7DB-F9DB8904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3BFF-8063-46B7-AD0D-48577837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2D51-F3FE-4406-9259-459C26B3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308B-B82B-4D3B-B8FA-4431840D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4B8A-C1F5-4BDE-8BD1-32AAE46E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02A0-65DC-4C44-8B84-0F99B01C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D08C-2BF6-407D-944D-324B2450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3158-8E99-4A3D-93FF-38200C86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D876-ADB2-4FC2-8E46-55515632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6539-C14B-40A6-A7BC-197E21DF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A4A5-4F37-4A6A-A709-3E1C438A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3AB75-0342-4B05-B846-3C3AA5F3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2F748-3DFD-429F-9790-979FB663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65E22-4A9E-4355-9F74-617F20E9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76BA2-698E-4B15-BB4B-A89B2659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3B922-1ECB-400E-AFA3-D89C36C2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A9C2-D067-433E-A2B9-C22A3229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2AFAE-EC24-4E94-8F1C-4E2F41BD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8CEF0-E3E2-4937-B399-24952E02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31F02-AD48-438C-94F7-0815BD78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DE455-6820-4B70-B4D9-DF83A66A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8548E-76EB-4856-8342-3943ACE0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BA8BF-5DD5-4CCE-8934-1B489E86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0FD8F-7466-4B07-95E3-DCFBFC9E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09BCB-AF1C-4F5D-B353-FE0723A2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AB8FC-82AA-4DF2-BD5D-7A55A057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E2942-830D-4768-9646-BEC63FA7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98A-CB1A-4999-95FA-9CF83B3D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5B4ED-AB0B-4B3A-B239-82ACB794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7AF0A-17F0-441C-9E96-B8ABDA7B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68B94-EA8D-4116-AFB6-05CA20E9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CC3BE-B03D-4191-B432-CD1BAFE7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66603-EF64-4CDB-93AC-95EA06EB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6746A-D16F-4D3E-B5AA-10ACF313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CEF73-42AE-4665-ADB4-C6A87910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8F49C-36E0-4159-8393-32BEF51F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D7EB6-670F-4697-9950-6E3A382C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D2CDA-6A0B-4C5A-B437-D35C48F3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ED99-D7DD-4E6D-9B4B-4174834E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BF602-7EC8-425A-8277-4B3900C8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3C6F2-A0B9-4CCE-B938-6C31F1A3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D216F-529B-47AE-9205-27616D57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A3ED3-3F7A-4B1F-9FF7-DBD33F51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90846-E050-4033-AB14-BC66B307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C78FE-38C1-48A0-AEA6-F75A0BA6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11D07-E44D-477D-AFEF-C17EE581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B4A91-2EB8-4411-824A-63ACF733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BEF5F-93A6-45C5-8727-2CAFB9CB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585A9-2FB5-46D5-8389-29AE7814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999D-183E-4067-9CBD-3C993A10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95823-C4F9-4E6A-8F17-1620E43E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1847F-0AD7-461C-8947-A032B2A3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11927-2D9F-489D-9308-18EA90F1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19B93-B7EA-492C-9CB3-BB47B5FD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D26B8-2344-4C21-B8EE-B0AD5543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9C077-FAFF-4211-98EE-98251413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7DB38-1F29-4019-9865-BB7ADB65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F81C4-A447-438D-98B9-CD5DE515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1EBDA-3F10-4094-B101-F37D2700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DDD84-D8EF-42B2-8284-E6A9B76E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67DA-38A1-4BFE-B294-2B6E703B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D2308-11FE-4CCD-B8A0-FF152D82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4526A-43E6-44E6-8175-1F2FF473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335A7-1B8E-40C5-9FB2-21A6D261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AB032-0A3B-4AB7-8E9F-444F76A9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C8D15-70F7-4230-80FC-A7185120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9CF91-79A5-418A-9C8F-69B7CA5B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24918-E27A-431C-9C30-22758894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02D7D-001C-4731-9A6D-3D739922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406E0-F683-4A27-92CB-A27366D7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5FBC3-3652-4961-A850-1DA9FF7F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6EB-04B3-4596-ABF2-1C6EED62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49D60-A452-479C-B3AC-96089340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35B2F-8DEE-4760-864F-29064182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1587E-38CD-4D3E-B217-7C715E15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B8B6F-0999-42E5-B5F5-3CE269CE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28B68-06C7-4E12-99A1-653E06FF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1386E-F659-4D54-8652-4BFE119E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E1399-18A9-4438-A0F5-67AAE9C0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60FE7-4037-469C-B29A-0336950A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C8708-8110-46AC-91BE-CA7B2E8D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449B1-B3DD-47EC-908E-8F59BC78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5997-9590-47B9-9FB9-40005A22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6352F-1319-4B6E-91A6-1F8FFE57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35DCF-A14F-4649-A056-FB4019B6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96CAF-7132-4A31-B8A6-5D73E52E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222E1-EC6E-498F-98ED-B509F678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3D654-8E53-43D0-87D4-BC98331F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C303D-0C52-485F-9A37-BDB6995F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8B127-6322-4598-A19D-7CD71ED8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84922-ADEE-4C08-B3B0-D873CF9C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1E4E5-11B7-4CD4-9F47-FFE59277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33FFB2-07CE-4444-A5CE-07079A08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3916-6F8F-49F6-A75C-74F294475F0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E231-D393-41D3-B075-91F60BE8BDA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62A6-BA55-4F08-97BE-47D769F5FA1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2F9A-DC41-4FBE-8F06-42ECFC0E5C9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36DC-CF76-41E7-A231-5013968F704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C954-DE5E-4750-8CB2-21ACB70F18F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5170-A87F-4A7D-AD84-9FC770181B4D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6938-CA3D-4877-B9A2-2B40D933E978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Dr Sitelbana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9548-95CD-4296-AA96-7FFF107A0F4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A884-1A72-4788-ABFB-60FF55D65176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Dr Sitelbana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2A62-A12A-4916-B1D5-BBCEAEC4F6E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530280" y="628560"/>
            <a:ext cx="8126280" cy="164484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marL="812880" indent="-8128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Dr Nervana Bayoum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 Black"/>
              </a:rPr>
              <a:t>TEXTBOOK OF MEDICAL  PHYSI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GUYTON &amp; HALL 1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ED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UNIT   VI  CHAPTERS 32-3</a:t>
            </a: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F49F-A067-49DD-A594-0EB79380122C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LOOD COMPOSITION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8052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1034640" indent="-591120">
              <a:lnSpc>
                <a:spcPct val="7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Cellular compon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34640" indent="-591120">
              <a:lnSpc>
                <a:spcPct val="7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78160" indent="-59112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Red Blood Cells (Erythrocyt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78160" indent="-59112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ite Blood Cells (Leucocyt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78160" indent="-59112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8d8d8"/>
                </a:solidFill>
                <a:latin typeface="Arial"/>
              </a:rPr>
              <a:t>Platelets (Thrombocyt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78160" indent="-59112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34640" indent="-591120">
              <a:lnSpc>
                <a:spcPct val="7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Plasm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34640" indent="-591120">
              <a:lnSpc>
                <a:spcPct val="7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78160" indent="-59112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98% water + ions + plasma proteins e.g. (Albumin, globulin, Fibrinoge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78160" indent="-59112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78160" indent="-59112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ame ionic composition as interstitial  flui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C68F-93F1-4751-BAD1-6EF41076DF89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5"/>
          <p:cNvSpPr/>
          <p:nvPr/>
        </p:nvSpPr>
        <p:spPr>
          <a:xfrm>
            <a:off x="28954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C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Black"/>
              </a:rPr>
              <a:t>FUNCTIONS OF BLOOD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8436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Trans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981080" indent="-609480">
              <a:spcBef>
                <a:spcPts val="700"/>
              </a:spcBef>
              <a:buClr>
                <a:srgbClr val="8d89a4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2, CO2, nutrient, hormones, waste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Homoeosta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ulation of body temperature, ECF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rotecting against infe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te Blood Cells, Antibo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Blood clotting prevent blood lo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14E3-C03B-4073-BBC8-A3B96BAB886B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Blood Volume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6ea0b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 lit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dul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5%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packed cells volume (PCV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5%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plasma volu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1031" descr="1"/>
          <p:cNvPicPr/>
          <p:nvPr/>
        </p:nvPicPr>
        <p:blipFill>
          <a:blip r:embed="rId1"/>
          <a:stretch/>
        </p:blipFill>
        <p:spPr>
          <a:xfrm>
            <a:off x="5041800" y="2057400"/>
            <a:ext cx="4033800" cy="350532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ED22-30C3-4037-9BD9-8C28294F51B3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 Black"/>
              </a:rPr>
              <a:t>Blood Cells Formation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560" y="15235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Erythropoiesis: Formation of RBC (erythrocyt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eucopoiesis: Formation of WBC (leucocytes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8d8d8"/>
                </a:solidFill>
                <a:latin typeface="Arial"/>
              </a:rPr>
              <a:t>Thrombopoiesis: Formation of platelets (thrombocyt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02A2-FD71-4F71-B876-C9F6DBDF7F6A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Arial Black"/>
              </a:rPr>
              <a:t>Red Blood Cells </a:t>
            </a:r>
            <a:br>
              <a:rPr sz="4100"/>
            </a:br>
            <a:r>
              <a:rPr b="1" lang="en-US" sz="4100" spc="-1" strike="noStrike">
                <a:solidFill>
                  <a:srgbClr val="ff0000"/>
                </a:solidFill>
                <a:latin typeface="Arial Black"/>
              </a:rPr>
              <a:t>(RBC):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4876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omic Sans MS"/>
              </a:rPr>
              <a:t>Func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uff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3DE3-C371-4055-8F7A-599D4842F44A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8" descr="http://www.healtone.com/product_images/uploaded_images/Blood-.jpg"/>
          <p:cNvPicPr/>
          <p:nvPr/>
        </p:nvPicPr>
        <p:blipFill>
          <a:blip r:embed="rId1"/>
          <a:stretch/>
        </p:blipFill>
        <p:spPr>
          <a:xfrm>
            <a:off x="4572000" y="17524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 Black"/>
              </a:rPr>
              <a:t>Red Blood Cell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79400" indent="-743040">
              <a:lnSpc>
                <a:spcPct val="9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Shape &amp; siz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Biconcave Dis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nucle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ameter 7-8 mm x 2.5 mm , 1 m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erage volume 90-95 m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= 4.7 to 5 x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 = 34 g/dl of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 = 14-16 g/dl in the 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EAC5-D05F-41F7-8A66-7DF33B31E06E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Group 7"/>
          <p:cNvGrpSpPr/>
          <p:nvPr/>
        </p:nvGrpSpPr>
        <p:grpSpPr>
          <a:xfrm>
            <a:off x="5791320" y="1828800"/>
            <a:ext cx="2341080" cy="3671280"/>
            <a:chOff x="5791320" y="1828800"/>
            <a:chExt cx="2341080" cy="3671280"/>
          </a:xfrm>
        </p:grpSpPr>
        <p:pic>
          <p:nvPicPr>
            <p:cNvPr id="437" name="Picture 8" descr="177524"/>
            <p:cNvPicPr/>
            <p:nvPr/>
          </p:nvPicPr>
          <p:blipFill>
            <a:blip r:embed="rId1"/>
            <a:srcRect l="0" t="11018" r="83003" b="18460"/>
            <a:stretch/>
          </p:blipFill>
          <p:spPr>
            <a:xfrm>
              <a:off x="5791320" y="1940040"/>
              <a:ext cx="2341080" cy="356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Rectangle 9"/>
            <p:cNvSpPr/>
            <p:nvPr/>
          </p:nvSpPr>
          <p:spPr>
            <a:xfrm>
              <a:off x="7856640" y="1828800"/>
              <a:ext cx="275760" cy="44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Production of RBC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9120" y="9903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7800" indent="-36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-ut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few weeks of embryo nucleated RBCs are formed 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olk sa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dle trimester mainly 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iver &amp; spleen &amp; lymph no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t months RBCs are formed 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e marro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ll b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fter Birth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Bone marrow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f flat bone continue to produce RBC into adult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aft of long bone stop to produce RBC at puberty while epiphysis 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BF01-B673-4672-99DC-DF808C8A072F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http://radioguraphics.net/tt/attach/1/3002320641.jpg"/>
          <p:cNvPicPr/>
          <p:nvPr/>
        </p:nvPicPr>
        <p:blipFill>
          <a:blip r:embed="rId1"/>
          <a:stretch/>
        </p:blipFill>
        <p:spPr>
          <a:xfrm>
            <a:off x="1981080" y="304920"/>
            <a:ext cx="514368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Bone marrow"/>
          <p:cNvPicPr/>
          <p:nvPr/>
        </p:nvPicPr>
        <p:blipFill>
          <a:blip r:embed="rId1"/>
          <a:stretch/>
        </p:blipFill>
        <p:spPr>
          <a:xfrm>
            <a:off x="1981080" y="536400"/>
            <a:ext cx="4524480" cy="60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http://images.radiopaedia.org/images/2898475/2f6e0f47b8b308f0becb034aed62e8.png"/>
          <p:cNvPicPr/>
          <p:nvPr/>
        </p:nvPicPr>
        <p:blipFill>
          <a:blip r:embed="rId1"/>
          <a:srcRect l="0" t="0" r="0" b="18015"/>
          <a:stretch/>
        </p:blipFill>
        <p:spPr>
          <a:xfrm>
            <a:off x="990720" y="533520"/>
            <a:ext cx="7650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https://encrypted-tbn1.gstatic.com/images?q=tbn:ANd9GcSuSQqMKliznJNhrndmV8DApnkoQaTAQicvP8hu6Dix-z_z1feROA"/>
          <p:cNvPicPr/>
          <p:nvPr/>
        </p:nvPicPr>
        <p:blipFill>
          <a:blip r:embed="rId1"/>
          <a:stretch/>
        </p:blipFill>
        <p:spPr>
          <a:xfrm>
            <a:off x="990720" y="838080"/>
            <a:ext cx="70786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Production of RBC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46" name="Picture 6" descr="1"/>
          <p:cNvPicPr/>
          <p:nvPr/>
        </p:nvPicPr>
        <p:blipFill>
          <a:blip r:embed="rId1"/>
          <a:stretch/>
        </p:blipFill>
        <p:spPr>
          <a:xfrm>
            <a:off x="395280" y="1219320"/>
            <a:ext cx="8273880" cy="495288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0301-9659-46A9-8FFF-3BC58D95E743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MP stem cell.png"/>
          <p:cNvPicPr/>
          <p:nvPr/>
        </p:nvPicPr>
        <p:blipFill>
          <a:blip r:embed="rId1"/>
          <a:srcRect l="0" t="0" r="0" b="3951"/>
          <a:stretch/>
        </p:blipFill>
        <p:spPr>
          <a:xfrm>
            <a:off x="390600" y="228600"/>
            <a:ext cx="8601120" cy="5981760"/>
          </a:xfrm>
          <a:prstGeom prst="rect">
            <a:avLst/>
          </a:prstGeom>
          <a:ln w="0">
            <a:noFill/>
          </a:ln>
        </p:spPr>
      </p:pic>
      <p:sp>
        <p:nvSpPr>
          <p:cNvPr id="449" name="TextBox 3"/>
          <p:cNvSpPr/>
          <p:nvPr/>
        </p:nvSpPr>
        <p:spPr>
          <a:xfrm>
            <a:off x="685800" y="6248520"/>
            <a:ext cx="807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uripotent Stem Cells in Bone Marrow and Cord Bl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By Ambreen Shaikh and Deepa Bhartiy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http://www.ebioscience.com/media/images/pathways/hematopoiesis-from-pluripotent-stem-cell.jpg"/>
          <p:cNvPicPr/>
          <p:nvPr/>
        </p:nvPicPr>
        <p:blipFill>
          <a:blip r:embed="rId1"/>
          <a:stretch/>
        </p:blipFill>
        <p:spPr>
          <a:xfrm>
            <a:off x="2057400" y="272880"/>
            <a:ext cx="4506840" cy="63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Puk presentation 015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Genesis (Production) of RBC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ll blood cell are formed from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luripotential hematopoietic stem cells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ommitted cel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mmitted stem cells fo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mmitted stem cells for W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rowth of different stems cells are controlled by different growth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CB19-23D7-4163-9109-661A3FA6F90E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Arial"/>
              </a:rPr>
              <a:t>Genesis (production) of RBC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56" name="Picture 6" descr="2 001"/>
          <p:cNvPicPr/>
          <p:nvPr/>
        </p:nvPicPr>
        <p:blipFill>
          <a:blip r:embed="rId1"/>
          <a:stretch/>
        </p:blipFill>
        <p:spPr>
          <a:xfrm>
            <a:off x="609480" y="1143000"/>
            <a:ext cx="7817040" cy="530064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E962-2C1A-456B-A62A-712C54522FEE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Stages of differentiation of RBC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6096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2160" indent="-2728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Stages of RBC developmen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Committed stem cel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Proerthrob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Comic Sans MS"/>
              </a:rPr>
              <a:t>basophil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erythrob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polychromatophil erythrob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orthochromatic erythrob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Reticulocy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Mature erythrocy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In cases of rapid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RBC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production 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 reticlocytes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in the circul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0" name="Object 5"/>
          <p:cNvGraphicFramePr/>
          <p:nvPr/>
        </p:nvGraphicFramePr>
        <p:xfrm>
          <a:off x="6688080" y="1989000"/>
          <a:ext cx="181620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8080" y="1989000"/>
                    <a:ext cx="18162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9482-A6D1-4750-AB07-74399D75D72B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rythropoiesi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1828440"/>
            <a:ext cx="6553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55680" indent="-27324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RBC development is characterize by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81080" indent="-452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decrease in cell siz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81080" indent="-452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81080" indent="-452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disappearance of nucleu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81080" indent="-452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81080" indent="-452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appearance of hemoglobin (Hb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81080" indent="-452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8BD5-70CA-45DB-A1C2-0647B9CEC4E6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Picture 8" descr="http://3.bp.blogspot.com/-PfuJW2agJco/TdUWYxT4weI/AAAAAAAAAFg/J_aoejLjbUk/s1600/genesis+rbc.jpg"/>
          <p:cNvPicPr/>
          <p:nvPr/>
        </p:nvPicPr>
        <p:blipFill>
          <a:blip r:embed="rId1"/>
          <a:stretch/>
        </p:blipFill>
        <p:spPr>
          <a:xfrm>
            <a:off x="6400800" y="609480"/>
            <a:ext cx="24955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Regulation of RBC production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rythropoiesi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stimulated b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erythropoieti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ormone produced by 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kidne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n response to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ypoxia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(low oxygen in the bloo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Hypoxia ( oxygen) caused b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ow RBC count (Anaem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emorrh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igh alt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rolong heart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ung disea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5AF3-C4F3-4DC6-B62C-7C4843735096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Down Arrow 5"/>
          <p:cNvSpPr/>
          <p:nvPr/>
        </p:nvSpPr>
        <p:spPr>
          <a:xfrm>
            <a:off x="2590920" y="3429000"/>
            <a:ext cx="152280" cy="4572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Tissue oxygenation and RBC formation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72" name="Picture 5" descr="4"/>
          <p:cNvPicPr/>
          <p:nvPr/>
        </p:nvPicPr>
        <p:blipFill>
          <a:blip r:embed="rId1"/>
          <a:stretch/>
        </p:blipFill>
        <p:spPr>
          <a:xfrm>
            <a:off x="1676520" y="1219320"/>
            <a:ext cx="5351400" cy="541476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9875-CA14-4985-85CE-B5254BD84639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19_03"/>
          <p:cNvPicPr/>
          <p:nvPr/>
        </p:nvPicPr>
        <p:blipFill>
          <a:blip r:embed="rId1"/>
          <a:srcRect l="0" t="2285" r="38750" b="11427"/>
          <a:stretch/>
        </p:blipFill>
        <p:spPr>
          <a:xfrm>
            <a:off x="2666880" y="457200"/>
            <a:ext cx="5181840" cy="5754600"/>
          </a:xfrm>
          <a:prstGeom prst="rect">
            <a:avLst/>
          </a:prstGeom>
          <a:ln w="0">
            <a:noFill/>
          </a:ln>
        </p:spPr>
      </p:pic>
      <p:sp>
        <p:nvSpPr>
          <p:cNvPr id="391" name="TextBox 5"/>
          <p:cNvSpPr/>
          <p:nvPr/>
        </p:nvSpPr>
        <p:spPr>
          <a:xfrm>
            <a:off x="457200" y="152388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lood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 Black"/>
              </a:rPr>
              <a:t>Erythropoietin: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56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lycoprote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90%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rom renal cortex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0%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liv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mulat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growth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arly ste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s not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ffect matur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b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asur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lasm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r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ditions lik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em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alt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rt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ng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 in High erythropoietin levels and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olycyt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5E4B-1D10-4035-80CF-5E37D36ADB3A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le of the kidneys in RBC formation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78" name="Picture 3" descr="5"/>
          <p:cNvPicPr/>
          <p:nvPr/>
        </p:nvPicPr>
        <p:blipFill>
          <a:blip r:embed="rId1"/>
          <a:stretch/>
        </p:blipFill>
        <p:spPr>
          <a:xfrm>
            <a:off x="1368360" y="1676520"/>
            <a:ext cx="6099120" cy="472572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4A16-1F92-41BB-ABAE-C2D134C30933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Comic Sans MS"/>
                <a:ea typeface="Tahoma"/>
              </a:rPr>
              <a:t>Objectiv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  <a:ea typeface="Tahoma"/>
              </a:rPr>
              <a:t>At the end of this lecture student should be able t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2ecef"/>
                </a:solidFill>
                <a:latin typeface="Comic Sans MS"/>
                <a:ea typeface="Tahoma"/>
              </a:rPr>
              <a:t>Describe Cellular and non-cellular components of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ahoma"/>
              </a:rPr>
              <a:t>Recognise functions of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Tahoma"/>
              </a:rPr>
              <a:t>Define Erythropoiesis; leucopoiesis, thrombopoie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ahoma"/>
              </a:rPr>
              <a:t>Recognize sites of RBC formation at different developmental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6AA2-4ACB-4A89-ADB8-431B7053F3FF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Comic Sans MS"/>
                <a:ea typeface="Tahoma"/>
              </a:rPr>
              <a:t>At the end of this lecture student should be able t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75"/>
              </a:spcBef>
              <a:buClr>
                <a:srgbClr val="6ea0b0"/>
              </a:buClr>
              <a:buSzPct val="8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2f2f2"/>
                </a:solidFill>
                <a:latin typeface="Comic Sans MS"/>
                <a:ea typeface="Tahoma"/>
              </a:rPr>
              <a:t>Describe different stages of RBC differenti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75"/>
              </a:spcBef>
              <a:buClr>
                <a:srgbClr val="6ea0b0"/>
              </a:buClr>
              <a:buSzPct val="8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Comic Sans MS"/>
                <a:ea typeface="Tahoma"/>
              </a:rPr>
              <a:t>Describe features of RBC matur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75"/>
              </a:spcBef>
              <a:buClr>
                <a:srgbClr val="6ea0b0"/>
              </a:buClr>
              <a:buSzPct val="8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a29e99"/>
                </a:solidFill>
                <a:latin typeface="Comic Sans MS"/>
                <a:ea typeface="Tahoma"/>
              </a:rPr>
              <a:t>Describe regulation of RBC production and erythropoietin hormone secretion in response to hypoxia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75"/>
              </a:spcBef>
              <a:buClr>
                <a:srgbClr val="6ea0b0"/>
              </a:buClr>
              <a:buSzPct val="8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Comic Sans MS"/>
                <a:ea typeface="Tahoma"/>
              </a:rPr>
              <a:t>Recognize clinical conditions associated with high level of erythropoitein in the bloo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75"/>
              </a:spcBef>
              <a:buClr>
                <a:srgbClr val="6ea0b0"/>
              </a:buClr>
              <a:buSzPct val="8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4626-AE61-40E8-A6F9-598B5E68AB0B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itle 1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  <a:ea typeface="Tahoma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600" spc="-1" strike="noStrike">
              <a:solidFill>
                <a:srgbClr val="ffffff"/>
              </a:solidFill>
              <a:latin typeface="Franklin Gothic Book"/>
              <a:ea typeface="Tahoma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7" descr="blood5"/>
          <p:cNvPicPr/>
          <p:nvPr/>
        </p:nvPicPr>
        <p:blipFill>
          <a:blip r:embed="rId1"/>
          <a:stretch/>
        </p:blipFill>
        <p:spPr>
          <a:xfrm>
            <a:off x="304920" y="3733920"/>
            <a:ext cx="3681360" cy="3124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blood7"/>
          <p:cNvPicPr/>
          <p:nvPr/>
        </p:nvPicPr>
        <p:blipFill>
          <a:blip r:embed="rId2"/>
          <a:stretch/>
        </p:blipFill>
        <p:spPr>
          <a:xfrm>
            <a:off x="304920" y="380880"/>
            <a:ext cx="3673440" cy="29401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" descr="blood1"/>
          <p:cNvPicPr/>
          <p:nvPr/>
        </p:nvPicPr>
        <p:blipFill>
          <a:blip r:embed="rId3"/>
          <a:stretch/>
        </p:blipFill>
        <p:spPr>
          <a:xfrm>
            <a:off x="4495680" y="533520"/>
            <a:ext cx="3886200" cy="259236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8"/>
          <p:cNvSpPr/>
          <p:nvPr/>
        </p:nvSpPr>
        <p:spPr>
          <a:xfrm>
            <a:off x="3995640" y="1413000"/>
            <a:ext cx="792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12" descr="http://thumbs.dreamstime.com/z/blood-extraction-25215632.jpg"/>
          <p:cNvPicPr/>
          <p:nvPr/>
        </p:nvPicPr>
        <p:blipFill>
          <a:blip r:embed="rId4"/>
          <a:stretch/>
        </p:blipFill>
        <p:spPr>
          <a:xfrm>
            <a:off x="4572000" y="3886200"/>
            <a:ext cx="3767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 Black"/>
                <a:ea typeface="Tahoma"/>
              </a:rPr>
              <a:t>Objectiv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09480" y="11430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  <a:ea typeface="Tahoma"/>
              </a:rPr>
              <a:t>At the end of this lecture you should be able t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Describe Cellular and non-cellular components of bl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Recognize functions of bl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Define Erythropoiesis; leucopoiesis, thrombopoie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Recognize sites of RBC formation at different developmental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150A7-CB68-46F5-AA71-38A7B4101229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75"/>
              </a:spcBef>
              <a:buClr>
                <a:srgbClr val="6ea0b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ahoma"/>
              </a:rPr>
              <a:t>Describe different stages of RBC differen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75"/>
              </a:spcBef>
              <a:buClr>
                <a:srgbClr val="6ea0b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ahoma"/>
              </a:rPr>
              <a:t>Describe features of RBC matur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75"/>
              </a:spcBef>
              <a:buClr>
                <a:srgbClr val="6ea0b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ahoma"/>
              </a:rPr>
              <a:t>Describe regulation of RBC production and erythropoietin hormone secretion in response to hypoxia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75"/>
              </a:spcBef>
              <a:buClr>
                <a:srgbClr val="6ea0b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Tahoma"/>
              </a:rPr>
              <a:t>Recognize clinical conditions associated with high level of erythropoitein in the bloo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75"/>
              </a:spcBef>
              <a:buClr>
                <a:srgbClr val="6ea0b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8259-6A46-4BC0-95E1-243A01ECA58D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itle 1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Objective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lood Composition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06" name="Picture 7" descr="1"/>
          <p:cNvPicPr/>
          <p:nvPr/>
        </p:nvPicPr>
        <p:blipFill>
          <a:blip r:embed="rId1"/>
          <a:stretch/>
        </p:blipFill>
        <p:spPr>
          <a:xfrm>
            <a:off x="950760" y="1219320"/>
            <a:ext cx="7359840" cy="5333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https://encrypted-tbn3.gstatic.com/images?q=tbn:ANd9GcRmTwfnb40DTPiRlyQoMtsgm7UYin2QDdHBxtAK6IlmmnruPR6T_A"/>
          <p:cNvPicPr/>
          <p:nvPr/>
        </p:nvPicPr>
        <p:blipFill>
          <a:blip r:embed="rId2"/>
          <a:stretch/>
        </p:blipFill>
        <p:spPr>
          <a:xfrm>
            <a:off x="7315200" y="685800"/>
            <a:ext cx="11430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_x000c_19-01c_1.jpg                                                   0001C664_x000e_  Macintosh HD                 BA03BFAA:"/>
          <p:cNvPicPr/>
          <p:nvPr/>
        </p:nvPicPr>
        <p:blipFill>
          <a:blip r:embed="rId1"/>
          <a:stretch/>
        </p:blipFill>
        <p:spPr>
          <a:xfrm>
            <a:off x="1440" y="138240"/>
            <a:ext cx="9141120" cy="6581520"/>
          </a:xfrm>
          <a:prstGeom prst="rect">
            <a:avLst/>
          </a:prstGeom>
          <a:ln w="0">
            <a:noFill/>
          </a:ln>
        </p:spPr>
      </p:pic>
      <p:sp>
        <p:nvSpPr>
          <p:cNvPr id="409" name="Rounded Rectangle 2"/>
          <p:cNvSpPr/>
          <p:nvPr/>
        </p:nvSpPr>
        <p:spPr>
          <a:xfrm>
            <a:off x="685800" y="4572000"/>
            <a:ext cx="1219320" cy="380880"/>
          </a:xfrm>
          <a:prstGeom prst="roundRect">
            <a:avLst>
              <a:gd name="adj" fmla="val 16667"/>
            </a:avLst>
          </a:prstGeom>
          <a:solidFill>
            <a:srgbClr val="f9e98e"/>
          </a:solidFill>
          <a:ln w="19080">
            <a:solidFill>
              <a:srgbClr val="fcf4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ounded Rectangle 3"/>
          <p:cNvSpPr/>
          <p:nvPr/>
        </p:nvSpPr>
        <p:spPr>
          <a:xfrm>
            <a:off x="914400" y="5943600"/>
            <a:ext cx="762120" cy="22860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lood Film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12" name="Picture 3" descr="Blood"/>
          <p:cNvPicPr/>
          <p:nvPr/>
        </p:nvPicPr>
        <p:blipFill>
          <a:blip r:embed="rId1"/>
          <a:stretch/>
        </p:blipFill>
        <p:spPr>
          <a:xfrm>
            <a:off x="380880" y="1371600"/>
            <a:ext cx="5616720" cy="4824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https://encrypted-tbn1.gstatic.com/images?q=tbn:ANd9GcSR8uW7jt0WxficbcW4Ii4DlGVy7Z7-IYbL2UQ_pQrIOAhKLZ46cg"/>
          <p:cNvPicPr/>
          <p:nvPr/>
        </p:nvPicPr>
        <p:blipFill>
          <a:blip r:embed="rId2"/>
          <a:stretch/>
        </p:blipFill>
        <p:spPr>
          <a:xfrm>
            <a:off x="6629400" y="304920"/>
            <a:ext cx="1905120" cy="14763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https://encrypted-tbn1.gstatic.com/images?q=tbn:ANd9GcQNhva0ckzxwhGWFcvA65AdODQdqjh1LThQp-o-3Aj7rflgDemZGw"/>
          <p:cNvPicPr/>
          <p:nvPr/>
        </p:nvPicPr>
        <p:blipFill>
          <a:blip r:embed="rId3"/>
          <a:stretch/>
        </p:blipFill>
        <p:spPr>
          <a:xfrm>
            <a:off x="6629400" y="1981080"/>
            <a:ext cx="1935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0:42:57Z</dcterms:created>
  <dc:creator>Dr.Sitelbanat</dc:creator>
  <dc:description/>
  <dc:language>en-US</dc:language>
  <cp:lastModifiedBy>Abdullah A. Bogis</cp:lastModifiedBy>
  <dcterms:modified xsi:type="dcterms:W3CDTF">2013-09-07T11:34:19Z</dcterms:modified>
  <cp:revision>41</cp:revision>
  <dc:subject/>
  <dc:title>BLOOD PHYSIOLOGY</dc:title>
</cp:coreProperties>
</file>