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3.gif" ContentType="image/gif"/>
  <Override PartName="/ppt/media/image16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2B5533-AFF9-4FE4-A75B-F4E62CBDE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30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C56CC0-A499-441F-B403-661B7DF88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Num" idx="31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889FC2-5F5A-482E-AF12-BCD52A6F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Num" idx="32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E192F1-8E3B-4477-92BB-8C5AD07A0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Num" idx="28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FB8D30-628C-4371-BE3C-7EDED9B21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Num" idx="29"/>
          </p:nvPr>
        </p:nvSpPr>
        <p:spPr>
          <a:xfrm>
            <a:off x="388620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DA1DBF-5D0F-4DCF-8084-4A39F6628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6440" cy="32065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lIns="89640" rIns="89640" tIns="45000" bIns="450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04A0-EC78-4B02-91EC-14119E3E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D63-BD26-41FA-A0F1-7F2E270F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21984-D960-431E-B379-5AB49DC3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39DD0-0D8F-458A-861A-C2118816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3F4C9-6B1B-422F-9798-281E6BB3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1E78B-B397-4DC8-8CCB-AAB0F372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28D75-9097-4037-8C80-8B8DD70D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9ABAB-8346-46F0-AC59-05D41235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7EA40-831D-4188-BF49-3CE7F143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589DB-0C1D-4C46-8C93-275DB15F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1DFBA-099A-4757-BB70-2D0A9D63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3C2-DBC8-4019-AA46-F55C061C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D3B-A79F-4C25-9A56-DB6D1EA1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9B5B-B954-44D8-98EA-5CC63324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CEB9-C661-446C-BE52-7B801611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36EF-3902-495B-9DD2-1CFCBDC6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FA91-74AF-495D-A716-AB2E8EDF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FF1F-9C9C-4906-9EBA-3AC04ED1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EB63-5FDD-4D4A-9B9C-B25F7AD3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CCC7-8D13-4637-8A6A-34AF6804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19D-5C2B-4836-BC02-C7D1D64C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5347-CF9D-40BF-8F30-73883AF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D447-68C6-44DF-ACE5-386E8516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A540-DA4C-4071-BB2A-D9BCE875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1E22-F36A-4BF8-9DD2-28F50DF5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37D8-A543-40BD-A9DF-1E73A2E8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70A-2053-4DD6-832A-103AA907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B5A1-4B53-41EA-A4CB-D9E8BADB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B458-5C07-461C-BFB2-F323FFE8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ABA3-E7AE-44AF-8F9D-0AFE1D38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2A0-CCBD-4B01-838D-997796D6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C70FE-01FD-4BC6-9B46-B8F1A396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85CB-07A0-446A-8A6A-D0F31DE6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9DFB-5E2A-4D8E-B683-4CB56B69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F075-23E4-4D44-98F3-EAD08010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2AEC6-1134-40BD-8AEE-CF783675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671F-421A-4BFB-866E-F35CA61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5A4DF-5D92-4EE1-AC86-56C26B61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8729D-AA6E-4713-98E4-61A0F7EF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0E53F-D4DA-40F9-B972-7F64F579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3AD2A-DFFB-4F81-A5D7-06AB6DF7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31C-6285-4BC6-901B-EBF011D7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E17D-68F7-4AC0-95C6-2FF80E9F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CA97-1EC3-4808-A067-B5EDB0E1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E9640-EACA-4892-84D8-EB77B9ED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44E43-30B6-4F1A-9149-AC24AC8F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0733-9638-4352-B017-F6A9A773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92AB-C26F-4833-90CD-353BBDC5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AEDC-4CAF-4CCD-9E30-911CFE4F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1EC8B-4A2D-4D60-B862-A1EAA65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1E7D-2ADF-4B4D-87CF-3357C75E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FCC1D-1E68-4A0B-A9B4-38920F56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8A5-3183-4C04-B3E6-FDC2F582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C4057-B24F-4693-AA3F-4BC0CA11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EB66F-3782-4D10-A4D1-CE8672E1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61315-0BA8-4CEF-8DD5-EB1CBE87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B1485-284E-4D6F-9D15-6004AA3D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4C9C2-6F96-4F0F-A24B-5F1EF0A9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525CB-FB2B-4831-9064-06D59FD4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0E4A-50C2-45A8-A18E-A86372A5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853E6-F34A-45D2-941D-57763447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B1DF6-734B-4F08-A015-FBF7869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A2687-07CE-4C33-9B74-48236524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0022-26C8-4CDC-99BB-5AEE77F3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76D4D-6FB7-49F1-B292-6B90BD04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A7070-821F-4A1A-A221-A55E7F5E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B8B94-5EF5-4AA3-A467-F65658110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7E064-F856-4401-910D-6A15016F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5A5E2-CADC-4715-9471-66DA9229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AE1E4-1733-49B0-B3F1-F36D5DB9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EF861-AED4-4C4E-9440-FE25CCE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6FA58-C78D-48B6-953C-E83BD839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18554-20A5-4F21-9DC7-AB656FD7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6E841-9229-46ED-B9B0-D71DF3D1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17DE-F77B-477F-8E4A-34381AF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595F-9F70-4D91-9BF1-EEA6204A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C39D-1FCA-403A-9080-B37D6C83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60DBA-1322-45C1-8BF0-A1FE160E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48FA5-8488-4F7F-93EA-E6E7E5C2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60059-ADE4-436D-927F-23F91964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59309-3F5D-4644-AC5D-9A4FE8B8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8DE3A-138C-477D-84A1-E5A08723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D928B-1722-4B5F-8A45-7D6E750F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0C77D-7B1E-447B-A309-884D0CC2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4930A-F315-4322-B9D6-4B26B93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B94-EB00-4E68-9D36-6270E117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C7FDB-C612-4071-A7E1-26FB007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21146-2A74-464B-B733-7D8F7411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0958-C084-4F2C-B907-88547901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5CC98-7978-4676-A67E-8AC3F63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7AA76-43A4-4583-8582-5AF3E0E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F6EEA-F3FA-44AD-A111-029F8DBBB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E63A4-209C-4770-AD31-005664BA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A7342-3F42-4454-95FA-D2BA0926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0B73C-9F0F-4B37-A7E9-053E5C05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53ECD-2515-468A-AE6E-1CB6923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C5A9BE-2F07-4342-A457-93149840F0A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4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69910D-7C2A-48AD-9F32-9D7CF1984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86" name="Rectangle 8" hidden="1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 hidden="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362320" y="0"/>
            <a:ext cx="4647960" cy="2285640"/>
          </a:xfrm>
          <a:prstGeom prst="rect">
            <a:avLst/>
          </a:prstGeom>
          <a:ln w="9525">
            <a:noFill/>
          </a:ln>
        </p:spPr>
      </p:pic>
      <p:pic>
        <p:nvPicPr>
          <p:cNvPr id="89" name="Picture 14" descr=""/>
          <p:cNvPicPr/>
          <p:nvPr/>
        </p:nvPicPr>
        <p:blipFill>
          <a:blip r:embed="rId5"/>
          <a:stretch/>
        </p:blipFill>
        <p:spPr>
          <a:xfrm>
            <a:off x="3505320" y="0"/>
            <a:ext cx="2311200" cy="2285640"/>
          </a:xfrm>
          <a:prstGeom prst="rect">
            <a:avLst/>
          </a:prstGeom>
          <a:ln w="9525">
            <a:noFill/>
          </a:ln>
        </p:spPr>
      </p:pic>
      <p:sp>
        <p:nvSpPr>
          <p:cNvPr id="90" name="Text Box 16"/>
          <p:cNvSpPr/>
          <p:nvPr/>
        </p:nvSpPr>
        <p:spPr>
          <a:xfrm>
            <a:off x="533520" y="914400"/>
            <a:ext cx="30477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 N I T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609480" y="144792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6248520" y="6400800"/>
            <a:ext cx="2895120" cy="75960"/>
          </a:xfrm>
          <a:prstGeom prst="rect">
            <a:avLst/>
          </a:prstGeom>
          <a:gradFill rotWithShape="0">
            <a:gsLst>
              <a:gs pos="0">
                <a:srgbClr val="a6000c"/>
              </a:gs>
              <a:gs pos="100000">
                <a:srgbClr val="c75f66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1828800" y="2209680"/>
            <a:ext cx="5714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ヒラギノ角ゴ Pro W3"/>
              </a:rPr>
              <a:t>Textbook of Medical Physiology, 11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172200" y="6095880"/>
            <a:ext cx="29714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a6000c"/>
                </a:solidFill>
                <a:latin typeface="Arial"/>
                <a:ea typeface="ヒラギノ角ゴ Pro W3"/>
              </a:rPr>
              <a:t>GUYTON &amp;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819520"/>
            <a:ext cx="807696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35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2509E-AB7C-44F6-88E0-4F9D85522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362CD9-B66F-4026-9610-8076128C1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body"/>
          </p:nvPr>
        </p:nvSpPr>
        <p:spPr>
          <a:xfrm>
            <a:off x="464832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9B02C2-D9DE-4963-9EF0-BC705C0C339B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268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2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0BB060-2BF4-473A-9CDB-0A1935E658E4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12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533520" y="685800"/>
            <a:ext cx="7924320" cy="5333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C Helvetica Condensed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 Helvetica Condensed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 Helvetica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61357E-D961-4CBE-886D-4A84662BB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6451560" y="0"/>
            <a:ext cx="2692080" cy="1293480"/>
          </a:xfrm>
          <a:prstGeom prst="rect">
            <a:avLst/>
          </a:prstGeom>
          <a:ln w="9525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0" y="0"/>
            <a:ext cx="6476760" cy="1294920"/>
          </a:xfrm>
          <a:prstGeom prst="rect">
            <a:avLst/>
          </a:prstGeom>
          <a:solidFill>
            <a:srgbClr val="a8132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228600" y="6629400"/>
            <a:ext cx="419076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6 by Elsevier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rgbClr val="ffffff"/>
                </a:solidFill>
                <a:latin typeface="Times New Roman"/>
              </a:rPr>
              <a:t>Click to edit Master title sty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FDED9A-C950-49FE-A9FF-CDFDE2CCB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ounded Rectangle 2"/>
          <p:cNvSpPr/>
          <p:nvPr/>
        </p:nvSpPr>
        <p:spPr>
          <a:xfrm>
            <a:off x="0" y="0"/>
            <a:ext cx="9143640" cy="6857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6" name="Rounded Rectangle 3"/>
          <p:cNvSpPr/>
          <p:nvPr/>
        </p:nvSpPr>
        <p:spPr>
          <a:xfrm>
            <a:off x="762120" y="533520"/>
            <a:ext cx="7772040" cy="533376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78132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PITHELIAL TISSUES: covers body, lines cavit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12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vers entire body surface and most of the body's inner ca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epidermis (ski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s from inju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epidermal tissue, on internal surfaces protects, secretes mucus (e.g. along digestive tr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Epithelial%20Tissue%20A%20copy"/>
          <p:cNvPicPr/>
          <p:nvPr/>
        </p:nvPicPr>
        <p:blipFill>
          <a:blip r:embed="rId1"/>
          <a:stretch/>
        </p:blipFill>
        <p:spPr>
          <a:xfrm>
            <a:off x="4800600" y="2438280"/>
            <a:ext cx="4038120" cy="302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240" cy="815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NECTIVE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2280" y="1501920"/>
            <a:ext cx="3352320" cy="4898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nects org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</a:rPr>
              <a:t>Function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 structur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up 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upport and pro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f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Picture 13" descr="c40x2connective-tissues"/>
          <p:cNvPicPr/>
          <p:nvPr/>
        </p:nvPicPr>
        <p:blipFill>
          <a:blip r:embed="rId1"/>
          <a:stretch/>
        </p:blipFill>
        <p:spPr>
          <a:xfrm>
            <a:off x="3595680" y="1600200"/>
            <a:ext cx="5471640" cy="460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cle Tissues: Contract for M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"/>
          <p:cNvGrpSpPr/>
          <p:nvPr/>
        </p:nvGrpSpPr>
        <p:grpSpPr>
          <a:xfrm>
            <a:off x="457200" y="1828800"/>
            <a:ext cx="8457840" cy="3304800"/>
            <a:chOff x="457200" y="1828800"/>
            <a:chExt cx="8457840" cy="3304800"/>
          </a:xfrm>
        </p:grpSpPr>
        <p:pic>
          <p:nvPicPr>
            <p:cNvPr id="474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1828800"/>
              <a:ext cx="8229240" cy="298080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475" name="TextBox 4"/>
            <p:cNvSpPr/>
            <p:nvPr/>
          </p:nvSpPr>
          <p:spPr>
            <a:xfrm>
              <a:off x="5335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keletal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Box 5"/>
            <p:cNvSpPr/>
            <p:nvPr/>
          </p:nvSpPr>
          <p:spPr>
            <a:xfrm>
              <a:off x="3276720" y="3845160"/>
              <a:ext cx="205704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mooth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Non-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6"/>
            <p:cNvSpPr/>
            <p:nvPr/>
          </p:nvSpPr>
          <p:spPr>
            <a:xfrm>
              <a:off x="6705720" y="4038480"/>
              <a:ext cx="2209320" cy="10951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Cardiac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Str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Times New Roman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76320" y="1371600"/>
            <a:ext cx="2819160" cy="4723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ELETAL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lter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 and dark b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ed to b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trongly bu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igue in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228600" y="380880"/>
            <a:ext cx="7009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Muscle Tissue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Content Placeholder 2"/>
          <p:cNvSpPr/>
          <p:nvPr/>
        </p:nvSpPr>
        <p:spPr>
          <a:xfrm>
            <a:off x="2895480" y="1219320"/>
            <a:ext cx="304776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SMOOTH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-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in wall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organ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stine, stoma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od vesse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s more slow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can contract ove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Content Placeholder 2"/>
          <p:cNvSpPr/>
          <p:nvPr/>
        </p:nvSpPr>
        <p:spPr>
          <a:xfrm>
            <a:off x="6019920" y="1219320"/>
            <a:ext cx="3123720" cy="472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CARDIAC MUSCLE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ria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volunt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t 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only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r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tract quick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eats your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Straight Connector 7"/>
          <p:cNvCxnSpPr/>
          <p:nvPr/>
        </p:nvCxnSpPr>
        <p:spPr>
          <a:xfrm>
            <a:off x="281916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cxnSp>
        <p:nvCxnSpPr>
          <p:cNvPr id="483" name="Straight Connector 8"/>
          <p:cNvCxnSpPr/>
          <p:nvPr/>
        </p:nvCxnSpPr>
        <p:spPr>
          <a:xfrm>
            <a:off x="5943600" y="1295280"/>
            <a:ext cx="360" cy="556308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4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rvous Tissues: Conduct Electrochemical Me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15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ed tissue that form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rv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inal 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electrical &amp; chemical messages along special cells called neurons.  Composed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ell bod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ndri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duct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 body)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x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end messag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cell body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3657600" y="4952880"/>
            <a:ext cx="4571640" cy="1752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86864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l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 are cells that surround nerve cells.  They help to support, protect, and nourish nerve cells.  They provide nutrients to the neurons and help keep the tissue free of debr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ial cell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2" descr="http://4.bp.blogspot.com/_Um_MFFpjTxg/TIiqvJL9pDI/AAAAAAAAAuA/OCtzxC-o5L4/s1600/1_1257234936.gif"/>
          <p:cNvPicPr/>
          <p:nvPr/>
        </p:nvPicPr>
        <p:blipFill>
          <a:blip r:embed="rId1"/>
          <a:stretch/>
        </p:blipFill>
        <p:spPr>
          <a:xfrm>
            <a:off x="3693600" y="4267080"/>
            <a:ext cx="484020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Gland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534160" cy="480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 a single cell, or a collection of cells t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r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xocrine 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uc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e.g. the gall bladder is an exocrine gland because it secretes bile in a duct.  Sweat glands are exocrine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56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</a:rPr>
              <a:t>ii.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Endocrine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7030a0"/>
                </a:solidFill>
                <a:uFillTx/>
                <a:latin typeface="Times New Roman"/>
              </a:rPr>
              <a:t>glands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e chemicals (especial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loodstre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e.g. pituitary gland, pancreas secretes insulin into the blo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629040" cy="1371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GANS: Tissues working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6320" y="1676520"/>
            <a:ext cx="601956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s (e.g. the heart) are made up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or more types of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mo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7640">
              <a:lnSpc>
                <a:spcPct val="150000"/>
              </a:lnSpc>
              <a:spcBef>
                <a:spcPts val="479"/>
              </a:spcBef>
              <a:buClr>
                <a:srgbClr val="a6000c"/>
              </a:buClr>
              <a:buFont typeface="Wingdings" charset="2"/>
              <a:buChar char=""/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so an example of an organ.  It is the largest organ, and has several tissue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ody surfaces, giv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water loss and invasion by microorganisms, contai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e org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helps to regulate body 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4" descr=""/>
          <p:cNvPicPr/>
          <p:nvPr/>
        </p:nvPicPr>
        <p:blipFill>
          <a:blip r:embed="rId1"/>
          <a:stretch/>
        </p:blipFill>
        <p:spPr>
          <a:xfrm>
            <a:off x="6477120" y="1600200"/>
            <a:ext cx="2199960" cy="1885680"/>
          </a:xfrm>
          <a:prstGeom prst="rect">
            <a:avLst/>
          </a:prstGeom>
          <a:ln w="9525">
            <a:noFill/>
          </a:ln>
        </p:spPr>
      </p:pic>
      <p:pic>
        <p:nvPicPr>
          <p:cNvPr id="495" name="Picture 4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895120" cy="3047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uman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320" y="12193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located in specific location, with specific functions. (e.g. digestive syste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internal organ systems enclosed with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l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cavity within the bo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systems contribute to maintaining a stable internal environment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meosta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  e.g. Temp, pH, [glucose], blood pres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Group 117"/>
          <p:cNvGraphicFramePr/>
          <p:nvPr/>
        </p:nvGraphicFramePr>
        <p:xfrm>
          <a:off x="304920" y="1371600"/>
          <a:ext cx="8610120" cy="5428440"/>
        </p:xfrm>
        <a:graphic>
          <a:graphicData uri="http://schemas.openxmlformats.org/drawingml/2006/table">
            <a:tbl>
              <a:tblPr/>
              <a:tblGrid>
                <a:gridCol w="2795400"/>
                <a:gridCol w="5815080"/>
              </a:tblGrid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iges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vert food to usable nutr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ircul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port of necessary molecules to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mu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ense against invading pathog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i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s ex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cre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ets rid of metabolic was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6912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rvous &amp; Sens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and control, response to stimuli, processing in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32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scula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&amp;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kel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pport and mov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orm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gulation of internal environment, develop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  <a:tr h="5914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odu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ducing offsp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5200">
                      <a:solidFill>
                        <a:srgbClr val="000000"/>
                      </a:solidFill>
                    </a:lnL>
                    <a:lnR w="25200">
                      <a:solidFill>
                        <a:srgbClr val="000000"/>
                      </a:solidFill>
                    </a:lnR>
                    <a:lnT w="25200">
                      <a:solidFill>
                        <a:srgbClr val="000000"/>
                      </a:solidFill>
                    </a:lnT>
                    <a:lnB w="25200">
                      <a:solidFill>
                        <a:srgbClr val="000000"/>
                      </a:solidFill>
                    </a:lnB>
                    <a:solidFill>
                      <a:srgbClr val="c0c7bd"/>
                    </a:solidFill>
                  </a:tcPr>
                </a:tc>
              </a:tr>
            </a:tbl>
          </a:graphicData>
        </a:graphic>
      </p:graphicFrame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unction of Organ Syst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1752480"/>
            <a:ext cx="815292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hysiology lectures in Foundation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Table 4"/>
          <p:cNvGraphicFramePr/>
          <p:nvPr/>
        </p:nvGraphicFramePr>
        <p:xfrm>
          <a:off x="990720" y="3093120"/>
          <a:ext cx="6857640" cy="2392920"/>
        </p:xfrm>
        <a:graphic>
          <a:graphicData uri="http://schemas.openxmlformats.org/drawingml/2006/table">
            <a:tbl>
              <a:tblPr/>
              <a:tblGrid>
                <a:gridCol w="4763160"/>
                <a:gridCol w="2094480"/>
              </a:tblGrid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roduction, body fluids, cell membrane structure and homeostas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tonomic nervous system I &amp;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lood Physi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  <a:tr h="543600">
                <a:tc>
                  <a:txBody>
                    <a:bodyPr anchor="t">
                      <a:noAutofit/>
                    </a:bodyPr>
                    <a:p>
                      <a:endParaRPr b="0" lang="en-GB" sz="2200" spc="-1" strike="noStrike">
                        <a:solidFill>
                          <a:schemeClr val="dk1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2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</a:rPr>
                        <a:t>13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5">
                        <a:lumMod val="50000"/>
                      </a:scheme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Group 2"/>
          <p:cNvGrpSpPr/>
          <p:nvPr/>
        </p:nvGrpSpPr>
        <p:grpSpPr>
          <a:xfrm>
            <a:off x="228600" y="228600"/>
            <a:ext cx="4266720" cy="6400440"/>
            <a:chOff x="228600" y="228600"/>
            <a:chExt cx="4266720" cy="6400440"/>
          </a:xfrm>
        </p:grpSpPr>
        <p:sp>
          <p:nvSpPr>
            <p:cNvPr id="501" name="Rectangle 3"/>
            <p:cNvSpPr/>
            <p:nvPr/>
          </p:nvSpPr>
          <p:spPr>
            <a:xfrm>
              <a:off x="228600" y="228600"/>
              <a:ext cx="4266720" cy="6400440"/>
            </a:xfrm>
            <a:prstGeom prst="rect">
              <a:avLst/>
            </a:prstGeom>
            <a:solidFill>
              <a:schemeClr val="tx1"/>
            </a:solidFill>
            <a:ln w="127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GB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2" name="Object 4"/>
            <p:cNvGraphicFramePr/>
            <p:nvPr/>
          </p:nvGraphicFramePr>
          <p:xfrm>
            <a:off x="1214280" y="247680"/>
            <a:ext cx="2542680" cy="628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3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4280" y="247680"/>
                      <a:ext cx="2542680" cy="628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4" name="Text Box 5"/>
          <p:cNvSpPr/>
          <p:nvPr/>
        </p:nvSpPr>
        <p:spPr>
          <a:xfrm>
            <a:off x="4808160" y="6019920"/>
            <a:ext cx="1095480" cy="6372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4572000" y="2666880"/>
            <a:ext cx="4343040" cy="17355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eneral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f the Circulatory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6" name="Object 2"/>
          <p:cNvGraphicFramePr/>
          <p:nvPr/>
        </p:nvGraphicFramePr>
        <p:xfrm>
          <a:off x="1600200" y="1776240"/>
          <a:ext cx="6254280" cy="45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76240"/>
                    <a:ext cx="6254280" cy="45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 Box 3"/>
          <p:cNvSpPr/>
          <p:nvPr/>
        </p:nvSpPr>
        <p:spPr>
          <a:xfrm>
            <a:off x="1522080" y="6354720"/>
            <a:ext cx="1813320" cy="2721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-2; Guyton &amp; 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304920" y="111240"/>
            <a:ext cx="6857640" cy="109476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Exchange Between the Capillaries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and Interstitial Flui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647676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Origin of nutrients in the extracellular flu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0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system: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trointestinal tr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B Helvetica Condensed Bold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C Helvetica Condensed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r and other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culoskeletal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6629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Removal of Metabolic End–product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04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y lu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ea, uric acid, excess water and ions (kidney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Oval 3"/>
          <p:cNvSpPr/>
          <p:nvPr/>
        </p:nvSpPr>
        <p:spPr>
          <a:xfrm>
            <a:off x="2438280" y="2743200"/>
            <a:ext cx="4190760" cy="1980720"/>
          </a:xfrm>
          <a:prstGeom prst="ellipse">
            <a:avLst/>
          </a:prstGeom>
          <a:blipFill rotWithShape="0">
            <a:blip r:embed="rId1"/>
            <a:srcRect/>
            <a:tile tx="0" ty="0" sx="100000" sy="100000" algn="tl"/>
          </a:blipFill>
          <a:ln w="57150">
            <a:solidFill>
              <a:srgbClr val="fe06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4"/>
          <p:cNvSpPr/>
          <p:nvPr/>
        </p:nvSpPr>
        <p:spPr>
          <a:xfrm>
            <a:off x="2971800" y="3225960"/>
            <a:ext cx="31237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ar-SA" sz="6000" spc="-1" strike="noStrike">
                <a:solidFill>
                  <a:srgbClr val="0070c0"/>
                </a:solidFill>
                <a:latin typeface="Bauhaus 93"/>
              </a:rPr>
              <a:t>الله الموفق</a:t>
            </a:r>
            <a:r>
              <a:rPr b="1" lang="en-US" sz="6000" spc="-1" strike="noStrike">
                <a:solidFill>
                  <a:srgbClr val="0070c0"/>
                </a:solidFill>
                <a:latin typeface="Bauhaus 93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152280" y="1447920"/>
            <a:ext cx="8762760" cy="4952520"/>
          </a:xfrm>
          <a:prstGeom prst="rect">
            <a:avLst/>
          </a:prstGeom>
          <a:noFill/>
          <a:ln w="936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on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rnerst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medic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ology is the study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ow the body 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Cellular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a6000c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Systems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</a:rPr>
              <a:t> physiolog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483840" y="457200"/>
            <a:ext cx="5080680" cy="6382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troduction to P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1" descr=""/>
          <p:cNvPicPr/>
          <p:nvPr/>
        </p:nvPicPr>
        <p:blipFill>
          <a:blip r:embed="rId1"/>
          <a:srcRect l="39234" t="21870" r="24448" b="6250"/>
          <a:stretch/>
        </p:blipFill>
        <p:spPr>
          <a:xfrm>
            <a:off x="5181480" y="447840"/>
            <a:ext cx="3809520" cy="4581000"/>
          </a:xfrm>
          <a:prstGeom prst="rect">
            <a:avLst/>
          </a:prstGeom>
          <a:ln w="9525">
            <a:noFill/>
          </a:ln>
        </p:spPr>
      </p:pic>
      <p:pic>
        <p:nvPicPr>
          <p:cNvPr id="414" name="Picture 2" descr="http://books.sitamol.net/images/guyton.jpg"/>
          <p:cNvPicPr/>
          <p:nvPr/>
        </p:nvPicPr>
        <p:blipFill>
          <a:blip r:embed="rId2"/>
          <a:stretch/>
        </p:blipFill>
        <p:spPr>
          <a:xfrm>
            <a:off x="228600" y="447840"/>
            <a:ext cx="3809520" cy="4504320"/>
          </a:xfrm>
          <a:prstGeom prst="rect">
            <a:avLst/>
          </a:prstGeom>
          <a:ln w="9525">
            <a:noFill/>
          </a:ln>
        </p:spPr>
      </p:pic>
      <p:sp>
        <p:nvSpPr>
          <p:cNvPr id="415" name="TextBox 3"/>
          <p:cNvSpPr/>
          <p:nvPr/>
        </p:nvSpPr>
        <p:spPr>
          <a:xfrm>
            <a:off x="1371600" y="5019840"/>
            <a:ext cx="175212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6324480" y="5019840"/>
            <a:ext cx="15998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4"/>
          <p:cNvSpPr/>
          <p:nvPr/>
        </p:nvSpPr>
        <p:spPr>
          <a:xfrm>
            <a:off x="0" y="1981080"/>
            <a:ext cx="9143640" cy="2514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 u="sng">
                <a:solidFill>
                  <a:srgbClr val="7030a0"/>
                </a:solidFill>
                <a:uFillTx/>
                <a:latin typeface="Times New Roman"/>
              </a:rPr>
              <a:t>Lectur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Functional Organization of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50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2760" cy="3733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stand the level of body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tinguish the primary tissues and their sub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ognize the regulation of extracellular fluid transport and mix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04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Levels of Organizati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520560" y="2057400"/>
            <a:ext cx="785952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ll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uctural and function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~ 100 tr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517320" y="3121200"/>
            <a:ext cx="759168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issue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muscles, epithelial, nervou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18760" y="3807000"/>
            <a:ext cx="7659720" cy="57564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kidney, heart, liver, panc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530280" y="4495680"/>
            <a:ext cx="8461080" cy="106308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16000" indent="-216000">
              <a:lnSpc>
                <a:spcPct val="100000"/>
              </a:lnSpc>
              <a:buClr>
                <a:srgbClr val="800000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 system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cardiovascular, respiratory, ur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304920" y="914400"/>
            <a:ext cx="7468920" cy="5938560"/>
          </a:xfrm>
          <a:prstGeom prst="rect">
            <a:avLst/>
          </a:prstGeom>
          <a:ln w="9525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4314960" y="2570040"/>
            <a:ext cx="16696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"/>
          <p:cNvSpPr/>
          <p:nvPr/>
        </p:nvSpPr>
        <p:spPr>
          <a:xfrm>
            <a:off x="4168800" y="261468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5"/>
          <p:cNvSpPr/>
          <p:nvPr/>
        </p:nvSpPr>
        <p:spPr>
          <a:xfrm>
            <a:off x="768240" y="192420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6"/>
          <p:cNvSpPr/>
          <p:nvPr/>
        </p:nvSpPr>
        <p:spPr>
          <a:xfrm>
            <a:off x="577800" y="367524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7"/>
          <p:cNvSpPr/>
          <p:nvPr/>
        </p:nvSpPr>
        <p:spPr>
          <a:xfrm>
            <a:off x="1373040" y="615168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927360" y="1865160"/>
            <a:ext cx="2188080" cy="47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9"/>
          <p:cNvSpPr/>
          <p:nvPr/>
        </p:nvSpPr>
        <p:spPr>
          <a:xfrm>
            <a:off x="738360" y="3643200"/>
            <a:ext cx="164592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213080" y="626112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1"/>
          <p:cNvSpPr/>
          <p:nvPr/>
        </p:nvSpPr>
        <p:spPr>
          <a:xfrm>
            <a:off x="4373640" y="6218280"/>
            <a:ext cx="327780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12"/>
          <p:cNvSpPr/>
          <p:nvPr/>
        </p:nvSpPr>
        <p:spPr>
          <a:xfrm>
            <a:off x="1521000" y="6105600"/>
            <a:ext cx="2261880" cy="6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3"/>
          <p:cNvSpPr/>
          <p:nvPr/>
        </p:nvSpPr>
        <p:spPr>
          <a:xfrm>
            <a:off x="6045120" y="532764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095880" y="5292720"/>
            <a:ext cx="2053800" cy="83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e0606"/>
                </a:solidFill>
                <a:latin typeface="Times New Roman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5"/>
          <p:cNvSpPr/>
          <p:nvPr/>
        </p:nvSpPr>
        <p:spPr>
          <a:xfrm flipH="1" flipV="1">
            <a:off x="2989080" y="4641840"/>
            <a:ext cx="13320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 flipH="1" flipV="1">
            <a:off x="3882960" y="396540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7"/>
          <p:cNvSpPr/>
          <p:nvPr/>
        </p:nvSpPr>
        <p:spPr>
          <a:xfrm>
            <a:off x="3777840" y="2062080"/>
            <a:ext cx="603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3376440" y="167472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9"/>
          <p:cNvSpPr/>
          <p:nvPr/>
        </p:nvSpPr>
        <p:spPr>
          <a:xfrm>
            <a:off x="1589400" y="1441440"/>
            <a:ext cx="1424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0"/>
          <p:cNvSpPr/>
          <p:nvPr/>
        </p:nvSpPr>
        <p:spPr>
          <a:xfrm>
            <a:off x="3076560" y="298764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2408400" y="554184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2938320" y="486252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3089160" y="44751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4021200" y="490392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 flipH="1" flipV="1">
            <a:off x="2822400" y="4978080"/>
            <a:ext cx="1681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6"/>
          <p:cNvSpPr/>
          <p:nvPr/>
        </p:nvSpPr>
        <p:spPr>
          <a:xfrm flipH="1" flipV="1">
            <a:off x="2081160" y="564336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7"/>
          <p:cNvSpPr/>
          <p:nvPr/>
        </p:nvSpPr>
        <p:spPr>
          <a:xfrm rot="10800000">
            <a:off x="4010400" y="354672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AutoShape 28"/>
          <p:cNvSpPr/>
          <p:nvPr/>
        </p:nvSpPr>
        <p:spPr>
          <a:xfrm>
            <a:off x="3827520" y="448308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29"/>
          <p:cNvSpPr/>
          <p:nvPr/>
        </p:nvSpPr>
        <p:spPr>
          <a:xfrm flipH="1" flipV="1">
            <a:off x="3944880" y="5192640"/>
            <a:ext cx="11268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0"/>
          <p:cNvSpPr/>
          <p:nvPr/>
        </p:nvSpPr>
        <p:spPr>
          <a:xfrm>
            <a:off x="4030560" y="353700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1"/>
          <p:cNvSpPr/>
          <p:nvPr/>
        </p:nvSpPr>
        <p:spPr>
          <a:xfrm>
            <a:off x="4030560" y="398952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32"/>
          <p:cNvSpPr/>
          <p:nvPr/>
        </p:nvSpPr>
        <p:spPr>
          <a:xfrm>
            <a:off x="2476440" y="373680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 flipH="1" flipV="1">
            <a:off x="4592520" y="367488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34"/>
          <p:cNvSpPr/>
          <p:nvPr/>
        </p:nvSpPr>
        <p:spPr>
          <a:xfrm flipH="1">
            <a:off x="4630680" y="413208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35"/>
          <p:cNvSpPr/>
          <p:nvPr/>
        </p:nvSpPr>
        <p:spPr>
          <a:xfrm flipH="1" flipV="1">
            <a:off x="4654440" y="418284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36"/>
          <p:cNvSpPr/>
          <p:nvPr/>
        </p:nvSpPr>
        <p:spPr>
          <a:xfrm>
            <a:off x="2857680" y="294804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37"/>
          <p:cNvSpPr/>
          <p:nvPr/>
        </p:nvSpPr>
        <p:spPr>
          <a:xfrm>
            <a:off x="2982600" y="3300120"/>
            <a:ext cx="10332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vels of Structural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ounded Rectangle 1"/>
          <p:cNvSpPr/>
          <p:nvPr/>
        </p:nvSpPr>
        <p:spPr>
          <a:xfrm>
            <a:off x="5985000" y="990720"/>
            <a:ext cx="1558440" cy="4227120"/>
          </a:xfrm>
          <a:prstGeom prst="roundRect">
            <a:avLst>
              <a:gd name="adj" fmla="val 16667"/>
            </a:avLst>
          </a:pr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ounded Rectangle 2"/>
          <p:cNvSpPr/>
          <p:nvPr/>
        </p:nvSpPr>
        <p:spPr>
          <a:xfrm>
            <a:off x="6012720" y="990720"/>
            <a:ext cx="1530720" cy="422712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040" cy="609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PRIMARY T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3640" cy="556236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6000c"/>
              </a:buClr>
              <a:buFont typeface="Times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FOUR MAJOR TYPES OF TISSUES IN THE HUMAN BOD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EPITHELIA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Covers body surfaces and lines body cav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CONNECTIV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inds and supports body p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MUSCULAR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uses body parts to mo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6000c"/>
              </a:buClr>
              <a:buFont typeface="Times"/>
              <a:buChar char="•"/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NERVO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ponds to stimuli and transmits impulses from one body part to anoth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Blank">
  <a:themeElements>
    <a:clrScheme name="Blank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  <Words>927</Words>
  <Paragraphs>1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9:06:17Z</dcterms:created>
  <dc:creator>Denise Roslonski</dc:creator>
  <dc:description/>
  <dc:language>en-US</dc:language>
  <cp:lastModifiedBy>GCUSER</cp:lastModifiedBy>
  <cp:lastPrinted>2005-05-20T19:48:39Z</cp:lastPrinted>
  <dcterms:modified xsi:type="dcterms:W3CDTF">2014-09-01T05:48:26Z</dcterms:modified>
  <cp:revision>258</cp:revision>
  <dc:subject/>
  <dc:title>Introduction to Physiology:  The Cell and General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On-screen Show (4:3)</vt:lpwstr>
  </property>
  <property fmtid="{D5CDD505-2E9C-101B-9397-08002B2CF9AE}" pid="4" name="Slides">
    <vt:r8>24</vt:r8>
  </property>
</Properties>
</file>