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9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3.gif" ContentType="image/gif"/>
  <Override PartName="/ppt/media/image16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31E238-81E9-4260-AC75-35F8BD2BB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3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312E54-F2A4-4802-9426-C72E1F814B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Num" idx="3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FC546C-4A5D-4CF1-BE60-3B4653886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3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AC435A-4535-4370-A7E4-33B884D6E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Num" idx="2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17DB6B-466A-4B33-B670-6278234CE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Num" idx="2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4F1D3E-F57A-4E97-9900-C3350833E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6440" cy="32065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lIns="89640" rIns="8964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C72-C3BD-453D-88C7-75081A51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97F-7E0A-47DF-A7B7-1569732A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4FAE8-5DB0-454D-9F75-2DAB94B3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C8E99-0040-4C49-8C60-9671472E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7B73-7461-4A70-A4AB-96BFB42C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0B17-E690-42DE-A266-1EBBC52F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55AC9-F5E5-4766-A023-F4C1FF23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F0BA0-AF86-4B31-A783-A75B33BB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43779-A232-47C9-8D60-1F61D75B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AB911-7EF5-4CEF-85EF-1FE2781D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86C50-3BA9-4F57-875D-5473B7A2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84F-34C8-4B53-BAEF-0C29028D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CA5-D1B0-482E-B41F-AEB2503D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CBBE-1108-49F9-BA8C-CD1DEA16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7708-B19C-438D-9DF0-D6A7EB5E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1FDB-B59A-4678-A84E-D984DB70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5752-0D4C-4BB1-841A-1B2AC3A7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4A84-69A2-4238-B82F-C4480AA6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14BE-E337-4B77-8A92-C35B4438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9152-2AD4-4C56-B99D-2A0F093D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761-98EA-4F38-821C-4A145645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4630-6244-4E14-A86F-16E3512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6C2F-8152-4EDA-BBD5-09D653C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64DC-B2A3-41AA-AD97-205FFA35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8D7F-7E3A-47BD-AC38-2D8C7521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EB75-2E62-46EC-AE91-952E6DAF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5D2-34FE-47C3-82E8-9075285F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599F-39ED-4B7F-A239-22DE349E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57F9-8851-4210-8DAB-2BA46D06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3384-ABD2-4427-8752-13F0B8CD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8FE-40B9-4179-B23B-D12A36DB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9647-407B-47A1-8302-B5A4B48C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EF0A-3536-4B97-AEE1-D899A784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4294-16A9-4481-8DEE-1A7BB27F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5751-469E-4364-BCD2-47B9DC9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B583-BCF3-413B-A0CE-1D1540C7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F5FE-56C9-4921-80A9-09C3F4B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35E8-817F-40F9-91A1-5342187F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3A86-65FC-4277-8115-57DE3B4F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49DF-319A-44B8-8F74-F4466424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33680-FBCA-42F1-8EC3-C71A60F7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557-B2A2-406B-8083-717279EB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82FA-C7C6-4AD9-83AB-324C1478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BECC9-3ACC-467D-9250-B723EE73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E112-1C7C-4852-90CF-F914DF01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96AAF-EE74-475F-A634-104BDF02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98FB-210E-4953-A55E-8AB89761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58FE3-4A2D-4D4E-809B-1D2016A0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883B-9382-4B67-9340-1582D85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4879-B4B6-46B4-90BD-1B7F6935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E4EE1-F87E-4345-ACBD-1F619CF5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87C0-B32A-48AC-BBF8-686621A4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F88-A414-4BF6-8F64-1631EABA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6D290-F77E-467D-933E-C1EEE0E6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1C30-D607-479A-B638-53584449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C98F-897A-494D-905D-2244FA9D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8636F-2FFF-4AD4-9C14-0F990699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7C3B0-DDAC-4437-A41B-341CB04D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58A65-3279-44FD-9BCB-98E708A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0B51-0464-4968-9996-1A79EF2F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AFEA-AC92-4FED-B4A2-623DC298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E1EAB-15CD-4E2A-9B11-1DB45CC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46E5F-58C1-4D19-960D-B92716F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C43-367E-4284-ADD5-27832F33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906EC-6635-46CD-84A7-18A5CB4E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A2CE7-98C9-49D7-B223-76B3E550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CB954-064B-4D20-87E3-3D5E7C7E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A5E0F-9A08-40D5-A69C-689F405D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33005-9D42-4568-A30F-19E1DFC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06C09-6C88-4B4A-9E19-0FF36059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3BA8-EDD4-49A6-B012-AB2CFD8A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D3780-8177-4888-8727-7D91C143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818DE-B600-4C1C-9C0A-72FEFAA8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1258-6D7C-4E34-ABAB-4426D634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23A-F03A-4F9A-916A-A736BF5E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1BA6-630C-43B5-B8D7-45311DC1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34D7C-5647-45CE-A168-8AE4787B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34ED9-C7B8-4E46-AE24-7A4F8966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6C5F7-8ACF-4653-A43A-B6B030DF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0060-F4E6-44B7-8C9A-6240E9B3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D685-5C6A-44FD-9EC2-E8998C69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62827-7F04-4436-94CA-85DC6CB7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ABE5E-54F9-453A-850F-2F278BBE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A02A9-249D-4002-9F7B-F7B8DF6A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AC02-121C-4776-B99B-4E6E86DF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C6F-F0A0-4EC6-98D6-8CE893AB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454D-3F9C-463B-88EA-1C082190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A8A1-FF2C-4AA4-9041-E617DC74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39518-676B-4963-8820-7368B005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CB063-06C4-430F-AAD8-0F2C96A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0D1DC-64C6-478F-AB56-EAABA1A1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AE454-CECE-4380-8AFE-DF351ED0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9C28C-3047-4DCC-B054-ECFECDFE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C0A2B-191F-4DF7-BFF8-4A032617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6751D-205B-4036-ADA4-D7C61DFC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06BD1-2486-4703-85FF-451C77E0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F2C5C4-D93C-46E8-8A52-B3DFA0D7B87B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0B74E3-9796-476B-99EE-E200C0F11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86" name="Rectangle 8" hidden="1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 hidden="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362320" y="0"/>
            <a:ext cx="4647960" cy="228564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5"/>
          <a:stretch/>
        </p:blipFill>
        <p:spPr>
          <a:xfrm>
            <a:off x="3505320" y="0"/>
            <a:ext cx="2311200" cy="2285640"/>
          </a:xfrm>
          <a:prstGeom prst="rect">
            <a:avLst/>
          </a:prstGeom>
          <a:ln w="9525">
            <a:noFill/>
          </a:ln>
        </p:spPr>
      </p:pic>
      <p:sp>
        <p:nvSpPr>
          <p:cNvPr id="90" name="Text Box 16"/>
          <p:cNvSpPr/>
          <p:nvPr/>
        </p:nvSpPr>
        <p:spPr>
          <a:xfrm>
            <a:off x="533520" y="914400"/>
            <a:ext cx="3047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 N I T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09480" y="1447920"/>
            <a:ext cx="2895120" cy="75960"/>
          </a:xfrm>
          <a:prstGeom prst="rect">
            <a:avLst/>
          </a:prstGeom>
          <a:gradFill rotWithShape="0">
            <a:gsLst>
              <a:gs pos="0">
                <a:srgbClr val="a6000c"/>
              </a:gs>
              <a:gs pos="100000">
                <a:srgbClr val="c75f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248520" y="6400800"/>
            <a:ext cx="2895120" cy="75960"/>
          </a:xfrm>
          <a:prstGeom prst="rect">
            <a:avLst/>
          </a:prstGeom>
          <a:gradFill rotWithShape="0">
            <a:gsLst>
              <a:gs pos="0">
                <a:srgbClr val="a6000c"/>
              </a:gs>
              <a:gs pos="100000">
                <a:srgbClr val="c75f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828800" y="2209680"/>
            <a:ext cx="5714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Textbook of Medical Physiology, 11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6172200" y="6095880"/>
            <a:ext cx="297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000c"/>
                </a:solidFill>
                <a:latin typeface="Arial"/>
                <a:ea typeface="ヒラギノ角ゴ Pro W3"/>
              </a:rPr>
              <a:t>GUYTON &amp;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80769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07DEF2-9C8D-42EE-8695-628997F9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2FCC0E-998F-4581-80D4-08F839B6B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body"/>
          </p:nvPr>
        </p:nvSpPr>
        <p:spPr>
          <a:xfrm>
            <a:off x="464832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69B445-CEBB-48D5-8040-1C2D35AE4AB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4EA02A-E8F3-4530-BA15-331B6555DB7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533520" y="685800"/>
            <a:ext cx="7924320" cy="533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54172A-BF7C-4497-8E86-0E7D9053D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356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72142E-2B20-448D-9FA2-53AC3092F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ounded Rectangle 2"/>
          <p:cNvSpPr/>
          <p:nvPr/>
        </p:nvSpPr>
        <p:spPr>
          <a:xfrm>
            <a:off x="0" y="0"/>
            <a:ext cx="9143640" cy="6857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Rounded Rectangle 3"/>
          <p:cNvSpPr/>
          <p:nvPr/>
        </p:nvSpPr>
        <p:spPr>
          <a:xfrm>
            <a:off x="762120" y="533520"/>
            <a:ext cx="7772040" cy="53337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Dr. Nervana Mostafa</a:t>
            </a:r>
            <a:br>
              <a:rPr sz="6000"/>
            </a:b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B BS, MD, PhD (UK)</a:t>
            </a:r>
            <a:br>
              <a:rPr sz="2800"/>
            </a:br>
            <a:br>
              <a:rPr sz="28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Associate Professor of Physiology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nsultant Molecular Biology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Director of Academic Quality Unit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llege of Medicine, KKUH, KSU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78132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PITHELIAL TISSUES: covers body, lines cavit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s entire body surface and most of the body's inner ca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epidermis (ski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from inju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epidermal tissue, on internal surfaces protects, secretes mucus (e.g. along digestive 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Epithelial%20Tissue%20A%20copy"/>
          <p:cNvPicPr/>
          <p:nvPr/>
        </p:nvPicPr>
        <p:blipFill>
          <a:blip r:embed="rId1"/>
          <a:stretch/>
        </p:blipFill>
        <p:spPr>
          <a:xfrm>
            <a:off x="4800600" y="243828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240" cy="815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NECTIVE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501920"/>
            <a:ext cx="3352320" cy="489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s 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Functi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 structur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up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upport an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3" descr="c40x2connective-tissues"/>
          <p:cNvPicPr/>
          <p:nvPr/>
        </p:nvPicPr>
        <p:blipFill>
          <a:blip r:embed="rId1"/>
          <a:stretch/>
        </p:blipFill>
        <p:spPr>
          <a:xfrm>
            <a:off x="3595680" y="1600200"/>
            <a:ext cx="5471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009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cle Tissues: Contract for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"/>
          <p:cNvGrpSpPr/>
          <p:nvPr/>
        </p:nvGrpSpPr>
        <p:grpSpPr>
          <a:xfrm>
            <a:off x="457200" y="1828800"/>
            <a:ext cx="8457840" cy="3304800"/>
            <a:chOff x="457200" y="1828800"/>
            <a:chExt cx="8457840" cy="3304800"/>
          </a:xfrm>
        </p:grpSpPr>
        <p:pic>
          <p:nvPicPr>
            <p:cNvPr id="474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8229240" cy="2980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75" name="TextBox 4"/>
            <p:cNvSpPr/>
            <p:nvPr/>
          </p:nvSpPr>
          <p:spPr>
            <a:xfrm>
              <a:off x="533520" y="3845160"/>
              <a:ext cx="205704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keletal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5"/>
            <p:cNvSpPr/>
            <p:nvPr/>
          </p:nvSpPr>
          <p:spPr>
            <a:xfrm>
              <a:off x="3276720" y="3845160"/>
              <a:ext cx="205704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mooth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Non-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6"/>
            <p:cNvSpPr/>
            <p:nvPr/>
          </p:nvSpPr>
          <p:spPr>
            <a:xfrm>
              <a:off x="6705720" y="4038480"/>
              <a:ext cx="220932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Cardiac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triat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76320" y="1371600"/>
            <a:ext cx="281916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SKELETAL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lter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and dark b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d to b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luntary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ract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trongly bu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igue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7009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Muscle Tissu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2895480" y="1219320"/>
            <a:ext cx="3047760" cy="472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SMOOTH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untary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in wall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orga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stine, stom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more slow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contract ove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ontent Placeholder 2"/>
          <p:cNvSpPr/>
          <p:nvPr/>
        </p:nvSpPr>
        <p:spPr>
          <a:xfrm>
            <a:off x="6019920" y="1219320"/>
            <a:ext cx="3123720" cy="472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CARDIAC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un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t mus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only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ract quick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eats your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Straight Connector 7"/>
          <p:cNvCxnSpPr/>
          <p:nvPr/>
        </p:nvCxnSpPr>
        <p:spPr>
          <a:xfrm>
            <a:off x="2819160" y="1295280"/>
            <a:ext cx="360" cy="55630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483" name="Straight Connector 8"/>
          <p:cNvCxnSpPr/>
          <p:nvPr/>
        </p:nvCxnSpPr>
        <p:spPr>
          <a:xfrm>
            <a:off x="5943600" y="1295280"/>
            <a:ext cx="360" cy="55630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rvous Tissues: Conduct Electrochemical Mess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15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tissue that for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r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electrical &amp; chemical messages along special cells called neurons.  Composed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dri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duct messag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 body)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x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end messag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cell bod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4571640" cy="1752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6864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l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are cells that surround nerve cells.  They help to support, protect, and nourish nerve cells.  They provide nutrients to the neurons and help keep the tissue free of deb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Glial cell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2" descr="http://4.bp.blogspot.com/_Um_MFFpjTxg/TIiqvJL9pDI/AAAAAAAAAuA/OCtzxC-o5L4/s1600/1_1257234936.gif"/>
          <p:cNvPicPr/>
          <p:nvPr/>
        </p:nvPicPr>
        <p:blipFill>
          <a:blip r:embed="rId1"/>
          <a:stretch/>
        </p:blipFill>
        <p:spPr>
          <a:xfrm>
            <a:off x="3693600" y="4267080"/>
            <a:ext cx="48402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Gland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534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 single cell, or a collection of cells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r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i.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Exocrine glands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.g. the gall bladder is an exocrine gland because it secretes bile in a duct.  Sweat glands are exocrine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ii.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Endocrine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glands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 chemicals (especial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rm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ood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 pituitary gland, pancreas secretes insulin into the blo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9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GANS: Tissues working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320" y="1676520"/>
            <a:ext cx="601956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17640">
              <a:lnSpc>
                <a:spcPct val="150000"/>
              </a:lnSpc>
              <a:spcBef>
                <a:spcPts val="479"/>
              </a:spcBef>
              <a:buClr>
                <a:srgbClr val="a6000c"/>
              </a:buClr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s (e.g. the heart) are made up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or more types of tiss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m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7640">
              <a:lnSpc>
                <a:spcPct val="150000"/>
              </a:lnSpc>
              <a:spcBef>
                <a:spcPts val="479"/>
              </a:spcBef>
              <a:buClr>
                <a:srgbClr val="a6000c"/>
              </a:buClr>
              <a:buFont typeface="Wingdings" charset="2"/>
              <a:buChar char=""/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so an example of an organ.  It is the largest organ, and has several tissue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dy surfaces, giv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water loss and invasion by microorganisms, conta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rg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lps to regulate body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199960" cy="1885680"/>
          </a:xfrm>
          <a:prstGeom prst="rect">
            <a:avLst/>
          </a:prstGeom>
          <a:ln w="9525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895120" cy="304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uman Orga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76276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ocated in specific location, with specific functions. (e.g. digestive syst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nternal organ systems enclosed with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cavity with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systems contribute to maintaining a stable internal environment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 e.g. Temp, pH, [glucose], blood pres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Group 117"/>
          <p:cNvGraphicFramePr/>
          <p:nvPr/>
        </p:nvGraphicFramePr>
        <p:xfrm>
          <a:off x="304920" y="1371600"/>
          <a:ext cx="8610120" cy="5428440"/>
        </p:xfrm>
        <a:graphic>
          <a:graphicData uri="http://schemas.openxmlformats.org/drawingml/2006/table">
            <a:tbl>
              <a:tblPr/>
              <a:tblGrid>
                <a:gridCol w="2795400"/>
                <a:gridCol w="5815080"/>
              </a:tblGrid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iges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vert food to usable nutr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ircul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port of necessary molecules to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32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m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ense against invading patho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i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s ex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cre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ts rid of metabolic wa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6912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rvous &amp; Sens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ulation and control, response to stimuli, processing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32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scul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&amp;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el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and m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ulation of internal environment,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produ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ing offsp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</a:tbl>
          </a:graphicData>
        </a:graphic>
      </p:graphicFrame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 of Orga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152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hysiology lectures in Foundation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Table 4"/>
          <p:cNvGraphicFramePr/>
          <p:nvPr/>
        </p:nvGraphicFramePr>
        <p:xfrm>
          <a:off x="990720" y="3093120"/>
          <a:ext cx="6857640" cy="2392920"/>
        </p:xfrm>
        <a:graphic>
          <a:graphicData uri="http://schemas.openxmlformats.org/drawingml/2006/table">
            <a:tbl>
              <a:tblPr/>
              <a:tblGrid>
                <a:gridCol w="4763160"/>
                <a:gridCol w="209448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roduction, body fluids, cell membrane structure and homeostasi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nomic nervous system I &amp;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ood Physiolo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endParaRPr b="0" lang="en-GB" sz="22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2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</a:rPr>
                        <a:t>13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228600" y="228600"/>
            <a:ext cx="4266720" cy="6400440"/>
            <a:chOff x="228600" y="228600"/>
            <a:chExt cx="4266720" cy="6400440"/>
          </a:xfrm>
        </p:grpSpPr>
        <p:sp>
          <p:nvSpPr>
            <p:cNvPr id="501" name="Rectangle 3"/>
            <p:cNvSpPr/>
            <p:nvPr/>
          </p:nvSpPr>
          <p:spPr>
            <a:xfrm>
              <a:off x="228600" y="228600"/>
              <a:ext cx="4266720" cy="6400440"/>
            </a:xfrm>
            <a:prstGeom prst="rect">
              <a:avLst/>
            </a:pr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2" name="Object 4"/>
            <p:cNvGraphicFramePr/>
            <p:nvPr/>
          </p:nvGraphicFramePr>
          <p:xfrm>
            <a:off x="1214280" y="247680"/>
            <a:ext cx="2542680" cy="628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4280" y="247680"/>
                      <a:ext cx="2542680" cy="628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4" name="Text Box 5"/>
          <p:cNvSpPr/>
          <p:nvPr/>
        </p:nvSpPr>
        <p:spPr>
          <a:xfrm>
            <a:off x="4808160" y="6019920"/>
            <a:ext cx="1095480" cy="63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yton &amp;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4572000" y="2666880"/>
            <a:ext cx="4343040" cy="1735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eneral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f the Circulatory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Object 2"/>
          <p:cNvGraphicFramePr/>
          <p:nvPr/>
        </p:nvGraphicFramePr>
        <p:xfrm>
          <a:off x="1600200" y="1776240"/>
          <a:ext cx="6254280" cy="45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76240"/>
                    <a:ext cx="6254280" cy="45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 Box 3"/>
          <p:cNvSpPr/>
          <p:nvPr/>
        </p:nvSpPr>
        <p:spPr>
          <a:xfrm>
            <a:off x="1522080" y="6354720"/>
            <a:ext cx="1813320" cy="27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-2; Guyton &amp;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304920" y="111240"/>
            <a:ext cx="6857640" cy="1094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Exchange Between the Capillarie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and Interstitial Flui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47676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Origin of nutrients in the extracellular fl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040" cy="44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 system: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trointestinal tr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Fatty acid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r and other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uloskeletal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6629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Removal of Metabolic End–produc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y lu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ea, uric acid, excess water and ions (kidne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Oval 3"/>
          <p:cNvSpPr/>
          <p:nvPr/>
        </p:nvSpPr>
        <p:spPr>
          <a:xfrm>
            <a:off x="2438280" y="2743200"/>
            <a:ext cx="4190760" cy="1980720"/>
          </a:xfrm>
          <a:prstGeom prst="ellipse">
            <a:avLst/>
          </a:prstGeom>
          <a:blipFill rotWithShape="0">
            <a:blip r:embed="rId1"/>
            <a:srcRect/>
            <a:tile tx="0" ty="0" sx="100000" sy="100000" algn="tl"/>
          </a:blipFill>
          <a:ln w="57150">
            <a:solidFill>
              <a:srgbClr val="fe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2971800" y="3225960"/>
            <a:ext cx="3123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ar-SA" sz="6000" spc="-1" strike="noStrike">
                <a:solidFill>
                  <a:srgbClr val="0070c0"/>
                </a:solidFill>
                <a:latin typeface="Bauhaus 93"/>
              </a:rPr>
              <a:t>الله الموفق</a:t>
            </a:r>
            <a:r>
              <a:rPr b="1" lang="en-US" sz="6000" spc="-1" strike="noStrike">
                <a:solidFill>
                  <a:srgbClr val="0070c0"/>
                </a:solidFill>
                <a:latin typeface="Bauhaus 93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8762760" cy="4952520"/>
          </a:xfrm>
          <a:prstGeom prst="rect">
            <a:avLst/>
          </a:prstGeom>
          <a:noFill/>
          <a:ln w="936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y is on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nerst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edic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y is the study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ow the body 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ways in which cells, organs and the whole body functions, and how these functions are maintained in a changing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Cellular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udy of the cellular components that primarily determines orga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Systems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udy of the coordinated and networked processes that determine whole body function and adaption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483840" y="457200"/>
            <a:ext cx="508068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to P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" descr=""/>
          <p:cNvPicPr/>
          <p:nvPr/>
        </p:nvPicPr>
        <p:blipFill>
          <a:blip r:embed="rId1"/>
          <a:srcRect l="39234" t="21870" r="24448" b="6250"/>
          <a:stretch/>
        </p:blipFill>
        <p:spPr>
          <a:xfrm>
            <a:off x="5181480" y="447840"/>
            <a:ext cx="3809520" cy="4581000"/>
          </a:xfrm>
          <a:prstGeom prst="rect">
            <a:avLst/>
          </a:prstGeom>
          <a:ln w="9525">
            <a:noFill/>
          </a:ln>
        </p:spPr>
      </p:pic>
      <p:pic>
        <p:nvPicPr>
          <p:cNvPr id="414" name="Picture 2" descr="http://books.sitamol.net/images/guyton.jpg"/>
          <p:cNvPicPr/>
          <p:nvPr/>
        </p:nvPicPr>
        <p:blipFill>
          <a:blip r:embed="rId2"/>
          <a:stretch/>
        </p:blipFill>
        <p:spPr>
          <a:xfrm>
            <a:off x="228600" y="447840"/>
            <a:ext cx="3809520" cy="4504320"/>
          </a:xfrm>
          <a:prstGeom prst="rect">
            <a:avLst/>
          </a:prstGeom>
          <a:ln w="9525">
            <a:noFill/>
          </a:ln>
        </p:spPr>
      </p:pic>
      <p:sp>
        <p:nvSpPr>
          <p:cNvPr id="415" name="TextBox 3"/>
          <p:cNvSpPr/>
          <p:nvPr/>
        </p:nvSpPr>
        <p:spPr>
          <a:xfrm>
            <a:off x="1371600" y="5019840"/>
            <a:ext cx="17521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6324480" y="5019840"/>
            <a:ext cx="15998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0" y="1981080"/>
            <a:ext cx="9143640" cy="251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 u="sng">
                <a:solidFill>
                  <a:srgbClr val="7030a0"/>
                </a:solidFill>
                <a:uFillTx/>
                <a:latin typeface="Times New Roman"/>
              </a:rPr>
              <a:t>Lecture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Functional Organization of the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5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276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stand the level of bod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inguish the primary tissues and their sub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ze the regulation of extracellular fluid transport and mix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Levels of Organizati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520560" y="2057400"/>
            <a:ext cx="7859520" cy="1063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ll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uctural and functional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~ 100 tr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517320" y="3121200"/>
            <a:ext cx="7591680" cy="575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issue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muscles, epithelial, nervou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18760" y="3807000"/>
            <a:ext cx="7659720" cy="575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kidney, heart, liver, panc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530280" y="4495680"/>
            <a:ext cx="8461080" cy="1063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 system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cardiovascular, respiratory, urin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rcRect l="0" t="0" r="0" b="3406"/>
          <a:stretch/>
        </p:blipFill>
        <p:spPr>
          <a:xfrm>
            <a:off x="304920" y="914400"/>
            <a:ext cx="7468920" cy="5938560"/>
          </a:xfrm>
          <a:prstGeom prst="rect">
            <a:avLst/>
          </a:prstGeom>
          <a:ln w="9525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4314960" y="2570040"/>
            <a:ext cx="166968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"/>
          <p:cNvSpPr/>
          <p:nvPr/>
        </p:nvSpPr>
        <p:spPr>
          <a:xfrm>
            <a:off x="4168800" y="2614680"/>
            <a:ext cx="1947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768240" y="1924200"/>
            <a:ext cx="19332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577800" y="3675240"/>
            <a:ext cx="19656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"/>
          <p:cNvSpPr/>
          <p:nvPr/>
        </p:nvSpPr>
        <p:spPr>
          <a:xfrm>
            <a:off x="1373040" y="6151680"/>
            <a:ext cx="1965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927360" y="1865160"/>
            <a:ext cx="2188080" cy="47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738360" y="3643200"/>
            <a:ext cx="164592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213080" y="6261120"/>
            <a:ext cx="19332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4373640" y="6218280"/>
            <a:ext cx="327780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1521000" y="6105600"/>
            <a:ext cx="226188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3"/>
          <p:cNvSpPr/>
          <p:nvPr/>
        </p:nvSpPr>
        <p:spPr>
          <a:xfrm>
            <a:off x="6045120" y="5327640"/>
            <a:ext cx="19476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095880" y="5292720"/>
            <a:ext cx="2053800" cy="83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5"/>
          <p:cNvSpPr/>
          <p:nvPr/>
        </p:nvSpPr>
        <p:spPr>
          <a:xfrm flipH="1" flipV="1">
            <a:off x="2989080" y="4641840"/>
            <a:ext cx="13320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 flipH="1" flipV="1">
            <a:off x="3882960" y="3965400"/>
            <a:ext cx="12384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3777840" y="2062080"/>
            <a:ext cx="6033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3376440" y="1674720"/>
            <a:ext cx="831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1589400" y="1441440"/>
            <a:ext cx="1424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0"/>
          <p:cNvSpPr/>
          <p:nvPr/>
        </p:nvSpPr>
        <p:spPr>
          <a:xfrm>
            <a:off x="3076560" y="2987640"/>
            <a:ext cx="8060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2408400" y="554184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2938320" y="4862520"/>
            <a:ext cx="887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3089160" y="447516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4021200" y="4903920"/>
            <a:ext cx="725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 flipH="1" flipV="1">
            <a:off x="2822400" y="4978080"/>
            <a:ext cx="16812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6"/>
          <p:cNvSpPr/>
          <p:nvPr/>
        </p:nvSpPr>
        <p:spPr>
          <a:xfrm flipH="1" flipV="1">
            <a:off x="2081160" y="5643360"/>
            <a:ext cx="355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27"/>
          <p:cNvSpPr/>
          <p:nvPr/>
        </p:nvSpPr>
        <p:spPr>
          <a:xfrm rot="10800000">
            <a:off x="4010400" y="3546720"/>
            <a:ext cx="91800" cy="86796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28"/>
          <p:cNvSpPr/>
          <p:nvPr/>
        </p:nvSpPr>
        <p:spPr>
          <a:xfrm>
            <a:off x="3827520" y="4483080"/>
            <a:ext cx="117000" cy="146952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29"/>
          <p:cNvSpPr/>
          <p:nvPr/>
        </p:nvSpPr>
        <p:spPr>
          <a:xfrm flipH="1" flipV="1">
            <a:off x="3944880" y="5192640"/>
            <a:ext cx="11268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0"/>
          <p:cNvSpPr/>
          <p:nvPr/>
        </p:nvSpPr>
        <p:spPr>
          <a:xfrm>
            <a:off x="4030560" y="3537000"/>
            <a:ext cx="596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1"/>
          <p:cNvSpPr/>
          <p:nvPr/>
        </p:nvSpPr>
        <p:spPr>
          <a:xfrm>
            <a:off x="4030560" y="3989520"/>
            <a:ext cx="7506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2"/>
          <p:cNvSpPr/>
          <p:nvPr/>
        </p:nvSpPr>
        <p:spPr>
          <a:xfrm>
            <a:off x="2476440" y="3736800"/>
            <a:ext cx="1415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3"/>
          <p:cNvSpPr/>
          <p:nvPr/>
        </p:nvSpPr>
        <p:spPr>
          <a:xfrm flipH="1" flipV="1">
            <a:off x="4592520" y="3674880"/>
            <a:ext cx="601560" cy="2570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4"/>
          <p:cNvSpPr/>
          <p:nvPr/>
        </p:nvSpPr>
        <p:spPr>
          <a:xfrm flipH="1">
            <a:off x="4630680" y="4132080"/>
            <a:ext cx="249120" cy="55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35"/>
          <p:cNvSpPr/>
          <p:nvPr/>
        </p:nvSpPr>
        <p:spPr>
          <a:xfrm flipH="1" flipV="1">
            <a:off x="4654440" y="4182840"/>
            <a:ext cx="271440" cy="4608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36"/>
          <p:cNvSpPr/>
          <p:nvPr/>
        </p:nvSpPr>
        <p:spPr>
          <a:xfrm>
            <a:off x="2857680" y="2948040"/>
            <a:ext cx="124920" cy="69480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37"/>
          <p:cNvSpPr/>
          <p:nvPr/>
        </p:nvSpPr>
        <p:spPr>
          <a:xfrm>
            <a:off x="2982600" y="3300120"/>
            <a:ext cx="10332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vels of Structur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ounded Rectangle 1"/>
          <p:cNvSpPr/>
          <p:nvPr/>
        </p:nvSpPr>
        <p:spPr>
          <a:xfrm>
            <a:off x="5985000" y="990720"/>
            <a:ext cx="1558440" cy="422712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ounded Rectangle 2"/>
          <p:cNvSpPr/>
          <p:nvPr/>
        </p:nvSpPr>
        <p:spPr>
          <a:xfrm>
            <a:off x="6012720" y="990720"/>
            <a:ext cx="1530720" cy="4227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PRIMARY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3640" cy="5562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FOUR MAJOR TYPES OF TISSUES IN THE HUMAN BO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EPITHELI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Covers body surfaces and lines body cav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CONNECT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inds and supports body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MUSCULAR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uses body parts to m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NERVO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ponds to stimuli and transmits impulses from one body part to ano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  <Words>927</Words>
  <Paragraphs>1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9:06:17Z</dcterms:created>
  <dc:creator>Denise Roslonski</dc:creator>
  <dc:description/>
  <dc:language>en-US</dc:language>
  <cp:lastModifiedBy>GCUSER</cp:lastModifiedBy>
  <cp:lastPrinted>2005-05-20T19:48:39Z</cp:lastPrinted>
  <dcterms:modified xsi:type="dcterms:W3CDTF">2014-09-01T05:48:26Z</dcterms:modified>
  <cp:revision>258</cp:revision>
  <dc:subject/>
  <dc:title>Introduction to Physiology:  The Cell and General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24</vt:r8>
  </property>
</Properties>
</file>