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quickStyle3.xml" ContentType="application/vnd.openxmlformats-officedocument.drawingml.diagramStyle+xml"/>
  <Override PartName="/ppt/diagrams/colors3.xml" ContentType="application/vnd.openxmlformats-officedocument.drawingml.diagramColors+xml"/>
  <Override PartName="/ppt/notesSlides/_rels/notesSlide6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6.gif" ContentType="image/gif"/>
  <Override PartName="/ppt/media/image20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12.png" ContentType="image/png"/>
  <Override PartName="/ppt/media/image29.jpeg" ContentType="image/jpeg"/>
  <Override PartName="/ppt/media/image10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3.png" ContentType="image/png"/>
  <Override PartName="/ppt/media/image32.jpeg" ContentType="image/jpeg"/>
  <Override PartName="/ppt/media/image38.jpeg" ContentType="image/jpeg"/>
  <Override PartName="/ppt/media/image40.jpeg" ContentType="image/jpeg"/>
  <Override PartName="/ppt/media/image11.jpeg" ContentType="image/jpeg"/>
  <Override PartName="/ppt/media/image31.gif" ContentType="image/gi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123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  <p:sldId id="337" r:id="rId89"/>
    <p:sldId id="338" r:id="rId90"/>
    <p:sldId id="339" r:id="rId91"/>
    <p:sldId id="340" r:id="rId92"/>
    <p:sldId id="341" r:id="rId93"/>
    <p:sldId id="342" r:id="rId94"/>
    <p:sldId id="343" r:id="rId95"/>
    <p:sldId id="344" r:id="rId96"/>
    <p:sldId id="345" r:id="rId97"/>
    <p:sldId id="346" r:id="rId98"/>
    <p:sldId id="347" r:id="rId99"/>
    <p:sldId id="348" r:id="rId100"/>
    <p:sldId id="349" r:id="rId101"/>
    <p:sldId id="350" r:id="rId102"/>
    <p:sldId id="351" r:id="rId103"/>
    <p:sldId id="352" r:id="rId104"/>
    <p:sldId id="353" r:id="rId105"/>
    <p:sldId id="354" r:id="rId106"/>
    <p:sldId id="355" r:id="rId107"/>
    <p:sldId id="356" r:id="rId108"/>
    <p:sldId id="357" r:id="rId109"/>
    <p:sldId id="358" r:id="rId110"/>
    <p:sldId id="359" r:id="rId111"/>
    <p:sldId id="360" r:id="rId112"/>
    <p:sldId id="361" r:id="rId113"/>
    <p:sldId id="362" r:id="rId114"/>
    <p:sldId id="363" r:id="rId115"/>
    <p:sldId id="364" r:id="rId116"/>
    <p:sldId id="365" r:id="rId117"/>
    <p:sldId id="366" r:id="rId118"/>
    <p:sldId id="367" r:id="rId119"/>
    <p:sldId id="368" r:id="rId120"/>
    <p:sldId id="369" r:id="rId121"/>
    <p:sldId id="370" r:id="rId122"/>
    <p:sldId id="371" r:id="rId123"/>
    <p:sldId id="372" r:id="rId124"/>
    <p:sldId id="373" r:id="rId125"/>
    <p:sldId id="374" r:id="rId126"/>
    <p:sldId id="375" r:id="rId127"/>
    <p:sldId id="376" r:id="rId128"/>
    <p:sldId id="377" r:id="rId129"/>
    <p:sldId id="378" r:id="rId1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slide" Target="slides/slide82.xml"/><Relationship Id="rId90" Type="http://schemas.openxmlformats.org/officeDocument/2006/relationships/slide" Target="slides/slide83.xml"/><Relationship Id="rId91" Type="http://schemas.openxmlformats.org/officeDocument/2006/relationships/slide" Target="slides/slide84.xml"/><Relationship Id="rId92" Type="http://schemas.openxmlformats.org/officeDocument/2006/relationships/slide" Target="slides/slide85.xml"/><Relationship Id="rId93" Type="http://schemas.openxmlformats.org/officeDocument/2006/relationships/slide" Target="slides/slide86.xml"/><Relationship Id="rId94" Type="http://schemas.openxmlformats.org/officeDocument/2006/relationships/slide" Target="slides/slide87.xml"/><Relationship Id="rId95" Type="http://schemas.openxmlformats.org/officeDocument/2006/relationships/slide" Target="slides/slide88.xml"/><Relationship Id="rId96" Type="http://schemas.openxmlformats.org/officeDocument/2006/relationships/slide" Target="slides/slide89.xml"/><Relationship Id="rId97" Type="http://schemas.openxmlformats.org/officeDocument/2006/relationships/slide" Target="slides/slide90.xml"/><Relationship Id="rId98" Type="http://schemas.openxmlformats.org/officeDocument/2006/relationships/slide" Target="slides/slide91.xml"/><Relationship Id="rId99" Type="http://schemas.openxmlformats.org/officeDocument/2006/relationships/slide" Target="slides/slide92.xml"/><Relationship Id="rId100" Type="http://schemas.openxmlformats.org/officeDocument/2006/relationships/slide" Target="slides/slide93.xml"/><Relationship Id="rId101" Type="http://schemas.openxmlformats.org/officeDocument/2006/relationships/slide" Target="slides/slide94.xml"/><Relationship Id="rId102" Type="http://schemas.openxmlformats.org/officeDocument/2006/relationships/slide" Target="slides/slide95.xml"/><Relationship Id="rId103" Type="http://schemas.openxmlformats.org/officeDocument/2006/relationships/slide" Target="slides/slide96.xml"/><Relationship Id="rId104" Type="http://schemas.openxmlformats.org/officeDocument/2006/relationships/slide" Target="slides/slide97.xml"/><Relationship Id="rId105" Type="http://schemas.openxmlformats.org/officeDocument/2006/relationships/slide" Target="slides/slide98.xml"/><Relationship Id="rId106" Type="http://schemas.openxmlformats.org/officeDocument/2006/relationships/slide" Target="slides/slide99.xml"/><Relationship Id="rId107" Type="http://schemas.openxmlformats.org/officeDocument/2006/relationships/slide" Target="slides/slide100.xml"/><Relationship Id="rId108" Type="http://schemas.openxmlformats.org/officeDocument/2006/relationships/slide" Target="slides/slide101.xml"/><Relationship Id="rId109" Type="http://schemas.openxmlformats.org/officeDocument/2006/relationships/slide" Target="slides/slide102.xml"/><Relationship Id="rId110" Type="http://schemas.openxmlformats.org/officeDocument/2006/relationships/slide" Target="slides/slide103.xml"/><Relationship Id="rId111" Type="http://schemas.openxmlformats.org/officeDocument/2006/relationships/slide" Target="slides/slide104.xml"/><Relationship Id="rId112" Type="http://schemas.openxmlformats.org/officeDocument/2006/relationships/slide" Target="slides/slide105.xml"/><Relationship Id="rId113" Type="http://schemas.openxmlformats.org/officeDocument/2006/relationships/slide" Target="slides/slide106.xml"/><Relationship Id="rId114" Type="http://schemas.openxmlformats.org/officeDocument/2006/relationships/slide" Target="slides/slide107.xml"/><Relationship Id="rId115" Type="http://schemas.openxmlformats.org/officeDocument/2006/relationships/slide" Target="slides/slide108.xml"/><Relationship Id="rId116" Type="http://schemas.openxmlformats.org/officeDocument/2006/relationships/slide" Target="slides/slide109.xml"/><Relationship Id="rId117" Type="http://schemas.openxmlformats.org/officeDocument/2006/relationships/slide" Target="slides/slide110.xml"/><Relationship Id="rId118" Type="http://schemas.openxmlformats.org/officeDocument/2006/relationships/slide" Target="slides/slide111.xml"/><Relationship Id="rId119" Type="http://schemas.openxmlformats.org/officeDocument/2006/relationships/slide" Target="slides/slide112.xml"/><Relationship Id="rId120" Type="http://schemas.openxmlformats.org/officeDocument/2006/relationships/slide" Target="slides/slide113.xml"/><Relationship Id="rId121" Type="http://schemas.openxmlformats.org/officeDocument/2006/relationships/slide" Target="slides/slide114.xml"/><Relationship Id="rId122" Type="http://schemas.openxmlformats.org/officeDocument/2006/relationships/slide" Target="slides/slide115.xml"/><Relationship Id="rId123" Type="http://schemas.openxmlformats.org/officeDocument/2006/relationships/slide" Target="slides/slide116.xml"/><Relationship Id="rId124" Type="http://schemas.openxmlformats.org/officeDocument/2006/relationships/slide" Target="slides/slide117.xml"/><Relationship Id="rId125" Type="http://schemas.openxmlformats.org/officeDocument/2006/relationships/slide" Target="slides/slide118.xml"/><Relationship Id="rId126" Type="http://schemas.openxmlformats.org/officeDocument/2006/relationships/slide" Target="slides/slide119.xml"/><Relationship Id="rId127" Type="http://schemas.openxmlformats.org/officeDocument/2006/relationships/slide" Target="slides/slide120.xml"/><Relationship Id="rId128" Type="http://schemas.openxmlformats.org/officeDocument/2006/relationships/slide" Target="slides/slide121.xml"/><Relationship Id="rId129" Type="http://schemas.openxmlformats.org/officeDocument/2006/relationships/slide" Target="slides/slide122.xml"/><Relationship Id="rId130" Type="http://schemas.openxmlformats.org/officeDocument/2006/relationships/slide" Target="slides/slide123.xml"/><Relationship Id="rId13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2_2">
  <dgm:title val=""/>
  <dgm:desc val=""/>
  <dgm:catLst>
    <dgm:cat type="accent2" pri="112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lnNode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8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9B39937-A8DD-4D39-A22E-42D0045F6CF8}" type="doc">
      <dgm:prSet loTypeId="urn:microsoft.com/office/officeart/2005/8/layout/hierarchy1" loCatId="hierarchy" qsTypeId="urn:microsoft.com/office/officeart/2005/8/quickstyle/simple1" qsCatId="simple" csTypeId="urn:microsoft.com/office/officeart/2005/8/colors/accent2_2" csCatId="accent2" phldr="1"/>
      <dgm:spPr/>
      <dgm:t>
        <a:bodyPr/>
        <a:lstStyle/>
        <a:p>
          <a:pPr rtl="1"/>
          <a:endParaRPr lang="ar-SA"/>
        </a:p>
      </dgm:t>
    </dgm:pt>
    <dgm:pt modelId="{D4E1747B-1CFE-4720-8525-AF25337BECD9}">
      <dgm:prSet phldrT="[Text]"/>
      <dgm:spPr/>
      <dgm:t>
        <a:bodyPr/>
        <a:lstStyle/>
        <a:p>
          <a:pPr rtl="1"/>
          <a:r>
            <a:rPr lang="en-US" b="1" dirty="0" smtClean="0">
              <a:solidFill>
                <a:srgbClr val="C00000"/>
              </a:solidFill>
            </a:rPr>
            <a:t>Edema: is excessive fluid in the tissues </a:t>
          </a:r>
          <a:endParaRPr lang="ar-SA" b="1" dirty="0">
            <a:solidFill>
              <a:srgbClr val="C00000"/>
            </a:solidFill>
          </a:endParaRPr>
        </a:p>
      </dgm:t>
    </dgm:pt>
    <dgm:pt modelId="{F693BA5A-6FEE-4C8C-9E52-E6E12A7C756F}" type="parTrans" cxnId="{D7131861-9F3E-4C99-8B4D-E03E549495E3}">
      <dgm:prSet/>
      <dgm:spPr/>
      <dgm:t>
        <a:bodyPr/>
        <a:lstStyle/>
        <a:p>
          <a:pPr rtl="1"/>
          <a:endParaRPr lang="ar-SA"/>
        </a:p>
      </dgm:t>
    </dgm:pt>
    <dgm:pt modelId="{535CC99C-AF24-4621-8FB1-7008E7E34E2F}" type="sibTrans" cxnId="{D7131861-9F3E-4C99-8B4D-E03E549495E3}">
      <dgm:prSet/>
      <dgm:spPr/>
      <dgm:t>
        <a:bodyPr/>
        <a:lstStyle/>
        <a:p>
          <a:pPr rtl="1"/>
          <a:endParaRPr lang="ar-SA"/>
        </a:p>
      </dgm:t>
    </dgm:pt>
    <dgm:pt modelId="{AA50BACD-0559-4493-A5A9-3806438E823A}">
      <dgm:prSet phldrT="[Text]"/>
      <dgm:spPr/>
      <dgm:t>
        <a:bodyPr/>
        <a:lstStyle/>
        <a:p>
          <a:pPr rtl="1"/>
          <a:r>
            <a:rPr lang="en-US" dirty="0" smtClean="0"/>
            <a:t>Intracellular</a:t>
          </a:r>
          <a:endParaRPr lang="ar-SA" dirty="0"/>
        </a:p>
      </dgm:t>
    </dgm:pt>
    <dgm:pt modelId="{F42CD7B0-9E6E-4598-8516-CA8C95A8807B}" type="parTrans" cxnId="{8243D580-CD1B-43DD-B7AD-608995296A8A}">
      <dgm:prSet/>
      <dgm:spPr/>
      <dgm:t>
        <a:bodyPr/>
        <a:lstStyle/>
        <a:p>
          <a:pPr rtl="1"/>
          <a:endParaRPr lang="ar-SA">
            <a:solidFill>
              <a:srgbClr val="C00000"/>
            </a:solidFill>
          </a:endParaRPr>
        </a:p>
      </dgm:t>
    </dgm:pt>
    <dgm:pt modelId="{01544099-3D3D-490D-A909-D0777E3711D4}" type="sibTrans" cxnId="{8243D580-CD1B-43DD-B7AD-608995296A8A}">
      <dgm:prSet/>
      <dgm:spPr/>
      <dgm:t>
        <a:bodyPr/>
        <a:lstStyle/>
        <a:p>
          <a:pPr rtl="1"/>
          <a:endParaRPr lang="ar-SA"/>
        </a:p>
      </dgm:t>
    </dgm:pt>
    <dgm:pt modelId="{1AE192A2-D8B2-4E66-98BE-CB5E1E580298}">
      <dgm:prSet phldrT="[Text]"/>
      <dgm:spPr/>
      <dgm:t>
        <a:bodyPr/>
        <a:lstStyle/>
        <a:p>
          <a:pPr rtl="1"/>
          <a:r>
            <a:rPr lang="en-US" dirty="0" smtClean="0"/>
            <a:t>Extracellular</a:t>
          </a:r>
          <a:endParaRPr lang="ar-SA" dirty="0"/>
        </a:p>
      </dgm:t>
    </dgm:pt>
    <dgm:pt modelId="{CFF1D3B3-A0EC-4BE5-B1DC-7583533B677B}" type="parTrans" cxnId="{39939F2B-F59F-49FF-A0C7-23B081DB98D5}">
      <dgm:prSet/>
      <dgm:spPr/>
      <dgm:t>
        <a:bodyPr/>
        <a:lstStyle/>
        <a:p>
          <a:pPr rtl="1"/>
          <a:endParaRPr lang="ar-SA">
            <a:solidFill>
              <a:srgbClr val="C00000"/>
            </a:solidFill>
          </a:endParaRPr>
        </a:p>
      </dgm:t>
    </dgm:pt>
    <dgm:pt modelId="{BE9A30A6-A000-4C2D-A05A-5CD59F311E88}" type="sibTrans" cxnId="{39939F2B-F59F-49FF-A0C7-23B081DB98D5}">
      <dgm:prSet/>
      <dgm:spPr/>
      <dgm:t>
        <a:bodyPr/>
        <a:lstStyle/>
        <a:p>
          <a:pPr rtl="1"/>
          <a:endParaRPr lang="ar-SA"/>
        </a:p>
      </dgm:t>
    </dgm:pt>
    <dgm:pt modelId="{BD96BFEC-C70A-4E1C-B424-C4D23A041C18}" type="pres">
      <dgm:prSet presAssocID="{19B39937-A8DD-4D39-A22E-42D0045F6CF8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pPr rtl="1"/>
          <a:endParaRPr lang="ar-SA"/>
        </a:p>
      </dgm:t>
    </dgm:pt>
    <dgm:pt modelId="{A8B9B752-AF1C-45FA-974D-797D8C3D9388}" type="pres">
      <dgm:prSet presAssocID="{D4E1747B-1CFE-4720-8525-AF25337BECD9}" presName="hierRoot1" presStyleCnt="0"/>
      <dgm:spPr/>
      <dgm:t>
        <a:bodyPr/>
        <a:lstStyle/>
        <a:p>
          <a:endParaRPr lang="en-US"/>
        </a:p>
      </dgm:t>
    </dgm:pt>
    <dgm:pt modelId="{1ECF5841-7025-408F-AAE8-F87078345679}" type="pres">
      <dgm:prSet presAssocID="{D4E1747B-1CFE-4720-8525-AF25337BECD9}" presName="composite" presStyleCnt="0"/>
      <dgm:spPr/>
      <dgm:t>
        <a:bodyPr/>
        <a:lstStyle/>
        <a:p>
          <a:endParaRPr lang="en-US"/>
        </a:p>
      </dgm:t>
    </dgm:pt>
    <dgm:pt modelId="{BA6906F2-CA68-4110-B0EC-7E39F7A9D5DB}" type="pres">
      <dgm:prSet presAssocID="{D4E1747B-1CFE-4720-8525-AF25337BECD9}" presName="background" presStyleLbl="node0" presStyleIdx="0" presStyleCnt="1"/>
      <dgm:spPr/>
      <dgm:t>
        <a:bodyPr/>
        <a:lstStyle/>
        <a:p>
          <a:endParaRPr lang="en-US"/>
        </a:p>
      </dgm:t>
    </dgm:pt>
    <dgm:pt modelId="{D9B31181-C7C4-49E0-A567-3AEEDE6DBE16}" type="pres">
      <dgm:prSet presAssocID="{D4E1747B-1CFE-4720-8525-AF25337BECD9}" presName="text" presStyleLbl="fgAcc0" presStyleIdx="0" presStyleCnt="1" custAng="0" custLinFactNeighborX="2808" custLinFactNeighborY="20456">
        <dgm:presLayoutVars>
          <dgm:chPref val="3"/>
        </dgm:presLayoutVars>
      </dgm:prSet>
      <dgm:spPr/>
      <dgm:t>
        <a:bodyPr/>
        <a:lstStyle/>
        <a:p>
          <a:pPr rtl="1"/>
          <a:endParaRPr lang="ar-SA"/>
        </a:p>
      </dgm:t>
    </dgm:pt>
    <dgm:pt modelId="{7F7847A7-1B33-4798-88DD-4723F79E4BBC}" type="pres">
      <dgm:prSet presAssocID="{D4E1747B-1CFE-4720-8525-AF25337BECD9}" presName="hierChild2" presStyleCnt="0"/>
      <dgm:spPr/>
      <dgm:t>
        <a:bodyPr/>
        <a:lstStyle/>
        <a:p>
          <a:endParaRPr lang="en-US"/>
        </a:p>
      </dgm:t>
    </dgm:pt>
    <dgm:pt modelId="{8174C8FD-2CC6-4AA7-AD4F-E2D46E83058E}" type="pres">
      <dgm:prSet presAssocID="{F42CD7B0-9E6E-4598-8516-CA8C95A8807B}" presName="Name10" presStyleLbl="parChTrans1D2" presStyleIdx="0" presStyleCnt="2"/>
      <dgm:spPr/>
      <dgm:t>
        <a:bodyPr/>
        <a:lstStyle/>
        <a:p>
          <a:pPr rtl="1"/>
          <a:endParaRPr lang="ar-SA"/>
        </a:p>
      </dgm:t>
    </dgm:pt>
    <dgm:pt modelId="{26826634-E0EC-45B5-B45A-13ED567BEE6C}" type="pres">
      <dgm:prSet presAssocID="{AA50BACD-0559-4493-A5A9-3806438E823A}" presName="hierRoot2" presStyleCnt="0"/>
      <dgm:spPr/>
      <dgm:t>
        <a:bodyPr/>
        <a:lstStyle/>
        <a:p>
          <a:endParaRPr lang="en-US"/>
        </a:p>
      </dgm:t>
    </dgm:pt>
    <dgm:pt modelId="{551E79D9-AD3B-4CD7-8622-27353263B3CD}" type="pres">
      <dgm:prSet presAssocID="{AA50BACD-0559-4493-A5A9-3806438E823A}" presName="composite2" presStyleCnt="0"/>
      <dgm:spPr/>
      <dgm:t>
        <a:bodyPr/>
        <a:lstStyle/>
        <a:p>
          <a:endParaRPr lang="en-US"/>
        </a:p>
      </dgm:t>
    </dgm:pt>
    <dgm:pt modelId="{CA06E414-D4E3-4311-A471-8C4D32341919}" type="pres">
      <dgm:prSet presAssocID="{AA50BACD-0559-4493-A5A9-3806438E823A}" presName="background2" presStyleLbl="node2" presStyleIdx="0" presStyleCnt="2"/>
      <dgm:spPr/>
      <dgm:t>
        <a:bodyPr/>
        <a:lstStyle/>
        <a:p>
          <a:endParaRPr lang="en-US"/>
        </a:p>
      </dgm:t>
    </dgm:pt>
    <dgm:pt modelId="{02D9C912-B239-444F-B14A-E06F281567B9}" type="pres">
      <dgm:prSet presAssocID="{AA50BACD-0559-4493-A5A9-3806438E823A}" presName="text2" presStyleLbl="fgAcc2" presStyleIdx="0" presStyleCnt="2" custLinFactNeighborX="-2688" custLinFactNeighborY="-2965">
        <dgm:presLayoutVars>
          <dgm:chPref val="3"/>
        </dgm:presLayoutVars>
      </dgm:prSet>
      <dgm:spPr/>
      <dgm:t>
        <a:bodyPr/>
        <a:lstStyle/>
        <a:p>
          <a:pPr rtl="1"/>
          <a:endParaRPr lang="ar-SA"/>
        </a:p>
      </dgm:t>
    </dgm:pt>
    <dgm:pt modelId="{D7D39E72-0A95-4AE2-BAB7-4FA7C95BB284}" type="pres">
      <dgm:prSet presAssocID="{AA50BACD-0559-4493-A5A9-3806438E823A}" presName="hierChild3" presStyleCnt="0"/>
      <dgm:spPr/>
      <dgm:t>
        <a:bodyPr/>
        <a:lstStyle/>
        <a:p>
          <a:endParaRPr lang="en-US"/>
        </a:p>
      </dgm:t>
    </dgm:pt>
    <dgm:pt modelId="{C226A4DF-DA1B-4FC3-9BA9-5EAF963BA286}" type="pres">
      <dgm:prSet presAssocID="{CFF1D3B3-A0EC-4BE5-B1DC-7583533B677B}" presName="Name10" presStyleLbl="parChTrans1D2" presStyleIdx="1" presStyleCnt="2"/>
      <dgm:spPr/>
      <dgm:t>
        <a:bodyPr/>
        <a:lstStyle/>
        <a:p>
          <a:pPr rtl="1"/>
          <a:endParaRPr lang="ar-SA"/>
        </a:p>
      </dgm:t>
    </dgm:pt>
    <dgm:pt modelId="{E0D01EEB-D060-42FD-AA25-B59FB420B038}" type="pres">
      <dgm:prSet presAssocID="{1AE192A2-D8B2-4E66-98BE-CB5E1E580298}" presName="hierRoot2" presStyleCnt="0"/>
      <dgm:spPr/>
      <dgm:t>
        <a:bodyPr/>
        <a:lstStyle/>
        <a:p>
          <a:endParaRPr lang="en-US"/>
        </a:p>
      </dgm:t>
    </dgm:pt>
    <dgm:pt modelId="{F304E326-D70F-4BDA-BFEF-26F286046473}" type="pres">
      <dgm:prSet presAssocID="{1AE192A2-D8B2-4E66-98BE-CB5E1E580298}" presName="composite2" presStyleCnt="0"/>
      <dgm:spPr/>
      <dgm:t>
        <a:bodyPr/>
        <a:lstStyle/>
        <a:p>
          <a:endParaRPr lang="en-US"/>
        </a:p>
      </dgm:t>
    </dgm:pt>
    <dgm:pt modelId="{26BED423-56B2-4937-932A-F802B305206B}" type="pres">
      <dgm:prSet presAssocID="{1AE192A2-D8B2-4E66-98BE-CB5E1E580298}" presName="background2" presStyleLbl="node2" presStyleIdx="1" presStyleCnt="2"/>
      <dgm:spPr/>
      <dgm:t>
        <a:bodyPr/>
        <a:lstStyle/>
        <a:p>
          <a:endParaRPr lang="en-US"/>
        </a:p>
      </dgm:t>
    </dgm:pt>
    <dgm:pt modelId="{E2F391F3-CA26-4F1B-8695-D3CD7829E74D}" type="pres">
      <dgm:prSet presAssocID="{1AE192A2-D8B2-4E66-98BE-CB5E1E580298}" presName="text2" presStyleLbl="fgAcc2" presStyleIdx="1" presStyleCnt="2" custLinFactNeighborX="-1024" custLinFactNeighborY="-2965">
        <dgm:presLayoutVars>
          <dgm:chPref val="3"/>
        </dgm:presLayoutVars>
      </dgm:prSet>
      <dgm:spPr/>
      <dgm:t>
        <a:bodyPr/>
        <a:lstStyle/>
        <a:p>
          <a:pPr rtl="1"/>
          <a:endParaRPr lang="ar-SA"/>
        </a:p>
      </dgm:t>
    </dgm:pt>
    <dgm:pt modelId="{C2B912D2-6704-4D77-A44B-EF528F4473BA}" type="pres">
      <dgm:prSet presAssocID="{1AE192A2-D8B2-4E66-98BE-CB5E1E580298}" presName="hierChild3" presStyleCnt="0"/>
      <dgm:spPr/>
      <dgm:t>
        <a:bodyPr/>
        <a:lstStyle/>
        <a:p>
          <a:endParaRPr lang="en-US"/>
        </a:p>
      </dgm:t>
    </dgm:pt>
  </dgm:ptLst>
  <dgm:cxnLst>
    <dgm:cxn modelId="{2D187C15-4AA5-445B-98EC-5A7C9FAA5DA4}" type="presOf" srcId="{1AE192A2-D8B2-4E66-98BE-CB5E1E580298}" destId="{E2F391F3-CA26-4F1B-8695-D3CD7829E74D}" srcOrd="0" destOrd="0" presId="urn:microsoft.com/office/officeart/2005/8/layout/hierarchy1"/>
    <dgm:cxn modelId="{BE12B8AE-647A-4364-BFFF-D68C25278277}" type="presOf" srcId="{D4E1747B-1CFE-4720-8525-AF25337BECD9}" destId="{D9B31181-C7C4-49E0-A567-3AEEDE6DBE16}" srcOrd="0" destOrd="0" presId="urn:microsoft.com/office/officeart/2005/8/layout/hierarchy1"/>
    <dgm:cxn modelId="{B527682C-D228-43B1-AE7C-281826B0B07E}" type="presOf" srcId="{F42CD7B0-9E6E-4598-8516-CA8C95A8807B}" destId="{8174C8FD-2CC6-4AA7-AD4F-E2D46E83058E}" srcOrd="0" destOrd="0" presId="urn:microsoft.com/office/officeart/2005/8/layout/hierarchy1"/>
    <dgm:cxn modelId="{39939F2B-F59F-49FF-A0C7-23B081DB98D5}" srcId="{D4E1747B-1CFE-4720-8525-AF25337BECD9}" destId="{1AE192A2-D8B2-4E66-98BE-CB5E1E580298}" srcOrd="1" destOrd="0" parTransId="{CFF1D3B3-A0EC-4BE5-B1DC-7583533B677B}" sibTransId="{BE9A30A6-A000-4C2D-A05A-5CD59F311E88}"/>
    <dgm:cxn modelId="{8243D580-CD1B-43DD-B7AD-608995296A8A}" srcId="{D4E1747B-1CFE-4720-8525-AF25337BECD9}" destId="{AA50BACD-0559-4493-A5A9-3806438E823A}" srcOrd="0" destOrd="0" parTransId="{F42CD7B0-9E6E-4598-8516-CA8C95A8807B}" sibTransId="{01544099-3D3D-490D-A909-D0777E3711D4}"/>
    <dgm:cxn modelId="{D7131861-9F3E-4C99-8B4D-E03E549495E3}" srcId="{19B39937-A8DD-4D39-A22E-42D0045F6CF8}" destId="{D4E1747B-1CFE-4720-8525-AF25337BECD9}" srcOrd="0" destOrd="0" parTransId="{F693BA5A-6FEE-4C8C-9E52-E6E12A7C756F}" sibTransId="{535CC99C-AF24-4621-8FB1-7008E7E34E2F}"/>
    <dgm:cxn modelId="{BC198382-7B5D-4EDE-8BA0-D10B1DA8F1C9}" type="presOf" srcId="{CFF1D3B3-A0EC-4BE5-B1DC-7583533B677B}" destId="{C226A4DF-DA1B-4FC3-9BA9-5EAF963BA286}" srcOrd="0" destOrd="0" presId="urn:microsoft.com/office/officeart/2005/8/layout/hierarchy1"/>
    <dgm:cxn modelId="{45849BE5-E2C5-4404-A00F-754559107D29}" type="presOf" srcId="{AA50BACD-0559-4493-A5A9-3806438E823A}" destId="{02D9C912-B239-444F-B14A-E06F281567B9}" srcOrd="0" destOrd="0" presId="urn:microsoft.com/office/officeart/2005/8/layout/hierarchy1"/>
    <dgm:cxn modelId="{649DBAA3-5311-4C1E-B99C-D15505F8F49F}" type="presOf" srcId="{19B39937-A8DD-4D39-A22E-42D0045F6CF8}" destId="{BD96BFEC-C70A-4E1C-B424-C4D23A041C18}" srcOrd="0" destOrd="0" presId="urn:microsoft.com/office/officeart/2005/8/layout/hierarchy1"/>
    <dgm:cxn modelId="{963AC0BC-8EC4-4979-A4B6-B251E48C9B83}" type="presParOf" srcId="{BD96BFEC-C70A-4E1C-B424-C4D23A041C18}" destId="{A8B9B752-AF1C-45FA-974D-797D8C3D9388}" srcOrd="0" destOrd="0" presId="urn:microsoft.com/office/officeart/2005/8/layout/hierarchy1"/>
    <dgm:cxn modelId="{53BC1F36-CAD7-49A4-B585-3CFB1239A871}" type="presParOf" srcId="{A8B9B752-AF1C-45FA-974D-797D8C3D9388}" destId="{1ECF5841-7025-408F-AAE8-F87078345679}" srcOrd="0" destOrd="0" presId="urn:microsoft.com/office/officeart/2005/8/layout/hierarchy1"/>
    <dgm:cxn modelId="{22D55D84-62A4-4EE4-91BE-1D2E5826CD83}" type="presParOf" srcId="{1ECF5841-7025-408F-AAE8-F87078345679}" destId="{BA6906F2-CA68-4110-B0EC-7E39F7A9D5DB}" srcOrd="0" destOrd="0" presId="urn:microsoft.com/office/officeart/2005/8/layout/hierarchy1"/>
    <dgm:cxn modelId="{7D43A5F3-37DD-4308-8B93-2F372F80746E}" type="presParOf" srcId="{1ECF5841-7025-408F-AAE8-F87078345679}" destId="{D9B31181-C7C4-49E0-A567-3AEEDE6DBE16}" srcOrd="1" destOrd="0" presId="urn:microsoft.com/office/officeart/2005/8/layout/hierarchy1"/>
    <dgm:cxn modelId="{697CF336-04B7-471E-8AD7-64F153B92956}" type="presParOf" srcId="{A8B9B752-AF1C-45FA-974D-797D8C3D9388}" destId="{7F7847A7-1B33-4798-88DD-4723F79E4BBC}" srcOrd="1" destOrd="0" presId="urn:microsoft.com/office/officeart/2005/8/layout/hierarchy1"/>
    <dgm:cxn modelId="{5C4BAF76-2755-4380-A3A8-3917EB119C1A}" type="presParOf" srcId="{7F7847A7-1B33-4798-88DD-4723F79E4BBC}" destId="{8174C8FD-2CC6-4AA7-AD4F-E2D46E83058E}" srcOrd="0" destOrd="0" presId="urn:microsoft.com/office/officeart/2005/8/layout/hierarchy1"/>
    <dgm:cxn modelId="{7F48AA85-FAA8-4B5E-BFB0-85240105038B}" type="presParOf" srcId="{7F7847A7-1B33-4798-88DD-4723F79E4BBC}" destId="{26826634-E0EC-45B5-B45A-13ED567BEE6C}" srcOrd="1" destOrd="0" presId="urn:microsoft.com/office/officeart/2005/8/layout/hierarchy1"/>
    <dgm:cxn modelId="{0D9EC2B9-FFCD-4CD9-A6C4-4A9759784D6A}" type="presParOf" srcId="{26826634-E0EC-45B5-B45A-13ED567BEE6C}" destId="{551E79D9-AD3B-4CD7-8622-27353263B3CD}" srcOrd="0" destOrd="0" presId="urn:microsoft.com/office/officeart/2005/8/layout/hierarchy1"/>
    <dgm:cxn modelId="{0F5AE29D-6FD4-4A10-A1DB-39039430C6C2}" type="presParOf" srcId="{551E79D9-AD3B-4CD7-8622-27353263B3CD}" destId="{CA06E414-D4E3-4311-A471-8C4D32341919}" srcOrd="0" destOrd="0" presId="urn:microsoft.com/office/officeart/2005/8/layout/hierarchy1"/>
    <dgm:cxn modelId="{1BB34152-6978-4197-8712-4D7522E807E0}" type="presParOf" srcId="{551E79D9-AD3B-4CD7-8622-27353263B3CD}" destId="{02D9C912-B239-444F-B14A-E06F281567B9}" srcOrd="1" destOrd="0" presId="urn:microsoft.com/office/officeart/2005/8/layout/hierarchy1"/>
    <dgm:cxn modelId="{A4E347B6-87A3-4EB1-BBA8-AB7B90FA646D}" type="presParOf" srcId="{26826634-E0EC-45B5-B45A-13ED567BEE6C}" destId="{D7D39E72-0A95-4AE2-BAB7-4FA7C95BB284}" srcOrd="1" destOrd="0" presId="urn:microsoft.com/office/officeart/2005/8/layout/hierarchy1"/>
    <dgm:cxn modelId="{845CBF43-15C1-4512-BD03-D2B51F821334}" type="presParOf" srcId="{7F7847A7-1B33-4798-88DD-4723F79E4BBC}" destId="{C226A4DF-DA1B-4FC3-9BA9-5EAF963BA286}" srcOrd="2" destOrd="0" presId="urn:microsoft.com/office/officeart/2005/8/layout/hierarchy1"/>
    <dgm:cxn modelId="{952B5EEA-4C5B-4DCE-834C-E731529579EE}" type="presParOf" srcId="{7F7847A7-1B33-4798-88DD-4723F79E4BBC}" destId="{E0D01EEB-D060-42FD-AA25-B59FB420B038}" srcOrd="3" destOrd="0" presId="urn:microsoft.com/office/officeart/2005/8/layout/hierarchy1"/>
    <dgm:cxn modelId="{5214BACB-3B62-4D54-8712-9BCB8C62DD95}" type="presParOf" srcId="{E0D01EEB-D060-42FD-AA25-B59FB420B038}" destId="{F304E326-D70F-4BDA-BFEF-26F286046473}" srcOrd="0" destOrd="0" presId="urn:microsoft.com/office/officeart/2005/8/layout/hierarchy1"/>
    <dgm:cxn modelId="{4D932661-0FB6-431C-B5E4-00A45BE87855}" type="presParOf" srcId="{F304E326-D70F-4BDA-BFEF-26F286046473}" destId="{26BED423-56B2-4937-932A-F802B305206B}" srcOrd="0" destOrd="0" presId="urn:microsoft.com/office/officeart/2005/8/layout/hierarchy1"/>
    <dgm:cxn modelId="{31F3D8DF-A9EB-4327-A27C-32DE1C2185FF}" type="presParOf" srcId="{F304E326-D70F-4BDA-BFEF-26F286046473}" destId="{E2F391F3-CA26-4F1B-8695-D3CD7829E74D}" srcOrd="1" destOrd="0" presId="urn:microsoft.com/office/officeart/2005/8/layout/hierarchy1"/>
    <dgm:cxn modelId="{ECE6B4B6-52BB-41E6-AF8E-1345867FA663}" type="presParOf" srcId="{E0D01EEB-D060-42FD-AA25-B59FB420B038}" destId="{C2B912D2-6704-4D77-A44B-EF528F4473BA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6AD1C19E-4ED6-44D6-B99D-77C7DC8557F5}" type="doc">
      <dgm:prSet loTypeId="urn:microsoft.com/office/officeart/2005/8/layout/process4" loCatId="list" qsTypeId="urn:microsoft.com/office/officeart/2005/8/quickstyle/simple5" qsCatId="simple" csTypeId="urn:microsoft.com/office/officeart/2005/8/colors/accent1_2" csCatId="accent1" phldr="1"/>
      <dgm:spPr/>
      <dgm:t>
        <a:bodyPr/>
        <a:lstStyle/>
        <a:p>
          <a:pPr rtl="1"/>
          <a:endParaRPr lang="ar-SA"/>
        </a:p>
      </dgm:t>
    </dgm:pt>
    <dgm:pt modelId="{D0998EB7-80B3-4A78-A9D9-4381ECC2596A}">
      <dgm:prSet custT="1"/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pPr rtl="1"/>
          <a:r>
            <a:rPr lang="en-US" sz="2400" b="1" dirty="0" smtClean="0">
              <a:solidFill>
                <a:srgbClr val="C00000"/>
              </a:solidFill>
            </a:rPr>
            <a:t>filtration</a:t>
          </a:r>
          <a:r>
            <a:rPr lang="en-US" sz="2300" b="1" dirty="0" smtClean="0">
              <a:solidFill>
                <a:srgbClr val="C00000"/>
              </a:solidFill>
            </a:rPr>
            <a:t>.</a:t>
          </a:r>
          <a:endParaRPr lang="ar-SA" sz="2300" b="1" dirty="0">
            <a:solidFill>
              <a:srgbClr val="C00000"/>
            </a:solidFill>
          </a:endParaRPr>
        </a:p>
      </dgm:t>
    </dgm:pt>
    <dgm:pt modelId="{ED900644-9E5A-40B4-950A-C3507D525B7D}" type="parTrans" cxnId="{B810CB94-D147-4F18-85B5-89E6D6C6AF38}">
      <dgm:prSet/>
      <dgm:spPr/>
      <dgm:t>
        <a:bodyPr/>
        <a:lstStyle/>
        <a:p>
          <a:pPr rtl="1"/>
          <a:endParaRPr lang="ar-SA"/>
        </a:p>
      </dgm:t>
    </dgm:pt>
    <dgm:pt modelId="{484AF42F-EB6D-4EAE-B585-1F03F0572BEC}" type="sibTrans" cxnId="{B810CB94-D147-4F18-85B5-89E6D6C6AF38}">
      <dgm:prSet/>
      <dgm:spPr/>
      <dgm:t>
        <a:bodyPr/>
        <a:lstStyle/>
        <a:p>
          <a:pPr rtl="1"/>
          <a:endParaRPr lang="ar-SA"/>
        </a:p>
      </dgm:t>
    </dgm:pt>
    <dgm:pt modelId="{F0036EED-8765-47AE-B411-AEC85CD29F05}">
      <dgm:prSet/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pPr rtl="1"/>
          <a:r>
            <a:rPr lang="en-US" b="1" dirty="0" smtClean="0">
              <a:solidFill>
                <a:srgbClr val="C00000"/>
              </a:solidFill>
            </a:rPr>
            <a:t>edema</a:t>
          </a:r>
          <a:endParaRPr lang="ar-SA" b="1" dirty="0">
            <a:solidFill>
              <a:srgbClr val="C00000"/>
            </a:solidFill>
          </a:endParaRPr>
        </a:p>
      </dgm:t>
    </dgm:pt>
    <dgm:pt modelId="{C6D03AA2-9FEB-4200-9DB6-E14AA62BC415}" type="parTrans" cxnId="{82B1C54F-B7A1-44CF-BC8F-45E7DADED452}">
      <dgm:prSet/>
      <dgm:spPr/>
      <dgm:t>
        <a:bodyPr/>
        <a:lstStyle/>
        <a:p>
          <a:pPr rtl="1"/>
          <a:endParaRPr lang="ar-SA"/>
        </a:p>
      </dgm:t>
    </dgm:pt>
    <dgm:pt modelId="{7C11BAD0-85AE-4443-957B-C76DE80661B5}" type="sibTrans" cxnId="{82B1C54F-B7A1-44CF-BC8F-45E7DADED452}">
      <dgm:prSet/>
      <dgm:spPr/>
      <dgm:t>
        <a:bodyPr/>
        <a:lstStyle/>
        <a:p>
          <a:pPr rtl="1"/>
          <a:endParaRPr lang="ar-SA"/>
        </a:p>
      </dgm:t>
    </dgm:pt>
    <dgm:pt modelId="{1D8AC17D-D46F-4C9F-9C1D-02C166E07155}">
      <dgm:prSet/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r>
            <a:rPr lang="en-US" b="1" dirty="0" smtClean="0">
              <a:solidFill>
                <a:srgbClr val="C00000"/>
              </a:solidFill>
            </a:rPr>
            <a:t>capillary pressure</a:t>
          </a:r>
          <a:endParaRPr lang="en-US" b="1" dirty="0">
            <a:solidFill>
              <a:srgbClr val="C00000"/>
            </a:solidFill>
          </a:endParaRPr>
        </a:p>
      </dgm:t>
    </dgm:pt>
    <dgm:pt modelId="{28E02CB2-9AA6-429D-BE38-4389560D0168}" type="parTrans" cxnId="{1AA77C4A-D84B-4E7F-BD22-D3AAA145151B}">
      <dgm:prSet/>
      <dgm:spPr/>
      <dgm:t>
        <a:bodyPr/>
        <a:lstStyle/>
        <a:p>
          <a:endParaRPr lang="en-US"/>
        </a:p>
      </dgm:t>
    </dgm:pt>
    <dgm:pt modelId="{DB3EAD3C-1AFD-4B05-A260-72889A7C1FE9}" type="sibTrans" cxnId="{1AA77C4A-D84B-4E7F-BD22-D3AAA145151B}">
      <dgm:prSet/>
      <dgm:spPr/>
      <dgm:t>
        <a:bodyPr/>
        <a:lstStyle/>
        <a:p>
          <a:endParaRPr lang="en-US"/>
        </a:p>
      </dgm:t>
    </dgm:pt>
    <dgm:pt modelId="{F135172D-5EF9-4B37-8335-97EB7670ADF9}">
      <dgm:prSet custT="1"/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r>
            <a:rPr lang="en-US" sz="2800" b="1" dirty="0" smtClean="0">
              <a:solidFill>
                <a:srgbClr val="C00000"/>
              </a:solidFill>
            </a:rPr>
            <a:t>Heart failure</a:t>
          </a:r>
          <a:r>
            <a:rPr lang="en-US" sz="1900" dirty="0" smtClean="0">
              <a:solidFill>
                <a:schemeClr val="accent3">
                  <a:lumMod val="75000"/>
                </a:schemeClr>
              </a:solidFill>
            </a:rPr>
            <a:t>.</a:t>
          </a:r>
          <a:endParaRPr lang="en-US" sz="1900" dirty="0"/>
        </a:p>
      </dgm:t>
    </dgm:pt>
    <dgm:pt modelId="{4FFEE464-D35F-45E2-87CD-A683E04DE4A4}" type="sibTrans" cxnId="{4F29E404-8CD1-49BA-8655-3A91937F03FB}">
      <dgm:prSet/>
      <dgm:spPr/>
      <dgm:t>
        <a:bodyPr/>
        <a:lstStyle/>
        <a:p>
          <a:endParaRPr lang="en-US"/>
        </a:p>
      </dgm:t>
    </dgm:pt>
    <dgm:pt modelId="{8DF94A40-E03F-4D4D-9BE0-1A9F761BCA63}" type="parTrans" cxnId="{4F29E404-8CD1-49BA-8655-3A91937F03FB}">
      <dgm:prSet/>
      <dgm:spPr/>
      <dgm:t>
        <a:bodyPr/>
        <a:lstStyle/>
        <a:p>
          <a:endParaRPr lang="en-US"/>
        </a:p>
      </dgm:t>
    </dgm:pt>
    <dgm:pt modelId="{D413DE7F-6B0C-4DB8-A3EF-9ACECB11FE3B}" type="pres">
      <dgm:prSet presAssocID="{6AD1C19E-4ED6-44D6-B99D-77C7DC8557F5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pPr rtl="1"/>
          <a:endParaRPr lang="ar-SA"/>
        </a:p>
      </dgm:t>
    </dgm:pt>
    <dgm:pt modelId="{522A3F99-6E1D-4C7F-B71C-B4D9E1669EDD}" type="pres">
      <dgm:prSet presAssocID="{F0036EED-8765-47AE-B411-AEC85CD29F05}" presName="boxAndChildren" presStyleCnt="0"/>
      <dgm:spPr/>
      <dgm:t>
        <a:bodyPr/>
        <a:lstStyle/>
        <a:p>
          <a:endParaRPr lang="en-US"/>
        </a:p>
      </dgm:t>
    </dgm:pt>
    <dgm:pt modelId="{D06F8725-AD24-426C-A88C-A34CE208ED28}" type="pres">
      <dgm:prSet presAssocID="{F0036EED-8765-47AE-B411-AEC85CD29F05}" presName="parentTextBox" presStyleLbl="node1" presStyleIdx="0" presStyleCnt="4"/>
      <dgm:spPr/>
      <dgm:t>
        <a:bodyPr/>
        <a:lstStyle/>
        <a:p>
          <a:pPr rtl="1"/>
          <a:endParaRPr lang="ar-SA"/>
        </a:p>
      </dgm:t>
    </dgm:pt>
    <dgm:pt modelId="{B8D8B5D8-20D9-4856-902E-F548B810B7A0}" type="pres">
      <dgm:prSet presAssocID="{484AF42F-EB6D-4EAE-B585-1F03F0572BEC}" presName="sp" presStyleCnt="0"/>
      <dgm:spPr/>
      <dgm:t>
        <a:bodyPr/>
        <a:lstStyle/>
        <a:p>
          <a:endParaRPr lang="en-US"/>
        </a:p>
      </dgm:t>
    </dgm:pt>
    <dgm:pt modelId="{EE05D40C-5FBC-4B75-9738-7EECA6F762A9}" type="pres">
      <dgm:prSet presAssocID="{D0998EB7-80B3-4A78-A9D9-4381ECC2596A}" presName="arrowAndChildren" presStyleCnt="0"/>
      <dgm:spPr/>
      <dgm:t>
        <a:bodyPr/>
        <a:lstStyle/>
        <a:p>
          <a:endParaRPr lang="en-US"/>
        </a:p>
      </dgm:t>
    </dgm:pt>
    <dgm:pt modelId="{6F527CA3-93C7-447E-995B-DEAF78CB0353}" type="pres">
      <dgm:prSet presAssocID="{D0998EB7-80B3-4A78-A9D9-4381ECC2596A}" presName="parentTextArrow" presStyleLbl="node1" presStyleIdx="1" presStyleCnt="4"/>
      <dgm:spPr/>
      <dgm:t>
        <a:bodyPr/>
        <a:lstStyle/>
        <a:p>
          <a:pPr rtl="1"/>
          <a:endParaRPr lang="ar-SA"/>
        </a:p>
      </dgm:t>
    </dgm:pt>
    <dgm:pt modelId="{3104DDBD-C2AF-4147-85C4-111EE76C1BD7}" type="pres">
      <dgm:prSet presAssocID="{DB3EAD3C-1AFD-4B05-A260-72889A7C1FE9}" presName="sp" presStyleCnt="0"/>
      <dgm:spPr/>
    </dgm:pt>
    <dgm:pt modelId="{4FFF4ED3-B45A-4A4D-8F63-13FAEDA10739}" type="pres">
      <dgm:prSet presAssocID="{1D8AC17D-D46F-4C9F-9C1D-02C166E07155}" presName="arrowAndChildren" presStyleCnt="0"/>
      <dgm:spPr/>
    </dgm:pt>
    <dgm:pt modelId="{69F12ED5-25A4-4B82-973F-68F15149ACE2}" type="pres">
      <dgm:prSet presAssocID="{1D8AC17D-D46F-4C9F-9C1D-02C166E07155}" presName="parentTextArrow" presStyleLbl="node1" presStyleIdx="2" presStyleCnt="4" custLinFactNeighborX="-8359" custLinFactNeighborY="4226"/>
      <dgm:spPr/>
      <dgm:t>
        <a:bodyPr/>
        <a:lstStyle/>
        <a:p>
          <a:endParaRPr lang="en-US"/>
        </a:p>
      </dgm:t>
    </dgm:pt>
    <dgm:pt modelId="{2C9EDE95-252E-44FD-893D-76F1329EA117}" type="pres">
      <dgm:prSet presAssocID="{4FFEE464-D35F-45E2-87CD-A683E04DE4A4}" presName="sp" presStyleCnt="0"/>
      <dgm:spPr/>
    </dgm:pt>
    <dgm:pt modelId="{74883F86-2637-45D8-BF3D-9FD1B8D989B3}" type="pres">
      <dgm:prSet presAssocID="{F135172D-5EF9-4B37-8335-97EB7670ADF9}" presName="arrowAndChildren" presStyleCnt="0"/>
      <dgm:spPr/>
    </dgm:pt>
    <dgm:pt modelId="{A3DAA4D2-1F64-448A-91F9-753D6226279E}" type="pres">
      <dgm:prSet presAssocID="{F135172D-5EF9-4B37-8335-97EB7670ADF9}" presName="parentTextArrow" presStyleLbl="node1" presStyleIdx="3" presStyleCnt="4"/>
      <dgm:spPr/>
      <dgm:t>
        <a:bodyPr/>
        <a:lstStyle/>
        <a:p>
          <a:endParaRPr lang="en-US"/>
        </a:p>
      </dgm:t>
    </dgm:pt>
  </dgm:ptLst>
  <dgm:cxnLst>
    <dgm:cxn modelId="{12E1074B-D219-4DE8-A542-58ADDA8B7F33}" type="presOf" srcId="{1D8AC17D-D46F-4C9F-9C1D-02C166E07155}" destId="{69F12ED5-25A4-4B82-973F-68F15149ACE2}" srcOrd="0" destOrd="0" presId="urn:microsoft.com/office/officeart/2005/8/layout/process4"/>
    <dgm:cxn modelId="{36DC3558-8E49-4C45-8212-D2CDC423F1B0}" type="presOf" srcId="{F0036EED-8765-47AE-B411-AEC85CD29F05}" destId="{D06F8725-AD24-426C-A88C-A34CE208ED28}" srcOrd="0" destOrd="0" presId="urn:microsoft.com/office/officeart/2005/8/layout/process4"/>
    <dgm:cxn modelId="{0257F5A8-C1E8-49FB-9330-A98E4A672E40}" type="presOf" srcId="{D0998EB7-80B3-4A78-A9D9-4381ECC2596A}" destId="{6F527CA3-93C7-447E-995B-DEAF78CB0353}" srcOrd="0" destOrd="0" presId="urn:microsoft.com/office/officeart/2005/8/layout/process4"/>
    <dgm:cxn modelId="{B810CB94-D147-4F18-85B5-89E6D6C6AF38}" srcId="{6AD1C19E-4ED6-44D6-B99D-77C7DC8557F5}" destId="{D0998EB7-80B3-4A78-A9D9-4381ECC2596A}" srcOrd="2" destOrd="0" parTransId="{ED900644-9E5A-40B4-950A-C3507D525B7D}" sibTransId="{484AF42F-EB6D-4EAE-B585-1F03F0572BEC}"/>
    <dgm:cxn modelId="{4F29E404-8CD1-49BA-8655-3A91937F03FB}" srcId="{6AD1C19E-4ED6-44D6-B99D-77C7DC8557F5}" destId="{F135172D-5EF9-4B37-8335-97EB7670ADF9}" srcOrd="0" destOrd="0" parTransId="{8DF94A40-E03F-4D4D-9BE0-1A9F761BCA63}" sibTransId="{4FFEE464-D35F-45E2-87CD-A683E04DE4A4}"/>
    <dgm:cxn modelId="{1AA77C4A-D84B-4E7F-BD22-D3AAA145151B}" srcId="{6AD1C19E-4ED6-44D6-B99D-77C7DC8557F5}" destId="{1D8AC17D-D46F-4C9F-9C1D-02C166E07155}" srcOrd="1" destOrd="0" parTransId="{28E02CB2-9AA6-429D-BE38-4389560D0168}" sibTransId="{DB3EAD3C-1AFD-4B05-A260-72889A7C1FE9}"/>
    <dgm:cxn modelId="{26423F1B-454C-4852-84A5-EED90111D93F}" type="presOf" srcId="{F135172D-5EF9-4B37-8335-97EB7670ADF9}" destId="{A3DAA4D2-1F64-448A-91F9-753D6226279E}" srcOrd="0" destOrd="0" presId="urn:microsoft.com/office/officeart/2005/8/layout/process4"/>
    <dgm:cxn modelId="{E262E947-C368-4D71-8B1F-346371F4D782}" type="presOf" srcId="{6AD1C19E-4ED6-44D6-B99D-77C7DC8557F5}" destId="{D413DE7F-6B0C-4DB8-A3EF-9ACECB11FE3B}" srcOrd="0" destOrd="0" presId="urn:microsoft.com/office/officeart/2005/8/layout/process4"/>
    <dgm:cxn modelId="{82B1C54F-B7A1-44CF-BC8F-45E7DADED452}" srcId="{6AD1C19E-4ED6-44D6-B99D-77C7DC8557F5}" destId="{F0036EED-8765-47AE-B411-AEC85CD29F05}" srcOrd="3" destOrd="0" parTransId="{C6D03AA2-9FEB-4200-9DB6-E14AA62BC415}" sibTransId="{7C11BAD0-85AE-4443-957B-C76DE80661B5}"/>
    <dgm:cxn modelId="{18E3EE43-1479-4B65-B71C-BB21C9921E18}" type="presParOf" srcId="{D413DE7F-6B0C-4DB8-A3EF-9ACECB11FE3B}" destId="{522A3F99-6E1D-4C7F-B71C-B4D9E1669EDD}" srcOrd="0" destOrd="0" presId="urn:microsoft.com/office/officeart/2005/8/layout/process4"/>
    <dgm:cxn modelId="{A43BBC51-84F0-47A8-BDBE-CCE4898F1C82}" type="presParOf" srcId="{522A3F99-6E1D-4C7F-B71C-B4D9E1669EDD}" destId="{D06F8725-AD24-426C-A88C-A34CE208ED28}" srcOrd="0" destOrd="0" presId="urn:microsoft.com/office/officeart/2005/8/layout/process4"/>
    <dgm:cxn modelId="{FDFBE19F-4B35-4BAB-B7D2-EA8196CA2B64}" type="presParOf" srcId="{D413DE7F-6B0C-4DB8-A3EF-9ACECB11FE3B}" destId="{B8D8B5D8-20D9-4856-902E-F548B810B7A0}" srcOrd="1" destOrd="0" presId="urn:microsoft.com/office/officeart/2005/8/layout/process4"/>
    <dgm:cxn modelId="{0C0505BB-50CC-42EA-838B-D45402BCF025}" type="presParOf" srcId="{D413DE7F-6B0C-4DB8-A3EF-9ACECB11FE3B}" destId="{EE05D40C-5FBC-4B75-9738-7EECA6F762A9}" srcOrd="2" destOrd="0" presId="urn:microsoft.com/office/officeart/2005/8/layout/process4"/>
    <dgm:cxn modelId="{B1B46194-C6C5-48B1-A66B-47CC39C60AA9}" type="presParOf" srcId="{EE05D40C-5FBC-4B75-9738-7EECA6F762A9}" destId="{6F527CA3-93C7-447E-995B-DEAF78CB0353}" srcOrd="0" destOrd="0" presId="urn:microsoft.com/office/officeart/2005/8/layout/process4"/>
    <dgm:cxn modelId="{C875CC23-D2F6-45A7-A250-EF2629163459}" type="presParOf" srcId="{D413DE7F-6B0C-4DB8-A3EF-9ACECB11FE3B}" destId="{3104DDBD-C2AF-4147-85C4-111EE76C1BD7}" srcOrd="3" destOrd="0" presId="urn:microsoft.com/office/officeart/2005/8/layout/process4"/>
    <dgm:cxn modelId="{98577828-8778-445D-9888-EFD6E5C2711A}" type="presParOf" srcId="{D413DE7F-6B0C-4DB8-A3EF-9ACECB11FE3B}" destId="{4FFF4ED3-B45A-4A4D-8F63-13FAEDA10739}" srcOrd="4" destOrd="0" presId="urn:microsoft.com/office/officeart/2005/8/layout/process4"/>
    <dgm:cxn modelId="{C7949CB8-BAFB-447D-8A04-4640136E39D0}" type="presParOf" srcId="{4FFF4ED3-B45A-4A4D-8F63-13FAEDA10739}" destId="{69F12ED5-25A4-4B82-973F-68F15149ACE2}" srcOrd="0" destOrd="0" presId="urn:microsoft.com/office/officeart/2005/8/layout/process4"/>
    <dgm:cxn modelId="{5858F20F-98C4-4683-8B93-D875E750A2E5}" type="presParOf" srcId="{D413DE7F-6B0C-4DB8-A3EF-9ACECB11FE3B}" destId="{2C9EDE95-252E-44FD-893D-76F1329EA117}" srcOrd="5" destOrd="0" presId="urn:microsoft.com/office/officeart/2005/8/layout/process4"/>
    <dgm:cxn modelId="{0BE7DCAB-71AE-4182-89A2-2508D322C609}" type="presParOf" srcId="{D413DE7F-6B0C-4DB8-A3EF-9ACECB11FE3B}" destId="{74883F86-2637-45D8-BF3D-9FD1B8D989B3}" srcOrd="6" destOrd="0" presId="urn:microsoft.com/office/officeart/2005/8/layout/process4"/>
    <dgm:cxn modelId="{3A0D52B1-D882-4190-9D1C-42FC30CB4E5A}" type="presParOf" srcId="{74883F86-2637-45D8-BF3D-9FD1B8D989B3}" destId="{A3DAA4D2-1F64-448A-91F9-753D6226279E}" srcOrd="0" destOrd="0" presId="urn:microsoft.com/office/officeart/2005/8/layout/process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6AD1C19E-4ED6-44D6-B99D-77C7DC8557F5}" type="doc">
      <dgm:prSet loTypeId="urn:microsoft.com/office/officeart/2005/8/layout/process4" loCatId="list" qsTypeId="urn:microsoft.com/office/officeart/2005/8/quickstyle/simple5" qsCatId="simple" csTypeId="urn:microsoft.com/office/officeart/2005/8/colors/accent1_2" csCatId="accent1" phldr="1"/>
      <dgm:spPr/>
      <dgm:t>
        <a:bodyPr/>
        <a:lstStyle/>
        <a:p>
          <a:pPr rtl="1"/>
          <a:endParaRPr lang="ar-SA"/>
        </a:p>
      </dgm:t>
    </dgm:pt>
    <dgm:pt modelId="{411B5F31-E468-46D9-9523-308ED68F8A7F}">
      <dgm:prSet custT="1"/>
      <dgm:spPr>
        <a:solidFill>
          <a:srgbClr val="00B0F0"/>
        </a:solidFill>
      </dgm:spPr>
      <dgm:t>
        <a:bodyPr/>
        <a:lstStyle/>
        <a:p>
          <a:pPr rtl="0"/>
          <a:r>
            <a:rPr lang="en-US" sz="3200" b="1" dirty="0" smtClean="0">
              <a:solidFill>
                <a:srgbClr val="C00000"/>
              </a:solidFill>
            </a:rPr>
            <a:t>inflammation of tissues.</a:t>
          </a:r>
        </a:p>
      </dgm:t>
    </dgm:pt>
    <dgm:pt modelId="{753E2B6F-C5FF-4F03-A5FB-D9586B46DEC2}" type="parTrans" cxnId="{EE8A20D5-5A1C-41CF-A2DA-8D74034644D2}">
      <dgm:prSet/>
      <dgm:spPr/>
      <dgm:t>
        <a:bodyPr/>
        <a:lstStyle/>
        <a:p>
          <a:pPr rtl="1"/>
          <a:endParaRPr lang="ar-SA" sz="3200"/>
        </a:p>
      </dgm:t>
    </dgm:pt>
    <dgm:pt modelId="{066F35D3-1835-405F-8934-7AE8B6A0A312}" type="sibTrans" cxnId="{EE8A20D5-5A1C-41CF-A2DA-8D74034644D2}">
      <dgm:prSet/>
      <dgm:spPr/>
      <dgm:t>
        <a:bodyPr/>
        <a:lstStyle/>
        <a:p>
          <a:pPr rtl="1"/>
          <a:endParaRPr lang="ar-SA" sz="3200"/>
        </a:p>
      </dgm:t>
    </dgm:pt>
    <dgm:pt modelId="{90226686-5000-4627-B708-2BA0C69EF76B}">
      <dgm:prSet custT="1"/>
      <dgm:spPr>
        <a:solidFill>
          <a:srgbClr val="00B0F0"/>
        </a:solidFill>
        <a:ln>
          <a:solidFill>
            <a:srgbClr val="00B0F0"/>
          </a:solidFill>
        </a:ln>
      </dgm:spPr>
      <dgm:t>
        <a:bodyPr/>
        <a:lstStyle/>
        <a:p>
          <a:pPr rtl="0"/>
          <a:r>
            <a:rPr lang="en-US" sz="3200" b="1" dirty="0" smtClean="0">
              <a:solidFill>
                <a:srgbClr val="C00000"/>
              </a:solidFill>
            </a:rPr>
            <a:t>membrane permeability. </a:t>
          </a:r>
          <a:endParaRPr lang="ar-SA" sz="3200" b="1" dirty="0">
            <a:solidFill>
              <a:srgbClr val="C00000"/>
            </a:solidFill>
          </a:endParaRPr>
        </a:p>
      </dgm:t>
    </dgm:pt>
    <dgm:pt modelId="{FBBB60F0-F7D4-4FE7-9161-47F5AB346F55}" type="parTrans" cxnId="{FE7180CB-C22E-4C31-96D6-0A133DE01D35}">
      <dgm:prSet/>
      <dgm:spPr/>
      <dgm:t>
        <a:bodyPr/>
        <a:lstStyle/>
        <a:p>
          <a:pPr rtl="1"/>
          <a:endParaRPr lang="ar-SA" sz="3200"/>
        </a:p>
      </dgm:t>
    </dgm:pt>
    <dgm:pt modelId="{0F43EAD7-6188-4669-A768-D32EF32A937D}" type="sibTrans" cxnId="{FE7180CB-C22E-4C31-96D6-0A133DE01D35}">
      <dgm:prSet/>
      <dgm:spPr/>
      <dgm:t>
        <a:bodyPr/>
        <a:lstStyle/>
        <a:p>
          <a:pPr rtl="1"/>
          <a:endParaRPr lang="ar-SA" sz="3200"/>
        </a:p>
      </dgm:t>
    </dgm:pt>
    <dgm:pt modelId="{D0998EB7-80B3-4A78-A9D9-4381ECC2596A}">
      <dgm:prSet custT="1"/>
      <dgm:spPr>
        <a:solidFill>
          <a:srgbClr val="00B0F0"/>
        </a:solidFill>
      </dgm:spPr>
      <dgm:t>
        <a:bodyPr/>
        <a:lstStyle/>
        <a:p>
          <a:pPr rtl="1"/>
          <a:r>
            <a:rPr lang="en-US" sz="3200" b="1" dirty="0" smtClean="0">
              <a:solidFill>
                <a:srgbClr val="C00000"/>
              </a:solidFill>
            </a:rPr>
            <a:t>Na inside cells.</a:t>
          </a:r>
          <a:endParaRPr lang="ar-SA" sz="3200" b="1" dirty="0">
            <a:solidFill>
              <a:srgbClr val="C00000"/>
            </a:solidFill>
          </a:endParaRPr>
        </a:p>
      </dgm:t>
    </dgm:pt>
    <dgm:pt modelId="{ED900644-9E5A-40B4-950A-C3507D525B7D}" type="parTrans" cxnId="{B810CB94-D147-4F18-85B5-89E6D6C6AF38}">
      <dgm:prSet/>
      <dgm:spPr/>
      <dgm:t>
        <a:bodyPr/>
        <a:lstStyle/>
        <a:p>
          <a:pPr rtl="1"/>
          <a:endParaRPr lang="ar-SA" sz="3200"/>
        </a:p>
      </dgm:t>
    </dgm:pt>
    <dgm:pt modelId="{484AF42F-EB6D-4EAE-B585-1F03F0572BEC}" type="sibTrans" cxnId="{B810CB94-D147-4F18-85B5-89E6D6C6AF38}">
      <dgm:prSet/>
      <dgm:spPr/>
      <dgm:t>
        <a:bodyPr/>
        <a:lstStyle/>
        <a:p>
          <a:pPr rtl="1"/>
          <a:endParaRPr lang="ar-SA" sz="3200"/>
        </a:p>
      </dgm:t>
    </dgm:pt>
    <dgm:pt modelId="{29279143-375F-463F-ADEC-BDD464B5F34D}">
      <dgm:prSet custT="1"/>
      <dgm:spPr>
        <a:solidFill>
          <a:srgbClr val="00B0F0"/>
        </a:solidFill>
      </dgm:spPr>
      <dgm:t>
        <a:bodyPr/>
        <a:lstStyle/>
        <a:p>
          <a:pPr rtl="1"/>
          <a:r>
            <a:rPr lang="en-US" sz="3200" b="1" dirty="0" smtClean="0">
              <a:solidFill>
                <a:srgbClr val="C00000"/>
              </a:solidFill>
            </a:rPr>
            <a:t>water</a:t>
          </a:r>
          <a:endParaRPr lang="ar-SA" sz="3200" b="1" dirty="0">
            <a:solidFill>
              <a:srgbClr val="C00000"/>
            </a:solidFill>
          </a:endParaRPr>
        </a:p>
      </dgm:t>
    </dgm:pt>
    <dgm:pt modelId="{076AA41F-7118-4C26-BA07-6E57F3296AD9}" type="parTrans" cxnId="{C1A4F17C-9742-4077-8DE2-F9F0129B2390}">
      <dgm:prSet/>
      <dgm:spPr/>
      <dgm:t>
        <a:bodyPr/>
        <a:lstStyle/>
        <a:p>
          <a:pPr rtl="1"/>
          <a:endParaRPr lang="ar-SA" sz="3200"/>
        </a:p>
      </dgm:t>
    </dgm:pt>
    <dgm:pt modelId="{A0F2E208-8295-404D-B80E-21C2C9252069}" type="sibTrans" cxnId="{C1A4F17C-9742-4077-8DE2-F9F0129B2390}">
      <dgm:prSet/>
      <dgm:spPr/>
      <dgm:t>
        <a:bodyPr/>
        <a:lstStyle/>
        <a:p>
          <a:pPr rtl="1"/>
          <a:endParaRPr lang="ar-SA" sz="3200"/>
        </a:p>
      </dgm:t>
    </dgm:pt>
    <dgm:pt modelId="{F0036EED-8765-47AE-B411-AEC85CD29F05}">
      <dgm:prSet custT="1"/>
      <dgm:spPr>
        <a:solidFill>
          <a:srgbClr val="00B0F0"/>
        </a:solidFill>
      </dgm:spPr>
      <dgm:t>
        <a:bodyPr/>
        <a:lstStyle/>
        <a:p>
          <a:pPr rtl="1"/>
          <a:r>
            <a:rPr lang="en-US" sz="3200" b="1" dirty="0" smtClean="0">
              <a:solidFill>
                <a:srgbClr val="C00000"/>
              </a:solidFill>
            </a:rPr>
            <a:t>edema</a:t>
          </a:r>
          <a:endParaRPr lang="ar-SA" sz="3200" b="1" dirty="0">
            <a:solidFill>
              <a:srgbClr val="C00000"/>
            </a:solidFill>
          </a:endParaRPr>
        </a:p>
      </dgm:t>
    </dgm:pt>
    <dgm:pt modelId="{C6D03AA2-9FEB-4200-9DB6-E14AA62BC415}" type="parTrans" cxnId="{82B1C54F-B7A1-44CF-BC8F-45E7DADED452}">
      <dgm:prSet/>
      <dgm:spPr/>
      <dgm:t>
        <a:bodyPr/>
        <a:lstStyle/>
        <a:p>
          <a:pPr rtl="1"/>
          <a:endParaRPr lang="ar-SA" sz="3200"/>
        </a:p>
      </dgm:t>
    </dgm:pt>
    <dgm:pt modelId="{7C11BAD0-85AE-4443-957B-C76DE80661B5}" type="sibTrans" cxnId="{82B1C54F-B7A1-44CF-BC8F-45E7DADED452}">
      <dgm:prSet/>
      <dgm:spPr/>
      <dgm:t>
        <a:bodyPr/>
        <a:lstStyle/>
        <a:p>
          <a:pPr rtl="1"/>
          <a:endParaRPr lang="ar-SA" sz="3200"/>
        </a:p>
      </dgm:t>
    </dgm:pt>
    <dgm:pt modelId="{D413DE7F-6B0C-4DB8-A3EF-9ACECB11FE3B}" type="pres">
      <dgm:prSet presAssocID="{6AD1C19E-4ED6-44D6-B99D-77C7DC8557F5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pPr rtl="1"/>
          <a:endParaRPr lang="ar-SA"/>
        </a:p>
      </dgm:t>
    </dgm:pt>
    <dgm:pt modelId="{522A3F99-6E1D-4C7F-B71C-B4D9E1669EDD}" type="pres">
      <dgm:prSet presAssocID="{F0036EED-8765-47AE-B411-AEC85CD29F05}" presName="boxAndChildren" presStyleCnt="0"/>
      <dgm:spPr/>
      <dgm:t>
        <a:bodyPr/>
        <a:lstStyle/>
        <a:p>
          <a:endParaRPr lang="en-US"/>
        </a:p>
      </dgm:t>
    </dgm:pt>
    <dgm:pt modelId="{D06F8725-AD24-426C-A88C-A34CE208ED28}" type="pres">
      <dgm:prSet presAssocID="{F0036EED-8765-47AE-B411-AEC85CD29F05}" presName="parentTextBox" presStyleLbl="node1" presStyleIdx="0" presStyleCnt="5"/>
      <dgm:spPr/>
      <dgm:t>
        <a:bodyPr/>
        <a:lstStyle/>
        <a:p>
          <a:pPr rtl="1"/>
          <a:endParaRPr lang="ar-SA"/>
        </a:p>
      </dgm:t>
    </dgm:pt>
    <dgm:pt modelId="{AE824276-D672-4182-B03F-B9287C94DE6D}" type="pres">
      <dgm:prSet presAssocID="{A0F2E208-8295-404D-B80E-21C2C9252069}" presName="sp" presStyleCnt="0"/>
      <dgm:spPr/>
      <dgm:t>
        <a:bodyPr/>
        <a:lstStyle/>
        <a:p>
          <a:endParaRPr lang="en-US"/>
        </a:p>
      </dgm:t>
    </dgm:pt>
    <dgm:pt modelId="{692FAD59-BDC5-4382-992B-13A8B268220B}" type="pres">
      <dgm:prSet presAssocID="{29279143-375F-463F-ADEC-BDD464B5F34D}" presName="arrowAndChildren" presStyleCnt="0"/>
      <dgm:spPr/>
      <dgm:t>
        <a:bodyPr/>
        <a:lstStyle/>
        <a:p>
          <a:endParaRPr lang="en-US"/>
        </a:p>
      </dgm:t>
    </dgm:pt>
    <dgm:pt modelId="{76D400B7-F54A-4EBA-B1E6-331871BFD112}" type="pres">
      <dgm:prSet presAssocID="{29279143-375F-463F-ADEC-BDD464B5F34D}" presName="parentTextArrow" presStyleLbl="node1" presStyleIdx="1" presStyleCnt="5" custLinFactNeighborY="982"/>
      <dgm:spPr/>
      <dgm:t>
        <a:bodyPr/>
        <a:lstStyle/>
        <a:p>
          <a:pPr rtl="1"/>
          <a:endParaRPr lang="ar-SA"/>
        </a:p>
      </dgm:t>
    </dgm:pt>
    <dgm:pt modelId="{B8D8B5D8-20D9-4856-902E-F548B810B7A0}" type="pres">
      <dgm:prSet presAssocID="{484AF42F-EB6D-4EAE-B585-1F03F0572BEC}" presName="sp" presStyleCnt="0"/>
      <dgm:spPr/>
      <dgm:t>
        <a:bodyPr/>
        <a:lstStyle/>
        <a:p>
          <a:endParaRPr lang="en-US"/>
        </a:p>
      </dgm:t>
    </dgm:pt>
    <dgm:pt modelId="{EE05D40C-5FBC-4B75-9738-7EECA6F762A9}" type="pres">
      <dgm:prSet presAssocID="{D0998EB7-80B3-4A78-A9D9-4381ECC2596A}" presName="arrowAndChildren" presStyleCnt="0"/>
      <dgm:spPr/>
      <dgm:t>
        <a:bodyPr/>
        <a:lstStyle/>
        <a:p>
          <a:endParaRPr lang="en-US"/>
        </a:p>
      </dgm:t>
    </dgm:pt>
    <dgm:pt modelId="{6F527CA3-93C7-447E-995B-DEAF78CB0353}" type="pres">
      <dgm:prSet presAssocID="{D0998EB7-80B3-4A78-A9D9-4381ECC2596A}" presName="parentTextArrow" presStyleLbl="node1" presStyleIdx="2" presStyleCnt="5"/>
      <dgm:spPr/>
      <dgm:t>
        <a:bodyPr/>
        <a:lstStyle/>
        <a:p>
          <a:pPr rtl="1"/>
          <a:endParaRPr lang="ar-SA"/>
        </a:p>
      </dgm:t>
    </dgm:pt>
    <dgm:pt modelId="{DD06F7E1-7544-41E2-A428-9FCE51CA4F97}" type="pres">
      <dgm:prSet presAssocID="{0F43EAD7-6188-4669-A768-D32EF32A937D}" presName="sp" presStyleCnt="0"/>
      <dgm:spPr/>
      <dgm:t>
        <a:bodyPr/>
        <a:lstStyle/>
        <a:p>
          <a:endParaRPr lang="en-US"/>
        </a:p>
      </dgm:t>
    </dgm:pt>
    <dgm:pt modelId="{E546F1D8-701F-4CDF-9941-EED73548A366}" type="pres">
      <dgm:prSet presAssocID="{90226686-5000-4627-B708-2BA0C69EF76B}" presName="arrowAndChildren" presStyleCnt="0"/>
      <dgm:spPr/>
      <dgm:t>
        <a:bodyPr/>
        <a:lstStyle/>
        <a:p>
          <a:endParaRPr lang="en-US"/>
        </a:p>
      </dgm:t>
    </dgm:pt>
    <dgm:pt modelId="{072F9DF9-7306-4AE3-BC46-E1563EC9BAC5}" type="pres">
      <dgm:prSet presAssocID="{90226686-5000-4627-B708-2BA0C69EF76B}" presName="parentTextArrow" presStyleLbl="node1" presStyleIdx="3" presStyleCnt="5" custLinFactNeighborX="391" custLinFactNeighborY="3091"/>
      <dgm:spPr/>
      <dgm:t>
        <a:bodyPr/>
        <a:lstStyle/>
        <a:p>
          <a:pPr rtl="1"/>
          <a:endParaRPr lang="ar-SA"/>
        </a:p>
      </dgm:t>
    </dgm:pt>
    <dgm:pt modelId="{8914C780-F6C4-4ABE-BBEA-B8FD41FE00EA}" type="pres">
      <dgm:prSet presAssocID="{066F35D3-1835-405F-8934-7AE8B6A0A312}" presName="sp" presStyleCnt="0"/>
      <dgm:spPr/>
      <dgm:t>
        <a:bodyPr/>
        <a:lstStyle/>
        <a:p>
          <a:endParaRPr lang="en-US"/>
        </a:p>
      </dgm:t>
    </dgm:pt>
    <dgm:pt modelId="{CC431BFE-059F-42BE-96D7-7094EB254C4F}" type="pres">
      <dgm:prSet presAssocID="{411B5F31-E468-46D9-9523-308ED68F8A7F}" presName="arrowAndChildren" presStyleCnt="0"/>
      <dgm:spPr/>
      <dgm:t>
        <a:bodyPr/>
        <a:lstStyle/>
        <a:p>
          <a:endParaRPr lang="en-US"/>
        </a:p>
      </dgm:t>
    </dgm:pt>
    <dgm:pt modelId="{0A22112A-4870-471D-B460-4BE28B6A68F4}" type="pres">
      <dgm:prSet presAssocID="{411B5F31-E468-46D9-9523-308ED68F8A7F}" presName="parentTextArrow" presStyleLbl="node1" presStyleIdx="4" presStyleCnt="5"/>
      <dgm:spPr/>
      <dgm:t>
        <a:bodyPr/>
        <a:lstStyle/>
        <a:p>
          <a:pPr rtl="1"/>
          <a:endParaRPr lang="ar-SA"/>
        </a:p>
      </dgm:t>
    </dgm:pt>
  </dgm:ptLst>
  <dgm:cxnLst>
    <dgm:cxn modelId="{C1A4F17C-9742-4077-8DE2-F9F0129B2390}" srcId="{6AD1C19E-4ED6-44D6-B99D-77C7DC8557F5}" destId="{29279143-375F-463F-ADEC-BDD464B5F34D}" srcOrd="3" destOrd="0" parTransId="{076AA41F-7118-4C26-BA07-6E57F3296AD9}" sibTransId="{A0F2E208-8295-404D-B80E-21C2C9252069}"/>
    <dgm:cxn modelId="{EE8A20D5-5A1C-41CF-A2DA-8D74034644D2}" srcId="{6AD1C19E-4ED6-44D6-B99D-77C7DC8557F5}" destId="{411B5F31-E468-46D9-9523-308ED68F8A7F}" srcOrd="0" destOrd="0" parTransId="{753E2B6F-C5FF-4F03-A5FB-D9586B46DEC2}" sibTransId="{066F35D3-1835-405F-8934-7AE8B6A0A312}"/>
    <dgm:cxn modelId="{FE7180CB-C22E-4C31-96D6-0A133DE01D35}" srcId="{6AD1C19E-4ED6-44D6-B99D-77C7DC8557F5}" destId="{90226686-5000-4627-B708-2BA0C69EF76B}" srcOrd="1" destOrd="0" parTransId="{FBBB60F0-F7D4-4FE7-9161-47F5AB346F55}" sibTransId="{0F43EAD7-6188-4669-A768-D32EF32A937D}"/>
    <dgm:cxn modelId="{49AF0AFC-7B23-4344-A5E9-B996B798321F}" type="presOf" srcId="{29279143-375F-463F-ADEC-BDD464B5F34D}" destId="{76D400B7-F54A-4EBA-B1E6-331871BFD112}" srcOrd="0" destOrd="0" presId="urn:microsoft.com/office/officeart/2005/8/layout/process4"/>
    <dgm:cxn modelId="{B810CB94-D147-4F18-85B5-89E6D6C6AF38}" srcId="{6AD1C19E-4ED6-44D6-B99D-77C7DC8557F5}" destId="{D0998EB7-80B3-4A78-A9D9-4381ECC2596A}" srcOrd="2" destOrd="0" parTransId="{ED900644-9E5A-40B4-950A-C3507D525B7D}" sibTransId="{484AF42F-EB6D-4EAE-B585-1F03F0572BEC}"/>
    <dgm:cxn modelId="{E44E9715-95D8-45FD-9ADE-9244711207D2}" type="presOf" srcId="{D0998EB7-80B3-4A78-A9D9-4381ECC2596A}" destId="{6F527CA3-93C7-447E-995B-DEAF78CB0353}" srcOrd="0" destOrd="0" presId="urn:microsoft.com/office/officeart/2005/8/layout/process4"/>
    <dgm:cxn modelId="{DD1FBD91-E5DD-404D-8DEF-FCDB9DCA0FE4}" type="presOf" srcId="{90226686-5000-4627-B708-2BA0C69EF76B}" destId="{072F9DF9-7306-4AE3-BC46-E1563EC9BAC5}" srcOrd="0" destOrd="0" presId="urn:microsoft.com/office/officeart/2005/8/layout/process4"/>
    <dgm:cxn modelId="{C9D29488-671B-4533-9C00-046FB7625316}" type="presOf" srcId="{6AD1C19E-4ED6-44D6-B99D-77C7DC8557F5}" destId="{D413DE7F-6B0C-4DB8-A3EF-9ACECB11FE3B}" srcOrd="0" destOrd="0" presId="urn:microsoft.com/office/officeart/2005/8/layout/process4"/>
    <dgm:cxn modelId="{CA0A5DC5-6DBE-4B40-A336-958E66A28D83}" type="presOf" srcId="{F0036EED-8765-47AE-B411-AEC85CD29F05}" destId="{D06F8725-AD24-426C-A88C-A34CE208ED28}" srcOrd="0" destOrd="0" presId="urn:microsoft.com/office/officeart/2005/8/layout/process4"/>
    <dgm:cxn modelId="{82B1C54F-B7A1-44CF-BC8F-45E7DADED452}" srcId="{6AD1C19E-4ED6-44D6-B99D-77C7DC8557F5}" destId="{F0036EED-8765-47AE-B411-AEC85CD29F05}" srcOrd="4" destOrd="0" parTransId="{C6D03AA2-9FEB-4200-9DB6-E14AA62BC415}" sibTransId="{7C11BAD0-85AE-4443-957B-C76DE80661B5}"/>
    <dgm:cxn modelId="{3F8E7DE4-B001-402D-9437-2F878705D283}" type="presOf" srcId="{411B5F31-E468-46D9-9523-308ED68F8A7F}" destId="{0A22112A-4870-471D-B460-4BE28B6A68F4}" srcOrd="0" destOrd="0" presId="urn:microsoft.com/office/officeart/2005/8/layout/process4"/>
    <dgm:cxn modelId="{805362B3-7948-48F5-97BD-284528DE65F5}" type="presParOf" srcId="{D413DE7F-6B0C-4DB8-A3EF-9ACECB11FE3B}" destId="{522A3F99-6E1D-4C7F-B71C-B4D9E1669EDD}" srcOrd="0" destOrd="0" presId="urn:microsoft.com/office/officeart/2005/8/layout/process4"/>
    <dgm:cxn modelId="{6C70A8C3-6C24-47D5-A138-C073C6693464}" type="presParOf" srcId="{522A3F99-6E1D-4C7F-B71C-B4D9E1669EDD}" destId="{D06F8725-AD24-426C-A88C-A34CE208ED28}" srcOrd="0" destOrd="0" presId="urn:microsoft.com/office/officeart/2005/8/layout/process4"/>
    <dgm:cxn modelId="{CD9953F2-7FD1-4BD7-9F08-966F04F008C6}" type="presParOf" srcId="{D413DE7F-6B0C-4DB8-A3EF-9ACECB11FE3B}" destId="{AE824276-D672-4182-B03F-B9287C94DE6D}" srcOrd="1" destOrd="0" presId="urn:microsoft.com/office/officeart/2005/8/layout/process4"/>
    <dgm:cxn modelId="{9D382CFF-9D35-4DDE-85BA-809061CE67A3}" type="presParOf" srcId="{D413DE7F-6B0C-4DB8-A3EF-9ACECB11FE3B}" destId="{692FAD59-BDC5-4382-992B-13A8B268220B}" srcOrd="2" destOrd="0" presId="urn:microsoft.com/office/officeart/2005/8/layout/process4"/>
    <dgm:cxn modelId="{68FF0EDD-FFBD-4B66-ABF3-27F922562509}" type="presParOf" srcId="{692FAD59-BDC5-4382-992B-13A8B268220B}" destId="{76D400B7-F54A-4EBA-B1E6-331871BFD112}" srcOrd="0" destOrd="0" presId="urn:microsoft.com/office/officeart/2005/8/layout/process4"/>
    <dgm:cxn modelId="{F0C53181-2118-4B97-8C39-BABC0C7710F9}" type="presParOf" srcId="{D413DE7F-6B0C-4DB8-A3EF-9ACECB11FE3B}" destId="{B8D8B5D8-20D9-4856-902E-F548B810B7A0}" srcOrd="3" destOrd="0" presId="urn:microsoft.com/office/officeart/2005/8/layout/process4"/>
    <dgm:cxn modelId="{05A2CAC3-79D7-4087-ABE6-62EFBF34708F}" type="presParOf" srcId="{D413DE7F-6B0C-4DB8-A3EF-9ACECB11FE3B}" destId="{EE05D40C-5FBC-4B75-9738-7EECA6F762A9}" srcOrd="4" destOrd="0" presId="urn:microsoft.com/office/officeart/2005/8/layout/process4"/>
    <dgm:cxn modelId="{C9D04835-B940-49B2-90E8-63FAB3835E19}" type="presParOf" srcId="{EE05D40C-5FBC-4B75-9738-7EECA6F762A9}" destId="{6F527CA3-93C7-447E-995B-DEAF78CB0353}" srcOrd="0" destOrd="0" presId="urn:microsoft.com/office/officeart/2005/8/layout/process4"/>
    <dgm:cxn modelId="{D5C74917-4C77-406B-8ACC-2EF6856824B1}" type="presParOf" srcId="{D413DE7F-6B0C-4DB8-A3EF-9ACECB11FE3B}" destId="{DD06F7E1-7544-41E2-A428-9FCE51CA4F97}" srcOrd="5" destOrd="0" presId="urn:microsoft.com/office/officeart/2005/8/layout/process4"/>
    <dgm:cxn modelId="{FE7A2F5E-2E2C-49CB-BE87-DD51CF0E10CB}" type="presParOf" srcId="{D413DE7F-6B0C-4DB8-A3EF-9ACECB11FE3B}" destId="{E546F1D8-701F-4CDF-9941-EED73548A366}" srcOrd="6" destOrd="0" presId="urn:microsoft.com/office/officeart/2005/8/layout/process4"/>
    <dgm:cxn modelId="{E30DD447-4CC6-4132-A6B5-C64296E15907}" type="presParOf" srcId="{E546F1D8-701F-4CDF-9941-EED73548A366}" destId="{072F9DF9-7306-4AE3-BC46-E1563EC9BAC5}" srcOrd="0" destOrd="0" presId="urn:microsoft.com/office/officeart/2005/8/layout/process4"/>
    <dgm:cxn modelId="{58C99D26-22CC-4133-A637-402E90009C52}" type="presParOf" srcId="{D413DE7F-6B0C-4DB8-A3EF-9ACECB11FE3B}" destId="{8914C780-F6C4-4ABE-BBEA-B8FD41FE00EA}" srcOrd="7" destOrd="0" presId="urn:microsoft.com/office/officeart/2005/8/layout/process4"/>
    <dgm:cxn modelId="{87C216A0-5F14-4D94-B0F4-58B61BFBF56F}" type="presParOf" srcId="{D413DE7F-6B0C-4DB8-A3EF-9ACECB11FE3B}" destId="{CC431BFE-059F-42BE-96D7-7094EB254C4F}" srcOrd="8" destOrd="0" presId="urn:microsoft.com/office/officeart/2005/8/layout/process4"/>
    <dgm:cxn modelId="{D6263B97-46D0-472D-A9F5-3D945ED4B3CE}" type="presParOf" srcId="{CC431BFE-059F-42BE-96D7-7094EB254C4F}" destId="{0A22112A-4870-471D-B460-4BE28B6A68F4}" srcOrd="0" destOrd="0" presId="urn:microsoft.com/office/officeart/2005/8/layout/process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process4">
  <dgm:title val=""/>
  <dgm:desc val=""/>
  <dgm:catLst>
    <dgm:cat type="process" pri="16000"/>
    <dgm:cat type="list" pri="2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lin">
      <dgm:param type="linDir" val="fromB"/>
    </dgm:alg>
    <dgm:shape xmlns:r="http://schemas.openxmlformats.org/officeDocument/2006/relationships" r:blip="">
      <dgm:adjLst/>
    </dgm:shape>
    <dgm:presOf/>
    <dgm:constrLst>
      <dgm:constr type="h" for="ch" forName="boxAndChildren" refType="h"/>
      <dgm:constr type="h" for="ch" forName="arrowAndChildren" refType="h" refFor="ch" refForName="boxAndChildren" op="equ" fact="1.538"/>
      <dgm:constr type="w" for="ch" forName="arrowAndChildren" refType="w"/>
      <dgm:constr type="w" for="ch" forName="boxAndChildren" refType="w"/>
      <dgm:constr type="h" for="ch" forName="sp" refType="h" fact="-0.015"/>
      <dgm:constr type="primFontSz" for="des" forName="parentTextBox" val="65"/>
      <dgm:constr type="primFontSz" for="des" forName="parentTextArrow" refType="primFontSz" refFor="des" refForName="parentTextBox" op="equ"/>
      <dgm:constr type="primFontSz" for="des" forName="childTextArrow" val="65"/>
      <dgm:constr type="primFontSz" for="des" forName="childTextBox" refType="primFontSz" refFor="des" refForName="childTextArrow" op="equ"/>
    </dgm:constrLst>
    <dgm:ruleLst/>
    <dgm:forEach name="Name1" axis="ch" ptType="node" st="-1" step="-1">
      <dgm:choose name="Name2">
        <dgm:if name="Name3" axis="self" ptType="node" func="revPos" op="equ" val="1">
          <dgm:layoutNode name="boxAndChildren">
            <dgm:alg type="composite"/>
            <dgm:shape xmlns:r="http://schemas.openxmlformats.org/officeDocument/2006/relationships" r:blip="">
              <dgm:adjLst/>
            </dgm:shape>
            <dgm:presOf/>
            <dgm:choose name="Name4">
              <dgm:if name="Name5" axis="ch" ptType="node" func="cnt" op="gte" val="1">
                <dgm:constrLst>
                  <dgm:constr type="w" for="ch" forName="parentTextBox" refType="w"/>
                  <dgm:constr type="h" for="ch" forName="parentTextBox" refType="h" fact="0.54"/>
                  <dgm:constr type="t" for="ch" forName="parentTextBox"/>
                  <dgm:constr type="w" for="ch" forName="entireBox" refType="w"/>
                  <dgm:constr type="h" for="ch" forName="entireBox" refType="h"/>
                  <dgm:constr type="w" for="ch" forName="descendantBox" refType="w"/>
                  <dgm:constr type="b" for="ch" forName="descendantBox" refType="h" fact="0.98"/>
                  <dgm:constr type="h" for="ch" forName="descendantBox" refType="h" fact="0.46"/>
                </dgm:constrLst>
              </dgm:if>
              <dgm:else name="Name6">
                <dgm:constrLst>
                  <dgm:constr type="w" for="ch" forName="parentTextBox" refType="w"/>
                  <dgm:constr type="h" for="ch" forName="parentTextBox" refType="h"/>
                </dgm:constrLst>
              </dgm:else>
            </dgm:choose>
            <dgm:ruleLst/>
            <dgm:layoutNode name="parentTextBox">
              <dgm:alg type="tx"/>
              <dgm:choose name="Name7">
                <dgm:if name="Name8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9">
                  <dgm:shape xmlns:r="http://schemas.openxmlformats.org/officeDocument/2006/relationships" type="rec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10">
              <dgm:if name="Name11" axis="ch" ptType="node" func="cnt" op="gte" val="1">
                <dgm:layoutNode name="entireBox">
                  <dgm:alg type="sp"/>
                  <dgm:shape xmlns:r="http://schemas.openxmlformats.org/officeDocument/2006/relationships" type="rect" r:blip="">
                    <dgm:adjLst/>
                  </dgm:shape>
                  <dgm:presOf axis="self"/>
                  <dgm:constrLst/>
                  <dgm:ruleLst/>
                </dgm:layoutNode>
                <dgm:layoutNode name="descendantBox" styleLbl="fgAccFollowNode1">
                  <dgm:choose name="Name12">
                    <dgm:if name="Name13" func="var" arg="dir" op="equ" val="norm">
                      <dgm:alg type="lin"/>
                    </dgm:if>
                    <dgm:else name="Name14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Box" refType="w"/>
                    <dgm:constr type="h" for="ch" forName="childTextBox" refType="h"/>
                  </dgm:constrLst>
                  <dgm:ruleLst/>
                  <dgm:forEach name="Name15" axis="ch" ptType="node">
                    <dgm:layoutNode name="childTextBox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16"/>
            </dgm:choose>
          </dgm:layoutNode>
        </dgm:if>
        <dgm:else name="Name17">
          <dgm:layoutNode name="arrowAndChildren">
            <dgm:alg type="composite"/>
            <dgm:shape xmlns:r="http://schemas.openxmlformats.org/officeDocument/2006/relationships" r:blip="">
              <dgm:adjLst/>
            </dgm:shape>
            <dgm:presOf/>
            <dgm:choose name="Name18">
              <dgm:if name="Name19" axis="ch" ptType="node" func="cnt" op="gte" val="1">
                <dgm:constrLst>
                  <dgm:constr type="w" for="ch" forName="parentTextArrow" refType="w"/>
                  <dgm:constr type="t" for="ch" forName="parentTextArrow"/>
                  <dgm:constr type="h" for="ch" forName="parentTextArrow" refType="h" fact="0.351"/>
                  <dgm:constr type="w" for="ch" forName="arrow" refType="w"/>
                  <dgm:constr type="h" for="ch" forName="arrow" refType="h"/>
                  <dgm:constr type="w" for="ch" forName="descendantArrow" refType="w"/>
                  <dgm:constr type="b" for="ch" forName="descendantArrow" refType="h" fact="0.65"/>
                  <dgm:constr type="h" for="ch" forName="descendantArrow" refType="h" fact="0.299"/>
                </dgm:constrLst>
              </dgm:if>
              <dgm:else name="Name20">
                <dgm:constrLst>
                  <dgm:constr type="w" for="ch" forName="parentTextArrow" refType="w"/>
                  <dgm:constr type="h" for="ch" forName="parentTextArrow" refType="h"/>
                </dgm:constrLst>
              </dgm:else>
            </dgm:choose>
            <dgm:ruleLst/>
            <dgm:layoutNode name="parentTextArrow">
              <dgm:alg type="tx"/>
              <dgm:choose name="Name21">
                <dgm:if name="Name22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23">
                  <dgm:shape xmlns:r="http://schemas.openxmlformats.org/officeDocument/2006/relationships" rot="180" type="upArrowCallou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24">
              <dgm:if name="Name25" axis="ch" ptType="node" func="cnt" op="gte" val="1">
                <dgm:layoutNode name="arrow">
                  <dgm:alg type="sp"/>
                  <dgm:shape xmlns:r="http://schemas.openxmlformats.org/officeDocument/2006/relationships" rot="180" type="upArrowCallout" r:blip="">
                    <dgm:adjLst/>
                  </dgm:shape>
                  <dgm:presOf axis="self"/>
                  <dgm:constrLst/>
                  <dgm:ruleLst/>
                </dgm:layoutNode>
                <dgm:layoutNode name="descendantArrow">
                  <dgm:choose name="Name26">
                    <dgm:if name="Name27" func="var" arg="dir" op="equ" val="norm">
                      <dgm:alg type="lin"/>
                    </dgm:if>
                    <dgm:else name="Name28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Arrow" refType="w"/>
                    <dgm:constr type="h" for="ch" forName="childTextArrow" refType="h"/>
                  </dgm:constrLst>
                  <dgm:ruleLst/>
                  <dgm:forEach name="Name29" axis="ch" ptType="node">
                    <dgm:layoutNode name="childTextArrow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30"/>
            </dgm:choose>
          </dgm:layoutNode>
        </dgm:else>
      </dgm:choose>
      <dgm:forEach name="Name31" axis="precedSib" ptType="sibTrans" st="-1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process4">
  <dgm:title val=""/>
  <dgm:desc val=""/>
  <dgm:catLst>
    <dgm:cat type="process" pri="16000"/>
    <dgm:cat type="list" pri="2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lin">
      <dgm:param type="linDir" val="fromB"/>
    </dgm:alg>
    <dgm:shape xmlns:r="http://schemas.openxmlformats.org/officeDocument/2006/relationships" r:blip="">
      <dgm:adjLst/>
    </dgm:shape>
    <dgm:presOf/>
    <dgm:constrLst>
      <dgm:constr type="h" for="ch" forName="boxAndChildren" refType="h"/>
      <dgm:constr type="h" for="ch" forName="arrowAndChildren" refType="h" refFor="ch" refForName="boxAndChildren" op="equ" fact="1.538"/>
      <dgm:constr type="w" for="ch" forName="arrowAndChildren" refType="w"/>
      <dgm:constr type="w" for="ch" forName="boxAndChildren" refType="w"/>
      <dgm:constr type="h" for="ch" forName="sp" refType="h" fact="-0.015"/>
      <dgm:constr type="primFontSz" for="des" forName="parentTextBox" val="65"/>
      <dgm:constr type="primFontSz" for="des" forName="parentTextArrow" refType="primFontSz" refFor="des" refForName="parentTextBox" op="equ"/>
      <dgm:constr type="primFontSz" for="des" forName="childTextArrow" val="65"/>
      <dgm:constr type="primFontSz" for="des" forName="childTextBox" refType="primFontSz" refFor="des" refForName="childTextArrow" op="equ"/>
    </dgm:constrLst>
    <dgm:ruleLst/>
    <dgm:forEach name="Name1" axis="ch" ptType="node" st="-1" step="-1">
      <dgm:choose name="Name2">
        <dgm:if name="Name3" axis="self" ptType="node" func="revPos" op="equ" val="1">
          <dgm:layoutNode name="boxAndChildren">
            <dgm:alg type="composite"/>
            <dgm:shape xmlns:r="http://schemas.openxmlformats.org/officeDocument/2006/relationships" r:blip="">
              <dgm:adjLst/>
            </dgm:shape>
            <dgm:presOf/>
            <dgm:choose name="Name4">
              <dgm:if name="Name5" axis="ch" ptType="node" func="cnt" op="gte" val="1">
                <dgm:constrLst>
                  <dgm:constr type="w" for="ch" forName="parentTextBox" refType="w"/>
                  <dgm:constr type="h" for="ch" forName="parentTextBox" refType="h" fact="0.54"/>
                  <dgm:constr type="t" for="ch" forName="parentTextBox"/>
                  <dgm:constr type="w" for="ch" forName="entireBox" refType="w"/>
                  <dgm:constr type="h" for="ch" forName="entireBox" refType="h"/>
                  <dgm:constr type="w" for="ch" forName="descendantBox" refType="w"/>
                  <dgm:constr type="b" for="ch" forName="descendantBox" refType="h" fact="0.98"/>
                  <dgm:constr type="h" for="ch" forName="descendantBox" refType="h" fact="0.46"/>
                </dgm:constrLst>
              </dgm:if>
              <dgm:else name="Name6">
                <dgm:constrLst>
                  <dgm:constr type="w" for="ch" forName="parentTextBox" refType="w"/>
                  <dgm:constr type="h" for="ch" forName="parentTextBox" refType="h"/>
                </dgm:constrLst>
              </dgm:else>
            </dgm:choose>
            <dgm:ruleLst/>
            <dgm:layoutNode name="parentTextBox">
              <dgm:alg type="tx"/>
              <dgm:choose name="Name7">
                <dgm:if name="Name8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9">
                  <dgm:shape xmlns:r="http://schemas.openxmlformats.org/officeDocument/2006/relationships" type="rec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10">
              <dgm:if name="Name11" axis="ch" ptType="node" func="cnt" op="gte" val="1">
                <dgm:layoutNode name="entireBox">
                  <dgm:alg type="sp"/>
                  <dgm:shape xmlns:r="http://schemas.openxmlformats.org/officeDocument/2006/relationships" type="rect" r:blip="">
                    <dgm:adjLst/>
                  </dgm:shape>
                  <dgm:presOf axis="self"/>
                  <dgm:constrLst/>
                  <dgm:ruleLst/>
                </dgm:layoutNode>
                <dgm:layoutNode name="descendantBox" styleLbl="fgAccFollowNode1">
                  <dgm:choose name="Name12">
                    <dgm:if name="Name13" func="var" arg="dir" op="equ" val="norm">
                      <dgm:alg type="lin"/>
                    </dgm:if>
                    <dgm:else name="Name14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Box" refType="w"/>
                    <dgm:constr type="h" for="ch" forName="childTextBox" refType="h"/>
                  </dgm:constrLst>
                  <dgm:ruleLst/>
                  <dgm:forEach name="Name15" axis="ch" ptType="node">
                    <dgm:layoutNode name="childTextBox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16"/>
            </dgm:choose>
          </dgm:layoutNode>
        </dgm:if>
        <dgm:else name="Name17">
          <dgm:layoutNode name="arrowAndChildren">
            <dgm:alg type="composite"/>
            <dgm:shape xmlns:r="http://schemas.openxmlformats.org/officeDocument/2006/relationships" r:blip="">
              <dgm:adjLst/>
            </dgm:shape>
            <dgm:presOf/>
            <dgm:choose name="Name18">
              <dgm:if name="Name19" axis="ch" ptType="node" func="cnt" op="gte" val="1">
                <dgm:constrLst>
                  <dgm:constr type="w" for="ch" forName="parentTextArrow" refType="w"/>
                  <dgm:constr type="t" for="ch" forName="parentTextArrow"/>
                  <dgm:constr type="h" for="ch" forName="parentTextArrow" refType="h" fact="0.351"/>
                  <dgm:constr type="w" for="ch" forName="arrow" refType="w"/>
                  <dgm:constr type="h" for="ch" forName="arrow" refType="h"/>
                  <dgm:constr type="w" for="ch" forName="descendantArrow" refType="w"/>
                  <dgm:constr type="b" for="ch" forName="descendantArrow" refType="h" fact="0.65"/>
                  <dgm:constr type="h" for="ch" forName="descendantArrow" refType="h" fact="0.299"/>
                </dgm:constrLst>
              </dgm:if>
              <dgm:else name="Name20">
                <dgm:constrLst>
                  <dgm:constr type="w" for="ch" forName="parentTextArrow" refType="w"/>
                  <dgm:constr type="h" for="ch" forName="parentTextArrow" refType="h"/>
                </dgm:constrLst>
              </dgm:else>
            </dgm:choose>
            <dgm:ruleLst/>
            <dgm:layoutNode name="parentTextArrow">
              <dgm:alg type="tx"/>
              <dgm:choose name="Name21">
                <dgm:if name="Name22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23">
                  <dgm:shape xmlns:r="http://schemas.openxmlformats.org/officeDocument/2006/relationships" rot="180" type="upArrowCallou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24">
              <dgm:if name="Name25" axis="ch" ptType="node" func="cnt" op="gte" val="1">
                <dgm:layoutNode name="arrow">
                  <dgm:alg type="sp"/>
                  <dgm:shape xmlns:r="http://schemas.openxmlformats.org/officeDocument/2006/relationships" rot="180" type="upArrowCallout" r:blip="">
                    <dgm:adjLst/>
                  </dgm:shape>
                  <dgm:presOf axis="self"/>
                  <dgm:constrLst/>
                  <dgm:ruleLst/>
                </dgm:layoutNode>
                <dgm:layoutNode name="descendantArrow">
                  <dgm:choose name="Name26">
                    <dgm:if name="Name27" func="var" arg="dir" op="equ" val="norm">
                      <dgm:alg type="lin"/>
                    </dgm:if>
                    <dgm:else name="Name28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Arrow" refType="w"/>
                    <dgm:constr type="h" for="ch" forName="childTextArrow" refType="h"/>
                  </dgm:constrLst>
                  <dgm:ruleLst/>
                  <dgm:forEach name="Name29" axis="ch" ptType="node">
                    <dgm:layoutNode name="childTextArrow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30"/>
            </dgm:choose>
          </dgm:layoutNode>
        </dgm:else>
      </dgm:choose>
      <dgm:forEach name="Name31" axis="precedSib" ptType="sibTrans" st="-1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8DCA7D-2C1C-415E-A3D5-4C93047AB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4F43C0-36BB-468C-BB64-A68940D17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0AD6F0-0A0E-47D6-AF3D-7FFA63944A0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FE8DF1-993A-4D8B-B3E6-02D2A41FE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ldImg"/>
          </p:nvPr>
        </p:nvSpPr>
        <p:spPr>
          <a:xfrm>
            <a:off x="1981080" y="533520"/>
            <a:ext cx="2895120" cy="217152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3"/>
          <p:cNvSpPr>
            <a:spLocks noGrp="1"/>
          </p:cNvSpPr>
          <p:nvPr>
            <p:ph type="body"/>
          </p:nvPr>
        </p:nvSpPr>
        <p:spPr>
          <a:xfrm>
            <a:off x="228600" y="2820240"/>
            <a:ext cx="6400440" cy="56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molecules of water are constantly moving in BOTH directions across the cell membr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will move faster FROM a low concentration of WATER than it moves AWAY from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 water is moving in both directions, there is a net gain of water on the side that starts out with less water (more stuff dissolved in the wa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6F2AAF-7D66-4FF4-8B3F-8F91CFCDD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ldImg"/>
          </p:nvPr>
        </p:nvSpPr>
        <p:spPr>
          <a:xfrm>
            <a:off x="1687680" y="609120"/>
            <a:ext cx="3484080" cy="2457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3"/>
          <p:cNvSpPr>
            <a:spLocks noGrp="1"/>
          </p:cNvSpPr>
          <p:nvPr>
            <p:ph type="body"/>
          </p:nvPr>
        </p:nvSpPr>
        <p:spPr>
          <a:xfrm>
            <a:off x="495360" y="3124800"/>
            <a:ext cx="5866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hree terms refer to the concentration of dissolved materials in a cell’s environment compared to the concentration within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tonic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gains water from surrounding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-” means “below” (below the concentration in the cel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tonic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looses water to surrounding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-” means “above” (above the concentration in the cel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tonic environme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 in cell vol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-” means “same a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88DD36-7697-4E1B-A55D-5AC700265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080" cy="34286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88F7C3-19A2-4020-B023-FB9FFDF5E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ldImg"/>
          </p:nvPr>
        </p:nvSpPr>
        <p:spPr>
          <a:xfrm>
            <a:off x="1981080" y="533520"/>
            <a:ext cx="2895120" cy="21715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3"/>
          <p:cNvSpPr>
            <a:spLocks noGrp="1"/>
          </p:cNvSpPr>
          <p:nvPr>
            <p:ph type="body"/>
          </p:nvPr>
        </p:nvSpPr>
        <p:spPr>
          <a:xfrm>
            <a:off x="228600" y="2820240"/>
            <a:ext cx="6400440" cy="56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molecules of water are constantly moving in BOTH directions across the cell membr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will move faster FROM a low concentration of WATER than it moves AWAY from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 water is moving in both directions, there is a net gain of water on the side that starts out with less water (more stuff dissolved in the wa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F89-4BFB-4CF8-82DB-CCAD0493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DDC-1369-46AD-883B-E6102B66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B78-FF35-4950-9043-3E523BEB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775-5F8A-435B-9179-6A997E61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93C2-55D9-4D72-BB04-F203A7FD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507A-DDCA-4387-8E41-5E5955BF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6E2C-684D-4C3A-9370-4C8C846D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68EB-B21C-47D6-8053-07D18CB0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F478-6582-45B1-81B5-5EA4B880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BC1E-D6EC-4638-B2AF-541AF68C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83DF-ACB9-4485-BD32-50D62470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CC33-2535-4B29-B3AD-27F5BEA5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09FE-D8FB-4E0B-91D6-DDB32515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A9F5-B01C-4CEC-96E0-2D151A25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FCDA-E0C3-4BCB-9329-FF28C57B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0AD3-E74D-4484-BCD0-07E6C942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AFA9-D24D-47DC-9972-4C8DF43A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CAF3F-919C-4F3B-BD6D-24295DD3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F9B8D-34E2-4351-833D-A404D43B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FBD28-630C-4609-B69B-122F075B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4E3F8-367F-4AB4-9807-F87BD49E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F1B59-BB78-4960-8846-13762E5B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10E2-D0C6-456D-870B-23EF21B2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C2ED9-AC5B-45F4-95DA-14B9C933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98FFC-CCDF-4CA6-ABC1-95C8AFF9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C8F41-04E9-4D07-B73C-611AFA42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3F6FF-A3D6-41AF-B80F-CBBA6C88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A2900-D0BA-422A-AD7B-FA855678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79641-1B8F-478D-A981-B2B647EA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D29FD-4E31-404B-B8D7-61C168B3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83B24-9A3B-4280-92B7-159A0A23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7376E-4061-4FF9-8CB4-D6369451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C977E-1BB9-4656-BCBA-DE5338A2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C70E-7292-4788-8C76-26A19525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20963-B16B-4D97-80FA-DF42D4F7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4EF9B-9F17-45B4-8EE0-A7171FB0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262CC-1A59-48CB-93F5-6F993749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C7D7E-7E48-441F-963F-346A82FC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7E3C9-0C10-4860-B86C-4670CC27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8A652-0046-48BE-B607-67233440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A784B-640E-4D72-A618-556BD22C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97BF7-7286-4AE2-A304-6060CAC1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5D505-2B37-4BD5-A13A-49162469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E7D66-713C-46BC-981F-600B29C0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75D-42CF-4BE3-9BB9-A1D37AA0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C3242-1D86-458E-B77E-0BA84AF6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780C9-2D54-4D28-B541-73BA138B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CF8DB-3FA1-4B8B-8472-15FD1EDC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30981-474A-406C-A503-2ACCB086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28C58-8DA2-4466-97BF-A2B4646F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4F853-5B7B-47C7-8831-C8D926DA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3704C-6C2F-459E-82B3-8939B9E6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5B9EE-ED35-41CF-BB01-45705329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45D03-D8F2-432C-ADBE-F17F5EF9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821AF-56D9-4641-8A39-C990DD83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AB4D-B6AB-4508-B0C6-37D7B93C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B805F-0500-486A-BB21-63E2CB6C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AF99-8EA2-415F-B363-6944E322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E52F-3E45-4FF4-9148-72B2A285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77C5-1A0C-4D6C-BBD8-F1A4339B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B15A5A-0D5B-469A-A0A2-B3982628138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209B6A-E499-49FF-B10D-EDA6684A161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762AE2-0817-49A9-A4FE-CF3A0866DE9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D65CD9-C8DE-4F8E-8714-1278267C097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4D78E5-A777-4AEC-8659-DB7EDBF9E04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4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studentconsult.com/content/imagelibrary.cfm?ImgLibID=C02502401&amp;Content_Type=CH" TargetMode="External"/><Relationship Id="rId2" Type="http://schemas.openxmlformats.org/officeDocument/2006/relationships/slideLayout" Target="../slideLayouts/slideLayout4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41.xml"/><Relationship Id="rId9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4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2/Oedema.jpg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ounded Rectangle 3"/>
          <p:cNvSpPr/>
          <p:nvPr/>
        </p:nvSpPr>
        <p:spPr>
          <a:xfrm>
            <a:off x="762120" y="533520"/>
            <a:ext cx="7772040" cy="502884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1000"/>
          </a:bodyPr>
          <a:p>
            <a:pPr indent="0" algn="ctr">
              <a:lnSpc>
                <a:spcPct val="100000"/>
              </a:lnSpc>
              <a:buNone/>
            </a:pP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Dr. Nervana Mostafa</a:t>
            </a:r>
            <a:br>
              <a:rPr sz="6000"/>
            </a:br>
            <a:br>
              <a:rPr sz="60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B BS, MD, PhD (UK)</a:t>
            </a:r>
            <a:br>
              <a:rPr sz="2800"/>
            </a:br>
            <a:br>
              <a:rPr sz="28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Associate Professor of Physiology 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Consultant Molecular Biology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Director of Academic Quality Unit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College of Medicine, KKUH, KSU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FACTORS AFFEC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166040"/>
            <a:ext cx="8686440" cy="51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fan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73%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le adult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male adult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0-50%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esit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ld age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380880" y="4190760"/>
            <a:ext cx="360" cy="1067040"/>
          </a:xfrm>
          <a:prstGeom prst="line">
            <a:avLst/>
          </a:prstGeom>
          <a:ln w="57150">
            <a:solidFill>
              <a:srgbClr val="c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Transport Through The Cell Membra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embrane is selectively perme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the protei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-soluble substances e.g. ions, glucose 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through the bilay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t -soluble substance (O2, CO2, N2, alcohol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6" descr="GUYTON 4-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Types Of Membrane Transp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4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- Dif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simple diff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facilitated diff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- Active 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primary active 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secondary active 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- Osmosis.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transport across cell membrane.jpg"/>
          <p:cNvPicPr/>
          <p:nvPr/>
        </p:nvPicPr>
        <p:blipFill>
          <a:blip r:embed="rId1"/>
          <a:stretch/>
        </p:blipFill>
        <p:spPr>
          <a:xfrm>
            <a:off x="228600" y="609480"/>
            <a:ext cx="84758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ounded Rectangle 4"/>
          <p:cNvSpPr/>
          <p:nvPr/>
        </p:nvSpPr>
        <p:spPr>
          <a:xfrm>
            <a:off x="685800" y="4800600"/>
            <a:ext cx="6476760" cy="1752120"/>
          </a:xfrm>
          <a:prstGeom prst="roundRect">
            <a:avLst>
              <a:gd name="adj" fmla="val 16667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440" cy="30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 movement of substance either through the membrane directly or in combination with carrier prote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ow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 electrochemical gradi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Simple diff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facilitated diff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838080" y="4876920"/>
            <a:ext cx="6095520" cy="15526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mple diffusion &amp; facilitated transport do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 input of energy = powe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ntration gradient or electrical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e transport = directly us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75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Simple Diffu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5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carrier mediated transport down an electrochemical gradi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usion of nonelectrolytes (uncharged) from high concentration to low concent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usion of electrolytes (charged) depend on both chemical as will as electrical potential differ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Rate Of Simple Diffusion Depend 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Amount of substance avail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The number of opening in the cell membrane for the substance (por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ive gating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Chemical concentration dif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 diffusion= P x A (Co-Ci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240" cy="56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- Electrical potential dif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D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± 61 log C1/C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- Molecular size of the subst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- Lipid solu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- Temper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Facilitated Diff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arrier media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ransport down an electrochemical gradi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glucose &amp; amino aci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Features Of Carrier Mediated Transport (Facilitaed diffusio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44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0">
              <a:lnSpc>
                <a:spcPct val="9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-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400" spc="-1" strike="noStrike">
                <a:solidFill>
                  <a:srgbClr val="c00000"/>
                </a:solidFill>
                <a:latin typeface="Calibri"/>
              </a:rPr>
              <a:t>saturation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            binding of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ll protein is occupied we achieve full satu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.e. The rate of diffusion reaches a maximum (Vmax) when all the carriers are functioning as rapidly as poss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Calibri"/>
              </a:rPr>
              <a:t>2- stereopecificity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nding site recognize a specific sub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glucose but not L-gluco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Line 4"/>
          <p:cNvSpPr/>
          <p:nvPr/>
        </p:nvSpPr>
        <p:spPr>
          <a:xfrm>
            <a:off x="3276360" y="2492280"/>
            <a:ext cx="36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Line 6"/>
          <p:cNvSpPr/>
          <p:nvPr/>
        </p:nvSpPr>
        <p:spPr>
          <a:xfrm>
            <a:off x="2819160" y="2209680"/>
            <a:ext cx="71928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Line 7"/>
          <p:cNvSpPr/>
          <p:nvPr/>
        </p:nvSpPr>
        <p:spPr>
          <a:xfrm flipV="1">
            <a:off x="380880" y="198108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Line 9"/>
          <p:cNvSpPr/>
          <p:nvPr/>
        </p:nvSpPr>
        <p:spPr>
          <a:xfrm>
            <a:off x="4284360" y="2636640"/>
            <a:ext cx="36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Line 10"/>
          <p:cNvSpPr/>
          <p:nvPr/>
        </p:nvSpPr>
        <p:spPr>
          <a:xfrm flipV="1">
            <a:off x="3657600" y="1981080"/>
            <a:ext cx="360" cy="4446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Body Water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440" cy="56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av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ow body fat, low bone m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are 73% or more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water content declines throughout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lth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l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abou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60% wa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 health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emal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around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difference reflects females’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er body fa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er amount of skeletal mus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ld 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nly abou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45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body weight is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4" descr="LINDA  1-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457200" y="1060920"/>
            <a:ext cx="8229240" cy="469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3- Competi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ly  similar substance can compete for the same binding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 galactose  /  D-gluco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tance       binding site          substance protein complex         conformational changes          release of sub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Line 5"/>
          <p:cNvSpPr/>
          <p:nvPr/>
        </p:nvSpPr>
        <p:spPr>
          <a:xfrm>
            <a:off x="2133360" y="4190760"/>
            <a:ext cx="28908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Line 8"/>
          <p:cNvSpPr/>
          <p:nvPr/>
        </p:nvSpPr>
        <p:spPr>
          <a:xfrm>
            <a:off x="4495680" y="4267080"/>
            <a:ext cx="2887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2209680" y="4647960"/>
            <a:ext cx="5335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Line 8"/>
          <p:cNvSpPr/>
          <p:nvPr/>
        </p:nvSpPr>
        <p:spPr>
          <a:xfrm>
            <a:off x="6553080" y="4647960"/>
            <a:ext cx="2887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Active Transpor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2036520"/>
            <a:ext cx="8686440" cy="33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port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ph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        again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chemical gradi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energy           dir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r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carrier – prote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Line 4"/>
          <p:cNvSpPr/>
          <p:nvPr/>
        </p:nvSpPr>
        <p:spPr>
          <a:xfrm>
            <a:off x="3809880" y="2438280"/>
            <a:ext cx="5335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Line 5"/>
          <p:cNvSpPr/>
          <p:nvPr/>
        </p:nvSpPr>
        <p:spPr>
          <a:xfrm>
            <a:off x="3429000" y="3504960"/>
            <a:ext cx="60948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3504960" y="3504960"/>
            <a:ext cx="360" cy="6098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Line 7"/>
          <p:cNvSpPr/>
          <p:nvPr/>
        </p:nvSpPr>
        <p:spPr>
          <a:xfrm>
            <a:off x="3504960" y="4114800"/>
            <a:ext cx="60984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762760" cy="97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marL="61416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1- Primary Active Transport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2036520"/>
            <a:ext cx="8686440" cy="33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Energy is supplied directly from AT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           ADP +P+ ener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641"/>
              </a:spcBef>
              <a:buClr>
                <a:srgbClr val="800080"/>
              </a:buClr>
              <a:buFont typeface="StarSymbol"/>
              <a:buAutoNum type="alphaUcPeriod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folHlink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odium-Potassium pump (Na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-K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pump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ts present in all  cell membra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3 Na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        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2 K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out          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Line 4"/>
          <p:cNvSpPr/>
          <p:nvPr/>
        </p:nvSpPr>
        <p:spPr>
          <a:xfrm>
            <a:off x="2209680" y="2819160"/>
            <a:ext cx="91440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Line 5"/>
          <p:cNvSpPr/>
          <p:nvPr/>
        </p:nvSpPr>
        <p:spPr>
          <a:xfrm>
            <a:off x="2590560" y="449568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2666880" y="4952880"/>
            <a:ext cx="60948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6" descr="GUYTON 4-9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haracteristic  Of The Pump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ier protein is formed from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ub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nding site for Na inside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nding site for K outside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TPase acti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Na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K 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Func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taining Na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K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centration difference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the basis of nerve signal transmition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taining –ve potential inside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Maintains a normal cell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57200" y="785160"/>
            <a:ext cx="8229240" cy="55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rimary active transport of calc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(Ca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²+ ATPas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arcoplasmic reticulum (S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mitochond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n some cell membra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taining a low Ca²+ concentration inside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457200" y="930960"/>
            <a:ext cx="822924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. - primary active transport of hydrogen lons H+-K ATP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tom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kidne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pump to the lu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H+-K ATPase inhibitors (treat ulc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ease). (omeprazo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762760" cy="97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marL="614160" indent="-614160" algn="ctr">
              <a:lnSpc>
                <a:spcPct val="100000"/>
              </a:lnSpc>
              <a:buClr>
                <a:srgbClr val="c00000"/>
              </a:buClr>
              <a:buFont typeface="StarSymbol"/>
              <a:buAutoNum type="arabicParenR" startAt="2"/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Secondary Active Transport:</a:t>
            </a:r>
            <a:br>
              <a:rPr sz="4400"/>
            </a:br>
            <a:r>
              <a:rPr b="0" lang="en-GB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4920" y="1813320"/>
            <a:ext cx="8686440" cy="384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o- transport and countertranspo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ransport of one or more solutes against an electrochemical gradient ,coupled to the transport of another solute down an electrochemical gradient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hill’’ solute is 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is supplied indirectly form primary 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Daily intake of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6" descr="004"/>
          <p:cNvPicPr/>
          <p:nvPr/>
        </p:nvPicPr>
        <p:blipFill>
          <a:blip r:embed="rId1"/>
          <a:stretch/>
        </p:blipFill>
        <p:spPr>
          <a:xfrm>
            <a:off x="179280" y="1484280"/>
            <a:ext cx="8964360" cy="51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686440" cy="33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94480" indent="-2944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o-transpo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ll solutes move in the same dire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‘’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ide cell’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.g. –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glucose  Co-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amino acid Co-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n the intestinal tract kidn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2" descr="GUYTON 4-10"/>
          <p:cNvPicPr/>
          <p:nvPr/>
        </p:nvPicPr>
        <p:blipFill>
          <a:blip r:embed="rId1"/>
          <a:stretch/>
        </p:blipFill>
        <p:spPr>
          <a:xfrm>
            <a:off x="5181480" y="2666880"/>
            <a:ext cx="373356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LINDA  1-7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457200" y="1149480"/>
            <a:ext cx="8229240" cy="43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ountertranspo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moving to the interior causing  other substance to move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²+ -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+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resent in many cell membra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xchange in the kidn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4" descr="LINDA  1-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rcRect l="11999" t="18081" r="11999" b="16645"/>
          <a:stretch/>
        </p:blipFill>
        <p:spPr>
          <a:xfrm>
            <a:off x="33120" y="0"/>
            <a:ext cx="9110520" cy="6857640"/>
          </a:xfrm>
          <a:prstGeom prst="rect">
            <a:avLst/>
          </a:prstGeom>
          <a:ln w="63500">
            <a:solidFill>
              <a:srgbClr val="66ffff"/>
            </a:solidFill>
            <a:miter/>
          </a:ln>
        </p:spPr>
      </p:pic>
      <p:sp>
        <p:nvSpPr>
          <p:cNvPr id="280" name="Rounded Rectangle 4"/>
          <p:cNvSpPr/>
          <p:nvPr/>
        </p:nvSpPr>
        <p:spPr>
          <a:xfrm>
            <a:off x="0" y="4800600"/>
            <a:ext cx="4723920" cy="20570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4114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Water Intake and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371600" y="825480"/>
            <a:ext cx="647676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04920" y="2036520"/>
            <a:ext cx="8686440" cy="33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lim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Hab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Level of physical activit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762760" cy="52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egulation of Water Int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68644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ypothalamic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hirst cen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stimula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a decline in plasm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olu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10%–1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increases in plasm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smola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1–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In steady state  water intake = water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400" spc="-1" strike="noStrike" u="sng">
                <a:solidFill>
                  <a:srgbClr val="bfbfbf"/>
                </a:solidFill>
                <a:uFillTx/>
                <a:latin typeface="Calibri"/>
              </a:rPr>
              <a:t>Regulation of Water Int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Down Arrow 4"/>
          <p:cNvSpPr/>
          <p:nvPr/>
        </p:nvSpPr>
        <p:spPr>
          <a:xfrm flipH="1">
            <a:off x="456480" y="2895480"/>
            <a:ext cx="380520" cy="685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Down Arrow 5"/>
          <p:cNvSpPr/>
          <p:nvPr/>
        </p:nvSpPr>
        <p:spPr>
          <a:xfrm flipV="1">
            <a:off x="457200" y="3733920"/>
            <a:ext cx="380520" cy="609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actors that affect the TB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47620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114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Physiological fact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f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al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alibri"/>
              </a:rPr>
              <a:t>	</a:t>
            </a:r>
            <a:r>
              <a:rPr b="1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Pathological fact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m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rrh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ases with excessive loss of water (DM, excessive sweating,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Fluid Compart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6320" y="1150560"/>
            <a:ext cx="868644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occupies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tw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ain fluid compart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720"/>
              </a:spcBef>
              <a:buClr>
                <a:srgbClr val="c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ntracellular fluid (ICF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720"/>
              </a:spcBef>
              <a:buClr>
                <a:srgbClr val="c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xtracellular fluid (ECF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stitial fluid (I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4952880" y="3809880"/>
            <a:ext cx="3849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luid Compart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rcRect l="0" t="0" r="0" b="4412"/>
          <a:stretch/>
        </p:blipFill>
        <p:spPr>
          <a:xfrm>
            <a:off x="106560" y="838080"/>
            <a:ext cx="9037080" cy="58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30556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3000"/>
          </a:bodyPr>
          <a:p>
            <a:pPr indent="0">
              <a:lnSpc>
                <a:spcPct val="100000"/>
              </a:lnSpc>
              <a:buNone/>
            </a:pPr>
            <a:br>
              <a:rPr sz="4300"/>
            </a:b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Introduction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orking definition of physiolog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hysiology is the study of the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funct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rganisms as integrated systems of molecule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ells, tissues, and organs, in health and disease.</a:t>
            </a:r>
            <a:br>
              <a:rPr sz="43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2681280" y="533520"/>
            <a:ext cx="4347720" cy="79056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MAN</a:t>
            </a: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 P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2819520" y="4521240"/>
            <a:ext cx="18396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830240" y="228600"/>
            <a:ext cx="5027400" cy="711000"/>
          </a:xfrm>
          <a:prstGeom prst="rect">
            <a:avLst/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0099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LUID COM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_s1037"/>
          <p:cNvSpPr/>
          <p:nvPr/>
        </p:nvSpPr>
        <p:spPr>
          <a:xfrm>
            <a:off x="914400" y="1523880"/>
            <a:ext cx="2514240" cy="106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0046"/>
              </a:gs>
              <a:gs pos="50000">
                <a:srgbClr val="cc0099">
                  <a:alpha val="50196"/>
                </a:srgbClr>
              </a:gs>
              <a:gs pos="100000">
                <a:srgbClr val="5e0046"/>
              </a:gs>
            </a:gsLst>
            <a:lin ang="5400000"/>
          </a:gradFill>
          <a:ln w="2857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009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XTRA CELLU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_s1039"/>
          <p:cNvSpPr/>
          <p:nvPr/>
        </p:nvSpPr>
        <p:spPr>
          <a:xfrm>
            <a:off x="5638680" y="1600200"/>
            <a:ext cx="2514240" cy="106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0046"/>
              </a:gs>
              <a:gs pos="50000">
                <a:srgbClr val="cc0099">
                  <a:alpha val="50196"/>
                </a:srgbClr>
              </a:gs>
              <a:gs pos="100000">
                <a:srgbClr val="5e0046"/>
              </a:gs>
            </a:gsLst>
            <a:lin ang="5400000"/>
          </a:gradFill>
          <a:ln w="2857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009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RA CELL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_s1040"/>
          <p:cNvSpPr/>
          <p:nvPr/>
        </p:nvSpPr>
        <p:spPr>
          <a:xfrm>
            <a:off x="2819520" y="3470400"/>
            <a:ext cx="2553840" cy="796680"/>
          </a:xfrm>
          <a:prstGeom prst="roundRect">
            <a:avLst>
              <a:gd name="adj" fmla="val 50000"/>
            </a:avLst>
          </a:prstGeom>
          <a:solidFill>
            <a:srgbClr val="cc3300">
              <a:alpha val="50000"/>
            </a:srgbClr>
          </a:solidFill>
          <a:ln w="952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33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STI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_s1041"/>
          <p:cNvSpPr/>
          <p:nvPr/>
        </p:nvSpPr>
        <p:spPr>
          <a:xfrm>
            <a:off x="228600" y="3581280"/>
            <a:ext cx="2420640" cy="685440"/>
          </a:xfrm>
          <a:prstGeom prst="roundRect">
            <a:avLst>
              <a:gd name="adj" fmla="val 16667"/>
            </a:avLst>
          </a:prstGeom>
          <a:solidFill>
            <a:srgbClr val="cc3300">
              <a:alpha val="50000"/>
            </a:srgbClr>
          </a:solidFill>
          <a:ln w="952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33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_s1042"/>
          <p:cNvSpPr/>
          <p:nvPr/>
        </p:nvSpPr>
        <p:spPr>
          <a:xfrm>
            <a:off x="5562720" y="3505320"/>
            <a:ext cx="2957040" cy="761760"/>
          </a:xfrm>
          <a:prstGeom prst="roundRect">
            <a:avLst>
              <a:gd name="adj" fmla="val 16667"/>
            </a:avLst>
          </a:prstGeom>
          <a:solidFill>
            <a:srgbClr val="cc3300">
              <a:alpha val="50000"/>
            </a:srgbClr>
          </a:solidFill>
          <a:ln w="952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33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CELL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8"/>
          <p:cNvSpPr/>
          <p:nvPr/>
        </p:nvSpPr>
        <p:spPr>
          <a:xfrm flipH="1" rot="16200000">
            <a:off x="6058080" y="3695400"/>
            <a:ext cx="1752120" cy="2895120"/>
          </a:xfrm>
          <a:custGeom>
            <a:avLst/>
            <a:gdLst>
              <a:gd name="textAreaLeft" fmla="*/ -360 w 1752120"/>
              <a:gd name="textAreaRight" fmla="*/ 1501560 w 1752120"/>
              <a:gd name="textAreaTop" fmla="*/ 1930320 h 2895120"/>
              <a:gd name="textAreaBottom" fmla="*/ 2895480 h 28951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_s1043"/>
          <p:cNvSpPr/>
          <p:nvPr/>
        </p:nvSpPr>
        <p:spPr>
          <a:xfrm>
            <a:off x="2895480" y="4572000"/>
            <a:ext cx="2590560" cy="2285640"/>
          </a:xfrm>
          <a:prstGeom prst="roundRect">
            <a:avLst>
              <a:gd name="adj" fmla="val 0"/>
            </a:avLst>
          </a:prstGeom>
          <a:solidFill>
            <a:srgbClr val="009900">
              <a:alpha val="50000"/>
            </a:srgbClr>
          </a:solidFill>
          <a:ln w="952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0099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ra o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e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ito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ov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gestive Secre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1828800" y="914400"/>
            <a:ext cx="5029200" cy="360"/>
          </a:xfrm>
          <a:prstGeom prst="line">
            <a:avLst/>
          </a:prstGeom>
          <a:ln w="104775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AutoShape 11"/>
          <p:cNvSpPr/>
          <p:nvPr/>
        </p:nvSpPr>
        <p:spPr>
          <a:xfrm>
            <a:off x="1676520" y="914400"/>
            <a:ext cx="456840" cy="609120"/>
          </a:xfrm>
          <a:prstGeom prst="downArrow">
            <a:avLst>
              <a:gd name="adj1" fmla="val 50000"/>
              <a:gd name="adj2" fmla="val 33333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AutoShape 12"/>
          <p:cNvSpPr/>
          <p:nvPr/>
        </p:nvSpPr>
        <p:spPr>
          <a:xfrm>
            <a:off x="6553080" y="914400"/>
            <a:ext cx="456840" cy="609120"/>
          </a:xfrm>
          <a:prstGeom prst="downArrow">
            <a:avLst>
              <a:gd name="adj1" fmla="val 50000"/>
              <a:gd name="adj2" fmla="val 33333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Line 13"/>
          <p:cNvSpPr/>
          <p:nvPr/>
        </p:nvSpPr>
        <p:spPr>
          <a:xfrm>
            <a:off x="1066680" y="3047760"/>
            <a:ext cx="6095880" cy="360"/>
          </a:xfrm>
          <a:prstGeom prst="line">
            <a:avLst/>
          </a:prstGeom>
          <a:ln w="104775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AutoShape 14"/>
          <p:cNvSpPr/>
          <p:nvPr/>
        </p:nvSpPr>
        <p:spPr>
          <a:xfrm>
            <a:off x="990720" y="3046320"/>
            <a:ext cx="523440" cy="3823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15"/>
          <p:cNvSpPr/>
          <p:nvPr/>
        </p:nvSpPr>
        <p:spPr>
          <a:xfrm>
            <a:off x="3666960" y="3048120"/>
            <a:ext cx="523440" cy="3823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16"/>
          <p:cNvSpPr/>
          <p:nvPr/>
        </p:nvSpPr>
        <p:spPr>
          <a:xfrm>
            <a:off x="6791400" y="3048120"/>
            <a:ext cx="523440" cy="3823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17"/>
          <p:cNvSpPr/>
          <p:nvPr/>
        </p:nvSpPr>
        <p:spPr>
          <a:xfrm>
            <a:off x="1752480" y="2590920"/>
            <a:ext cx="523440" cy="3823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280" y="106668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400" spc="-1" strike="noStrike" u="sng">
                <a:solidFill>
                  <a:srgbClr val="c00000"/>
                </a:solidFill>
                <a:uFillTx/>
                <a:latin typeface="Calibri"/>
              </a:rPr>
              <a:t>Intracellular fluid (ICF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2036520"/>
            <a:ext cx="8686440" cy="33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ide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/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f TB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concentration of prote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Extracellular fluid (ECF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240" cy="49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ut side the ce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1/3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BW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1- Plasm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luid circulating in the blood vess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1/4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- Interstitial flui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luid bathing the ce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ltra filtration of plas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3/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8762760" cy="165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sma and interstitial fluid are almo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ving th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ame compositio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ept f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igh prote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entration in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las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Trancecellular fluid compartment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724040"/>
            <a:ext cx="8686440" cy="40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mall am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SF, GIT fluid, biliary fluid, synovial fluid, intrapelural fluid, intraperitoneal fluid, intrapericardial fluid and intraoccular fl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.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2326320"/>
            <a:ext cx="8686440" cy="281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BW =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42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F =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4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CF =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8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sma =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.5 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stitial =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0.5 L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omposition of Body Flu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054440"/>
            <a:ext cx="868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te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s the universal solv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olut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re broadly classified in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lectrolyt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– inorganic salts, all acids and bases, and some prote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Nonelectrolyte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– examples include glucose, lipids, creatinine, and u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mount = in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oles, osmo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27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-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olarit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moles/li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M/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Osmolarit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osmoles/liter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osm/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-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Osmolalit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= osmoles/kg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osm/kg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In biological solu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166040"/>
            <a:ext cx="8686440" cy="51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llimoles per liter  (mM/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lliosmoles per  (mOsm/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mM=1/1000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mOsm=1/1000  O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lectrolyte 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in milliequivalents per liter (mEq/L),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of the number of electrical charges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liter of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q/L = (concentration of ion in [mg/L]/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ic weight of ion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umber of electr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s on one 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single charged ions, 1 mEq = 1 mO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bivalent ions, 1 mEq = 1/2 mO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http://books.sitamol.net/images/guyton.jpg"/>
          <p:cNvPicPr/>
          <p:nvPr/>
        </p:nvPicPr>
        <p:blipFill>
          <a:blip r:embed="rId1"/>
          <a:stretch/>
        </p:blipFill>
        <p:spPr>
          <a:xfrm>
            <a:off x="2667600" y="990720"/>
            <a:ext cx="3447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onstituents of ECF and ICF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3" descr="006"/>
          <p:cNvPicPr/>
          <p:nvPr/>
        </p:nvPicPr>
        <p:blipFill>
          <a:blip r:embed="rId1"/>
          <a:stretch/>
        </p:blipFill>
        <p:spPr>
          <a:xfrm>
            <a:off x="0" y="762120"/>
            <a:ext cx="9143640" cy="59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007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Extracellular and Intracellular Flu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634760"/>
            <a:ext cx="868644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ch fluid compartment of the body has a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distinctive patter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f electroly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xtracellular fluid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e similar (except for the high protein content of plas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odium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 the chief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hlorid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s the major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n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686440" cy="59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ntracellular flui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s low sodium and chlor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Potassiu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s the chief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Phosphat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s the chief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n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ach compartment must have almost the same concentration of positive charge (cations) as of negative charge (anio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lectroneutral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GUYTON 4-1"/>
          <p:cNvPicPr/>
          <p:nvPr/>
        </p:nvPicPr>
        <p:blipFill>
          <a:blip r:embed="rId1"/>
          <a:stretch/>
        </p:blipFill>
        <p:spPr>
          <a:xfrm>
            <a:off x="1403280" y="260280"/>
            <a:ext cx="6192360" cy="65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04920" y="1344600"/>
            <a:ext cx="8686440" cy="47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kalemia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crease in K concentration in the EC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-2 mEq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erkalemia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crease in K 60-100% above norm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920" y="2065680"/>
            <a:ext cx="8686440" cy="33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ypernatremia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ncreas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 Na concentration in EC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yponatremia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decreas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 Na concentration in the EC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Oval 2"/>
          <p:cNvSpPr/>
          <p:nvPr/>
        </p:nvSpPr>
        <p:spPr>
          <a:xfrm>
            <a:off x="1828800" y="1371600"/>
            <a:ext cx="5943240" cy="3200040"/>
          </a:xfrm>
          <a:prstGeom prst="ellipse">
            <a:avLst/>
          </a:prstGeom>
          <a:solidFill>
            <a:srgbClr val="4f81bd"/>
          </a:solidFill>
          <a:ln w="762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ar-SA" sz="8000" spc="-1" strike="noStrike">
                <a:solidFill>
                  <a:srgbClr val="ffff00"/>
                </a:solidFill>
                <a:latin typeface="Calibri"/>
              </a:rPr>
              <a:t>الله يوفقن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2000"/>
          </a:bodyPr>
          <a:p>
            <a:pPr indent="0" algn="ctr">
              <a:lnSpc>
                <a:spcPct val="100000"/>
              </a:lnSpc>
              <a:buNone/>
            </a:pPr>
            <a:br>
              <a:rPr sz="2200"/>
            </a:br>
            <a:r>
              <a:rPr b="1" lang="en-US" sz="2200" spc="-1" strike="noStrike" u="sng">
                <a:solidFill>
                  <a:srgbClr val="0070c0"/>
                </a:solidFill>
                <a:uFillTx/>
                <a:latin typeface="Calibri"/>
              </a:rPr>
              <a:t>Lecture 3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6700" spc="-1" strike="noStrike">
                <a:solidFill>
                  <a:srgbClr val="c00000"/>
                </a:solidFill>
                <a:latin typeface="Calibri"/>
              </a:rPr>
              <a:t>Homeostasis</a:t>
            </a:r>
            <a:br>
              <a:rPr sz="6700"/>
            </a:b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luid Compart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rcRect l="0" t="0" r="0" b="4412"/>
          <a:stretch/>
        </p:blipFill>
        <p:spPr>
          <a:xfrm>
            <a:off x="106560" y="838080"/>
            <a:ext cx="9037080" cy="58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240" cy="49525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siology is one of the cornerstones of medic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siology is the study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how the body work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the ways in which cells, organs and the whole body functions, and how these functions are maintained in a changing environ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ellula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physiology is the study of the cellular components that primarily determines organ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ystem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physiology is the study of the coordinated and networked processes that determine whole body function and adaption to 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47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7000"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"/>
          <p:cNvSpPr/>
          <p:nvPr/>
        </p:nvSpPr>
        <p:spPr>
          <a:xfrm>
            <a:off x="609480" y="1143000"/>
            <a:ext cx="8381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on fluxes are restricted and move selectively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e trans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trients, respiratory gases, and wastes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direction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sma is the only fluid that circulates through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dy and links external and in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molalities of all body fluids are equal;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olute concentrations are quickly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motic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990720" y="304920"/>
            <a:ext cx="7314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Extracellular and Intracellular Flu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6781320" cy="6418080"/>
          </a:xfrm>
          <a:prstGeom prst="rect">
            <a:avLst/>
          </a:prstGeom>
          <a:ln w="9525">
            <a:noFill/>
          </a:ln>
        </p:spPr>
      </p:pic>
      <p:sp>
        <p:nvSpPr>
          <p:cNvPr id="346" name="Rectangle 2"/>
          <p:cNvSpPr/>
          <p:nvPr/>
        </p:nvSpPr>
        <p:spPr>
          <a:xfrm>
            <a:off x="194400" y="6324480"/>
            <a:ext cx="358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tinuous exchange of Body Flu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chanisms for Mov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7680" y="2445120"/>
            <a:ext cx="8229240" cy="22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general mechanis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imple diffusion (pass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Facilitated transport (pass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ctive tran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75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469960"/>
            <a:ext cx="822924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t diffusion of water from a region of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igh wa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entration to region of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low wa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ent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240" cy="203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just">
              <a:lnSpc>
                <a:spcPct val="100000"/>
              </a:lnSpc>
              <a:buNone/>
            </a:pPr>
            <a:r>
              <a:rPr b="1" lang="en-US" sz="3500" spc="-1" strike="noStrike">
                <a:solidFill>
                  <a:srgbClr val="c00000"/>
                </a:solidFill>
                <a:latin typeface="Calibri"/>
              </a:rPr>
              <a:t>Osmotic equilibrium is maintained between intracellular and extracellular fluids: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2062440"/>
            <a:ext cx="8686440" cy="334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mal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changes in concentration of 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olut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in the extracellular fluid can cause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tremendou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change in cell volu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racellular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osmolari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= extracellular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osmolarity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00 mosm/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266652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4" name="Object 3"/>
          <p:cNvGraphicFramePr/>
          <p:nvPr/>
        </p:nvGraphicFramePr>
        <p:xfrm>
          <a:off x="2666880" y="304920"/>
          <a:ext cx="4798800" cy="63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04920"/>
                    <a:ext cx="479880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059280" y="1273320"/>
            <a:ext cx="307296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54000" y="1273320"/>
            <a:ext cx="605448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54000" y="1273320"/>
            <a:ext cx="901332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3227400" y="3354480"/>
            <a:ext cx="2742840" cy="331452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6"/>
          <p:cNvGrpSpPr/>
          <p:nvPr/>
        </p:nvGrpSpPr>
        <p:grpSpPr>
          <a:xfrm>
            <a:off x="3195720" y="1387440"/>
            <a:ext cx="2806200" cy="2184120"/>
            <a:chOff x="3195720" y="1387440"/>
            <a:chExt cx="2806200" cy="2184120"/>
          </a:xfrm>
        </p:grpSpPr>
        <p:pic>
          <p:nvPicPr>
            <p:cNvPr id="361" name="Picture 7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3195720" y="1387440"/>
              <a:ext cx="2806200" cy="21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8"/>
            <p:cNvSpPr/>
            <p:nvPr/>
          </p:nvSpPr>
          <p:spPr>
            <a:xfrm>
              <a:off x="3881160" y="1534680"/>
              <a:ext cx="13467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Normal 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9" descr=""/>
            <p:cNvPicPr/>
            <p:nvPr/>
          </p:nvPicPr>
          <p:blipFill>
            <a:blip r:embed="rId3"/>
            <a:stretch/>
          </p:blipFill>
          <p:spPr>
            <a:xfrm>
              <a:off x="3541680" y="2928960"/>
              <a:ext cx="1371240" cy="46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Rectangle 10"/>
          <p:cNvSpPr/>
          <p:nvPr/>
        </p:nvSpPr>
        <p:spPr>
          <a:xfrm>
            <a:off x="3434760" y="3571920"/>
            <a:ext cx="236340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Iso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12" descr=""/>
          <p:cNvPicPr/>
          <p:nvPr/>
        </p:nvPicPr>
        <p:blipFill>
          <a:blip r:embed="rId4"/>
          <a:stretch/>
        </p:blipFill>
        <p:spPr>
          <a:xfrm>
            <a:off x="263520" y="3376440"/>
            <a:ext cx="2742840" cy="33145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3" descr=""/>
          <p:cNvPicPr/>
          <p:nvPr/>
        </p:nvPicPr>
        <p:blipFill>
          <a:blip r:embed="rId5"/>
          <a:srcRect l="0" t="0" r="0" b="3019"/>
          <a:stretch/>
        </p:blipFill>
        <p:spPr>
          <a:xfrm>
            <a:off x="6215040" y="3476520"/>
            <a:ext cx="2768400" cy="321444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4"/>
          <p:cNvSpPr/>
          <p:nvPr/>
        </p:nvSpPr>
        <p:spPr>
          <a:xfrm>
            <a:off x="3595680" y="6006960"/>
            <a:ext cx="2016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Equal movement of water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into and out of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896040" y="6029280"/>
            <a:ext cx="1359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Net movement of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water out of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6949080" y="6140520"/>
            <a:ext cx="1350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Net movement of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water into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17"/>
          <p:cNvGrpSpPr/>
          <p:nvPr/>
        </p:nvGrpSpPr>
        <p:grpSpPr>
          <a:xfrm>
            <a:off x="244440" y="1387440"/>
            <a:ext cx="2793600" cy="2171520"/>
            <a:chOff x="244440" y="1387440"/>
            <a:chExt cx="2793600" cy="2171520"/>
          </a:xfrm>
        </p:grpSpPr>
        <p:pic>
          <p:nvPicPr>
            <p:cNvPr id="372" name="Picture 18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244440" y="1387440"/>
              <a:ext cx="279360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Rectangle 19"/>
            <p:cNvSpPr/>
            <p:nvPr/>
          </p:nvSpPr>
          <p:spPr>
            <a:xfrm>
              <a:off x="291240" y="1402920"/>
              <a:ext cx="15663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Shriveled</a:t>
              </a:r>
              <a:r>
                <a:rPr b="1" lang="en-US" sz="2000" spc="-1" strike="noStrike">
                  <a:solidFill>
                    <a:srgbClr val="1f497d"/>
                  </a:solidFill>
                  <a:latin typeface="Arial Narrow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20"/>
          <p:cNvGrpSpPr/>
          <p:nvPr/>
        </p:nvGrpSpPr>
        <p:grpSpPr>
          <a:xfrm>
            <a:off x="6197760" y="1387440"/>
            <a:ext cx="2806200" cy="2171520"/>
            <a:chOff x="6197760" y="1387440"/>
            <a:chExt cx="2806200" cy="2171520"/>
          </a:xfrm>
        </p:grpSpPr>
        <p:pic>
          <p:nvPicPr>
            <p:cNvPr id="375" name="Picture 21" descr=""/>
            <p:cNvPicPr/>
            <p:nvPr/>
          </p:nvPicPr>
          <p:blipFill>
            <a:blip r:embed="rId7">
              <a:grayscl/>
            </a:blip>
            <a:stretch/>
          </p:blipFill>
          <p:spPr>
            <a:xfrm>
              <a:off x="6197760" y="1387440"/>
              <a:ext cx="280620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Rectangle 22"/>
            <p:cNvSpPr/>
            <p:nvPr/>
          </p:nvSpPr>
          <p:spPr>
            <a:xfrm>
              <a:off x="6258600" y="3236400"/>
              <a:ext cx="14169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Swollen 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Rectangle 23"/>
          <p:cNvSpPr/>
          <p:nvPr/>
        </p:nvSpPr>
        <p:spPr>
          <a:xfrm>
            <a:off x="244800" y="3571560"/>
            <a:ext cx="276876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Hyper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4"/>
          <p:cNvSpPr/>
          <p:nvPr/>
        </p:nvSpPr>
        <p:spPr>
          <a:xfrm>
            <a:off x="6253920" y="3571920"/>
            <a:ext cx="267120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Hypo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2280" y="861480"/>
            <a:ext cx="8337240" cy="58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nvironment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300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Calibri"/>
              </a:rPr>
              <a:t>Hypertonic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ORE SOLUTES outside ce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ORE WATER IN CE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ver time, cell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alibri"/>
              </a:rPr>
              <a:t>loses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300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Calibri"/>
              </a:rPr>
              <a:t>Isotonic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am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o change in cell volu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300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Calibri"/>
              </a:rPr>
              <a:t>Hypotonic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 SOLUTES outside ce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 WATER IN CELL, more solutes in cel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ver time, cell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alibri"/>
              </a:rPr>
              <a:t>gain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57200" y="378360"/>
            <a:ext cx="8229240" cy="59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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Isotonic solutio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(not swell or shrink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 0.9% solution of sodiu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loride or 5% glucose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same in and out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ypotonic solutio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(swelling)    0.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in is higher than out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ypertonic solutio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(shrink)     0.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out is higher than 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5143320" y="3643200"/>
            <a:ext cx="360" cy="304560"/>
          </a:xfrm>
          <a:prstGeom prst="line">
            <a:avLst/>
          </a:prstGeom>
          <a:ln w="9525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Line 4"/>
          <p:cNvSpPr/>
          <p:nvPr/>
        </p:nvSpPr>
        <p:spPr>
          <a:xfrm flipV="1">
            <a:off x="4929120" y="5357520"/>
            <a:ext cx="360" cy="304920"/>
          </a:xfrm>
          <a:prstGeom prst="line">
            <a:avLst/>
          </a:prstGeom>
          <a:ln w="9525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Down Arrow 4"/>
          <p:cNvSpPr/>
          <p:nvPr/>
        </p:nvSpPr>
        <p:spPr>
          <a:xfrm>
            <a:off x="3809880" y="2971800"/>
            <a:ext cx="151920" cy="456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Up Arrow 5"/>
          <p:cNvSpPr/>
          <p:nvPr/>
        </p:nvSpPr>
        <p:spPr>
          <a:xfrm>
            <a:off x="3657600" y="4572000"/>
            <a:ext cx="151920" cy="3045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Glucose and other solutions administered for nutritive purpo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255320"/>
            <a:ext cx="868644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ople who can not take adequate amount of f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low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pared in isotonic solu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rcRect l="0" t="0" r="0" b="3406"/>
          <a:stretch/>
        </p:blipFill>
        <p:spPr>
          <a:xfrm>
            <a:off x="762120" y="762120"/>
            <a:ext cx="7468920" cy="59385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"/>
          <p:cNvSpPr/>
          <p:nvPr/>
        </p:nvSpPr>
        <p:spPr>
          <a:xfrm>
            <a:off x="4772160" y="2417760"/>
            <a:ext cx="166968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mical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oms combine to form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>
            <a:off x="4626000" y="2462040"/>
            <a:ext cx="19476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1225440" y="1771560"/>
            <a:ext cx="193320" cy="1965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1035000" y="3522600"/>
            <a:ext cx="196560" cy="19800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1830240" y="5999040"/>
            <a:ext cx="19656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369800" y="1712880"/>
            <a:ext cx="246564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ular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s are made up of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1195560" y="3490920"/>
            <a:ext cx="164592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s consist of similar typ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4670280" y="6108840"/>
            <a:ext cx="193320" cy="19800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4830840" y="6066000"/>
            <a:ext cx="327780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 system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 systems consist of different organs that work together  clos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978200" y="5952960"/>
            <a:ext cx="226188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s are made up of different types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3"/>
          <p:cNvSpPr/>
          <p:nvPr/>
        </p:nvSpPr>
        <p:spPr>
          <a:xfrm>
            <a:off x="6502320" y="5175360"/>
            <a:ext cx="194760" cy="1965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6662880" y="5140440"/>
            <a:ext cx="20538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ismal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human organism is made up of many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 flipH="1" flipV="1">
            <a:off x="3446280" y="4489200"/>
            <a:ext cx="133200" cy="180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16"/>
          <p:cNvSpPr/>
          <p:nvPr/>
        </p:nvSpPr>
        <p:spPr>
          <a:xfrm flipH="1" flipV="1">
            <a:off x="4340160" y="3813120"/>
            <a:ext cx="12384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7"/>
          <p:cNvSpPr/>
          <p:nvPr/>
        </p:nvSpPr>
        <p:spPr>
          <a:xfrm>
            <a:off x="4209120" y="1909800"/>
            <a:ext cx="6552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3789360" y="1522440"/>
            <a:ext cx="9201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9"/>
          <p:cNvSpPr/>
          <p:nvPr/>
        </p:nvSpPr>
        <p:spPr>
          <a:xfrm>
            <a:off x="1951200" y="1289160"/>
            <a:ext cx="16156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ooth muscl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0"/>
          <p:cNvSpPr/>
          <p:nvPr/>
        </p:nvSpPr>
        <p:spPr>
          <a:xfrm>
            <a:off x="3533760" y="2835360"/>
            <a:ext cx="80604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ooth muscl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2865600" y="5389560"/>
            <a:ext cx="1052280" cy="417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iv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2"/>
          <p:cNvSpPr/>
          <p:nvPr/>
        </p:nvSpPr>
        <p:spPr>
          <a:xfrm>
            <a:off x="3395520" y="4710240"/>
            <a:ext cx="887040" cy="58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ooth muscl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3"/>
          <p:cNvSpPr/>
          <p:nvPr/>
        </p:nvSpPr>
        <p:spPr>
          <a:xfrm>
            <a:off x="3546360" y="4322880"/>
            <a:ext cx="1052280" cy="417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pithelial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4"/>
          <p:cNvSpPr/>
          <p:nvPr/>
        </p:nvSpPr>
        <p:spPr>
          <a:xfrm>
            <a:off x="4478400" y="4751280"/>
            <a:ext cx="725040" cy="58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od vessel (org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5"/>
          <p:cNvSpPr/>
          <p:nvPr/>
        </p:nvSpPr>
        <p:spPr>
          <a:xfrm flipH="1" flipV="1">
            <a:off x="3279600" y="4825800"/>
            <a:ext cx="16812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Line 26"/>
          <p:cNvSpPr/>
          <p:nvPr/>
        </p:nvSpPr>
        <p:spPr>
          <a:xfrm flipH="1" flipV="1">
            <a:off x="2538360" y="5491080"/>
            <a:ext cx="35532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AutoShape 27"/>
          <p:cNvSpPr/>
          <p:nvPr/>
        </p:nvSpPr>
        <p:spPr>
          <a:xfrm rot="10800000">
            <a:off x="4467600" y="3394440"/>
            <a:ext cx="91800" cy="86796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AutoShape 28"/>
          <p:cNvSpPr/>
          <p:nvPr/>
        </p:nvSpPr>
        <p:spPr>
          <a:xfrm>
            <a:off x="4284720" y="4330800"/>
            <a:ext cx="117000" cy="146952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Line 29"/>
          <p:cNvSpPr/>
          <p:nvPr/>
        </p:nvSpPr>
        <p:spPr>
          <a:xfrm flipH="1" flipV="1">
            <a:off x="4402080" y="5040000"/>
            <a:ext cx="112680" cy="180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30"/>
          <p:cNvSpPr/>
          <p:nvPr/>
        </p:nvSpPr>
        <p:spPr>
          <a:xfrm>
            <a:off x="4487760" y="3384720"/>
            <a:ext cx="596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1"/>
          <p:cNvSpPr/>
          <p:nvPr/>
        </p:nvSpPr>
        <p:spPr>
          <a:xfrm>
            <a:off x="4487760" y="3836880"/>
            <a:ext cx="75060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2"/>
          <p:cNvSpPr/>
          <p:nvPr/>
        </p:nvSpPr>
        <p:spPr>
          <a:xfrm>
            <a:off x="2933640" y="3584520"/>
            <a:ext cx="14155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dio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3"/>
          <p:cNvSpPr/>
          <p:nvPr/>
        </p:nvSpPr>
        <p:spPr>
          <a:xfrm flipH="1" flipV="1">
            <a:off x="5049720" y="3522600"/>
            <a:ext cx="601560" cy="2570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Line 34"/>
          <p:cNvSpPr/>
          <p:nvPr/>
        </p:nvSpPr>
        <p:spPr>
          <a:xfrm flipH="1">
            <a:off x="5087880" y="3979800"/>
            <a:ext cx="249120" cy="55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Line 35"/>
          <p:cNvSpPr/>
          <p:nvPr/>
        </p:nvSpPr>
        <p:spPr>
          <a:xfrm flipH="1" flipV="1">
            <a:off x="5111640" y="4030560"/>
            <a:ext cx="271440" cy="4608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AutoShape 36"/>
          <p:cNvSpPr/>
          <p:nvPr/>
        </p:nvSpPr>
        <p:spPr>
          <a:xfrm>
            <a:off x="3314880" y="2795760"/>
            <a:ext cx="124920" cy="69480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37"/>
          <p:cNvSpPr/>
          <p:nvPr/>
        </p:nvSpPr>
        <p:spPr>
          <a:xfrm>
            <a:off x="3439800" y="3147840"/>
            <a:ext cx="10332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s of Structural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meosta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23160"/>
            <a:ext cx="8686440" cy="44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meostasis is the ability to maintain a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relatively stable internal environmen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n an ever-changing outsid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internal environment of the body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(ECF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 in a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dynamic state of equilib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 different body systems operate in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armon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 provid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omeost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meostatic Control Mechanis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233000"/>
            <a:ext cx="8686440" cy="500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variabl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es a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hange in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three interdependent components of control mechanism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Recepto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– monitors the environments and responds to changes (stimul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ontrol cente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– determines the set point at which the variable is main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ffecto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– provides the means to respond to the stimul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Regulation of body fun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1280" y="1875600"/>
            <a:ext cx="8229240" cy="41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Nervous system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nsory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central nervous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motor out 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71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71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57200" y="1239480"/>
            <a:ext cx="822924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 startAt="2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ormonal system of reg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docrine gla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ncreas, thyr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.g. : insulin control glucose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rcRect l="0" t="0" r="0" b="3666"/>
          <a:stretch/>
        </p:blipFill>
        <p:spPr>
          <a:xfrm>
            <a:off x="838080" y="1008000"/>
            <a:ext cx="7435440" cy="584964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3"/>
          <p:cNvSpPr/>
          <p:nvPr/>
        </p:nvSpPr>
        <p:spPr>
          <a:xfrm>
            <a:off x="1036800" y="4681440"/>
            <a:ext cx="1110960" cy="877680"/>
          </a:xfrm>
          <a:prstGeom prst="rect">
            <a:avLst/>
          </a:prstGeom>
          <a:solidFill>
            <a:schemeClr val="accent1"/>
          </a:solidFill>
          <a:ln w="15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imulus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781200" y="4761000"/>
            <a:ext cx="193320" cy="19332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1127160" y="3238560"/>
            <a:ext cx="193320" cy="19332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1463760" y="1084320"/>
            <a:ext cx="19188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1271520" y="3206880"/>
            <a:ext cx="101232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ct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 re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1620720" y="1052640"/>
            <a:ext cx="1079280" cy="100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put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t alo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fer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wa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9"/>
          <p:cNvSpPr/>
          <p:nvPr/>
        </p:nvSpPr>
        <p:spPr>
          <a:xfrm>
            <a:off x="6780240" y="4167360"/>
            <a:ext cx="191880" cy="19332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6937560" y="4135320"/>
            <a:ext cx="1429200" cy="1549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 o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or feed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 to influenc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nitude of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imulus 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ur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t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3093480" y="5520600"/>
            <a:ext cx="233136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 (in homeostas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2"/>
          <p:cNvSpPr/>
          <p:nvPr/>
        </p:nvSpPr>
        <p:spPr>
          <a:xfrm rot="1420800">
            <a:off x="2666160" y="4969080"/>
            <a:ext cx="105192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3"/>
          <p:cNvSpPr/>
          <p:nvPr/>
        </p:nvSpPr>
        <p:spPr>
          <a:xfrm rot="1420800">
            <a:off x="4972680" y="6032880"/>
            <a:ext cx="105192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4"/>
          <p:cNvSpPr/>
          <p:nvPr/>
        </p:nvSpPr>
        <p:spPr>
          <a:xfrm>
            <a:off x="1596960" y="2432160"/>
            <a:ext cx="1661760" cy="350640"/>
          </a:xfrm>
          <a:prstGeom prst="rect">
            <a:avLst/>
          </a:prstGeom>
          <a:solidFill>
            <a:schemeClr val="accent1"/>
          </a:solidFill>
          <a:ln w="15875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eptor (sens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4110120" y="1012680"/>
            <a:ext cx="853560" cy="418680"/>
          </a:xfrm>
          <a:prstGeom prst="rect">
            <a:avLst/>
          </a:prstGeom>
          <a:solidFill>
            <a:srgbClr val="ffcc66"/>
          </a:solidFill>
          <a:ln w="15875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6"/>
          <p:cNvSpPr/>
          <p:nvPr/>
        </p:nvSpPr>
        <p:spPr>
          <a:xfrm>
            <a:off x="6130800" y="1123920"/>
            <a:ext cx="19188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7"/>
          <p:cNvSpPr/>
          <p:nvPr/>
        </p:nvSpPr>
        <p:spPr>
          <a:xfrm>
            <a:off x="6278400" y="1093680"/>
            <a:ext cx="137592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 s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ong effer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wa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8"/>
          <p:cNvSpPr/>
          <p:nvPr/>
        </p:nvSpPr>
        <p:spPr>
          <a:xfrm>
            <a:off x="5837400" y="2365200"/>
            <a:ext cx="1169640" cy="350640"/>
          </a:xfrm>
          <a:prstGeom prst="rect">
            <a:avLst/>
          </a:prstGeom>
          <a:solidFill>
            <a:srgbClr val="ffcccc"/>
          </a:solidFill>
          <a:ln w="15875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rcRect l="0" t="756" r="0" b="3879"/>
          <a:stretch/>
        </p:blipFill>
        <p:spPr>
          <a:xfrm>
            <a:off x="1003320" y="914400"/>
            <a:ext cx="7530840" cy="57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meostatic Imbal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2995920"/>
            <a:ext cx="8686440" cy="14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Disturbanc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f homeostasis or the body’s normal equilibr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Homeostasis &amp; Contr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98360" y="1152720"/>
            <a:ext cx="4352400" cy="51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uccessful compen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meostasis reestabli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Failure to compens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thophysiolog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Ill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5" descr=""/>
          <p:cNvPicPr/>
          <p:nvPr/>
        </p:nvPicPr>
        <p:blipFill>
          <a:blip r:embed="rId1"/>
          <a:srcRect l="22540" t="0" r="23671" b="3597"/>
          <a:stretch/>
        </p:blipFill>
        <p:spPr>
          <a:xfrm>
            <a:off x="4826160" y="1023840"/>
            <a:ext cx="4008240" cy="54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240" cy="289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hanges in The Body Fluid Compartments (ECF &amp; ICF) and Ed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2286000" y="990720"/>
            <a:ext cx="45716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Lecture 4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luid Compart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rcRect l="0" t="0" r="0" b="4412"/>
          <a:stretch/>
        </p:blipFill>
        <p:spPr>
          <a:xfrm>
            <a:off x="106560" y="838080"/>
            <a:ext cx="9037080" cy="58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0" y="609480"/>
            <a:ext cx="9143640" cy="2282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3657600"/>
            <a:ext cx="9143640" cy="75960"/>
          </a:xfrm>
          <a:prstGeom prst="rect">
            <a:avLst/>
          </a:prstGeom>
          <a:solidFill>
            <a:srgbClr val="cccc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2352600"/>
            <a:ext cx="8762760" cy="69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Body Fluids &amp; Electroly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371600" y="990720"/>
            <a:ext cx="6324120" cy="3962160"/>
          </a:xfrm>
          <a:prstGeom prst="rect">
            <a:avLst/>
          </a:prstGeom>
          <a:noFill/>
          <a:ln w="317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007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3"/>
          <p:cNvSpPr/>
          <p:nvPr/>
        </p:nvSpPr>
        <p:spPr>
          <a:xfrm>
            <a:off x="152280" y="1219320"/>
            <a:ext cx="685440" cy="45684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152280" y="2057400"/>
            <a:ext cx="1904760" cy="68544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152280" y="4495680"/>
            <a:ext cx="1599840" cy="22824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52280" y="5181480"/>
            <a:ext cx="1904760" cy="30456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onstituents of ECF and ICF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6" descr="ECF ICCF electrolyte concen.jpg"/>
          <p:cNvPicPr/>
          <p:nvPr/>
        </p:nvPicPr>
        <p:blipFill>
          <a:blip r:embed="rId1"/>
          <a:stretch/>
        </p:blipFill>
        <p:spPr>
          <a:xfrm>
            <a:off x="930960" y="838080"/>
            <a:ext cx="706968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3059280" y="1273320"/>
            <a:ext cx="307296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54000" y="1273320"/>
            <a:ext cx="605448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54000" y="1273320"/>
            <a:ext cx="901332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Picture 5" descr=""/>
          <p:cNvPicPr/>
          <p:nvPr/>
        </p:nvPicPr>
        <p:blipFill>
          <a:blip r:embed="rId1"/>
          <a:stretch/>
        </p:blipFill>
        <p:spPr>
          <a:xfrm>
            <a:off x="3227400" y="3354480"/>
            <a:ext cx="2742840" cy="3314520"/>
          </a:xfrm>
          <a:prstGeom prst="rect">
            <a:avLst/>
          </a:prstGeom>
          <a:ln w="0">
            <a:noFill/>
          </a:ln>
        </p:spPr>
      </p:pic>
      <p:grpSp>
        <p:nvGrpSpPr>
          <p:cNvPr id="435" name="Group 6"/>
          <p:cNvGrpSpPr/>
          <p:nvPr/>
        </p:nvGrpSpPr>
        <p:grpSpPr>
          <a:xfrm>
            <a:off x="3195720" y="1387440"/>
            <a:ext cx="2806200" cy="2184120"/>
            <a:chOff x="3195720" y="1387440"/>
            <a:chExt cx="2806200" cy="2184120"/>
          </a:xfrm>
        </p:grpSpPr>
        <p:pic>
          <p:nvPicPr>
            <p:cNvPr id="436" name="Picture 7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3195720" y="1387440"/>
              <a:ext cx="2806200" cy="21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Rectangle 8"/>
            <p:cNvSpPr/>
            <p:nvPr/>
          </p:nvSpPr>
          <p:spPr>
            <a:xfrm>
              <a:off x="3881160" y="1534680"/>
              <a:ext cx="13467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Normal 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Picture 9" descr=""/>
            <p:cNvPicPr/>
            <p:nvPr/>
          </p:nvPicPr>
          <p:blipFill>
            <a:blip r:embed="rId3"/>
            <a:stretch/>
          </p:blipFill>
          <p:spPr>
            <a:xfrm>
              <a:off x="3541680" y="2928960"/>
              <a:ext cx="1371240" cy="46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Rectangle 10"/>
          <p:cNvSpPr/>
          <p:nvPr/>
        </p:nvSpPr>
        <p:spPr>
          <a:xfrm>
            <a:off x="3434760" y="3571920"/>
            <a:ext cx="236340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Iso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12" descr=""/>
          <p:cNvPicPr/>
          <p:nvPr/>
        </p:nvPicPr>
        <p:blipFill>
          <a:blip r:embed="rId4"/>
          <a:stretch/>
        </p:blipFill>
        <p:spPr>
          <a:xfrm>
            <a:off x="263520" y="3376440"/>
            <a:ext cx="2742840" cy="3314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3" descr=""/>
          <p:cNvPicPr/>
          <p:nvPr/>
        </p:nvPicPr>
        <p:blipFill>
          <a:blip r:embed="rId5"/>
          <a:srcRect l="0" t="0" r="0" b="3019"/>
          <a:stretch/>
        </p:blipFill>
        <p:spPr>
          <a:xfrm>
            <a:off x="6215040" y="3476520"/>
            <a:ext cx="2768400" cy="321444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14"/>
          <p:cNvSpPr/>
          <p:nvPr/>
        </p:nvSpPr>
        <p:spPr>
          <a:xfrm>
            <a:off x="3595680" y="6006960"/>
            <a:ext cx="2016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Equal movement of water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into and out of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5"/>
          <p:cNvSpPr/>
          <p:nvPr/>
        </p:nvSpPr>
        <p:spPr>
          <a:xfrm>
            <a:off x="896040" y="6029280"/>
            <a:ext cx="1359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Net movement of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water out of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6949080" y="6140520"/>
            <a:ext cx="1350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Net movement of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water into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17"/>
          <p:cNvGrpSpPr/>
          <p:nvPr/>
        </p:nvGrpSpPr>
        <p:grpSpPr>
          <a:xfrm>
            <a:off x="244440" y="1387440"/>
            <a:ext cx="2793600" cy="2171520"/>
            <a:chOff x="244440" y="1387440"/>
            <a:chExt cx="2793600" cy="2171520"/>
          </a:xfrm>
        </p:grpSpPr>
        <p:pic>
          <p:nvPicPr>
            <p:cNvPr id="447" name="Picture 18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244440" y="1387440"/>
              <a:ext cx="279360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19"/>
            <p:cNvSpPr/>
            <p:nvPr/>
          </p:nvSpPr>
          <p:spPr>
            <a:xfrm>
              <a:off x="291240" y="1402920"/>
              <a:ext cx="15663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Shriveled</a:t>
              </a:r>
              <a:r>
                <a:rPr b="1" lang="en-US" sz="2000" spc="-1" strike="noStrike">
                  <a:solidFill>
                    <a:srgbClr val="1f497d"/>
                  </a:solidFill>
                  <a:latin typeface="Arial Narrow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Group 20"/>
          <p:cNvGrpSpPr/>
          <p:nvPr/>
        </p:nvGrpSpPr>
        <p:grpSpPr>
          <a:xfrm>
            <a:off x="6197760" y="1387440"/>
            <a:ext cx="2806200" cy="2171520"/>
            <a:chOff x="6197760" y="1387440"/>
            <a:chExt cx="2806200" cy="2171520"/>
          </a:xfrm>
        </p:grpSpPr>
        <p:pic>
          <p:nvPicPr>
            <p:cNvPr id="450" name="Picture 21" descr=""/>
            <p:cNvPicPr/>
            <p:nvPr/>
          </p:nvPicPr>
          <p:blipFill>
            <a:blip r:embed="rId7">
              <a:grayscl/>
            </a:blip>
            <a:stretch/>
          </p:blipFill>
          <p:spPr>
            <a:xfrm>
              <a:off x="6197760" y="1387440"/>
              <a:ext cx="280620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Rectangle 22"/>
            <p:cNvSpPr/>
            <p:nvPr/>
          </p:nvSpPr>
          <p:spPr>
            <a:xfrm>
              <a:off x="6258600" y="3236400"/>
              <a:ext cx="14169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Swollen 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Rectangle 23"/>
          <p:cNvSpPr/>
          <p:nvPr/>
        </p:nvSpPr>
        <p:spPr>
          <a:xfrm>
            <a:off x="244800" y="3571560"/>
            <a:ext cx="276876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Hyper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4"/>
          <p:cNvSpPr/>
          <p:nvPr/>
        </p:nvSpPr>
        <p:spPr>
          <a:xfrm>
            <a:off x="6253920" y="3571920"/>
            <a:ext cx="267120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Hypo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27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just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Volumes And Osmolarities of ECF and ICF </a:t>
            </a:r>
            <a:br>
              <a:rPr sz="4000"/>
            </a:b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In Abnormal  Stat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1746360"/>
            <a:ext cx="8686440" cy="397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me factors can cause the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hydr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ntravenous infusion (I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bnormal swea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tc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677520"/>
            <a:ext cx="8229240" cy="515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Changes in  volume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lume contra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lume expan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ounded Rectangle 5"/>
          <p:cNvSpPr/>
          <p:nvPr/>
        </p:nvSpPr>
        <p:spPr>
          <a:xfrm>
            <a:off x="1523880" y="2286000"/>
            <a:ext cx="2057040" cy="533160"/>
          </a:xfrm>
          <a:prstGeom prst="roundRect">
            <a:avLst>
              <a:gd name="adj" fmla="val 16667"/>
            </a:avLst>
          </a:prstGeom>
          <a:solidFill>
            <a:schemeClr val="accent4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9" name="Rounded Rectangle 4"/>
          <p:cNvSpPr/>
          <p:nvPr/>
        </p:nvSpPr>
        <p:spPr>
          <a:xfrm>
            <a:off x="5943600" y="2209680"/>
            <a:ext cx="1523520" cy="609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hanges in  volu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olume con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10243e"/>
                </a:solidFill>
                <a:latin typeface="Calibri"/>
              </a:rPr>
              <a:t>r</a:t>
            </a: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emoving</a:t>
            </a:r>
            <a:r>
              <a:rPr b="1" lang="en-US" sz="3200" spc="-1" strike="noStrike" u="sng">
                <a:solidFill>
                  <a:srgbClr val="10243e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so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yper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ypo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olume expa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Add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so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yper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ypo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ounded Rectangle 6"/>
          <p:cNvSpPr/>
          <p:nvPr/>
        </p:nvSpPr>
        <p:spPr>
          <a:xfrm>
            <a:off x="380880" y="1371600"/>
            <a:ext cx="4114440" cy="48765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4" name="Rounded Rectangle 7"/>
          <p:cNvSpPr/>
          <p:nvPr/>
        </p:nvSpPr>
        <p:spPr>
          <a:xfrm>
            <a:off x="4648320" y="1371600"/>
            <a:ext cx="4114440" cy="48765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001"/>
          <p:cNvPicPr/>
          <p:nvPr/>
        </p:nvPicPr>
        <p:blipFill>
          <a:blip r:embed="rId1"/>
          <a:srcRect l="0" t="2892" r="38750" b="37778"/>
          <a:stretch/>
        </p:blipFill>
        <p:spPr>
          <a:xfrm>
            <a:off x="0" y="304920"/>
            <a:ext cx="8762760" cy="6248160"/>
          </a:xfrm>
          <a:prstGeom prst="rect">
            <a:avLst/>
          </a:prstGeom>
          <a:ln>
            <a:solidFill>
              <a:srgbClr val="f79646"/>
            </a:solidFill>
            <a:round/>
          </a:ln>
        </p:spPr>
      </p:pic>
      <p:sp>
        <p:nvSpPr>
          <p:cNvPr id="466" name="Rounded Rectangle 2"/>
          <p:cNvSpPr/>
          <p:nvPr/>
        </p:nvSpPr>
        <p:spPr>
          <a:xfrm>
            <a:off x="4876920" y="3200400"/>
            <a:ext cx="3809520" cy="304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304920" y="685800"/>
            <a:ext cx="50288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- Loss of iso-osmotic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.g. Diarrh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ounded Rectangle 4"/>
          <p:cNvSpPr/>
          <p:nvPr/>
        </p:nvSpPr>
        <p:spPr>
          <a:xfrm>
            <a:off x="304920" y="3657600"/>
            <a:ext cx="3352320" cy="25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Volume contraction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770040"/>
            <a:ext cx="8686440" cy="59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arrhe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smolarity of fluid lost ≈ osmolarity of ECF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loss of isosmotic fluid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-    volume in ECF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-     arterial press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Line 4"/>
          <p:cNvSpPr/>
          <p:nvPr/>
        </p:nvSpPr>
        <p:spPr>
          <a:xfrm>
            <a:off x="3276360" y="5029200"/>
            <a:ext cx="360" cy="304560"/>
          </a:xfrm>
          <a:prstGeom prst="line">
            <a:avLst/>
          </a:prstGeom>
          <a:ln w="9525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Line 5"/>
          <p:cNvSpPr/>
          <p:nvPr/>
        </p:nvSpPr>
        <p:spPr>
          <a:xfrm>
            <a:off x="3276360" y="5638680"/>
            <a:ext cx="360" cy="228600"/>
          </a:xfrm>
          <a:prstGeom prst="line">
            <a:avLst/>
          </a:prstGeom>
          <a:ln w="9525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3" name="Straight Arrow Connector 6"/>
          <p:cNvCxnSpPr/>
          <p:nvPr/>
        </p:nvCxnSpPr>
        <p:spPr>
          <a:xfrm>
            <a:off x="2971800" y="4343400"/>
            <a:ext cx="360" cy="53352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  <p:cxnSp>
        <p:nvCxnSpPr>
          <p:cNvPr id="474" name="Straight Arrow Connector 8"/>
          <p:cNvCxnSpPr/>
          <p:nvPr/>
        </p:nvCxnSpPr>
        <p:spPr>
          <a:xfrm>
            <a:off x="2971800" y="5486400"/>
            <a:ext cx="360" cy="53352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001"/>
          <p:cNvPicPr/>
          <p:nvPr/>
        </p:nvPicPr>
        <p:blipFill>
          <a:blip r:embed="rId1"/>
          <a:srcRect l="25003" t="2222" r="26669" b="37778"/>
          <a:stretch/>
        </p:blipFill>
        <p:spPr>
          <a:xfrm>
            <a:off x="2286000" y="990720"/>
            <a:ext cx="6104160" cy="556236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2"/>
          <p:cNvSpPr/>
          <p:nvPr/>
        </p:nvSpPr>
        <p:spPr>
          <a:xfrm>
            <a:off x="-429840" y="304920"/>
            <a:ext cx="61992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. Loss of hypotonic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.g. Water  depr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4"/>
          <p:cNvSpPr/>
          <p:nvPr/>
        </p:nvSpPr>
        <p:spPr>
          <a:xfrm>
            <a:off x="6934320" y="5943600"/>
            <a:ext cx="1980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yperosmotoc dehyd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ounded Rectangle 3"/>
          <p:cNvSpPr/>
          <p:nvPr/>
        </p:nvSpPr>
        <p:spPr>
          <a:xfrm>
            <a:off x="3809880" y="3505320"/>
            <a:ext cx="5028840" cy="312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948600"/>
            <a:ext cx="822924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At the end of this session, the students should be able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dentify and describe daily intake and output of water and maintenance of water bala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st and describe of body fluid compartments as intra-cellular fluid (ICF) Extra-cellular fluid (ECF), interstitial fluid, trans-cellular fluid and total body water (TBW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cribe the composition of each fluid compartment, in terms of volume and ions and represent them in graphic for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ysiology factor influencing body fluid: age, sex, adipose tissue, etc. Pathological factors: Dehydration, fluid infu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430200"/>
            <a:ext cx="8229240" cy="61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Water  deprivation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Osmolarity and volume will change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  Osmolarity in both ECF and IC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  Volume in both ECF and IC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716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0" name="Straight Arrow Connector 5"/>
          <p:cNvCxnSpPr/>
          <p:nvPr/>
        </p:nvCxnSpPr>
        <p:spPr>
          <a:xfrm flipV="1">
            <a:off x="2057400" y="2666880"/>
            <a:ext cx="1800" cy="45756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  <p:cxnSp>
        <p:nvCxnSpPr>
          <p:cNvPr id="481" name="Straight Arrow Connector 7"/>
          <p:cNvCxnSpPr/>
          <p:nvPr/>
        </p:nvCxnSpPr>
        <p:spPr>
          <a:xfrm flipH="1">
            <a:off x="2133360" y="3657600"/>
            <a:ext cx="2160" cy="53352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001"/>
          <p:cNvPicPr/>
          <p:nvPr/>
        </p:nvPicPr>
        <p:blipFill>
          <a:blip r:embed="rId1"/>
          <a:srcRect l="39047" t="2222" r="38035" b="71586"/>
          <a:stretch/>
        </p:blipFill>
        <p:spPr>
          <a:xfrm>
            <a:off x="2514600" y="1121400"/>
            <a:ext cx="3047760" cy="2612160"/>
          </a:xfrm>
          <a:prstGeom prst="rect">
            <a:avLst/>
          </a:prstGeom>
          <a:ln w="0">
            <a:noFill/>
          </a:ln>
        </p:spPr>
      </p:pic>
      <p:sp>
        <p:nvSpPr>
          <p:cNvPr id="483" name="TextBox 3"/>
          <p:cNvSpPr/>
          <p:nvPr/>
        </p:nvSpPr>
        <p:spPr>
          <a:xfrm>
            <a:off x="228600" y="380880"/>
            <a:ext cx="8686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- Loss of hypertonic sol. e.g. Adrenal insufficie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001"/>
          <p:cNvPicPr/>
          <p:nvPr/>
        </p:nvPicPr>
        <p:blipFill>
          <a:blip r:embed="rId2"/>
          <a:srcRect l="73095" t="32779" r="3332" b="40158"/>
          <a:stretch/>
        </p:blipFill>
        <p:spPr>
          <a:xfrm>
            <a:off x="2121480" y="3429000"/>
            <a:ext cx="3440880" cy="2962800"/>
          </a:xfrm>
          <a:prstGeom prst="rect">
            <a:avLst/>
          </a:prstGeom>
          <a:ln w="0">
            <a:noFill/>
          </a:ln>
        </p:spPr>
      </p:pic>
      <p:sp>
        <p:nvSpPr>
          <p:cNvPr id="485" name="TextBox 5"/>
          <p:cNvSpPr/>
          <p:nvPr/>
        </p:nvSpPr>
        <p:spPr>
          <a:xfrm>
            <a:off x="1905120" y="4495680"/>
            <a:ext cx="461160" cy="12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smo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Unfortunately we are unable to provide accessible alternative text for this. If you require assistance to access this image, please contact help@nature.com or the author"/>
          <p:cNvPicPr/>
          <p:nvPr/>
        </p:nvPicPr>
        <p:blipFill>
          <a:blip r:embed="rId3"/>
          <a:srcRect l="0" t="0" r="0" b="16523"/>
          <a:stretch/>
        </p:blipFill>
        <p:spPr>
          <a:xfrm>
            <a:off x="6477120" y="1066680"/>
            <a:ext cx="2429640" cy="1599840"/>
          </a:xfrm>
          <a:prstGeom prst="rect">
            <a:avLst/>
          </a:prstGeom>
          <a:ln w="0">
            <a:noFill/>
          </a:ln>
        </p:spPr>
      </p:pic>
      <p:sp>
        <p:nvSpPr>
          <p:cNvPr id="487" name="TextBox 8"/>
          <p:cNvSpPr/>
          <p:nvPr/>
        </p:nvSpPr>
        <p:spPr>
          <a:xfrm>
            <a:off x="5486400" y="5943600"/>
            <a:ext cx="2590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ypo-osmotic dehyd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ounded Rectangle 6"/>
          <p:cNvSpPr/>
          <p:nvPr/>
        </p:nvSpPr>
        <p:spPr>
          <a:xfrm>
            <a:off x="1752480" y="3505320"/>
            <a:ext cx="6019560" cy="312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22924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79600" indent="-579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tarSymbol"/>
              <a:buAutoNum type="arabicPeriod" startAt="3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Loss of hypertonic solu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e.g. Adrenal insufficienc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.e. Aldosterone de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+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n the EC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 osmolarity in both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  in ECF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  in ICF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Line 3"/>
          <p:cNvSpPr/>
          <p:nvPr/>
        </p:nvSpPr>
        <p:spPr>
          <a:xfrm>
            <a:off x="1447560" y="4724280"/>
            <a:ext cx="360" cy="38088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Line 4"/>
          <p:cNvSpPr/>
          <p:nvPr/>
        </p:nvSpPr>
        <p:spPr>
          <a:xfrm>
            <a:off x="1447560" y="3657600"/>
            <a:ext cx="360" cy="38088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Line 5"/>
          <p:cNvSpPr/>
          <p:nvPr/>
        </p:nvSpPr>
        <p:spPr>
          <a:xfrm>
            <a:off x="1447560" y="4267080"/>
            <a:ext cx="360" cy="38088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Line 6"/>
          <p:cNvSpPr/>
          <p:nvPr/>
        </p:nvSpPr>
        <p:spPr>
          <a:xfrm flipV="1">
            <a:off x="1447560" y="5257800"/>
            <a:ext cx="360" cy="30456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001"/>
          <p:cNvPicPr/>
          <p:nvPr/>
        </p:nvPicPr>
        <p:blipFill>
          <a:blip r:embed="rId1"/>
          <a:srcRect l="2502" t="2222" r="2502" b="37778"/>
          <a:stretch/>
        </p:blipFill>
        <p:spPr>
          <a:xfrm>
            <a:off x="228600" y="228600"/>
            <a:ext cx="8381520" cy="6019560"/>
          </a:xfrm>
          <a:prstGeom prst="rect">
            <a:avLst/>
          </a:prstGeom>
          <a:ln w="0">
            <a:noFill/>
          </a:ln>
        </p:spPr>
      </p:pic>
      <p:sp>
        <p:nvSpPr>
          <p:cNvPr id="495" name="Rounded Rectangle 2"/>
          <p:cNvSpPr/>
          <p:nvPr/>
        </p:nvSpPr>
        <p:spPr>
          <a:xfrm>
            <a:off x="3429000" y="2971800"/>
            <a:ext cx="2057040" cy="5331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olume Expan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1" descr="add saline.jpg"/>
          <p:cNvPicPr/>
          <p:nvPr/>
        </p:nvPicPr>
        <p:blipFill>
          <a:blip r:embed="rId1"/>
          <a:srcRect l="3558" t="4391" r="3872" b="47349"/>
          <a:stretch/>
        </p:blipFill>
        <p:spPr>
          <a:xfrm>
            <a:off x="422640" y="1371600"/>
            <a:ext cx="8284680" cy="3504960"/>
          </a:xfrm>
          <a:prstGeom prst="rect">
            <a:avLst/>
          </a:prstGeom>
          <a:ln w="0">
            <a:noFill/>
          </a:ln>
        </p:spPr>
      </p:pic>
      <p:sp>
        <p:nvSpPr>
          <p:cNvPr id="498" name="Rounded Rectangle 2"/>
          <p:cNvSpPr/>
          <p:nvPr/>
        </p:nvSpPr>
        <p:spPr>
          <a:xfrm>
            <a:off x="5181480" y="2057400"/>
            <a:ext cx="3276360" cy="266652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9bbb5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555120" y="5715000"/>
            <a:ext cx="4920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Adding of isotonic Na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Volume Expansion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815040"/>
            <a:ext cx="8229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fusion of isotonic NaC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n ECF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No change in osmolar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somotic expan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2" name="Straight Arrow Connector 8"/>
          <p:cNvCxnSpPr/>
          <p:nvPr/>
        </p:nvCxnSpPr>
        <p:spPr>
          <a:xfrm flipV="1">
            <a:off x="761760" y="2057400"/>
            <a:ext cx="360" cy="53352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add saline.jpg"/>
          <p:cNvPicPr/>
          <p:nvPr/>
        </p:nvPicPr>
        <p:blipFill>
          <a:blip r:embed="rId1"/>
          <a:stretch/>
        </p:blipFill>
        <p:spPr>
          <a:xfrm>
            <a:off x="345600" y="151920"/>
            <a:ext cx="8035920" cy="6521040"/>
          </a:xfrm>
          <a:prstGeom prst="rect">
            <a:avLst/>
          </a:prstGeom>
          <a:ln w="0">
            <a:noFill/>
          </a:ln>
        </p:spPr>
      </p:pic>
      <p:sp>
        <p:nvSpPr>
          <p:cNvPr id="504" name="Rounded Rectangle 2"/>
          <p:cNvSpPr/>
          <p:nvPr/>
        </p:nvSpPr>
        <p:spPr>
          <a:xfrm>
            <a:off x="762120" y="3657600"/>
            <a:ext cx="3580920" cy="21333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5" name="Rounded Rectangle 3"/>
          <p:cNvSpPr/>
          <p:nvPr/>
        </p:nvSpPr>
        <p:spPr>
          <a:xfrm>
            <a:off x="4876920" y="1066680"/>
            <a:ext cx="2895120" cy="23619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6" name="Rounded Rectangle 4"/>
          <p:cNvSpPr/>
          <p:nvPr/>
        </p:nvSpPr>
        <p:spPr>
          <a:xfrm>
            <a:off x="4724280" y="3581280"/>
            <a:ext cx="2971440" cy="228564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9bbb5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73760" y="4724280"/>
            <a:ext cx="4599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2- High NaCl in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24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 startAt="2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NaCl inta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 eating sa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 osmolarity in bo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 volume of ICF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 volume of ECF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yperosmotic volume expans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Line 3"/>
          <p:cNvSpPr/>
          <p:nvPr/>
        </p:nvSpPr>
        <p:spPr>
          <a:xfrm flipV="1">
            <a:off x="1295280" y="2361960"/>
            <a:ext cx="360" cy="38124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Line 4"/>
          <p:cNvSpPr/>
          <p:nvPr/>
        </p:nvSpPr>
        <p:spPr>
          <a:xfrm>
            <a:off x="1295280" y="3429000"/>
            <a:ext cx="360" cy="38088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Line 5"/>
          <p:cNvSpPr/>
          <p:nvPr/>
        </p:nvSpPr>
        <p:spPr>
          <a:xfrm>
            <a:off x="1447560" y="3886200"/>
            <a:ext cx="36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Line 6"/>
          <p:cNvSpPr/>
          <p:nvPr/>
        </p:nvSpPr>
        <p:spPr>
          <a:xfrm flipV="1">
            <a:off x="1295280" y="2895480"/>
            <a:ext cx="360" cy="38088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3" name="Straight Arrow Connector 7"/>
          <p:cNvCxnSpPr/>
          <p:nvPr/>
        </p:nvCxnSpPr>
        <p:spPr>
          <a:xfrm flipV="1">
            <a:off x="1295280" y="4039200"/>
            <a:ext cx="1080" cy="45684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8" descr="add saline.jpg"/>
          <p:cNvPicPr/>
          <p:nvPr/>
        </p:nvPicPr>
        <p:blipFill>
          <a:blip r:embed="rId1"/>
          <a:srcRect l="4527" t="52735" r="50003" b="9001"/>
          <a:stretch/>
        </p:blipFill>
        <p:spPr>
          <a:xfrm>
            <a:off x="2114640" y="3886200"/>
            <a:ext cx="3904920" cy="266652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686440" cy="38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ding hypotonic solution e.g. Syndrome of inappropriate antidiurtic hormone (SIAD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mola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3"/>
          <p:cNvSpPr/>
          <p:nvPr/>
        </p:nvSpPr>
        <p:spPr>
          <a:xfrm flipV="1">
            <a:off x="609480" y="2133360"/>
            <a:ext cx="360" cy="45720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4"/>
          <p:cNvSpPr/>
          <p:nvPr/>
        </p:nvSpPr>
        <p:spPr>
          <a:xfrm>
            <a:off x="609480" y="3276360"/>
            <a:ext cx="360" cy="45720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4" descr="add saline.jpg"/>
          <p:cNvPicPr/>
          <p:nvPr/>
        </p:nvPicPr>
        <p:blipFill>
          <a:blip r:embed="rId2"/>
          <a:srcRect l="5638" t="13095" r="52219" b="47265"/>
          <a:stretch/>
        </p:blipFill>
        <p:spPr>
          <a:xfrm>
            <a:off x="5029200" y="1371600"/>
            <a:ext cx="3594240" cy="2742840"/>
          </a:xfrm>
          <a:prstGeom prst="rect">
            <a:avLst/>
          </a:prstGeom>
          <a:ln w="0">
            <a:noFill/>
          </a:ln>
        </p:spPr>
      </p:pic>
      <p:sp>
        <p:nvSpPr>
          <p:cNvPr id="519" name="Rounded Rectangle 7"/>
          <p:cNvSpPr/>
          <p:nvPr/>
        </p:nvSpPr>
        <p:spPr>
          <a:xfrm>
            <a:off x="2133720" y="3886200"/>
            <a:ext cx="3885840" cy="259056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9bbb5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166040"/>
            <a:ext cx="8686440" cy="51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uman body contai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50-70%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70 k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 ha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2 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of wa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Kg of water = L of wa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3" descr="add saline.jpg"/>
          <p:cNvPicPr/>
          <p:nvPr/>
        </p:nvPicPr>
        <p:blipFill>
          <a:blip r:embed="rId1"/>
          <a:stretch/>
        </p:blipFill>
        <p:spPr>
          <a:xfrm>
            <a:off x="815760" y="641520"/>
            <a:ext cx="7191360" cy="58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00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22" name="Rounded Rectangle 2"/>
          <p:cNvSpPr/>
          <p:nvPr/>
        </p:nvSpPr>
        <p:spPr>
          <a:xfrm>
            <a:off x="3505320" y="1905120"/>
            <a:ext cx="2057040" cy="5331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3" name="Rounded Rectangle 3"/>
          <p:cNvSpPr/>
          <p:nvPr/>
        </p:nvSpPr>
        <p:spPr>
          <a:xfrm>
            <a:off x="3657600" y="4267080"/>
            <a:ext cx="2057040" cy="5331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Edem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00080" y="1714320"/>
            <a:ext cx="722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Line 4"/>
          <p:cNvSpPr/>
          <p:nvPr/>
        </p:nvSpPr>
        <p:spPr>
          <a:xfrm flipH="1">
            <a:off x="2286000" y="2286000"/>
            <a:ext cx="2286000" cy="761760"/>
          </a:xfrm>
          <a:prstGeom prst="line">
            <a:avLst/>
          </a:prstGeom>
          <a:ln w="5715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Line 5"/>
          <p:cNvSpPr/>
          <p:nvPr/>
        </p:nvSpPr>
        <p:spPr>
          <a:xfrm>
            <a:off x="4572000" y="2286000"/>
            <a:ext cx="1904760" cy="761760"/>
          </a:xfrm>
          <a:prstGeom prst="line">
            <a:avLst/>
          </a:prstGeom>
          <a:ln w="5715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976828395"/>
              </p:ext>
            </p:extLst>
          </p:nvPr>
        </p:nvGraphicFramePr>
        <p:xfrm>
          <a:off x="1143000" y="838080"/>
          <a:ext cx="6643440" cy="4857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528" name="Rectangle 6"/>
          <p:cNvSpPr/>
          <p:nvPr/>
        </p:nvSpPr>
        <p:spPr>
          <a:xfrm>
            <a:off x="380880" y="5943600"/>
            <a:ext cx="845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dema occurs mainly in the ECF compar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Down Arrow 7"/>
          <p:cNvSpPr/>
          <p:nvPr/>
        </p:nvSpPr>
        <p:spPr>
          <a:xfrm rot="1881600">
            <a:off x="7890480" y="2755440"/>
            <a:ext cx="369000" cy="1142640"/>
          </a:xfrm>
          <a:prstGeom prst="downArrow">
            <a:avLst>
              <a:gd name="adj1" fmla="val 50000"/>
              <a:gd name="adj2" fmla="val 51083"/>
            </a:avLst>
          </a:prstGeom>
          <a:solidFill>
            <a:srgbClr val="7030a0"/>
          </a:solidFill>
          <a:ln>
            <a:solidFill>
              <a:srgbClr val="c0504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File:Oedema.jpg">
            <a:hlinkClick r:id="rId1"/>
          </p:cNvPr>
          <p:cNvPicPr/>
          <p:nvPr/>
        </p:nvPicPr>
        <p:blipFill>
          <a:blip r:embed="rId2"/>
          <a:srcRect l="0" t="7992" r="15010" b="29331"/>
          <a:stretch/>
        </p:blipFill>
        <p:spPr>
          <a:xfrm>
            <a:off x="228600" y="228600"/>
            <a:ext cx="3885840" cy="35809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http://www.fgf.uk.com/phpThumb/phpThumb.php?src=/images/images/530.jpg"/>
          <p:cNvPicPr/>
          <p:nvPr/>
        </p:nvPicPr>
        <p:blipFill>
          <a:blip r:embed="rId3"/>
          <a:stretch/>
        </p:blipFill>
        <p:spPr>
          <a:xfrm>
            <a:off x="4267080" y="0"/>
            <a:ext cx="4463640" cy="29714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8" descr="http://subcutaneous.net/wp-content/uploads/2011/05/Subcutaneous-Oedema.jpg"/>
          <p:cNvPicPr/>
          <p:nvPr/>
        </p:nvPicPr>
        <p:blipFill>
          <a:blip r:embed="rId4"/>
          <a:srcRect l="9598" t="6403" r="12002" b="10401"/>
          <a:stretch/>
        </p:blipFill>
        <p:spPr>
          <a:xfrm>
            <a:off x="4952880" y="3429000"/>
            <a:ext cx="3733560" cy="29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428840" y="1357200"/>
            <a:ext cx="64292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Line 3"/>
          <p:cNvSpPr/>
          <p:nvPr/>
        </p:nvSpPr>
        <p:spPr>
          <a:xfrm>
            <a:off x="3200400" y="2286000"/>
            <a:ext cx="360" cy="60948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Line 4"/>
          <p:cNvSpPr/>
          <p:nvPr/>
        </p:nvSpPr>
        <p:spPr>
          <a:xfrm flipV="1">
            <a:off x="1752480" y="2819160"/>
            <a:ext cx="360" cy="38124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200400" y="3276360"/>
            <a:ext cx="360" cy="45720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Line 6"/>
          <p:cNvSpPr/>
          <p:nvPr/>
        </p:nvSpPr>
        <p:spPr>
          <a:xfrm flipV="1">
            <a:off x="1828800" y="3733560"/>
            <a:ext cx="360" cy="38124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Line 7"/>
          <p:cNvSpPr/>
          <p:nvPr/>
        </p:nvSpPr>
        <p:spPr>
          <a:xfrm>
            <a:off x="3200400" y="4343400"/>
            <a:ext cx="360" cy="38088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3200400" y="5333760"/>
            <a:ext cx="360" cy="53352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Extracellular Ede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232950617"/>
              </p:ext>
            </p:extLst>
          </p:nvPr>
        </p:nvGraphicFramePr>
        <p:xfrm>
          <a:off x="1447920" y="2133720"/>
          <a:ext cx="6095520" cy="4532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cxnSp>
        <p:nvCxnSpPr>
          <p:cNvPr id="541" name="Straight Arrow Connector 12"/>
          <p:cNvCxnSpPr/>
          <p:nvPr/>
        </p:nvCxnSpPr>
        <p:spPr>
          <a:xfrm flipV="1">
            <a:off x="2895480" y="3581280"/>
            <a:ext cx="1800" cy="381240"/>
          </a:xfrm>
          <a:prstGeom prst="straightConnector1">
            <a:avLst/>
          </a:prstGeom>
          <a:ln>
            <a:solidFill>
              <a:srgbClr val="1f497d">
                <a:lumMod val="50000"/>
              </a:srgbClr>
            </a:solidFill>
            <a:round/>
            <a:tailEnd len="med" type="arrow" w="med"/>
          </a:ln>
        </p:spPr>
      </p:cxnSp>
      <p:cxnSp>
        <p:nvCxnSpPr>
          <p:cNvPr id="542" name="Straight Arrow Connector 15"/>
          <p:cNvCxnSpPr/>
          <p:nvPr/>
        </p:nvCxnSpPr>
        <p:spPr>
          <a:xfrm flipV="1">
            <a:off x="3581280" y="4800600"/>
            <a:ext cx="1800" cy="381240"/>
          </a:xfrm>
          <a:prstGeom prst="straightConnector1">
            <a:avLst/>
          </a:prstGeom>
          <a:ln>
            <a:solidFill>
              <a:srgbClr val="002060"/>
            </a:solidFill>
            <a:round/>
            <a:tailEnd len="med" type="arrow" w="med"/>
          </a:ln>
        </p:spPr>
      </p:cxnSp>
      <p:sp>
        <p:nvSpPr>
          <p:cNvPr id="543" name="Rectangle 16"/>
          <p:cNvSpPr/>
          <p:nvPr/>
        </p:nvSpPr>
        <p:spPr>
          <a:xfrm>
            <a:off x="152280" y="685800"/>
            <a:ext cx="8457840" cy="12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on clinical cause is excessive capillary fluid fil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2" descr="http://nottinghamchildhealth.org.uk/CAL/inotropes/Capillary%20bed.gif"/>
          <p:cNvPicPr/>
          <p:nvPr/>
        </p:nvPicPr>
        <p:blipFill>
          <a:blip r:embed="rId5"/>
          <a:stretch/>
        </p:blipFill>
        <p:spPr>
          <a:xfrm rot="10800000">
            <a:off x="1295640" y="2057400"/>
            <a:ext cx="6636960" cy="4571640"/>
          </a:xfrm>
          <a:prstGeom prst="rect">
            <a:avLst/>
          </a:prstGeom>
          <a:ln w="76200">
            <a:solidFill>
              <a:srgbClr val="000000">
                <a:lumMod val="95000"/>
                <a:lumOff val="5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428840" y="1357200"/>
            <a:ext cx="64292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Line 3"/>
          <p:cNvSpPr/>
          <p:nvPr/>
        </p:nvSpPr>
        <p:spPr>
          <a:xfrm>
            <a:off x="3200400" y="2286000"/>
            <a:ext cx="360" cy="60948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Line 4"/>
          <p:cNvSpPr/>
          <p:nvPr/>
        </p:nvSpPr>
        <p:spPr>
          <a:xfrm flipV="1">
            <a:off x="1752480" y="2819160"/>
            <a:ext cx="360" cy="38124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Line 5"/>
          <p:cNvSpPr/>
          <p:nvPr/>
        </p:nvSpPr>
        <p:spPr>
          <a:xfrm>
            <a:off x="3200400" y="3276360"/>
            <a:ext cx="360" cy="45720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Line 6"/>
          <p:cNvSpPr/>
          <p:nvPr/>
        </p:nvSpPr>
        <p:spPr>
          <a:xfrm flipV="1">
            <a:off x="1828800" y="3733560"/>
            <a:ext cx="360" cy="38124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Line 7"/>
          <p:cNvSpPr/>
          <p:nvPr/>
        </p:nvSpPr>
        <p:spPr>
          <a:xfrm>
            <a:off x="3200400" y="4343400"/>
            <a:ext cx="360" cy="38088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3200400" y="5333760"/>
            <a:ext cx="360" cy="53352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acellular Edem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687029406"/>
              </p:ext>
            </p:extLst>
          </p:nvPr>
        </p:nvGraphicFramePr>
        <p:xfrm>
          <a:off x="1143000" y="1357200"/>
          <a:ext cx="6452640" cy="51192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cxnSp>
        <p:nvCxnSpPr>
          <p:cNvPr id="553" name="Straight Arrow Connector 12"/>
          <p:cNvCxnSpPr/>
          <p:nvPr/>
        </p:nvCxnSpPr>
        <p:spPr>
          <a:xfrm flipV="1">
            <a:off x="2133360" y="2514600"/>
            <a:ext cx="360" cy="60984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Oval 2"/>
          <p:cNvSpPr/>
          <p:nvPr/>
        </p:nvSpPr>
        <p:spPr>
          <a:xfrm>
            <a:off x="1828800" y="1371600"/>
            <a:ext cx="5943240" cy="3200040"/>
          </a:xfrm>
          <a:prstGeom prst="ellipse">
            <a:avLst/>
          </a:prstGeom>
          <a:solidFill>
            <a:srgbClr val="4f81bd"/>
          </a:solidFill>
          <a:ln w="762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ar-SA" sz="8000" spc="-1" strike="noStrike">
                <a:solidFill>
                  <a:srgbClr val="ffff00"/>
                </a:solidFill>
                <a:latin typeface="Calibri"/>
              </a:rPr>
              <a:t>الله يوفقن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7772040" cy="233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200" spc="-1" strike="noStrike" u="sng">
                <a:solidFill>
                  <a:srgbClr val="0070c0"/>
                </a:solidFill>
                <a:uFillTx/>
                <a:latin typeface="Calibri"/>
              </a:rPr>
              <a:t>Lecture 2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Cell membrane structure and transport across cell membran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 the end of this session, the students should be able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fluid mosaic model of membrane structure and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permeability and list factors influencing permeabi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and describe carried-mediated transport processes: Primary active transport, secondary active transport, facilitates diffu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ell Membra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elops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, pliable and elas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 - 10 nanometer thi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referred to as the plasma membrane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rcRect l="11999" t="16670" r="11999" b="1667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solidFill>
              <a:srgbClr val="66ffff"/>
            </a:solidFill>
            <a:miter/>
          </a:ln>
        </p:spPr>
      </p:pic>
      <p:sp>
        <p:nvSpPr>
          <p:cNvPr id="265" name="Rounded Rectangle 2"/>
          <p:cNvSpPr/>
          <p:nvPr/>
        </p:nvSpPr>
        <p:spPr>
          <a:xfrm>
            <a:off x="1295280" y="685800"/>
            <a:ext cx="6476760" cy="761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Rounded Rectangle 3"/>
          <p:cNvSpPr/>
          <p:nvPr/>
        </p:nvSpPr>
        <p:spPr>
          <a:xfrm>
            <a:off x="2057400" y="5638680"/>
            <a:ext cx="685440" cy="456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7" name="Rounded Rectangle 4"/>
          <p:cNvSpPr/>
          <p:nvPr/>
        </p:nvSpPr>
        <p:spPr>
          <a:xfrm>
            <a:off x="5486400" y="3581280"/>
            <a:ext cx="685440" cy="456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Rounded Rectangle 5"/>
          <p:cNvSpPr/>
          <p:nvPr/>
        </p:nvSpPr>
        <p:spPr>
          <a:xfrm>
            <a:off x="380880" y="2971800"/>
            <a:ext cx="685440" cy="456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Rounded Rectangle 6"/>
          <p:cNvSpPr/>
          <p:nvPr/>
        </p:nvSpPr>
        <p:spPr>
          <a:xfrm>
            <a:off x="3505320" y="3962520"/>
            <a:ext cx="685440" cy="456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Rounded Rectangle 7"/>
          <p:cNvSpPr/>
          <p:nvPr/>
        </p:nvSpPr>
        <p:spPr>
          <a:xfrm>
            <a:off x="7848720" y="4800600"/>
            <a:ext cx="685440" cy="456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om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1746360"/>
            <a:ext cx="8686440" cy="397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in  5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spholipids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lesterol 13%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lip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lipid    4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hydrates 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5105520" y="2666880"/>
            <a:ext cx="360000" cy="1512360"/>
          </a:xfrm>
          <a:prstGeom prst="rightBrace">
            <a:avLst>
              <a:gd name="adj1" fmla="val 34985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81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The Cell Membrane Phospholipids Consist Of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ycerol head (hydrophilic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fatty acid ‘’tails’’ (hydrophobic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4" descr="phys1"/>
          <p:cNvPicPr/>
          <p:nvPr/>
        </p:nvPicPr>
        <p:blipFill>
          <a:blip r:embed="rId1"/>
          <a:srcRect l="43666" t="22122" r="0" b="24985"/>
          <a:stretch/>
        </p:blipFill>
        <p:spPr>
          <a:xfrm>
            <a:off x="4495680" y="2514600"/>
            <a:ext cx="3218040" cy="2590560"/>
          </a:xfrm>
          <a:prstGeom prst="rect">
            <a:avLst/>
          </a:prstGeom>
          <a:ln w="0">
            <a:noFill/>
          </a:ln>
        </p:spPr>
      </p:pic>
      <p:sp>
        <p:nvSpPr>
          <p:cNvPr id="567" name="Oval 4"/>
          <p:cNvSpPr/>
          <p:nvPr/>
        </p:nvSpPr>
        <p:spPr>
          <a:xfrm>
            <a:off x="5334120" y="2057400"/>
            <a:ext cx="456840" cy="4568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8" name="Oval 5"/>
          <p:cNvSpPr/>
          <p:nvPr/>
        </p:nvSpPr>
        <p:spPr>
          <a:xfrm>
            <a:off x="5257800" y="3581280"/>
            <a:ext cx="456840" cy="4568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9" name="TextBox 6"/>
          <p:cNvSpPr/>
          <p:nvPr/>
        </p:nvSpPr>
        <p:spPr>
          <a:xfrm>
            <a:off x="6019920" y="5334120"/>
            <a:ext cx="99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7"/>
          <p:cNvSpPr/>
          <p:nvPr/>
        </p:nvSpPr>
        <p:spPr>
          <a:xfrm>
            <a:off x="5410080" y="1752480"/>
            <a:ext cx="1904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The Cell Membrane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4" descr="4"/>
          <p:cNvPicPr/>
          <p:nvPr/>
        </p:nvPicPr>
        <p:blipFill>
          <a:blip r:embed="rId1"/>
          <a:stretch/>
        </p:blipFill>
        <p:spPr>
          <a:xfrm>
            <a:off x="457200" y="838080"/>
            <a:ext cx="8392680" cy="579096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5"/>
          <p:cNvSpPr/>
          <p:nvPr/>
        </p:nvSpPr>
        <p:spPr>
          <a:xfrm>
            <a:off x="4648320" y="5257800"/>
            <a:ext cx="1676160" cy="761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4" name="TextBox 4"/>
          <p:cNvSpPr/>
          <p:nvPr/>
        </p:nvSpPr>
        <p:spPr>
          <a:xfrm>
            <a:off x="4952880" y="5334120"/>
            <a:ext cx="1294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ipheral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3048120" y="1523880"/>
            <a:ext cx="1523520" cy="83772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3276720" y="1523880"/>
            <a:ext cx="1294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l 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1" descr="cell membrane proteins.jpg"/>
          <p:cNvPicPr/>
          <p:nvPr/>
        </p:nvPicPr>
        <p:blipFill>
          <a:blip r:embed="rId1"/>
          <a:stretch/>
        </p:blipFill>
        <p:spPr>
          <a:xfrm>
            <a:off x="1136520" y="120600"/>
            <a:ext cx="6870240" cy="66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The Cell Membrane Protei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537480" indent="-537480">
              <a:lnSpc>
                <a:spcPct val="90000"/>
              </a:lnSpc>
              <a:spcBef>
                <a:spcPts val="641"/>
              </a:spcBef>
              <a:buClr>
                <a:srgbClr val="c00000"/>
              </a:buClr>
              <a:buFont typeface="StarSymbol"/>
              <a:buAutoNum type="arabicPeriod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ntegral protei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n the membrane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-537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ins provide structur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hanne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-537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arri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.      Peripheral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Present in one 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Hormone receptors .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ell surface antigen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6" descr="phys2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6" descr="GUYTON 4-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395280" y="333360"/>
            <a:ext cx="8218080" cy="142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chemeClr val="folHlink"/>
                </a:solidFill>
                <a:latin typeface="Calibri"/>
              </a:rPr>
              <a:t>The Cell Membrane Carbohydrates:</a:t>
            </a:r>
            <a:r>
              <a:rPr b="1" lang="en-GB" sz="3600" spc="-1" strike="noStrike">
                <a:solidFill>
                  <a:schemeClr val="folHlink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463680" y="2182680"/>
            <a:ext cx="8229240" cy="399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proteins (most of it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lipids (1/1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oglycans (mainly carbohydrate substance bound together by prote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’’ part is in the surface form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calyx.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loose coat of carbohydrat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GUYTON 2-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folHlink"/>
                </a:solidFill>
                <a:latin typeface="Calibri"/>
              </a:rPr>
              <a:t>Function Of Carbohydrat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hes cell to each oth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 as receptors substances (help ligend to recognize its receptor 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enter in to immune reac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most of cells overall –ve surfa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  <Words>2934</Words>
  <Paragraphs>7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1:58:15Z</dcterms:created>
  <dc:creator>DR.ABDUL MAJEED</dc:creator>
  <dc:description/>
  <dc:language>en-US</dc:language>
  <cp:lastModifiedBy>GCUSER</cp:lastModifiedBy>
  <dcterms:modified xsi:type="dcterms:W3CDTF">2014-09-01T10:02:16Z</dcterms:modified>
  <cp:revision>77</cp:revision>
  <dc:subject/>
  <dc:title>Introduction to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On-screen Show (4:3)</vt:lpwstr>
  </property>
  <property fmtid="{D5CDD505-2E9C-101B-9397-08002B2CF9AE}" pid="4" name="Slides">
    <vt:r8>123</vt:r8>
  </property>
</Properties>
</file>