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97DC42-97FB-47F4-BC8B-39C6DBB4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3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45B6E5-2C22-4F54-9DBA-9F3667D5F8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Num" idx="3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459AB9-45B2-4FB1-B8E6-E937818A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3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E9F1D2-5078-453D-AB85-E01FB0C6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Num" idx="2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AA0D4-558B-4A0A-8B26-90FC5770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Num" idx="2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696399-080E-4F57-B3B6-E8D355BA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6440" cy="3206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lIns="89640" rIns="8964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5CC-5B91-4837-BD31-228E8EFE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61F0-DD7E-4CCB-996D-67A67343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18812-BDA0-4FC7-A6CC-19125F55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27C50-66B6-4F03-87FE-5074BD2B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AE7E1-7B76-4EF5-A017-22F0AE6A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040F-EACA-4411-9901-3657415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2A8CB-43FD-4B2A-B075-B8B035D8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5712-FB55-496A-9068-78F6FA5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39D27-0996-4141-81FB-DD7E504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C8FBD-2532-4CA7-BE98-4045981C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D3621-951F-49A2-8AE9-F44842CA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70C-2C42-4605-A035-A67CA5F5A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DE1-0D95-4B85-AA85-19AA1972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924A-8048-48C6-BFD0-DE917775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74BDB-2751-4EEE-8424-C9CA8CB4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3E7B-8612-45D4-8B25-562ACD47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742C-2A01-4CF1-922A-44E545CF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0864-6F2C-4857-9E5C-45D8EFCB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FC73-98E3-4440-AF50-BB66FCF1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4F28-2732-4678-ABAD-5991EEE7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0A83-A32A-4E1C-B633-72F746C0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B88F-0BA4-4EEA-86E1-BF3A8FD8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BF24-8220-42E3-9FE4-54290051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327B-EA0E-493A-8992-9AC6F8DC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6E41-FCB4-4DD4-A439-FCD789F1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D5E7-00F8-477F-8878-D87F1D76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E9D-1824-4292-91F1-7B0E5044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E7973-3164-4AE3-930E-38137FCAB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F4D3-CD62-483F-81ED-52202FD2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DD0F6-9371-4D59-9893-9F40322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A1F-E92D-4A0F-9E52-8ECA91C1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1BAB1-F405-46EA-BF6A-CDCD1B53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C46A-9F35-4AF4-9D31-B752D149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8F8A-2BA5-471D-B304-5882A09B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8C8F0-2A03-401F-B27D-DB12D6D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0998-3C0D-46A2-872F-F732082A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B2A73-3887-4D69-81B4-842C7688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A8DF9-0649-49EC-8783-A4BB645F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265DC-4F37-4FF8-8098-706F8B11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D2205-ED4B-4590-8C3F-F2D06A1F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207A6-DB68-49D4-9D04-95BCA0CC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09B8-2A76-4670-982C-2874BF89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3F2A7-1468-47FC-81BF-E02B204E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9DAB-3BB7-47EF-AC8A-995C44DB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F3095-E16C-47BE-9A4D-8F85C0A9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1E893-90AF-496C-A8A7-9CA31FF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E0BAF-34D2-4B12-80E7-E002CDBE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3907B-A867-486A-AB2A-4269BE8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79E11-D84C-49B5-B503-220595C9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C131-D301-4826-B031-8DB466E1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634C-8A5D-423C-A6CB-A3BB8A8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FCD3-DC78-47A2-BEA3-8C77B425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267-CBEA-42C8-A4BC-C8105533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7802-1844-4C37-9ADA-701B40651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8B1A9-EEA4-4A37-BC7D-F9AD383A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45F05-47F3-43C0-96E8-44797A1D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EC2A2-BDB2-4DEA-961F-CB58E1C9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97049-522B-4001-BDC0-413B6B0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FEEE0-5DB4-430F-AC65-E867091F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48F49-3046-4E6E-BBB4-1D0161CE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9CB9C-CF58-453A-9B3F-95117E2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CAB31-670E-456D-A255-62037BB6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2711F-DA40-446E-AF7D-FB38AE0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E703-8777-45BC-9CA1-DF3E3EB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AC9D-9463-4FFE-9F32-9C1405C7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3B48-57FC-4B64-B571-98AF3791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50CD8-B8A3-4762-B5DA-54B3FE45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F9F1D-4879-4988-B644-3C7ACAF1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37319-0B95-48A2-A0DE-1A1BC57B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5BFA-A0A2-4CDB-87E1-D68133D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6FA5B-B41C-4991-8890-E86FFC01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D0CC0-60BB-4E2E-9A1E-66749D7F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0BAA-71E3-4B8C-A4BA-6828F90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39A2F-E166-4CB3-9C2A-3357101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EBBD-2C5F-4C76-B114-E9066475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0770E-B91B-4401-BC13-4EC1B9B2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D146-2B3C-4569-9DD8-59FE784D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CE270-1EFC-4BEC-A47E-88FC0038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C5591-EB4F-4E1A-9A0F-4F82463B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D09EB-1667-4F38-B970-62C2BBE8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43228-4A31-4B05-9923-ECB4394F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ED077-63C4-4A2D-B8DA-01638F9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ACE2-B7C7-4760-BBF2-216242C7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1CEAF-1266-4F78-9E52-4F1736B4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303D8-4B8B-4D96-AF33-77CDC740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67FD-23BE-475F-8552-2288456E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D1F15-0F8A-4069-AC3F-A31B820B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9C0EC-E4A7-4980-ABF3-19E24AB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E899E-C238-4C3A-83A2-B9A10EB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A468E-4C96-469F-A48D-22C8E831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796E0-793D-47D5-88E3-DF2FEFB5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5587E-7DA4-4947-BEF2-0BCBDA9C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A99A-ADC4-451B-8203-2FEB8BA0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5F33-BCC0-41F9-9AAB-9A295710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40C04-6C36-4AF7-A337-B933725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D12C4-0F13-4F14-ADBE-A74D6920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9176A6-BFE8-40E4-9B9B-4007E8ADB0C6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23831F-5F8A-4930-8840-94847102A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86" name="Rectangle 8" hidden="1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 hidden="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362320" y="0"/>
            <a:ext cx="4647960" cy="22856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5"/>
          <a:stretch/>
        </p:blipFill>
        <p:spPr>
          <a:xfrm>
            <a:off x="3505320" y="0"/>
            <a:ext cx="2311200" cy="2285640"/>
          </a:xfrm>
          <a:prstGeom prst="rect">
            <a:avLst/>
          </a:prstGeom>
          <a:ln w="9525">
            <a:noFill/>
          </a:ln>
        </p:spPr>
      </p:pic>
      <p:sp>
        <p:nvSpPr>
          <p:cNvPr id="90" name="Text Box 16"/>
          <p:cNvSpPr/>
          <p:nvPr/>
        </p:nvSpPr>
        <p:spPr>
          <a:xfrm>
            <a:off x="533520" y="914400"/>
            <a:ext cx="3047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 N I T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480" y="144792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248520" y="640080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828800" y="2209680"/>
            <a:ext cx="5714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Textbook of Medical Physiology, 11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172200" y="609588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000c"/>
                </a:solidFill>
                <a:latin typeface="Arial"/>
                <a:ea typeface="ヒラギノ角ゴ Pro W3"/>
              </a:rPr>
              <a:t>GUYTON &amp;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80769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414E58-3D3C-420B-8CFD-B5C694F4A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40B635-C30C-4DFF-9324-0BEFC6AF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322254-9BE8-4FDD-B61B-9054570BC9D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1F763C-FF6E-40E8-8F29-21762FAA8B97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533520" y="685800"/>
            <a:ext cx="792432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8C4802-2100-41FA-B76F-F326DDC8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D0FC6D-0EE5-447E-9787-9146A0CDD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2"/>
          <p:cNvSpPr/>
          <p:nvPr/>
        </p:nvSpPr>
        <p:spPr>
          <a:xfrm>
            <a:off x="0" y="0"/>
            <a:ext cx="9143640" cy="6857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Rounded Rectangle 3"/>
          <p:cNvSpPr/>
          <p:nvPr/>
        </p:nvSpPr>
        <p:spPr>
          <a:xfrm>
            <a:off x="762120" y="533520"/>
            <a:ext cx="7772040" cy="53337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32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ITHELIAL TISSUES: covers body, lines cavit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entire body surface and most of the body's inner ca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epidermis (ski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from inju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epidermal tissue, on internal surfaces protects, secretes mucus (e.g. along digestive 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Epithelial%20Tissue%20A%20copy"/>
          <p:cNvPicPr/>
          <p:nvPr/>
        </p:nvPicPr>
        <p:blipFill>
          <a:blip r:embed="rId1"/>
          <a:stretch/>
        </p:blipFill>
        <p:spPr>
          <a:xfrm>
            <a:off x="4800600" y="243828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240" cy="815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NECTIVE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501920"/>
            <a:ext cx="3352320" cy="489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s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structur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up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upport an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3" descr="c40x2connective-tissues"/>
          <p:cNvPicPr/>
          <p:nvPr/>
        </p:nvPicPr>
        <p:blipFill>
          <a:blip r:embed="rId1"/>
          <a:stretch/>
        </p:blipFill>
        <p:spPr>
          <a:xfrm>
            <a:off x="3595680" y="1600200"/>
            <a:ext cx="547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cle Tissues: Contract for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"/>
          <p:cNvGrpSpPr/>
          <p:nvPr/>
        </p:nvGrpSpPr>
        <p:grpSpPr>
          <a:xfrm>
            <a:off x="457200" y="1828800"/>
            <a:ext cx="8457840" cy="3304800"/>
            <a:chOff x="457200" y="1828800"/>
            <a:chExt cx="8457840" cy="3304800"/>
          </a:xfrm>
        </p:grpSpPr>
        <p:pic>
          <p:nvPicPr>
            <p:cNvPr id="474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8229240" cy="2980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75" name="TextBox 4"/>
            <p:cNvSpPr/>
            <p:nvPr/>
          </p:nvSpPr>
          <p:spPr>
            <a:xfrm>
              <a:off x="5335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keletal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5"/>
            <p:cNvSpPr/>
            <p:nvPr/>
          </p:nvSpPr>
          <p:spPr>
            <a:xfrm>
              <a:off x="32767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mooth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Non-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6"/>
            <p:cNvSpPr/>
            <p:nvPr/>
          </p:nvSpPr>
          <p:spPr>
            <a:xfrm>
              <a:off x="6705720" y="4038480"/>
              <a:ext cx="220932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Cardiac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76320" y="1371600"/>
            <a:ext cx="281916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ELETAL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er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and dark b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d to b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trongly bu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uscle Tiss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2895480" y="1219320"/>
            <a:ext cx="304776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MOOTH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all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rg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stine, stom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more slow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contract ov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ntent Placeholder 2"/>
          <p:cNvSpPr/>
          <p:nvPr/>
        </p:nvSpPr>
        <p:spPr>
          <a:xfrm>
            <a:off x="6019920" y="1219320"/>
            <a:ext cx="312372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CARDIAC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t 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only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eats your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Straight Connector 7"/>
          <p:cNvCxnSpPr/>
          <p:nvPr/>
        </p:nvCxnSpPr>
        <p:spPr>
          <a:xfrm>
            <a:off x="281916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483" name="Straight Connector 8"/>
          <p:cNvCxnSpPr/>
          <p:nvPr/>
        </p:nvCxnSpPr>
        <p:spPr>
          <a:xfrm>
            <a:off x="594360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rvous Tissues: Conduct Electrochemical Me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15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tissue that for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electrical &amp; chemical messages along special cells called neurons.  Compose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dri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duct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 body)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x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nd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cell bod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4571640" cy="175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6864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cells that surround nerve cells.  They help to support, protect, and nourish nerve cells.  They provide nutrients to the neurons and help keep the tissue free of deb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ial cell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2" descr="http://4.bp.blogspot.com/_Um_MFFpjTxg/TIiqvJL9pDI/AAAAAAAAAuA/OCtzxC-o5L4/s1600/1_1257234936.gif"/>
          <p:cNvPicPr/>
          <p:nvPr/>
        </p:nvPicPr>
        <p:blipFill>
          <a:blip r:embed="rId1"/>
          <a:stretch/>
        </p:blipFill>
        <p:spPr>
          <a:xfrm>
            <a:off x="3693600" y="4267080"/>
            <a:ext cx="48402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and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534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single cell, or a collection of cells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r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xocrine 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.g. the gall bladder is an exocrine gland because it secretes bile in a duct.  Sweat glands are exocrine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ndocrine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chemicals (especial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ood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pituitary gland, pancreas secretes insulin into the blo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9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GANS: Tissues working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601956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s (e.g. the heart) are made up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r more types of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m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an example of an organ.  It is the largest organ, and has several tissue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surfaces, giv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water loss and invasion by microorganisms,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rg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lps to regulate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199960" cy="1885680"/>
          </a:xfrm>
          <a:prstGeom prst="rect">
            <a:avLst/>
          </a:prstGeom>
          <a:ln w="9525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895120" cy="30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uman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ocated in specific location, with specific functions. (e.g. digestive syst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ternal organ systems enclosed with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cavity with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systems contribute to maintaining a stable internal environment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e.g. Temp, pH, [glucose], blood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Group 117"/>
          <p:cNvGraphicFramePr/>
          <p:nvPr/>
        </p:nvGraphicFramePr>
        <p:xfrm>
          <a:off x="304920" y="1371600"/>
          <a:ext cx="8610120" cy="5428440"/>
        </p:xfrm>
        <a:graphic>
          <a:graphicData uri="http://schemas.openxmlformats.org/drawingml/2006/table">
            <a:tbl>
              <a:tblPr/>
              <a:tblGrid>
                <a:gridCol w="2795400"/>
                <a:gridCol w="5815080"/>
              </a:tblGrid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ges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vert food to usable nutr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l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port of necessary molecules to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m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ense against invading patho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i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s ex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re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ts rid of metabolic wa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6912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rvous &amp; Sens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and control, response to stimuli, processing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el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and 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of internal environment,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odu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ing off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</a:tbl>
          </a:graphicData>
        </a:graphic>
      </p:graphicFrame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 of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152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hysiology lectures in Foundation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Table 4"/>
          <p:cNvGraphicFramePr/>
          <p:nvPr/>
        </p:nvGraphicFramePr>
        <p:xfrm>
          <a:off x="990720" y="3093120"/>
          <a:ext cx="6857640" cy="2392920"/>
        </p:xfrm>
        <a:graphic>
          <a:graphicData uri="http://schemas.openxmlformats.org/drawingml/2006/table">
            <a:tbl>
              <a:tblPr/>
              <a:tblGrid>
                <a:gridCol w="4763160"/>
                <a:gridCol w="2094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roduction, body fluids, cell membrane structure and homeostas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nomic nervous system I &amp;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ood Physi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endParaRPr b="0" lang="en-GB" sz="2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2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</a:rPr>
                        <a:t>13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228600" y="228600"/>
            <a:ext cx="4266720" cy="6400440"/>
            <a:chOff x="228600" y="228600"/>
            <a:chExt cx="4266720" cy="6400440"/>
          </a:xfrm>
        </p:grpSpPr>
        <p:sp>
          <p:nvSpPr>
            <p:cNvPr id="501" name="Rectangle 3"/>
            <p:cNvSpPr/>
            <p:nvPr/>
          </p:nvSpPr>
          <p:spPr>
            <a:xfrm>
              <a:off x="228600" y="228600"/>
              <a:ext cx="4266720" cy="6400440"/>
            </a:xfrm>
            <a:prstGeom prst="rect">
              <a:avLst/>
            </a:pr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2" name="Object 4"/>
            <p:cNvGraphicFramePr/>
            <p:nvPr/>
          </p:nvGraphicFramePr>
          <p:xfrm>
            <a:off x="1214280" y="247680"/>
            <a:ext cx="2542680" cy="628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4280" y="247680"/>
                      <a:ext cx="2542680" cy="628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4" name="Text Box 5"/>
          <p:cNvSpPr/>
          <p:nvPr/>
        </p:nvSpPr>
        <p:spPr>
          <a:xfrm>
            <a:off x="4808160" y="6019920"/>
            <a:ext cx="1095480" cy="63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572000" y="2666880"/>
            <a:ext cx="434304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eneral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f the Circulatory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Object 2"/>
          <p:cNvGraphicFramePr/>
          <p:nvPr/>
        </p:nvGraphicFramePr>
        <p:xfrm>
          <a:off x="1600200" y="1776240"/>
          <a:ext cx="6254280" cy="45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76240"/>
                    <a:ext cx="6254280" cy="45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3"/>
          <p:cNvSpPr/>
          <p:nvPr/>
        </p:nvSpPr>
        <p:spPr>
          <a:xfrm>
            <a:off x="1522080" y="6354720"/>
            <a:ext cx="18133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2; 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304920" y="111240"/>
            <a:ext cx="6857640" cy="1094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Exchange Between the Capillari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and Interstitial Flui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47676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Origin of nutrients in the extracellular fl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0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system: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trointestinal tr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r and other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uloskeletal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6629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Removal of Metabolic End–produc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y l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ea, uric acid, excess water and ions (kidne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Oval 3"/>
          <p:cNvSpPr/>
          <p:nvPr/>
        </p:nvSpPr>
        <p:spPr>
          <a:xfrm>
            <a:off x="2438280" y="2743200"/>
            <a:ext cx="4190760" cy="1980720"/>
          </a:xfrm>
          <a:prstGeom prst="ellipse">
            <a:avLst/>
          </a:prstGeom>
          <a:blipFill rotWithShape="0">
            <a:blip r:embed="rId1"/>
            <a:srcRect/>
            <a:tile tx="0" ty="0" sx="100000" sy="100000" algn="tl"/>
          </a:blipFill>
          <a:ln w="5715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2971800" y="3225960"/>
            <a:ext cx="3123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6000" spc="-1" strike="noStrike">
                <a:solidFill>
                  <a:srgbClr val="0070c0"/>
                </a:solidFill>
                <a:latin typeface="Bauhaus 93"/>
              </a:rPr>
              <a:t>الله الموفق</a:t>
            </a:r>
            <a:r>
              <a:rPr b="1" lang="en-US" sz="6000" spc="-1" strike="noStrike">
                <a:solidFill>
                  <a:srgbClr val="0070c0"/>
                </a:solidFill>
                <a:latin typeface="Bauhaus 93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762760" cy="4952520"/>
          </a:xfrm>
          <a:prstGeom prst="rect">
            <a:avLst/>
          </a:prstGeom>
          <a:noFill/>
          <a:ln w="936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on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nerst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edic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the study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ow the body 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Cellular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Systems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483840" y="457200"/>
            <a:ext cx="50806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to P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1"/>
          <a:srcRect l="39234" t="21870" r="24448" b="6250"/>
          <a:stretch/>
        </p:blipFill>
        <p:spPr>
          <a:xfrm>
            <a:off x="5181480" y="447840"/>
            <a:ext cx="3809520" cy="4581000"/>
          </a:xfrm>
          <a:prstGeom prst="rect">
            <a:avLst/>
          </a:prstGeom>
          <a:ln w="9525">
            <a:noFill/>
          </a:ln>
        </p:spPr>
      </p:pic>
      <p:pic>
        <p:nvPicPr>
          <p:cNvPr id="414" name="Picture 2" descr="http://books.sitamol.net/images/guyton.jpg"/>
          <p:cNvPicPr/>
          <p:nvPr/>
        </p:nvPicPr>
        <p:blipFill>
          <a:blip r:embed="rId2"/>
          <a:stretch/>
        </p:blipFill>
        <p:spPr>
          <a:xfrm>
            <a:off x="228600" y="447840"/>
            <a:ext cx="3809520" cy="4504320"/>
          </a:xfrm>
          <a:prstGeom prst="rect">
            <a:avLst/>
          </a:prstGeom>
          <a:ln w="9525">
            <a:noFill/>
          </a:ln>
        </p:spPr>
      </p:pic>
      <p:sp>
        <p:nvSpPr>
          <p:cNvPr id="415" name="TextBox 3"/>
          <p:cNvSpPr/>
          <p:nvPr/>
        </p:nvSpPr>
        <p:spPr>
          <a:xfrm>
            <a:off x="1371600" y="5019840"/>
            <a:ext cx="1752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6324480" y="5019840"/>
            <a:ext cx="15998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0" y="1981080"/>
            <a:ext cx="9143640" cy="251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7030a0"/>
                </a:solidFill>
                <a:uFillTx/>
                <a:latin typeface="Times New Roman"/>
              </a:rPr>
              <a:t>Lectur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Functional Organization of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5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stand the level of bod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guish the primary tissues and their sub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ze the regulation of extracellular fluid transport and mix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Levels of Organiza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520560" y="2057400"/>
            <a:ext cx="785952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ll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uctural and function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~ 100 tr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517320" y="3121200"/>
            <a:ext cx="759168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issue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muscles, epithelial, nervou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18760" y="3807000"/>
            <a:ext cx="765972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kidney, heart, liver, panc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530280" y="4495680"/>
            <a:ext cx="846108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 system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cardiovascular, respiratory, ur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304920" y="914400"/>
            <a:ext cx="7468920" cy="5938560"/>
          </a:xfrm>
          <a:prstGeom prst="rect">
            <a:avLst/>
          </a:prstGeom>
          <a:ln w="9525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4314960" y="2570040"/>
            <a:ext cx="16696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168800" y="261468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68240" y="192420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577800" y="367524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1373040" y="615168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927360" y="1865160"/>
            <a:ext cx="2188080" cy="4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38360" y="3643200"/>
            <a:ext cx="164592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213080" y="626112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4373640" y="6218280"/>
            <a:ext cx="327780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1521000" y="6105600"/>
            <a:ext cx="22618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3"/>
          <p:cNvSpPr/>
          <p:nvPr/>
        </p:nvSpPr>
        <p:spPr>
          <a:xfrm>
            <a:off x="6045120" y="532764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095880" y="5292720"/>
            <a:ext cx="2053800" cy="83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5"/>
          <p:cNvSpPr/>
          <p:nvPr/>
        </p:nvSpPr>
        <p:spPr>
          <a:xfrm flipH="1" flipV="1">
            <a:off x="2989080" y="4641840"/>
            <a:ext cx="13320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 flipH="1" flipV="1">
            <a:off x="3882960" y="396540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77840" y="2062080"/>
            <a:ext cx="603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3376440" y="167472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1589400" y="1441440"/>
            <a:ext cx="1424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3076560" y="298764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2408400" y="554184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2938320" y="486252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3089160" y="44751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4021200" y="490392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 flipH="1" flipV="1">
            <a:off x="2822400" y="4978080"/>
            <a:ext cx="1681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6"/>
          <p:cNvSpPr/>
          <p:nvPr/>
        </p:nvSpPr>
        <p:spPr>
          <a:xfrm flipH="1" flipV="1">
            <a:off x="2081160" y="564336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7"/>
          <p:cNvSpPr/>
          <p:nvPr/>
        </p:nvSpPr>
        <p:spPr>
          <a:xfrm rot="10800000">
            <a:off x="4010400" y="354672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28"/>
          <p:cNvSpPr/>
          <p:nvPr/>
        </p:nvSpPr>
        <p:spPr>
          <a:xfrm>
            <a:off x="3827520" y="448308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29"/>
          <p:cNvSpPr/>
          <p:nvPr/>
        </p:nvSpPr>
        <p:spPr>
          <a:xfrm flipH="1" flipV="1">
            <a:off x="3944880" y="5192640"/>
            <a:ext cx="11268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4030560" y="353700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1"/>
          <p:cNvSpPr/>
          <p:nvPr/>
        </p:nvSpPr>
        <p:spPr>
          <a:xfrm>
            <a:off x="4030560" y="398952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2476440" y="373680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 flipH="1" flipV="1">
            <a:off x="4592520" y="367488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 flipH="1">
            <a:off x="4630680" y="413208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 flipH="1" flipV="1">
            <a:off x="4654440" y="418284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36"/>
          <p:cNvSpPr/>
          <p:nvPr/>
        </p:nvSpPr>
        <p:spPr>
          <a:xfrm>
            <a:off x="2857680" y="294804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37"/>
          <p:cNvSpPr/>
          <p:nvPr/>
        </p:nvSpPr>
        <p:spPr>
          <a:xfrm>
            <a:off x="2982600" y="3300120"/>
            <a:ext cx="1033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vels of Structur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ounded Rectangle 1"/>
          <p:cNvSpPr/>
          <p:nvPr/>
        </p:nvSpPr>
        <p:spPr>
          <a:xfrm>
            <a:off x="5985000" y="990720"/>
            <a:ext cx="1558440" cy="422712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ounded Rectangle 2"/>
          <p:cNvSpPr/>
          <p:nvPr/>
        </p:nvSpPr>
        <p:spPr>
          <a:xfrm>
            <a:off x="6012720" y="990720"/>
            <a:ext cx="1530720" cy="4227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PRIMARY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3640" cy="5562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FOUR MAJOR TYPES OF TISSUES IN THE HUMAN BO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EPITHEL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Covers body surfaces and lines body cav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NECT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inds and supports body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USCULA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uses body parts to 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NERVO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ponds to stimuli and transmits impulses from one body part to an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  <Words>927</Words>
  <Paragraphs>1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9:06:17Z</dcterms:created>
  <dc:creator>Denise Roslonski</dc:creator>
  <dc:description/>
  <dc:language>en-US</dc:language>
  <cp:lastModifiedBy>GCUSER</cp:lastModifiedBy>
  <cp:lastPrinted>2005-05-20T19:48:39Z</cp:lastPrinted>
  <dcterms:modified xsi:type="dcterms:W3CDTF">2014-09-01T05:48:26Z</dcterms:modified>
  <cp:revision>258</cp:revision>
  <dc:subject/>
  <dc:title>Introduction to Physiology:  The Cell and General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24</vt:r8>
  </property>
</Properties>
</file>