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9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3.gif" ContentType="image/gif"/>
  <Override PartName="/ppt/media/image16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D21EEA-DB4A-4102-87E9-6A8AF9AF6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3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559741-32AC-4893-89D9-0554CCD31E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Num" idx="3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DBA35B-53BC-44EC-9B6B-F4E64C6B8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Num" idx="3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6211C5-BDB1-46F7-807A-AA01621D7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Num" idx="28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435265-8036-48DF-A6D0-B755135B5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Num" idx="29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A6EF5A-A731-4AF6-9E27-7C4EDE2F7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6440" cy="32065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lIns="89640" rIns="89640" tIns="45000" bIns="450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C2D-1DA6-4405-8E3B-060F279F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068-0A51-4BF5-8B40-5A5F5846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458AF-DA1D-4F06-A4FD-4A4E9A86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8462F-7E1D-4D18-8800-00819748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7B808-17FE-42B4-BE9C-A2F99B36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0A4ED-290C-4311-86B8-062E81E0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76B17-0A4C-4856-804F-2712B008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BF290-C3ED-4822-B7D0-37E13C2A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0F74B-A7AC-46C7-B465-F2AB99EC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BAF65-9823-424D-A03F-58093697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D3863-AAEB-4586-947B-34B68F58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AF3-B1F6-4BE2-BBE7-F3D31714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793-9610-4A3D-BF9B-97783866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12AB-7F9E-4E67-9D87-1621B608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A80C-FA6A-449B-80B3-CA7858D3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6284-3326-4DD4-881B-2C42661E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1194-7569-4E7B-AA6F-644ECE74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0323-AE4D-4779-B86A-8803B4EB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312B-40B5-40B7-AF3D-A7310214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27C7-3FC8-416A-BB30-CECEA855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CFA-1769-4424-8A03-3BA13800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12B4-BAEF-4B33-BE3A-24F80975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C63D-E333-414E-AD9B-62DFE684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1855-B8FF-4FA9-A137-94BB11B2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A05C-5640-4AF8-A654-32EAF276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3819-45D6-4F4F-8D07-EBDC28F8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C20-1542-4253-A8D8-AFA461CE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E307A-D1E0-4450-A33B-1D0BFB09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D8646-AD28-4EA3-94EF-86401564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6F816-42A2-4F60-AA7B-FD216784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2A2-9A0B-4BFB-B465-6C2CE7CF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25584-E226-4FB5-9A32-A54FED46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EB71E-0ED6-4B7A-B4A2-A47296ED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408FC-E7A6-4B98-BDF4-FD9B2A6F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310EE-0A14-45A8-8560-0C5F9FB9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DFE0E-7C51-4813-8C75-A0438AFD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91D37-5E6A-420D-BB31-2E4768BE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09E54-BBB3-4091-B4AF-9903A6A5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26B37-CAF1-4E4F-BAC0-38F4FC6C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D5143-48E1-4D87-8A67-048877C4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E40A3-1171-4EE2-9789-1AF93083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82B3-5241-46FA-B699-76C2392B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21775-ECCD-4098-A949-6434D94C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E20B4-29F9-4A27-9B52-670131DC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DF208-2274-4C68-9DE8-A87177A8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541F1-1AD3-4481-9D10-48CC407A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90EE9-1A21-4C91-BF8C-EC35A195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75618-8D55-4D6E-A31D-BA02C1E0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5AFF3-F820-4E31-A2BB-2A6A5E90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52FBD-21D4-48A9-B215-DBD569FC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69616-EEDC-4E23-A84E-7D6B0F10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4196C-17A2-4776-9233-B6B9BF42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0E9-6DD7-4C83-B0A9-967FAC70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3241E-DDB0-4AD2-B598-4B8FBA5A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2B247-58DC-4D78-A482-10E506F6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A3CC7-1A27-4D3B-AE7B-EB3C1799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BC1B9-E4E4-4C12-A572-CAEF6F3F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829AD-02FF-45FB-9425-E2EE5586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04CF3-202F-4C4F-A15A-F9004403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08B51-8270-4744-97DF-5F0D5200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5433E-755B-468D-8C20-FE03FBFA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05404-B84D-4B83-ABE3-2A1E79C8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E3041-95BE-4BB8-91D0-C711024F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2A7-400B-4F41-9B61-2626D476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B2F05-F4CE-42C5-93FE-9307FE61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E087D-F196-4809-B6B6-86AF807F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AE13C-3B45-43CE-AC10-BCD2B5DC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13AC0-64B2-4BB8-8382-C8B0E186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FDE7A-4C2D-4DE9-B035-DF9E65D5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DE656-2B64-4670-96DE-989BD690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8289F-222F-4109-A140-DD4876F2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FA6B9-07C3-4696-8A2D-974F7B21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E563F-607A-46B6-A59A-C0F32A69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2892-1207-4443-83D6-B1253031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2A2-46E2-4200-BDC7-CA2E5FDC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18FFA-D70D-41B8-8CFD-443854E5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5DCE6-7307-4057-A521-F353B684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9D60D-A319-4FCB-ACD0-597EED3F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0C819-1F5D-4BC5-8F62-BA17360E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01F47-DF15-4F35-A4FB-90D52378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B0B6A-57D3-4391-B1E8-E079BA1F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04CCD-9AC6-4C86-B6A0-5E6F189C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AC3E4-8BA2-48F5-BE80-C38EF21F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62A58-CFED-4634-A3CD-1631D41B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FEFA6-782E-4938-8FF0-44495A16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10A-151D-412E-A3EF-61F6DF10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6010E-23D3-4007-8D0F-F32D91B2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67618-E6BB-4C51-B0B6-F69A3CE8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AE759-1F81-4E3E-9229-84BFE31E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0CF3C-0438-449E-B7A2-8C720A4F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95DE7-7D1D-4599-BE91-6E7FC830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2C9E9-7714-431B-A489-0A79DF4C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0D682-103D-44E9-B509-3935170C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CA4D8-DA95-47F6-B6DD-AF785A9F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5CE21-6F4C-4441-9444-F8B9E7B9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928A0-D2F7-40E2-B210-A6CDEC02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964793-C27C-47AE-8A94-25EF2B2C99AA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42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04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EC4643-92CE-430F-8DA4-D72762312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86" name="Rectangle 8" hidden="1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 hidden="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362320" y="0"/>
            <a:ext cx="4647960" cy="2285640"/>
          </a:xfrm>
          <a:prstGeom prst="rect">
            <a:avLst/>
          </a:prstGeom>
          <a:ln w="9525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5"/>
          <a:stretch/>
        </p:blipFill>
        <p:spPr>
          <a:xfrm>
            <a:off x="3505320" y="0"/>
            <a:ext cx="2311200" cy="2285640"/>
          </a:xfrm>
          <a:prstGeom prst="rect">
            <a:avLst/>
          </a:prstGeom>
          <a:ln w="9525">
            <a:noFill/>
          </a:ln>
        </p:spPr>
      </p:pic>
      <p:sp>
        <p:nvSpPr>
          <p:cNvPr id="90" name="Text Box 16"/>
          <p:cNvSpPr/>
          <p:nvPr/>
        </p:nvSpPr>
        <p:spPr>
          <a:xfrm>
            <a:off x="533520" y="914400"/>
            <a:ext cx="30477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 N I T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609480" y="1447920"/>
            <a:ext cx="2895120" cy="75960"/>
          </a:xfrm>
          <a:prstGeom prst="rect">
            <a:avLst/>
          </a:prstGeom>
          <a:gradFill rotWithShape="0">
            <a:gsLst>
              <a:gs pos="0">
                <a:srgbClr val="a6000c"/>
              </a:gs>
              <a:gs pos="100000">
                <a:srgbClr val="c75f6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6248520" y="6400800"/>
            <a:ext cx="2895120" cy="75960"/>
          </a:xfrm>
          <a:prstGeom prst="rect">
            <a:avLst/>
          </a:prstGeom>
          <a:gradFill rotWithShape="0">
            <a:gsLst>
              <a:gs pos="0">
                <a:srgbClr val="a6000c"/>
              </a:gs>
              <a:gs pos="100000">
                <a:srgbClr val="c75f6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828800" y="2209680"/>
            <a:ext cx="57146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Textbook of Medical Physiology, 11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6172200" y="6095880"/>
            <a:ext cx="2971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a6000c"/>
                </a:solidFill>
                <a:latin typeface="Arial"/>
                <a:ea typeface="ヒラギノ角ゴ Pro W3"/>
              </a:rPr>
              <a:t>GUYTON &amp;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80769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E65653-9ECA-433F-9DE1-B2AB2883E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179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36ADE6-4A8C-4326-B510-74BCA9689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body"/>
          </p:nvPr>
        </p:nvSpPr>
        <p:spPr>
          <a:xfrm>
            <a:off x="4648320" y="19810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ED0566-9FC5-421C-877B-81A2689704C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268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E3EEE9-647F-4879-8359-E6665E15558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533520" y="685800"/>
            <a:ext cx="7924320" cy="533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2440BC-B481-4BCB-9CA6-37595A216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356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F686FE-B902-4CC0-8054-5F6BDACC2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ounded Rectangle 2"/>
          <p:cNvSpPr/>
          <p:nvPr/>
        </p:nvSpPr>
        <p:spPr>
          <a:xfrm>
            <a:off x="0" y="0"/>
            <a:ext cx="9143640" cy="6857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6" name="Rounded Rectangle 3"/>
          <p:cNvSpPr/>
          <p:nvPr/>
        </p:nvSpPr>
        <p:spPr>
          <a:xfrm>
            <a:off x="762120" y="533520"/>
            <a:ext cx="7772040" cy="53337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Dr. Nervana Mostafa</a:t>
            </a:r>
            <a:br>
              <a:rPr sz="6000"/>
            </a:br>
            <a:br>
              <a:rPr sz="60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B BS, MD, PhD (UK)</a:t>
            </a:r>
            <a:br>
              <a:rPr sz="2800"/>
            </a:br>
            <a:br>
              <a:rPr sz="28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Associate Professor of Physiology 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Consultant Molecular Biology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Director of Academic Quality Unit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College of Medicine, KKUH, KSU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78132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PITHELIAL TISSUES: covers body, lines caviti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s entire body surface and most of the body's inner ca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epidermis (skin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s from inju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y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 epidermal tissue, on internal surfaces protects, secretes mucus (e.g. along digestive 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Epithelial%20Tissue%20A%20copy"/>
          <p:cNvPicPr/>
          <p:nvPr/>
        </p:nvPicPr>
        <p:blipFill>
          <a:blip r:embed="rId1"/>
          <a:stretch/>
        </p:blipFill>
        <p:spPr>
          <a:xfrm>
            <a:off x="4800600" y="2438280"/>
            <a:ext cx="4038120" cy="3028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240" cy="815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NECTIVE T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1501920"/>
            <a:ext cx="3352320" cy="489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s org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Function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 structur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 up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upport an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13" descr="c40x2connective-tissues"/>
          <p:cNvPicPr/>
          <p:nvPr/>
        </p:nvPicPr>
        <p:blipFill>
          <a:blip r:embed="rId1"/>
          <a:stretch/>
        </p:blipFill>
        <p:spPr>
          <a:xfrm>
            <a:off x="3595680" y="1600200"/>
            <a:ext cx="5471640" cy="46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0099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scle Tissues: Contract for M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7"/>
          <p:cNvGrpSpPr/>
          <p:nvPr/>
        </p:nvGrpSpPr>
        <p:grpSpPr>
          <a:xfrm>
            <a:off x="457200" y="1828800"/>
            <a:ext cx="8457840" cy="3304800"/>
            <a:chOff x="457200" y="1828800"/>
            <a:chExt cx="8457840" cy="3304800"/>
          </a:xfrm>
        </p:grpSpPr>
        <p:pic>
          <p:nvPicPr>
            <p:cNvPr id="474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8229240" cy="29808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475" name="TextBox 4"/>
            <p:cNvSpPr/>
            <p:nvPr/>
          </p:nvSpPr>
          <p:spPr>
            <a:xfrm>
              <a:off x="533520" y="3845160"/>
              <a:ext cx="2057040" cy="109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Skeletal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Striate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Box 5"/>
            <p:cNvSpPr/>
            <p:nvPr/>
          </p:nvSpPr>
          <p:spPr>
            <a:xfrm>
              <a:off x="3276720" y="3845160"/>
              <a:ext cx="2057040" cy="109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Smooth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Non-striate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In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6"/>
            <p:cNvSpPr/>
            <p:nvPr/>
          </p:nvSpPr>
          <p:spPr>
            <a:xfrm>
              <a:off x="6705720" y="4038480"/>
              <a:ext cx="2209320" cy="109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Cardiac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Striate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In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76320" y="1371600"/>
            <a:ext cx="281916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SKELETAL MUSCL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i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lter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and dark b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ed to b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oluntary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ntract quic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trongly bu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igue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228600" y="380880"/>
            <a:ext cx="70099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Muscle Tissue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Content Placeholder 2"/>
          <p:cNvSpPr/>
          <p:nvPr/>
        </p:nvSpPr>
        <p:spPr>
          <a:xfrm>
            <a:off x="2895480" y="1219320"/>
            <a:ext cx="3047760" cy="472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SMOOTH MUSCL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-stri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voluntary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in wall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orga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stine, stoma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 vess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s more slow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 contract ove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er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Content Placeholder 2"/>
          <p:cNvSpPr/>
          <p:nvPr/>
        </p:nvSpPr>
        <p:spPr>
          <a:xfrm>
            <a:off x="6019920" y="1219320"/>
            <a:ext cx="3123720" cy="472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CARDIAC MUSCL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i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volunt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t mus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only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ntract quick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beats your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thr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Straight Connector 7"/>
          <p:cNvCxnSpPr/>
          <p:nvPr/>
        </p:nvCxnSpPr>
        <p:spPr>
          <a:xfrm>
            <a:off x="2819160" y="1295280"/>
            <a:ext cx="360" cy="556308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483" name="Straight Connector 8"/>
          <p:cNvCxnSpPr/>
          <p:nvPr/>
        </p:nvCxnSpPr>
        <p:spPr>
          <a:xfrm>
            <a:off x="5943600" y="1295280"/>
            <a:ext cx="360" cy="556308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rvous Tissues: Conduct Electrochemical Mess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1504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d tissue that form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r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r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electrical &amp; chemical messages along special cells called neurons.  Composed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ll 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ndri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nduct messag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 body)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x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end messag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w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cell bod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3657600" y="4952880"/>
            <a:ext cx="4571640" cy="1752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68644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l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are cells that surround nerve cells.  They help to support, protect, and nourish nerve cells.  They provide nutrients to the neurons and help keep the tissue free of deb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hat are Glial cell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2" descr="http://4.bp.blogspot.com/_Um_MFFpjTxg/TIiqvJL9pDI/AAAAAAAAAuA/OCtzxC-o5L4/s1600/1_1257234936.gif"/>
          <p:cNvPicPr/>
          <p:nvPr/>
        </p:nvPicPr>
        <p:blipFill>
          <a:blip r:embed="rId1"/>
          <a:stretch/>
        </p:blipFill>
        <p:spPr>
          <a:xfrm>
            <a:off x="3693600" y="4267080"/>
            <a:ext cx="484020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hat are Gland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534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 single cell, or a collection of cells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r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em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i.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imes New Roman"/>
              </a:rPr>
              <a:t>Exocrine glands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e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u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.g. the gall bladder is an exocrine gland because it secretes bile in a duct.  Sweat glands are exocrine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ii.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imes New Roman"/>
              </a:rPr>
              <a:t>Endocrine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imes New Roman"/>
              </a:rPr>
              <a:t>glands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e chemicals (especial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rm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lood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.g. pituitary gland, pancreas secretes insulin into the blo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90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GANS: Tissues working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320" y="1676520"/>
            <a:ext cx="601956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17640">
              <a:lnSpc>
                <a:spcPct val="150000"/>
              </a:lnSpc>
              <a:spcBef>
                <a:spcPts val="479"/>
              </a:spcBef>
              <a:buClr>
                <a:srgbClr val="a6000c"/>
              </a:buClr>
              <a:buFont typeface="Wingdings" charset="2"/>
              <a:buChar char="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s (e.g. the heart) are made up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or more types of tiss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mo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7640">
              <a:lnSpc>
                <a:spcPct val="150000"/>
              </a:lnSpc>
              <a:spcBef>
                <a:spcPts val="479"/>
              </a:spcBef>
              <a:buClr>
                <a:srgbClr val="a6000c"/>
              </a:buClr>
              <a:buFont typeface="Wingdings" charset="2"/>
              <a:buChar char=""/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K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lso an example of an organ.  It is the largest organ, and has several tissue 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v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dy surfaces, giv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water loss and invasion by microorganisms, contai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e org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lps to regulate body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199960" cy="1885680"/>
          </a:xfrm>
          <a:prstGeom prst="rect">
            <a:avLst/>
          </a:prstGeom>
          <a:ln w="9525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2895120" cy="3047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uman Organ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876276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ocated in specific location, with specific functions. (e.g. digestive syste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internal organ systems enclosed with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cavity within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systems contribute to maintaining a stable internal environment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meosta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 e.g. Temp, pH, [glucose], blood pres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Group 117"/>
          <p:cNvGraphicFramePr/>
          <p:nvPr/>
        </p:nvGraphicFramePr>
        <p:xfrm>
          <a:off x="304920" y="1371600"/>
          <a:ext cx="8610120" cy="5428440"/>
        </p:xfrm>
        <a:graphic>
          <a:graphicData uri="http://schemas.openxmlformats.org/drawingml/2006/table">
            <a:tbl>
              <a:tblPr/>
              <a:tblGrid>
                <a:gridCol w="2795400"/>
                <a:gridCol w="5815080"/>
              </a:tblGrid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iges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vert food to usable nutr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ircul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port of necessary molecules to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32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m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ense against invading pathog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i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s ex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cre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ets rid of metabolic was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6912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rvous &amp; Sens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gulation and control, response to stimuli, processing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32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scula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&amp;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el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pport and mov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orm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gulation of internal environment, 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produ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ducing offsp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</a:tbl>
          </a:graphicData>
        </a:graphic>
      </p:graphicFrame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nction of Organ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1529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hysiology lectures in Foundation Bl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Table 4"/>
          <p:cNvGraphicFramePr/>
          <p:nvPr/>
        </p:nvGraphicFramePr>
        <p:xfrm>
          <a:off x="990720" y="3093120"/>
          <a:ext cx="6857640" cy="2392920"/>
        </p:xfrm>
        <a:graphic>
          <a:graphicData uri="http://schemas.openxmlformats.org/drawingml/2006/table">
            <a:tbl>
              <a:tblPr/>
              <a:tblGrid>
                <a:gridCol w="4763160"/>
                <a:gridCol w="209448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roduction, body fluids, cell membrane structure and homeostasi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</a:tr>
              <a:tr h="54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tonomic nervous system I &amp; 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</a:tr>
              <a:tr h="54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lood Physiolo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</a:tr>
              <a:tr h="543600">
                <a:tc>
                  <a:txBody>
                    <a:bodyPr anchor="t">
                      <a:noAutofit/>
                    </a:bodyPr>
                    <a:p>
                      <a:endParaRPr b="0" lang="en-GB" sz="22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2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</a:rPr>
                        <a:t>13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228600" y="228600"/>
            <a:ext cx="4266720" cy="6400440"/>
            <a:chOff x="228600" y="228600"/>
            <a:chExt cx="4266720" cy="6400440"/>
          </a:xfrm>
        </p:grpSpPr>
        <p:sp>
          <p:nvSpPr>
            <p:cNvPr id="501" name="Rectangle 3"/>
            <p:cNvSpPr/>
            <p:nvPr/>
          </p:nvSpPr>
          <p:spPr>
            <a:xfrm>
              <a:off x="228600" y="228600"/>
              <a:ext cx="4266720" cy="6400440"/>
            </a:xfrm>
            <a:prstGeom prst="rect">
              <a:avLst/>
            </a:prstGeom>
            <a:solidFill>
              <a:schemeClr val="tx1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2" name="Object 4"/>
            <p:cNvGraphicFramePr/>
            <p:nvPr/>
          </p:nvGraphicFramePr>
          <p:xfrm>
            <a:off x="1214280" y="247680"/>
            <a:ext cx="2542680" cy="628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4280" y="247680"/>
                      <a:ext cx="2542680" cy="628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4" name="Text Box 5"/>
          <p:cNvSpPr/>
          <p:nvPr/>
        </p:nvSpPr>
        <p:spPr>
          <a:xfrm>
            <a:off x="4808160" y="6019920"/>
            <a:ext cx="1095480" cy="637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yton &amp;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4572000" y="2666880"/>
            <a:ext cx="4343040" cy="1735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General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f the Circulatory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Object 2"/>
          <p:cNvGraphicFramePr/>
          <p:nvPr/>
        </p:nvGraphicFramePr>
        <p:xfrm>
          <a:off x="1600200" y="1776240"/>
          <a:ext cx="6254280" cy="45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76240"/>
                    <a:ext cx="6254280" cy="45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Text Box 3"/>
          <p:cNvSpPr/>
          <p:nvPr/>
        </p:nvSpPr>
        <p:spPr>
          <a:xfrm>
            <a:off x="1522080" y="6354720"/>
            <a:ext cx="1813320" cy="272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-2; Guyton &amp;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304920" y="111240"/>
            <a:ext cx="6857640" cy="1094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Exchange Between the Capillarie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and Interstitial Flui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47676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Origin of nutrients in the extracellular flu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040" cy="441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iratory system: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strointestinal tr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Carbohydrates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Fatty acids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Amino acids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r and other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culoskeletal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6629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Removal of Metabolic End–product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04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y lu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ea, uric acid, excess water and ions (kidne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Oval 3"/>
          <p:cNvSpPr/>
          <p:nvPr/>
        </p:nvSpPr>
        <p:spPr>
          <a:xfrm>
            <a:off x="2438280" y="2743200"/>
            <a:ext cx="4190760" cy="1980720"/>
          </a:xfrm>
          <a:prstGeom prst="ellipse">
            <a:avLst/>
          </a:prstGeom>
          <a:blipFill rotWithShape="0">
            <a:blip r:embed="rId1"/>
            <a:srcRect/>
            <a:tile tx="0" ty="0" sx="100000" sy="100000" algn="tl"/>
          </a:blipFill>
          <a:ln w="57150">
            <a:solidFill>
              <a:srgbClr val="fe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2971800" y="3225960"/>
            <a:ext cx="3123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ar-SA" sz="6000" spc="-1" strike="noStrike">
                <a:solidFill>
                  <a:srgbClr val="0070c0"/>
                </a:solidFill>
                <a:latin typeface="Bauhaus 93"/>
              </a:rPr>
              <a:t>الله الموفق</a:t>
            </a:r>
            <a:r>
              <a:rPr b="1" lang="en-US" sz="6000" spc="-1" strike="noStrike">
                <a:solidFill>
                  <a:srgbClr val="0070c0"/>
                </a:solidFill>
                <a:latin typeface="Bauhaus 93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152280" y="1447920"/>
            <a:ext cx="8762760" cy="4952520"/>
          </a:xfrm>
          <a:prstGeom prst="rect">
            <a:avLst/>
          </a:prstGeom>
          <a:noFill/>
          <a:ln w="936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ology is on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rnerst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medic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ology is the study 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ow the body wor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ways in which cells, organs and the whole body functions, and how these functions are maintained in a changing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Arial"/>
              <a:buChar char="•"/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</a:rPr>
              <a:t>Cellular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 physiolog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udy of the cellular components that primarily determines orga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Arial"/>
              <a:buChar char="•"/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</a:rPr>
              <a:t>Systems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 physiolog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udy of the coordinated and networked processes that determine whole body function and adaption to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483840" y="457200"/>
            <a:ext cx="508068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oduction to P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1" descr=""/>
          <p:cNvPicPr/>
          <p:nvPr/>
        </p:nvPicPr>
        <p:blipFill>
          <a:blip r:embed="rId1"/>
          <a:srcRect l="39234" t="21870" r="24448" b="6250"/>
          <a:stretch/>
        </p:blipFill>
        <p:spPr>
          <a:xfrm>
            <a:off x="5181480" y="447840"/>
            <a:ext cx="3809520" cy="4581000"/>
          </a:xfrm>
          <a:prstGeom prst="rect">
            <a:avLst/>
          </a:prstGeom>
          <a:ln w="9525">
            <a:noFill/>
          </a:ln>
        </p:spPr>
      </p:pic>
      <p:pic>
        <p:nvPicPr>
          <p:cNvPr id="414" name="Picture 2" descr="http://books.sitamol.net/images/guyton.jpg"/>
          <p:cNvPicPr/>
          <p:nvPr/>
        </p:nvPicPr>
        <p:blipFill>
          <a:blip r:embed="rId2"/>
          <a:stretch/>
        </p:blipFill>
        <p:spPr>
          <a:xfrm>
            <a:off x="228600" y="447840"/>
            <a:ext cx="3809520" cy="4504320"/>
          </a:xfrm>
          <a:prstGeom prst="rect">
            <a:avLst/>
          </a:prstGeom>
          <a:ln w="9525">
            <a:noFill/>
          </a:ln>
        </p:spPr>
      </p:pic>
      <p:sp>
        <p:nvSpPr>
          <p:cNvPr id="415" name="TextBox 3"/>
          <p:cNvSpPr/>
          <p:nvPr/>
        </p:nvSpPr>
        <p:spPr>
          <a:xfrm>
            <a:off x="1371600" y="5019840"/>
            <a:ext cx="17521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6324480" y="5019840"/>
            <a:ext cx="15998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>
            <a:off x="0" y="1981080"/>
            <a:ext cx="9143640" cy="2514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 u="sng">
                <a:solidFill>
                  <a:srgbClr val="7030a0"/>
                </a:solidFill>
                <a:uFillTx/>
                <a:latin typeface="Times New Roman"/>
              </a:rPr>
              <a:t>Lecture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Functional Organization of the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50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276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derstand the level of body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inguish the primary tissues and their sub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ze the regulation of extracellular fluid transport and mix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900" spc="-1" strike="noStrike">
                <a:solidFill>
                  <a:srgbClr val="ffffff"/>
                </a:solidFill>
                <a:latin typeface="Times New Roman"/>
              </a:rPr>
              <a:t>Levels of Organizati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520560" y="2057400"/>
            <a:ext cx="7859520" cy="1063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16000" indent="-216000">
              <a:lnSpc>
                <a:spcPct val="10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ell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structural and functional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~ 100 tr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517320" y="3121200"/>
            <a:ext cx="7591680" cy="575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16000" indent="-216000">
              <a:lnSpc>
                <a:spcPct val="10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issue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muscles, epithelial, nervou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518760" y="3807000"/>
            <a:ext cx="7659720" cy="575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16000" indent="-216000">
              <a:lnSpc>
                <a:spcPct val="10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rgan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kidney, heart, liver, panc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530280" y="4495680"/>
            <a:ext cx="8461080" cy="1063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16000" indent="-216000">
              <a:lnSpc>
                <a:spcPct val="10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rgan system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cardiovascular, respiratory, urin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rcRect l="0" t="0" r="0" b="3406"/>
          <a:stretch/>
        </p:blipFill>
        <p:spPr>
          <a:xfrm>
            <a:off x="304920" y="914400"/>
            <a:ext cx="7468920" cy="5938560"/>
          </a:xfrm>
          <a:prstGeom prst="rect">
            <a:avLst/>
          </a:prstGeom>
          <a:ln w="9525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4314960" y="2570040"/>
            <a:ext cx="1669680" cy="6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Chemic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oms combine to form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4"/>
          <p:cNvSpPr/>
          <p:nvPr/>
        </p:nvSpPr>
        <p:spPr>
          <a:xfrm>
            <a:off x="4168800" y="2614680"/>
            <a:ext cx="19476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5"/>
          <p:cNvSpPr/>
          <p:nvPr/>
        </p:nvSpPr>
        <p:spPr>
          <a:xfrm>
            <a:off x="768240" y="1924200"/>
            <a:ext cx="193320" cy="1965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6"/>
          <p:cNvSpPr/>
          <p:nvPr/>
        </p:nvSpPr>
        <p:spPr>
          <a:xfrm>
            <a:off x="577800" y="3675240"/>
            <a:ext cx="196560" cy="19800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7"/>
          <p:cNvSpPr/>
          <p:nvPr/>
        </p:nvSpPr>
        <p:spPr>
          <a:xfrm>
            <a:off x="1373040" y="6151680"/>
            <a:ext cx="19656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927360" y="1865160"/>
            <a:ext cx="2188080" cy="470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Cellular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lls are made up of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738360" y="3643200"/>
            <a:ext cx="1645920" cy="6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Tissue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ssues consist of similar typ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213080" y="6261120"/>
            <a:ext cx="193320" cy="19800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4373640" y="6218280"/>
            <a:ext cx="3277800" cy="6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Organ system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 systems consist of different organs that work together 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1521000" y="6105600"/>
            <a:ext cx="2261880" cy="6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Organ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s are made up of different types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3"/>
          <p:cNvSpPr/>
          <p:nvPr/>
        </p:nvSpPr>
        <p:spPr>
          <a:xfrm>
            <a:off x="6045120" y="5327640"/>
            <a:ext cx="194760" cy="1965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095880" y="5292720"/>
            <a:ext cx="2053800" cy="83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Organism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human organism is made up of many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5"/>
          <p:cNvSpPr/>
          <p:nvPr/>
        </p:nvSpPr>
        <p:spPr>
          <a:xfrm flipH="1" flipV="1">
            <a:off x="2989080" y="4641840"/>
            <a:ext cx="13320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 flipH="1" flipV="1">
            <a:off x="3882960" y="3965400"/>
            <a:ext cx="12384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3777840" y="2062080"/>
            <a:ext cx="6033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3376440" y="1674720"/>
            <a:ext cx="8319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9"/>
          <p:cNvSpPr/>
          <p:nvPr/>
        </p:nvSpPr>
        <p:spPr>
          <a:xfrm>
            <a:off x="1589400" y="1441440"/>
            <a:ext cx="1424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mooth muscl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0"/>
          <p:cNvSpPr/>
          <p:nvPr/>
        </p:nvSpPr>
        <p:spPr>
          <a:xfrm>
            <a:off x="3076560" y="2987640"/>
            <a:ext cx="80604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1"/>
          <p:cNvSpPr/>
          <p:nvPr/>
        </p:nvSpPr>
        <p:spPr>
          <a:xfrm>
            <a:off x="2408400" y="5541840"/>
            <a:ext cx="1052280" cy="41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v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2"/>
          <p:cNvSpPr/>
          <p:nvPr/>
        </p:nvSpPr>
        <p:spPr>
          <a:xfrm>
            <a:off x="2938320" y="4862520"/>
            <a:ext cx="887040" cy="5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3"/>
          <p:cNvSpPr/>
          <p:nvPr/>
        </p:nvSpPr>
        <p:spPr>
          <a:xfrm>
            <a:off x="3089160" y="4475160"/>
            <a:ext cx="1052280" cy="41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pitheli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4021200" y="4903920"/>
            <a:ext cx="725040" cy="5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ood vessel (org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5"/>
          <p:cNvSpPr/>
          <p:nvPr/>
        </p:nvSpPr>
        <p:spPr>
          <a:xfrm flipH="1" flipV="1">
            <a:off x="2822400" y="4978080"/>
            <a:ext cx="168120" cy="180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6"/>
          <p:cNvSpPr/>
          <p:nvPr/>
        </p:nvSpPr>
        <p:spPr>
          <a:xfrm flipH="1" flipV="1">
            <a:off x="2081160" y="5643360"/>
            <a:ext cx="35532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27"/>
          <p:cNvSpPr/>
          <p:nvPr/>
        </p:nvSpPr>
        <p:spPr>
          <a:xfrm rot="10800000">
            <a:off x="4010400" y="3546720"/>
            <a:ext cx="91800" cy="86796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AutoShape 28"/>
          <p:cNvSpPr/>
          <p:nvPr/>
        </p:nvSpPr>
        <p:spPr>
          <a:xfrm>
            <a:off x="3827520" y="4483080"/>
            <a:ext cx="117000" cy="146952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Line 29"/>
          <p:cNvSpPr/>
          <p:nvPr/>
        </p:nvSpPr>
        <p:spPr>
          <a:xfrm flipH="1" flipV="1">
            <a:off x="3944880" y="5192640"/>
            <a:ext cx="11268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0"/>
          <p:cNvSpPr/>
          <p:nvPr/>
        </p:nvSpPr>
        <p:spPr>
          <a:xfrm>
            <a:off x="4030560" y="3537000"/>
            <a:ext cx="596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1"/>
          <p:cNvSpPr/>
          <p:nvPr/>
        </p:nvSpPr>
        <p:spPr>
          <a:xfrm>
            <a:off x="4030560" y="3989520"/>
            <a:ext cx="75060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2"/>
          <p:cNvSpPr/>
          <p:nvPr/>
        </p:nvSpPr>
        <p:spPr>
          <a:xfrm>
            <a:off x="2476440" y="3736800"/>
            <a:ext cx="14155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dio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3"/>
          <p:cNvSpPr/>
          <p:nvPr/>
        </p:nvSpPr>
        <p:spPr>
          <a:xfrm flipH="1" flipV="1">
            <a:off x="4592520" y="3674880"/>
            <a:ext cx="601560" cy="2570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34"/>
          <p:cNvSpPr/>
          <p:nvPr/>
        </p:nvSpPr>
        <p:spPr>
          <a:xfrm flipH="1">
            <a:off x="4630680" y="4132080"/>
            <a:ext cx="249120" cy="55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35"/>
          <p:cNvSpPr/>
          <p:nvPr/>
        </p:nvSpPr>
        <p:spPr>
          <a:xfrm flipH="1" flipV="1">
            <a:off x="4654440" y="4182840"/>
            <a:ext cx="271440" cy="4608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36"/>
          <p:cNvSpPr/>
          <p:nvPr/>
        </p:nvSpPr>
        <p:spPr>
          <a:xfrm>
            <a:off x="2857680" y="2948040"/>
            <a:ext cx="124920" cy="69480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Line 37"/>
          <p:cNvSpPr/>
          <p:nvPr/>
        </p:nvSpPr>
        <p:spPr>
          <a:xfrm>
            <a:off x="2982600" y="3300120"/>
            <a:ext cx="103320" cy="180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80880" y="-763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vels of Structura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ounded Rectangle 1"/>
          <p:cNvSpPr/>
          <p:nvPr/>
        </p:nvSpPr>
        <p:spPr>
          <a:xfrm>
            <a:off x="5985000" y="990720"/>
            <a:ext cx="1558440" cy="4227120"/>
          </a:xfrm>
          <a:prstGeom prst="roundRect">
            <a:avLst>
              <a:gd name="adj" fmla="val 16667"/>
            </a:avLst>
          </a:prstGeom>
          <a:noFill/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ounded Rectangle 2"/>
          <p:cNvSpPr/>
          <p:nvPr/>
        </p:nvSpPr>
        <p:spPr>
          <a:xfrm>
            <a:off x="6012720" y="990720"/>
            <a:ext cx="1530720" cy="4227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PRIMARY T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3640" cy="556236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FOUR MAJOR TYPES OF TISSUES IN THE HUMAN BOD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EPITHELI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Covers body surfaces and lines body cavi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CONNECT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inds and supports body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MUSCULAR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uses body parts to m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NERVO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ponds to stimuli and transmits impulses from one body part to anot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  <Words>927</Words>
  <Paragraphs>1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9:06:17Z</dcterms:created>
  <dc:creator>Denise Roslonski</dc:creator>
  <dc:description/>
  <dc:language>en-US</dc:language>
  <cp:lastModifiedBy>GCUSER</cp:lastModifiedBy>
  <cp:lastPrinted>2005-05-20T19:48:39Z</cp:lastPrinted>
  <dcterms:modified xsi:type="dcterms:W3CDTF">2014-09-01T05:48:26Z</dcterms:modified>
  <cp:revision>258</cp:revision>
  <dc:subject/>
  <dc:title>Introduction to Physiology:  The Cell and General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24</vt:r8>
  </property>
</Properties>
</file>