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EDCE-A914-4778-8C78-70AA278D3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B9DA-EFA8-4263-95A8-2DC846946D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0C51-59C1-41D1-B26C-3A77D127D4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23F0-D555-4B5B-94F3-5F808376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45E-7409-4240-A363-0122FB8A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D0CD-0360-4966-8A36-31F08775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AC0F-FD91-48E5-B2B0-B6B18348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F097-9DF2-4A49-B382-C798DEC68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2393-DF03-4BBF-8F45-12CC7F9D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7A7EA-E537-4DB0-AB73-EA972E74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527F-A10B-4906-AE49-880AD7B2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4E83-6FB3-4DDF-8E08-95F41F78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4A1C-3FAA-4BAE-B57A-FEA64A5A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0E39-AF49-4A9A-9C08-9E40DE07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1942-DB65-4E70-91B7-522ADF097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98D5-3B9B-49B7-BC37-A3DCE346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0108D-13F3-4CF4-9B35-19628CF5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E1EF-C632-4C64-9093-BF6E4F98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4F64-EEE0-4D7E-924D-E101A030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22A5-61FF-4C36-8A94-607B22C2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150-BC6C-4C45-A71D-06ADD2FB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630-9BA1-4D1F-8340-8ED649BE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A367-742B-4273-9BFB-E7F157C5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920D-1190-4F73-BCCA-7CEEC6D3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D872-4E05-4961-A31A-3339C203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880-9D8C-4519-835F-72FB1D47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6CB5-F8AD-44D8-B5DE-0A9E3A28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38CB-F1BF-416F-A2EA-E7535735E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f. Saeed Maka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AB24-94AB-4DBD-87B3-0694797989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Bismillah_458"/>
          <p:cNvPicPr/>
          <p:nvPr/>
        </p:nvPicPr>
        <p:blipFill>
          <a:blip r:embed="rId1"/>
          <a:stretch/>
        </p:blipFill>
        <p:spPr>
          <a:xfrm>
            <a:off x="2743200" y="2438280"/>
            <a:ext cx="37339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2"/>
          <p:cNvGrpSpPr/>
          <p:nvPr/>
        </p:nvGrpSpPr>
        <p:grpSpPr>
          <a:xfrm>
            <a:off x="1096920" y="171360"/>
            <a:ext cx="6596280" cy="614520"/>
            <a:chOff x="1096920" y="171360"/>
            <a:chExt cx="6596280" cy="614520"/>
          </a:xfrm>
        </p:grpSpPr>
        <p:pic>
          <p:nvPicPr>
            <p:cNvPr id="144" name="Rectangle 2" descr=""/>
            <p:cNvPicPr/>
            <p:nvPr/>
          </p:nvPicPr>
          <p:blipFill>
            <a:blip r:embed="rId1"/>
            <a:stretch/>
          </p:blipFill>
          <p:spPr>
            <a:xfrm>
              <a:off x="1096920" y="171360"/>
              <a:ext cx="6596280" cy="6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116000" y="189000"/>
              <a:ext cx="655164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00000"/>
                  </a:solidFill>
                  <a:latin typeface="Arial"/>
                  <a:ea typeface="Aharoni"/>
                </a:rPr>
                <a:t>RESPIRATORY MUCOS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4508640"/>
            <a:ext cx="8424720" cy="2349360"/>
          </a:xfrm>
          <a:prstGeom prst="rect">
            <a:avLst/>
          </a:prstGeom>
          <a:gradFill rotWithShape="0">
            <a:gsLst>
              <a:gs pos="0">
                <a:srgbClr val="688b98"/>
              </a:gs>
              <a:gs pos="100000">
                <a:srgbClr val="b5ef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ick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iliated highly vascular and contains mucous glands &amp; goblet 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t lines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wer part </a:t>
            </a:r>
            <a:r>
              <a:rPr b="0" lang="en-US" sz="1800" spc="-1" strike="noStrike">
                <a:solidFill>
                  <a:srgbClr val="000033"/>
                </a:solidFill>
                <a:latin typeface="Arial"/>
              </a:rPr>
              <a:t>of the nasal cavit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It functions to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moisten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clean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and </a:t>
            </a:r>
            <a:r>
              <a:rPr b="0" lang="en-US" sz="1800" spc="-1" strike="noStrike" u="sng">
                <a:solidFill>
                  <a:srgbClr val="161616"/>
                </a:solidFill>
                <a:uFillTx/>
                <a:latin typeface="Arial"/>
              </a:rPr>
              <a:t>warm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the inspired ai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The air 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moistened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by the secretion of numerous serous gla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It 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cleaned</a:t>
            </a: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 by the removal of the dust particles by the ciliary action of the columnar ciliated epithelium that covers the muco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61616"/>
                </a:solidFill>
                <a:latin typeface="Arial"/>
              </a:rPr>
              <a:t>The air </a:t>
            </a:r>
            <a:r>
              <a:rPr b="0" lang="en-US" sz="1800" spc="-1" strike="noStrike">
                <a:solidFill>
                  <a:srgbClr val="6e90ad"/>
                </a:solidFill>
                <a:latin typeface="Arial"/>
              </a:rPr>
              <a:t>is </a:t>
            </a: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warmed</a:t>
            </a:r>
            <a:r>
              <a:rPr b="0" lang="en-US" sz="1800" spc="-1" strike="noStrike">
                <a:solidFill>
                  <a:srgbClr val="6e90ad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by 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70c0"/>
                </a:solidFill>
                <a:latin typeface="Arial"/>
              </a:rPr>
              <a:t>submucous venous plexus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Vestibule is lined by Sk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Slide Number Placeholder 6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E766-1E63-414A-89CD-936EA6913E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9347834A"/>
          <p:cNvPicPr/>
          <p:nvPr/>
        </p:nvPicPr>
        <p:blipFill>
          <a:blip r:embed="rId2"/>
          <a:srcRect l="2020" t="6816" r="3041" b="4550"/>
          <a:stretch/>
        </p:blipFill>
        <p:spPr>
          <a:xfrm>
            <a:off x="395280" y="836640"/>
            <a:ext cx="7632720" cy="3600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0" y="685800"/>
            <a:ext cx="300816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Rounded MT Bold"/>
              </a:rPr>
              <a:t>Nerve Supp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685800"/>
            <a:ext cx="3160440" cy="5440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lfactory mucosa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supplied by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olfactory n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Nerves of general sensation are derived 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ophthalm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maxillary ner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Autonomic fib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10" descr="F66122-008-f232"/>
          <p:cNvPicPr/>
          <p:nvPr/>
        </p:nvPicPr>
        <p:blipFill>
          <a:blip r:embed="rId1"/>
          <a:stretch/>
        </p:blipFill>
        <p:spPr>
          <a:xfrm>
            <a:off x="3654360" y="2057400"/>
            <a:ext cx="54896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19360" y="761760"/>
            <a:ext cx="42670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lood supp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609480"/>
            <a:ext cx="3352680" cy="5516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Rounded MT Bold"/>
              </a:rPr>
              <a:t>Arterial Suppl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ahoma"/>
                <a:ea typeface="Tahoma"/>
              </a:rPr>
              <a:t>Branches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ahoma"/>
                <a:ea typeface="Tahoma"/>
              </a:rPr>
              <a:t>maxillary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ahoma"/>
                <a:ea typeface="Tahoma"/>
              </a:rPr>
              <a:t>facial &amp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ahoma"/>
                <a:ea typeface="Tahoma"/>
              </a:rPr>
              <a:t>ophthalmic arter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he arteries make a rich anastomosis in the region of the vestibule, and anterior portion of the sept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Rounded MT Bold"/>
              </a:rPr>
              <a:t>Venous Drainag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drain into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facia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ophthalmic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,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spheno-palatine vein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6" descr="F66122-008-f230"/>
          <p:cNvPicPr/>
          <p:nvPr/>
        </p:nvPicPr>
        <p:blipFill>
          <a:blip r:embed="rId1"/>
          <a:stretch/>
        </p:blipFill>
        <p:spPr>
          <a:xfrm>
            <a:off x="3886200" y="2438280"/>
            <a:ext cx="511164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3505320" cy="71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Rounded MT Bold"/>
                <a:ea typeface="Tahoma"/>
              </a:rPr>
              <a:t>Lymphatic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Tahom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Rounded MT Bold"/>
              </a:rPr>
              <a:t>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lymphatics from t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Vestibul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rains into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bmandibul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lymph no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Rest of the cavity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rains into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upper deep cerv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lymph nod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6" descr="F66122-008-f233"/>
          <p:cNvPicPr/>
          <p:nvPr/>
        </p:nvPicPr>
        <p:blipFill>
          <a:blip r:embed="rId1"/>
          <a:stretch/>
        </p:blipFill>
        <p:spPr>
          <a:xfrm>
            <a:off x="3575160" y="1584360"/>
            <a:ext cx="511164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 Rounded MT Bold"/>
              </a:rPr>
              <a:t>Paranasal Sinu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837720"/>
            <a:ext cx="48006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Air filled cavitie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located in the bones around the nasal cavity: </a:t>
            </a:r>
            <a:r>
              <a:rPr b="0" lang="en-US" sz="2000" spc="-1" strike="noStrike">
                <a:solidFill>
                  <a:srgbClr val="ff66ff"/>
                </a:solidFill>
                <a:latin typeface="Tahoma"/>
                <a:ea typeface="Tahoma"/>
              </a:rPr>
              <a:t>ethmoid, sphenoid, frontal bones &amp; maxilla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Lined by respiratory mucos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which is continuous with the mucosa of the nasal ca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Drain into the nasal ca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 Rounded MT Bold"/>
              </a:rPr>
              <a:t>Func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Lighten the sku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  <a:ea typeface="Tahoma"/>
              </a:rPr>
              <a:t>Act as resonant chambers for speec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ir conditioning: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he respiratory mucosal lining helps in warming, cleaning and moistening the incoming ai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ClipArt Placeholder 6" descr="pns"/>
          <p:cNvPicPr/>
          <p:nvPr/>
        </p:nvPicPr>
        <p:blipFill>
          <a:blip r:embed="rId1"/>
          <a:srcRect l="3457" t="12704" r="2000" b="3383"/>
          <a:stretch/>
        </p:blipFill>
        <p:spPr>
          <a:xfrm>
            <a:off x="5103720" y="1600200"/>
            <a:ext cx="396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3886200" y="762120"/>
          <a:ext cx="4952880" cy="4657680"/>
        </p:xfrm>
        <a:graphic>
          <a:graphicData uri="http://schemas.openxmlformats.org/drawingml/2006/table">
            <a:tbl>
              <a:tblPr/>
              <a:tblGrid>
                <a:gridCol w="1371600"/>
                <a:gridCol w="3581280"/>
              </a:tblGrid>
              <a:tr h="12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Tahoma"/>
                          <a:ea typeface="Tahoma"/>
                        </a:rPr>
                        <a:t>Spheno ethmoidal re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9a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phenoidal sin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9a4"/>
                    </a:solidFill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uperior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ahoma"/>
                          <a:ea typeface="Tahoma"/>
                        </a:rPr>
                        <a:t>posterior ethmoidal sin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ddle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ddle ethmoidal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xillary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rontal &amp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he anterior ethmoidal sinuse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dadff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nferior me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nasolacrimal duc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162" name="Picture 7" descr="F66122-008-f226c"/>
          <p:cNvPicPr/>
          <p:nvPr/>
        </p:nvPicPr>
        <p:blipFill>
          <a:blip r:embed="rId1"/>
          <a:srcRect l="0" t="3318" r="0" b="5000"/>
          <a:stretch/>
        </p:blipFill>
        <p:spPr>
          <a:xfrm>
            <a:off x="380880" y="1066680"/>
            <a:ext cx="3353040" cy="426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4727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Rounded MT Bold"/>
                <a:ea typeface="Arial Unicode MS"/>
              </a:rPr>
              <a:t>Pharynx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4724640" cy="5410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scular tube lying behind the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n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oral cavit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&amp;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laryn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rom the base of the skull to level of the 6</a:t>
            </a:r>
            <a:r>
              <a:rPr b="0" lang="en-US" sz="2400" spc="-1" strike="noStrike" baseline="30000">
                <a:solidFill>
                  <a:srgbClr val="ff0066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cervical verteb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where it is continuous with the esophag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nterior wall is deficient and shows (from above downwar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sterior nasal apertu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pening of the oral ca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ryngeal inl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uscles arranged i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ir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itudinal lay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C:\Documents and Settings\user\My Documents\My Pictures\pharynx1.jpg"/>
          <p:cNvPicPr/>
          <p:nvPr/>
        </p:nvPicPr>
        <p:blipFill>
          <a:blip r:embed="rId1"/>
          <a:srcRect l="-434" t="1720" r="7410" b="28506"/>
          <a:stretch/>
        </p:blipFill>
        <p:spPr>
          <a:xfrm>
            <a:off x="4952880" y="304920"/>
            <a:ext cx="3200400" cy="2890800"/>
          </a:xfrm>
          <a:prstGeom prst="rect">
            <a:avLst/>
          </a:prstGeom>
          <a:ln w="0">
            <a:noFill/>
          </a:ln>
        </p:spPr>
      </p:pic>
      <p:sp>
        <p:nvSpPr>
          <p:cNvPr id="166" name="TextBox 11"/>
          <p:cNvSpPr/>
          <p:nvPr/>
        </p:nvSpPr>
        <p:spPr>
          <a:xfrm>
            <a:off x="6019920" y="990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6019920" y="1676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6" descr="C:\Documents and Settings\user\My Documents\My Pictures\phnx.jpg"/>
          <p:cNvPicPr/>
          <p:nvPr/>
        </p:nvPicPr>
        <p:blipFill>
          <a:blip r:embed="rId2"/>
          <a:srcRect l="0" t="2520" r="0" b="6602"/>
          <a:stretch/>
        </p:blipFill>
        <p:spPr>
          <a:xfrm>
            <a:off x="5029200" y="3352680"/>
            <a:ext cx="3124080" cy="3200400"/>
          </a:xfrm>
          <a:prstGeom prst="rect">
            <a:avLst/>
          </a:prstGeom>
          <a:ln w="0">
            <a:noFill/>
          </a:ln>
        </p:spPr>
      </p:pic>
      <p:cxnSp>
        <p:nvCxnSpPr>
          <p:cNvPr id="169" name="Straight Arrow Connector 12"/>
          <p:cNvCxnSpPr/>
          <p:nvPr/>
        </p:nvCxnSpPr>
        <p:spPr>
          <a:xfrm>
            <a:off x="6933240" y="1219320"/>
            <a:ext cx="76680" cy="12196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TextBox 12"/>
          <p:cNvSpPr/>
          <p:nvPr/>
        </p:nvSpPr>
        <p:spPr>
          <a:xfrm>
            <a:off x="670572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phnx"/>
          <p:cNvPicPr/>
          <p:nvPr/>
        </p:nvPicPr>
        <p:blipFill>
          <a:blip r:embed="rId1"/>
          <a:srcRect l="4108" t="6849" r="4108" b="2740"/>
          <a:stretch/>
        </p:blipFill>
        <p:spPr>
          <a:xfrm>
            <a:off x="4648320" y="838080"/>
            <a:ext cx="3646440" cy="32767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Circular (Constrictor) Musc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610480" cy="213372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nc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pel the bolus of food down into the esophag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fibers of the inferior constrictor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ricopharyge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ct as a sphincter, preventing the entry of air into the esophagus between the acts of swallowing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Box 9"/>
          <p:cNvSpPr/>
          <p:nvPr/>
        </p:nvSpPr>
        <p:spPr>
          <a:xfrm>
            <a:off x="647712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6400800" y="1828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6400800" y="3048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80880" y="838080"/>
            <a:ext cx="4114800" cy="320040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ree in numb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uperior constrictor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iddle constrictor &amp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ferior constri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three muscles overlap each ot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Rounded MT Bold"/>
              </a:rPr>
              <a:t>Longitudinal Musc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194000" cy="457200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in number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ylopharyng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alpingopharynge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latpharyngeo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</a:rPr>
              <a:t>Functi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evate the larynx &amp; pharynx during swallo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2" descr="K:\Student Gray\8. Head and neck\F66122-008-f190b.jpg"/>
          <p:cNvPicPr/>
          <p:nvPr/>
        </p:nvPicPr>
        <p:blipFill>
          <a:blip r:embed="rId1"/>
          <a:srcRect l="8014" t="0" r="8188" b="3597"/>
          <a:stretch/>
        </p:blipFill>
        <p:spPr>
          <a:xfrm>
            <a:off x="4876920" y="1143000"/>
            <a:ext cx="37447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48006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Pharynx is divided into three pa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sopharynx</a:t>
            </a: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ropharynx</a:t>
            </a:r>
            <a:r>
              <a:rPr b="1" lang="en-US" sz="2400" spc="-1" strike="noStrike">
                <a:solidFill>
                  <a:srgbClr val="00a2d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aryngopharynx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257800" y="1219320"/>
            <a:ext cx="3616200" cy="3516120"/>
          </a:xfrm>
          <a:prstGeom prst="rect">
            <a:avLst/>
          </a:prstGeom>
          <a:ln w="0">
            <a:noFill/>
          </a:ln>
        </p:spPr>
      </p:pic>
      <p:sp>
        <p:nvSpPr>
          <p:cNvPr id="183" name="Oval 4"/>
          <p:cNvSpPr/>
          <p:nvPr/>
        </p:nvSpPr>
        <p:spPr>
          <a:xfrm>
            <a:off x="6324480" y="39625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5"/>
          <p:cNvSpPr/>
          <p:nvPr/>
        </p:nvSpPr>
        <p:spPr>
          <a:xfrm>
            <a:off x="6477120" y="33526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6477120" y="251460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99"/>
                </a:solidFill>
                <a:latin typeface="Eras Bold ITC"/>
                <a:ea typeface="Aharoni"/>
              </a:rPr>
              <a:t>Nose, Nasal cavity, </a:t>
            </a:r>
            <a:br>
              <a:rPr sz="4800"/>
            </a:br>
            <a:r>
              <a:rPr b="0" lang="en-US" sz="4800" spc="-1" strike="noStrike">
                <a:solidFill>
                  <a:srgbClr val="ffff99"/>
                </a:solidFill>
                <a:latin typeface="Eras Bold ITC"/>
                <a:ea typeface="Aharoni"/>
              </a:rPr>
              <a:t>Paranasal Sinuses &amp; Pharynx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Rectangle 4" descr=""/>
          <p:cNvPicPr/>
          <p:nvPr/>
        </p:nvPicPr>
        <p:blipFill>
          <a:blip r:embed="rId1"/>
          <a:stretch/>
        </p:blipFill>
        <p:spPr>
          <a:xfrm>
            <a:off x="-341280" y="4651200"/>
            <a:ext cx="98092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00600" y="228600"/>
            <a:ext cx="419400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Nas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380520"/>
            <a:ext cx="4419720" cy="678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lvl="2"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ds from the base of skull to the soft pal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es with the nasal cavity through 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posterior nasal aper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aryngeal tonsils (adenoides) present in the submucosa covering the roo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Lateral wall show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ening of auditory tub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bal elevation (produced by posterior margin of the auditory tub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bal tonsi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alpingopharyngeal fol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raised by salpingo-pharyngeus musc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105520" y="762120"/>
            <a:ext cx="3200400" cy="3111480"/>
          </a:xfrm>
          <a:prstGeom prst="rect">
            <a:avLst/>
          </a:prstGeom>
          <a:ln w="0">
            <a:noFill/>
          </a:ln>
        </p:spPr>
      </p:pic>
      <p:pic>
        <p:nvPicPr>
          <p:cNvPr id="189" name="ClipArt Placeholder 6" descr="C:\Documents and Settings\user\My Documents\My Pictures\jhu.jpg"/>
          <p:cNvPicPr/>
          <p:nvPr/>
        </p:nvPicPr>
        <p:blipFill>
          <a:blip r:embed="rId2"/>
          <a:srcRect l="0" t="0" r="0" b="30226"/>
          <a:stretch/>
        </p:blipFill>
        <p:spPr>
          <a:xfrm>
            <a:off x="4699080" y="3429000"/>
            <a:ext cx="4444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267080" y="228240"/>
            <a:ext cx="427032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Or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380520"/>
            <a:ext cx="38102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es behind the mouth, communicates with the oral cavity through the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oropharyngeal isth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s from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soft palat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upper border of epiglot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Lateral wall sh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opharyngeal fol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oglossal fo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Arial"/>
              </a:rPr>
              <a:t>Palatine tonsi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d between them in                      a depression called the ‘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onsillar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ossa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’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2" name="Straight Arrow Connector 9"/>
          <p:cNvCxnSpPr/>
          <p:nvPr/>
        </p:nvCxnSpPr>
        <p:spPr>
          <a:xfrm flipH="1" flipV="1">
            <a:off x="5866920" y="2971440"/>
            <a:ext cx="1067760" cy="14486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93" name="Picture 8" descr="C:\Users\galmadani\Pictures\Picture5.jpg"/>
          <p:cNvPicPr/>
          <p:nvPr/>
        </p:nvPicPr>
        <p:blipFill>
          <a:blip r:embed="rId1"/>
          <a:srcRect l="0" t="2676" r="3143" b="1011"/>
          <a:stretch/>
        </p:blipFill>
        <p:spPr>
          <a:xfrm>
            <a:off x="4572000" y="1828800"/>
            <a:ext cx="4191120" cy="40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79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latine tonsi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4191120" cy="36576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57600" cy="4691160"/>
          </a:xfrm>
          <a:prstGeom prst="rect">
            <a:avLst/>
          </a:prstGeom>
          <a:solidFill>
            <a:srgbClr val="d6f5f5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Two masses of lymphoid tissue located in the lateral wall of the oropharynx in the tonsillar fossa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Each one is covered by mucous membrane and laterally by fibrous tissue (capsu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It reaches a maximum size during childhood,  after puberty it diminishes in size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solidFill>
            <a:srgbClr val="baed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l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0520" y="1447560"/>
            <a:ext cx="4343400" cy="5257800"/>
          </a:xfrm>
          <a:prstGeom prst="rect">
            <a:avLst/>
          </a:prstGeom>
          <a:solidFill>
            <a:srgbClr val="8be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Anteriorly: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palatoglossal ar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Posteriorly: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palatopharyngeal arc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Superiorly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soft pala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Inferiorly: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posterior 1\3 of the tongu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Medially</a:t>
            </a:r>
            <a:r>
              <a:rPr b="1" lang="en-US" sz="2000" spc="-1" strike="noStrike" u="sng">
                <a:solidFill>
                  <a:srgbClr val="161616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cavity of the oropharyn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Laterally: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superior constrictor of the pharynx separated from it by lose connective tissue through which descends the external palatine vein ,                                          , loop of the facial artery and                                                                             , the internal carotid artery which lies behind and lateral to the tonsils.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Picture 5" descr=""/>
          <p:cNvPicPr/>
          <p:nvPr/>
        </p:nvPicPr>
        <p:blipFill>
          <a:blip r:embed="rId1"/>
          <a:stretch/>
        </p:blipFill>
        <p:spPr>
          <a:xfrm>
            <a:off x="4827600" y="2057400"/>
            <a:ext cx="40147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Content Placeholder 5" descr=""/>
          <p:cNvPicPr/>
          <p:nvPr/>
        </p:nvPicPr>
        <p:blipFill>
          <a:blip r:embed="rId1"/>
          <a:stretch/>
        </p:blipFill>
        <p:spPr>
          <a:xfrm>
            <a:off x="3809880" y="3124080"/>
            <a:ext cx="5112000" cy="30574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3200400" cy="4889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rterial supply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; </a:t>
            </a: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tonsillar artery from the fascial, lingual and greater palatin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Venous drainage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join external palatine pharyngeal and fascial vei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Lymphatic drainag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; </a:t>
            </a: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to the upper deep cervical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(jugulodigastric node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6" descr=""/>
          <p:cNvPicPr/>
          <p:nvPr/>
        </p:nvPicPr>
        <p:blipFill>
          <a:blip r:embed="rId2"/>
          <a:stretch/>
        </p:blipFill>
        <p:spPr>
          <a:xfrm>
            <a:off x="3962520" y="853920"/>
            <a:ext cx="5048280" cy="1914840"/>
          </a:xfrm>
          <a:prstGeom prst="rect">
            <a:avLst/>
          </a:prstGeom>
          <a:ln w="0">
            <a:noFill/>
          </a:ln>
        </p:spPr>
      </p:pic>
      <p:sp>
        <p:nvSpPr>
          <p:cNvPr id="203" name="Oval 5"/>
          <p:cNvSpPr/>
          <p:nvPr/>
        </p:nvSpPr>
        <p:spPr>
          <a:xfrm>
            <a:off x="8229600" y="4419720"/>
            <a:ext cx="45720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4498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ff"/>
                </a:solidFill>
                <a:latin typeface="Arial Rounded MT Bold"/>
              </a:rPr>
              <a:t>Laryngopharyn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49532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2f4f4"/>
                </a:solidFill>
                <a:latin typeface="Arial"/>
              </a:rPr>
              <a:t>Lies behind the laryngeal inlet &amp; the posterior surface of laryn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unicates with the larynx  through the 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laryngeal inl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2f4f4"/>
                </a:solidFill>
                <a:latin typeface="Arial"/>
              </a:rPr>
              <a:t>Extends from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upper border of epiglottis </a:t>
            </a:r>
            <a:r>
              <a:rPr b="0" lang="en-US" sz="2000" spc="-1" strike="noStrike">
                <a:solidFill>
                  <a:srgbClr val="d2f4f4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ffc000"/>
                </a:solidFill>
                <a:latin typeface="Arial"/>
              </a:rPr>
              <a:t>lower border of cricoid cartil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small depression situated on either side of the laryngeal inlet is called ‘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iriform fossa’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a common site for the lodging of foreign bod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anches of internal laryngeal &amp; recurrent laryngeal nerves lie deep to the mucous membrane of the fossa and are vulnerable to injury during removal of a foreign bod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ClipArt Placeholder 7" descr="C:\Documents and Settings\user\My Documents\My Pictures\mn.gif"/>
          <p:cNvPicPr/>
          <p:nvPr/>
        </p:nvPicPr>
        <p:blipFill>
          <a:blip r:embed="rId1"/>
          <a:srcRect l="1368" t="1673" r="585" b="4038"/>
          <a:stretch/>
        </p:blipFill>
        <p:spPr>
          <a:xfrm>
            <a:off x="5486400" y="228600"/>
            <a:ext cx="3381480" cy="3286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C:\Documents and Settings\user\My Documents\My Pictures\vfd.png"/>
          <p:cNvPicPr/>
          <p:nvPr/>
        </p:nvPicPr>
        <p:blipFill>
          <a:blip r:embed="rId2"/>
          <a:stretch/>
        </p:blipFill>
        <p:spPr>
          <a:xfrm>
            <a:off x="5638680" y="3581280"/>
            <a:ext cx="2971800" cy="2989440"/>
          </a:xfrm>
          <a:prstGeom prst="rect">
            <a:avLst/>
          </a:prstGeom>
          <a:ln w="0">
            <a:noFill/>
          </a:ln>
        </p:spPr>
      </p:pic>
      <p:cxnSp>
        <p:nvCxnSpPr>
          <p:cNvPr id="208" name="Straight Arrow Connector 6"/>
          <p:cNvCxnSpPr/>
          <p:nvPr/>
        </p:nvCxnSpPr>
        <p:spPr>
          <a:xfrm flipV="1">
            <a:off x="6552000" y="4800240"/>
            <a:ext cx="76284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28240" y="228240"/>
            <a:ext cx="3809880" cy="6248520"/>
          </a:xfrm>
          <a:prstGeom prst="rect">
            <a:avLst/>
          </a:prstGeom>
          <a:solidFill>
            <a:srgbClr val="d2f4f4"/>
          </a:solidFill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 Rounded MT Bold"/>
              </a:rPr>
              <a:t>Nerve Supp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sor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Nasopharynx:</a:t>
            </a:r>
            <a:r>
              <a:rPr b="0" lang="en-US" sz="20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xillary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Oropharynx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lossopharyngeal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Laryngopharynx:</a:t>
            </a:r>
            <a:r>
              <a:rPr b="0" lang="en-US" sz="20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agus ner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otor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616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All the muscles of pharynx are supplied by the pharyngeal plexus. </a:t>
            </a:r>
            <a:r>
              <a:rPr b="0" lang="en-US" sz="2000" spc="-1" strike="noStrike" u="sng">
                <a:solidFill>
                  <a:srgbClr val="161616"/>
                </a:solidFill>
                <a:uFillTx/>
                <a:latin typeface="Arial"/>
              </a:rPr>
              <a:t>Except ;</a:t>
            </a:r>
            <a:r>
              <a:rPr b="0" lang="en-US" sz="2000" spc="-1" strike="noStrike">
                <a:solidFill>
                  <a:srgbClr val="16161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Stylopharyngeus is supplied by the glossopharyngeal ner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62520" y="-360"/>
            <a:ext cx="4876560" cy="2971800"/>
          </a:xfrm>
          <a:prstGeom prst="rect">
            <a:avLst/>
          </a:prstGeom>
          <a:solidFill>
            <a:srgbClr val="baedff"/>
          </a:solidFill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 Rounded MT Bold"/>
              </a:rPr>
              <a:t>Arterial supply</a:t>
            </a:r>
            <a:r>
              <a:rPr b="1" lang="en-US" sz="2800" spc="-1" strike="noStrike">
                <a:solidFill>
                  <a:srgbClr val="ff66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branches of the following arter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cending pharyng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scending palat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xill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g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4114800" y="3124080"/>
            <a:ext cx="4724280" cy="129564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Arial Rounded MT Bold"/>
              </a:rPr>
              <a:t>Veins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in into pharyngeal venous plexus, which drains into th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l jugular v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4114800" y="4495680"/>
            <a:ext cx="4724280" cy="198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79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c00000"/>
                </a:solidFill>
                <a:latin typeface="Arial Rounded MT Bold"/>
              </a:rPr>
              <a:t>lymphatics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drain into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ep cervical lymph 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nodes either directly, or indirectly via t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tropharyngeal</a:t>
            </a:r>
            <a:r>
              <a:rPr b="0" lang="en-US" sz="2400" spc="-1" strike="noStrike">
                <a:solidFill>
                  <a:srgbClr val="00a2dc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161616"/>
                </a:solidFill>
                <a:latin typeface="Arial"/>
              </a:rPr>
              <a:t>paratracheal lymph no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lilly4"/>
          <p:cNvPicPr/>
          <p:nvPr/>
        </p:nvPicPr>
        <p:blipFill>
          <a:blip r:embed="rId1"/>
          <a:stretch/>
        </p:blipFill>
        <p:spPr>
          <a:xfrm>
            <a:off x="2286000" y="1719360"/>
            <a:ext cx="4191120" cy="313524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"/>
          <p:cNvSpPr/>
          <p:nvPr/>
        </p:nvSpPr>
        <p:spPr>
          <a:xfrm>
            <a:off x="1981080" y="2209680"/>
            <a:ext cx="495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Script MT Bold"/>
              </a:rPr>
              <a:t>Thank You &amp; Good Lu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1680" y="1295280"/>
            <a:ext cx="8540640" cy="3810240"/>
          </a:xfrm>
          <a:prstGeom prst="rect">
            <a:avLst/>
          </a:prstGeom>
          <a:noFill/>
          <a:ln w="9360">
            <a:solidFill>
              <a:srgbClr val="0079a4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At the end of the lecture, the students should be abl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boundaries of the nasal c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nasal conchae and meat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e the openings in each meatu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paranasal sinuses and thei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be the pharynx and its pa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 Rounded MT Bold"/>
              </a:rPr>
              <a:t>N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4" descr="cathnose"/>
          <p:cNvPicPr/>
          <p:nvPr/>
        </p:nvPicPr>
        <p:blipFill>
          <a:blip r:embed="rId1"/>
          <a:stretch/>
        </p:blipFill>
        <p:spPr>
          <a:xfrm>
            <a:off x="6172200" y="914400"/>
            <a:ext cx="2682720" cy="261468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7696080" y="990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6553080" y="2133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7315200" y="28954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na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6705720" y="2743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pt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7543800" y="23623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1" name="Straight Arrow Connector 13"/>
          <p:cNvCxnSpPr/>
          <p:nvPr/>
        </p:nvCxnSpPr>
        <p:spPr>
          <a:xfrm flipH="1" flipV="1">
            <a:off x="7543080" y="2742480"/>
            <a:ext cx="15300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02" name="Picture 7" descr="C:\Documents and Settings\user\My Documents\My Pictures\nasalcartilages.gif"/>
          <p:cNvPicPr/>
          <p:nvPr/>
        </p:nvPicPr>
        <p:blipFill>
          <a:blip r:embed="rId2"/>
          <a:stretch/>
        </p:blipFill>
        <p:spPr>
          <a:xfrm>
            <a:off x="3962520" y="2819520"/>
            <a:ext cx="2133360" cy="3684600"/>
          </a:xfrm>
          <a:prstGeom prst="rect">
            <a:avLst/>
          </a:prstGeom>
          <a:ln w="0">
            <a:noFill/>
          </a:ln>
        </p:spPr>
      </p:pic>
      <p:cxnSp>
        <p:nvCxnSpPr>
          <p:cNvPr id="103" name="Straight Arrow Connector 19"/>
          <p:cNvCxnSpPr/>
          <p:nvPr/>
        </p:nvCxnSpPr>
        <p:spPr>
          <a:xfrm flipH="1">
            <a:off x="5638320" y="4572000"/>
            <a:ext cx="610560" cy="991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4" name="Straight Arrow Connector 20"/>
          <p:cNvCxnSpPr/>
          <p:nvPr/>
        </p:nvCxnSpPr>
        <p:spPr>
          <a:xfrm flipH="1">
            <a:off x="5257440" y="4570920"/>
            <a:ext cx="991440" cy="229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05" name="Rectangle 3"/>
          <p:cNvSpPr/>
          <p:nvPr/>
        </p:nvSpPr>
        <p:spPr>
          <a:xfrm>
            <a:off x="0" y="3581280"/>
            <a:ext cx="3200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152280" y="914400"/>
            <a:ext cx="3733920" cy="1752480"/>
          </a:xfrm>
          <a:prstGeom prst="rect">
            <a:avLst/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The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external (anterior ) nare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or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 nostrils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  <a:ea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lead to the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nasal c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3048120"/>
            <a:ext cx="3432240" cy="1218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77000"/>
          </a:bodyPr>
          <a:p>
            <a:pPr lvl="1"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ed above b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63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Bony skele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28"/>
          <p:cNvSpPr/>
          <p:nvPr/>
        </p:nvSpPr>
        <p:spPr>
          <a:xfrm>
            <a:off x="4495680" y="3048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29"/>
          <p:cNvSpPr/>
          <p:nvPr/>
        </p:nvSpPr>
        <p:spPr>
          <a:xfrm>
            <a:off x="4724280" y="38098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Box 30"/>
          <p:cNvSpPr/>
          <p:nvPr/>
        </p:nvSpPr>
        <p:spPr>
          <a:xfrm>
            <a:off x="4419720" y="42670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Placeholder 5"/>
          <p:cNvSpPr/>
          <p:nvPr/>
        </p:nvSpPr>
        <p:spPr>
          <a:xfrm>
            <a:off x="6248520" y="3962520"/>
            <a:ext cx="2133360" cy="228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ed </a:t>
            </a:r>
            <a:r>
              <a:rPr b="0" lang="en-US" sz="2800" spc="-1" strike="noStrike">
                <a:solidFill>
                  <a:srgbClr val="ffc000"/>
                </a:solidFill>
                <a:latin typeface="Tahoma"/>
                <a:ea typeface="Tahoma"/>
              </a:rPr>
              <a:t>belo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 by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  <a:ea typeface="Tahoma"/>
              </a:rPr>
              <a:t>plates of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hyaline cartil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2" name="Straight Arrow Connector 20"/>
          <p:cNvCxnSpPr/>
          <p:nvPr/>
        </p:nvCxnSpPr>
        <p:spPr>
          <a:xfrm>
            <a:off x="3657240" y="3352680"/>
            <a:ext cx="1067400" cy="15336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3" name="Straight Arrow Connector 22"/>
          <p:cNvCxnSpPr/>
          <p:nvPr/>
        </p:nvCxnSpPr>
        <p:spPr>
          <a:xfrm>
            <a:off x="3656520" y="3352680"/>
            <a:ext cx="762840" cy="1448640"/>
          </a:xfrm>
          <a:prstGeom prst="straightConnector1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 Rounded MT Bold"/>
              </a:rPr>
              <a:t>Nasal Cav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3429000" cy="51814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xtends from the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external (anterior) nare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o the </a:t>
            </a:r>
            <a:r>
              <a:rPr b="0" lang="en-US" sz="2400" spc="-1" strike="noStrike">
                <a:solidFill>
                  <a:srgbClr val="ffc000"/>
                </a:solidFill>
                <a:latin typeface="Tahoma"/>
                <a:ea typeface="Tahoma"/>
              </a:rPr>
              <a:t>posterior nares (choana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Divided into right &amp; left halves by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nasal sept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ach half has 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Ro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Lateral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edial wall (septu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6" descr="b8"/>
          <p:cNvPicPr/>
          <p:nvPr/>
        </p:nvPicPr>
        <p:blipFill>
          <a:blip r:embed="rId1"/>
          <a:srcRect l="3159" t="0" r="1451" b="15961"/>
          <a:stretch/>
        </p:blipFill>
        <p:spPr>
          <a:xfrm>
            <a:off x="4343400" y="3581280"/>
            <a:ext cx="4545000" cy="289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:\Documents and Settings\user\My Documents\My Pictures\xx.jpg"/>
          <p:cNvPicPr/>
          <p:nvPr/>
        </p:nvPicPr>
        <p:blipFill>
          <a:blip r:embed="rId2"/>
          <a:stretch/>
        </p:blipFill>
        <p:spPr>
          <a:xfrm>
            <a:off x="4495680" y="762120"/>
            <a:ext cx="3810240" cy="2762280"/>
          </a:xfrm>
          <a:prstGeom prst="rect">
            <a:avLst/>
          </a:prstGeom>
          <a:ln w="0">
            <a:noFill/>
          </a:ln>
        </p:spPr>
      </p:pic>
      <p:sp>
        <p:nvSpPr>
          <p:cNvPr id="118" name="Straight Connector 6"/>
          <p:cNvSpPr/>
          <p:nvPr/>
        </p:nvSpPr>
        <p:spPr>
          <a:xfrm flipH="1">
            <a:off x="6629400" y="4572000"/>
            <a:ext cx="7632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traight Connector 9"/>
          <p:cNvSpPr/>
          <p:nvPr/>
        </p:nvSpPr>
        <p:spPr>
          <a:xfrm>
            <a:off x="6629400" y="6019920"/>
            <a:ext cx="533520" cy="1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traight Connector 11"/>
          <p:cNvSpPr/>
          <p:nvPr/>
        </p:nvSpPr>
        <p:spPr>
          <a:xfrm>
            <a:off x="6780960" y="4572000"/>
            <a:ext cx="381240" cy="14479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traight Connector 14"/>
          <p:cNvSpPr/>
          <p:nvPr/>
        </p:nvSpPr>
        <p:spPr>
          <a:xfrm>
            <a:off x="6705720" y="4572000"/>
            <a:ext cx="7596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724280" y="685440"/>
            <a:ext cx="4191120" cy="3505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Rounded MT Bold"/>
              </a:rPr>
              <a:t>Ro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arrow &amp; formed (from behind forward) by th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Body of spheno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Cribriform plate of ethmoid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Frontal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0960" indent="-420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Nasal bone &amp; cartilag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C:\Documents and Settings\user\My Documents\My Pictures\f0417-01.jpg"/>
          <p:cNvPicPr/>
          <p:nvPr/>
        </p:nvPicPr>
        <p:blipFill>
          <a:blip r:embed="rId1"/>
          <a:stretch/>
        </p:blipFill>
        <p:spPr>
          <a:xfrm>
            <a:off x="457200" y="762120"/>
            <a:ext cx="4194000" cy="35049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3"/>
          <p:cNvSpPr/>
          <p:nvPr/>
        </p:nvSpPr>
        <p:spPr>
          <a:xfrm>
            <a:off x="990720" y="4495680"/>
            <a:ext cx="6476760" cy="137160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 Rounded MT Bold"/>
              </a:rPr>
              <a:t>Flo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Separates it from the oral cav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Formed by the </a:t>
            </a:r>
            <a:r>
              <a:rPr b="0" lang="en-US" sz="2400" spc="-1" strike="noStrike">
                <a:solidFill>
                  <a:srgbClr val="c00000"/>
                </a:solidFill>
                <a:latin typeface="Tahoma"/>
                <a:ea typeface="Tahoma"/>
              </a:rPr>
              <a:t>hard (bony) palate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1752480" y="1600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2209680" y="13716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274320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3276720" y="20574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9" name="Straight Arrow Connector 9"/>
          <p:cNvCxnSpPr/>
          <p:nvPr/>
        </p:nvCxnSpPr>
        <p:spPr>
          <a:xfrm flipH="1" flipV="1">
            <a:off x="2286000" y="3351960"/>
            <a:ext cx="76680" cy="1296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3581280" cy="5562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Rounded MT Bold"/>
                <a:ea typeface="Tahoma"/>
              </a:rPr>
              <a:t>Medial Wall (Nasal Sept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Osteocartilagino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parti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Formed b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Perpendicular plate of ethmoid b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Vom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eptal cartil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C:\Documents and Settings\user\My Documents\My Pictures\f0417-01.jpg"/>
          <p:cNvPicPr/>
          <p:nvPr/>
        </p:nvPicPr>
        <p:blipFill>
          <a:blip r:embed="rId1"/>
          <a:stretch/>
        </p:blipFill>
        <p:spPr>
          <a:xfrm>
            <a:off x="4114800" y="1523880"/>
            <a:ext cx="4376880" cy="3657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2" name="TextBox 3"/>
          <p:cNvSpPr/>
          <p:nvPr/>
        </p:nvSpPr>
        <p:spPr>
          <a:xfrm>
            <a:off x="6172200" y="28954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63244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5486400" y="3276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4572000" cy="342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ff"/>
                </a:solidFill>
                <a:latin typeface="Arial Rounded MT Bold"/>
                <a:ea typeface="Tahoma"/>
              </a:rPr>
              <a:t>Lateral Wal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Shows three horizontal bony projections, the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perio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,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middle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&amp;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inferior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concha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The cavity below each concha is called a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meatu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 and are named as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superior, middle &amp; inferior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corresponding to the concha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Picture1"/>
          <p:cNvPicPr/>
          <p:nvPr/>
        </p:nvPicPr>
        <p:blipFill>
          <a:blip r:embed="rId1"/>
          <a:stretch/>
        </p:blipFill>
        <p:spPr>
          <a:xfrm>
            <a:off x="4648320" y="838080"/>
            <a:ext cx="4384440" cy="33181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304920" y="4419720"/>
            <a:ext cx="8686800" cy="2438280"/>
          </a:xfrm>
          <a:prstGeom prst="rect">
            <a:avLst/>
          </a:prstGeom>
          <a:gradFill rotWithShape="0">
            <a:gsLst>
              <a:gs pos="0">
                <a:srgbClr val="95ffff"/>
              </a:gs>
              <a:gs pos="100000">
                <a:srgbClr val="e1ffff"/>
              </a:gs>
            </a:gsLst>
            <a:lin ang="16200000"/>
          </a:gradFill>
          <a:ln w="9360">
            <a:solidFill>
              <a:srgbClr val="2ecbc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Tahoma"/>
              </a:rPr>
              <a:t>The small space above the superior concha is the 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  <a:ea typeface="Tahoma"/>
              </a:rPr>
              <a:t>sphenoethmoidal re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hae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increase the surface area of the nasal cavit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</a:t>
            </a:r>
            <a:r>
              <a:rPr b="0" lang="en-US" sz="2400" spc="-1" strike="noStrike">
                <a:solidFill>
                  <a:srgbClr val="ff66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ecess &amp; meati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ceive the openings of t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Paranasal sinu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asolacrimal duct</a:t>
            </a:r>
            <a:r>
              <a:rPr b="0" lang="en-US" sz="2400" spc="-1" strike="noStrike">
                <a:solidFill>
                  <a:srgbClr val="92d05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3816360" cy="647640"/>
          </a:xfrm>
          <a:prstGeom prst="rect">
            <a:avLst/>
          </a:prstGeom>
          <a:gradFill rotWithShape="0">
            <a:gsLst>
              <a:gs pos="0">
                <a:srgbClr val="90f1f1"/>
              </a:gs>
              <a:gs pos="100000">
                <a:srgbClr val="dff9f9"/>
              </a:gs>
            </a:gsLst>
            <a:lin ang="8100000"/>
          </a:gradFill>
          <a:ln w="2844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74ff"/>
                </a:solidFill>
                <a:latin typeface="Arial"/>
              </a:rPr>
              <a:t>Nasal muco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360" y="999720"/>
            <a:ext cx="4143240" cy="5597640"/>
          </a:xfrm>
          <a:prstGeom prst="rect">
            <a:avLst/>
          </a:prstGeom>
          <a:gradFill rotWithShape="0">
            <a:gsLst>
              <a:gs pos="0">
                <a:srgbClr val="91b7d6"/>
              </a:gs>
              <a:gs pos="100000">
                <a:srgbClr val="dfe9f1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cc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Olfactory </a:t>
            </a: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lic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contains olfactory nerv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present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upper part of nasal cav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roof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a0aff"/>
                </a:solidFill>
                <a:latin typeface="Arial"/>
              </a:rPr>
              <a:t>lateral wa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On the lateral w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lines the upper surface of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 conch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henoethmoidal rece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On the medial wal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lines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 par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nasal sept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6553080" y="6245280"/>
            <a:ext cx="228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D7F8-B93A-42C2-B9B1-B2BCF5903A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F0929065"/>
          <p:cNvPicPr/>
          <p:nvPr/>
        </p:nvPicPr>
        <p:blipFill>
          <a:blip r:embed="rId1"/>
          <a:srcRect l="1761" t="4538" r="44954" b="5452"/>
          <a:stretch/>
        </p:blipFill>
        <p:spPr>
          <a:xfrm>
            <a:off x="4419720" y="3809880"/>
            <a:ext cx="4278240" cy="2895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2" name="Picture 10" descr="F66122-008-f232"/>
          <p:cNvPicPr/>
          <p:nvPr/>
        </p:nvPicPr>
        <p:blipFill>
          <a:blip r:embed="rId2"/>
          <a:srcRect l="0" t="4142" r="-3043" b="4807"/>
          <a:stretch/>
        </p:blipFill>
        <p:spPr>
          <a:xfrm>
            <a:off x="4572000" y="152280"/>
            <a:ext cx="4114800" cy="35402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22:08:28Z</dcterms:created>
  <dc:creator>Dr. Zeenat Zaidi</dc:creator>
  <dc:description/>
  <dc:language>en-US</dc:language>
  <cp:lastModifiedBy>Jamila hafizelmedany</cp:lastModifiedBy>
  <dcterms:modified xsi:type="dcterms:W3CDTF">2015-01-12T09:56:08Z</dcterms:modified>
  <cp:revision>162</cp:revision>
  <dc:subject/>
  <dc:title>Nose, Nasal cavity &amp; Paranasal sinuses &amp; Pharynx</dc:title>
</cp:coreProperties>
</file>