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0565-63AE-4388-88E9-CCDD4FE3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D7F-B9B7-4A50-A2A0-4C2A21795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25B-F9F2-4A56-8E70-2DEDD1CC4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FEF-47EB-41C6-8AF2-FBCC39D6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C9C-7C22-4F93-9BFB-606CDE6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77A-9494-4CCD-8084-7FFF5051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2DB-34F7-4599-86E2-1D0F0FF2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B007-9C9B-4CB0-A7F8-CBA2710E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2C33-9A38-4B2F-99E3-9D68B151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B8A-4EEB-4044-9732-E738784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676-AECC-4F47-B861-3CFA0F3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A539-C3B4-4351-AF8D-30E83561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80D-70E3-4F59-AB5F-51D113F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9AA-E50C-43A8-AC05-6460E17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FA4-C95F-4B0B-B2FA-C42EAAF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F56-50F9-47FC-B8DC-94AB80B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323F-B2E5-42FD-B86F-3F04BDFC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C6B-3524-43CB-A42D-4DE5B77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2D87-1135-4C2D-8404-D834A136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766B-306C-4D12-A920-F5A6D13C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22C-FD95-4784-9162-5E9AB73B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65D-E0C7-4403-B3FB-75D0A1C0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191-D4F7-4A72-B8EB-06E1432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1F6-8264-4689-8222-34572C3C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F9B-933F-42CE-A3E2-9E859C3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FEC-8FAE-4350-8F23-73C18A8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F05-F118-48F1-9C0D-D4B4F64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DF8B-2B75-43C0-BA1A-8D7F120E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86D-223A-48E7-B82B-3B6BC0280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2"/>
          <p:cNvGrpSpPr/>
          <p:nvPr/>
        </p:nvGrpSpPr>
        <p:grpSpPr>
          <a:xfrm>
            <a:off x="1096920" y="171360"/>
            <a:ext cx="6596280" cy="614520"/>
            <a:chOff x="1096920" y="171360"/>
            <a:chExt cx="6596280" cy="614520"/>
          </a:xfrm>
        </p:grpSpPr>
        <p:pic>
          <p:nvPicPr>
            <p:cNvPr id="144" name="Rectangle 2" descr=""/>
            <p:cNvPicPr/>
            <p:nvPr/>
          </p:nvPicPr>
          <p:blipFill>
            <a:blip r:embed="rId1"/>
            <a:stretch/>
          </p:blipFill>
          <p:spPr>
            <a:xfrm>
              <a:off x="1096920" y="171360"/>
              <a:ext cx="6596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EEF-8E3F-41E4-AB1B-E15FE2831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3160440" cy="5440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xilla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Autonomic fi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maxilla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faci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ophthalmic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rain in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7" descr="F66122-008-f226c"/>
          <p:cNvPicPr/>
          <p:nvPr/>
        </p:nvPicPr>
        <p:blipFill>
          <a:blip r:embed="rId1"/>
          <a:srcRect l="0" t="3318" r="0" b="5000"/>
          <a:stretch/>
        </p:blipFill>
        <p:spPr>
          <a:xfrm>
            <a:off x="380880" y="1066680"/>
            <a:ext cx="3353040" cy="426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K:\Student Gray\8. Head and neck\F66122-008-f190b.jpg"/>
          <p:cNvPicPr/>
          <p:nvPr/>
        </p:nvPicPr>
        <p:blipFill>
          <a:blip r:embed="rId1"/>
          <a:srcRect l="8014" t="0" r="8188" b="3597"/>
          <a:stretch/>
        </p:blipFill>
        <p:spPr>
          <a:xfrm>
            <a:off x="4876920" y="1143000"/>
            <a:ext cx="374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3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341280" y="4651200"/>
            <a:ext cx="9809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lpingopharyngeal fo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89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between them in                      a depression called the 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nsilla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ssa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2" name="Straight Arrow Connector 9"/>
          <p:cNvCxnSpPr/>
          <p:nvPr/>
        </p:nvCxnSpPr>
        <p:spPr>
          <a:xfrm flipH="1" flipV="1">
            <a:off x="5866920" y="2971440"/>
            <a:ext cx="10677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3" name="Picture 8" descr="C:\Users\galmadani\Pictures\Picture5.jpg"/>
          <p:cNvPicPr/>
          <p:nvPr/>
        </p:nvPicPr>
        <p:blipFill>
          <a:blip r:embed="rId1"/>
          <a:srcRect l="0" t="2676" r="3143" b="1011"/>
          <a:stretch/>
        </p:blipFill>
        <p:spPr>
          <a:xfrm>
            <a:off x="4572000" y="1828800"/>
            <a:ext cx="41911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469116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Two masses of lymphoid tissue located in the lateral wall of the oropharynx in the tonsillar foss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520" y="1447560"/>
            <a:ext cx="4343400" cy="5257800"/>
          </a:xfrm>
          <a:prstGeom prst="rect">
            <a:avLst/>
          </a:prstGeom>
          <a:solidFill>
            <a:srgbClr val="8b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teriorly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gloss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ly: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pharynge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perior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o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feriorly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osterior 1\3 of the tong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edially</a:t>
            </a:r>
            <a:r>
              <a:rPr b="1" lang="en-US" sz="20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cavity of the 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uperior constrictor of the pharynx separated from it by lose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827600" y="2057400"/>
            <a:ext cx="4014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488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terial suppl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nsillar artery from the fascial, lingual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nous drainag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oin external palatine pharyngeal and fascial ve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ymphatic draina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 the upper deep cervical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8229600" y="4419720"/>
            <a:ext cx="4572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internal laryngeal &amp; recurrent laryngeal nerves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08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solidFill>
            <a:srgbClr val="d2f4f4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Nas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Oropharynx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aryng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to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161616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62520" y="-360"/>
            <a:ext cx="4876560" cy="2971800"/>
          </a:xfrm>
          <a:prstGeom prst="rect">
            <a:avLst/>
          </a:prstGeom>
          <a:solidFill>
            <a:srgbClr val="baedff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 the following art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5280"/>
            <a:ext cx="8540640" cy="38102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 and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hard (bony) palat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45720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, middle &amp; inferio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43828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ha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crease the surface area of the nas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ess &amp; meat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eive the opening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nasal si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asolacrimal duct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pper part of 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9CBD-21E5-43F9-AE0C-5506C9FD88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F0929065"/>
          <p:cNvPicPr/>
          <p:nvPr/>
        </p:nvPicPr>
        <p:blipFill>
          <a:blip r:embed="rId1"/>
          <a:srcRect l="1761" t="4538" r="44954" b="5452"/>
          <a:stretch/>
        </p:blipFill>
        <p:spPr>
          <a:xfrm>
            <a:off x="4419720" y="3809880"/>
            <a:ext cx="427824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0" descr="F66122-008-f232"/>
          <p:cNvPicPr/>
          <p:nvPr/>
        </p:nvPicPr>
        <p:blipFill>
          <a:blip r:embed="rId2"/>
          <a:srcRect l="0" t="4142" r="-3043" b="4807"/>
          <a:stretch/>
        </p:blipFill>
        <p:spPr>
          <a:xfrm>
            <a:off x="4572000" y="152280"/>
            <a:ext cx="4114800" cy="354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Jamila hafizelmedany</cp:lastModifiedBy>
  <dcterms:modified xsi:type="dcterms:W3CDTF">2015-01-12T09:56:08Z</dcterms:modified>
  <cp:revision>162</cp:revision>
  <dc:subject/>
  <dc:title>Nose, Nasal cavity &amp; Paranasal sinuses &amp; Pharynx</dc:title>
</cp:coreProperties>
</file>