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36F-E27B-408C-8A5C-C30D3CFB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3D1-6CF8-4A3F-9850-F5C87CD4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2B8-63C8-47F3-8DCB-B1C43CBD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F97-CE41-40C0-87EC-B853311A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E6A-2367-4F6F-BD0A-9282F2F1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106-C4B0-4E14-BAAB-60495141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E17-DA89-4636-B07A-1040AD45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FB6-0201-41D9-9FB1-E9ECEE84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7D8-1446-4044-A871-5941C9E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CBF-F0F7-4611-9CD4-EEB7892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25E-B1D4-4878-8CA2-408CA17F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B66-B747-4FB1-ABC6-54FA8D41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C12-5E32-4DDE-ACA6-ED34E9F64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4723920"/>
            <a:ext cx="5715000" cy="175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Prof. Ahmed Fathalla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Dr. Sanaa Alsha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596880" y="-347760"/>
            <a:ext cx="861372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RIGIN OF DIAPHRAG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1)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Costal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ower 6 costal cartilages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3) Sternal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xiphoid process of ster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7" descr="respiration 004.jpg"/>
          <p:cNvPicPr/>
          <p:nvPr/>
        </p:nvPicPr>
        <p:blipFill>
          <a:blip r:embed="rId1"/>
          <a:stretch/>
        </p:blipFill>
        <p:spPr>
          <a:xfrm>
            <a:off x="228600" y="2174760"/>
            <a:ext cx="4343400" cy="445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5080" y="1294920"/>
            <a:ext cx="42703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46c0a"/>
                </a:solidFill>
                <a:latin typeface="Calibri"/>
              </a:rPr>
              <a:t>2) Vertebral: 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upper 3 lumbar vertebra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(right &amp; left crus + arcuate ligament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4956480" y="6248520"/>
            <a:ext cx="12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Posterior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ight Arrow 11"/>
          <p:cNvSpPr/>
          <p:nvPr/>
        </p:nvSpPr>
        <p:spPr>
          <a:xfrm>
            <a:off x="1371600" y="586728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eft Arrow 12"/>
          <p:cNvSpPr/>
          <p:nvPr/>
        </p:nvSpPr>
        <p:spPr>
          <a:xfrm>
            <a:off x="3429000" y="579132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724280" y="57150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17" descr="respiration 003.jpg"/>
          <p:cNvPicPr/>
          <p:nvPr/>
        </p:nvPicPr>
        <p:blipFill>
          <a:blip r:embed="rId2"/>
          <a:stretch/>
        </p:blipFill>
        <p:spPr>
          <a:xfrm>
            <a:off x="4854600" y="2174760"/>
            <a:ext cx="3984480" cy="445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4" name="TextBox 18"/>
          <p:cNvSpPr/>
          <p:nvPr/>
        </p:nvSpPr>
        <p:spPr>
          <a:xfrm>
            <a:off x="4879440" y="62485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805280" y="571500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dial arcuate liga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7163280" y="571500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26"/>
          <p:cNvCxnSpPr/>
          <p:nvPr/>
        </p:nvCxnSpPr>
        <p:spPr>
          <a:xfrm flipH="1" flipV="1">
            <a:off x="7085880" y="5485680"/>
            <a:ext cx="305640" cy="305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32"/>
          <p:cNvCxnSpPr/>
          <p:nvPr/>
        </p:nvCxnSpPr>
        <p:spPr>
          <a:xfrm flipV="1">
            <a:off x="5867280" y="5409360"/>
            <a:ext cx="534240" cy="3819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268200" y="5562720"/>
            <a:ext cx="146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Straight Arrow Connector 22"/>
          <p:cNvCxnSpPr/>
          <p:nvPr/>
        </p:nvCxnSpPr>
        <p:spPr>
          <a:xfrm flipV="1">
            <a:off x="1599120" y="5028480"/>
            <a:ext cx="610200" cy="6102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1" name="TextBox 21"/>
          <p:cNvSpPr/>
          <p:nvPr/>
        </p:nvSpPr>
        <p:spPr>
          <a:xfrm>
            <a:off x="3605040" y="5486400"/>
            <a:ext cx="97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dial arcu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iga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24"/>
          <p:cNvCxnSpPr/>
          <p:nvPr/>
        </p:nvCxnSpPr>
        <p:spPr>
          <a:xfrm flipH="1" flipV="1">
            <a:off x="2819160" y="5028840"/>
            <a:ext cx="915120" cy="5342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3" name="Picture 4" descr="C1E11E6"/>
          <p:cNvPicPr/>
          <p:nvPr/>
        </p:nvPicPr>
        <p:blipFill>
          <a:blip r:embed="rId3"/>
          <a:srcRect l="26710" t="31106" r="0" b="39089"/>
          <a:stretch/>
        </p:blipFill>
        <p:spPr>
          <a:xfrm>
            <a:off x="4786200" y="221472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INSERTION OF DIAPHRAGM</a:t>
            </a:r>
            <a:br>
              <a:rPr sz="4900"/>
            </a:b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(CENTRAL TENDON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7" descr="respiration 005.jpg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6" name="Content Placeholder 9" descr="respiration 006.jpg"/>
          <p:cNvPicPr/>
          <p:nvPr/>
        </p:nvPicPr>
        <p:blipFill>
          <a:blip r:embed="rId2"/>
          <a:stretch/>
        </p:blipFill>
        <p:spPr>
          <a:xfrm>
            <a:off x="228600" y="2362320"/>
            <a:ext cx="42670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7" name="TextBox 4"/>
          <p:cNvSpPr/>
          <p:nvPr/>
        </p:nvSpPr>
        <p:spPr>
          <a:xfrm>
            <a:off x="500040" y="178596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(lies at  the level of xiphisternal joint, at 9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thoracic Vertebra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DIAPHRAG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A musculotendinous partition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between thoracic &amp; abdominal ca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vex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toward thoracic &amp;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cav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toward abdominal ca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ttached to: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ternum, costal cartilages,12</a:t>
            </a:r>
            <a:r>
              <a:rPr b="1" lang="en-US" sz="27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rib &amp; lumbar vertebra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Fibers converge to join the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entral tend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Nerve supply: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phrenic nerve (C3,4,5),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penetrates diaphragm &amp; innervates it from abdominal surf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ction: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traction (descent) of diaphragm increase vertical diameter of thoracic cavity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(essential for normal breath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EXTERNAL INTERCOSTAL</a:t>
            </a:r>
            <a:br>
              <a:rPr sz="49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spiratory Musc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Attachment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from lower border of rib above to upper border of rib bel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Direction of fibers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downward &amp; medi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7" descr="F66122-003-f027.jpg"/>
          <p:cNvPicPr/>
          <p:nvPr/>
        </p:nvPicPr>
        <p:blipFill>
          <a:blip r:embed="rId1"/>
          <a:stretch/>
        </p:blipFill>
        <p:spPr>
          <a:xfrm>
            <a:off x="457200" y="3098880"/>
            <a:ext cx="4040280" cy="375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5080" y="1447920"/>
            <a:ext cx="41940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intercostal n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Action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rib elevators (inspirator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8" descr="F66122-003-f026a.jpg"/>
          <p:cNvPicPr/>
          <p:nvPr/>
        </p:nvPicPr>
        <p:blipFill>
          <a:blip r:embed="rId2"/>
          <a:stretch/>
        </p:blipFill>
        <p:spPr>
          <a:xfrm>
            <a:off x="5105520" y="2906640"/>
            <a:ext cx="3398760" cy="39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5" name="Up Arrow 6"/>
          <p:cNvSpPr/>
          <p:nvPr/>
        </p:nvSpPr>
        <p:spPr>
          <a:xfrm>
            <a:off x="1295280" y="3276720"/>
            <a:ext cx="152640" cy="152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42560"/>
            <a:ext cx="4190760" cy="95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CALENE MUSCLES</a:t>
            </a:r>
            <a:br>
              <a:rPr sz="36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  Forced Inspi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11" descr="respiration 010.jpg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58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5760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Origi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cervical 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1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2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ri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Actio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elevates 1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2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rib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inspira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6785640" y="685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5- Scalenus a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6. Scalenus medi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7. Scalenus pos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6714360" y="441972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ri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6794280" y="50292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ri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7012080" y="22096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Cervical vertebra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Straight Arrow Connector 17"/>
          <p:cNvCxnSpPr>
            <a:stCxn id="132" idx="1"/>
          </p:cNvCxnSpPr>
          <p:nvPr/>
        </p:nvCxnSpPr>
        <p:spPr>
          <a:xfrm flipH="1" flipV="1">
            <a:off x="6476400" y="1523160"/>
            <a:ext cx="533880" cy="870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PECTORALIS MAJOR</a:t>
            </a:r>
            <a:br>
              <a:rPr sz="5400"/>
            </a:b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(In Forced Inspir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35040"/>
            <a:ext cx="4343400" cy="12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Origi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sternum + costal cartil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Content Placeholder 9" descr="F66122-007-f113d.jpg"/>
          <p:cNvPicPr/>
          <p:nvPr/>
        </p:nvPicPr>
        <p:blipFill>
          <a:blip r:embed="rId1"/>
          <a:stretch/>
        </p:blipFill>
        <p:spPr>
          <a:xfrm>
            <a:off x="228600" y="3200400"/>
            <a:ext cx="4268880" cy="335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4720" y="1295280"/>
            <a:ext cx="4041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Actio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increase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antero-posterior diameter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thoracic cavity, when arm is fixed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inspira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10" descr="F66122-003-f017.jpg"/>
          <p:cNvPicPr/>
          <p:nvPr/>
        </p:nvPicPr>
        <p:blipFill>
          <a:blip r:embed="rId2"/>
          <a:stretch/>
        </p:blipFill>
        <p:spPr>
          <a:xfrm>
            <a:off x="4648320" y="3200400"/>
            <a:ext cx="4270320" cy="3397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EXPIRATORY MUS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ct only during forced ex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Rib depress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ternal intercos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nermost intercos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ubcost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ransversus thorac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Anterior abdominal wall musc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External obl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ternal obl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ransversus abdomin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Rectus abdomin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IB DEPRESSORS: REST OF INTERCOSTAL MUS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. Internal inter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. Innermost inter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p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8" descr="F66122-003-f027.jpg"/>
          <p:cNvPicPr/>
          <p:nvPr/>
        </p:nvPicPr>
        <p:blipFill>
          <a:blip r:embed="rId1"/>
          <a:stretch/>
        </p:blipFill>
        <p:spPr>
          <a:xfrm>
            <a:off x="304920" y="2870280"/>
            <a:ext cx="4343400" cy="398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733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3. Sub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4. Transversus thorac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tercostal nerves     (ventral rami of T1-T11)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9" descr="F66122-003-f028.jpg"/>
          <p:cNvPicPr/>
          <p:nvPr/>
        </p:nvPicPr>
        <p:blipFill>
          <a:blip r:embed="rId2"/>
          <a:stretch/>
        </p:blipFill>
        <p:spPr>
          <a:xfrm>
            <a:off x="5410080" y="2895480"/>
            <a:ext cx="3353040" cy="396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6" name="Down Arrow 7"/>
          <p:cNvSpPr/>
          <p:nvPr/>
        </p:nvSpPr>
        <p:spPr>
          <a:xfrm>
            <a:off x="609480" y="53341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Up Arrow 10"/>
          <p:cNvSpPr/>
          <p:nvPr/>
        </p:nvSpPr>
        <p:spPr>
          <a:xfrm>
            <a:off x="762120" y="6095880"/>
            <a:ext cx="152280" cy="2286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ight Arrow 11"/>
          <p:cNvSpPr/>
          <p:nvPr/>
        </p:nvSpPr>
        <p:spPr>
          <a:xfrm>
            <a:off x="5638680" y="4800600"/>
            <a:ext cx="3049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own Arrow 12"/>
          <p:cNvSpPr/>
          <p:nvPr/>
        </p:nvSpPr>
        <p:spPr>
          <a:xfrm>
            <a:off x="6858000" y="6477120"/>
            <a:ext cx="76320" cy="15228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72428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External oblique (outer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own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9" descr="respiration 013.jpg"/>
          <p:cNvPicPr/>
          <p:nvPr/>
        </p:nvPicPr>
        <p:blipFill>
          <a:blip r:embed="rId1"/>
          <a:stretch/>
        </p:blipFill>
        <p:spPr>
          <a:xfrm>
            <a:off x="533520" y="2514600"/>
            <a:ext cx="3581280" cy="41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19360" y="12189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ternal oblique (middle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p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Content Placeholder 10" descr="respiration 015.jpg"/>
          <p:cNvPicPr/>
          <p:nvPr/>
        </p:nvPicPr>
        <p:blipFill>
          <a:blip r:embed="rId2"/>
          <a:stretch/>
        </p:blipFill>
        <p:spPr>
          <a:xfrm>
            <a:off x="4648320" y="2514600"/>
            <a:ext cx="3200400" cy="41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5" name="Down Arrow 6"/>
          <p:cNvSpPr/>
          <p:nvPr/>
        </p:nvSpPr>
        <p:spPr>
          <a:xfrm>
            <a:off x="3733920" y="37339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8156880" y="4191120"/>
            <a:ext cx="6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Lin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al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14"/>
          <p:cNvSpPr/>
          <p:nvPr/>
        </p:nvSpPr>
        <p:spPr>
          <a:xfrm flipH="1" flipV="1">
            <a:off x="7772400" y="4495320"/>
            <a:ext cx="38088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Down Arrow 16"/>
          <p:cNvSpPr/>
          <p:nvPr/>
        </p:nvSpPr>
        <p:spPr>
          <a:xfrm>
            <a:off x="838080" y="39625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ight Arrow 17"/>
          <p:cNvSpPr/>
          <p:nvPr/>
        </p:nvSpPr>
        <p:spPr>
          <a:xfrm>
            <a:off x="4952880" y="4724280"/>
            <a:ext cx="381240" cy="1526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974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Calibri"/>
              </a:rPr>
              <a:t>Transversus abdominis (inner layer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Directio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transve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5080" y="1371600"/>
            <a:ext cx="4270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Rectus abdomin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Direction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ver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Content Placeholder 11" descr="respiration 018.jpg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4" name="Content Placeholder 6" descr="respiration 017.jpg"/>
          <p:cNvPicPr/>
          <p:nvPr/>
        </p:nvPicPr>
        <p:blipFill>
          <a:blip r:embed="rId2"/>
          <a:stretch/>
        </p:blipFill>
        <p:spPr>
          <a:xfrm>
            <a:off x="7010280" y="2666880"/>
            <a:ext cx="1919520" cy="39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5" name="TextBox 12"/>
          <p:cNvSpPr/>
          <p:nvPr/>
        </p:nvSpPr>
        <p:spPr>
          <a:xfrm>
            <a:off x="4500720" y="388620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Rectus abdomin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33"/>
          <p:cNvSpPr/>
          <p:nvPr/>
        </p:nvSpPr>
        <p:spPr>
          <a:xfrm>
            <a:off x="6477120" y="4114800"/>
            <a:ext cx="11430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traight Connector 38"/>
          <p:cNvSpPr/>
          <p:nvPr/>
        </p:nvSpPr>
        <p:spPr>
          <a:xfrm flipV="1">
            <a:off x="7619400" y="38858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40"/>
          <p:cNvSpPr/>
          <p:nvPr/>
        </p:nvSpPr>
        <p:spPr>
          <a:xfrm>
            <a:off x="7619400" y="41148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4187880" y="48769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Transversus abdomin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43"/>
          <p:cNvSpPr/>
          <p:nvPr/>
        </p:nvSpPr>
        <p:spPr>
          <a:xfrm flipV="1">
            <a:off x="6705720" y="4952880"/>
            <a:ext cx="68580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45"/>
          <p:cNvSpPr/>
          <p:nvPr/>
        </p:nvSpPr>
        <p:spPr>
          <a:xfrm>
            <a:off x="1143000" y="4952880"/>
            <a:ext cx="5335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ight Arrow 46"/>
          <p:cNvSpPr/>
          <p:nvPr/>
        </p:nvSpPr>
        <p:spPr>
          <a:xfrm>
            <a:off x="228600" y="4952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0"/>
          <p:cNvSpPr/>
          <p:nvPr/>
        </p:nvSpPr>
        <p:spPr>
          <a:xfrm flipH="1" flipV="1">
            <a:off x="1905120" y="5029200"/>
            <a:ext cx="2286000" cy="47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ight Arrow 51"/>
          <p:cNvSpPr/>
          <p:nvPr/>
        </p:nvSpPr>
        <p:spPr>
          <a:xfrm>
            <a:off x="304920" y="54864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53"/>
          <p:cNvSpPr/>
          <p:nvPr/>
        </p:nvSpPr>
        <p:spPr>
          <a:xfrm flipV="1">
            <a:off x="1143000" y="5333760"/>
            <a:ext cx="1219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eft Arrow 58"/>
          <p:cNvSpPr/>
          <p:nvPr/>
        </p:nvSpPr>
        <p:spPr>
          <a:xfrm>
            <a:off x="3505320" y="426708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62"/>
          <p:cNvSpPr/>
          <p:nvPr/>
        </p:nvSpPr>
        <p:spPr>
          <a:xfrm flipH="1" flipV="1">
            <a:off x="8077320" y="4343400"/>
            <a:ext cx="3045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eft Arrow 66"/>
          <p:cNvSpPr/>
          <p:nvPr/>
        </p:nvSpPr>
        <p:spPr>
          <a:xfrm>
            <a:off x="8839080" y="42670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At the end of the lecture, students shoul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components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of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thoracic cage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their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artic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in brief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respiratory movements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List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muscles involved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in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inspiration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in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expiration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attachments of each muscle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to the thoracic cage and its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nerve supp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origin, insertion, nerve supply of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diaphragm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s formed of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3 layers  of muscles of  fibers running in different directions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to increase strength of anterior abdominal wa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3 muscle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form a sheath in which a fourth muscles lies (rectus abdomin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uscles are attached to: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ternum, costal cartilages and ribs 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+ hip b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aponeurosis of the 3 muscles on both sides fuse in the midline  to form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linea al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Action (during forced expiration)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ression of abdominal viscera to help in ascent of diaphragm (during forced expi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lower  intercostal nerves (T7 – T11), subcostal nerve (T12) and first lumbar ner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225360" y="122400"/>
            <a:ext cx="8693280" cy="66927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1"/>
          <p:cNvSpPr/>
          <p:nvPr/>
        </p:nvSpPr>
        <p:spPr>
          <a:xfrm>
            <a:off x="1447920" y="2514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ORACIC CA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respiration.jpg"/>
          <p:cNvPicPr/>
          <p:nvPr/>
        </p:nvPicPr>
        <p:blipFill>
          <a:blip r:embed="rId1"/>
          <a:stretch/>
        </p:blipFill>
        <p:spPr>
          <a:xfrm>
            <a:off x="228600" y="1600200"/>
            <a:ext cx="4267080" cy="4495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Content Placeholder 7" descr="respiration 001.jpg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95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Down Arrow 12"/>
          <p:cNvSpPr/>
          <p:nvPr/>
        </p:nvSpPr>
        <p:spPr>
          <a:xfrm>
            <a:off x="4038480" y="2590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eft Arrow 13"/>
          <p:cNvSpPr/>
          <p:nvPr/>
        </p:nvSpPr>
        <p:spPr>
          <a:xfrm>
            <a:off x="3733920" y="373392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3352680" y="4952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3048120" y="4723920"/>
            <a:ext cx="30456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eft Arrow 21"/>
          <p:cNvSpPr/>
          <p:nvPr/>
        </p:nvSpPr>
        <p:spPr>
          <a:xfrm>
            <a:off x="3733920" y="50292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7771680" y="2438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rte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24"/>
          <p:cNvSpPr/>
          <p:nvPr/>
        </p:nvSpPr>
        <p:spPr>
          <a:xfrm flipH="1" flipV="1">
            <a:off x="6552720" y="2057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own Arrow 25"/>
          <p:cNvSpPr/>
          <p:nvPr/>
        </p:nvSpPr>
        <p:spPr>
          <a:xfrm>
            <a:off x="8077320" y="22096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eft Arrow 26"/>
          <p:cNvSpPr/>
          <p:nvPr/>
        </p:nvSpPr>
        <p:spPr>
          <a:xfrm>
            <a:off x="3581280" y="1828800"/>
            <a:ext cx="4572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Up Arrow 27"/>
          <p:cNvSpPr/>
          <p:nvPr/>
        </p:nvSpPr>
        <p:spPr>
          <a:xfrm>
            <a:off x="1752480" y="5562720"/>
            <a:ext cx="30492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ORACIC CA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onical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s 2 apertures (opening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uperior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(thoracic outlet)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arrow, open,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ontinuou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with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Inferior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wide,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osed by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ormed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ternum &amp; costal cartilages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anterio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Twelve pairs of ribs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a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Twelve thoracic vertebrae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posterio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RTICUL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respiration 002.jpg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505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2" name="TextBox 8"/>
          <p:cNvSpPr/>
          <p:nvPr/>
        </p:nvSpPr>
        <p:spPr>
          <a:xfrm>
            <a:off x="228960" y="43434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ernocos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230400" y="51055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chond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7313040" y="40384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verte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ight Arrow 1"/>
          <p:cNvSpPr/>
          <p:nvPr/>
        </p:nvSpPr>
        <p:spPr>
          <a:xfrm>
            <a:off x="1598760" y="4484520"/>
            <a:ext cx="1677960" cy="763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Arrow 2"/>
          <p:cNvSpPr/>
          <p:nvPr/>
        </p:nvSpPr>
        <p:spPr>
          <a:xfrm>
            <a:off x="1785960" y="5289480"/>
            <a:ext cx="1795320" cy="120600"/>
          </a:xfrm>
          <a:prstGeom prst="rightArrow">
            <a:avLst>
              <a:gd name="adj1" fmla="val 50000"/>
              <a:gd name="adj2" fmla="val 49760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eft Arrow 3"/>
          <p:cNvSpPr/>
          <p:nvPr/>
        </p:nvSpPr>
        <p:spPr>
          <a:xfrm>
            <a:off x="5867280" y="4222800"/>
            <a:ext cx="1524240" cy="46080"/>
          </a:xfrm>
          <a:prstGeom prst="leftArrow">
            <a:avLst>
              <a:gd name="adj1" fmla="val 50000"/>
              <a:gd name="adj2" fmla="val 49617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RTICUL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F66122-003-f002.jpg"/>
          <p:cNvPicPr/>
          <p:nvPr/>
        </p:nvPicPr>
        <p:blipFill>
          <a:blip r:embed="rId1"/>
          <a:stretch/>
        </p:blipFill>
        <p:spPr>
          <a:xfrm>
            <a:off x="1987560" y="1600200"/>
            <a:ext cx="516888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0" name="TextBox 4"/>
          <p:cNvSpPr/>
          <p:nvPr/>
        </p:nvSpPr>
        <p:spPr>
          <a:xfrm>
            <a:off x="7315560" y="53341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ernocos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8"/>
          <p:cNvCxnSpPr>
            <a:stCxn id="70" idx="1"/>
          </p:cNvCxnSpPr>
          <p:nvPr/>
        </p:nvCxnSpPr>
        <p:spPr>
          <a:xfrm flipH="1" flipV="1">
            <a:off x="6095160" y="4876200"/>
            <a:ext cx="1220040" cy="6418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2" name="TextBox 9"/>
          <p:cNvSpPr/>
          <p:nvPr/>
        </p:nvSpPr>
        <p:spPr>
          <a:xfrm>
            <a:off x="7545600" y="44197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chond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11"/>
          <p:cNvCxnSpPr>
            <a:stCxn id="72" idx="1"/>
          </p:cNvCxnSpPr>
          <p:nvPr/>
        </p:nvCxnSpPr>
        <p:spPr>
          <a:xfrm flipH="1">
            <a:off x="6857280" y="4603680"/>
            <a:ext cx="686520" cy="45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4" name="TextBox 12"/>
          <p:cNvSpPr/>
          <p:nvPr/>
        </p:nvSpPr>
        <p:spPr>
          <a:xfrm>
            <a:off x="226440" y="25146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verte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14"/>
          <p:cNvCxnSpPr/>
          <p:nvPr/>
        </p:nvCxnSpPr>
        <p:spPr>
          <a:xfrm flipV="1">
            <a:off x="1752120" y="2590560"/>
            <a:ext cx="2210760" cy="1087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RESPIRATORY MOVEMENTS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- MOVEMENTS OF DIAPHRA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5" descr="respiration 004.jpg"/>
          <p:cNvPicPr/>
          <p:nvPr/>
        </p:nvPicPr>
        <p:blipFill>
          <a:blip r:embed="rId1"/>
          <a:stretch/>
        </p:blipFill>
        <p:spPr>
          <a:xfrm>
            <a:off x="533520" y="1523880"/>
            <a:ext cx="443232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8" name="Down Arrow 6"/>
          <p:cNvSpPr/>
          <p:nvPr/>
        </p:nvSpPr>
        <p:spPr>
          <a:xfrm>
            <a:off x="3048120" y="2819520"/>
            <a:ext cx="761760" cy="5331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Up Arrow 8"/>
          <p:cNvSpPr/>
          <p:nvPr/>
        </p:nvSpPr>
        <p:spPr>
          <a:xfrm>
            <a:off x="2666880" y="4038480"/>
            <a:ext cx="762120" cy="762120"/>
          </a:xfrm>
          <a:prstGeom prst="up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5562720" y="2057400"/>
            <a:ext cx="2971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ntraction (descent) of diaphrag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5041800" y="350532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vertical diame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 thoracic ca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Down Arrow 15"/>
          <p:cNvSpPr/>
          <p:nvPr/>
        </p:nvSpPr>
        <p:spPr>
          <a:xfrm>
            <a:off x="6705720" y="30481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6026760" y="1523880"/>
            <a:ext cx="1774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spi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6255360" y="6095880"/>
            <a:ext cx="1684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pi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4800600" y="5105520"/>
            <a:ext cx="47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Relaxation (asce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SPIRATORY MOVEMENTS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- MOVEMENTS OF RIBS</a:t>
            </a:r>
            <a:br>
              <a:rPr sz="40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 Normal Inspi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4028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PUMP HANDLE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Elevation of rib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Increase in antero-posterior diameter of thoracic cav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7" descr="F66122-003-f034a.jpg"/>
          <p:cNvPicPr/>
          <p:nvPr/>
        </p:nvPicPr>
        <p:blipFill>
          <a:blip r:embed="rId1"/>
          <a:stretch/>
        </p:blipFill>
        <p:spPr>
          <a:xfrm>
            <a:off x="304920" y="3657600"/>
            <a:ext cx="4039920" cy="2819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74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BUCKET HANDLE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Elevation of rib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Increase in lateral diameter of thoracic cav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8" descr="F66122-003-f034b.jpg"/>
          <p:cNvPicPr/>
          <p:nvPr/>
        </p:nvPicPr>
        <p:blipFill>
          <a:blip r:embed="rId2"/>
          <a:stretch/>
        </p:blipFill>
        <p:spPr>
          <a:xfrm>
            <a:off x="4724280" y="3340080"/>
            <a:ext cx="4041720" cy="3517920"/>
          </a:xfrm>
          <a:prstGeom prst="rect">
            <a:avLst/>
          </a:prstGeom>
          <a:ln w="0">
            <a:noFill/>
          </a:ln>
        </p:spPr>
      </p:pic>
      <p:sp>
        <p:nvSpPr>
          <p:cNvPr id="91" name="Down Arrow 6"/>
          <p:cNvSpPr/>
          <p:nvPr/>
        </p:nvSpPr>
        <p:spPr>
          <a:xfrm>
            <a:off x="2209680" y="2514600"/>
            <a:ext cx="533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own Arrow 9"/>
          <p:cNvSpPr/>
          <p:nvPr/>
        </p:nvSpPr>
        <p:spPr>
          <a:xfrm>
            <a:off x="6477120" y="2438280"/>
            <a:ext cx="53316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SPIRATORY MUS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Diaphragm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most important muscle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ib elevators: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external intercostal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ccessory muscles (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only during forced inspiration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attaching cervical vertebrae to first &amp; second rib: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calene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attaching thoracic cage to upper limb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pectoralis maj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user</cp:lastModifiedBy>
  <dcterms:modified xsi:type="dcterms:W3CDTF">2015-01-26T16:41:52Z</dcterms:modified>
  <cp:revision>130</cp:revision>
  <dc:subject/>
  <dc:title>MUSCLES INVOLVED IN RESPIRATION</dc:title>
</cp:coreProperties>
</file>