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F7E7-6CED-462C-A177-B2DA81697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F19E-69BA-439F-81D8-069413C47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666E-BB38-4940-9E29-7DC7D98F2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59D-7411-4485-BFC7-385527E1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CB0-0D42-46E9-B5F4-9B998F7E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E0B-2C4A-4E0D-972E-AB245036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565-BAE0-4A1C-9E5B-98B2D71D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D25D-E245-4C3A-AB60-140848FD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7BA4-BB3B-4F43-83AF-E3191B39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F4E9-9B89-419C-B43D-112AE1DC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1D03-6E01-46BF-B1A3-E0284106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D22C-C2DF-4C17-8882-B2CD2565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E304-4CD7-41D0-8158-D3E9E72F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0B8-56EE-4C75-9457-A817150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345-6E33-401F-80C5-EC45916D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2E6D-9629-4507-964C-F09127E9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BE32-075A-4519-83B6-D8FAFAF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A742-1C76-490F-A022-4FA76F10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84A5-D156-4AF3-92F0-D10FE151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4575-1234-4A84-A7A7-56E3AD34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AACD-9382-46EB-955C-EAD57501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C85D-F0AC-4E21-AE91-EBE81878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A3BA-E302-4334-99E3-E3ACA233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AC92-5571-43C9-BAE0-B1CC11F6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CB5C-43BD-4247-9AE2-C7D8247B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F8E-F646-4829-8AB3-0D85BAE8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66D9-1F45-4236-A297-1C1A6756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98F3-1C61-4D53-9E9E-377A67D1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0608-B2F6-433B-AD34-8937A6CD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EF82-F363-44E2-9305-D40E88CF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E7AB-D87F-441A-9661-A061AC45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ADBE-EFD5-403E-877B-9EA5C501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7BB3-C798-46BA-8D3A-4F6B5FC2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BF94-4C79-4812-9800-23C7D445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CBD59-85BD-4699-A0E0-6D562A62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D19B-4FD1-421F-B478-937951C3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E64-554F-4669-A14F-D7E84835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85BF-CBAC-4362-96AA-1DD6B21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2E81-6931-46ED-AA70-D8E948AA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4256-99F4-4745-A429-2AD4C953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81729-1F88-4ED5-AACF-753530A5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2C35-1D81-400F-A914-F412BB5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3F2C-E3B5-4F43-B551-14C7783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CB5EA-D42F-4A10-981D-90AF3D47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A02B-60C3-4EE4-A300-36A58B8D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4049-F992-4D62-B8B0-1DA103B3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8EC-9A10-43D1-AEF9-5AEFA6FD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D93-7330-48CB-B875-38CF6DA0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765-5C4F-430C-A1F8-6F907657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46C-A7D0-479B-8CAD-7709B63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C9B-4CEE-4D7A-A91B-8B95B82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9E2-0A5F-4C1E-9480-1069F2DA5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DBFD-D86B-471C-B383-EBC0858271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57E6-50FE-4B2B-B17C-88453FC0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0EFE-FE52-4AEC-9719-959820A650B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ay965.pn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12408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eura &amp;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wer respiratory tract"/>
          <p:cNvPicPr/>
          <p:nvPr/>
        </p:nvPicPr>
        <p:blipFill>
          <a:blip r:embed="rId1"/>
          <a:srcRect l="30832" t="4169" r="6454" b="10417"/>
          <a:stretch/>
        </p:blipFill>
        <p:spPr>
          <a:xfrm>
            <a:off x="3657600" y="838080"/>
            <a:ext cx="510552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TextBox 4"/>
          <p:cNvSpPr/>
          <p:nvPr/>
        </p:nvSpPr>
        <p:spPr>
          <a:xfrm>
            <a:off x="228600" y="4952880"/>
            <a:ext cx="3429000" cy="119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Saeed Abuel Maka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Sanaa  Al Shara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FACE ANATOMY OF L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581280" cy="548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, anterior border and posterior bor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 nearly to the lines of pleura but are slightl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way from the median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erior margin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pleura but more horizontally  and finally reaching to </a:t>
            </a:r>
            <a:r>
              <a:rPr b="1" lang="en-US" sz="1800" spc="-1" strike="noStrike" u="sng">
                <a:solidFill>
                  <a:srgbClr val="cc00ff"/>
                </a:solidFill>
                <a:uFillTx/>
                <a:latin typeface="Arial"/>
              </a:rPr>
              <a:t>the 10</a:t>
            </a:r>
            <a:r>
              <a:rPr b="1" lang="en-US" sz="1800" spc="-1" strike="noStrike" u="sng" baseline="30000">
                <a:solidFill>
                  <a:srgbClr val="cc00ff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cc00ff"/>
                </a:solidFill>
                <a:uFillTx/>
                <a:latin typeface="Arial"/>
              </a:rPr>
              <a:t>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blique fiss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fr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3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oracic sp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bliqu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ding at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nsverse fissure: 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ly in the right lu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om 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ght costal 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mee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blique fi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Gray965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495288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Picture 2" descr="E:\dad\Student Gray\3. Thorax\F66122-003-f104b.jpg"/>
          <p:cNvPicPr/>
          <p:nvPr/>
        </p:nvPicPr>
        <p:blipFill>
          <a:blip r:embed="rId3"/>
          <a:srcRect l="10251" t="6439" r="0" b="20000"/>
          <a:stretch/>
        </p:blipFill>
        <p:spPr>
          <a:xfrm>
            <a:off x="304920" y="1066680"/>
            <a:ext cx="8610480" cy="579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4191120" cy="7621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eural Effu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00600" y="761760"/>
            <a:ext cx="4191120" cy="5715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It i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normal accumul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eural fluid about 300 m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Costodiaphragmatic pleural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ss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, (normally 5-10 ml fluid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us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mmation, TB, congestive heart disease and mali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lung is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compress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the bronchi are narr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uscult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veal 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int &amp; decreased breathing so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compressed or collapsed lung 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ullnes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 percu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e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599_Pleural_Effusion"/>
          <p:cNvPicPr/>
          <p:nvPr/>
        </p:nvPicPr>
        <p:blipFill>
          <a:blip r:embed="rId1"/>
          <a:stretch/>
        </p:blipFill>
        <p:spPr>
          <a:xfrm>
            <a:off x="152280" y="1125360"/>
            <a:ext cx="4572000" cy="537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44440"/>
            <a:ext cx="2286000" cy="822240"/>
          </a:xfrm>
          <a:prstGeom prst="rect">
            <a:avLst/>
          </a:prstGeom>
          <a:solidFill>
            <a:srgbClr val="1ff95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ndalus"/>
              </a:rPr>
              <a:t>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1295280"/>
            <a:ext cx="3371760" cy="52768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oc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racic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 each 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ung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ical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in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vered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by the visceral ple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spended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free in its own pleur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tached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o the mediastinum only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by its root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3FF4"/>
          <p:cNvPicPr/>
          <p:nvPr/>
        </p:nvPicPr>
        <p:blipFill>
          <a:blip r:embed="rId1"/>
          <a:srcRect l="4619" t="63865" r="2572" b="0"/>
          <a:stretch/>
        </p:blipFill>
        <p:spPr>
          <a:xfrm>
            <a:off x="4357800" y="2071800"/>
            <a:ext cx="4495680" cy="219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8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3581280" y="990720"/>
            <a:ext cx="5419800" cy="533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00440" y="304920"/>
            <a:ext cx="2438280" cy="76176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72200" y="1447560"/>
            <a:ext cx="281952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Each lung has: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ex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p and bottom of the lung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the ribs from front &amp; b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dial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re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lood 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lymph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ssels enter the lung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so rel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lobesofleftlung"/>
          <p:cNvPicPr/>
          <p:nvPr/>
        </p:nvPicPr>
        <p:blipFill>
          <a:blip r:embed="rId1"/>
          <a:stretch/>
        </p:blipFill>
        <p:spPr>
          <a:xfrm>
            <a:off x="3124080" y="228600"/>
            <a:ext cx="30481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5" descr="lobesofrightlung"/>
          <p:cNvPicPr/>
          <p:nvPr/>
        </p:nvPicPr>
        <p:blipFill>
          <a:blip r:embed="rId2"/>
          <a:stretch/>
        </p:blipFill>
        <p:spPr>
          <a:xfrm>
            <a:off x="304920" y="228600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4" descr="FE2FD7AB"/>
          <p:cNvPicPr/>
          <p:nvPr/>
        </p:nvPicPr>
        <p:blipFill>
          <a:blip r:embed="rId3"/>
          <a:srcRect l="51992" t="46687" r="16670" b="14271"/>
          <a:stretch/>
        </p:blipFill>
        <p:spPr>
          <a:xfrm>
            <a:off x="3581280" y="4572000"/>
            <a:ext cx="2133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286000" cy="7174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486040" y="1294920"/>
            <a:ext cx="3429000" cy="5257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Apex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Projects into 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root of the n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(1/2 an inch  above medial 1/3 of clavicle).                                                 </a:t>
            </a:r>
            <a:r>
              <a:rPr b="1" lang="en-US" sz="2200" spc="-1" strike="noStrike" u="sng">
                <a:solidFill>
                  <a:srgbClr val="cc00ff"/>
                </a:solidFill>
                <a:uFillTx/>
                <a:latin typeface="Garamond"/>
              </a:rPr>
              <a:t>It is covered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by cervical ple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ff"/>
                </a:solidFill>
                <a:latin typeface="Garamond"/>
              </a:rPr>
              <a:t>    </a:t>
            </a:r>
            <a:r>
              <a:rPr b="1" i="1" lang="en-US" sz="2200" spc="-1" strike="noStrike">
                <a:solidFill>
                  <a:srgbClr val="cc00ff"/>
                </a:solidFill>
                <a:latin typeface="Garamond"/>
              </a:rPr>
              <a:t>It is grooved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anteriorly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by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subclavian art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or  or diaphragmatic surfac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ca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rests 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lobesofrightlung"/>
          <p:cNvPicPr/>
          <p:nvPr/>
        </p:nvPicPr>
        <p:blipFill>
          <a:blip r:embed="rId1"/>
          <a:stretch/>
        </p:blipFill>
        <p:spPr>
          <a:xfrm>
            <a:off x="2209680" y="228600"/>
            <a:ext cx="320040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5" descr="lobesofleftlung"/>
          <p:cNvPicPr/>
          <p:nvPr/>
        </p:nvPicPr>
        <p:blipFill>
          <a:blip r:embed="rId2"/>
          <a:stretch/>
        </p:blipFill>
        <p:spPr>
          <a:xfrm>
            <a:off x="304920" y="3352680"/>
            <a:ext cx="27432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4" descr="FE2FD7AB"/>
          <p:cNvPicPr/>
          <p:nvPr/>
        </p:nvPicPr>
        <p:blipFill>
          <a:blip r:embed="rId3"/>
          <a:srcRect l="51992" t="46687" r="16670" b="14271"/>
          <a:stretch/>
        </p:blipFill>
        <p:spPr>
          <a:xfrm>
            <a:off x="3048120" y="4114800"/>
            <a:ext cx="21333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716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ord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Anterior &amp;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43600" y="1294920"/>
            <a:ext cx="32004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bord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arp, th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overlaps the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terior border of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s a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cardiac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notch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s lower end, has a thin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roj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ed the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ing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w the cardiac no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sterior bor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u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lies beside the vertebral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lobesofleftlung"/>
          <p:cNvPicPr/>
          <p:nvPr/>
        </p:nvPicPr>
        <p:blipFill>
          <a:blip r:embed="rId1"/>
          <a:stretch/>
        </p:blipFill>
        <p:spPr>
          <a:xfrm>
            <a:off x="2971800" y="1295280"/>
            <a:ext cx="28954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2" name="Picture 5" descr="lobesofrightlung"/>
          <p:cNvPicPr/>
          <p:nvPr/>
        </p:nvPicPr>
        <p:blipFill>
          <a:blip r:embed="rId2"/>
          <a:stretch/>
        </p:blipFill>
        <p:spPr>
          <a:xfrm>
            <a:off x="228600" y="243828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3" name="AutoShape 8"/>
          <p:cNvSpPr/>
          <p:nvPr/>
        </p:nvSpPr>
        <p:spPr>
          <a:xfrm>
            <a:off x="3200400" y="45720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rfaces: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tal &amp; Mediastin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181480" y="990720"/>
            <a:ext cx="3810240" cy="5867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al ple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parates lung fro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bs, costal cartilages &amp; intercostal mus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vided into 2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Anterior (mediastinal) par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hilu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(it is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 depressi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 the root of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Posterior (vertebral) par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is related t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ies of thoracic vertebra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rtebral disc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intercostal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1295280"/>
            <a:ext cx="487692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7" name="Text Box 6"/>
          <p:cNvSpPr/>
          <p:nvPr/>
        </p:nvSpPr>
        <p:spPr>
          <a:xfrm>
            <a:off x="228600" y="5867280"/>
            <a:ext cx="4952880" cy="39888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&amp; medial surfaces of  right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209680" cy="17064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GH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48520" y="2438280"/>
            <a:ext cx="2666880" cy="3200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2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erior and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rootofrightlung"/>
          <p:cNvPicPr/>
          <p:nvPr/>
        </p:nvPicPr>
        <p:blipFill>
          <a:blip r:embed="rId1"/>
          <a:srcRect l="0" t="3611" r="0" b="3611"/>
          <a:stretch/>
        </p:blipFill>
        <p:spPr>
          <a:xfrm>
            <a:off x="380880" y="228600"/>
            <a:ext cx="57913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629040" y="274320"/>
            <a:ext cx="2057400" cy="16304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F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476760" y="2361960"/>
            <a:ext cx="2438280" cy="3809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ne bronc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erior and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rootofleftlung"/>
          <p:cNvPicPr/>
          <p:nvPr/>
        </p:nvPicPr>
        <p:blipFill>
          <a:blip r:embed="rId1"/>
          <a:stretch/>
        </p:blipFill>
        <p:spPr>
          <a:xfrm>
            <a:off x="533520" y="228600"/>
            <a:ext cx="57150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438640" cy="14778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ght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324120" y="1828800"/>
            <a:ext cx="25909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ger &amp; shor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left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by                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2 fissu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lique &amp; horison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nto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3 lo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pper, middle and lower lob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304920"/>
            <a:ext cx="594360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74680"/>
            <a:ext cx="77724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y the end of the lecture, the student should be able 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Describe the  anatomy of the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ple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subdivisions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into parietal &amp; visceral pleurae,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of each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List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parts of parietal pleura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e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surface anatom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f both pleurae and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anatomy of lung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: shape, relations, nerve supply &amp; blood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difference between right &amp; left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form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onchopulmonary seg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 character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each segment in the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746440" cy="12956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19560" y="1828440"/>
            <a:ext cx="28954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ne oblique fi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-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2 lo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pper and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i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 cardi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not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p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rior b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899839F1"/>
          <p:cNvPicPr/>
          <p:nvPr/>
        </p:nvPicPr>
        <p:blipFill>
          <a:blip r:embed="rId1"/>
          <a:srcRect l="28434" t="27857" r="5882" b="30716"/>
          <a:stretch/>
        </p:blipFill>
        <p:spPr>
          <a:xfrm>
            <a:off x="304920" y="228600"/>
            <a:ext cx="556236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stinal surface of righ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00400" cy="5334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righ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find these 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zygos ve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s ar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sterior and over the root of the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ophag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atri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Below hilum and in front of pulmonary ligament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ove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.V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relationshipsofrightrootoflung"/>
          <p:cNvPicPr/>
          <p:nvPr/>
        </p:nvPicPr>
        <p:blipFill>
          <a:blip r:embed="rId1"/>
          <a:stretch/>
        </p:blipFill>
        <p:spPr>
          <a:xfrm>
            <a:off x="304920" y="1143000"/>
            <a:ext cx="5257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Text Box 6"/>
          <p:cNvSpPr/>
          <p:nvPr/>
        </p:nvSpPr>
        <p:spPr>
          <a:xfrm>
            <a:off x="685800" y="4343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920" y="1643040"/>
            <a:ext cx="1643040" cy="1571760"/>
          </a:xfrm>
          <a:prstGeom prst="rect">
            <a:avLst/>
          </a:prstGeom>
          <a:solidFill>
            <a:srgbClr val="1ff95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stinal surface of the right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Copy of Picture2"/>
          <p:cNvPicPr/>
          <p:nvPr/>
        </p:nvPicPr>
        <p:blipFill>
          <a:blip r:embed="rId1"/>
          <a:srcRect l="0" t="5131" r="40990" b="4876"/>
          <a:stretch/>
        </p:blipFill>
        <p:spPr>
          <a:xfrm>
            <a:off x="2000160" y="285840"/>
            <a:ext cx="6929640" cy="638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stinal surface of  lef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5000" y="1294920"/>
            <a:ext cx="3276720" cy="5257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lef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find these struc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ending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h of the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root of the l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ove for left common carotid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ft subclavian arte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ft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relationshipswithleftrootoflung"/>
          <p:cNvPicPr/>
          <p:nvPr/>
        </p:nvPicPr>
        <p:blipFill>
          <a:blip r:embed="rId1"/>
          <a:stretch/>
        </p:blipFill>
        <p:spPr>
          <a:xfrm>
            <a:off x="228600" y="1066680"/>
            <a:ext cx="533412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9" name="Text Box 6"/>
          <p:cNvSpPr/>
          <p:nvPr/>
        </p:nvSpPr>
        <p:spPr>
          <a:xfrm>
            <a:off x="3276720" y="4114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86720" y="1285560"/>
            <a:ext cx="2071440" cy="1857240"/>
          </a:xfrm>
          <a:prstGeom prst="rect">
            <a:avLst/>
          </a:prstGeom>
          <a:solidFill>
            <a:srgbClr val="1ff95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stinal surface of the left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Picture2"/>
          <p:cNvPicPr/>
          <p:nvPr/>
        </p:nvPicPr>
        <p:blipFill>
          <a:blip r:embed="rId1"/>
          <a:srcRect l="45235" t="6660" r="0" b="2836"/>
          <a:stretch/>
        </p:blipFill>
        <p:spPr>
          <a:xfrm>
            <a:off x="285840" y="214200"/>
            <a:ext cx="6286320" cy="645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AutoShape 17"/>
          <p:cNvSpPr/>
          <p:nvPr/>
        </p:nvSpPr>
        <p:spPr>
          <a:xfrm>
            <a:off x="3635280" y="220500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86832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supply of 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onchial arteri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From descending aort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 It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supplies oxygenated bloo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o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onchi , lung tissue &amp; visceral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Bronchial veins :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rain into azygos &amp; hemiazyg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v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ulmonary artery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which carries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-oxygenated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ventri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2 pulmonary veins :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ygenated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at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rve Supply of the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ulmonary plex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root of lung….is form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onomic N.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sympathetic &amp; parasympathetic fi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1- Sympathetic  Fib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…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sympathetic tru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on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roncho-dilata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and 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2- Parasympathetic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…..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Vagus ner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on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ncho-const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reto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ronchial glands /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vasodila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943600" y="244080"/>
            <a:ext cx="2743200" cy="5936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Bron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5000" y="990720"/>
            <a:ext cx="3276720" cy="5867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rachea divides into 2 main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ight main bronchus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ich                          divides  before entering the 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giv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bar (secondary) bronchu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divid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d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 main bronchus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divides int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EB275CB7"/>
          <p:cNvPicPr/>
          <p:nvPr/>
        </p:nvPicPr>
        <p:blipFill>
          <a:blip r:embed="rId1"/>
          <a:srcRect l="26710" t="45634" r="5444" b="27275"/>
          <a:stretch/>
        </p:blipFill>
        <p:spPr>
          <a:xfrm>
            <a:off x="0" y="3429000"/>
            <a:ext cx="533412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0" y="0"/>
            <a:ext cx="533412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t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unc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urg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of the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lobar (secondary) bronch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gmental (tertiary)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segmental bronch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repeatedly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oles divide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erminal bronchiole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show delicate outpouchings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‘the respiratory bronchiol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1B6F5EDD"/>
          <p:cNvPicPr/>
          <p:nvPr/>
        </p:nvPicPr>
        <p:blipFill>
          <a:blip r:embed="rId1"/>
          <a:srcRect l="23529" t="23632" r="1959" b="1968"/>
          <a:stretch/>
        </p:blipFill>
        <p:spPr>
          <a:xfrm>
            <a:off x="304920" y="914400"/>
            <a:ext cx="50292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5" descr="Lungs"/>
          <p:cNvPicPr/>
          <p:nvPr/>
        </p:nvPicPr>
        <p:blipFill>
          <a:blip r:embed="rId2"/>
          <a:srcRect l="25928" t="0" r="0" b="0"/>
          <a:stretch/>
        </p:blipFill>
        <p:spPr>
          <a:xfrm>
            <a:off x="2666880" y="2971800"/>
            <a:ext cx="25146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353040" cy="4952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he respiratory bronchi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d by branching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lveolar 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lead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he alveolar sa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 of several alveoli,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alveolus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rround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twork of bloo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illar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Picture of the Human Lungs"/>
          <p:cNvPicPr/>
          <p:nvPr/>
        </p:nvPicPr>
        <p:blipFill>
          <a:blip r:embed="rId1"/>
          <a:stretch/>
        </p:blipFill>
        <p:spPr>
          <a:xfrm>
            <a:off x="228600" y="1066680"/>
            <a:ext cx="46483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2590920" cy="669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200400" cy="556272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layered serous membrane enclosing the l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la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ietal lay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ines the thoracic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sceral lay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vers the surfaces of the lu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layers continue with each other around the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it forms a loose cuf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nging do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lmonary lig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two layer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pleural cavi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 thin film of pleural fluid ( 5-10 ml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3733920" y="304920"/>
            <a:ext cx="5270400" cy="617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6" name="Line 8"/>
          <p:cNvSpPr/>
          <p:nvPr/>
        </p:nvSpPr>
        <p:spPr>
          <a:xfrm>
            <a:off x="7358040" y="6143760"/>
            <a:ext cx="2872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E:\dad\Student Gray\3. Thorax\F66122-003-f041a.jpg"/>
          <p:cNvPicPr/>
          <p:nvPr/>
        </p:nvPicPr>
        <p:blipFill>
          <a:blip r:embed="rId2"/>
          <a:srcRect l="0" t="0" r="0" b="6152"/>
          <a:stretch/>
        </p:blipFill>
        <p:spPr>
          <a:xfrm>
            <a:off x="3419640" y="304920"/>
            <a:ext cx="572436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8" name="Left Arrow 10"/>
          <p:cNvSpPr/>
          <p:nvPr/>
        </p:nvSpPr>
        <p:spPr>
          <a:xfrm>
            <a:off x="7238880" y="4648320"/>
            <a:ext cx="990720" cy="75960"/>
          </a:xfrm>
          <a:prstGeom prst="leftArrow">
            <a:avLst>
              <a:gd name="adj1" fmla="val 50000"/>
              <a:gd name="adj2" fmla="val 501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8229600" y="4495680"/>
            <a:ext cx="914400" cy="39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lmonary lig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91520" cy="8380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2520" y="1143000"/>
            <a:ext cx="4038840" cy="54100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The main characteristics of a bronchopulmonary segmen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subdivision of a lung lo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pyramidal shaped, i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ward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ng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rround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ve tissue sep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bronchu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art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mph vess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nom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The segmental vein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s in the inter- segmenta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.T. sep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the seg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diseased seg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removed surgically, because it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tructural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48BC38F4"/>
          <p:cNvPicPr/>
          <p:nvPr/>
        </p:nvPicPr>
        <p:blipFill>
          <a:blip r:embed="rId1"/>
          <a:srcRect l="30685" t="17097" r="0" b="31720"/>
          <a:stretch/>
        </p:blipFill>
        <p:spPr>
          <a:xfrm>
            <a:off x="0" y="838080"/>
            <a:ext cx="48769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71480" y="244080"/>
            <a:ext cx="3429000" cy="75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ietal Ple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3840" y="1428480"/>
            <a:ext cx="8643960" cy="314316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 is divided according to the region in which it lies and the surfaces it covers,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- Cerv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- Co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- Media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- Diaph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3657600" y="2590920"/>
            <a:ext cx="520056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3" name="Picture 7" descr="partsofparietalpleura"/>
          <p:cNvPicPr/>
          <p:nvPr/>
        </p:nvPicPr>
        <p:blipFill>
          <a:blip r:embed="rId2"/>
          <a:stretch/>
        </p:blipFill>
        <p:spPr>
          <a:xfrm>
            <a:off x="3733920" y="2590920"/>
            <a:ext cx="51814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Box 6"/>
          <p:cNvSpPr/>
          <p:nvPr/>
        </p:nvSpPr>
        <p:spPr>
          <a:xfrm>
            <a:off x="4343400" y="2590920"/>
            <a:ext cx="838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v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289548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3840" y="1447560"/>
            <a:ext cx="3443400" cy="464796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rvical Pleura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up into the neck abo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e inch ab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l1/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lav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t li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der surfac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uprapleural membran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 back of t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s &amp; costal cartilag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stal space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s of vertebral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E:\dad\Student Gray\3. Thorax\F66122-003-f036.jpg"/>
          <p:cNvPicPr/>
          <p:nvPr/>
        </p:nvPicPr>
        <p:blipFill>
          <a:blip r:embed="rId1"/>
          <a:srcRect l="0" t="0" r="0" b="4063"/>
          <a:stretch/>
        </p:blipFill>
        <p:spPr>
          <a:xfrm>
            <a:off x="3733920" y="285840"/>
            <a:ext cx="5195880" cy="596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8" name="AutoShape 8"/>
          <p:cNvSpPr/>
          <p:nvPr/>
        </p:nvSpPr>
        <p:spPr>
          <a:xfrm>
            <a:off x="4343400" y="5335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962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2895480" cy="1203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3840" y="1523880"/>
            <a:ext cx="2909880" cy="472464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stinal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t the hil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 is reflected on to the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ontinuous with the visceral ple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iaphragmatic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horacic (upper)  surface of the 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E:\dad\Student Gray\3. Thorax\F66122-003-f035.jpg"/>
          <p:cNvPicPr/>
          <p:nvPr/>
        </p:nvPicPr>
        <p:blipFill>
          <a:blip r:embed="rId1"/>
          <a:srcRect l="15017" t="17232" r="12627" b="4355"/>
          <a:stretch/>
        </p:blipFill>
        <p:spPr>
          <a:xfrm>
            <a:off x="3276720" y="1219320"/>
            <a:ext cx="5638680" cy="510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2819520" cy="541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ural Re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124080" cy="51814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odiaphragmat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lit like spa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al and diaphragmatic pleurae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long the inf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lung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ers through it in deep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omediastinal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lit like spa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stal and mediastinal pleurae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long the ant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lu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ers through it  in deep 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lipArt Placeholder 8" descr="C4FF13"/>
          <p:cNvPicPr/>
          <p:nvPr/>
        </p:nvPicPr>
        <p:blipFill>
          <a:blip r:embed="rId1"/>
          <a:srcRect l="30055" t="3655" r="3180" b="55733"/>
          <a:stretch/>
        </p:blipFill>
        <p:spPr>
          <a:xfrm>
            <a:off x="3124080" y="533520"/>
            <a:ext cx="5805720" cy="60386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8"/>
          <p:cNvSpPr/>
          <p:nvPr/>
        </p:nvSpPr>
        <p:spPr>
          <a:xfrm>
            <a:off x="4495680" y="55627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7391520" y="2590920"/>
            <a:ext cx="1447560" cy="5331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3619800" cy="541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ura: Nerve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114800" cy="558144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Parietal ple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ensitiv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in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ressure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emperatur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,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o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upplied 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s follow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Cost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egmentally suppli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intercostal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Mediastin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upplied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Diaphragmatic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upplied over the domes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nerves, around the periphery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low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6 intercostal nerve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Arabic Transparent"/>
              </a:rPr>
              <a:t>Visceral pleura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sensitive to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stretch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 only and is supplied by th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autonomic fiber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from th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ulmonary plex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C3FF8"/>
          <p:cNvPicPr/>
          <p:nvPr/>
        </p:nvPicPr>
        <p:blipFill>
          <a:blip r:embed="rId1"/>
          <a:stretch/>
        </p:blipFill>
        <p:spPr>
          <a:xfrm>
            <a:off x="4643280" y="1000080"/>
            <a:ext cx="4308480" cy="5000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E:\dad\Student Gray\3. Thorax\F66122-003-f015.jpg"/>
          <p:cNvPicPr/>
          <p:nvPr/>
        </p:nvPicPr>
        <p:blipFill>
          <a:blip r:embed="rId2"/>
          <a:srcRect l="0" t="0" r="0" b="10917"/>
          <a:stretch/>
        </p:blipFill>
        <p:spPr>
          <a:xfrm>
            <a:off x="4343400" y="428760"/>
            <a:ext cx="4514760" cy="56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FACE ANATOMY OF PLE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95320" y="1066680"/>
            <a:ext cx="4496040" cy="5562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pex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 i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the medial 1/3 of the clav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Right pleura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vertically from sternoclavicular joint t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Left pleura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from sternoclavicular joint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eviates for about 1 inch to left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cost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diac notc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ferior marg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around the chest wall,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midclavicular lin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d-axillary 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 reaching  to 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the last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sterior marg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long the vertebral colum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 mar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E:\dad\Student Gray\3. Thorax\F66122-003-f104a.jpg"/>
          <p:cNvPicPr/>
          <p:nvPr/>
        </p:nvPicPr>
        <p:blipFill>
          <a:blip r:embed="rId1"/>
          <a:srcRect l="4266" t="7762" r="0" b="9876"/>
          <a:stretch/>
        </p:blipFill>
        <p:spPr>
          <a:xfrm>
            <a:off x="228600" y="1295280"/>
            <a:ext cx="39625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5" name="TextBox 4"/>
          <p:cNvSpPr/>
          <p:nvPr/>
        </p:nvSpPr>
        <p:spPr>
          <a:xfrm>
            <a:off x="1905120" y="34290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2209680" y="2743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2286000" y="34290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8:00:14Z</dcterms:created>
  <dc:creator>Amilo</dc:creator>
  <dc:description/>
  <dc:language>en-US</dc:language>
  <cp:lastModifiedBy>user</cp:lastModifiedBy>
  <dcterms:modified xsi:type="dcterms:W3CDTF">2014-01-28T17:59:43Z</dcterms:modified>
  <cp:revision>885</cp:revision>
  <dc:subject/>
  <dc:title>Slide 1</dc:title>
</cp:coreProperties>
</file>