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31C4-A0EC-4BC9-A6D8-6AB521DB8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9FB-755A-4BA8-B2CF-2BD0FE5F7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7B2D-8903-4EAB-84E7-0AF506D1E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38F9-10CB-4173-BB3E-81AC84F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1F19-3216-48BF-96DD-3A810CD3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734F-2DC1-4323-9FDB-AE0EFE2C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999-E594-4528-A725-DB1F34A7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90D5-70B6-4DDC-A60C-BD05A371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6F47-5E62-4184-92A5-8148D960F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83FF-3AF8-443F-9CFC-39F63A5B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7BBB-925C-41F5-9B35-C5A3F84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0D246-C504-4519-A068-20B2292E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442E-EACA-4DB8-B2C7-CD356B11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717B-42E9-4531-8A0B-2AEED5F3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5E8-5F56-48A0-A4F6-ADEF39B4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FD9E-F464-43B1-9BBD-3EFD550B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C6E2-2DF2-4979-B0EA-69A59DEF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2A05-FDB3-4FD3-8030-698D94B7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1C48-1333-4FC6-92CA-6D6E4A267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ECC1-F936-439C-8563-2A8FAA6F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9D13-CDC5-4020-9CD5-AF117B7E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ABBB9-6734-465D-BE38-29D60C30F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6B630-BB6A-49DD-92D9-50D0FCD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6DAB3-0BA5-40C8-BDEA-1604AA76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8D982-19FB-4CF7-BDAB-34A85C3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6CA-6736-4E03-9A2F-D9761FAB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CCA13-8932-42AD-862B-A2A46FA8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5A22-5D0E-44E5-9547-05F75408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56258-B3B1-402B-9CA5-E46BEBA3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06939-9F94-4DD1-A3CB-066519A2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FCA97-D07F-4A9D-ABC4-341815F7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35AFD-3BF7-45EE-AEFA-112B623A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07CCB-81CD-4074-B19D-9331315B9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B5128-63B6-4C61-9DA0-4CC0CE1A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E97B3-6F04-4819-A397-2DA41C66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35373-3C0E-4029-A9CF-1EC96FBC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482-B1AA-40E0-B343-EE8423E8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7F081-0961-4EDF-9F2C-A1B56237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FF78D-ECA1-4D01-AF23-02B37C45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662D-9176-4F12-A3B7-7BF4AA31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E9F6A-4242-4287-93E2-8BE2B9E7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E299-0D9D-47E3-A76F-81281A31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21ED8-0EB0-4E5E-9341-2732D666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74296-4D0A-4A50-B393-D0594644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DB7BA-EAD4-4BE4-ADE4-2015E5BE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E227-9593-4A5B-8AC5-AB0AC5C5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F32-E310-48B8-AB16-C1C53EBB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48C-2D68-4956-AB87-3A9D8502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03-7C8F-4903-A53E-20B82DD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8992-63CF-494F-B44F-08263C1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4E2-D74C-4758-8A7C-D901562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0A3B-2DDE-4FC3-A413-E9B28F20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A165-4856-4B9E-84D1-A37605F150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0AEC-FB5E-4B36-944A-3021002FF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24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3BC3-A199-4FAE-BCA4-8C028AC142A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Gray965.pn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3124080" cy="228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0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Pleura &amp; 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Lower respiratory tract"/>
          <p:cNvPicPr/>
          <p:nvPr/>
        </p:nvPicPr>
        <p:blipFill>
          <a:blip r:embed="rId1"/>
          <a:srcRect l="30832" t="4169" r="6454" b="10417"/>
          <a:stretch/>
        </p:blipFill>
        <p:spPr>
          <a:xfrm>
            <a:off x="3657600" y="838080"/>
            <a:ext cx="5105520" cy="5639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TextBox 4"/>
          <p:cNvSpPr/>
          <p:nvPr/>
        </p:nvSpPr>
        <p:spPr>
          <a:xfrm>
            <a:off x="228600" y="4952880"/>
            <a:ext cx="3429000" cy="11912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. Saeed Abuel Makar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Sanaa  Al Sharaw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RFACE ANATOMY OF L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4120" y="1219320"/>
            <a:ext cx="3581280" cy="5486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, anterior border and posterior bord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spond nearly to the lines of pleura but are slightl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away from the median pla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ferior margin 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the pleura but more horizontally  and finally reaching to 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the 10</a:t>
            </a:r>
            <a:r>
              <a:rPr b="1" lang="en-US" sz="1800" spc="-1" strike="noStrike" u="sng" baseline="30000">
                <a:solidFill>
                  <a:srgbClr val="cc00ff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cc00ff"/>
                </a:solidFill>
                <a:uFillTx/>
                <a:latin typeface="Arial"/>
              </a:rPr>
              <a:t>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Oblique fissu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fro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3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rd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horacic sp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bliquely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nding at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ransverse fissure: O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ly in the right lun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ed by a line extend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om 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ght costal 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 mee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oblique fi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Gray965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4952880" cy="5257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1" name="Picture 2" descr="E:\dad\Student Gray\3. Thorax\F66122-003-f104b.jpg"/>
          <p:cNvPicPr/>
          <p:nvPr/>
        </p:nvPicPr>
        <p:blipFill>
          <a:blip r:embed="rId3"/>
          <a:srcRect l="10251" t="6439" r="0" b="20000"/>
          <a:stretch/>
        </p:blipFill>
        <p:spPr>
          <a:xfrm>
            <a:off x="304920" y="1066680"/>
            <a:ext cx="8610480" cy="579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4191120" cy="7621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eural Effu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00600" y="761760"/>
            <a:ext cx="4191120" cy="57150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It i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bnormal accumulati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eural fluid about 300 m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ostodiaphragmatic pleural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ss</a:t>
            </a: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 , (normally 5-10 ml fluid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ause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lammation, TB, congestive heart disease and maligna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The lung is </a:t>
            </a:r>
            <a:r>
              <a:rPr b="0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compress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the bronchi are narro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uscultation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veal onl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int &amp; decreased breathing sou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compressed or collapsed lung lo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ullness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n percus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effu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599_Pleural_Effusion"/>
          <p:cNvPicPr/>
          <p:nvPr/>
        </p:nvPicPr>
        <p:blipFill>
          <a:blip r:embed="rId1"/>
          <a:stretch/>
        </p:blipFill>
        <p:spPr>
          <a:xfrm>
            <a:off x="152280" y="1125360"/>
            <a:ext cx="4572000" cy="537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244440"/>
            <a:ext cx="2286000" cy="822240"/>
          </a:xfrm>
          <a:prstGeom prst="rect">
            <a:avLst/>
          </a:prstGeom>
          <a:solidFill>
            <a:srgbClr val="1ff95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ndalus"/>
              </a:rPr>
              <a:t>Lu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1295280"/>
            <a:ext cx="3371760" cy="527688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Loc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racic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e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on each s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lung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ical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in sh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vered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by the visceral ple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spend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free in its own pleural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tached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to the mediastinum only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by its root</a:t>
            </a:r>
            <a:r>
              <a:rPr b="0" lang="en-US" sz="3200" spc="-1" strike="noStrike" u="sng">
                <a:solidFill>
                  <a:srgbClr val="00206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3FF4"/>
          <p:cNvPicPr/>
          <p:nvPr/>
        </p:nvPicPr>
        <p:blipFill>
          <a:blip r:embed="rId1"/>
          <a:srcRect l="4619" t="63865" r="2572" b="0"/>
          <a:stretch/>
        </p:blipFill>
        <p:spPr>
          <a:xfrm>
            <a:off x="4357800" y="2071800"/>
            <a:ext cx="4495680" cy="219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28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3581280" y="990720"/>
            <a:ext cx="5419800" cy="533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400440" y="304920"/>
            <a:ext cx="2438280" cy="76176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72200" y="1447560"/>
            <a:ext cx="281952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Each lung has: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ex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p and bottom of the lung, respec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rounded by the ribs from front &amp; back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dial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here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blood 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3333ff"/>
                </a:solidFill>
                <a:latin typeface="Arial"/>
              </a:rPr>
              <a:t>lymphat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essels enter the lung at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l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lso rel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lobesofleftlung"/>
          <p:cNvPicPr/>
          <p:nvPr/>
        </p:nvPicPr>
        <p:blipFill>
          <a:blip r:embed="rId1"/>
          <a:stretch/>
        </p:blipFill>
        <p:spPr>
          <a:xfrm>
            <a:off x="3124080" y="228600"/>
            <a:ext cx="3048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2" name="Picture 5" descr="lobesofrightlung"/>
          <p:cNvPicPr/>
          <p:nvPr/>
        </p:nvPicPr>
        <p:blipFill>
          <a:blip r:embed="rId2"/>
          <a:stretch/>
        </p:blipFill>
        <p:spPr>
          <a:xfrm>
            <a:off x="304920" y="228600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3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581280" y="4572000"/>
            <a:ext cx="21337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43600" y="274320"/>
            <a:ext cx="2286000" cy="717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U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486040" y="1294920"/>
            <a:ext cx="342900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buClr>
                <a:srgbClr val="0099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9999"/>
                </a:solidFill>
                <a:uFillTx/>
                <a:latin typeface="Garamond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Garamond"/>
              </a:rPr>
              <a:t>Apex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Projects into  th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root of the ne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(1/2 an inch  above medial 1/3 of clavicle).                                                 </a:t>
            </a:r>
            <a:r>
              <a:rPr b="1" lang="en-US" sz="2200" spc="-1" strike="noStrike" u="sng">
                <a:solidFill>
                  <a:srgbClr val="cc00ff"/>
                </a:solidFill>
                <a:uFillTx/>
                <a:latin typeface="Garamond"/>
              </a:rPr>
              <a:t>It is cover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cervical pleu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    </a:t>
            </a:r>
            <a:r>
              <a:rPr b="1" i="1" lang="en-US" sz="2200" spc="-1" strike="noStrike">
                <a:solidFill>
                  <a:srgbClr val="cc00ff"/>
                </a:solidFill>
                <a:latin typeface="Garamond"/>
              </a:rPr>
              <a:t>It is grooved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anteriorly</a:t>
            </a:r>
            <a:r>
              <a:rPr b="1" lang="en-US" sz="2200" spc="-1" strike="noStrike">
                <a:solidFill>
                  <a:srgbClr val="000000"/>
                </a:solidFill>
                <a:latin typeface="Garamond"/>
              </a:rPr>
              <a:t> by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Garamond"/>
              </a:rPr>
              <a:t>subclavian arte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</a:rPr>
              <a:t>Bas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erior  or diaphragmatic surface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onca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rests 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lobesofrightlung"/>
          <p:cNvPicPr/>
          <p:nvPr/>
        </p:nvPicPr>
        <p:blipFill>
          <a:blip r:embed="rId1"/>
          <a:stretch/>
        </p:blipFill>
        <p:spPr>
          <a:xfrm>
            <a:off x="2209680" y="228600"/>
            <a:ext cx="3200400" cy="346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7" name="Picture 5" descr="lobesofleftlung"/>
          <p:cNvPicPr/>
          <p:nvPr/>
        </p:nvPicPr>
        <p:blipFill>
          <a:blip r:embed="rId2"/>
          <a:stretch/>
        </p:blipFill>
        <p:spPr>
          <a:xfrm>
            <a:off x="304920" y="3352680"/>
            <a:ext cx="2743200" cy="3286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38" name="Picture 4" descr="FE2FD7AB"/>
          <p:cNvPicPr/>
          <p:nvPr/>
        </p:nvPicPr>
        <p:blipFill>
          <a:blip r:embed="rId3"/>
          <a:srcRect l="51992" t="46687" r="16670" b="14271"/>
          <a:stretch/>
        </p:blipFill>
        <p:spPr>
          <a:xfrm>
            <a:off x="3048120" y="4114800"/>
            <a:ext cx="213336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ord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Anterior &amp; Posteri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43600" y="1294920"/>
            <a:ext cx="32004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Anterior bord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harp, th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overlaps the he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terior border of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u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sents a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cardiac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notch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t its lower end, has a thin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proje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ed the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lingu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ow the cardiac no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sterior borde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un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ic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lies beside the vertebral colum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lobesofleftlung"/>
          <p:cNvPicPr/>
          <p:nvPr/>
        </p:nvPicPr>
        <p:blipFill>
          <a:blip r:embed="rId1"/>
          <a:stretch/>
        </p:blipFill>
        <p:spPr>
          <a:xfrm>
            <a:off x="2971800" y="1295280"/>
            <a:ext cx="2895480" cy="381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42" name="Picture 5" descr="lobesofrightlung"/>
          <p:cNvPicPr/>
          <p:nvPr/>
        </p:nvPicPr>
        <p:blipFill>
          <a:blip r:embed="rId2"/>
          <a:stretch/>
        </p:blipFill>
        <p:spPr>
          <a:xfrm>
            <a:off x="228600" y="2438280"/>
            <a:ext cx="2743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3" name="AutoShape 8"/>
          <p:cNvSpPr/>
          <p:nvPr/>
        </p:nvSpPr>
        <p:spPr>
          <a:xfrm>
            <a:off x="3200400" y="45720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Surfaces: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tal &amp; Mediastin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181480" y="990720"/>
            <a:ext cx="381024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ed b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al pleu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parates lung fro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ibs, costal cartilages &amp; intercostal musc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l surfac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divided into 2 par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Anterior (mediastin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</a:t>
            </a:r>
            <a:r>
              <a:rPr b="0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hilum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(it is </a:t>
            </a:r>
            <a:r>
              <a:rPr b="0" lang="en-US" sz="2000" spc="-1" strike="noStrike">
                <a:solidFill>
                  <a:srgbClr val="009900"/>
                </a:solidFill>
                <a:latin typeface="Arial"/>
              </a:rPr>
              <a:t>a depressi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ic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&amp;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ming  the root of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00ff"/>
                </a:solidFill>
                <a:uFillTx/>
                <a:latin typeface="Arial"/>
              </a:rPr>
              <a:t>Posterior (vertebral) part</a:t>
            </a: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is related to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ies of thoracic vertebra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rtebral disc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intercostal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athetic tru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1295280"/>
            <a:ext cx="487692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7" name="Text Box 6"/>
          <p:cNvSpPr/>
          <p:nvPr/>
        </p:nvSpPr>
        <p:spPr>
          <a:xfrm>
            <a:off x="228600" y="5867280"/>
            <a:ext cx="4952880" cy="39888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 &amp; medial surfaces of  right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629400" y="274680"/>
            <a:ext cx="2209680" cy="17064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IGH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48520" y="2438280"/>
            <a:ext cx="2666880" cy="32004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2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rootofrightlung"/>
          <p:cNvPicPr/>
          <p:nvPr/>
        </p:nvPicPr>
        <p:blipFill>
          <a:blip r:embed="rId1"/>
          <a:srcRect l="0" t="3611" r="0" b="3611"/>
          <a:stretch/>
        </p:blipFill>
        <p:spPr>
          <a:xfrm>
            <a:off x="380880" y="228600"/>
            <a:ext cx="57913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629040" y="274320"/>
            <a:ext cx="2057400" cy="16304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EFT LUNG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476760" y="2361960"/>
            <a:ext cx="2438280" cy="3809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One bronch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ster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lmonary art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per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ulmonary ve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ferior and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rootofleftlung"/>
          <p:cNvPicPr/>
          <p:nvPr/>
        </p:nvPicPr>
        <p:blipFill>
          <a:blip r:embed="rId1"/>
          <a:stretch/>
        </p:blipFill>
        <p:spPr>
          <a:xfrm>
            <a:off x="533520" y="228600"/>
            <a:ext cx="571500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324480" y="274320"/>
            <a:ext cx="2438640" cy="147780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ight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324120" y="1828800"/>
            <a:ext cx="2590920" cy="457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rger &amp; short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n left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               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2 fissur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blique &amp; horison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3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upper, middle and lower lob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FE2FD7AB"/>
          <p:cNvPicPr/>
          <p:nvPr/>
        </p:nvPicPr>
        <p:blipFill>
          <a:blip r:embed="rId1"/>
          <a:srcRect l="18629" t="45855" r="16670" b="7627"/>
          <a:stretch/>
        </p:blipFill>
        <p:spPr>
          <a:xfrm>
            <a:off x="228600" y="304920"/>
            <a:ext cx="594360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274680"/>
            <a:ext cx="7772400" cy="792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Objectiv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333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By the end of the lecture, the student should be able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Describe the  anatomy of the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ple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subdivisions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into parietal &amp; visceral pleurae, </a:t>
            </a:r>
            <a:r>
              <a:rPr b="1" lang="en-US" sz="2400" spc="-1" strike="noStrike" u="sng">
                <a:solidFill>
                  <a:srgbClr val="7030a0"/>
                </a:solidFill>
                <a:uFillTx/>
                <a:latin typeface="Arial"/>
              </a:rPr>
              <a:t>nerve supply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 of each of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List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parts of parietal pleura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nd its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e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surface anatom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f both pleurae and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Arial"/>
              </a:rPr>
              <a:t>anatomy of lungs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: shape, relations, nerve supply &amp; blood su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Describe the </a:t>
            </a: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difference between right &amp; left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be the form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onchopulmonary segme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in characteristi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each segment in the lu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5520" y="380520"/>
            <a:ext cx="2746440" cy="1295640"/>
          </a:xfrm>
          <a:prstGeom prst="rect">
            <a:avLst/>
          </a:prstGeom>
          <a:solidFill>
            <a:srgbClr val="cecee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ung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19560" y="1828440"/>
            <a:ext cx="28954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d by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one oblique fis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to -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2 lob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Upper and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iss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 cardia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not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wer 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it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terior b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899839F1"/>
          <p:cNvPicPr/>
          <p:nvPr/>
        </p:nvPicPr>
        <p:blipFill>
          <a:blip r:embed="rId1"/>
          <a:srcRect l="28434" t="27857" r="5882" b="30716"/>
          <a:stretch/>
        </p:blipFill>
        <p:spPr>
          <a:xfrm>
            <a:off x="304920" y="228600"/>
            <a:ext cx="556236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righ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00400" cy="53341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righ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you find these struc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zygos vei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ts ar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rior and over the root of the lu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sophagus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atriu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Below hilum and in front of pulmonary ligament 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groove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.V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5" descr="relationshipsofrightrootoflung"/>
          <p:cNvPicPr/>
          <p:nvPr/>
        </p:nvPicPr>
        <p:blipFill>
          <a:blip r:embed="rId1"/>
          <a:stretch/>
        </p:blipFill>
        <p:spPr>
          <a:xfrm>
            <a:off x="304920" y="1143000"/>
            <a:ext cx="52578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3" name="Text Box 6"/>
          <p:cNvSpPr/>
          <p:nvPr/>
        </p:nvSpPr>
        <p:spPr>
          <a:xfrm>
            <a:off x="685800" y="4343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2920" y="1643040"/>
            <a:ext cx="1643040" cy="157176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stinal surface of the right 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Copy of Picture2"/>
          <p:cNvPicPr/>
          <p:nvPr/>
        </p:nvPicPr>
        <p:blipFill>
          <a:blip r:embed="rId1"/>
          <a:srcRect l="0" t="5131" r="40990" b="4876"/>
          <a:stretch/>
        </p:blipFill>
        <p:spPr>
          <a:xfrm>
            <a:off x="2000160" y="285840"/>
            <a:ext cx="6929640" cy="6383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diastinal surface of  left lu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715000" y="1294920"/>
            <a:ext cx="3276720" cy="525780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Arial"/>
              </a:rPr>
              <a:t>On the mediastinal surface of the left lung,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will find these struct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scending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gus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erior to the root of the l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ch of the aor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he root of the l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oove for left common carotid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eft subclavian arte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hrenic ne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erior to the root of the l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diac impress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lated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ft ventr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relationshipswithleftrootoflung"/>
          <p:cNvPicPr/>
          <p:nvPr/>
        </p:nvPicPr>
        <p:blipFill>
          <a:blip r:embed="rId1"/>
          <a:stretch/>
        </p:blipFill>
        <p:spPr>
          <a:xfrm>
            <a:off x="228600" y="1066680"/>
            <a:ext cx="533412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69" name="Text Box 6"/>
          <p:cNvSpPr/>
          <p:nvPr/>
        </p:nvSpPr>
        <p:spPr>
          <a:xfrm>
            <a:off x="3276720" y="41148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diac i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86720" y="1285560"/>
            <a:ext cx="2071440" cy="1857240"/>
          </a:xfrm>
          <a:prstGeom prst="rect">
            <a:avLst/>
          </a:prstGeom>
          <a:solidFill>
            <a:srgbClr val="1ff953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stinal surface of the left 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7" descr="Picture2"/>
          <p:cNvPicPr/>
          <p:nvPr/>
        </p:nvPicPr>
        <p:blipFill>
          <a:blip r:embed="rId1"/>
          <a:srcRect l="45235" t="6660" r="0" b="2836"/>
          <a:stretch/>
        </p:blipFill>
        <p:spPr>
          <a:xfrm>
            <a:off x="285840" y="214200"/>
            <a:ext cx="6286320" cy="645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2" name="AutoShape 17"/>
          <p:cNvSpPr/>
          <p:nvPr/>
        </p:nvSpPr>
        <p:spPr>
          <a:xfrm>
            <a:off x="3635280" y="2205000"/>
            <a:ext cx="71640" cy="716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lood supply of 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Bronchial arterie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(From descending aort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. It </a:t>
            </a:r>
            <a:r>
              <a:rPr b="1" lang="en-US" sz="2800" spc="-1" strike="noStrike" u="sng">
                <a:solidFill>
                  <a:srgbClr val="009999"/>
                </a:solidFill>
                <a:uFillTx/>
                <a:latin typeface="Arial"/>
              </a:rPr>
              <a:t>supplies oxygenated blood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to  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bronchi , lung tissue &amp; visceral ple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Bronchial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drain into azygos &amp; hemiazyg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ve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Pulmonary artery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 which carries             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n-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ight ventricl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Arial"/>
              </a:rPr>
              <a:t>2 pulmonary veins :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xygenated bloo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ung alveol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ft atri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the hea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rve Supply of the lu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1055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Pulmonary plex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root of lung….is formed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tonomic N.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sympathetic &amp; parasympathetic fib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1- Sympathetic  Fibe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… 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sympathetic trun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broncho-dilatation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/and  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vasoconstri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c00ff"/>
                </a:solidFill>
                <a:uFillTx/>
                <a:latin typeface="Arial"/>
              </a:rPr>
              <a:t>2- Parasympathetic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…..</a:t>
            </a:r>
            <a:r>
              <a:rPr b="0" i="1" lang="en-US" sz="3200" spc="-1" strike="noStrike">
                <a:solidFill>
                  <a:srgbClr val="009900"/>
                </a:solidFill>
                <a:latin typeface="Arial"/>
              </a:rPr>
              <a:t>Vagus nerv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Action: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Broncho-const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creto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ronchial glands /and </a:t>
            </a: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vasodila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943600" y="244080"/>
            <a:ext cx="2743200" cy="59364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Bron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715000" y="990720"/>
            <a:ext cx="3276720" cy="58672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trachea divides into 2 main bronch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Righ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hich                          divides  before entering the 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gives: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obar (secondary) bronchu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divides in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middl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00ff"/>
                </a:solidFill>
                <a:uFillTx/>
                <a:latin typeface="Arial"/>
              </a:rPr>
              <a:t>Left main bronchus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 entering hi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divides int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sup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inferio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lobar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EB275CB7"/>
          <p:cNvPicPr/>
          <p:nvPr/>
        </p:nvPicPr>
        <p:blipFill>
          <a:blip r:embed="rId1"/>
          <a:srcRect l="26710" t="45634" r="5444" b="27275"/>
          <a:stretch/>
        </p:blipFill>
        <p:spPr>
          <a:xfrm>
            <a:off x="0" y="3429000"/>
            <a:ext cx="533412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0" name="Picture 5" descr="E:\dad\Student Gray\3. Thorax\F66122-003-f043a.jpg"/>
          <p:cNvPicPr/>
          <p:nvPr/>
        </p:nvPicPr>
        <p:blipFill>
          <a:blip r:embed="rId2"/>
          <a:srcRect l="0" t="3017" r="0" b="10636"/>
          <a:stretch/>
        </p:blipFill>
        <p:spPr>
          <a:xfrm>
            <a:off x="0" y="0"/>
            <a:ext cx="533412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696080" cy="6094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3760" y="914400"/>
            <a:ext cx="3809880" cy="5943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to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funct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surgic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nits of the lu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lobar (secondary) bronch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gmental (tertiary) bronch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segmental bronchu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vides repeatedly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bronchi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nchioles divide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erminal bronchioles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ich show delicate outpouchings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‘the respiratory bronchioles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1B6F5EDD"/>
          <p:cNvPicPr/>
          <p:nvPr/>
        </p:nvPicPr>
        <p:blipFill>
          <a:blip r:embed="rId1"/>
          <a:srcRect l="23529" t="23632" r="1959" b="1968"/>
          <a:stretch/>
        </p:blipFill>
        <p:spPr>
          <a:xfrm>
            <a:off x="304920" y="914400"/>
            <a:ext cx="502920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4" name="Picture 5" descr="Lungs"/>
          <p:cNvPicPr/>
          <p:nvPr/>
        </p:nvPicPr>
        <p:blipFill>
          <a:blip r:embed="rId2"/>
          <a:srcRect l="25928" t="0" r="0" b="0"/>
          <a:stretch/>
        </p:blipFill>
        <p:spPr>
          <a:xfrm>
            <a:off x="2666880" y="2971800"/>
            <a:ext cx="251460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924680" cy="68580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353040" cy="49528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respiratory bronchio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nd by branching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du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ich lead into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alveolar sa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The alveolar sac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sist of several alveoli,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each alveolus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urround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twork of bloo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illar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gas ex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Picture of the Human Lungs"/>
          <p:cNvPicPr/>
          <p:nvPr/>
        </p:nvPicPr>
        <p:blipFill>
          <a:blip r:embed="rId1"/>
          <a:stretch/>
        </p:blipFill>
        <p:spPr>
          <a:xfrm>
            <a:off x="228600" y="1066680"/>
            <a:ext cx="4648320" cy="5181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44080"/>
            <a:ext cx="2590920" cy="669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3200400" cy="556272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-layered serous membrane enclosing the lu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wo la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riet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lines the thoracic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sceral layer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vers the surfaces of the lu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layers continue with each other around 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ro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lu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it forms a loose cuf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anging d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ulmonary liga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sp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the two layer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leural cavit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a thin film of pleural fluid ( 5-10 ml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733920" y="304920"/>
            <a:ext cx="5270400" cy="617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6" name="Line 8"/>
          <p:cNvSpPr/>
          <p:nvPr/>
        </p:nvSpPr>
        <p:spPr>
          <a:xfrm>
            <a:off x="7358040" y="6143760"/>
            <a:ext cx="287280" cy="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8" descr="E:\dad\Student Gray\3. Thorax\F66122-003-f041a.jpg"/>
          <p:cNvPicPr/>
          <p:nvPr/>
        </p:nvPicPr>
        <p:blipFill>
          <a:blip r:embed="rId2"/>
          <a:srcRect l="0" t="0" r="0" b="6152"/>
          <a:stretch/>
        </p:blipFill>
        <p:spPr>
          <a:xfrm>
            <a:off x="3419640" y="304920"/>
            <a:ext cx="5724360" cy="62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8" name="Left Arrow 10"/>
          <p:cNvSpPr/>
          <p:nvPr/>
        </p:nvSpPr>
        <p:spPr>
          <a:xfrm>
            <a:off x="7238880" y="4648320"/>
            <a:ext cx="990720" cy="75960"/>
          </a:xfrm>
          <a:prstGeom prst="leftArrow">
            <a:avLst>
              <a:gd name="adj1" fmla="val 50000"/>
              <a:gd name="adj2" fmla="val 5017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1"/>
          <p:cNvSpPr/>
          <p:nvPr/>
        </p:nvSpPr>
        <p:spPr>
          <a:xfrm>
            <a:off x="8229600" y="4495680"/>
            <a:ext cx="914400" cy="398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ulmonary liga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91520" cy="838080"/>
          </a:xfrm>
          <a:prstGeom prst="rect">
            <a:avLst/>
          </a:prstGeom>
          <a:solidFill>
            <a:srgbClr val="1ff95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nchopulmonary seg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52520" y="1143000"/>
            <a:ext cx="4038840" cy="541008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main characteristics of a bronchopulmonary segmen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a subdivision of a lung lo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pyramidal shaped, i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pe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ward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ng ro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urrounded b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ve tissue sep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bronchus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gmental art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ymph vesse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nomi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r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The segmental vein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es in the inter- segment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.T. sept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the seg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diseased segmen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be removed surgically, because it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 structural un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48BC38F4"/>
          <p:cNvPicPr/>
          <p:nvPr/>
        </p:nvPicPr>
        <p:blipFill>
          <a:blip r:embed="rId1"/>
          <a:srcRect l="30685" t="17097" r="0" b="31720"/>
          <a:stretch/>
        </p:blipFill>
        <p:spPr>
          <a:xfrm>
            <a:off x="0" y="838080"/>
            <a:ext cx="4876920" cy="5791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71480" y="244080"/>
            <a:ext cx="3429000" cy="7556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ietal Ple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13840" y="1428480"/>
            <a:ext cx="8643960" cy="314316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t is divided according to the region in which it lies and the surfaces it covers, i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- Cerv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- C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- Mediast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- Diaphragm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ClipArt Placeholder 4" descr="C3FF4"/>
          <p:cNvPicPr/>
          <p:nvPr/>
        </p:nvPicPr>
        <p:blipFill>
          <a:blip r:embed="rId1"/>
          <a:srcRect l="5307" t="64175" r="-175" b="0"/>
          <a:stretch/>
        </p:blipFill>
        <p:spPr>
          <a:xfrm>
            <a:off x="3657600" y="2590920"/>
            <a:ext cx="5200560" cy="3809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3" name="Picture 7" descr="partsofparietalpleura"/>
          <p:cNvPicPr/>
          <p:nvPr/>
        </p:nvPicPr>
        <p:blipFill>
          <a:blip r:embed="rId2"/>
          <a:stretch/>
        </p:blipFill>
        <p:spPr>
          <a:xfrm>
            <a:off x="3733920" y="2590920"/>
            <a:ext cx="51814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4" name="TextBox 6"/>
          <p:cNvSpPr/>
          <p:nvPr/>
        </p:nvSpPr>
        <p:spPr>
          <a:xfrm>
            <a:off x="4343400" y="2590920"/>
            <a:ext cx="838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rv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2895480" cy="99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13840" y="1447560"/>
            <a:ext cx="3443400" cy="464796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ervical Pleura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s up into the neck abou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e inch abo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l1/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lavi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It lin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nder surfac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suprapleural membran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back of t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rnu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bs &amp; costal cartilag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stal spaces &amp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des of vertebral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E:\dad\Student Gray\3. Thorax\F66122-003-f036.jpg"/>
          <p:cNvPicPr/>
          <p:nvPr/>
        </p:nvPicPr>
        <p:blipFill>
          <a:blip r:embed="rId1"/>
          <a:srcRect l="0" t="0" r="0" b="4063"/>
          <a:stretch/>
        </p:blipFill>
        <p:spPr>
          <a:xfrm>
            <a:off x="3733920" y="285840"/>
            <a:ext cx="5195880" cy="596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8" name="AutoShape 8"/>
          <p:cNvSpPr/>
          <p:nvPr/>
        </p:nvSpPr>
        <p:spPr>
          <a:xfrm>
            <a:off x="4343400" y="533520"/>
            <a:ext cx="1143000" cy="38088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3962520" y="29718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44080"/>
            <a:ext cx="2895480" cy="1203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ietal Ple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13840" y="1523880"/>
            <a:ext cx="2909880" cy="4724640"/>
          </a:xfrm>
          <a:prstGeom prst="rect">
            <a:avLst/>
          </a:prstGeom>
          <a:solidFill>
            <a:srgbClr val="f2f2f2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ediastinal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mediastinu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t the hil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t is reflected on to the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vess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ff"/>
                </a:solidFill>
                <a:latin typeface="Arial"/>
              </a:rPr>
              <a:t>bronch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continuous with the visceral pleu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iaphragmatic pleur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horacic (upper)  surface of the diaphrag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E:\dad\Student Gray\3. Thorax\F66122-003-f035.jpg"/>
          <p:cNvPicPr/>
          <p:nvPr/>
        </p:nvPicPr>
        <p:blipFill>
          <a:blip r:embed="rId1"/>
          <a:srcRect l="15017" t="17232" r="12627" b="4355"/>
          <a:stretch/>
        </p:blipFill>
        <p:spPr>
          <a:xfrm>
            <a:off x="3276720" y="1219320"/>
            <a:ext cx="5638680" cy="5105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44440"/>
            <a:ext cx="281952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ural Re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124080" cy="518148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diaphragmati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al and diaphragmatic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inf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lu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in deep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ostomediastinal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Slit like spac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etwe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stal and mediastinal pleurae,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along the anterior bord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lu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enters through it  in deep  inspi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ClipArt Placeholder 8" descr="C4FF13"/>
          <p:cNvPicPr/>
          <p:nvPr/>
        </p:nvPicPr>
        <p:blipFill>
          <a:blip r:embed="rId1"/>
          <a:srcRect l="30055" t="3655" r="3180" b="55733"/>
          <a:stretch/>
        </p:blipFill>
        <p:spPr>
          <a:xfrm>
            <a:off x="3124080" y="533520"/>
            <a:ext cx="5805720" cy="60386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8"/>
          <p:cNvSpPr/>
          <p:nvPr/>
        </p:nvSpPr>
        <p:spPr>
          <a:xfrm>
            <a:off x="4495680" y="5562720"/>
            <a:ext cx="1752840" cy="68580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7391520" y="2590920"/>
            <a:ext cx="1447560" cy="533160"/>
          </a:xfrm>
          <a:prstGeom prst="roundRect">
            <a:avLst>
              <a:gd name="adj" fmla="val 16667"/>
            </a:avLst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520" y="244440"/>
            <a:ext cx="3619800" cy="541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eura: Nerve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114800" cy="5581440"/>
          </a:xfrm>
          <a:prstGeom prst="rect">
            <a:avLst/>
          </a:prstGeom>
          <a:solidFill>
            <a:srgbClr val="f2f2f2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Parietal pleu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ensitive </a:t>
            </a: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to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in</a:t>
            </a:r>
            <a:r>
              <a:rPr b="0" lang="en-US" sz="2000" spc="-1" strike="noStrike">
                <a:solidFill>
                  <a:srgbClr val="002060"/>
                </a:solidFill>
                <a:latin typeface="Arial"/>
                <a:ea typeface="Arabic Transparent"/>
              </a:rPr>
              <a:t>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p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ressure,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emperatur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, and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t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ou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t is supplied </a:t>
            </a:r>
            <a:r>
              <a:rPr b="0" lang="en-US" sz="1800" spc="-1" strike="noStrike" u="sng">
                <a:solidFill>
                  <a:srgbClr val="002060"/>
                </a:solidFill>
                <a:uFillTx/>
                <a:latin typeface="Arial"/>
                <a:ea typeface="Arabic Transparent"/>
              </a:rPr>
              <a:t>as follow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Cost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egmentally suppli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abic Transparent"/>
              </a:rPr>
              <a:t>intercostal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Mediastinal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n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abic Transparent"/>
              </a:rPr>
              <a:t>Diaphragmatic pleura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is supplied over the domes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hrenic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nerves, around the periphery by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lowe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r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6 intercostal nerves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  <a:ea typeface="Arabic Transparent"/>
              </a:rPr>
              <a:t>Visceral pleura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sensitive to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  <a:ea typeface="Arabic Transparent"/>
              </a:rPr>
              <a:t>stretch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 only and is supplied by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autonomic fibers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from the </a:t>
            </a:r>
            <a:r>
              <a:rPr b="1" lang="en-US" sz="1800" spc="-1" strike="noStrike">
                <a:solidFill>
                  <a:srgbClr val="002060"/>
                </a:solidFill>
                <a:latin typeface="Arial"/>
                <a:ea typeface="Arabic Transparent"/>
              </a:rPr>
              <a:t>pulmonary plex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7" descr="C3FF8"/>
          <p:cNvPicPr/>
          <p:nvPr/>
        </p:nvPicPr>
        <p:blipFill>
          <a:blip r:embed="rId1"/>
          <a:stretch/>
        </p:blipFill>
        <p:spPr>
          <a:xfrm>
            <a:off x="4643280" y="1000080"/>
            <a:ext cx="4308480" cy="5000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E:\dad\Student Gray\3. Thorax\F66122-003-f015.jpg"/>
          <p:cNvPicPr/>
          <p:nvPr/>
        </p:nvPicPr>
        <p:blipFill>
          <a:blip r:embed="rId2"/>
          <a:srcRect l="0" t="0" r="0" b="10917"/>
          <a:stretch/>
        </p:blipFill>
        <p:spPr>
          <a:xfrm>
            <a:off x="4343400" y="428760"/>
            <a:ext cx="4514760" cy="566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FACE ANATOMY OF PLEU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5320" y="1066680"/>
            <a:ext cx="4496040" cy="556272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Apex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ne in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the medial 1/3 of the clavi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Right pleura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vertically from sternoclavicular joint to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6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ff"/>
                </a:solidFill>
                <a:uFillTx/>
                <a:latin typeface="Arial"/>
              </a:rPr>
              <a:t>Left pleura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anterior marg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s from sternoclavicular joint to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costal cartilage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deviates for about 1 inch to left at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cost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rtilag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rdiac notc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Inf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es around the chest wall,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midclavicular line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th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rib i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id-axillary li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ly reaching  to </a:t>
            </a:r>
            <a:r>
              <a:rPr b="1" lang="en-US" sz="1800" spc="-1" strike="noStrike">
                <a:solidFill>
                  <a:srgbClr val="cc00ff"/>
                </a:solidFill>
                <a:latin typeface="Arial"/>
              </a:rPr>
              <a:t>the last thoracic sp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Posterior margin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long the vertebral colum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erior marg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E:\dad\Student Gray\3. Thorax\F66122-003-f104a.jpg"/>
          <p:cNvPicPr/>
          <p:nvPr/>
        </p:nvPicPr>
        <p:blipFill>
          <a:blip r:embed="rId1"/>
          <a:srcRect l="4266" t="7762" r="0" b="9876"/>
          <a:stretch/>
        </p:blipFill>
        <p:spPr>
          <a:xfrm>
            <a:off x="228600" y="1295280"/>
            <a:ext cx="396252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5" name="TextBox 4"/>
          <p:cNvSpPr/>
          <p:nvPr/>
        </p:nvSpPr>
        <p:spPr>
          <a:xfrm>
            <a:off x="190512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2209680" y="2743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"/>
          <p:cNvSpPr/>
          <p:nvPr/>
        </p:nvSpPr>
        <p:spPr>
          <a:xfrm>
            <a:off x="2286000" y="342900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8:00:14Z</dcterms:created>
  <dc:creator>Amilo</dc:creator>
  <dc:description/>
  <dc:language>en-US</dc:language>
  <cp:lastModifiedBy>user</cp:lastModifiedBy>
  <dcterms:modified xsi:type="dcterms:W3CDTF">2014-01-28T17:59:43Z</dcterms:modified>
  <cp:revision>885</cp:revision>
  <dc:subject/>
  <dc:title>Slide 1</dc:title>
</cp:coreProperties>
</file>