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AF1-44BB-48E9-9D70-3B12752AE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8832-C48F-4DB9-B440-69B5C97F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DC78-325B-43C0-818C-ECC07CBE9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5E6-8BBC-4719-A9AE-C522010D4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034F-A32A-46F4-976F-FA11FD91C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74B7-DA5F-4E28-93EC-1668E076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9857-B732-4336-A19A-E5A7C6D2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4796E-4CDF-4B32-A91E-0205CBD7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9B6E-0FBC-4971-8285-34330B35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4327-3B3C-4E93-9753-32AC63D1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49998-1991-45EF-BF26-FB996DFE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0CBE-0147-429D-8A87-77D179AA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FE5C-25D2-45C6-9B83-F962D03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3F393-99E2-4CFB-88AF-1818E778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74B0-FC44-41B4-B061-FD3C107E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EF4-838F-4440-9725-C0A7A7F6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BA20-C811-4CA6-9DA8-1D7CC264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290-1C63-498D-90C3-886F28F4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58E271-BA2B-491D-A87D-DB97D19F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976E3-7670-4473-A0EB-6CE03654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67628-1D15-4839-A2B6-6B0A5659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AACB-10D7-4CFD-97FC-97E23727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2838CA-3D22-47AC-B181-C1C0D9E4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B8ABF-9549-4CF4-9FB9-55507759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E408E-68C8-4A37-8B9D-CC3E530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13C21A-BE86-4905-AABA-DC090696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6BBB2-8A34-413A-B12C-EBA5669E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7B6A8-BA64-4F4D-A10F-EDD2C2F9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CDAD80-3C9C-4D23-9EBD-55C3A5CB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C76F1A-C459-4036-9281-7294E073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48A0B-088A-4B88-BA58-778775DD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2B0A0B-AF25-4E5E-8041-C014DD39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2276-03FF-4FEA-83B0-5BDEB48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41B093-7F0C-4A2F-B9A9-97EF0D6C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82B119-576A-415D-A624-B87E1232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DA0B71E-1442-43BD-81B4-5E0CCCDF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23F3C2-5C9D-40CB-AEEC-798AB7FA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3CB1B6-B83B-4DE8-8AAB-87260838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3A4865-F6C3-405B-98EB-654F616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49E08B-7CE6-4FCE-9E06-04979C0F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96E0D8-724A-4716-B57B-C964F44E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B28DE4-D7A7-46C1-8CDD-5914642D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AB2A37-2A05-496F-893B-5FC45BA0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61A-A6CC-4921-A66C-27D41E41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1F6D25-E684-4A14-A901-BD4A5691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1B60-6673-478A-839B-8BBFFBFE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DDE2-D1FC-4F04-87A2-762E0A89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C5C7-9D31-47D4-8CB7-09BF4DCA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CECE-F4FF-4363-B7D9-312DF812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8013-7A3E-419E-8819-FFA4670DF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BB03-6B4C-4C55-8C77-9120244AE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0E21-FB8B-4345-AAC6-D09E3341FE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66320" y="3504960"/>
            <a:ext cx="716292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nical Chemistry Un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partment of Patholog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193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etal hemoglobin (HbF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jor hemoglobin found in the fetus and newbo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etramer with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igher affinity for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han Hb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ransfer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from maternal to fetal circulation across placent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pears ~12 weeks after bir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onstitutes ~2% of tot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osed of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nd two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lobin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 undergoes non-enzymatic glycosyl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Glycosylation depends on plasma glucose lev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bA1c levels are high in patients with diabetes mellit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Picture 2" descr="C:\Documents and Settings\Fatma\Desktop\chapter03\jpg\0315_Formation_HbA1C.jpg"/>
          <p:cNvPicPr/>
          <p:nvPr/>
        </p:nvPicPr>
        <p:blipFill>
          <a:blip r:embed="rId1"/>
          <a:stretch/>
        </p:blipFill>
        <p:spPr>
          <a:xfrm>
            <a:off x="5857920" y="1371600"/>
            <a:ext cx="2905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Abnormal Hb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able to transport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due to abnormal struc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boxy-Hb: CO replaces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and binds 200X tighter than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 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(in smoker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-Hb: Contains oxidized 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(~2%) that cannot car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lf-HB: Forms due to high sulfur levels in blood (irreversible reacti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Disorders of hemoglobin caused by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structurally ab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insufficient quantities of normal H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mbination of bo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Sickle cell (HbS) dise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Glutamic acid at position 6 in HbA is replaced by val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The mutant HbS contains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  <a:ea typeface="MS PGothic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 cha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The shape of RBCs become sickl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s sickle cell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0" name="Picture 4" descr="tumblr_lbwj8cQJ7M1qaqphpo1_400"/>
          <p:cNvPicPr/>
          <p:nvPr/>
        </p:nvPicPr>
        <p:blipFill>
          <a:blip r:embed="rId1"/>
          <a:stretch/>
        </p:blipFill>
        <p:spPr>
          <a:xfrm>
            <a:off x="6705720" y="396252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Hemoglobin C diseas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d by a single mutation in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globin ge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Glutamic acid at position 6 in HbA is replaced by lysin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auses a mild form of hemolytic anemi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ethemoglobin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oxidation of Hb to ferric (Fe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st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ethemoglobin cannot bind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used by certain drugs, reactive oxygen species and NADH-cytochrome b5 reductase deficienc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ocolate cyanosis: brownish-blue color of the skin and bloo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opathie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ctive synthesis of eithe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or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globin chain due to gene mut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mild to moderate hemolytic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-thalassemia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Synthesis of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-globin chain is decreased or abs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Causes severe anemi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MS PGothic"/>
              </a:rPr>
              <a:t>Patients need regular blood transfus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What are globular proteins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ypes and functions of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Hemoglobin (a major globular protei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Diseases associated with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A globular hemeprotein in heart and musc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Stores and supplies oxygen to the heart and muscle onl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Contains a single polypeptide chain forming a single subunit with eight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-helix structu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  <a:ea typeface="MS PGothic"/>
              </a:rPr>
              <a:t>The interior of the subunit is composed of nonpolar amino aci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71800" y="579096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ructure of myoglob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009880" y="419040"/>
            <a:ext cx="5122800" cy="510552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 rot="16200000">
            <a:off x="-145440" y="4760280"/>
            <a:ext cx="83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age 328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arged amino acids are located on the surfa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he heme group is present at the center of the molecu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 gives red color to skeletal musc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Supplies oxygen during aerobic exerci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Myoglobin in diseas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yoglobinuria: Myoglobin is excreted in urine due to muscle damage (rhabdomyolysis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May cause acute renal fail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pecific marker for muscle inju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Less specific marker for heart attac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Immunoglobul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19320"/>
            <a:ext cx="4495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fensive proteins produced by the B-cells of the immune syst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Y-shaped structure with 2 heavy and 2 light polypeptide chai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eutralize bacteria and virus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Types: IgA, IgD, IgE, IgG, Ig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8" name="Picture 1" descr=""/>
          <p:cNvPicPr/>
          <p:nvPr/>
        </p:nvPicPr>
        <p:blipFill>
          <a:blip r:embed="rId1"/>
          <a:stretch/>
        </p:blipFill>
        <p:spPr>
          <a:xfrm>
            <a:off x="5278320" y="1511280"/>
            <a:ext cx="357372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mino acid chains fold into shapes that resemble spheres are called globular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This type of folding increases solubility of proteins in wat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Polar groups on the protein</a:t>
            </a:r>
            <a:r>
              <a:rPr b="0" lang="ja-JP" sz="2600" spc="-1" strike="noStrike">
                <a:solidFill>
                  <a:srgbClr val="ffcc00"/>
                </a:solidFill>
                <a:latin typeface="Arial"/>
                <a:ea typeface="MS PGothic"/>
              </a:rPr>
              <a:t>’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  <a:ea typeface="MS PGothic"/>
              </a:rPr>
              <a:t>s surfac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Hydrophobic groups in the interio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brous proteins are mainly insoluble structural protei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Globular proteins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810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emoglobin: oxygen transport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Myoglobin: oxygen storage/supply function in heart and muscl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en-US" sz="30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-globulins: various fun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-globulins (immunoglobulins): immune func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nzymes: catalysis of biochemical reactio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 major globular protein in human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Calibri"/>
              </a:rPr>
              <a:t>Composed of four polypeptide chains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spcBef>
                <a:spcPts val="6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and two </a:t>
            </a:r>
            <a:r>
              <a:rPr b="0" lang="en-US" sz="26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en-US" sz="2600" spc="-1" strike="noStrike">
                <a:solidFill>
                  <a:srgbClr val="ffcc00"/>
                </a:solidFill>
                <a:latin typeface="Calibri"/>
              </a:rPr>
              <a:t> chai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tains two dimers of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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subuni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Held together by non-covalent interac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hain is a subunit with a heme group in the center that carries oxy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A Hb molecule contains 4 heme groups and carries 4 molecules of O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Figure3-8.jpg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Types of Hb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1541520"/>
          <a:ext cx="6095880" cy="4479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bA (97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18720">
                      <a:solidFill>
                        <a:srgbClr val="2b5481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2</a:t>
                      </a: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 (2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1872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F (1%)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HbA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1c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cc00"/>
                          </a:solidFill>
                          <a:latin typeface="Calibri"/>
                        </a:rPr>
                        <a:t>Abnormal: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oxy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 Hb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2b5481"/>
                      </a:solidFill>
                    </a:lnL>
                    <a:lnR w="5760">
                      <a:solidFill>
                        <a:srgbClr val="2b5481"/>
                      </a:solidFill>
                    </a:lnR>
                    <a:lnT w="5760">
                      <a:solidFill>
                        <a:srgbClr val="2b5481"/>
                      </a:solidFill>
                    </a:lnT>
                    <a:lnB w="5760">
                      <a:solidFill>
                        <a:srgbClr val="2b5481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bA structure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381880" cy="377172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262800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Calibri"/>
              </a:rPr>
              <a:t>Oxygen binding to hemoglob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Calibri"/>
              </a:rPr>
              <a:t>Hemoglobin function</a:t>
            </a:r>
            <a:endParaRPr b="0" lang="en-US" sz="4400" spc="-1" strike="noStrike">
              <a:solidFill>
                <a:srgbClr val="e5ffff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807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s oxygen from the lungs to t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alibri"/>
              </a:rPr>
              <a:t>Carries carbon dioxide from tissues back to the lu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rmal level (g/dL)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ales: 14-1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males: 13-15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1:27:42Z</dcterms:created>
  <dc:creator>Usman Ghani</dc:creator>
  <dc:description/>
  <dc:language>en-US</dc:language>
  <cp:lastModifiedBy>Sumbul Fatma</cp:lastModifiedBy>
  <dcterms:modified xsi:type="dcterms:W3CDTF">2015-01-27T05:14:53Z</dcterms:modified>
  <cp:revision>118</cp:revision>
  <dc:subject/>
  <dc:title>Globular Proteins</dc:title>
</cp:coreProperties>
</file>