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EB5-3CC8-405B-8F1F-B592CDD6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F1-6391-4081-9CE8-09ECFA9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649-DF5B-4B5B-804D-F9774507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F4F-3EC8-424F-BB81-A0BCB3AD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3F1-E97E-4F5B-9862-4CF69C0C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E7A0-2753-4E15-A6E5-82B759BD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341A-F18B-43B6-B758-FAC72284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3E2-FAE4-4B95-A003-A6E7F3A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5ED-F81C-433B-858C-067FF035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6F74-D157-494B-9EC2-495B8B9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AE1-00AE-4CC3-8F54-3682BF9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C4B-0712-4A4E-933A-B1EB3C40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735-B58D-4BE9-8997-7A893EE0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85E-ABED-4433-9F21-F7A0F34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079A-C37F-43C9-80F3-B0A32BE7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097-56B4-4449-9DD3-16B2509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42D-58BB-4581-B2FF-43614B56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46F-7DD1-49B9-95E9-17F7023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C54A0-09C4-4EAB-9B6F-20A2614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F7912-37C7-4007-8782-B05B43CE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B6B05-4198-44F4-A3D2-6CD2EA53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6A6-9D1C-4404-B3C4-D04856EE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7DF35-1A9D-4E9D-9634-4A3F666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331C2-4AD3-4895-A72D-66518FBD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7989C-E006-4379-8DAB-C8B482D9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A02DA-516E-4C1A-BC83-3C1E3EB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E840B-B5A9-4B80-9B86-51F4FFF9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8B102-195A-4381-A125-760F06C2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FAD81-ABEB-4BC5-B756-65F6EBF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5E309-5E38-4DBD-A4CA-46885539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3EE61-DD94-4ED5-A2E3-59D8553A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84A10-CC4E-4556-B9BD-41296FBD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943-393B-4DD5-9CE8-8709BE6D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E21DB-B85F-49C1-BF8F-48AB385A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4B3D2-2855-4825-8EFB-6456917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23322-1ED1-4618-AA2D-530B82C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EFC467-D07F-4F80-B007-E300503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972436-97F3-4DD7-8D4C-02DD783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9D13A-A6C6-4043-942C-A4AAD7A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E9866-E467-4A27-ABF4-0DE30FB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0F2BBA-6762-46E4-980C-C8E2326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7F088-9800-4469-B421-F10D784F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6774B-CC2E-4AAA-BB08-778B182C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80E-A8F0-49C4-9560-554FCE7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DE680-EDBB-4256-B9CC-01BA00A0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B5C-F2F2-42BA-B7C0-B9A6F2A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12C-23F4-490C-BA55-9F581D2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920-089F-46FE-9767-4734FD6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060-FE9F-41BC-9656-E0B87447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F4B-FFF8-45EB-A888-C7BCB21B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566-CEDF-4D78-BBED-F37227AC0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36C-47EB-4D4D-BBDD-08B7E0139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What are globular protein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ypes and functions of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Sumbul Fatma</cp:lastModifiedBy>
  <dcterms:modified xsi:type="dcterms:W3CDTF">2015-01-27T05:14:53Z</dcterms:modified>
  <cp:revision>118</cp:revision>
  <dc:subject/>
  <dc:title>Globular Proteins</dc:title>
</cp:coreProperties>
</file>