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4ED-7F0E-422F-8F92-4398CBCF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BBA-F251-4DB4-BCB7-9AB821B0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0D52-1DB8-426B-943B-8CCF1DCC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EF5-6468-4D65-AF96-A2D21D8D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915-78D3-4F1E-8109-3EF5AB2F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3EF9C2-347C-4CAD-BDA1-D38D554F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B9B369-B595-418E-90A8-C1E9E4BB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A611F9-8DE5-42AC-A54E-1DFBF2E4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A129F1-7AC8-46F3-913A-CC776ED8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BB2D3F-CE7F-4A00-8373-4EE8B462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1C22-629B-4099-B503-2D7273DE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D907D0-3E1B-409D-8282-32CADE21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9AA2B-11E1-4C52-BE24-EBD2F958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5660EF-4BAE-4E15-9A45-2940A5BD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E88012-A05F-439A-B722-65FBBD7B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306222-125D-42B1-A130-C6329F6C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B78CAE-66BC-4247-8F18-114B9415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771F1D-7995-40B0-BEC2-9EFC5989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C94-4D5A-408D-B99B-EC8B54E0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256-23B1-4F4A-A8B0-97DCA8C1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C394-14B4-46F1-BFE9-19C2F5C5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A36A-256B-4D50-B01D-D9614D7C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D74E-A302-46CA-AC90-50791FA7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5C2-4FFE-4E53-93BF-061B896D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8384-18FA-46F8-AA49-2AA01E3AC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1904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 rot="16200000">
            <a:off x="-1028520" y="499104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e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ochemist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John Wiley &amp; Sons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091A-1A76-42C5-9A4B-C33A2D152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lectron Transport Chai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(Respiratory Chai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Sumbul Fat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iratory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lex I – NADH Dehydrogen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omplex collects the pair of electrons from NADH and passes them to Co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Complex II – Succinate dehydrogen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also a part of the TCA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ansfers electrons to Co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enzyme Q (CoQ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so called ubiquinone (ubiquitous in biological syst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non-protein member of the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pid soluble and mob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ytochr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cytochrome is a protein that cont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me group (porphyrin ring + iron in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cytochromes accept elect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converted to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2+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reoxidized to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when it donates electrons to the next 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lex III and I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lex III: Cytochrome bc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lex IV: Cytochrome a +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low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Q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mplex III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yt. 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mplex 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-specific inhibitors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83440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ETC is coupled to proton transport for ATP synth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nergy of electron transfer is used to drive the protons out of the matr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done by complexes I, III and IV (proton pum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reates a proton gradient across the IMM to synthesize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lectron Transport Chain (ET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ystem of electron transport that uses respiratory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o finally produce ATP (ener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cated in the inner mitochondrial membr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al common pathway of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rom food metabolism are transported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s maximum amount of body’s oxy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pling of electron transport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reen arro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ATP syn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685800" y="1824120"/>
            <a:ext cx="7772400" cy="2295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 rot="16200000">
            <a:off x="-145440" y="47307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8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TP syntha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P synthase (Complex V) synthesizes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ists of two domai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membrane spanning dom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extramembranous doma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 of prot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143000" y="1925640"/>
            <a:ext cx="685800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nergetics of ATP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nergy required for phosphorylation of ADP to ATP = 7.3kcal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ergy produced from the transport of a pair of electrons from NADH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52.58 k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. of ATP molecules produced is 3 (NADH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ess energy is used for other reactions or released as h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:O rat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TP made per O atom reduc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or NAD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:O = 3: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or FADH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:O = 2: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Inhibitors of ATP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ligomyc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nds to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omain of ATP synthase and closes the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hanne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coupling proteins (UCP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eate proton leaks (allow protons to reenter the matrix without ATP synth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nergy is released as heat (nonshivering thermogen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711520" y="1036800"/>
            <a:ext cx="3720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Metabolic breakdown of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energy-yielding molecu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335400" y="1600200"/>
            <a:ext cx="247320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Oval Callout 7"/>
          <p:cNvSpPr/>
          <p:nvPr/>
        </p:nvSpPr>
        <p:spPr>
          <a:xfrm>
            <a:off x="5791320" y="2133720"/>
            <a:ext cx="2666880" cy="990360"/>
          </a:xfrm>
          <a:prstGeom prst="wedgeEllipseCallout">
            <a:avLst>
              <a:gd name="adj1" fmla="val -55615"/>
              <a:gd name="adj2" fmla="val 64675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ergy-rich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own Arrow 12"/>
          <p:cNvSpPr/>
          <p:nvPr/>
        </p:nvSpPr>
        <p:spPr>
          <a:xfrm>
            <a:off x="2743200" y="1981080"/>
            <a:ext cx="228600" cy="358164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380880" y="33526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 lose their fre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6400800" y="53341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cess energy generate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2-Point Star 17"/>
          <p:cNvSpPr/>
          <p:nvPr/>
        </p:nvSpPr>
        <p:spPr>
          <a:xfrm>
            <a:off x="5867280" y="4876920"/>
            <a:ext cx="3276720" cy="1676160"/>
          </a:xfrm>
          <a:custGeom>
            <a:avLst/>
            <a:gdLst>
              <a:gd name="textAreaLeft" fmla="*/ 769320 w 3276720"/>
              <a:gd name="textAreaRight" fmla="*/ 2507400 w 3276720"/>
              <a:gd name="textAreaTop" fmla="*/ 393480 h 1676160"/>
              <a:gd name="textAreaBottom" fmla="*/ 1282680 h 1676160"/>
            </a:gdLst>
            <a:ahLst/>
            <a:rect l="textAreaLeft" t="textAreaTop" r="textAreaRight" b="textAreaBottom"/>
            <a:pathLst>
              <a:path w="3276600" h="1676400">
                <a:moveTo>
                  <a:pt x="0" y="838200"/>
                </a:moveTo>
                <a:lnTo>
                  <a:pt x="451443" y="675493"/>
                </a:lnTo>
                <a:lnTo>
                  <a:pt x="219491" y="419100"/>
                </a:lnTo>
                <a:lnTo>
                  <a:pt x="769460" y="393677"/>
                </a:lnTo>
                <a:lnTo>
                  <a:pt x="819150" y="112297"/>
                </a:lnTo>
                <a:lnTo>
                  <a:pt x="1320283" y="230971"/>
                </a:lnTo>
                <a:lnTo>
                  <a:pt x="1638300" y="0"/>
                </a:lnTo>
                <a:lnTo>
                  <a:pt x="1956317" y="230971"/>
                </a:lnTo>
                <a:lnTo>
                  <a:pt x="2457450" y="112297"/>
                </a:lnTo>
                <a:lnTo>
                  <a:pt x="2507140" y="393677"/>
                </a:lnTo>
                <a:lnTo>
                  <a:pt x="3057109" y="419100"/>
                </a:lnTo>
                <a:lnTo>
                  <a:pt x="2825157" y="675493"/>
                </a:lnTo>
                <a:lnTo>
                  <a:pt x="3276600" y="838200"/>
                </a:lnTo>
                <a:lnTo>
                  <a:pt x="2825157" y="1000907"/>
                </a:lnTo>
                <a:lnTo>
                  <a:pt x="3057109" y="1257300"/>
                </a:lnTo>
                <a:lnTo>
                  <a:pt x="2507140" y="1282723"/>
                </a:lnTo>
                <a:lnTo>
                  <a:pt x="2457450" y="1564103"/>
                </a:lnTo>
                <a:lnTo>
                  <a:pt x="1956317" y="1445429"/>
                </a:lnTo>
                <a:lnTo>
                  <a:pt x="1638300" y="1676400"/>
                </a:lnTo>
                <a:lnTo>
                  <a:pt x="1320283" y="1445429"/>
                </a:lnTo>
                <a:lnTo>
                  <a:pt x="819150" y="1564103"/>
                </a:lnTo>
                <a:lnTo>
                  <a:pt x="769460" y="1282723"/>
                </a:lnTo>
                <a:lnTo>
                  <a:pt x="219491" y="1257300"/>
                </a:lnTo>
                <a:lnTo>
                  <a:pt x="451443" y="1000907"/>
                </a:lnTo>
                <a:close/>
              </a:path>
            </a:pathLst>
          </a:custGeom>
          <a:solidFill>
            <a:srgbClr val="bfbfbf">
              <a:alpha val="3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lectron micrograph of an animal mitochondr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78120" y="419040"/>
            <a:ext cx="5387760" cy="5105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 rot="16200000">
            <a:off x="-145440" y="47289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7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away diagram of a mitochondr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941400" y="419040"/>
            <a:ext cx="7259760" cy="5105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 rot="16200000">
            <a:off x="-145440" y="47289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7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Mitochondr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0" t="3038" r="0" b="4311"/>
          <a:stretch/>
        </p:blipFill>
        <p:spPr>
          <a:xfrm>
            <a:off x="5638680" y="23760"/>
            <a:ext cx="2514600" cy="6757920"/>
          </a:xfrm>
          <a:prstGeom prst="rect">
            <a:avLst/>
          </a:prstGeom>
          <a:ln w="0">
            <a:noFill/>
          </a:ln>
        </p:spPr>
      </p:pic>
      <p:sp>
        <p:nvSpPr>
          <p:cNvPr id="141" name="Rectangular Callout 6"/>
          <p:cNvSpPr/>
          <p:nvPr/>
        </p:nvSpPr>
        <p:spPr>
          <a:xfrm>
            <a:off x="1981080" y="4419720"/>
            <a:ext cx="2667240" cy="1676160"/>
          </a:xfrm>
          <a:prstGeom prst="wedgeRectCallout">
            <a:avLst>
              <a:gd name="adj1" fmla="val 105875"/>
              <a:gd name="adj2" fmla="val -106671"/>
            </a:avLst>
          </a:prstGeom>
          <a:solidFill>
            <a:srgbClr val="ffff00">
              <a:alpha val="4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ristae increase the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onents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members/components are located in the inner mitochondrial membrane (IM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M contains 5 complex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x I, II, III, IV (part of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x V (ATP synthase that catalyzes ATP synth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bile electron carr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ytochrome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rganization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complex accepts or donates electrons to mobile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riers accept electrons from donors and then donate to the next carrier in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inally combine with oxygen and protons to form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xygen is required as a final acceptor (respiratory ch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umbul fatma</dc:creator>
  <dc:description/>
  <dc:language>en-US</dc:language>
  <cp:lastModifiedBy>sumbul</cp:lastModifiedBy>
  <dcterms:modified xsi:type="dcterms:W3CDTF">2014-02-11T04:55:23Z</dcterms:modified>
  <cp:revision>18</cp:revision>
  <dc:subject/>
  <dc:title>Slide 1</dc:title>
</cp:coreProperties>
</file>