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FDA0-36CB-4F80-BA65-634FC0CA4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932B-76FC-4FAB-B228-961A04F81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5AB3-D820-4A14-B771-20B51559F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F002-6766-4845-8CF5-67BFB479E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2D50-DD4F-4B34-B376-B08B17B94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D81F7A-97D4-400C-A699-22F0BB48E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426F13-DE20-49B3-8506-B7E26B2C0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E06640-69C6-4553-9018-8DD39F6AF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6FBA73-AF43-4B14-A9DA-6F21F8409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3429D3-D8AE-4405-AFBC-8BA6A2015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21E6-6C35-413F-927C-E32530C38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B61C15-7868-417D-9952-4C40F58B9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3AD74C-694E-4CF3-A7C5-C7833A3A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5A588D-DC44-4D1A-BF01-99C44968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C56A61-1564-49FC-A288-DC5EDF82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4AE2A7-DBCD-4E3B-BD09-B4FA2052E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1F8BD1-29FC-4953-8DDA-16342B7B3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A90C4D-F262-48C0-B697-B68D64F4E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DBD1-420B-44E5-8EA8-1570F2875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96ED-C6CE-418E-842A-8F6FFC7C5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393C-F7D2-4E05-95A6-B753D1040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1E6A-7A53-423A-85F2-0FAC865A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E920-3C65-41E7-9C15-F5AAD242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40FB-DC70-425C-A3F1-7CB51A335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DA189-AD08-4AFB-B4A9-055CD02784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562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41904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 rot="16200000">
            <a:off x="-1028520" y="4991040"/>
            <a:ext cx="2819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et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Biochemistr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3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04 John Wiley &amp; Sons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57240" cy="219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A1D77-C9A5-4C9C-8E20-34F1B2C616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lectron Transport Chain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(Respiratory Chain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r. Sumbul Fat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 Le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Respiratory 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Complex I – NADH Dehydrogen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s complex collects the pair of electrons from NADH and passes them to CoQ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ectron Transport Ch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87480" y="1828800"/>
            <a:ext cx="8870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Complex II – Succinate dehydrogena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t is also a part of the TCA cyc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ransfers electrons to CoQ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ectron Transport Ch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87480" y="1828800"/>
            <a:ext cx="8870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Coenzyme Q (CoQ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lso called ubiquinone (ubiquitous in biological syste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non-protein member of the ET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ipid soluble and mob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Cytochro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ach cytochrome is a protein that conta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eme group (porphyrin ring + iron in Fe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</a:rPr>
              <a:t>3+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n cytochromes accept electr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e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</a:rPr>
              <a:t>3+ 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s converted to Fe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</a:rPr>
              <a:t>2+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e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</a:rPr>
              <a:t>2+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is reoxidized to Fe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</a:rPr>
              <a:t>3+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when it donates electrons to the next carri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Complex III and I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mplex III: Cytochrome bc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mplex IV: Cytochrome a + a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lectrons flow from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Q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Complex III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Cyt. c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Complex I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ectron Transport Ch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87480" y="1828800"/>
            <a:ext cx="8870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te-specific inhibitors of ET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152280" y="2819520"/>
            <a:ext cx="8834400" cy="16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ETC is coupled to proton transport for ATP synthes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energy of electron transfer is used to drive the protons out of the matr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t is done by complexes I, III and IV (proton pump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s creates a proton gradient across the IMM to synthesize AT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Electron Transport Chain (ETC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system of electron transport that uses respiratory 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to finally produce ATP (energ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ocated in the inner mitochondrial membra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nal common pathway of metabol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lectrons from food metabolism are transported to 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ses maximum amount of body’s oxyg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562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upling of electron transport 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green arrow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d ATP synthe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685800" y="1824120"/>
            <a:ext cx="7772400" cy="229536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4"/>
          <p:cNvSpPr/>
          <p:nvPr/>
        </p:nvSpPr>
        <p:spPr>
          <a:xfrm rot="16200000">
            <a:off x="-145440" y="4730760"/>
            <a:ext cx="83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8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ATP synthas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TP synthase (Complex V) synthesizes AT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sists of two domain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alibri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– membrane spanning doma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– extramembranous domai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port of prot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1143000" y="1925640"/>
            <a:ext cx="6858000" cy="38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Energetics of ATP synthe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energy required for phosphorylation of ADP to ATP = 7.3kcal/m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nergy produced from the transport of a pair of electrons from NADH to 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= 52.58 kc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. of ATP molecules produced is 3 (NADH to 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xcess energy is used for other reactions or released as he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P:O rat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ATP made per O atom reduc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For NADH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P:O = 3: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For FADH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P:O = 2: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Inhibitors of ATP synthe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ligomyci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Binds to F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alibri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domain of ATP synthase and closes the 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alibri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channel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ncoupling proteins (UCPs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reate proton leaks (allow protons to reenter the matrix without ATP synthesi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nergy is released as heat (nonshivering thermogenesi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2711520" y="1036800"/>
            <a:ext cx="3720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Metabolic breakdown of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Calibri"/>
              </a:rPr>
              <a:t>energy-yielding molecu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3335400" y="1600200"/>
            <a:ext cx="2473200" cy="4525920"/>
          </a:xfrm>
          <a:prstGeom prst="rect">
            <a:avLst/>
          </a:prstGeom>
          <a:ln w="0">
            <a:noFill/>
          </a:ln>
        </p:spPr>
      </p:pic>
      <p:sp>
        <p:nvSpPr>
          <p:cNvPr id="128" name="Oval Callout 7"/>
          <p:cNvSpPr/>
          <p:nvPr/>
        </p:nvSpPr>
        <p:spPr>
          <a:xfrm>
            <a:off x="5791320" y="2133720"/>
            <a:ext cx="2666880" cy="990360"/>
          </a:xfrm>
          <a:prstGeom prst="wedgeEllipseCallout">
            <a:avLst>
              <a:gd name="adj1" fmla="val -55615"/>
              <a:gd name="adj2" fmla="val 64675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nergy-rich redu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enzy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Down Arrow 12"/>
          <p:cNvSpPr/>
          <p:nvPr/>
        </p:nvSpPr>
        <p:spPr>
          <a:xfrm>
            <a:off x="2743200" y="1981080"/>
            <a:ext cx="228600" cy="3581640"/>
          </a:xfrm>
          <a:prstGeom prst="downArrow">
            <a:avLst>
              <a:gd name="adj1" fmla="val 50000"/>
              <a:gd name="adj2" fmla="val 49977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3"/>
          <p:cNvSpPr/>
          <p:nvPr/>
        </p:nvSpPr>
        <p:spPr>
          <a:xfrm>
            <a:off x="380880" y="3352680"/>
            <a:ext cx="2362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(e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alibri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) lose their free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5"/>
          <p:cNvSpPr/>
          <p:nvPr/>
        </p:nvSpPr>
        <p:spPr>
          <a:xfrm>
            <a:off x="6400800" y="533412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cess energy generates h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12-Point Star 17"/>
          <p:cNvSpPr/>
          <p:nvPr/>
        </p:nvSpPr>
        <p:spPr>
          <a:xfrm>
            <a:off x="5867280" y="4876920"/>
            <a:ext cx="3276720" cy="1676160"/>
          </a:xfrm>
          <a:custGeom>
            <a:avLst/>
            <a:gdLst>
              <a:gd name="textAreaLeft" fmla="*/ 769320 w 3276720"/>
              <a:gd name="textAreaRight" fmla="*/ 2507400 w 3276720"/>
              <a:gd name="textAreaTop" fmla="*/ 393480 h 1676160"/>
              <a:gd name="textAreaBottom" fmla="*/ 1282680 h 1676160"/>
            </a:gdLst>
            <a:ahLst/>
            <a:rect l="textAreaLeft" t="textAreaTop" r="textAreaRight" b="textAreaBottom"/>
            <a:pathLst>
              <a:path w="3276600" h="1676400">
                <a:moveTo>
                  <a:pt x="0" y="838200"/>
                </a:moveTo>
                <a:lnTo>
                  <a:pt x="451443" y="675493"/>
                </a:lnTo>
                <a:lnTo>
                  <a:pt x="219491" y="419100"/>
                </a:lnTo>
                <a:lnTo>
                  <a:pt x="769460" y="393677"/>
                </a:lnTo>
                <a:lnTo>
                  <a:pt x="819150" y="112297"/>
                </a:lnTo>
                <a:lnTo>
                  <a:pt x="1320283" y="230971"/>
                </a:lnTo>
                <a:lnTo>
                  <a:pt x="1638300" y="0"/>
                </a:lnTo>
                <a:lnTo>
                  <a:pt x="1956317" y="230971"/>
                </a:lnTo>
                <a:lnTo>
                  <a:pt x="2457450" y="112297"/>
                </a:lnTo>
                <a:lnTo>
                  <a:pt x="2507140" y="393677"/>
                </a:lnTo>
                <a:lnTo>
                  <a:pt x="3057109" y="419100"/>
                </a:lnTo>
                <a:lnTo>
                  <a:pt x="2825157" y="675493"/>
                </a:lnTo>
                <a:lnTo>
                  <a:pt x="3276600" y="838200"/>
                </a:lnTo>
                <a:lnTo>
                  <a:pt x="2825157" y="1000907"/>
                </a:lnTo>
                <a:lnTo>
                  <a:pt x="3057109" y="1257300"/>
                </a:lnTo>
                <a:lnTo>
                  <a:pt x="2507140" y="1282723"/>
                </a:lnTo>
                <a:lnTo>
                  <a:pt x="2457450" y="1564103"/>
                </a:lnTo>
                <a:lnTo>
                  <a:pt x="1956317" y="1445429"/>
                </a:lnTo>
                <a:lnTo>
                  <a:pt x="1638300" y="1676400"/>
                </a:lnTo>
                <a:lnTo>
                  <a:pt x="1320283" y="1445429"/>
                </a:lnTo>
                <a:lnTo>
                  <a:pt x="819150" y="1564103"/>
                </a:lnTo>
                <a:lnTo>
                  <a:pt x="769460" y="1282723"/>
                </a:lnTo>
                <a:lnTo>
                  <a:pt x="219491" y="1257300"/>
                </a:lnTo>
                <a:lnTo>
                  <a:pt x="451443" y="1000907"/>
                </a:lnTo>
                <a:close/>
              </a:path>
            </a:pathLst>
          </a:custGeom>
          <a:solidFill>
            <a:srgbClr val="bfbfbf">
              <a:alpha val="37000"/>
            </a:srgbClr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5562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electron micrograph of an animal mitochondr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1878120" y="419040"/>
            <a:ext cx="5387760" cy="510552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4"/>
          <p:cNvSpPr/>
          <p:nvPr/>
        </p:nvSpPr>
        <p:spPr>
          <a:xfrm rot="16200000">
            <a:off x="-145440" y="4728960"/>
            <a:ext cx="83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79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562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taway diagram of a mitochondr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941400" y="419040"/>
            <a:ext cx="7259760" cy="51055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4"/>
          <p:cNvSpPr/>
          <p:nvPr/>
        </p:nvSpPr>
        <p:spPr>
          <a:xfrm rot="16200000">
            <a:off x="-145440" y="4728960"/>
            <a:ext cx="83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79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Mitochondr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rcRect l="0" t="3038" r="0" b="4311"/>
          <a:stretch/>
        </p:blipFill>
        <p:spPr>
          <a:xfrm>
            <a:off x="5638680" y="23760"/>
            <a:ext cx="2514600" cy="6757920"/>
          </a:xfrm>
          <a:prstGeom prst="rect">
            <a:avLst/>
          </a:prstGeom>
          <a:ln w="0">
            <a:noFill/>
          </a:ln>
        </p:spPr>
      </p:pic>
      <p:sp>
        <p:nvSpPr>
          <p:cNvPr id="141" name="Rectangular Callout 6"/>
          <p:cNvSpPr/>
          <p:nvPr/>
        </p:nvSpPr>
        <p:spPr>
          <a:xfrm>
            <a:off x="1981080" y="4419720"/>
            <a:ext cx="2667240" cy="1676160"/>
          </a:xfrm>
          <a:prstGeom prst="wedgeRectCallout">
            <a:avLst>
              <a:gd name="adj1" fmla="val 105875"/>
              <a:gd name="adj2" fmla="val -106671"/>
            </a:avLst>
          </a:prstGeom>
          <a:solidFill>
            <a:srgbClr val="ffff00">
              <a:alpha val="44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ristae increase the surface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Components of ET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ll members/components are located in the inner mitochondrial membrane (IM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MM contains 5 complex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mplex I, II, III, IV (part of ET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omplex V (ATP synthase that catalyzes ATP synthesi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Mobile electron carri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oQ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ytochrome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Organization of ET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ach complex accepts or donates electrons to mobile carri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rriers accept electrons from donors and then donate to the next carrier in ch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lectrons finally combine with oxygen and protons to form w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xygen is required as a final acceptor (respiratory cha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ectron Transport Ch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87480" y="1828800"/>
            <a:ext cx="8870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sumbul fatma</dc:creator>
  <dc:description/>
  <dc:language>en-US</dc:language>
  <cp:lastModifiedBy>sumbul</cp:lastModifiedBy>
  <dcterms:modified xsi:type="dcterms:W3CDTF">2014-02-11T04:55:23Z</dcterms:modified>
  <cp:revision>18</cp:revision>
  <dc:subject/>
  <dc:title>Slide 1</dc:title>
</cp:coreProperties>
</file>