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3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61B1-596E-494C-9EC9-04528A413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3528-8271-44F5-AF40-96B1BC954B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ED4-A86E-4634-8DA9-6E14A3D8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0FA-5F5E-4570-A760-BE5A6D8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19B-6CC5-4A72-A504-7D25739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C2E0-2FA1-400E-85E1-FB8D7034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D2D5-13A7-4167-8097-1DFC4864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2DE-01A6-49D8-B8B2-DB5CECD0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AF7C-08E0-456E-9A0D-E1D06CFF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99C-CAD0-4CB6-8C9A-94832B67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B8D8-7D31-485D-8738-6B4ABB6A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C778-A5AD-4EE3-92FB-893681BD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B6F7-507B-4546-B554-2ACC037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452D-8008-4985-8AAE-0982F1EC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A314-F900-4F14-8061-391E5555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C754-3A78-4DC3-9932-3176F946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6190-FFE8-4FFD-94AF-09DFC8E8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BED1-8990-4F1A-A5E4-214EA4402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ACEF-69BB-4F39-9F75-581FF19F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2F1-C74A-48E0-930F-0F186050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8C2-1C87-40C4-A323-2EA48524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EB97-5C6F-4DD1-B577-6D29ABC0F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271-9E40-4B0A-9182-9BB43772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E311-2B12-4C97-A0AC-96799F8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EF8F-BAA5-4B1C-95CA-9AC32E9F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9FF-1A49-4BE0-86A8-368C49FF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0A20-04CC-4A56-852E-76AF5ABE9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C16B-BFE4-408A-B39C-4EB87752A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4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J3TGVL35CcPaaoaZgdgE&amp;psig=AFQjCNFTdgKgOtOH60vGPiptEQ7FQQFFTg&amp;ust=1422378395873191" TargetMode="External"/><Relationship Id="rId5" Type="http://schemas.openxmlformats.org/officeDocument/2006/relationships/hyperlink" Target="http://www.google.com.sa/url?sa=i&amp;rct=j&amp;q=&amp;esrc=s&amp;source=images&amp;cd=&amp;cad=rja&amp;uact=8&amp;ved=0CAcQjRw&amp;url=http%3A%2F%2Fwww.e-lfh.org.uk%2Fe-learning-sessions%2Frcoa-novice%2Fcontent%2Fsessions%2F01_02_02%2Fd%2FELFH_Session%2F554%2Ftab_613.html&amp;ei=53TGVNbwOMvtaKjlgfAK&amp;psig=AFQjCNFTdgKgOtOH60vGPiptEQ7FQQFFTg&amp;ust=1422378395873191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7.jpeg"/><Relationship Id="rId3" Type="http://schemas.openxmlformats.org/officeDocument/2006/relationships/hyperlink" Target="http://www.google.com.sa/url?sa=i&amp;rct=j&amp;q=&amp;esrc=s&amp;source=images&amp;cd=&amp;cad=rja&amp;uact=8&amp;ved=0CAcQjRw&amp;url=http%3A%2F%2Ffaculty.southwest.tn.edu%2Frburkett%2Fresp_sys_lab.htm&amp;ei=03_GVLhtk89oho6C-Ao&amp;psig=AFQjCNHL6XIOZXRH_UlYiqHUBIiGM9V-xg&amp;ust=1422381333930230" TargetMode="External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haroni"/>
                <a:ea typeface="Aharoni"/>
              </a:rPr>
              <a:t>Development of Respiratory Syste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eed Voh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Dr. Sanaa Alshaaraw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Aharoni"/>
                <a:ea typeface="Aharon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84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Trache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2280" y="1143000"/>
            <a:ext cx="4724640" cy="5486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ndodermal lining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laryngotracheal tub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al to the larynx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fferentiates into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 and glan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 the trachea and pulmonary epithel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 cartilages, connective tissu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muscles of the trachea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rived fro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esode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C:\Users\user\Pictures\hhh.png"/>
          <p:cNvPicPr/>
          <p:nvPr/>
        </p:nvPicPr>
        <p:blipFill>
          <a:blip r:embed="rId2"/>
          <a:srcRect l="4460" t="42347" r="42417" b="5985"/>
          <a:stretch/>
        </p:blipFill>
        <p:spPr>
          <a:xfrm>
            <a:off x="5105520" y="3960720"/>
            <a:ext cx="3657600" cy="2820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user\Pictures\hhh.png"/>
          <p:cNvPicPr/>
          <p:nvPr/>
        </p:nvPicPr>
        <p:blipFill>
          <a:blip r:embed="rId3"/>
          <a:srcRect l="56171" t="0" r="0" b="57897"/>
          <a:stretch/>
        </p:blipFill>
        <p:spPr>
          <a:xfrm>
            <a:off x="5105520" y="1100160"/>
            <a:ext cx="36576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190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Bronchi &amp;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066680"/>
            <a:ext cx="4343400" cy="5486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The 2 primary bronchial bud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ow laterally into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ericardio-peritoneal canal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art of the intraembryonic celome)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primordia of pleural ca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al bud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re-divid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o give the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bronchial tre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6" descr="C:\Users\user\Pictures\hgfhfgh - Copy.png"/>
          <p:cNvPicPr/>
          <p:nvPr/>
        </p:nvPicPr>
        <p:blipFill>
          <a:blip r:embed="rId2"/>
          <a:srcRect l="55101" t="10470" r="1670" b="10470"/>
          <a:stretch/>
        </p:blipFill>
        <p:spPr>
          <a:xfrm>
            <a:off x="5943600" y="3886200"/>
            <a:ext cx="27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C:\Users\user\Pictures\hgfhfgh - Copy.png"/>
          <p:cNvPicPr/>
          <p:nvPr/>
        </p:nvPicPr>
        <p:blipFill>
          <a:blip r:embed="rId3"/>
          <a:srcRect l="3815" t="11635" r="50415" b="9306"/>
          <a:stretch/>
        </p:blipFill>
        <p:spPr>
          <a:xfrm>
            <a:off x="5943600" y="1219320"/>
            <a:ext cx="274320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142560" y="533520"/>
            <a:ext cx="4505400" cy="568152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right main bronchus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 slightly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arger (wider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than the left one and i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riented more vertical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mbryonic relationship persists in the adul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The main 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bdivide into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ertiar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gmental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ich give rise to further branch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6" descr="C:\Users\user\Pictures\xxcxccxcxcx - Copy (2).png"/>
          <p:cNvPicPr/>
          <p:nvPr/>
        </p:nvPicPr>
        <p:blipFill>
          <a:blip r:embed="rId1"/>
          <a:srcRect l="0" t="0" r="66006" b="62615"/>
          <a:stretch/>
        </p:blipFill>
        <p:spPr>
          <a:xfrm>
            <a:off x="4952880" y="457200"/>
            <a:ext cx="3505320" cy="2438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user\Pictures\ffbg.png"/>
          <p:cNvPicPr/>
          <p:nvPr/>
        </p:nvPicPr>
        <p:blipFill>
          <a:blip r:embed="rId2"/>
          <a:stretch/>
        </p:blipFill>
        <p:spPr>
          <a:xfrm>
            <a:off x="4724280" y="3809880"/>
            <a:ext cx="3841920" cy="2819520"/>
          </a:xfrm>
          <a:prstGeom prst="rect">
            <a:avLst/>
          </a:prstGeom>
          <a:ln w="0">
            <a:noFill/>
          </a:ln>
        </p:spPr>
      </p:pic>
      <p:sp>
        <p:nvSpPr>
          <p:cNvPr id="198" name="Frame 6"/>
          <p:cNvSpPr/>
          <p:nvPr/>
        </p:nvSpPr>
        <p:spPr>
          <a:xfrm>
            <a:off x="4800600" y="4876920"/>
            <a:ext cx="609480" cy="53316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Frame 7"/>
          <p:cNvSpPr/>
          <p:nvPr/>
        </p:nvSpPr>
        <p:spPr>
          <a:xfrm>
            <a:off x="4724280" y="5791320"/>
            <a:ext cx="762120" cy="6858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Frame 8"/>
          <p:cNvSpPr/>
          <p:nvPr/>
        </p:nvSpPr>
        <p:spPr>
          <a:xfrm>
            <a:off x="4724280" y="4038480"/>
            <a:ext cx="18288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Frame 9"/>
          <p:cNvSpPr/>
          <p:nvPr/>
        </p:nvSpPr>
        <p:spPr>
          <a:xfrm>
            <a:off x="6934320" y="4038480"/>
            <a:ext cx="1600200" cy="38124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AutoShape 10">
            <a:hlinkClick r:id="rId3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2">
            <a:hlinkClick r:id="rId4"/>
          </p:cNvPr>
          <p:cNvSpPr/>
          <p:nvPr/>
        </p:nvSpPr>
        <p:spPr>
          <a:xfrm>
            <a:off x="54000" y="-1812960"/>
            <a:ext cx="455292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14" descr="https://encrypted-tbn2.gstatic.com/images?q=tbn:ANd9GcR_Vi_1uXXDFVsbQM0C8IybhjiSXzL49_XSVNDz9M_ISq6La7bNv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6200" y="428760"/>
            <a:ext cx="3786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228240" y="380520"/>
            <a:ext cx="4419720" cy="541044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he segmental bronchi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10 in righ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8 or 9 in the left lu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gin to form by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7th we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surrounding mesenchyme also divid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Each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egmental bronchu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with its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surrounding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mass of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mesenchyme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s the primordium of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ronchopulmonary seg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Content Placeholder 8" descr="C:\Users\user\Pictures\ffbg.png"/>
          <p:cNvPicPr/>
          <p:nvPr/>
        </p:nvPicPr>
        <p:blipFill>
          <a:blip r:embed="rId1"/>
          <a:stretch/>
        </p:blipFill>
        <p:spPr>
          <a:xfrm>
            <a:off x="4800600" y="1486080"/>
            <a:ext cx="4251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228600" y="1592280"/>
            <a:ext cx="3809880" cy="3933360"/>
          </a:xfrm>
          <a:prstGeom prst="rect">
            <a:avLst/>
          </a:prstGeom>
          <a:noFill/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s the lungs develop they acquire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iscer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lanchnic mesenchy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horacic body wall becomes lined by a layer of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arietal pleur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rived from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omatic mesode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C:\Documents and Settings\Free User\My Documents\My Pictures\Pleura.bmp"/>
          <p:cNvPicPr/>
          <p:nvPr/>
        </p:nvPicPr>
        <p:blipFill>
          <a:blip r:embed="rId1"/>
          <a:srcRect l="2003" t="1998" r="2003" b="4287"/>
          <a:stretch/>
        </p:blipFill>
        <p:spPr>
          <a:xfrm>
            <a:off x="4419720" y="838080"/>
            <a:ext cx="4308480" cy="312444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pic>
        <p:nvPicPr>
          <p:cNvPr id="209" name="Picture 6" descr="C:\Users\user\Pictures\hgfhfgh - Copy.png"/>
          <p:cNvPicPr/>
          <p:nvPr/>
        </p:nvPicPr>
        <p:blipFill>
          <a:blip r:embed="rId2"/>
          <a:srcRect l="3815" t="11635" r="50415" b="9306"/>
          <a:stretch/>
        </p:blipFill>
        <p:spPr>
          <a:xfrm>
            <a:off x="4419720" y="4267080"/>
            <a:ext cx="2514600" cy="2362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C:\Users\user\Pictures\hgfhfgh - Copy.png"/>
          <p:cNvPicPr/>
          <p:nvPr/>
        </p:nvPicPr>
        <p:blipFill>
          <a:blip r:embed="rId3"/>
          <a:srcRect l="55101" t="10470" r="1670" b="10470"/>
          <a:stretch/>
        </p:blipFill>
        <p:spPr>
          <a:xfrm>
            <a:off x="7010280" y="426708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turation of lung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d in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 perio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Pseudoglandu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5 - 17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Canalicular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16 - 25 week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     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24 weeks - birth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late fetal period 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ildhood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se periods overlap each other because the cranial segments of the lungs mature faster than the caudal 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7" descr="https://encrypted-tbn3.gstatic.com/images?q=tbn:ANd9GcRvYMHRnfUOQ0z6JjQSRGmWqZzCE3dFu7FtdmXnPD1PftFSSFp_Ig"/>
          <p:cNvPicPr/>
          <p:nvPr/>
        </p:nvPicPr>
        <p:blipFill>
          <a:blip r:embed="rId1"/>
          <a:srcRect l="0" t="0" r="0" b="29041"/>
          <a:stretch/>
        </p:blipFill>
        <p:spPr>
          <a:xfrm>
            <a:off x="304920" y="4419720"/>
            <a:ext cx="5410080" cy="2057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http://learninggnm.com/extimages/Lung%20Alveoli%20Website.jpg"/>
          <p:cNvPicPr/>
          <p:nvPr/>
        </p:nvPicPr>
        <p:blipFill>
          <a:blip r:embed="rId2"/>
          <a:stretch/>
        </p:blipFill>
        <p:spPr>
          <a:xfrm>
            <a:off x="6095880" y="4181400"/>
            <a:ext cx="2648160" cy="2600280"/>
          </a:xfrm>
          <a:prstGeom prst="rect">
            <a:avLst/>
          </a:prstGeom>
          <a:ln w="0">
            <a:noFill/>
          </a:ln>
        </p:spPr>
      </p:pic>
      <p:grpSp>
        <p:nvGrpSpPr>
          <p:cNvPr id="214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15" name="Rectangle 2" descr=""/>
            <p:cNvPicPr/>
            <p:nvPr/>
          </p:nvPicPr>
          <p:blipFill>
            <a:blip r:embed="rId3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Maturation of the Lungs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51920" y="1447560"/>
            <a:ext cx="4953240" cy="4724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loping lungs somewhat resembles an exocrine gland during this peri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7 week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 major elements of the lung have formed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xcept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ose involved with gas exchange (alveoli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spiration is </a:t>
            </a:r>
            <a:r>
              <a:rPr b="1" lang="en-US" sz="2800" spc="-1" strike="noStrike" u="sng">
                <a:solidFill>
                  <a:srgbClr val="ff66ff"/>
                </a:solidFill>
                <a:uFillTx/>
                <a:latin typeface="Times New Roman"/>
              </a:rPr>
              <a:t>NO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ossi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etus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born during this period ar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unable to surv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5" descr="C:\Users\user\Pictures\zz.png"/>
          <p:cNvPicPr/>
          <p:nvPr/>
        </p:nvPicPr>
        <p:blipFill>
          <a:blip r:embed="rId1"/>
          <a:srcRect l="0" t="5700" r="8269" b="0"/>
          <a:stretch/>
        </p:blipFill>
        <p:spPr>
          <a:xfrm>
            <a:off x="5334120" y="1976400"/>
            <a:ext cx="3657600" cy="2976480"/>
          </a:xfrm>
          <a:prstGeom prst="rect">
            <a:avLst/>
          </a:prstGeom>
          <a:ln w="0">
            <a:noFill/>
          </a:ln>
        </p:spPr>
      </p:pic>
      <p:grpSp>
        <p:nvGrpSpPr>
          <p:cNvPr id="219" name="Rectangle 2"/>
          <p:cNvGrpSpPr/>
          <p:nvPr/>
        </p:nvGrpSpPr>
        <p:grpSpPr>
          <a:xfrm>
            <a:off x="-79200" y="-73080"/>
            <a:ext cx="9259560" cy="908280"/>
            <a:chOff x="-79200" y="-73080"/>
            <a:chExt cx="9259560" cy="908280"/>
          </a:xfrm>
        </p:grpSpPr>
        <p:pic>
          <p:nvPicPr>
            <p:cNvPr id="220" name="Rectangle 2" descr=""/>
            <p:cNvPicPr/>
            <p:nvPr/>
          </p:nvPicPr>
          <p:blipFill>
            <a:blip r:embed="rId2"/>
            <a:stretch/>
          </p:blipFill>
          <p:spPr>
            <a:xfrm>
              <a:off x="-79200" y="-73080"/>
              <a:ext cx="92595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-1764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Pseudoglandular Period (5-17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23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Canalicular Period (16-25 week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51920" y="1523520"/>
            <a:ext cx="4876920" cy="4800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ng tissue become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ighly vascu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mina of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ronch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com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arg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4 week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erminal bronchi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ha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iven ris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two or more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spiratory bronchio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divid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o 3 to 6 tubular passages c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alveolar duc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Som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n-walled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terminal sacs (primordial alveoli)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velop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t the end of respiratory bronchio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5" descr="C:\Users\user\Pictures\xzc.png"/>
          <p:cNvPicPr/>
          <p:nvPr/>
        </p:nvPicPr>
        <p:blipFill>
          <a:blip r:embed="rId2"/>
          <a:srcRect l="5717" t="0" r="0" b="0"/>
          <a:stretch/>
        </p:blipFill>
        <p:spPr>
          <a:xfrm>
            <a:off x="5334120" y="990720"/>
            <a:ext cx="3195360" cy="2590560"/>
          </a:xfrm>
          <a:prstGeom prst="rect">
            <a:avLst/>
          </a:prstGeom>
          <a:ln w="0">
            <a:noFill/>
          </a:ln>
        </p:spPr>
      </p:pic>
      <p:sp>
        <p:nvSpPr>
          <p:cNvPr id="227" name="Content Placeholder 3"/>
          <p:cNvSpPr/>
          <p:nvPr/>
        </p:nvSpPr>
        <p:spPr>
          <a:xfrm>
            <a:off x="5105520" y="3733920"/>
            <a:ext cx="3809880" cy="2743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7ffff"/>
                </a:solidFill>
                <a:latin typeface="Times New Roman"/>
              </a:rPr>
              <a:t>Respiration is possible at the end of this peri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Fetu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born at the end of this period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may surviv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given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intensive c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but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Times New Roman"/>
              </a:rPr>
              <a:t>usually di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cause of the immaturity of respiratory as well as other system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Frame 5"/>
          <p:cNvSpPr/>
          <p:nvPr/>
        </p:nvSpPr>
        <p:spPr>
          <a:xfrm>
            <a:off x="5334120" y="2362320"/>
            <a:ext cx="685800" cy="38088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Frame 6"/>
          <p:cNvSpPr/>
          <p:nvPr/>
        </p:nvSpPr>
        <p:spPr>
          <a:xfrm>
            <a:off x="5334120" y="1905120"/>
            <a:ext cx="685800" cy="4572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Frame 7"/>
          <p:cNvSpPr/>
          <p:nvPr/>
        </p:nvSpPr>
        <p:spPr>
          <a:xfrm>
            <a:off x="7696080" y="990720"/>
            <a:ext cx="762120" cy="228600"/>
          </a:xfrm>
          <a:prstGeom prst="pie">
            <a:avLst/>
          </a:prstGeom>
          <a:solidFill>
            <a:srgbClr val="00cc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Rectangle 2"/>
          <p:cNvGrpSpPr/>
          <p:nvPr/>
        </p:nvGrpSpPr>
        <p:grpSpPr>
          <a:xfrm>
            <a:off x="-60480" y="-36360"/>
            <a:ext cx="9259920" cy="950760"/>
            <a:chOff x="-60480" y="-36360"/>
            <a:chExt cx="9259920" cy="950760"/>
          </a:xfrm>
        </p:grpSpPr>
        <p:pic>
          <p:nvPicPr>
            <p:cNvPr id="232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36360"/>
              <a:ext cx="9259920" cy="9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0" y="0"/>
              <a:ext cx="914400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2060"/>
                  </a:solidFill>
                  <a:latin typeface="Times New Roman"/>
                </a:rPr>
                <a:t>Terminal Sac Period (24 weeks - birth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75960" y="990360"/>
            <a:ext cx="5562360" cy="5562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Many mo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s develo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ir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becomes very th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apillaries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egin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to bulge in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alveol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pi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alveo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nd the </a:t>
            </a:r>
            <a:r>
              <a:rPr b="0" lang="en-US" sz="2800" spc="-1" strike="noStrike">
                <a:solidFill>
                  <a:srgbClr val="47ffff"/>
                </a:solidFill>
                <a:latin typeface="Times New Roman"/>
              </a:rPr>
              <a:t>endothelia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lls of the 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capillar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in intimate contact and establish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blood-air barri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Adequate gas exchang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n occur which allows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maturely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orn fetus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rv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5" descr="C:\Users\user\Pictures\asas.png"/>
          <p:cNvPicPr/>
          <p:nvPr/>
        </p:nvPicPr>
        <p:blipFill>
          <a:blip r:embed="rId2"/>
          <a:srcRect l="2377" t="2237" r="3967" b="2237"/>
          <a:stretch/>
        </p:blipFill>
        <p:spPr>
          <a:xfrm>
            <a:off x="5715000" y="2193840"/>
            <a:ext cx="33526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Rectangle 2"/>
          <p:cNvGrpSpPr/>
          <p:nvPr/>
        </p:nvGrpSpPr>
        <p:grpSpPr>
          <a:xfrm>
            <a:off x="-60480" y="-73080"/>
            <a:ext cx="9259920" cy="908280"/>
            <a:chOff x="-60480" y="-73080"/>
            <a:chExt cx="9259920" cy="908280"/>
          </a:xfrm>
        </p:grpSpPr>
        <p:pic>
          <p:nvPicPr>
            <p:cNvPr id="237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73080"/>
              <a:ext cx="925992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2b"/>
                  </a:solidFill>
                  <a:latin typeface="Times New Roman"/>
                </a:rPr>
                <a:t>Alveolar Period (32 weeks – 8 years)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76320" y="928800"/>
            <a:ext cx="5333760" cy="35719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 the beginning of the alveolar period,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each respiratory bronchiol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mina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a cluster of thin-walle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erminal saccu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parated from one another by loose connective tiss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terminal saccu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repres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uture alveolar sac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6" descr="65FD5C54"/>
          <p:cNvPicPr/>
          <p:nvPr/>
        </p:nvPicPr>
        <p:blipFill>
          <a:blip r:embed="rId2"/>
          <a:srcRect l="18572" t="13219" r="52797" b="44746"/>
          <a:stretch/>
        </p:blipFill>
        <p:spPr>
          <a:xfrm>
            <a:off x="5638680" y="928800"/>
            <a:ext cx="3505320" cy="2286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https://encrypted-tbn0.gstatic.com/images?q=tbn:ANd9GcRkgfu3cOqLN5vWBKX_vFxbIbXmLhAnVJXilbp4o0iSQeic9a--">
            <a:hlinkClick r:id="rId3"/>
          </p:cNvPr>
          <p:cNvPicPr/>
          <p:nvPr/>
        </p:nvPicPr>
        <p:blipFill>
          <a:blip r:embed="rId4"/>
          <a:srcRect l="0" t="15079" r="39501" b="3896"/>
          <a:stretch/>
        </p:blipFill>
        <p:spPr>
          <a:xfrm>
            <a:off x="6072120" y="3357720"/>
            <a:ext cx="2714760" cy="3071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https://www.rsvprotection.com/_assets/images/fullterm-preterm-lungs.jpg"/>
          <p:cNvPicPr/>
          <p:nvPr/>
        </p:nvPicPr>
        <p:blipFill>
          <a:blip r:embed="rId5"/>
          <a:stretch/>
        </p:blipFill>
        <p:spPr>
          <a:xfrm>
            <a:off x="285840" y="4572000"/>
            <a:ext cx="50576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At the end of the lecture the students should be abl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geotracheal (respiratory) diverticulum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larynx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trach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development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bronchi &amp;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be the periods of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aturation of the lu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the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most congenital anomal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457200" y="533520"/>
            <a:ext cx="4191120" cy="320040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Characteristic mature alveoli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o not form until after birth. 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95% of alveoli develop postnatall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Times New Roman"/>
              </a:rPr>
              <a:t>About 50 million alveoli,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ixth of the adult number are present in the lungs of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ull-term newborn infa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380880" y="3962520"/>
            <a:ext cx="8077320" cy="190476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rom 3-8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or so,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he number of alveoli continues to increase, forming additional primordial alveol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y about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ighth year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the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dult complement of 300 million alveoli is pres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8" descr="https://encrypted-tbn0.gstatic.com/images?q=tbn:ANd9GcRkgfu3cOqLN5vWBKX_vFxbIbXmLhAnVJXilbp4o0iSQeic9a--"/>
          <p:cNvPicPr/>
          <p:nvPr/>
        </p:nvPicPr>
        <p:blipFill>
          <a:blip r:embed="rId1"/>
          <a:srcRect l="0" t="15079" r="39501" b="3896"/>
          <a:stretch/>
        </p:blipFill>
        <p:spPr>
          <a:xfrm>
            <a:off x="5286240" y="714240"/>
            <a:ext cx="27147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124440" cy="518148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Breathing Mov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ccu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efore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ot continuous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ncrease as the time of delivery approa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lp i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onditioning the respiratory musc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imulate lung developme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are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sential for normal lung develop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3352680" y="228600"/>
            <a:ext cx="5639040" cy="3733920"/>
          </a:xfrm>
          <a:prstGeom prst="rect">
            <a:avLst/>
          </a:prstGeom>
          <a:solidFill>
            <a:srgbClr val="7030a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Lungs at bir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47ffff"/>
                </a:solidFill>
                <a:latin typeface="Times New Roman"/>
              </a:rPr>
              <a:t>lungs are half fill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luid derived from the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amniotic flui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d from the lungs &amp; tracheal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</a:rPr>
              <a:t>gl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fluid in the lungs i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leared at bir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by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sure on the fetal thor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ing delive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sorption int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pulmonary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pillaries and lymphati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4267080" cy="35816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Factors important f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normal lung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thoracic spa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lung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etal breath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men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dequate amniotic flui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lu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724280" y="1066680"/>
            <a:ext cx="4191120" cy="5181840"/>
          </a:xfrm>
          <a:prstGeom prst="rect">
            <a:avLst/>
          </a:prstGeom>
          <a:solidFill>
            <a:srgbClr val="7030a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Developmental anoma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Tracheoesophageal fist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l stenosis &amp; atre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genital lung cy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esis of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 hypoplas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essory lu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251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Aharoni"/>
                </a:rPr>
                <a:t>Tracheoesophageal Fistula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 txBox="1"/>
          <p:nvPr/>
        </p:nvSpPr>
        <p:spPr>
          <a:xfrm>
            <a:off x="228240" y="914400"/>
            <a:ext cx="4724280" cy="51055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bnormal passag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tween the trachea and esophagu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ults from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complete divis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f the cranial part of the foregut into respiratory and esophageal part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s once in 3000 to 4500 live birth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st affected infants ar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more tha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85% of cases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fistula i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ssociated with 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esophageal atresia 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sophagus ends in a blind-ended pouch rather than connecting normally to the stomach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Picture 5" descr="C:\Users\user\Pictures\xcvbnm - Copy.png"/>
          <p:cNvPicPr/>
          <p:nvPr/>
        </p:nvPicPr>
        <p:blipFill>
          <a:blip r:embed="rId2"/>
          <a:srcRect l="0" t="0" r="15795" b="0"/>
          <a:stretch/>
        </p:blipFill>
        <p:spPr>
          <a:xfrm>
            <a:off x="5029200" y="914400"/>
            <a:ext cx="2971800" cy="56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159984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nap ITC"/>
              </a:rPr>
              <a:t>Thank You</a:t>
            </a: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Rectangle 2"/>
          <p:cNvGrpSpPr/>
          <p:nvPr/>
        </p:nvGrpSpPr>
        <p:grpSpPr>
          <a:xfrm>
            <a:off x="-60480" y="-60480"/>
            <a:ext cx="9259920" cy="895680"/>
            <a:chOff x="-60480" y="-60480"/>
            <a:chExt cx="9259920" cy="895680"/>
          </a:xfrm>
        </p:grpSpPr>
        <p:pic>
          <p:nvPicPr>
            <p:cNvPr id="158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60480"/>
              <a:ext cx="9259920" cy="8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haroni"/>
                  <a:ea typeface="Aharoni"/>
                </a:rPr>
                <a:t>Respiratory System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28600" y="11426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pp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sal cavity &amp; paranasal sin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ower respiratory trac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ch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5" descr="C:\Documents and Settings\Free User\My Documents\My Pictures\fcdf.jpg"/>
          <p:cNvPicPr/>
          <p:nvPr/>
        </p:nvPicPr>
        <p:blipFill>
          <a:blip r:embed="rId2"/>
          <a:stretch/>
        </p:blipFill>
        <p:spPr>
          <a:xfrm>
            <a:off x="4724280" y="1295280"/>
            <a:ext cx="413244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6705720" y="1600200"/>
            <a:ext cx="1981080" cy="1295280"/>
          </a:xfrm>
          <a:prstGeom prst="rect">
            <a:avLst/>
          </a:prstGeom>
          <a:solidFill>
            <a:srgbClr val="00cccc">
              <a:alpha val="8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6705720" y="2971800"/>
            <a:ext cx="1981080" cy="2666880"/>
          </a:xfrm>
          <a:prstGeom prst="rect">
            <a:avLst/>
          </a:prstGeom>
          <a:solidFill>
            <a:srgbClr val="ff0000">
              <a:alpha val="1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Rectangle 1026"/>
          <p:cNvGrpSpPr/>
          <p:nvPr/>
        </p:nvGrpSpPr>
        <p:grpSpPr>
          <a:xfrm>
            <a:off x="-176040" y="-115920"/>
            <a:ext cx="9521640" cy="878040"/>
            <a:chOff x="-176040" y="-115920"/>
            <a:chExt cx="9521640" cy="878040"/>
          </a:xfrm>
        </p:grpSpPr>
        <p:pic>
          <p:nvPicPr>
            <p:cNvPr id="165" name="Rectangle 1026" descr=""/>
            <p:cNvPicPr/>
            <p:nvPr/>
          </p:nvPicPr>
          <p:blipFill>
            <a:blip r:embed="rId1"/>
            <a:stretch/>
          </p:blipFill>
          <p:spPr>
            <a:xfrm>
              <a:off x="-176040" y="-115920"/>
              <a:ext cx="952164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Development of the Lower Respiratory Tract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28240" y="1066680"/>
            <a:ext cx="426708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to form during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wee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gins as a median outgrowth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aryngotracheal groove)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m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caud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ventral wall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primitive pharyn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oove envaginates and forms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(respiratory) diverticu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6" descr="C:\Users\user\Pictures\sed.png"/>
          <p:cNvPicPr/>
          <p:nvPr/>
        </p:nvPicPr>
        <p:blipFill>
          <a:blip r:embed="rId2"/>
          <a:srcRect l="0" t="17909" r="0" b="14431"/>
          <a:stretch/>
        </p:blipFill>
        <p:spPr>
          <a:xfrm>
            <a:off x="4800600" y="1143000"/>
            <a:ext cx="4019400" cy="297180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69" name="Rectangle 1"/>
          <p:cNvSpPr/>
          <p:nvPr/>
        </p:nvSpPr>
        <p:spPr>
          <a:xfrm>
            <a:off x="4876920" y="1295280"/>
            <a:ext cx="1066680" cy="609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3962520" cy="50292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ongitudinal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tracheo-esophageal sept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velops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id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rs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the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oropharynx and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ntral por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primordium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larynx, trachea, bronchi and lu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34340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240" y="761760"/>
            <a:ext cx="3962520" cy="52578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proximal par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espiratory diverticulu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mains tubular</a:t>
            </a:r>
            <a:r>
              <a:rPr b="0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forms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aryn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rache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The distal e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diverticulum dilates to form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lung bud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divides to give rise to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ung buds (primary bronchial bu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C:\Users\user\Pictures\cdcd.png"/>
          <p:cNvPicPr/>
          <p:nvPr/>
        </p:nvPicPr>
        <p:blipFill>
          <a:blip r:embed="rId1"/>
          <a:srcRect l="0" t="6754" r="4025" b="3799"/>
          <a:stretch/>
        </p:blipFill>
        <p:spPr>
          <a:xfrm>
            <a:off x="4267080" y="1523880"/>
            <a:ext cx="441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03848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end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ing th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laryngotracheal diverticulum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Epithelium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Glands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rrounding </a:t>
            </a:r>
            <a:r>
              <a:rPr b="1" lang="en-US" sz="3200" spc="-1" strike="noStrike">
                <a:solidFill>
                  <a:srgbClr val="47ffff"/>
                </a:solidFill>
                <a:latin typeface="Times New Roman"/>
              </a:rPr>
              <a:t>splanchnic mesoderm</a:t>
            </a:r>
            <a:r>
              <a:rPr b="0" lang="en-US" sz="3200" spc="-1" strike="noStrike">
                <a:solidFill>
                  <a:srgbClr val="47ffff"/>
                </a:solidFill>
                <a:latin typeface="Times New Roman"/>
              </a:rPr>
              <a:t>         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ives rise to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Connective tissue, Cartilage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Smooth muscl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respiratory 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ectangle 2"/>
          <p:cNvGrpSpPr/>
          <p:nvPr/>
        </p:nvGrpSpPr>
        <p:grpSpPr>
          <a:xfrm>
            <a:off x="-60480" y="-115920"/>
            <a:ext cx="9259920" cy="878040"/>
            <a:chOff x="-60480" y="-115920"/>
            <a:chExt cx="9259920" cy="878040"/>
          </a:xfrm>
        </p:grpSpPr>
        <p:pic>
          <p:nvPicPr>
            <p:cNvPr id="176" name="Rectangle 2" descr=""/>
            <p:cNvPicPr/>
            <p:nvPr/>
          </p:nvPicPr>
          <p:blipFill>
            <a:blip r:embed="rId1"/>
            <a:stretch/>
          </p:blipFill>
          <p:spPr>
            <a:xfrm>
              <a:off x="-60480" y="-115920"/>
              <a:ext cx="925992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evelopment of the Larynx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5960" y="1219320"/>
            <a:ext cx="4724280" cy="533376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open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aryngotracheal diverticulu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o the primitive foreg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com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66ff33"/>
                </a:solidFill>
                <a:latin typeface="Times New Roman"/>
              </a:rPr>
              <a:t>laryngeal orifi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pithelium &amp; gland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derived from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endoderm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cl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&amp; th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artilag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larynx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xcept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66ff33"/>
                </a:solidFill>
                <a:uFillTx/>
                <a:latin typeface="Times New Roman"/>
              </a:rPr>
              <a:t>Epiglotti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at develop from the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mesoderm of 4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&amp; 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66ff"/>
                </a:solidFill>
                <a:latin typeface="Times New Roman"/>
              </a:rPr>
              <a:t>th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 pairs of pharyngeal arch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6" descr="C:\Users\user\Pictures\sfdfdgdf - Copy.png"/>
          <p:cNvPicPr/>
          <p:nvPr/>
        </p:nvPicPr>
        <p:blipFill>
          <a:blip r:embed="rId2"/>
          <a:stretch/>
        </p:blipFill>
        <p:spPr>
          <a:xfrm>
            <a:off x="4968720" y="1752480"/>
            <a:ext cx="40230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28240" y="1143000"/>
            <a:ext cx="4419720" cy="5486400"/>
          </a:xfrm>
          <a:prstGeom prst="rect">
            <a:avLst/>
          </a:prstGeom>
          <a:noFill/>
          <a:ln w="9360">
            <a:solidFill>
              <a:srgbClr val="00cc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laryngeal epitheliu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proliferates rapidly resulting in </a:t>
            </a:r>
            <a:r>
              <a:rPr b="1" lang="en-US" sz="3200" spc="-1" strike="noStrike">
                <a:solidFill>
                  <a:srgbClr val="ff66ff"/>
                </a:solidFill>
                <a:latin typeface="Times New Roman"/>
              </a:rPr>
              <a:t>temporary occlusion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f the laryngeal l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of larynx normally occurs by the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wee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yngeal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ntricl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ocal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66ff33"/>
                </a:solidFill>
                <a:latin typeface="Times New Roman"/>
              </a:rPr>
              <a:t>vestibular fold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ormed during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canaliza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4" descr="C:\Documents and Settings\Free User\My Documents\My Pictures\Copy of Gray954.png"/>
          <p:cNvPicPr/>
          <p:nvPr/>
        </p:nvPicPr>
        <p:blipFill>
          <a:blip r:embed="rId1"/>
          <a:stretch/>
        </p:blipFill>
        <p:spPr>
          <a:xfrm>
            <a:off x="4800600" y="762120"/>
            <a:ext cx="3657600" cy="5883120"/>
          </a:xfrm>
          <a:prstGeom prst="rect">
            <a:avLst/>
          </a:prstGeom>
          <a:ln w="9360">
            <a:solidFill>
              <a:srgbClr val="00cccc"/>
            </a:solidFill>
            <a:miter/>
          </a:ln>
        </p:spPr>
      </p:pic>
      <p:sp>
        <p:nvSpPr>
          <p:cNvPr id="182" name="TextBox 3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analization of laryn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7:22:38Z</dcterms:created>
  <dc:creator>Dr. Zeenat Zaidi</dc:creator>
  <dc:description/>
  <dc:language>en-US</dc:language>
  <cp:lastModifiedBy>user</cp:lastModifiedBy>
  <dcterms:modified xsi:type="dcterms:W3CDTF">2015-01-26T18:09:00Z</dcterms:modified>
  <cp:revision>236</cp:revision>
  <dc:subject>Embryology</dc:subject>
  <dc:title>Development of Respiratory System</dc:title>
</cp:coreProperties>
</file>