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3049-41E1-4E49-B118-59956F6C6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D807-2CB7-48A3-9F44-622FFE9DA8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50D1-34B2-4836-83F1-7867DE8D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92F4-C9BE-4DA3-9B14-583A9D2F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D67-3440-49B3-AA74-633D8057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D86-DD85-4B0F-9E1E-42C789B4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84E5-1779-49F2-A3C4-883879C8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44CF-9A05-4FEA-BA89-B420BF26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2FB2-679D-46AB-8E16-B6126C7A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DC2F-F64E-436D-BCA6-B7DA1F70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5B39-0AE4-4AB3-8172-B7F4B63C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BAC7-75E1-4B5D-B394-32E7C522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7955-221D-4449-BAAA-23A68E55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9361-43B9-455C-9CE9-E811A730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9D01-C2AF-47A4-9094-EB3D389D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FB25-4EC5-4490-AD6A-12D42CE4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42D2-7501-46DE-9B12-9A20F2D9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9345-BAB1-421A-867C-47513567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CB51-B831-4398-A3F5-EC817F0A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454-3D09-4277-860C-08E770FA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508-B436-41D4-AE0F-C711978A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561-457D-46B4-80C9-F5612B37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16F-BC95-4738-9989-59A615AA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2216-179D-4EA9-8C73-A1CB268B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354-8981-4C68-BD1B-BB7E441F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32A4-67EB-43E8-A931-9DDD7B23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8C7E-62CE-47F9-81EF-77D496F74C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1E1A-D964-4CCF-9728-65AB12EEED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hyperlink" Target="http://www.google.com.sa/url?sa=i&amp;rct=j&amp;q=&amp;esrc=s&amp;source=images&amp;cd=&amp;cad=rja&amp;uact=8&amp;ved=0CAcQjRw&amp;url=http%3A%2F%2Fwww.e-lfh.org.uk%2Fe-learning-sessions%2Frcoa-novice%2Fcontent%2Fsessions%2F01_02_02%2Fd%2FELFH_Session%2F554%2Ftab_613.html&amp;ei=J3TGVL35CcPaaoaZgdgE&amp;psig=AFQjCNFTdgKgOtOH60vGPiptEQ7FQQFFTg&amp;ust=1422378395873191" TargetMode="External"/><Relationship Id="rId4" Type="http://schemas.openxmlformats.org/officeDocument/2006/relationships/hyperlink" Target="http://www.google.com.sa/url?sa=i&amp;rct=j&amp;q=&amp;esrc=s&amp;source=images&amp;cd=&amp;cad=rja&amp;uact=8&amp;ved=0CAcQjRw&amp;url=http%3A%2F%2Fwww.e-lfh.org.uk%2Fe-learning-sessions%2Frcoa-novice%2Fcontent%2Fsessions%2F01_02_02%2Fd%2FELFH_Session%2F554%2Ftab_613.html&amp;ei=J3TGVL35CcPaaoaZgdgE&amp;psig=AFQjCNFTdgKgOtOH60vGPiptEQ7FQQFFTg&amp;ust=1422378395873191" TargetMode="External"/><Relationship Id="rId5" Type="http://schemas.openxmlformats.org/officeDocument/2006/relationships/hyperlink" Target="http://www.google.com.sa/url?sa=i&amp;rct=j&amp;q=&amp;esrc=s&amp;source=images&amp;cd=&amp;cad=rja&amp;uact=8&amp;ved=0CAcQjRw&amp;url=http%3A%2F%2Fwww.e-lfh.org.uk%2Fe-learning-sessions%2Frcoa-novice%2Fcontent%2Fsessions%2F01_02_02%2Fd%2FELFH_Session%2F554%2Ftab_613.html&amp;ei=53TGVNbwOMvtaKjlgfAK&amp;psig=AFQjCNFTdgKgOtOH60vGPiptEQ7FQQFFTg&amp;ust=1422378395873191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7.jpeg"/><Relationship Id="rId3" Type="http://schemas.openxmlformats.org/officeDocument/2006/relationships/hyperlink" Target="http://www.google.com.sa/url?sa=i&amp;rct=j&amp;q=&amp;esrc=s&amp;source=images&amp;cd=&amp;cad=rja&amp;uact=8&amp;ved=0CAcQjRw&amp;url=http%3A%2F%2Ffaculty.southwest.tn.edu%2Frburkett%2Fresp_sys_lab.htm&amp;ei=03_GVLhtk89oho6C-Ao&amp;psig=AFQjCNHL6XIOZXRH_UlYiqHUBIiGM9V-xg&amp;ust=1422381333930230" TargetMode="External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haroni"/>
                <a:ea typeface="Aharoni"/>
              </a:rPr>
              <a:t>Development of Respiratory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haroni"/>
                <a:ea typeface="Aharoni"/>
              </a:rPr>
              <a:t>Dr. Saeed Voh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haroni"/>
                <a:ea typeface="Aharoni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haroni"/>
                <a:ea typeface="Aharoni"/>
              </a:rPr>
              <a:t>Dr. Sanaa Alshaaraw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haroni"/>
                <a:ea typeface="Aharon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Rectangle 2"/>
          <p:cNvGrpSpPr/>
          <p:nvPr/>
        </p:nvGrpSpPr>
        <p:grpSpPr>
          <a:xfrm>
            <a:off x="-60480" y="-115920"/>
            <a:ext cx="9259920" cy="878040"/>
            <a:chOff x="-60480" y="-115920"/>
            <a:chExt cx="9259920" cy="878040"/>
          </a:xfrm>
        </p:grpSpPr>
        <p:pic>
          <p:nvPicPr>
            <p:cNvPr id="184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115920"/>
              <a:ext cx="92599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evelopment of the Trachea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4724640" cy="5486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dodermal lining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laryngotracheal tub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tal to the larynx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fferentiates into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epithelium and gland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f the trachea and pulmonary epithel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 cartilages, connective tissu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muscles of the trache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rived from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sode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6" descr="C:\Users\user\Pictures\hhh.png"/>
          <p:cNvPicPr/>
          <p:nvPr/>
        </p:nvPicPr>
        <p:blipFill>
          <a:blip r:embed="rId2"/>
          <a:srcRect l="4460" t="42347" r="42417" b="5985"/>
          <a:stretch/>
        </p:blipFill>
        <p:spPr>
          <a:xfrm>
            <a:off x="5105520" y="3960720"/>
            <a:ext cx="3657600" cy="2820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:\Users\user\Pictures\hhh.png"/>
          <p:cNvPicPr/>
          <p:nvPr/>
        </p:nvPicPr>
        <p:blipFill>
          <a:blip r:embed="rId3"/>
          <a:srcRect l="56171" t="0" r="0" b="57897"/>
          <a:stretch/>
        </p:blipFill>
        <p:spPr>
          <a:xfrm>
            <a:off x="5105520" y="1100160"/>
            <a:ext cx="3657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Rectangle 2"/>
          <p:cNvGrpSpPr/>
          <p:nvPr/>
        </p:nvGrpSpPr>
        <p:grpSpPr>
          <a:xfrm>
            <a:off x="-60480" y="-73080"/>
            <a:ext cx="9259920" cy="908280"/>
            <a:chOff x="-60480" y="-73080"/>
            <a:chExt cx="9259920" cy="908280"/>
          </a:xfrm>
        </p:grpSpPr>
        <p:pic>
          <p:nvPicPr>
            <p:cNvPr id="190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73080"/>
              <a:ext cx="925992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evelopment of the Bronchi &amp; Lung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066680"/>
            <a:ext cx="4343400" cy="5486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The 2 primary bronchial bud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ow laterally into 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ricardio-peritoneal canal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art of the intraembryonic celome),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the primordia of pleural ca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ronchial bud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vid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-divid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o give the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bronchial tre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C:\Users\user\Pictures\hgfhfgh - Copy.png"/>
          <p:cNvPicPr/>
          <p:nvPr/>
        </p:nvPicPr>
        <p:blipFill>
          <a:blip r:embed="rId2"/>
          <a:srcRect l="55101" t="10470" r="1670" b="10470"/>
          <a:stretch/>
        </p:blipFill>
        <p:spPr>
          <a:xfrm>
            <a:off x="5943600" y="3886200"/>
            <a:ext cx="2743200" cy="2590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:\Users\user\Pictures\hgfhfgh - Copy.png"/>
          <p:cNvPicPr/>
          <p:nvPr/>
        </p:nvPicPr>
        <p:blipFill>
          <a:blip r:embed="rId3"/>
          <a:srcRect l="3815" t="11635" r="50415" b="9306"/>
          <a:stretch/>
        </p:blipFill>
        <p:spPr>
          <a:xfrm>
            <a:off x="5943600" y="1219320"/>
            <a:ext cx="2743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42560" y="533520"/>
            <a:ext cx="4505400" cy="568152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The right main bronchu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 slightly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arger (wider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han the left one and i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riented more vert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embryonic relationship persists in the adul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The main bronchi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bdivide into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ar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ertiar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gmental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ronchi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ch give rise to further branch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6" descr="C:\Users\user\Pictures\xxcxccxcxcx - Copy (2).png"/>
          <p:cNvPicPr/>
          <p:nvPr/>
        </p:nvPicPr>
        <p:blipFill>
          <a:blip r:embed="rId1"/>
          <a:srcRect l="0" t="0" r="66006" b="62615"/>
          <a:stretch/>
        </p:blipFill>
        <p:spPr>
          <a:xfrm>
            <a:off x="4952880" y="457200"/>
            <a:ext cx="3505320" cy="2438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C:\Users\user\Pictures\ffbg.png"/>
          <p:cNvPicPr/>
          <p:nvPr/>
        </p:nvPicPr>
        <p:blipFill>
          <a:blip r:embed="rId2"/>
          <a:stretch/>
        </p:blipFill>
        <p:spPr>
          <a:xfrm>
            <a:off x="4724280" y="3809880"/>
            <a:ext cx="3841920" cy="2819520"/>
          </a:xfrm>
          <a:prstGeom prst="rect">
            <a:avLst/>
          </a:prstGeom>
          <a:ln w="0">
            <a:noFill/>
          </a:ln>
        </p:spPr>
      </p:pic>
      <p:sp>
        <p:nvSpPr>
          <p:cNvPr id="198" name="Frame 6"/>
          <p:cNvSpPr/>
          <p:nvPr/>
        </p:nvSpPr>
        <p:spPr>
          <a:xfrm>
            <a:off x="4800600" y="4876920"/>
            <a:ext cx="609480" cy="53316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ame 7"/>
          <p:cNvSpPr/>
          <p:nvPr/>
        </p:nvSpPr>
        <p:spPr>
          <a:xfrm>
            <a:off x="4724280" y="5791320"/>
            <a:ext cx="762120" cy="68580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ame 8"/>
          <p:cNvSpPr/>
          <p:nvPr/>
        </p:nvSpPr>
        <p:spPr>
          <a:xfrm>
            <a:off x="4724280" y="4038480"/>
            <a:ext cx="1828800" cy="38124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Frame 9"/>
          <p:cNvSpPr/>
          <p:nvPr/>
        </p:nvSpPr>
        <p:spPr>
          <a:xfrm>
            <a:off x="6934320" y="4038480"/>
            <a:ext cx="1600200" cy="38124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10">
            <a:hlinkClick r:id="rId3"/>
          </p:cNvPr>
          <p:cNvSpPr/>
          <p:nvPr/>
        </p:nvSpPr>
        <p:spPr>
          <a:xfrm>
            <a:off x="54000" y="-1812960"/>
            <a:ext cx="455292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12">
            <a:hlinkClick r:id="rId4"/>
          </p:cNvPr>
          <p:cNvSpPr/>
          <p:nvPr/>
        </p:nvSpPr>
        <p:spPr>
          <a:xfrm>
            <a:off x="54000" y="-1812960"/>
            <a:ext cx="455292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14" descr="https://encrypted-tbn2.gstatic.com/images?q=tbn:ANd9GcR_Vi_1uXXDFVsbQM0C8IybhjiSXzL49_XSVNDz9M_ISq6La7bNv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6200" y="428760"/>
            <a:ext cx="37864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28240" y="380520"/>
            <a:ext cx="4419720" cy="541044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segmental bronch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0 in right lu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 or 9 in the left lu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gin to form by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7th we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surrounding mesenchyme also divid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Each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segmental bronchus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with its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surrounding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mass of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mesenchyme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s the primordium of 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ronchopulmonary seg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Content Placeholder 8" descr="C:\Users\user\Pictures\ffbg.png"/>
          <p:cNvPicPr/>
          <p:nvPr/>
        </p:nvPicPr>
        <p:blipFill>
          <a:blip r:embed="rId1"/>
          <a:stretch/>
        </p:blipFill>
        <p:spPr>
          <a:xfrm>
            <a:off x="4800600" y="1486080"/>
            <a:ext cx="4251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228600" y="1592280"/>
            <a:ext cx="3809880" cy="3933360"/>
          </a:xfrm>
          <a:prstGeom prst="rect">
            <a:avLst/>
          </a:prstGeom>
          <a:noFill/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he lungs develop they acquire a layer of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isceral pleur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planchnic mesenchy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horacic body wall becomes lined by a layer of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parietal pleur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rived from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omatic mesod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2" descr="C:\Documents and Settings\Free User\My Documents\My Pictures\Pleura.bmp"/>
          <p:cNvPicPr/>
          <p:nvPr/>
        </p:nvPicPr>
        <p:blipFill>
          <a:blip r:embed="rId1"/>
          <a:srcRect l="2003" t="1998" r="2003" b="4287"/>
          <a:stretch/>
        </p:blipFill>
        <p:spPr>
          <a:xfrm>
            <a:off x="4419720" y="838080"/>
            <a:ext cx="4308480" cy="3124440"/>
          </a:xfrm>
          <a:prstGeom prst="rect">
            <a:avLst/>
          </a:prstGeom>
          <a:ln w="9360">
            <a:solidFill>
              <a:srgbClr val="00cccc"/>
            </a:solidFill>
            <a:miter/>
          </a:ln>
        </p:spPr>
      </p:pic>
      <p:pic>
        <p:nvPicPr>
          <p:cNvPr id="209" name="Picture 6" descr="C:\Users\user\Pictures\hgfhfgh - Copy.png"/>
          <p:cNvPicPr/>
          <p:nvPr/>
        </p:nvPicPr>
        <p:blipFill>
          <a:blip r:embed="rId2"/>
          <a:srcRect l="3815" t="11635" r="50415" b="9306"/>
          <a:stretch/>
        </p:blipFill>
        <p:spPr>
          <a:xfrm>
            <a:off x="4419720" y="4267080"/>
            <a:ext cx="2514600" cy="2362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:\Users\user\Pictures\hgfhfgh - Copy.png"/>
          <p:cNvPicPr/>
          <p:nvPr/>
        </p:nvPicPr>
        <p:blipFill>
          <a:blip r:embed="rId3"/>
          <a:srcRect l="55101" t="10470" r="1670" b="10470"/>
          <a:stretch/>
        </p:blipFill>
        <p:spPr>
          <a:xfrm>
            <a:off x="7010280" y="4267080"/>
            <a:ext cx="1905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38224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turation of lung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vided in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 period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Pseudoglandul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5 - 17 week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Canalicular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16 - 25 week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Terminal sac     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24 weeks - birt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Alveol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late fetal period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ildhood)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se periods overlap each other because the cranial segments of the lungs mature faster than the caudal 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7" descr="https://encrypted-tbn3.gstatic.com/images?q=tbn:ANd9GcRvYMHRnfUOQ0z6JjQSRGmWqZzCE3dFu7FtdmXnPD1PftFSSFp_Ig"/>
          <p:cNvPicPr/>
          <p:nvPr/>
        </p:nvPicPr>
        <p:blipFill>
          <a:blip r:embed="rId1"/>
          <a:srcRect l="0" t="0" r="0" b="29041"/>
          <a:stretch/>
        </p:blipFill>
        <p:spPr>
          <a:xfrm>
            <a:off x="304920" y="4419720"/>
            <a:ext cx="5410080" cy="2057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http://learninggnm.com/extimages/Lung%20Alveoli%20Website.jpg"/>
          <p:cNvPicPr/>
          <p:nvPr/>
        </p:nvPicPr>
        <p:blipFill>
          <a:blip r:embed="rId2"/>
          <a:stretch/>
        </p:blipFill>
        <p:spPr>
          <a:xfrm>
            <a:off x="6095880" y="4181400"/>
            <a:ext cx="2648160" cy="2600280"/>
          </a:xfrm>
          <a:prstGeom prst="rect">
            <a:avLst/>
          </a:prstGeom>
          <a:ln w="0">
            <a:noFill/>
          </a:ln>
        </p:spPr>
      </p:pic>
      <p:grpSp>
        <p:nvGrpSpPr>
          <p:cNvPr id="214" name="Rectangle 2"/>
          <p:cNvGrpSpPr/>
          <p:nvPr/>
        </p:nvGrpSpPr>
        <p:grpSpPr>
          <a:xfrm>
            <a:off x="-79200" y="-73080"/>
            <a:ext cx="9259560" cy="908280"/>
            <a:chOff x="-79200" y="-73080"/>
            <a:chExt cx="9259560" cy="908280"/>
          </a:xfrm>
        </p:grpSpPr>
        <p:pic>
          <p:nvPicPr>
            <p:cNvPr id="215" name="Rectangle 2" descr=""/>
            <p:cNvPicPr/>
            <p:nvPr/>
          </p:nvPicPr>
          <p:blipFill>
            <a:blip r:embed="rId3"/>
            <a:stretch/>
          </p:blipFill>
          <p:spPr>
            <a:xfrm>
              <a:off x="-79200" y="-73080"/>
              <a:ext cx="925956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-1764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aturation of the Lung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51920" y="1447560"/>
            <a:ext cx="4953240" cy="472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veloping lungs somewhat resembles an exocrine gland during this peri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7 week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 major elements of the lung have form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cept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those involved with gas exchange (alveol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piration is </a:t>
            </a:r>
            <a:r>
              <a:rPr b="1" lang="en-US" sz="2800" spc="-1" strike="noStrike" u="sng">
                <a:solidFill>
                  <a:srgbClr val="ff66ff"/>
                </a:solidFill>
                <a:uFillTx/>
                <a:latin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Fetuse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born during this period ar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unable to surv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5" descr="C:\Users\user\Pictures\zz.png"/>
          <p:cNvPicPr/>
          <p:nvPr/>
        </p:nvPicPr>
        <p:blipFill>
          <a:blip r:embed="rId1"/>
          <a:srcRect l="0" t="5700" r="8269" b="0"/>
          <a:stretch/>
        </p:blipFill>
        <p:spPr>
          <a:xfrm>
            <a:off x="5334120" y="1976400"/>
            <a:ext cx="3657600" cy="2976480"/>
          </a:xfrm>
          <a:prstGeom prst="rect">
            <a:avLst/>
          </a:prstGeom>
          <a:ln w="0">
            <a:noFill/>
          </a:ln>
        </p:spPr>
      </p:pic>
      <p:grpSp>
        <p:nvGrpSpPr>
          <p:cNvPr id="219" name="Rectangle 2"/>
          <p:cNvGrpSpPr/>
          <p:nvPr/>
        </p:nvGrpSpPr>
        <p:grpSpPr>
          <a:xfrm>
            <a:off x="-79200" y="-73080"/>
            <a:ext cx="9259560" cy="908280"/>
            <a:chOff x="-79200" y="-73080"/>
            <a:chExt cx="9259560" cy="908280"/>
          </a:xfrm>
        </p:grpSpPr>
        <p:pic>
          <p:nvPicPr>
            <p:cNvPr id="220" name="Rectangle 2" descr=""/>
            <p:cNvPicPr/>
            <p:nvPr/>
          </p:nvPicPr>
          <p:blipFill>
            <a:blip r:embed="rId2"/>
            <a:stretch/>
          </p:blipFill>
          <p:spPr>
            <a:xfrm>
              <a:off x="-79200" y="-73080"/>
              <a:ext cx="925956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-1764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060"/>
                  </a:solidFill>
                  <a:latin typeface="Times New Roman"/>
                </a:rPr>
                <a:t>Pseudoglandular Period (5-17 weeks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Rectangle 2"/>
          <p:cNvGrpSpPr/>
          <p:nvPr/>
        </p:nvGrpSpPr>
        <p:grpSpPr>
          <a:xfrm>
            <a:off x="-60480" y="-73080"/>
            <a:ext cx="9259920" cy="908280"/>
            <a:chOff x="-60480" y="-73080"/>
            <a:chExt cx="9259920" cy="908280"/>
          </a:xfrm>
        </p:grpSpPr>
        <p:pic>
          <p:nvPicPr>
            <p:cNvPr id="223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73080"/>
              <a:ext cx="925992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060"/>
                  </a:solidFill>
                  <a:latin typeface="Times New Roman"/>
                </a:rPr>
                <a:t>Canalicular Period (16-25 weeks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51920" y="1523520"/>
            <a:ext cx="4876920" cy="480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ng tissue become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ighly vas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mina of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ronch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erminal bronchiol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om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4 week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erminal bronchio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given ri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wo or more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respiratory bronchi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spiratory bronchiol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vid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o 3 to 6 tubular passages called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alveolar du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Som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n-walled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terminal sacs (primordial alveoli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 the end of respiratory bronchi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5" descr="C:\Users\user\Pictures\xzc.png"/>
          <p:cNvPicPr/>
          <p:nvPr/>
        </p:nvPicPr>
        <p:blipFill>
          <a:blip r:embed="rId2"/>
          <a:srcRect l="5717" t="0" r="0" b="0"/>
          <a:stretch/>
        </p:blipFill>
        <p:spPr>
          <a:xfrm>
            <a:off x="5334120" y="990720"/>
            <a:ext cx="3195360" cy="2590560"/>
          </a:xfrm>
          <a:prstGeom prst="rect">
            <a:avLst/>
          </a:prstGeom>
          <a:ln w="0">
            <a:noFill/>
          </a:ln>
        </p:spPr>
      </p:pic>
      <p:sp>
        <p:nvSpPr>
          <p:cNvPr id="227" name="Content Placeholder 3"/>
          <p:cNvSpPr/>
          <p:nvPr/>
        </p:nvSpPr>
        <p:spPr>
          <a:xfrm>
            <a:off x="5105520" y="3733920"/>
            <a:ext cx="3809880" cy="274320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ffff"/>
                </a:solidFill>
                <a:latin typeface="Times New Roman"/>
              </a:rPr>
              <a:t>Respiration is possible at the end of this peri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Fetu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born at the end of this period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may surviv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f given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intensive car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but 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Times New Roman"/>
              </a:rPr>
              <a:t>usually di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ecause of the immaturity of respiratory as well as other system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Frame 5"/>
          <p:cNvSpPr/>
          <p:nvPr/>
        </p:nvSpPr>
        <p:spPr>
          <a:xfrm>
            <a:off x="5334120" y="2362320"/>
            <a:ext cx="685800" cy="38088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Frame 6"/>
          <p:cNvSpPr/>
          <p:nvPr/>
        </p:nvSpPr>
        <p:spPr>
          <a:xfrm>
            <a:off x="5334120" y="1905120"/>
            <a:ext cx="685800" cy="45720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Frame 7"/>
          <p:cNvSpPr/>
          <p:nvPr/>
        </p:nvSpPr>
        <p:spPr>
          <a:xfrm>
            <a:off x="7696080" y="990720"/>
            <a:ext cx="762120" cy="22860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Rectangle 2"/>
          <p:cNvGrpSpPr/>
          <p:nvPr/>
        </p:nvGrpSpPr>
        <p:grpSpPr>
          <a:xfrm>
            <a:off x="-60480" y="-36360"/>
            <a:ext cx="9259920" cy="950760"/>
            <a:chOff x="-60480" y="-36360"/>
            <a:chExt cx="9259920" cy="950760"/>
          </a:xfrm>
        </p:grpSpPr>
        <p:pic>
          <p:nvPicPr>
            <p:cNvPr id="232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060"/>
                  </a:solidFill>
                  <a:latin typeface="Times New Roman"/>
                </a:rPr>
                <a:t>Terminal Sac Period (24 weeks - birth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75960" y="990360"/>
            <a:ext cx="5562360" cy="5562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Many mor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erminal sacs develo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pithelium becomes very th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apillarie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eg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o bulge into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veloping alveol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47ffff"/>
                </a:solidFill>
                <a:latin typeface="Times New Roman"/>
              </a:rPr>
              <a:t>epitheli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ls of the 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alveol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0" lang="en-US" sz="2800" spc="-1" strike="noStrike">
                <a:solidFill>
                  <a:srgbClr val="47ffff"/>
                </a:solidFill>
                <a:latin typeface="Times New Roman"/>
              </a:rPr>
              <a:t>endotheli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ls of the 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capillari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in intimate contact and establish the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blood-air barr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dequate gas exchang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n occur which allows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prematurely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orn fetus to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rv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5" descr="C:\Users\user\Pictures\asas.png"/>
          <p:cNvPicPr/>
          <p:nvPr/>
        </p:nvPicPr>
        <p:blipFill>
          <a:blip r:embed="rId2"/>
          <a:srcRect l="2377" t="2237" r="3967" b="2237"/>
          <a:stretch/>
        </p:blipFill>
        <p:spPr>
          <a:xfrm>
            <a:off x="5715000" y="2193840"/>
            <a:ext cx="33526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Rectangle 2"/>
          <p:cNvGrpSpPr/>
          <p:nvPr/>
        </p:nvGrpSpPr>
        <p:grpSpPr>
          <a:xfrm>
            <a:off x="-60480" y="-73080"/>
            <a:ext cx="9259920" cy="908280"/>
            <a:chOff x="-60480" y="-73080"/>
            <a:chExt cx="9259920" cy="908280"/>
          </a:xfrm>
        </p:grpSpPr>
        <p:pic>
          <p:nvPicPr>
            <p:cNvPr id="237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73080"/>
              <a:ext cx="925992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b"/>
                  </a:solidFill>
                  <a:latin typeface="Times New Roman"/>
                </a:rPr>
                <a:t>Alveolar Period (32 weeks – 8 years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 txBox="1"/>
          <p:nvPr/>
        </p:nvSpPr>
        <p:spPr>
          <a:xfrm>
            <a:off x="76320" y="928800"/>
            <a:ext cx="5333760" cy="3571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the beginning of the alveolar period,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each respiratory bronchio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rm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a cluster of thin-walle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erminal saccul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parated from one another by loose connective tiss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terminal saccu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pres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ture alveolar sac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6" descr="65FD5C54"/>
          <p:cNvPicPr/>
          <p:nvPr/>
        </p:nvPicPr>
        <p:blipFill>
          <a:blip r:embed="rId2"/>
          <a:srcRect l="18572" t="13219" r="52797" b="44746"/>
          <a:stretch/>
        </p:blipFill>
        <p:spPr>
          <a:xfrm>
            <a:off x="5638680" y="92880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https://encrypted-tbn0.gstatic.com/images?q=tbn:ANd9GcRkgfu3cOqLN5vWBKX_vFxbIbXmLhAnVJXilbp4o0iSQeic9a--">
            <a:hlinkClick r:id="rId3"/>
          </p:cNvPr>
          <p:cNvPicPr/>
          <p:nvPr/>
        </p:nvPicPr>
        <p:blipFill>
          <a:blip r:embed="rId4"/>
          <a:srcRect l="0" t="15079" r="39501" b="3896"/>
          <a:stretch/>
        </p:blipFill>
        <p:spPr>
          <a:xfrm>
            <a:off x="6072120" y="3357720"/>
            <a:ext cx="2714760" cy="3071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https://www.rsvprotection.com/_assets/images/fullterm-preterm-lungs.jpg"/>
          <p:cNvPicPr/>
          <p:nvPr/>
        </p:nvPicPr>
        <p:blipFill>
          <a:blip r:embed="rId5"/>
          <a:stretch/>
        </p:blipFill>
        <p:spPr>
          <a:xfrm>
            <a:off x="285840" y="4572000"/>
            <a:ext cx="50576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At the end of the lecture the students should be abl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the development of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laryngeotracheal (respiratory) diverticulum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the development of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larynx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the development of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rach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the development of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bronchi &amp; Lu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cribe the periods of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aturation of the lu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ost congenital anomal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457200" y="533520"/>
            <a:ext cx="4191120" cy="3200400"/>
          </a:xfrm>
          <a:prstGeom prst="rect">
            <a:avLst/>
          </a:prstGeom>
          <a:solidFill>
            <a:srgbClr val="7030a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haracteristic mature alveoli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o not form until after birth.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95% of alveoli develop postnatal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About 50 million alveoli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sixth of the adult number are present in the lungs of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ll-term newborn infa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80880" y="3962520"/>
            <a:ext cx="8077320" cy="1904760"/>
          </a:xfrm>
          <a:prstGeom prst="rect">
            <a:avLst/>
          </a:prstGeom>
          <a:solidFill>
            <a:srgbClr val="7030a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om 3-8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e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r so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 number of alveoli continues to increase, forming additional primordial alveol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about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ighth ye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the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dult complement of 300 million alveoli is pres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8" descr="https://encrypted-tbn0.gstatic.com/images?q=tbn:ANd9GcRkgfu3cOqLN5vWBKX_vFxbIbXmLhAnVJXilbp4o0iSQeic9a--"/>
          <p:cNvPicPr/>
          <p:nvPr/>
        </p:nvPicPr>
        <p:blipFill>
          <a:blip r:embed="rId1"/>
          <a:srcRect l="0" t="15079" r="39501" b="3896"/>
          <a:stretch/>
        </p:blipFill>
        <p:spPr>
          <a:xfrm>
            <a:off x="5286240" y="714240"/>
            <a:ext cx="27147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124440" cy="5181480"/>
          </a:xfrm>
          <a:prstGeom prst="rect">
            <a:avLst/>
          </a:prstGeom>
          <a:solidFill>
            <a:srgbClr val="7030a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Breathing Mov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cu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efore bir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r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t continuou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crease as the time of delivery approach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p in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ditioning the respiratory musc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imulate lung developme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ar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sential for normal lung develop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3352680" y="228600"/>
            <a:ext cx="5639040" cy="3733920"/>
          </a:xfrm>
          <a:prstGeom prst="rect">
            <a:avLst/>
          </a:prstGeom>
          <a:solidFill>
            <a:srgbClr val="7030a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Lungs at bi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47ffff"/>
                </a:solidFill>
                <a:latin typeface="Times New Roman"/>
              </a:rPr>
              <a:t>lungs are half fille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luid derived from th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amniotic flui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d from the lungs &amp; tracheal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gl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fluid in the lungs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leared at bir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b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sure on the fetal thora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delive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sorption int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ulmonary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pillaries and lymphat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4267080" cy="3581640"/>
          </a:xfrm>
          <a:prstGeom prst="rect">
            <a:avLst/>
          </a:prstGeom>
          <a:solidFill>
            <a:srgbClr val="7030a0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Factors important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normal lung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dequate thoracic spac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lung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etal breathing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dequate amniotic flu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4724280" y="1066680"/>
            <a:ext cx="4191120" cy="5181840"/>
          </a:xfrm>
          <a:prstGeom prst="rect">
            <a:avLst/>
          </a:prstGeom>
          <a:solidFill>
            <a:srgbClr val="7030a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Developmental anoma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yngeal atres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Tracheoesophageal fistu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cheal stenosis &amp; atres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genital lung cy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esis of lu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ng hypoplas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ory lu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Rectangle 2"/>
          <p:cNvGrpSpPr/>
          <p:nvPr/>
        </p:nvGrpSpPr>
        <p:grpSpPr>
          <a:xfrm>
            <a:off x="-60480" y="-115920"/>
            <a:ext cx="9259920" cy="878040"/>
            <a:chOff x="-60480" y="-115920"/>
            <a:chExt cx="9259920" cy="878040"/>
          </a:xfrm>
        </p:grpSpPr>
        <p:pic>
          <p:nvPicPr>
            <p:cNvPr id="251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115920"/>
              <a:ext cx="92599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haroni"/>
                </a:rPr>
                <a:t>Tracheoesophageal Fistula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 txBox="1"/>
          <p:nvPr/>
        </p:nvSpPr>
        <p:spPr>
          <a:xfrm>
            <a:off x="228240" y="914400"/>
            <a:ext cx="4724280" cy="5105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bnormal passag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tween the trachea and esophag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ults from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complete divis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 the cranial part of the foregut into respiratory and esophageal part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s once in 3000 to 4500 live bir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st affected infants ar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more tha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85% of cases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istula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sociated with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esophageal atresia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ophagus ends in a blind-ended pouch rather than connecting normally to the stomach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5" descr="C:\Users\user\Pictures\xcvbnm - Copy.png"/>
          <p:cNvPicPr/>
          <p:nvPr/>
        </p:nvPicPr>
        <p:blipFill>
          <a:blip r:embed="rId2"/>
          <a:srcRect l="0" t="0" r="15795" b="0"/>
          <a:stretch/>
        </p:blipFill>
        <p:spPr>
          <a:xfrm>
            <a:off x="5029200" y="914400"/>
            <a:ext cx="297180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Snap ITC"/>
              </a:rPr>
              <a:t>Thank You</a:t>
            </a:r>
            <a:endParaRPr b="0" lang="en-US" sz="8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Rectangle 2"/>
          <p:cNvGrpSpPr/>
          <p:nvPr/>
        </p:nvGrpSpPr>
        <p:grpSpPr>
          <a:xfrm>
            <a:off x="-60480" y="-60480"/>
            <a:ext cx="9259920" cy="895680"/>
            <a:chOff x="-60480" y="-60480"/>
            <a:chExt cx="9259920" cy="895680"/>
          </a:xfrm>
        </p:grpSpPr>
        <p:pic>
          <p:nvPicPr>
            <p:cNvPr id="158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60480"/>
              <a:ext cx="9259920" cy="8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Respiratory System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pper respiratory tra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al cavity &amp; paranasal sin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ryn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ower respiratory tra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yn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ch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nch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C:\Documents and Settings\Free User\My Documents\My Pictures\fcdf.jpg"/>
          <p:cNvPicPr/>
          <p:nvPr/>
        </p:nvPicPr>
        <p:blipFill>
          <a:blip r:embed="rId2"/>
          <a:stretch/>
        </p:blipFill>
        <p:spPr>
          <a:xfrm>
            <a:off x="4724280" y="1295280"/>
            <a:ext cx="4132440" cy="4572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6705720" y="1600200"/>
            <a:ext cx="1981080" cy="1295280"/>
          </a:xfrm>
          <a:prstGeom prst="rect">
            <a:avLst/>
          </a:prstGeom>
          <a:solidFill>
            <a:srgbClr val="00cccc">
              <a:alpha val="8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705720" y="2971800"/>
            <a:ext cx="1981080" cy="2666880"/>
          </a:xfrm>
          <a:prstGeom prst="rect">
            <a:avLst/>
          </a:prstGeom>
          <a:solidFill>
            <a:srgbClr val="ff0000">
              <a:alpha val="1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Rectangle 1026"/>
          <p:cNvGrpSpPr/>
          <p:nvPr/>
        </p:nvGrpSpPr>
        <p:grpSpPr>
          <a:xfrm>
            <a:off x="-176040" y="-115920"/>
            <a:ext cx="9521640" cy="878040"/>
            <a:chOff x="-176040" y="-115920"/>
            <a:chExt cx="9521640" cy="878040"/>
          </a:xfrm>
        </p:grpSpPr>
        <p:pic>
          <p:nvPicPr>
            <p:cNvPr id="165" name="Rectangle 1026" descr=""/>
            <p:cNvPicPr/>
            <p:nvPr/>
          </p:nvPicPr>
          <p:blipFill>
            <a:blip r:embed="rId1"/>
            <a:stretch/>
          </p:blipFill>
          <p:spPr>
            <a:xfrm>
              <a:off x="-176040" y="-115920"/>
              <a:ext cx="95216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Development of the Lower Respiratory Trac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4267080" cy="502920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s to form during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wee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s as a median outgrowth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laryngotracheal groove)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caudal par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entral wal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primitive pharyn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oove envaginates and forms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ryngotracheal (respiratory) diverticul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C:\Users\user\Pictures\sed.png"/>
          <p:cNvPicPr/>
          <p:nvPr/>
        </p:nvPicPr>
        <p:blipFill>
          <a:blip r:embed="rId2"/>
          <a:srcRect l="0" t="17909" r="0" b="14431"/>
          <a:stretch/>
        </p:blipFill>
        <p:spPr>
          <a:xfrm>
            <a:off x="4800600" y="1143000"/>
            <a:ext cx="4019400" cy="2971800"/>
          </a:xfrm>
          <a:prstGeom prst="rect">
            <a:avLst/>
          </a:prstGeom>
          <a:ln w="9360">
            <a:solidFill>
              <a:srgbClr val="00cccc"/>
            </a:solidFill>
            <a:miter/>
          </a:ln>
        </p:spPr>
      </p:pic>
      <p:sp>
        <p:nvSpPr>
          <p:cNvPr id="169" name="Rectangle 1"/>
          <p:cNvSpPr/>
          <p:nvPr/>
        </p:nvSpPr>
        <p:spPr>
          <a:xfrm>
            <a:off x="4876920" y="12952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1920" y="762120"/>
            <a:ext cx="3962520" cy="502920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ongitudinal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racheo-esophageal sept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velops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vid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verticulu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o 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rsal por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primordium of the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oropharynx and esophag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ntral por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primordium of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larynx, trachea, bronchi and lu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4" descr="C:\Users\user\Pictures\cdcd.png"/>
          <p:cNvPicPr/>
          <p:nvPr/>
        </p:nvPicPr>
        <p:blipFill>
          <a:blip r:embed="rId1"/>
          <a:srcRect l="0" t="6754" r="4025" b="3799"/>
          <a:stretch/>
        </p:blipFill>
        <p:spPr>
          <a:xfrm>
            <a:off x="4343400" y="1523880"/>
            <a:ext cx="4411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28240" y="761760"/>
            <a:ext cx="3962520" cy="525780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The proximal par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piratory diverticul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mains tubular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forms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laryn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&amp;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trache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The distal e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diverticulum dilates to form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lung bu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divides to give rise to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ung buds (primary bronchial bu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C:\Users\user\Pictures\cdcd.png"/>
          <p:cNvPicPr/>
          <p:nvPr/>
        </p:nvPicPr>
        <p:blipFill>
          <a:blip r:embed="rId1"/>
          <a:srcRect l="0" t="6754" r="4025" b="3799"/>
          <a:stretch/>
        </p:blipFill>
        <p:spPr>
          <a:xfrm>
            <a:off x="4267080" y="1523880"/>
            <a:ext cx="4411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03848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4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ffff"/>
                </a:solidFill>
                <a:latin typeface="Times New Roman"/>
              </a:rPr>
              <a:t>endoderm</a:t>
            </a:r>
            <a:r>
              <a:rPr b="0" lang="en-US" sz="3200" spc="-1" strike="noStrike">
                <a:solidFill>
                  <a:srgbClr val="47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ing th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laryngotracheal diverticulu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ives rise t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Epithelium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 &amp;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Glands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the respiratory 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rrounding </a:t>
            </a:r>
            <a:r>
              <a:rPr b="1" lang="en-US" sz="3200" spc="-1" strike="noStrike">
                <a:solidFill>
                  <a:srgbClr val="47ffff"/>
                </a:solidFill>
                <a:latin typeface="Times New Roman"/>
              </a:rPr>
              <a:t>splanchnic mesoderm</a:t>
            </a:r>
            <a:r>
              <a:rPr b="0" lang="en-US" sz="3200" spc="-1" strike="noStrike">
                <a:solidFill>
                  <a:srgbClr val="47ffff"/>
                </a:solidFill>
                <a:latin typeface="Times New Roman"/>
              </a:rPr>
              <a:t>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ives rise t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Connective tissue, Cartilag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amp;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Smooth muscl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the respiratory 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ectangle 2"/>
          <p:cNvGrpSpPr/>
          <p:nvPr/>
        </p:nvGrpSpPr>
        <p:grpSpPr>
          <a:xfrm>
            <a:off x="-60480" y="-115920"/>
            <a:ext cx="9259920" cy="878040"/>
            <a:chOff x="-60480" y="-115920"/>
            <a:chExt cx="9259920" cy="878040"/>
          </a:xfrm>
        </p:grpSpPr>
        <p:pic>
          <p:nvPicPr>
            <p:cNvPr id="176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115920"/>
              <a:ext cx="92599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evelopment of the Larynx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533376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opening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ryngotracheal diverticulu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o the primitive foregu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ecom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laryngeal ori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pithelium &amp; gland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derived from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endoder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yngeal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scl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&amp;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rtilag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larynx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xcept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Epiglott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t develop from the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mesoderm of 4</a:t>
            </a:r>
            <a:r>
              <a:rPr b="1" lang="en-US" sz="2800" spc="-1" strike="noStrike" baseline="30000">
                <a:solidFill>
                  <a:srgbClr val="ff66ff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amp;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800" spc="-1" strike="noStrike" baseline="30000">
                <a:solidFill>
                  <a:srgbClr val="ff66ff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pairs of pharyngeal arch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6" descr="C:\Users\user\Pictures\sfdfdgdf - Copy.png"/>
          <p:cNvPicPr/>
          <p:nvPr/>
        </p:nvPicPr>
        <p:blipFill>
          <a:blip r:embed="rId2"/>
          <a:stretch/>
        </p:blipFill>
        <p:spPr>
          <a:xfrm>
            <a:off x="4968720" y="1752480"/>
            <a:ext cx="4023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28240" y="1143000"/>
            <a:ext cx="4419720" cy="548640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laryngeal epithel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liferates rapidly resulting in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temporary occlusi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the laryngeal lu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canal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larynx normally occurs by 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yngeal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ventricl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vocal fold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vestibular fold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formed during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canalizatio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4" descr="C:\Documents and Settings\Free User\My Documents\My Pictures\Copy of Gray954.png"/>
          <p:cNvPicPr/>
          <p:nvPr/>
        </p:nvPicPr>
        <p:blipFill>
          <a:blip r:embed="rId1"/>
          <a:stretch/>
        </p:blipFill>
        <p:spPr>
          <a:xfrm>
            <a:off x="4800600" y="762120"/>
            <a:ext cx="3657600" cy="5883120"/>
          </a:xfrm>
          <a:prstGeom prst="rect">
            <a:avLst/>
          </a:prstGeom>
          <a:ln w="9360">
            <a:solidFill>
              <a:srgbClr val="00cccc"/>
            </a:solidFill>
            <a:miter/>
          </a:ln>
        </p:spPr>
      </p:pic>
      <p:sp>
        <p:nvSpPr>
          <p:cNvPr id="182" name="Text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analization of laryn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07:22:38Z</dcterms:created>
  <dc:creator>Dr. Zeenat Zaidi</dc:creator>
  <dc:description/>
  <dc:language>en-US</dc:language>
  <cp:lastModifiedBy>user</cp:lastModifiedBy>
  <dcterms:modified xsi:type="dcterms:W3CDTF">2015-01-26T18:09:00Z</dcterms:modified>
  <cp:revision>236</cp:revision>
  <dc:subject>Embryology</dc:subject>
  <dc:title>Development of Respiratory System</dc:title>
</cp:coreProperties>
</file>