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ADD-EB26-454C-8D10-3D9063A5E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4CEA-9CC1-497E-B08D-5C8FD8D4E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BB9B-002D-4D38-BEB3-E79CE8E0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BB0-3FBD-49A1-84E6-60B56A2F4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3CF-B2B2-4BB8-80BF-15242FF3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658A-85E5-4D23-9935-1C1C80A4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F70C-D66D-46B0-8521-6D83C93D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DCF1-DCA2-4734-B146-633FDE4D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DCF-647B-4256-82E7-E58EC0E3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27C8-053D-412A-8952-D8723B10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338-0AF4-4442-BF12-597D0A65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7E2-43F1-48E7-B70F-F667866B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04AB-F0EA-4473-A8CA-F587BCB8A5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istology of the Upper Respiratory Tract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Nasal cavity, Paranasal sinuses and Larynx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045800" y="990720"/>
            <a:ext cx="732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RESPIRATORY SYSTEM ( I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Extrinsic and intrinsic muscles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art-mo3013"/>
          <p:cNvPicPr/>
          <p:nvPr/>
        </p:nvPicPr>
        <p:blipFill>
          <a:blip r:embed="rId1"/>
          <a:stretch/>
        </p:blipFill>
        <p:spPr>
          <a:xfrm>
            <a:off x="6477120" y="0"/>
            <a:ext cx="2666880" cy="2182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Larynx"/>
          <p:cNvPicPr/>
          <p:nvPr/>
        </p:nvPicPr>
        <p:blipFill>
          <a:blip r:embed="rId2"/>
          <a:stretch/>
        </p:blipFill>
        <p:spPr>
          <a:xfrm>
            <a:off x="5791320" y="4889520"/>
            <a:ext cx="3352680" cy="19684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Resp04s"/>
          <p:cNvPicPr/>
          <p:nvPr/>
        </p:nvPicPr>
        <p:blipFill>
          <a:blip r:embed="rId3"/>
          <a:stretch/>
        </p:blipFill>
        <p:spPr>
          <a:xfrm>
            <a:off x="6019920" y="2209680"/>
            <a:ext cx="3124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thelium: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2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Respiratory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stratified ciliated columnar epithel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goblet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Non keratinized stratified squamous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:    -Vocal fo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 Superior surface of epiglott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Resp04s"/>
          <p:cNvPicPr/>
          <p:nvPr/>
        </p:nvPicPr>
        <p:blipFill>
          <a:blip r:embed="rId1"/>
          <a:stretch/>
        </p:blipFill>
        <p:spPr>
          <a:xfrm>
            <a:off x="4952880" y="3892680"/>
            <a:ext cx="41911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re are 2 pairs of shelf-like mucosal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Vestibular fol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immov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/M: a-  Respiratory epithel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ose C.T. with seromucous gl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hoid elements &amp; adipose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VOCAL FOLDS (CORDS):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Epithelium: non keratinized stratified squam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Lamina propria: C.T. containing bundles of  elastic    fibers and skeletal muscl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.B. No lymphoid nodul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en-US" sz="24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No seromucous gl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134"/>
          <p:cNvPicPr/>
          <p:nvPr/>
        </p:nvPicPr>
        <p:blipFill>
          <a:blip r:embed="rId1"/>
          <a:stretch/>
        </p:blipFill>
        <p:spPr>
          <a:xfrm>
            <a:off x="6705720" y="762120"/>
            <a:ext cx="243828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229600" cy="57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B)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.g.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yroid carti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Elastic cartil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glot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C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Muscle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are skele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D) Ligam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Larynx"/>
          <p:cNvPicPr/>
          <p:nvPr/>
        </p:nvPicPr>
        <p:blipFill>
          <a:blip r:embed="rId1"/>
          <a:stretch/>
        </p:blipFill>
        <p:spPr>
          <a:xfrm>
            <a:off x="4600440" y="4191120"/>
            <a:ext cx="454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EPITHEL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</a:t>
            </a:r>
            <a:r>
              <a:rPr b="1" lang="en-US" sz="3200" spc="-1" strike="noStrike">
                <a:solidFill>
                  <a:srgbClr val="b9ece1"/>
                </a:solidFill>
                <a:latin typeface="Times New Roman"/>
                <a:ea typeface="Times New Roman"/>
              </a:rPr>
              <a:t>with goblet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in Types of cell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 all touch the basement membra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Ciliated columnar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oblet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are stem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Diffuse neuro-endocrine system (DNES) cells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.g.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rotonin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FE2122D2"/>
          <p:cNvPicPr/>
          <p:nvPr/>
        </p:nvPicPr>
        <p:blipFill>
          <a:blip r:embed="rId1"/>
          <a:srcRect l="32845" t="40339" r="11394" b="32773"/>
          <a:stretch/>
        </p:blipFill>
        <p:spPr>
          <a:xfrm>
            <a:off x="5334120" y="4218120"/>
            <a:ext cx="3809880" cy="263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retmc"/>
          <p:cNvPicPr/>
          <p:nvPr/>
        </p:nvPicPr>
        <p:blipFill>
          <a:blip r:embed="rId2"/>
          <a:stretch/>
        </p:blipFill>
        <p:spPr>
          <a:xfrm>
            <a:off x="304920" y="4572000"/>
            <a:ext cx="4038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90880"/>
            <a:ext cx="822960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Program Files (x86)\Microsoft Office\MEDIA\CAGCAT10\j0284916.jpg"/>
          <p:cNvPicPr/>
          <p:nvPr/>
        </p:nvPicPr>
        <p:blipFill>
          <a:blip r:embed="rId1"/>
          <a:stretch/>
        </p:blipFill>
        <p:spPr>
          <a:xfrm>
            <a:off x="2819520" y="5335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838080"/>
            <a:ext cx="868680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bj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y the end of this lecture the student should be able to describe the microscopic struc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f the nasal cav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septum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mucosa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of the nasal ca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of the paranasal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in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ryn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ducting por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Nas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Nasoph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Laryn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Trach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- Primary bronchi (extrapulmonary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- Intrapulmonary bronch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2ry bronchi (lobar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 3ry bronchi  (segmental bronch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- Primary bronchioles (preterminal bronchio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- Terminal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-780120">
              <a:lnSpc>
                <a:spcPct val="100000"/>
              </a:lnSpc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por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Respiratory 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 Alveolar duct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 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Pulmonary alveo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8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17_01"/>
          <p:cNvPicPr/>
          <p:nvPr/>
        </p:nvPicPr>
        <p:blipFill>
          <a:blip r:embed="rId1"/>
          <a:stretch/>
        </p:blipFill>
        <p:spPr>
          <a:xfrm>
            <a:off x="7162920" y="990720"/>
            <a:ext cx="1981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ASAL CAVITY (N.C.)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erior portion of N.C.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2) Posterior portion of N.C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- 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.B. The nasal septum divides the nasal cavity into two halves (right and lef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art-mo3013"/>
          <p:cNvPicPr/>
          <p:nvPr/>
        </p:nvPicPr>
        <p:blipFill>
          <a:blip r:embed="rId1"/>
          <a:stretch/>
        </p:blipFill>
        <p:spPr>
          <a:xfrm>
            <a:off x="5486400" y="1066680"/>
            <a:ext cx="3657600" cy="29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STIBULE OF N.C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is lined with thin sk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Epidermi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Keratinized stratified Squamous epitheli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Der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ents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brissa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stiff hai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Sebaceous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Sweat gl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al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yaline carti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ancellous (spongy) b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SPIRATORY  REGION (AREA) OF NASAL CAVITY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COSA (MUCOUS MEMBRAN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A)  Epitheli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iliated columnar epithelium with goblet cells (Respiratory epitheliu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mina propria ( Sub-epithelial C.T.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 Large arterial plexuse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ous sin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Highly vascularized C.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Many seromucous glands (ac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-  Abundant lymphoid el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cluding occasional lymphoid nodu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sma cells &amp; mast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reignm"/>
          <p:cNvPicPr/>
          <p:nvPr/>
        </p:nvPicPr>
        <p:blipFill>
          <a:blip r:embed="rId1"/>
          <a:stretch/>
        </p:blipFill>
        <p:spPr>
          <a:xfrm>
            <a:off x="5791320" y="2347920"/>
            <a:ext cx="3352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ANASAL SIN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ining: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 Respiratory epith. (Mention…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Lamina prop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INICAL APPL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nusit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17_02"/>
          <p:cNvPicPr/>
          <p:nvPr/>
        </p:nvPicPr>
        <p:blipFill>
          <a:blip r:embed="rId1"/>
          <a:stretch/>
        </p:blipFill>
        <p:spPr>
          <a:xfrm>
            <a:off x="3581280" y="3330720"/>
            <a:ext cx="5562720" cy="3527280"/>
          </a:xfrm>
          <a:prstGeom prst="rect">
            <a:avLst/>
          </a:prstGeom>
          <a:ln w="0">
            <a:noFill/>
          </a:ln>
        </p:spPr>
      </p:pic>
      <p:cxnSp>
        <p:nvCxnSpPr>
          <p:cNvPr id="58" name="Straight Arrow Connector 5"/>
          <p:cNvCxnSpPr/>
          <p:nvPr/>
        </p:nvCxnSpPr>
        <p:spPr>
          <a:xfrm>
            <a:off x="5561640" y="2057040"/>
            <a:ext cx="68652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REGION (AREA) OF NASAL CAVITY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MUCO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te: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1-Roof of nasal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Upper part of nasal sept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over superior conch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truc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-4384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seudo-stratified columnar epitheli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olfactory nerve cell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supporting)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al cells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yramidal in shape, basal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sition and act as stem cel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B)     Lamina propria: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tai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- Highly (richly) vascularized loose to dense C.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- Cont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) Bowman’s glands ( olfactory glands) : are serous ac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) Bundles of unmyelinated nerve fi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axons of olfactory nerve cells + Schwann-like cells (glial cell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) Rich vascular plex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) Numerous lymphoid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17_05"/>
          <p:cNvPicPr/>
          <p:nvPr/>
        </p:nvPicPr>
        <p:blipFill>
          <a:blip r:embed="rId1"/>
          <a:stretch/>
        </p:blipFill>
        <p:spPr>
          <a:xfrm>
            <a:off x="5334120" y="1066680"/>
            <a:ext cx="38098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EPITHEL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-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factory cel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polar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ndri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has olfactory vesicle that has non-motile  ci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are unmyelinated with Schwann-like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xons will collect in the lamina propria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of nerve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undles will collect to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olfactory ner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24280"/>
            <a:ext cx="914400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ustentacular (supporting) ce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e columnar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n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hysical support and nourishment for olfactory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creomlm"/>
          <p:cNvPicPr/>
          <p:nvPr/>
        </p:nvPicPr>
        <p:blipFill>
          <a:blip r:embed="rId1"/>
          <a:srcRect l="0" t="19597" r="0" b="0"/>
          <a:stretch/>
        </p:blipFill>
        <p:spPr>
          <a:xfrm>
            <a:off x="4952880" y="2895480"/>
            <a:ext cx="365760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06:09:20Z</dcterms:created>
  <dc:creator>Aly Mohamed</dc:creator>
  <dc:description/>
  <dc:language>en-US</dc:language>
  <cp:lastModifiedBy>Sony</cp:lastModifiedBy>
  <dcterms:modified xsi:type="dcterms:W3CDTF">2014-01-26T04:33:23Z</dcterms:modified>
  <cp:revision>288</cp:revision>
  <dc:subject/>
  <dc:title>RESPIRATORY SYSTEM</dc:title>
</cp:coreProperties>
</file>