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C553-D0E5-474E-8DFC-63C5C5A42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EC90-6A37-4972-8240-46F14471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AAE8-89DB-46DB-A9B4-EC886885A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786D-1EB6-43BF-9ED5-8964F8C58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8B6F-A6B0-4981-B5C2-72FC3A52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49DD-5226-42EC-99ED-ABCFB9AF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E008-B529-4A4A-81ED-4AA6AAD1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B742-4F24-451A-A76D-5164DD85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938E-2AC2-4466-9E5D-FF17C903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049B-5452-4778-951E-91A00BC6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A2FA-0C5F-4759-B842-4B77A16F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904E-215A-42A9-9E3F-C019B0CC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FF7E-7938-4F98-BC5A-90D3B3A7832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istology of the Upper Respiratory Tract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Nasal cavity, Paranasal sinuses and Larynx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045800" y="990720"/>
            <a:ext cx="732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RESPIRATORY SYSTEM ( I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RYN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18040" indent="-5180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cosa (Mucous membrane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Epithel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Lamina prop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B)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rtil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) Extrinsic and intrinsic muscles: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l are skele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D) Ligam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art-mo3013"/>
          <p:cNvPicPr/>
          <p:nvPr/>
        </p:nvPicPr>
        <p:blipFill>
          <a:blip r:embed="rId1"/>
          <a:stretch/>
        </p:blipFill>
        <p:spPr>
          <a:xfrm>
            <a:off x="6477120" y="0"/>
            <a:ext cx="2666880" cy="2182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Larynx"/>
          <p:cNvPicPr/>
          <p:nvPr/>
        </p:nvPicPr>
        <p:blipFill>
          <a:blip r:embed="rId2"/>
          <a:stretch/>
        </p:blipFill>
        <p:spPr>
          <a:xfrm>
            <a:off x="5791320" y="4889520"/>
            <a:ext cx="3352680" cy="1968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Resp04s"/>
          <p:cNvPicPr/>
          <p:nvPr/>
        </p:nvPicPr>
        <p:blipFill>
          <a:blip r:embed="rId3"/>
          <a:stretch/>
        </p:blipFill>
        <p:spPr>
          <a:xfrm>
            <a:off x="6019920" y="2209680"/>
            <a:ext cx="312408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co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pithelium: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2 typ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-  Respiratory epitheli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seudostratified ciliated columnar epithel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ith goblet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-  Non keratinized stratified squamous epitheli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:    -Vocal fol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 Superior surface of epiglott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mina prop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RYN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Resp04s"/>
          <p:cNvPicPr/>
          <p:nvPr/>
        </p:nvPicPr>
        <p:blipFill>
          <a:blip r:embed="rId1"/>
          <a:stretch/>
        </p:blipFill>
        <p:spPr>
          <a:xfrm>
            <a:off x="4952880" y="3892680"/>
            <a:ext cx="419112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RYN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cosa (cont.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re are 2 pairs of shelf-like mucosal fol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Vestibular fol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re immov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/M: a-  Respiratory epithel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-  Lamina propri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ose C.T. with seromucous glan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ymphoid elements &amp; adipose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VOCAL FOLDS (CORDS):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a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-  Epithelium: non keratinized stratified squamo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-  Lamina propria: C.T. containing bundles of  elastic    fibers and skeletal muscl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</a:t>
            </a:r>
            <a:r>
              <a:rPr b="1" lang="en-US" sz="2400" spc="-1" strike="noStrike">
                <a:solidFill>
                  <a:srgbClr val="b9ece1"/>
                </a:solidFill>
                <a:latin typeface="Times New Roman"/>
                <a:ea typeface="Times New Roman"/>
              </a:rPr>
              <a:t>N.B. No lymphoid nodul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ece1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en-US" sz="2400" spc="-1" strike="noStrike">
                <a:solidFill>
                  <a:srgbClr val="b9ece1"/>
                </a:solidFill>
                <a:latin typeface="Times New Roman"/>
                <a:ea typeface="Times New Roman"/>
              </a:rPr>
              <a:t>No seromucous gl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134"/>
          <p:cNvPicPr/>
          <p:nvPr/>
        </p:nvPicPr>
        <p:blipFill>
          <a:blip r:embed="rId1"/>
          <a:stretch/>
        </p:blipFill>
        <p:spPr>
          <a:xfrm>
            <a:off x="6705720" y="762120"/>
            <a:ext cx="243828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229600" cy="57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B)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rtil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Hyaline cartil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.g.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yroid cartil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Elastic cartil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piglott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)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Muscles: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l are skele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D) Ligam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Larynx"/>
          <p:cNvPicPr/>
          <p:nvPr/>
        </p:nvPicPr>
        <p:blipFill>
          <a:blip r:embed="rId1"/>
          <a:stretch/>
        </p:blipFill>
        <p:spPr>
          <a:xfrm>
            <a:off x="4600440" y="4191120"/>
            <a:ext cx="45435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IRATORY EPITHEL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seudo-stratified ciliated columnar epithelium </a:t>
            </a:r>
            <a:r>
              <a:rPr b="1" lang="en-US" sz="3200" spc="-1" strike="noStrike">
                <a:solidFill>
                  <a:srgbClr val="b9ece1"/>
                </a:solidFill>
                <a:latin typeface="Times New Roman"/>
                <a:ea typeface="Times New Roman"/>
              </a:rPr>
              <a:t>with goblet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in Types of cell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 all touch the basement membra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Ciliated columnar cell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oblet cell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al cell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are stem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- Diffuse neuro-endocrine system (DNES) cell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e.g.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rotonin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FE2122D2"/>
          <p:cNvPicPr/>
          <p:nvPr/>
        </p:nvPicPr>
        <p:blipFill>
          <a:blip r:embed="rId1"/>
          <a:srcRect l="32845" t="40339" r="11394" b="32773"/>
          <a:stretch/>
        </p:blipFill>
        <p:spPr>
          <a:xfrm>
            <a:off x="5334120" y="4218120"/>
            <a:ext cx="3809880" cy="2639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cretmc"/>
          <p:cNvPicPr/>
          <p:nvPr/>
        </p:nvPicPr>
        <p:blipFill>
          <a:blip r:embed="rId2"/>
          <a:stretch/>
        </p:blipFill>
        <p:spPr>
          <a:xfrm>
            <a:off x="304920" y="4572000"/>
            <a:ext cx="4038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90880"/>
            <a:ext cx="822960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Program Files (x86)\Microsoft Office\MEDIA\CAGCAT10\j0284916.jpg"/>
          <p:cNvPicPr/>
          <p:nvPr/>
        </p:nvPicPr>
        <p:blipFill>
          <a:blip r:embed="rId1"/>
          <a:stretch/>
        </p:blipFill>
        <p:spPr>
          <a:xfrm>
            <a:off x="2819520" y="533520"/>
            <a:ext cx="36576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838080"/>
            <a:ext cx="8686800" cy="559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bjec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y the end of this lecture the student should be able to describe the microscopic struc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stibul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f the nasal cavi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iratory mucos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of the nasal ca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asal septum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factory mucos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of the nasal ca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cosa of the paranasal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inu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ryn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IRATORY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80120" indent="-780120">
              <a:lnSpc>
                <a:spcPct val="100000"/>
              </a:lnSpc>
              <a:buClr>
                <a:srgbClr val="ffff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ducting por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Nasal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Nasopharyn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 Laryn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- Trach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- Primary bronchi (extrapulmonary bronch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- Intrapulmonary bronch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2ry bronchi (lobar bronch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3ry bronchi  (segmental bronch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- Primary bronchioles (preterminal bronchiol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- Terminal bronchi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-780120">
              <a:lnSpc>
                <a:spcPct val="100000"/>
              </a:lnSpc>
              <a:buClr>
                <a:srgbClr val="ffff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iratory por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 Respiratory bronchi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 Alveolar duct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  Alveolar sa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-  Pulmonary alveol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F17_01"/>
          <p:cNvPicPr/>
          <p:nvPr/>
        </p:nvPicPr>
        <p:blipFill>
          <a:blip r:embed="rId1"/>
          <a:stretch/>
        </p:blipFill>
        <p:spPr>
          <a:xfrm>
            <a:off x="7162920" y="990720"/>
            <a:ext cx="1981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ASAL CAVITY (N.C.)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erior portion of N.C.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stib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2) Posterior portion of N.C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-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iratory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-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factory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.B. The nasal septum divides the nasal cavity into two halves (right and lef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art-mo3013"/>
          <p:cNvPicPr/>
          <p:nvPr/>
        </p:nvPicPr>
        <p:blipFill>
          <a:blip r:embed="rId1"/>
          <a:stretch/>
        </p:blipFill>
        <p:spPr>
          <a:xfrm>
            <a:off x="5486400" y="1066680"/>
            <a:ext cx="3657600" cy="29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STIBULE OF N.C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ining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is lined with thin sk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Epidermis: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Keratinized stratified Squamous epitheliu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Derm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ents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                               1-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brissa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stiff hai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Sebaceous gl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 Sweat gl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a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Hyaline cartil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Cancellous (spongy) b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IRATORY  REGION (AREA) OF NASAL CAVITY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COSA (MUCOUS MEMBRAN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A)  Epitheli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seudo-stratified ciliated columnar epithelium with goblet cells (Respiratory epitheliu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B)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mina propria ( Sub-epithelial C.T.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a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 Large arterial plexuses 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nous sin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Highly vascularized C.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 Many seromucous glands (acin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-  Abundant lymphoid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cluding occasional lymphoid nodu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sma cells &amp; mast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creignm"/>
          <p:cNvPicPr/>
          <p:nvPr/>
        </p:nvPicPr>
        <p:blipFill>
          <a:blip r:embed="rId1"/>
          <a:stretch/>
        </p:blipFill>
        <p:spPr>
          <a:xfrm>
            <a:off x="5791320" y="2347920"/>
            <a:ext cx="335268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RANASAL SIN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ining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1- Respiratory epith. (Mention……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Lamina prop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LINICAL APPLIC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inusit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F17_02"/>
          <p:cNvPicPr/>
          <p:nvPr/>
        </p:nvPicPr>
        <p:blipFill>
          <a:blip r:embed="rId1"/>
          <a:stretch/>
        </p:blipFill>
        <p:spPr>
          <a:xfrm>
            <a:off x="3581280" y="3330720"/>
            <a:ext cx="5562720" cy="3527280"/>
          </a:xfrm>
          <a:prstGeom prst="rect">
            <a:avLst/>
          </a:prstGeom>
          <a:ln w="0">
            <a:noFill/>
          </a:ln>
        </p:spPr>
      </p:pic>
      <p:cxnSp>
        <p:nvCxnSpPr>
          <p:cNvPr id="58" name="Straight Arrow Connector 5"/>
          <p:cNvCxnSpPr/>
          <p:nvPr/>
        </p:nvCxnSpPr>
        <p:spPr>
          <a:xfrm>
            <a:off x="5561640" y="2057040"/>
            <a:ext cx="686520" cy="1220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FACTORY REGION (AREA) OF NASAL CAVITY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OLFACTORY MUCO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ite: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1-Roof of nasal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Upper part of nasal sept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over superior concha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ruc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-438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factory epitheliu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seudo-stratified columnar epithel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factory cells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olfactory nerve cell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stentacular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supporting)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al cells: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yramidal in shape, basal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sition and act as stem cel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B)     Lamina propria: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ai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Highly (richly) vascularized loose to dense C.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Cont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) Bowman’s glands ( olfactory glands) : are serous aci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) Bundles of unmyelinated nerve fib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re axons of olfactory nerve cells + Schwann-like cells (glial cell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) Rich vascular plex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) Numerous lymphoid el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F17_05"/>
          <p:cNvPicPr/>
          <p:nvPr/>
        </p:nvPicPr>
        <p:blipFill>
          <a:blip r:embed="rId1"/>
          <a:stretch/>
        </p:blipFill>
        <p:spPr>
          <a:xfrm>
            <a:off x="5334120" y="1066680"/>
            <a:ext cx="380988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FACTORY EPITHEL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-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factory cel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r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ipolar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ndrit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has olfactory vesicle that has non-motile  cil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xon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are unmyelinated with Schwann-like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xons will collect in the lamina propria to fo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ndles of nerve fi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ndles will collect to fo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olfactory ner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4724280"/>
            <a:ext cx="914400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-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stentacular (supporting) cel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re columnar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n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hysical support and nourishment for olfactory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creomlm"/>
          <p:cNvPicPr/>
          <p:nvPr/>
        </p:nvPicPr>
        <p:blipFill>
          <a:blip r:embed="rId1"/>
          <a:srcRect l="0" t="19597" r="0" b="0"/>
          <a:stretch/>
        </p:blipFill>
        <p:spPr>
          <a:xfrm>
            <a:off x="4952880" y="2895480"/>
            <a:ext cx="3657600" cy="19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06:09:20Z</dcterms:created>
  <dc:creator>Aly Mohamed</dc:creator>
  <dc:description/>
  <dc:language>en-US</dc:language>
  <cp:lastModifiedBy>Sony</cp:lastModifiedBy>
  <dcterms:modified xsi:type="dcterms:W3CDTF">2014-01-26T04:33:23Z</dcterms:modified>
  <cp:revision>288</cp:revision>
  <dc:subject/>
  <dc:title>RESPIRATORY SYSTEM</dc:title>
</cp:coreProperties>
</file>