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CCB-42AF-4FDB-BC5A-B6AC731E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46B-89AB-45FF-8B50-E1B5F62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716-8447-44F1-8CD8-B6CDC8B5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139-6379-42DE-A735-30FED4F8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51C7-A065-476B-9464-82B2933D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C98-992A-4F2B-A64D-C2C5B55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226-DD26-446B-8CAB-D5B30F3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C6C-3995-4032-8BAD-E66591BF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B604-9EA7-431C-84BB-E1958A4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602B-45DB-48EE-82AE-7C1930C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CBC6-C0D0-46A3-A634-56FB468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310-35CF-46E4-98B5-A37CC95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6DED-3B9E-4080-B6AE-73AEC83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A30E-46AA-440E-9BAC-2A4EA96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7FB-1FAA-494E-8A85-D84663A7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09A-5B2D-4BF9-8A87-0C092B78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75A-03B9-4DF4-8D1F-488DFD00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370-BF2B-4147-B4F1-3203DAA7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49B-8618-41C8-A784-48AC2CE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66A-3F9C-4755-85D7-12DD674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291-FDFD-447A-8B8E-EB63374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362-08B4-4420-A14C-0A4440B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3D2-A574-4A61-B506-6711F49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C71-4D21-474D-BAC4-130F889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3D15-527E-4886-A895-078D31275AC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D739-5EF5-4F14-86D3-DE4E3BE48DEC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2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fine the terms, pneumonia, community acquired pneumonia,  health care associated pneumon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 HCAP)  and ventilator associated pneumonia  (VAP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pathogenesis of the health care associated pneumonia (hospital associated pneumonia ) and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HCAP according to the time of onset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ame the different causative bacterial agents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and describe types of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ognize the ways by which VAP is prevent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different chemotherapeutic  anti microbial agents used for the treatment of health care associated pneumon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valuate response to treatment and recognize reasons for failure of treat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48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HANNAN</cp:lastModifiedBy>
  <dcterms:modified xsi:type="dcterms:W3CDTF">2015-01-05T06:29:00Z</dcterms:modified>
  <cp:revision>91</cp:revision>
  <dc:subject/>
  <dc:title>PowerPoint Presentation</dc:title>
</cp:coreProperties>
</file>