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9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8A6C-261B-4C06-B990-D05F1517B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688F-D500-4DDF-B1FE-7223072D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C89-94DE-43EB-A846-2AED5218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83D-56DB-4E84-A261-07193FF9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ED41-845D-470E-9654-C398BDA2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1637-11BE-4A8B-BBDE-AE97B56E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2C68-42D6-473B-B33D-20519E65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BC41-989F-4B45-864C-5DB2FAB2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7DC5-D2F2-4BD1-9875-59106DE7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9C2D-62D7-465F-913D-E50FD1E9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914A-E1C5-41F3-99B7-FBF73F65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FA9-E2B7-4F78-A76F-6B1B9959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2D8B-D447-45BF-826A-0DD07915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FBDE-11DB-43D9-BDA0-2933ADD5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702A-92A0-49EA-8A0A-4D302ACE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D9A4-F585-4C45-87C7-CABF8C6B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C9C5-75BC-49AB-A33F-192AFFAE8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2096-9968-4E68-B19F-61503D87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BE39-465A-42CA-A3EA-865E0117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80C-8A1A-4B43-84E9-AB9E78B5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8A5-B916-483C-9EFD-08DD6C72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B83-2C56-4CAD-9A82-F03D8B59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CCA1-D2E6-4AEB-8B66-B6F7643D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0D6F-635F-477C-ADBA-ACB2C3CA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EC54-57BC-44A2-9985-1B7A527C0009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>
                <a:gd name="textAreaLeft" fmla="*/ 0 w 2754360"/>
                <a:gd name="textAreaRight" fmla="*/ 2754720 w 27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>
                <a:gd name="textAreaLeft" fmla="*/ 0 w 4214520"/>
                <a:gd name="textAreaRight" fmla="*/ 4214880 w 42145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>
                <a:gd name="textAreaLeft" fmla="*/ 0 w 3240000"/>
                <a:gd name="textAreaRight" fmla="*/ 3240360 w 32400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FA6A-90C7-4FC6-97E4-520260E956FB}" type="slidenum">
              <a:rPr b="0" lang="zh-TW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eso-cdn.bestpractice.bmj.com/best-practice/images/bp/720-1-hlight_default.jpg&amp;imgrefurl=http://bestpractice.bmj.com/best-practice/monograph/720/resources/image/bp/1.html&amp;usg=__y6zzuBb9fiUqU4O3qEN-tn_t6A0=&amp;h=306&amp;w=450&amp;sz=39&amp;hl=en&amp;start=14&amp;zoom=1&amp;tbnid=B2AxVa52l1MOEM:&amp;tbnh=86&amp;tbnw=127&amp;ei=l2I1TczfE9KZhQfIvMmkCw&amp;prev=/images%3Fq%3Dhospital%2Bacquired%2Bpneumonia%26hl%3Den%26safe%3Dactive%26gbv%3D2%26tbs%3Disch:1&amp;itbs=1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google.com/imgres?imgurl=http://www.nlm.nih.gov/medlineplus/ency/images/ency/fullsize/17276.jpg&amp;imgrefurl=http://www.nlm.nih.gov/medlineplus/ency/imagepages/17276.htm&amp;usg=__7-iMrx4X7xz4VRSxig2Gn9Iao6U=&amp;h=320&amp;w=400&amp;sz=14&amp;hl=en&amp;start=3&amp;zoom=1&amp;tbnid=9UXX-DdECD4cxM:&amp;tbnh=99&amp;tbnw=124&amp;ei=l2I1TczfE9KZhQfIvMmkCw&amp;prev=/images%3Fq%3Dhospital%2Bacquired%2Bpneumonia%26hl%3Den%26safe%3Dactive%26gbv%3D2%26tbs%3Disch:1&amp;itbs=1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www.google.com/imgres?imgurl=http://scienceline.org/wp-content/uploads/2006/10/pneumonia.JPG&amp;imgrefurl=http://www.scienceline.org/2006/10/bio-zielinska-hospitals/&amp;usg=__OxhLbwv7MeCkz5lgD59V9LTdV4k=&amp;h=396&amp;w=440&amp;sz=52&amp;hl=en&amp;start=13&amp;zoom=1&amp;tbnid=og8ljJjgKB02fM:&amp;tbnh=114&amp;tbnw=127&amp;ei=l2I1TczfE9KZhQfIvMmkCw&amp;prev=/images%3Fq%3Dhospital%2Bacquired%2Bpneumonia%26hl%3Den%26safe%3Dactive%26gbv%3D2%26tbs%3Disch:1&amp;itbs=1" TargetMode="External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viasyshealthcare.com/bird/products/images/TBird_VS1.jpg&amp;imgrefurl=http://www.viasyshealthcare.com/bird/products/TBird_VS.htm&amp;usg=__-LYHLP9O9cO-fnTcxSlRLrHDINI=&amp;h=254&amp;w=261&amp;sz=17&amp;hl=en&amp;start=7&amp;zoom=1&amp;tbnid=_oUZ0ejTJUArxM:&amp;tbnh=109&amp;tbnw=112&amp;ei=GGI1Tc6ZEsmbhQeo-YipCw&amp;prev=/images%3Fq%3Dventilators%26hl%3Den%26safe%3Dactive%26sa%3DG%26gbv%3D2%26tbs%3Disch:1&amp;itbs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google.com/imgres?imgurl=http://2.bp.blogspot.com/_FGHdkrEsceI/TDel9yp52vI/AAAAAAAAAAU/b6TBL23ysNY/s1600/ventilator.jpg&amp;imgrefurl=http://lisanance-pedspulm.blogspot.com/2010_07_01_archive.html&amp;usg=__W3mCj-5doucQAnyjeqt5g3rimdI=&amp;h=540&amp;w=459&amp;sz=42&amp;hl=en&amp;start=2&amp;zoom=1&amp;tbnid=vr8g_dM1jerBnM:&amp;tbnh=132&amp;tbnw=112&amp;ei=HJl0TZaRPJmAhAfnj_hA&amp;prev=/images%3Fq%3Dventilator%26hl%3Den%26safe%3Dactive%26sa%3DN%26gbv%3D2%26tbs%3Disch:1&amp;itbs=1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oogle.com/imgres?imgurl=http://www.firehow.com/images/stories/users/80/pneumonia.jpg&amp;imgrefurl=http://www.firehow.com/20090318668/how-to-cure-pneumonia-naturally.html&amp;usg=__0Sh-K7phAhEnqbunv50TDFmjDqE=&amp;h=450&amp;w=422&amp;sz=21&amp;hl=en&amp;start=4&amp;zoom=1&amp;tbnid=EhygMP9aVZYZ4M:&amp;tbnh=127&amp;tbnw=119&amp;ei=WWo1TbOGIZKGhQf2-4GpCw&amp;prev=/images%3Fq%3DPNEUMONIA%26hl%3Den%26safe%3Dactive%26gbv%3D2%26tbs%3Disch:1&amp;itbs=1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www.google.com/imgres?imgurl=http://www.corposaun.com/wp-content/uploads/2009/12/pneumonia.jpg&amp;imgrefurl=http://sandsofgold.com/catalog/yhf.php%3Fq%3Dpneumonia-symptoms&amp;usg=__nOWquPuSUwynJ6N7i-DZ0xTw-Fw=&amp;h=450&amp;w=500&amp;sz=21&amp;hl=en&amp;start=6&amp;zoom=1&amp;tbnid=fnou4RqwQSQKDM:&amp;tbnh=117&amp;tbnw=130&amp;ei=WWo1TbOGIZKGhQf2-4GpCw&amp;prev=/images%3Fq%3DPNEUMONIA%26hl%3Den%26safe%3Dactive%26gbv%3D2%26tbs%3Disch:1&amp;itbs=1" TargetMode="External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habirhospital.in/images/icu_bed_space.gif&amp;imgrefurl=http://mahabirhospital.in/facilities.php&amp;usg=__LMupEcGXNhhScr3A-OPJsoUuUKM=&amp;h=354&amp;w=472&amp;sz=131&amp;hl=en&amp;start=11&amp;zoom=1&amp;tbnid=XWlKjuvliHh1eM:&amp;tbnh=97&amp;tbnw=129&amp;ei=G5h0TcCvLIuYhQemwtgx&amp;prev=/images%3Fq%3Dintensive%2Bcare%2Bunit%26hl%3Den%26safe%3Dactive%26gbv%3D2%26tbs%3Disch:1&amp;itbs=1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Health Care Associated  </a:t>
            </a:r>
            <a:r>
              <a:rPr b="1" lang="en-US" sz="4800" spc="-1" strike="noStrike">
                <a:solidFill>
                  <a:srgbClr val="4d004d"/>
                </a:solidFill>
                <a:latin typeface="Tahoma"/>
              </a:rPr>
              <a:t>Pneumonia</a:t>
            </a:r>
            <a:br>
              <a:rPr sz="4800"/>
            </a:br>
            <a:r>
              <a:rPr b="1" lang="en-US" sz="2800" spc="-1" strike="noStrike">
                <a:solidFill>
                  <a:srgbClr val="4d4d86"/>
                </a:solidFill>
                <a:latin typeface="Tahoma"/>
              </a:rPr>
              <a:t>Respiratory Block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BY 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A.M.KAMBA</a:t>
            </a: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L and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45472"/>
                </a:solidFill>
                <a:latin typeface="Tahoma"/>
              </a:rPr>
              <a:t>PROF .</a:t>
            </a:r>
            <a:r>
              <a:rPr b="1" i="1" lang="en-US" sz="2000" spc="-1" strike="noStrike">
                <a:solidFill>
                  <a:srgbClr val="545472"/>
                </a:solidFill>
                <a:latin typeface="Tahoma"/>
              </a:rPr>
              <a:t>HANAN HABIB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0c0"/>
                </a:solidFill>
                <a:latin typeface="Tahoma"/>
              </a:rPr>
              <a:t>Department of Pathology, KSU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n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ventilated patient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a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10-fold high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than non-ventilated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reported crude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ortalit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or HAP is 30% to greater than 70%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727360" y="495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8160" y="5486400"/>
            <a:ext cx="446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--- Medical Clinics of North America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Therapy of Nosocomial pneumonia</a:t>
            </a: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 2001 vol.85 1583-94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2" name="Picture 4" descr="http://t2.gstatic.com/images?q=tbn:B2AxVa52l1MOEM:http://eso-cdn.bestpractice.bmj.com/best-practice/images/bp/720-1-hlight_defaul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4005360"/>
            <a:ext cx="2664000" cy="20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http://t2.gstatic.com/images?q=tbn:9UXX-DdECD4cxM:http://www.nlm.nih.gov/medlineplus/ency/images/ency/fullsize/17276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3933720"/>
            <a:ext cx="302400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http://t2.gstatic.com/images?q=tbn:og8ljJjgKB02fM:http://scienceline.org/wp-content/uploads/2006/10/pneumon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948360" y="400536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pneumonia to occur, at least one of the following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three condi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ust occur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. Significant impairment of hos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. Introduction of a sufficient-size inoculum to overwhelm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the host's lower respiratory tract defense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3. The introduction of highly virulent organisms into the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lower respiratory tract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st common is microaspiration of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oropharyngeal secretion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lonized with pathogenic bacteria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8" name="Picture 4" descr="C:\Documents and Settings\k\桌面\HAP--1.jpg"/>
          <p:cNvPicPr/>
          <p:nvPr/>
        </p:nvPicPr>
        <p:blipFill>
          <a:blip r:embed="rId1"/>
          <a:stretch/>
        </p:blipFill>
        <p:spPr>
          <a:xfrm>
            <a:off x="1066680" y="1676520"/>
            <a:ext cx="6782040" cy="4419360"/>
          </a:xfrm>
          <a:prstGeom prst="rect">
            <a:avLst/>
          </a:prstGeom>
          <a:ln w="38160">
            <a:solidFill>
              <a:srgbClr val="545472"/>
            </a:solidFill>
            <a:miter/>
          </a:ln>
        </p:spPr>
      </p:pic>
      <p:sp>
        <p:nvSpPr>
          <p:cNvPr id="169" name="Text Box 5"/>
          <p:cNvSpPr/>
          <p:nvPr/>
        </p:nvSpPr>
        <p:spPr>
          <a:xfrm>
            <a:off x="1600200" y="624852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lassif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Early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ccurs during the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first 4 day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ually is due to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S. pneumoniae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MSSA (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ethicillin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sensitive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S.aureus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H. Influenz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, or 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Late-onset nosocomial pneumonia: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s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ore than 4 days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of admiss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re commonly by Gram negative organisms, especially: </a:t>
            </a:r>
            <a:r>
              <a:rPr b="0" i="1" lang="en-US" sz="2400" spc="-1" strike="noStrike">
                <a:solidFill>
                  <a:srgbClr val="545472"/>
                </a:solidFill>
                <a:latin typeface="Tahoma"/>
              </a:rPr>
              <a:t>P. aeruginosa, Acinetobacter, Enterobacteriaceae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Klebsiella</a:t>
            </a:r>
            <a:r>
              <a:rPr b="0" lang="en-US" sz="1600" spc="-1" strike="noStrike">
                <a:solidFill>
                  <a:srgbClr val="545472"/>
                </a:solidFill>
                <a:latin typeface="Tahoma"/>
              </a:rPr>
              <a:t>, </a:t>
            </a:r>
            <a:r>
              <a:rPr b="0" i="1" lang="en-US" sz="1600" spc="-1" strike="noStrike">
                <a:solidFill>
                  <a:srgbClr val="545472"/>
                </a:solidFill>
                <a:latin typeface="Tahoma"/>
              </a:rPr>
              <a:t>Enterobacter, Serratia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) or MRSA.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Enteric Gram negative bacilli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re isolated most frequently particularly in patients with late-onset disease and in patients with serious underlying disease often already on broad-spectrum antibiotic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ior use of broad-spectrum antibiotics and an immunocompromised state make resistant Gram-negative organisms more likel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P. aeruginosa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d </a:t>
            </a:r>
            <a:r>
              <a:rPr b="1" i="1" lang="en-US" sz="2800" spc="-1" strike="noStrike">
                <a:solidFill>
                  <a:srgbClr val="545472"/>
                </a:solidFill>
                <a:latin typeface="Tahoma"/>
              </a:rPr>
              <a:t>Acinetobacte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are common causes of late-onset pneumonia, particularly in the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ventilated patient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0000"/>
                </a:solidFill>
                <a:latin typeface="Tahoma"/>
              </a:rPr>
              <a:t>S. aureus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isolated in about 20~40% of cases and is particularly common in 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Ventilated patients after head trauma, neurosurgery, and wound infection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In patients who had received prior antibiotics or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859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longed care in IC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-501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MRSA(</a:t>
            </a:r>
            <a:r>
              <a:rPr b="1" lang="en-US" sz="1800" spc="-1" strike="noStrike">
                <a:solidFill>
                  <a:srgbClr val="c00000"/>
                </a:solidFill>
                <a:latin typeface="Tahoma"/>
              </a:rPr>
              <a:t>methicillin resistant </a:t>
            </a:r>
            <a:r>
              <a:rPr b="1" i="1" lang="en-US" sz="1800" spc="-1" strike="noStrike">
                <a:solidFill>
                  <a:srgbClr val="c00000"/>
                </a:solidFill>
                <a:latin typeface="Tahoma"/>
              </a:rPr>
              <a:t>S.aureus</a:t>
            </a: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s seen more commonly in patients who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eived corticosteroid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ndergone mechanical ventilation &gt;5 day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esented with chronic lung dise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50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Had prior antibiotics therap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99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Causative Ag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Anaerobe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are common in patients predisposed to aspiration 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7286"/>
                </a:solidFill>
                <a:latin typeface="Tahoma"/>
              </a:rPr>
              <a:t>Ventilator associated pneumonia (VAP 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ith anaerobes occurred more often with oropharyngeal intubation than nasopharyngeal intub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9797b7"/>
            </a:outerShdw>
          </a:effectLst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81" name="Picture 6" descr="http://t2.gstatic.com/images?q=tbn:_oUZ0ejTJUArxM:http://www.viasyshealthcare.com/bird/products/images/TBird_VS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3860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http://t2.gstatic.com/images?q=tbn:ANd9GcRC1Ee0iSqxl88UKAt6rvm2T3-fLzo07_HPnrTXw-bz26ntRtioyaZuUaM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58920" y="3860640"/>
            <a:ext cx="252108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fine the terms, pneumonia, community acquired pneumonia,  health care associated pneumonia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 HCAP)  and ventilator associated pneumonia  (VAP)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pathogenesis of the health care associated pneumonia (hospital associated pneumonia ) and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HCAP according to the time of onset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entilator-associated Pneumonia (VAP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fini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socomial pneumonia that has developed in patient who are receiving mechanical ventil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lassification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Early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within 48-72 hours after tracheal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intubation,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which complicates the 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intubation proces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Late-onset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after 72 hou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athogene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quires 2 important processes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Bacterial colonization of the aerodigestive tract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Aspiration of contaminated secretion into th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ower airwa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events mechanical clearance by cough and the mucociliary escalator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 for </a:t>
            </a: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oral regimen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topical Gentamicin, Colistin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, </a:t>
            </a:r>
            <a:r>
              <a:rPr b="0" i="1" lang="en-US" sz="2800" spc="-1" strike="noStrike">
                <a:solidFill>
                  <a:srgbClr val="c00000"/>
                </a:solidFill>
                <a:latin typeface="Tahoma"/>
              </a:rPr>
              <a:t>Vancomycin cream  given every 6h for 3 weeks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)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eating oropharyngeal colonization could prevent VAP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Arial"/>
              </a:rPr>
              <a:t>           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</a:t>
            </a: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Prevention of VAP by oral decontamination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merican journal of respiratory critical care medicine2001 164:382-8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n-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ffective hand washing and use of protective gowns and glov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Semirecumbent posi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voidance of large gastric volum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Oral (non-nasal) intub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ntinuous subglottic suction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88ae"/>
                </a:solidFill>
                <a:latin typeface="Tahoma"/>
              </a:rPr>
              <a:t>Humidification with heat and moisture exchang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osture chang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97568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Preventions for VAP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Pharmacologic strategi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ress-ulcer prophylaxi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bination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antibiotic therap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hlorhexidine oral rins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phylactic treatment of neutropenic pati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Vaccin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899360" y="6248520"/>
            <a:ext cx="713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 The Prevention of Ventilator-Associated Pneumonia  Vol.340  Feb 25, 1999  NEJ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Arial"/>
              </a:rPr>
              <a:t>Most initial therapy is empiric because no pathogen is identified or results are not available when antimicrobial decisions are made in most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nitially be treated with a broad-spectrum antibiotic regimen aimed at covering all likely bacterial pathoge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This regimen should subsequently be narrowed, according to the result of cul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99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pathogen may be influenced by coexisting illnesses, prior treatment, and length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frequency of ICU-acquired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P. aeruginosa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arriage or colonization/infection was 23.4% at 7 days and 57.8% at 14 day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mortality can be reduced with early appropriate empiric therapy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Form 30 % with appropriate therapy to more than 90 % with inappropriate therapy)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lines  by American Thoracic Society has divided patients into </a:t>
            </a:r>
            <a:r>
              <a:rPr b="0" lang="en-US" sz="2800" spc="-1" strike="noStrike">
                <a:solidFill>
                  <a:srgbClr val="c00000"/>
                </a:solidFill>
                <a:latin typeface="Tahoma"/>
              </a:rPr>
              <a:t>three groups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, each with a set of probable pathoge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2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mild to moderate HAP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a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early-onset with no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      </a:t>
            </a:r>
            <a:r>
              <a:rPr b="0" lang="en-US" sz="2000" spc="-1" strike="noStrike">
                <a:solidFill>
                  <a:srgbClr val="c00000"/>
                </a:solidFill>
                <a:latin typeface="Tahoma"/>
              </a:rPr>
              <a:t>Group 3</a:t>
            </a: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: severe HAP, late-onset or with risk factor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jectives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ame the different causative bacterial agents 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ify and describe types of VAP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cognize the ways by which VAP is prevent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scribe the different chemotherapeutic  anti microbial agents used for the treatment of health care associated pneumonia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valuate response to treatment and recognize reasons for failure of treatment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mild-to-moderat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monotherapy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s been shown to be effectiv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For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evere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AP in which infection with resistant organisms is likely,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combination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rapy probably should be instituted until culture result are available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atients with </a:t>
            </a:r>
            <a:r>
              <a:rPr b="0" i="1" lang="en-US" sz="2800" spc="-1" strike="noStrike">
                <a:solidFill>
                  <a:srgbClr val="545472"/>
                </a:solidFill>
                <a:latin typeface="Tahoma"/>
              </a:rPr>
              <a:t>S. aureu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fection, agents against this organism are necessary, including </a:t>
            </a: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Vancomyci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if MRSA is suspected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ahoma"/>
              </a:rPr>
              <a:t>Linezolid</a:t>
            </a:r>
            <a:r>
              <a:rPr b="0" lang="en-US" sz="28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s comparable with Vancomycin.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advantage of Linezolid is less possible nephrotoxicity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                                  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---- current opinion in infectious disease 2002, 15:387-94, copyright LWW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Treat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mbination of antipseudomonal drugs is controversial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70c0"/>
              </a:buClr>
              <a:buSzPct val="8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Traditional: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888ae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</a:t>
            </a:r>
            <a:r>
              <a:rPr b="0" lang="en-US" sz="2000" spc="-1" strike="noStrike">
                <a:solidFill>
                  <a:srgbClr val="8888ae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with an Aminoglycoside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. Synergy but potential nephrotoxicity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70c0"/>
                </a:solidFill>
                <a:latin typeface="Tahoma"/>
              </a:rPr>
              <a:t>Another approach</a:t>
            </a:r>
            <a:r>
              <a:rPr b="0" lang="en-US" sz="2400" spc="-1" strike="noStrike">
                <a:solidFill>
                  <a:srgbClr val="0070c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</a:t>
            </a:r>
            <a:r>
              <a:rPr b="1" lang="en-US" sz="2000" spc="-1" strike="noStrike">
                <a:solidFill>
                  <a:srgbClr val="8888ae"/>
                </a:solidFill>
                <a:latin typeface="Tahoma"/>
              </a:rPr>
              <a:t>antipseudomonal Beta-lactam with a Fluoroquinolone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No benefit of synergy but reduce  concern of nephrotoxicity, and quinolone gets into the lungs at higher concentrations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1" name="Picture 5" descr="http://t2.gstatic.com/images?q=tbn:XHlfonKhvKbM3M:http://img.tradeprince.com/100/20090713/2869321f-29c5-452b-9881-a4bd0a3831a5.jpg"/>
          <p:cNvPicPr/>
          <p:nvPr/>
        </p:nvPicPr>
        <p:blipFill>
          <a:blip r:embed="rId2"/>
          <a:stretch/>
        </p:blipFill>
        <p:spPr>
          <a:xfrm>
            <a:off x="7308720" y="836640"/>
            <a:ext cx="1114560" cy="1228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http://t2.gstatic.com/images?q=tbn:vy8HRq-GS9NdPM:http://www.connexions-rochdale.org.uk/images/Injection-Syringe-Medicine.gif"/>
          <p:cNvPicPr/>
          <p:nvPr/>
        </p:nvPicPr>
        <p:blipFill>
          <a:blip r:embed="rId3"/>
          <a:stretch/>
        </p:blipFill>
        <p:spPr>
          <a:xfrm>
            <a:off x="7308720" y="2637000"/>
            <a:ext cx="99072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Response to Therap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f no clinical response is noted or deterioration occurs, we need to consider: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Infectious cause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Resistant pathoge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uperinfection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Unusual pathoge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 absces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xtrapulmonary infection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545472"/>
                </a:solidFill>
                <a:latin typeface="Tahoma"/>
              </a:rPr>
              <a:t>Noninfectious events</a:t>
            </a: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Heart: congestive heart failure (CHF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               </a:t>
            </a: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ung: fibroproliferative acute respiratory distress syndrome (ARDS), pulmonary emboli, Atelectesis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Definition of Pneumonia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64660"/>
                </a:solidFill>
                <a:latin typeface="Tahoma"/>
              </a:rPr>
              <a:t>Infection of the pulmonary Parenchym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4" name="Picture 7" descr="http://t2.gstatic.com/images?q=tbn:EhygMP9aVZYZ4M:http://www.firehow.com/images/stories/users/80/pneumonia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3860640"/>
            <a:ext cx="2448000" cy="2232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http://t2.gstatic.com/images?q=tbn:fnou4RqwQSQKDM:http://www.corposaun.com/wp-content/uploads/2009/12/pneumoni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79640" y="3789360"/>
            <a:ext cx="25210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NEUMONIA can be :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A-Community acquir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in the community, by community acquired organism, 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Streptococcus pneumoniae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usually susceptible to antibioti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 algn="just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Tahoma"/>
              </a:rPr>
              <a:t>B-Health care associated pneumonia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cquired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48-72 hours </a:t>
            </a:r>
            <a:r>
              <a:rPr b="0" lang="en-GB" sz="2800" spc="-1" strike="noStrike">
                <a:solidFill>
                  <a:srgbClr val="545472"/>
                </a:solidFill>
                <a:latin typeface="Tahoma"/>
              </a:rPr>
              <a:t>after  admission to health care institutions eg. pneumonia caused by organisms in hospital which are usually resistant to antibiotics-eg. </a:t>
            </a:r>
            <a:r>
              <a:rPr b="0" i="1" lang="en-GB" sz="2800" spc="-1" strike="noStrike">
                <a:solidFill>
                  <a:srgbClr val="545472"/>
                </a:solidFill>
                <a:latin typeface="Tahoma"/>
              </a:rPr>
              <a:t>Pseudomonas aeruginosa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Defin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Nosocomial pneumonia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: is defined as hospital associated pneumonia (HAP) or health care associated pneumonia (HCAP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Occurring at least </a:t>
            </a:r>
            <a:r>
              <a:rPr b="1" lang="en-US" sz="2800" spc="-1" strike="noStrike">
                <a:solidFill>
                  <a:srgbClr val="0070c0"/>
                </a:solidFill>
                <a:latin typeface="Tahoma"/>
              </a:rPr>
              <a:t>48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 hours 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fter admission and not incubating at the time of hospitaliz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Health care associated Pneumonia 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A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- Hospital Acquired Pneumonia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H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B-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 Ventilator Associated Pneumonia (</a:t>
            </a:r>
            <a:r>
              <a:rPr b="1" lang="en-GB" sz="3200" spc="-1" strike="noStrike">
                <a:solidFill>
                  <a:srgbClr val="545472"/>
                </a:solidFill>
                <a:latin typeface="Tahoma"/>
              </a:rPr>
              <a:t>VAP</a:t>
            </a:r>
            <a:r>
              <a:rPr b="0" lang="en-GB" sz="3200" spc="-1" strike="noStrike">
                <a:solidFill>
                  <a:srgbClr val="545472"/>
                </a:solidFill>
                <a:latin typeface="Tahoma"/>
              </a:rPr>
              <a:t>) in patients with assisted respiration for a period of 48 hou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0a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 most common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hospital-acquired infections after urinary tract infection. 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Accounting for 31 % of all nosocomial infections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Nosocomial pneumonia is the </a:t>
            </a:r>
            <a:r>
              <a:rPr b="0" lang="en-US" sz="2800" spc="-1" strike="noStrike">
                <a:solidFill>
                  <a:srgbClr val="ff0aff"/>
                </a:solidFill>
                <a:latin typeface="Tahoma"/>
              </a:rPr>
              <a:t>leading cause of death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from hospital-acquired infection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ncidence of nosocomial pneumonia is highest i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ICU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 (intensive care unit) patien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ahoma"/>
              </a:rPr>
              <a:t>IC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5" name="Picture 2" descr="http://t3.gstatic.com/images?q=tbn:ANd9GcQJgQ01y3lGpssbyxlNUmQAUjl-a-bB5vPQAcjkFpIZ22n_oqUBP8afgL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060640"/>
            <a:ext cx="4319280" cy="3816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blogs.jwatch.org/PaulSax/wp-content/uploads/2008/12/icu1.jpg"/>
          <p:cNvPicPr/>
          <p:nvPr/>
        </p:nvPicPr>
        <p:blipFill>
          <a:blip r:embed="rId3"/>
          <a:stretch/>
        </p:blipFill>
        <p:spPr>
          <a:xfrm>
            <a:off x="5076720" y="1916280"/>
            <a:ext cx="388800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HANNAN</cp:lastModifiedBy>
  <dcterms:modified xsi:type="dcterms:W3CDTF">2015-01-05T06:29:00Z</dcterms:modified>
  <cp:revision>91</cp:revision>
  <dc:subject/>
  <dc:title>PowerPoint Presentation</dc:title>
</cp:coreProperties>
</file>