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0DE9-72BA-404C-918A-739CD48E75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395-DFAC-4205-A5F0-D0DD3BAB1C3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622-6C79-47F8-8D9E-EE3EAE46FC0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558-BA79-4562-8A80-4F9E15AB98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E22-5CEE-4D0C-B335-9FD0B80D07F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AE23-EDCB-4EF1-A80E-8A1DBB5658C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9AD6-E150-48B7-9412-A1B486C11C1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744-ABC5-4D7C-889A-0FD86EC6D5B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D333-28F0-44FE-A19F-CBB5FCE20DC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B887-FFD2-46C9-9430-235089102E8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B121-5076-446D-A4F6-0D5905C3E12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D75F-9004-4EB6-8A3B-2B08970A43B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9C40-75E1-45F8-B0AF-15A97C6B8E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D98-7F60-43C8-B005-47D2183F77B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814-7407-4BBD-9492-0C4EFEAE4A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A40-9A5B-41B4-BF95-CDE1EB5E506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3F4-7D52-4878-8499-59AAD9CB1B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BA8-4B21-4DEF-9FB6-06CDFF24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D34-1ADD-4B63-922C-65F07BD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8B6C6-2A26-40C5-8EBD-12753688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8F506-BB87-4D79-9615-5610CBD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81FDD-F61D-40B2-A1B6-8598CA6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4B9A-277B-47B8-A362-2BB90E1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BCA8A-4559-42F9-B311-68F8C56F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BD7E1-7D34-479F-98F6-7B59192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99B0C-1E2A-4642-AF3E-1275BB10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36B52-A456-43BD-A2B5-1994C864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E41CF-27C0-4083-A73B-5369CBDF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8E28C-D34C-4E81-827A-736C1AD1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1EA-3746-433D-854D-D6A7B3B6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A2DC7-B6CF-42B2-9529-A100A09A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BAAD5-1AFD-4C08-B020-F7C4707C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AB807-29DE-4EC4-800B-42654AB7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A567A-7AFC-4461-864D-1D96709D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8F412-5B5B-4285-BA1F-2336D976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D1738-78CC-4C71-AFDA-847A51C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34CE8-E976-4590-AC54-69817BB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49D81-C300-48EB-B9B2-4BA6DBE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CCCD1-03D9-4183-B95D-3738441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CE2A4-0D21-4D53-B162-DE43D08F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3E4-3823-4485-8E8E-0F359E6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4F36C-B400-4DB0-9C41-9E457EC3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B4A7A-D4D2-4543-90B7-9CC3E104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F28F3-6B4E-4A3D-973D-941123B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F9CBE-03D9-44F0-B2D0-5B158CC9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8A960-0A86-4423-B6C4-656BB070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A8469-62D8-4DE7-9414-C370F0E1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DDBA-8B51-4457-8829-AF16335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496D-7021-49EC-8CB1-E76DB70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8FB1D-F2C5-4B5E-9E5F-FD2549FB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7B902-3892-4BEB-9F1A-FE01D41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67D-FD40-4B4F-BCBD-3D39C520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6D58E-4EA1-4F0F-9F9D-30B59D4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5E7B8-3431-4F42-BEBF-983227C9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805E-C64D-4E12-B44D-A82CC9B5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C38B1-7526-4BB3-B2F9-D554B5C8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E072F-085A-4F2C-8D2D-358D04A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B42A-75E2-4D87-B6E6-A960795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2819C-8602-4236-89C8-ACCB8248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40FF2-34A7-42DE-861C-10E4CF27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0FE19-010B-4C7B-9B58-56CF00A5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4190A-AB89-4D32-B9C2-7CDC54F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9A9F-F15B-47E4-A65B-A1BA989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A35BE-1887-4700-89C9-2A7B121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6AE93-C176-4C30-A3EC-28EACA2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BD5DD-B839-4B35-A310-2DA17C6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46DD0-2810-411E-B407-CD68E061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763F0-EFEA-4714-A05F-0020A5E5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C9E33-4DD0-4D25-83BD-B1C14EC4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66DDA-8E9B-45B7-B98E-E70293B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38A5C-D0BD-481F-99DC-486DBB4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22F28-AC80-4A28-834F-8BA2256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5CEEA-09BA-4931-9B7D-FEFBD95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6D99-2C4C-4446-A202-2615B9F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BDF43-AF08-4745-BA3B-C56C589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73857-5A18-4024-9EDF-9EC12041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BA3D8-BE1B-407D-BA9E-6C93B64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DBD7B-8D45-420A-902D-17678FDC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EC599-1913-44D4-962F-6A23E82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2437D-6087-48F4-959D-F2CDB80E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14D38-7DD9-463F-A05B-7A07BC11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A67-EB98-4F32-AEF8-8A655E2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B623-33C5-4BFC-82A1-C1589172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96D-6D56-4AC0-AC1F-E780D3E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3E3A-7547-4B19-B414-1D378328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E04-DBDC-491F-A675-25CB7845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067-5199-4B24-BCA2-05233A0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C1BB-9AC8-4E44-AB94-8EE54DDE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CFA8-B301-49ED-B007-7630312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0D35-C6BF-43B7-A119-89CFD148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DD68-AB18-4AED-9D22-EE73678A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68DB-2D22-4599-BAC3-0A6480E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9BB7-A8FF-4A61-B999-1779AE0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BE4B-EDD1-4CBD-BB1F-A916BFA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A70E-E1AA-420B-8631-C994699C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CBAF-FCFC-4459-9696-E78F9AE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0CF-7E44-499D-94F7-09D736C2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8986-558D-4F7A-8987-BA69F528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8702-D567-4051-BCA8-8999CDC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43C2-DF36-4AEC-A723-D04F3CA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5968-C2D2-4FF0-8B66-915F029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81A0-1D72-4B90-B7E9-1DBB1E8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DEBA-E5D4-432F-AAD1-1FC2475D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AEC5-5412-4017-A412-18D7D91F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F09F-FBA2-432D-8CC2-973339F8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93FB-1193-443C-B6B6-6191C3F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C9A8-5AD5-476F-9410-E0D11518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AE6-12CE-4815-A856-15291A57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B931-55DC-4552-B23B-F26A9D14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25E7-32B9-475A-AB4B-3BEC9F3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E2CA-BC11-4321-9377-E322642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4EF2-56CE-4B1F-97BD-03B8F2A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6BD8-12E6-48E8-9F11-BC60DF1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3041-A05F-4460-BD96-3DD9EC9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DDC2-F8E1-4F99-BB41-95140D8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7243-9AA0-4858-BF92-A22F1FB1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2825-CBC9-4C5A-AB6C-10AB7EEE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5236-9728-44A4-9BED-349C654D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B3C-A361-4C0F-9EDB-4385949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3192-99D9-475F-A4A8-C2416BC3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C01F-DAE1-4A99-A3BE-FB135616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626F-48F5-411C-9216-97DA201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59C0-CD98-4BA7-B830-50D8735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05AB-8547-49F6-9AF5-BACE9932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174F-427F-4BD9-9B29-B33A73F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4EC1-1EB5-48A7-B400-F6A7D4B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4492-2C91-401F-A911-5846822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4D8D-3FED-497D-AF01-9857A1E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D7C4-C0B0-491F-870B-EB6F3AB4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1C7-D0CC-4809-B4FB-2A535624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CF2B-1840-4D63-8758-B29918E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0AB0-F610-4095-A745-B7571D0E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27F1F-0680-41AC-9EB5-102C131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5CA35-E85B-42B7-BF72-5BF82028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D8BE-329E-45EC-8D0C-C2DA81E7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0885C-E8B4-49AA-99D0-057A31D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F00E-09DF-4B2C-9784-AF0D280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EABD8-7E40-4B0A-936A-9EB29B4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A7D6A-3630-4ED7-A438-9972370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557CE-BD9B-43D7-AB01-10EDA4E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B8E-00B2-4670-BA72-0CCE94F8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98F7-161C-4063-A2E2-87C21D3F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78A2-6E0F-430D-9D0D-71C994F6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C24C-0DC5-4840-A72B-9B0C1F8B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0A915-3A8F-4C5D-A0B7-FF5D83C2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F97E0-DF11-4E44-87DF-CC7B9E7D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1EA5F-5B5D-4DE0-AD76-2662DF9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E8D9B-AD5A-423B-BE68-54DCC5E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D9B9-F4F7-4CCE-B652-AB8816AF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CDC1-639F-4AFA-A74A-51927663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07E0-BD38-4DAE-A92E-1EADAE8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144-6406-4F2E-9AF0-92C8BEA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8306D-D0D8-46B7-B87B-F691E5F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54C4-9ABE-484B-8612-A4E008D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D62D-8A23-4DDD-88E0-C0A3ECA2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8F48-B88D-4C27-8917-E6C87D42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4A2B-F0EE-4817-B233-00D06262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CE1D6-9369-4EC6-BB64-61373015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99B3-EB4F-4860-9726-0D91EEBC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ED03-4CF2-4E60-A1AF-17E6C43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044A-591F-42C6-8ABE-12FE5A1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BEE34-7A9F-4624-96FD-DB8720C3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048-A414-4BBD-A021-62947AC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EE24-CB47-420E-BB06-64E554F5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8EA1A-F6B0-4AEC-B0AC-EC9AEE9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83D2E-2159-4815-B7D3-E93480C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E9151-CE96-40AA-A1D1-8C87B2C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0061-EF81-4888-AAF5-E64A72E1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0DEF-1A9B-49B5-A57B-A734AFAE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DA76-A81D-45A6-81F4-71150BB8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F86A-70A2-49AA-9CD4-1D95C302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3EFBA-F19D-4E0E-82E2-FA69F7C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DE253-8395-4E22-8D59-8A1CBDB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f8c4"/>
              </a:gs>
              <a:gs pos="100000">
                <a:srgbClr val="f6fbd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60D-2120-4FE8-90A0-4E0D285584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299B-6172-47A7-A666-1B8271EAE3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12AF-2241-492B-9366-A2188111C4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757-475A-4EC9-84D0-49A2BD6C57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BFA-DAFA-4E1D-AD63-A6301613EE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93E3-8237-4581-BF7A-4A55D57190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0A9-8346-41C0-99E1-F973273E39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CA0-5294-45E0-88A6-16820B6B0B4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CCC-16C7-46E0-A695-A2F2A5419F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BB6E-A649-40E3-BBDB-7371BD5202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0505-614E-423B-80A4-2650B47F5F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B44-BC4D-424A-A9F6-8CA60818C24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429F-F0A2-44AC-B142-8F2AAC5F51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24000" y="3860640"/>
          <a:ext cx="8640720" cy="13878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3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Alhaid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52280" y="260280"/>
            <a:ext cx="8763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diovascular system (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(increase in heart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 conduction ( + ve dromotropic effec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d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sodilatation induced by cholinomim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vasodilat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ropine flush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bronchial muscles (bronchodi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67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mydr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paralysis of circular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oplegia  (loss of near accommod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paralysis of ciliary mus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light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.O.P # glauc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r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Dry mouth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 sk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ver in infants and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64480" cy="6369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motilit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spasmodic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ina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 of urinary blad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y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urred vision – mydr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V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ycardia - atropine fl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T: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ipation, paralytic i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retio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ness of mouth , sandy eye, increased body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dation, halluc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ation (toxic d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 of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l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onvul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ing blan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ot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stigmine  ( IV slow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ng anticholinester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6320" y="333000"/>
            <a:ext cx="8991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Hyoscine (scopolam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re the differences between atropine and hyos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in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V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 depressan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emetic action used in motion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amn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closure glauco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te hypertrophy in old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a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03320" y="304920"/>
          <a:ext cx="8964360" cy="6400800"/>
        </p:xfrm>
        <a:graphic>
          <a:graphicData uri="http://schemas.openxmlformats.org/drawingml/2006/table">
            <a:tbl>
              <a:tblPr/>
              <a:tblGrid>
                <a:gridCol w="4932360"/>
                <a:gridCol w="403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rcular muscle of i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io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liary muscl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accommodation for near 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ydria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cycloplegi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loss of accommo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dycardia (    H.R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 (     H.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ry 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Line 20"/>
          <p:cNvSpPr/>
          <p:nvPr/>
        </p:nvSpPr>
        <p:spPr>
          <a:xfrm>
            <a:off x="251460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746748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79280" y="76320"/>
          <a:ext cx="8785440" cy="6681600"/>
        </p:xfrm>
        <a:graphic>
          <a:graphicData uri="http://schemas.openxmlformats.org/drawingml/2006/table">
            <a:tbl>
              <a:tblPr/>
              <a:tblGrid>
                <a:gridCol w="4548240"/>
                <a:gridCol w="4237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80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of sweat, saliva, lacrimal, bronchial, intestina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 al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Diarrhe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const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nchoconstri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bronchial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Bronchodila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Decrease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Line 19"/>
          <p:cNvSpPr/>
          <p:nvPr/>
        </p:nvSpPr>
        <p:spPr>
          <a:xfrm>
            <a:off x="5486400" y="3276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0"/>
          <p:cNvSpPr/>
          <p:nvPr/>
        </p:nvSpPr>
        <p:spPr>
          <a:xfrm flipV="1">
            <a:off x="468360" y="29714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1"/>
          <p:cNvSpPr/>
          <p:nvPr/>
        </p:nvSpPr>
        <p:spPr>
          <a:xfrm flipV="1">
            <a:off x="457200" y="3428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5410080" y="28195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5"/>
          <p:cNvSpPr/>
          <p:nvPr/>
        </p:nvSpPr>
        <p:spPr>
          <a:xfrm flipV="1">
            <a:off x="685800" y="5638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9"/>
          <p:cNvSpPr/>
          <p:nvPr/>
        </p:nvSpPr>
        <p:spPr>
          <a:xfrm>
            <a:off x="5334120" y="5638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179280" y="1197000"/>
            <a:ext cx="878544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students should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should be able to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Kinetics of muscarinic antago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ffects of atropine on the major orga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ist the clinical uses of muscarinic antagon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adverse effect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contraindications of anticholiner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dentify at least one antimuscarinic agent for each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special uses as peptic ulcer &amp; parkinsonism, motion sick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611280" y="260280"/>
            <a:ext cx="792000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304920" y="762120"/>
          <a:ext cx="8686800" cy="5883120"/>
        </p:xfrm>
        <a:graphic>
          <a:graphicData uri="http://schemas.openxmlformats.org/drawingml/2006/table">
            <a:tbl>
              <a:tblPr/>
              <a:tblGrid>
                <a:gridCol w="2320920"/>
                <a:gridCol w="1869840"/>
                <a:gridCol w="44960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or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yosc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Motion sickness, antispasmodic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Benz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arkinson's dis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om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am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Fundus examination of 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Ipra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Respiratory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9907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thma, COPD, inha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irenze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Stom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eptic ul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Glycopyyrol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s in hypermot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Oxybutyn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rinary urgency, Urinary incontin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s of 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inical uses of antimuscarin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ins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spasm as antispasmod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u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04560" y="99072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ntimuscarinic drugs reverse th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eostigmine on skeletal mus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1" descr="j0078711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 reverse action of cholinomimetics on muscar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ful in many applications including intestinal spasm, urinary urgency, vomiting, parkinsonism, asthma and peptic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ntraindicated in constipation, Prostate hypertrophy, tachycardia and glauc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Questions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rugs that block cholinerg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611280" y="260280"/>
            <a:ext cx="7920000" cy="806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962520" y="990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>
            <a:off x="2362320" y="175248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236232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655308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308960" y="198108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388120" y="20574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nicot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65530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2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548640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4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7"/>
          <p:cNvGrpSpPr/>
          <p:nvPr/>
        </p:nvGrpSpPr>
        <p:grpSpPr>
          <a:xfrm>
            <a:off x="990720" y="2590920"/>
            <a:ext cx="2819160" cy="457200"/>
            <a:chOff x="990720" y="2590920"/>
            <a:chExt cx="2819160" cy="457200"/>
          </a:xfrm>
        </p:grpSpPr>
        <p:sp>
          <p:nvSpPr>
            <p:cNvPr id="559" name="Line 11"/>
            <p:cNvSpPr/>
            <p:nvPr/>
          </p:nvSpPr>
          <p:spPr>
            <a:xfrm>
              <a:off x="2286000" y="259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990720" y="3048120"/>
              <a:ext cx="28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Straight Connector 22"/>
          <p:cNvSpPr/>
          <p:nvPr/>
        </p:nvSpPr>
        <p:spPr>
          <a:xfrm>
            <a:off x="3809160" y="3048120"/>
            <a:ext cx="180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4"/>
          <p:cNvSpPr/>
          <p:nvPr/>
        </p:nvSpPr>
        <p:spPr>
          <a:xfrm flipH="1">
            <a:off x="990720" y="3048120"/>
            <a:ext cx="288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3352680" y="4724280"/>
            <a:ext cx="3124440" cy="11430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0"/>
          <p:cNvSpPr/>
          <p:nvPr/>
        </p:nvSpPr>
        <p:spPr>
          <a:xfrm>
            <a:off x="426708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gli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670572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uromuscular bloc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7"/>
          <p:cNvSpPr/>
          <p:nvPr/>
        </p:nvSpPr>
        <p:spPr>
          <a:xfrm>
            <a:off x="152280" y="4724280"/>
            <a:ext cx="3124440" cy="121932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.g. atropine, hyos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4114800" y="20574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2666880" y="28195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2"/>
          <p:cNvSpPr/>
          <p:nvPr/>
        </p:nvSpPr>
        <p:spPr>
          <a:xfrm>
            <a:off x="5486400" y="2819520"/>
            <a:ext cx="144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4"/>
          <p:cNvSpPr/>
          <p:nvPr/>
        </p:nvSpPr>
        <p:spPr>
          <a:xfrm flipH="1">
            <a:off x="2666520" y="2819520"/>
            <a:ext cx="324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4800600" y="4495680"/>
            <a:ext cx="411480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7"/>
          <p:cNvSpPr/>
          <p:nvPr/>
        </p:nvSpPr>
        <p:spPr>
          <a:xfrm>
            <a:off x="228600" y="4495680"/>
            <a:ext cx="441972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133720" y="1371600"/>
            <a:ext cx="434340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152280" y="1371600"/>
            <a:ext cx="8991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Natural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as : Atropine - Hyosc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ahoma"/>
              </a:rPr>
              <a:t>Lipid sol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Good oral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Goo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Cross blood brain barrier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ahoma"/>
              </a:rPr>
              <a:t> (have CNS 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09480" y="76320"/>
            <a:ext cx="7925040" cy="1218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9"/>
          <p:cNvSpPr/>
          <p:nvPr/>
        </p:nvSpPr>
        <p:spPr>
          <a:xfrm>
            <a:off x="304920" y="1523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609480" y="76320"/>
            <a:ext cx="7925040" cy="1218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457200" y="2133720"/>
            <a:ext cx="8534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Benz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Hom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Tropicam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Pirenze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Ipr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trop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Glycopyrr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Oxybuty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5201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competitive blockade of muscarinic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&amp; hyoscine can block all muscarinic receptors 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(not selective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228600" y="1327320"/>
            <a:ext cx="8664480" cy="53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N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ed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vomiting ce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rkinsonian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basal gangl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ermia - excitement-halluc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80880" y="76320"/>
            <a:ext cx="8458200" cy="1066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rmacological effect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ropin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23:15Z</dcterms:created>
  <dc:creator>Marcelo</dc:creator>
  <dc:description/>
  <dc:language>en-US</dc:language>
  <cp:lastModifiedBy>GCUSER</cp:lastModifiedBy>
  <dcterms:modified xsi:type="dcterms:W3CDTF">2015-01-28T08:04:11Z</dcterms:modified>
  <cp:revision>39</cp:revision>
  <dc:subject/>
  <dc:title>Indirect cholinergic agonists</dc:title>
</cp:coreProperties>
</file>