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whoosh.wav" ContentType="audio/x-wav"/>
  <Override PartName="/ppt/media/image2.wmf" ContentType="image/x-wm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DFC1-DF60-479D-B336-9FD96304DA7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C0F2-5C9C-44E6-A34F-E8C16DC49B7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6B39-629D-4A83-A847-BA000C10945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A8A4-7647-4BA5-AF34-6762A54EFB70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E2AD-C184-4C79-899A-CA354F3CCC99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2BC1-94D3-4E03-A0DA-7C76EC2DA60B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D21-220A-4D07-8023-9D29F44D9CB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B92D-6C65-47F4-BA35-33718DC27C7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E165-8C23-4A36-91C3-629AE1CA1A77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DBC6-A66A-488C-995B-C8A8622AF6BF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67E5-48C2-4C4C-8399-7A4878A2E10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DE20-EDDC-4E64-9254-95DF9596D33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408E-A37D-4B2E-8129-3E8F823BA5B2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68BB-E0B9-4630-80E7-897599346EDD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FE88-39C2-4DEB-9C34-F719DC313DE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D4B3-FA2B-4405-B3F3-4F0ECD314BF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75A3-A294-4F36-ACFF-B1E32279BDF3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4C50-7911-4A3A-832B-BC837DA5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8FB3-A8A0-458B-A01D-08155C14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42045-6FAF-4C54-A7D5-67D5340B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0F5C3-6934-413F-B4E7-4BE9E1CC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61655-E722-4937-86F4-05FC2824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3879A-60DA-4F61-B364-16F155EC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A00D59-A9FC-4368-B5F6-4F5F77B6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4DDC5-6ECC-4B61-AB66-902F1113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D9941-32AA-4F79-9336-2837FF82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48B46-EFD3-4BE9-9E6B-CD93DB86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FA12A-C073-4782-8113-3E20DAF6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48CED-9AAA-4AF2-8E3F-791CDD77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1A28-EF99-41E5-8CDF-AF24A0ED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AA7A6-6622-432A-806D-BAA16D08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71021-B1D2-4909-82E3-8EF693EC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A5B0E6-2703-4F22-871E-1E3C0F6E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B6FFB-0F82-4B69-8947-10CC67B4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51D91-64C2-48B8-80A7-38C9E59B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35E5F-294C-418F-8718-B27B178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4E662-8B57-45F4-A771-83398D2C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80218-C46D-466E-BF22-A866290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F1EDE-3516-49AE-A552-0BC8868E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19B24-3083-42C8-B3A2-ACE10C8D0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BCF-2606-41A9-8A9E-088091A2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7AC62-F25B-48E7-A4F1-D1615A9F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BF0E5-7280-4F9E-A320-DEFF6FAE6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C6EDA2-822A-4658-BD8F-73B719CB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E483B-2253-4C33-AF6B-F1E552C4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55499-7E71-4156-8A56-8A847F80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58BA59-57CB-43B0-955F-20B6D40B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EC959-B26D-42E9-80E2-0885A1C3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51EE6-600B-4953-96A7-8DDD90B4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7E3307-54E9-41DA-8161-32813483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16A97-D325-4D65-89EE-66034051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B056-652A-43A4-AD5E-AA6D5F336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15988-B6E0-4C63-96AB-A79785E2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EEC7D-BD18-4962-8892-B901F5C3A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70B9E-892A-4FE3-ABAD-0465480A5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FFE2E7-92CB-4051-BE7D-49F1F3E7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A44CE-1673-45FD-82C1-19448CB4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29C22-29F9-4A45-9ACC-FD1E8630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49CD9-6967-42B7-AD26-E8092F7F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70A3D-8DC6-41FA-88A0-C0B087FC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10E92B-9AB4-4EF8-9A53-EFA8C34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DCE8E-4AB1-4392-B916-E8A430E9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4E98-CD78-4011-9FD7-08DB34B31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961F3-A796-4EDE-84A7-068D5FF1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969EC-AF6C-40F9-B066-FB3F2918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114B1-751E-47A3-885E-6A1B05C1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A6D423-4962-4093-9A33-AD053E08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98206-5614-4ACD-A05D-41A8DF9B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659A2-FB36-4156-A54D-86A08912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791B8-6D17-4518-8D49-B68696E6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F8A97F-5FCA-4CBC-B972-73B5CCD45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078BF-2496-4150-AFBA-13E6CA45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EAE19-8346-43C8-9826-E4756F59F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C998-91C2-4663-BF9F-97C50D31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97FB5-2945-4654-A8E8-EAF49EC0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DA46F-858F-4ED8-A28C-A29362AE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17D87B-1EE8-4931-AAA2-AEC99BB7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F91D42-92D1-464C-BF9D-B47D04B0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FB868-DF39-4705-BE7B-A8C094F1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9ED790-F064-4071-8B49-195C69EF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79FF5-623B-4A7F-BEBA-F876BBE0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B683-5432-459A-B452-3C97D89C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FFDA-6239-4895-BAFA-139116C9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46E1-2112-4288-94ED-7473F962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6D3C-C00F-44FA-96A4-04B4CB43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BA6-D3CB-4578-AFC0-654B323B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2F7D-BAF8-4CDF-86BA-32B0C795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E7E1-E5A2-4745-B2E7-1CF5C80F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0A72-F474-4B27-A21E-06453B0E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E4F5-6048-46BC-8420-18F2FFD8F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F313-2921-4435-A4DE-ECFC961C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65CBB-2C2B-474A-8784-87E6DBEF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EA22-2AF9-487A-9404-FD102B4C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7FCF-B931-4B54-BABF-89D58A29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E68F-D67A-4A84-8B2D-2B4C3D0E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32432-E2D6-4374-932A-53094EDF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695C-E9E3-4B28-A3A7-E5511329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3239D-307D-45E6-BBB8-CF59DA49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887AF-09D6-4E5F-9FEA-8970E09F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A3157-2C29-44AC-A124-88AA326F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4BEA-B57D-4434-8D87-259FAB97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F1C9-83BD-472A-9388-8E88B73A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01988-8E7A-45BC-A6DC-2D593A9A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155AC-2FC0-4E30-A0E7-FAD8CC60D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C25D9-45D2-4FF7-B8CE-7D9D311D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C40B-2A6B-422E-9A6E-B8668C1F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CEAA-C202-420A-BF8F-74B72155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B64-EB65-4A66-9F08-9E5CD51E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F5030-BDB1-4A54-83B7-CF77ACE0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C1BCA-8F93-4E57-8B46-EEFE3E40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3F012-6699-4791-BFE9-F74CC4CD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8F73D-6856-4723-8A33-C02887F5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859BF-C7F9-4BA2-B9C5-9689FD1C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A1A4-D5BB-4D5A-AF22-6A7C4039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8798-FE75-4B49-8527-3B026897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BFCB-B464-4DC7-AB0A-A426D691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20E28-866E-482D-BC6C-27FFB039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7EC05-43CB-46C1-9559-CB18786C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3F7-EA57-4C94-9E00-B9ED27C2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EF30E-BB2D-49AF-8BD5-D586B50E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E33B8-B899-4385-9A2B-6D0DE256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E11EB-1122-4C6A-BA77-7D0654C4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B5E69-7658-44D9-A823-8EA801E2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7BF77-4854-4FB7-87BD-D6F6E75E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6E1DC-AECD-46BA-B8EE-D932412B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5A366-8B5A-41FA-A7C7-F1BE722D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F82A7-2943-4218-AE42-7314E52C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6867A-D052-4EAA-A9DD-8481078E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22207-B782-48DD-8D37-75859B9A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199E-DB97-4A3F-9A70-5596046E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0D410-E6BB-4F12-BC6E-C0DC0BF1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F8D23-C549-4F29-8B90-3C76D281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7F078-BDF1-4EF5-B2FB-4BB1B3A6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9AA55-9DCD-459E-A978-6650CF84A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90758-53DA-465F-B820-A17A3A8B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2BEEFB-EC54-430A-97CB-2E408157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A3650-95CC-4E4B-8C38-F5D8E5A2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D7545-A58D-47E0-86AC-CC1EE31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818D2-8461-4501-B21D-C3057B0A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B2255-9CF5-407D-8E18-605444B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FE0F-ADD5-40DA-85F1-6AC42E19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63D1C-FF80-4532-98F6-2C77C5A6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67BAE-338B-4C27-B797-CCD73DDD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E3966-6125-4E4F-9B84-4B9CF7FF1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C7FB9-19AA-494A-AC40-71411C75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5417B-C341-4977-90A5-B2301CC9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A2CC7-A7EE-4F8E-A6DA-CCC31E3A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C62B9-29A7-4DFE-B57C-56064310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26AE0-6701-4587-8A47-F34CB614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6D95A-33BB-47B4-8B65-42EB4268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9459A-CADF-4584-94B7-4C8979AA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932-2A2D-4E9A-853B-05F2B034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2984C-5E42-4F8D-A58C-2C66FE94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23D22-D3DA-497E-BC29-5251AECF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540FA-C51C-4675-9431-5EFDF3304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9143E-F838-4D5B-BB2F-6043D2A94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1F2D-F29E-4AC6-AC95-530C45E02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0FD08-BFBB-415F-854B-445CA7E7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62841-7A01-42B4-B8D1-6AD94FC6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9DDA1-90DD-4E1B-AF3E-EB18B6EC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2CF8F-E44D-4CEB-895F-6D7C8CD7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C2F9A-A711-4F4E-8932-B14A0B28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0DA0-BE5B-44C4-A255-98D399D9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CCA9F-8B9A-499C-8EE8-42BECAB0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4D8BD-CDDF-4088-BDEF-E0398254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3EAB9-274B-4970-97C9-A5A4B6F7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81707-DF04-4B8E-A65A-B5056195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812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E0227A-92ED-433E-B79C-1B459F3E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812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4D5C2-AD1D-4819-9D5C-1DA31779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812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7BB3A-E325-487D-A690-D712C368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1FDCF-1979-46B5-99DE-F8B23CDE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C165E-D6BD-4766-BD4E-0A135E0B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28D1A-FC76-4856-B119-0D1554889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eff8c4"/>
              </a:gs>
              <a:gs pos="100000">
                <a:srgbClr val="f6fbdf"/>
              </a:gs>
            </a:gsLst>
            <a:lin ang="54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E05E-758D-4A36-B028-525A8F71891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61F3-59F2-4FB5-A521-FF7153CE527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D77-2653-497D-B6CA-1DFD5EA8DFA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3EB7E-2386-4B17-8D60-B424CD7504DF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C299-F3F9-4EA7-B8D0-F1910C55E41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5698-CD14-4C78-8E24-5BB3D392D3C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E6AF-754E-457A-8999-2CF780AE87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F199-9846-47A3-9285-53439F8BD12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77DA-62AC-48F0-BA55-BC68304B9EB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7A5A-1FB0-4E5E-8548-A8098CFB5BF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E9E2-EBC3-4B01-837F-611DCCE572C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D302-EDDC-4030-BBE4-576DF6E05DE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69BA-651C-4BA7-BA94-F86101915EF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4"/>
          <p:cNvSpPr/>
          <p:nvPr/>
        </p:nvSpPr>
        <p:spPr>
          <a:xfrm>
            <a:off x="1187280" y="1628640"/>
            <a:ext cx="7056720" cy="1729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324000" y="3860640"/>
          <a:ext cx="8640720" cy="138780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138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Hanan Hag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. Alhaider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armacology Depart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152280" y="260280"/>
            <a:ext cx="87631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ardiovascular system (C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 (increase in heart r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 conduction ( + ve dromotropic effect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rapeutic d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sodilatation induced by cholinomime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xic dose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taneous vasodilata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tropine flush)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spirato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bronchial muscles (bronchodi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cosit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6677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ive mydri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e to paralysis of circular mus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cloplegia  (loss of near accommod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ue to paralysis of ciliary mus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s of light refl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.O.P # glauc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rim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ndy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ecre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ivary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Dry mouth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ing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y ski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ever in infants and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isco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rimal secretion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andy 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64480" cy="6369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smooth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T motilit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spasmodic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cter con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rina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xation of smooth muscles of urinary blad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hincter contra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4572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10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10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76320" y="152280"/>
            <a:ext cx="899136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id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ye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lurred vision – mydri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V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achycardia - atropine flu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UT: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ret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GIT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ipation, paralytic i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ecretion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ryness of mouth , sandy eye, increased body tempera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NS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dation, hallucin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itation (toxic do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1000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5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reatment of tox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ric lav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convuls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ling blan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ntidote: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ostigmine  ( IV slow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acting anticholinestera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76320" y="333000"/>
            <a:ext cx="8991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Hyoscine (scopolam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hat are the differences between atropine and hyosc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oscine 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hort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ion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s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VS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NS depressant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emetic action used in motion s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produce amne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train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aucoma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gle closure glauco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te hypertrophy in old pati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a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4" name=""/>
          <p:cNvGraphicFramePr/>
          <p:nvPr/>
        </p:nvGraphicFramePr>
        <p:xfrm>
          <a:off x="103320" y="304920"/>
          <a:ext cx="8964360" cy="6400800"/>
        </p:xfrm>
        <a:graphic>
          <a:graphicData uri="http://schemas.openxmlformats.org/drawingml/2006/table">
            <a:tbl>
              <a:tblPr/>
              <a:tblGrid>
                <a:gridCol w="4932360"/>
                <a:gridCol w="403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rgic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holinergic ac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272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Ey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ircular muscle of i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miosi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Ciliary muscle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accommodation for near vi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mydriasi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(cycloplegia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loss of accommo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Hea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dycardia (    H.R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chycardia (     H.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Urinary blad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sphinc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Urin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sphinc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Urinary re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5" name="Line 20"/>
          <p:cNvSpPr/>
          <p:nvPr/>
        </p:nvSpPr>
        <p:spPr>
          <a:xfrm>
            <a:off x="2514600" y="4114800"/>
            <a:ext cx="0" cy="504720"/>
          </a:xfrm>
          <a:prstGeom prst="line">
            <a:avLst/>
          </a:prstGeom>
          <a:ln w="57240">
            <a:solidFill>
              <a:srgbClr val="090d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7467480" y="4114800"/>
            <a:ext cx="0" cy="504720"/>
          </a:xfrm>
          <a:prstGeom prst="line">
            <a:avLst/>
          </a:prstGeom>
          <a:ln w="57240">
            <a:solidFill>
              <a:srgbClr val="090d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79280" y="76320"/>
          <a:ext cx="8785440" cy="6681600"/>
        </p:xfrm>
        <a:graphic>
          <a:graphicData uri="http://schemas.openxmlformats.org/drawingml/2006/table">
            <a:tbl>
              <a:tblPr/>
              <a:tblGrid>
                <a:gridCol w="4548240"/>
                <a:gridCol w="4237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olinergic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cholinergic dru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80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Exocrine g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crease of sweat, saliva, lacrimal, bronchial, intestinal secre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rease all secre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G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tal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axation of sphincter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Diarrhe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istal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ction of sphincter</a:t>
                      </a: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90db7"/>
                          </a:solidFill>
                          <a:latin typeface="Times New Roman"/>
                          <a:ea typeface="Times New Roman"/>
                        </a:rPr>
                        <a:t>const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000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66"/>
                          </a:solidFill>
                          <a:latin typeface="Times New Roman"/>
                          <a:ea typeface="Times New Roman"/>
                        </a:rPr>
                        <a:t>L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nchoconstri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95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bronchial 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Bronchodila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     Decrease secre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Line 19"/>
          <p:cNvSpPr/>
          <p:nvPr/>
        </p:nvSpPr>
        <p:spPr>
          <a:xfrm>
            <a:off x="5486400" y="32767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0"/>
          <p:cNvSpPr/>
          <p:nvPr/>
        </p:nvSpPr>
        <p:spPr>
          <a:xfrm flipV="1">
            <a:off x="468360" y="297144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1"/>
          <p:cNvSpPr/>
          <p:nvPr/>
        </p:nvSpPr>
        <p:spPr>
          <a:xfrm flipV="1">
            <a:off x="457200" y="342864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2"/>
          <p:cNvSpPr/>
          <p:nvPr/>
        </p:nvSpPr>
        <p:spPr>
          <a:xfrm>
            <a:off x="5410080" y="2819520"/>
            <a:ext cx="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5"/>
          <p:cNvSpPr/>
          <p:nvPr/>
        </p:nvSpPr>
        <p:spPr>
          <a:xfrm flipV="1">
            <a:off x="685800" y="5638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19"/>
          <p:cNvSpPr/>
          <p:nvPr/>
        </p:nvSpPr>
        <p:spPr>
          <a:xfrm>
            <a:off x="5334120" y="5638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/>
          <p:cNvSpPr/>
          <p:nvPr/>
        </p:nvSpPr>
        <p:spPr>
          <a:xfrm>
            <a:off x="179280" y="1197000"/>
            <a:ext cx="8785440" cy="558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What students should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 should be able to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 Kinetics of muscarinic antagoni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ffects of atropine on the major orga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ist the clinical uses of muscarinic antagonis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know adverse effects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contraindications of anticholiner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identify at least one antimuscarinic agent for each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special uses as peptic ulcer &amp; parkinsonism, motion sick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611280" y="260280"/>
            <a:ext cx="7920000" cy="5763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4" name=""/>
          <p:cNvGraphicFramePr/>
          <p:nvPr/>
        </p:nvGraphicFramePr>
        <p:xfrm>
          <a:off x="304920" y="762120"/>
          <a:ext cx="8686800" cy="5883120"/>
        </p:xfrm>
        <a:graphic>
          <a:graphicData uri="http://schemas.openxmlformats.org/drawingml/2006/table">
            <a:tbl>
              <a:tblPr/>
              <a:tblGrid>
                <a:gridCol w="2320920"/>
                <a:gridCol w="1869840"/>
                <a:gridCol w="449604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ahoma"/>
                        </a:rPr>
                        <a:t>org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s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8c4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re-anesthetic medic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ntispasmodic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yosc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re-anesthetic medication,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Motion sickness, antispasmodic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Benz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C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arkinson's dise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Hom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atro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cam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Fundus examination of ey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Ipra</a:t>
                      </a:r>
                      <a:r>
                        <a:rPr b="1" lang="en-US" sz="2200" spc="-1" strike="noStrike">
                          <a:solidFill>
                            <a:srgbClr val="008000"/>
                          </a:solidFill>
                          <a:latin typeface="Arial"/>
                          <a:ea typeface="Tahoma"/>
                        </a:rPr>
                        <a:t>tropi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Respiratory syste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990720" indent="-533520" algn="just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thma, COPD, inha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irenzepi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Stom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Peptic ulc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Glycopyyrola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GI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Antispasmodics in hypermotili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Oxybutyn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c00000"/>
                          </a:solidFill>
                          <a:latin typeface="Arial"/>
                          <a:ea typeface="Tahoma"/>
                        </a:rPr>
                        <a:t>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Urinary urgency, Urinary incontin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5" name="Rectangle 4"/>
          <p:cNvSpPr/>
          <p:nvPr/>
        </p:nvSpPr>
        <p:spPr>
          <a:xfrm>
            <a:off x="609480" y="76320"/>
            <a:ext cx="7920000" cy="57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es of antimuscarin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64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inical uses of antimuscarinic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kins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m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ptic ulc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stinal spasm as antispasmod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ary u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304560" y="990720"/>
            <a:ext cx="8381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antimuscarinic drugs reverse the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neostigmine on skeletal musc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1" descr="j0078711"/>
          <p:cNvPicPr/>
          <p:nvPr/>
        </p:nvPicPr>
        <p:blipFill>
          <a:blip r:embed="rId1"/>
          <a:stretch/>
        </p:blipFill>
        <p:spPr>
          <a:xfrm>
            <a:off x="6248520" y="228600"/>
            <a:ext cx="24382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 reverse action of cholinomimetics on muscarinic recep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useful in many applications including intestinal spasm, urinary urgency, vomiting, parkinsonism, asthma and peptic ulc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contraindicated in constipation, Prostate hypertrophy, tachycardia and glauco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2" descr="new_pa2"/>
          <p:cNvPicPr/>
          <p:nvPr/>
        </p:nvPicPr>
        <p:blipFill>
          <a:blip r:embed="rId1"/>
          <a:stretch/>
        </p:blipFill>
        <p:spPr>
          <a:xfrm>
            <a:off x="250920" y="1231920"/>
            <a:ext cx="8893080" cy="439272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24000" y="838080"/>
            <a:ext cx="843912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Thank you</a:t>
            </a: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7200" spc="-1" strike="noStrike">
                <a:solidFill>
                  <a:srgbClr val="000000"/>
                </a:solidFill>
                <a:latin typeface="Bodoni MT Black"/>
              </a:rPr>
              <a:t>Questions ?</a:t>
            </a:r>
            <a:r>
              <a:rPr b="0" lang="en-US" sz="4000" spc="-1" strike="noStrike">
                <a:solidFill>
                  <a:srgbClr val="000000"/>
                </a:solidFill>
                <a:latin typeface="Bodoni MT Black"/>
              </a:rPr>
              <a:t> </a:t>
            </a:r>
            <a:endParaRPr b="0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52280" y="1980720"/>
            <a:ext cx="8839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drugs that block cholinergic re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611280" y="260280"/>
            <a:ext cx="7920000" cy="806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5"/>
          <p:cNvSpPr/>
          <p:nvPr/>
        </p:nvSpPr>
        <p:spPr>
          <a:xfrm>
            <a:off x="3962520" y="990720"/>
            <a:ext cx="0" cy="761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6"/>
          <p:cNvSpPr/>
          <p:nvPr/>
        </p:nvSpPr>
        <p:spPr>
          <a:xfrm>
            <a:off x="2362320" y="1752480"/>
            <a:ext cx="4190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7"/>
          <p:cNvSpPr/>
          <p:nvPr/>
        </p:nvSpPr>
        <p:spPr>
          <a:xfrm>
            <a:off x="2362320" y="1752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6553080" y="1752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9"/>
          <p:cNvSpPr/>
          <p:nvPr/>
        </p:nvSpPr>
        <p:spPr>
          <a:xfrm>
            <a:off x="1308960" y="198108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5388120" y="205740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nicot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1"/>
          <p:cNvSpPr/>
          <p:nvPr/>
        </p:nvSpPr>
        <p:spPr>
          <a:xfrm>
            <a:off x="6553080" y="25146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2"/>
          <p:cNvSpPr/>
          <p:nvPr/>
        </p:nvSpPr>
        <p:spPr>
          <a:xfrm>
            <a:off x="5486400" y="2971800"/>
            <a:ext cx="2362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5486400" y="2971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4"/>
          <p:cNvSpPr/>
          <p:nvPr/>
        </p:nvSpPr>
        <p:spPr>
          <a:xfrm>
            <a:off x="7848720" y="2971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17"/>
          <p:cNvGrpSpPr/>
          <p:nvPr/>
        </p:nvGrpSpPr>
        <p:grpSpPr>
          <a:xfrm>
            <a:off x="990720" y="2590920"/>
            <a:ext cx="2819160" cy="457200"/>
            <a:chOff x="990720" y="2590920"/>
            <a:chExt cx="2819160" cy="457200"/>
          </a:xfrm>
        </p:grpSpPr>
        <p:sp>
          <p:nvSpPr>
            <p:cNvPr id="559" name="Line 11"/>
            <p:cNvSpPr/>
            <p:nvPr/>
          </p:nvSpPr>
          <p:spPr>
            <a:xfrm>
              <a:off x="2286000" y="2590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12"/>
            <p:cNvSpPr/>
            <p:nvPr/>
          </p:nvSpPr>
          <p:spPr>
            <a:xfrm>
              <a:off x="990720" y="3048120"/>
              <a:ext cx="2819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Straight Connector 22"/>
          <p:cNvSpPr/>
          <p:nvPr/>
        </p:nvSpPr>
        <p:spPr>
          <a:xfrm>
            <a:off x="3809160" y="3048120"/>
            <a:ext cx="1800" cy="167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4"/>
          <p:cNvSpPr/>
          <p:nvPr/>
        </p:nvSpPr>
        <p:spPr>
          <a:xfrm flipH="1">
            <a:off x="990720" y="3048120"/>
            <a:ext cx="2880" cy="1676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27"/>
          <p:cNvSpPr/>
          <p:nvPr/>
        </p:nvSpPr>
        <p:spPr>
          <a:xfrm>
            <a:off x="3352680" y="4724280"/>
            <a:ext cx="3124440" cy="11430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nthetic atropine substit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30"/>
          <p:cNvSpPr/>
          <p:nvPr/>
        </p:nvSpPr>
        <p:spPr>
          <a:xfrm>
            <a:off x="4267080" y="3352680"/>
            <a:ext cx="22860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nglion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6705720" y="3352680"/>
            <a:ext cx="2286000" cy="914400"/>
          </a:xfrm>
          <a:prstGeom prst="rect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uromuscular block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609480" y="76320"/>
            <a:ext cx="79200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cholinerg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7"/>
          <p:cNvSpPr/>
          <p:nvPr/>
        </p:nvSpPr>
        <p:spPr>
          <a:xfrm>
            <a:off x="152280" y="4724280"/>
            <a:ext cx="3124440" cy="121932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urally occurring alkaloids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.g. atropine, hyos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76312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11"/>
          <p:cNvSpPr/>
          <p:nvPr/>
        </p:nvSpPr>
        <p:spPr>
          <a:xfrm>
            <a:off x="4114800" y="205740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2666880" y="2819520"/>
            <a:ext cx="281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22"/>
          <p:cNvSpPr/>
          <p:nvPr/>
        </p:nvSpPr>
        <p:spPr>
          <a:xfrm>
            <a:off x="5486400" y="2819520"/>
            <a:ext cx="1440" cy="1674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4"/>
          <p:cNvSpPr/>
          <p:nvPr/>
        </p:nvSpPr>
        <p:spPr>
          <a:xfrm flipH="1">
            <a:off x="2666520" y="2819520"/>
            <a:ext cx="3240" cy="1676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27"/>
          <p:cNvSpPr/>
          <p:nvPr/>
        </p:nvSpPr>
        <p:spPr>
          <a:xfrm>
            <a:off x="4800600" y="4495680"/>
            <a:ext cx="4114800" cy="9144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nthetic atropine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609480" y="76320"/>
            <a:ext cx="7920000" cy="9144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7"/>
          <p:cNvSpPr/>
          <p:nvPr/>
        </p:nvSpPr>
        <p:spPr>
          <a:xfrm>
            <a:off x="228600" y="4495680"/>
            <a:ext cx="4419720" cy="914400"/>
          </a:xfrm>
          <a:prstGeom prst="rect">
            <a:avLst/>
          </a:prstGeom>
          <a:solidFill>
            <a:srgbClr val="259edb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turally occurring alkal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9"/>
          <p:cNvSpPr/>
          <p:nvPr/>
        </p:nvSpPr>
        <p:spPr>
          <a:xfrm>
            <a:off x="2133720" y="1371600"/>
            <a:ext cx="4343400" cy="581400"/>
          </a:xfrm>
          <a:prstGeom prst="rect">
            <a:avLst/>
          </a:prstGeom>
          <a:solidFill>
            <a:srgbClr val="ffcc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152280" y="1371600"/>
            <a:ext cx="8991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Natural alkal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Drugs as : Atropine - Hyosc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ahoma"/>
              </a:rPr>
              <a:t>Lipid solu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Good oral absor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Good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Cross blood brain barrier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ahoma"/>
              </a:rPr>
              <a:t> (have CNS a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609480" y="76320"/>
            <a:ext cx="7925040" cy="1218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Box 9"/>
          <p:cNvSpPr/>
          <p:nvPr/>
        </p:nvSpPr>
        <p:spPr>
          <a:xfrm>
            <a:off x="304920" y="152388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Synthetic atropine substit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609480" y="76320"/>
            <a:ext cx="7925040" cy="121896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457200" y="2133720"/>
            <a:ext cx="8534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Benz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ahoma"/>
              </a:rPr>
              <a:t>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Hom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ahoma"/>
              </a:rPr>
              <a:t>tro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Tropicama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Pirenze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Ipra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ahoma"/>
              </a:rPr>
              <a:t>trop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Glycopyrro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ahoma"/>
              </a:rPr>
              <a:t>Oxybutyn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228240" y="762120"/>
            <a:ext cx="852012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ible competitive blockade of muscarinic recep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ropine&amp; hyoscine can block all muscarinic receptors 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(not selective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4"/>
          <p:cNvSpPr/>
          <p:nvPr/>
        </p:nvSpPr>
        <p:spPr>
          <a:xfrm>
            <a:off x="609480" y="76320"/>
            <a:ext cx="7920000" cy="576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muscarinic dru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228600" y="1327320"/>
            <a:ext cx="8664480" cy="53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N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NS depression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Seda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 effect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block vomiting cent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parkinsonian effect (</a:t>
            </a:r>
            <a:r>
              <a:rPr b="1" lang="en-US" sz="3200" spc="-1" strike="noStrike">
                <a:solidFill>
                  <a:srgbClr val="090db7"/>
                </a:solidFill>
                <a:latin typeface="Times New Roman"/>
                <a:ea typeface="Times New Roman"/>
              </a:rPr>
              <a:t>block basal gangli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>
              <a:lnSpc>
                <a:spcPct val="8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oxic do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22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thermia - excitement-hallucin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380880" y="76320"/>
            <a:ext cx="8458200" cy="10666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armacological effects o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ropin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7:23:15Z</dcterms:created>
  <dc:creator>Marcelo</dc:creator>
  <dc:description/>
  <dc:language>en-US</dc:language>
  <cp:lastModifiedBy>GCUSER</cp:lastModifiedBy>
  <dcterms:modified xsi:type="dcterms:W3CDTF">2015-01-28T08:04:11Z</dcterms:modified>
  <cp:revision>39</cp:revision>
  <dc:subject/>
  <dc:title>Indirect cholinergic agonists</dc:title>
</cp:coreProperties>
</file>