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4.png" ContentType="image/png"/>
  <Override PartName="/ppt/media/laser.wav" ContentType="audio/x-wav"/>
  <Override PartName="/ppt/media/whoosh.wav" ContentType="audio/x-wav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4DF9-C41E-4158-82AA-78619694A5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E5F3-71A0-4BA6-80BD-FFCC748EEA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DE45-20C7-463F-A7EC-AD97D2E8F3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87CC-63CC-491E-BBC0-0074AA5966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B6B6-E7C1-48CF-AE0F-FB215AD43D23}" type="slidenum">
              <a:rPr b="0" lang="ar-EG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632-B485-4674-B50C-EE4F32C6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310-74FB-45C0-A1CF-69BD8BAA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C2E-92C5-466B-A941-CAA70395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801-CD19-46F9-9BEA-3E7CA243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EC21-1298-4A6A-ACA0-A9AF7B32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D5B-A09F-4873-AAC1-78C2932E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E82-BAF0-4DEC-991E-0969A691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AFB-B6EB-43D7-BBDB-3FC31C34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D1AE-8183-4741-BAAD-88AE0FF4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F55-C9AE-4138-8200-4953BD9C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337F-386B-4262-8F9A-026BAC91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C7A-18A9-4989-B55A-A6490C7D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77DB-DA85-4238-B9A0-9BE0CC6DC8F9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4000" y="382320"/>
            <a:ext cx="8193240" cy="17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rmacology of drugs used i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sthma &amp; COP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5920" y="2100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. Hanan Hag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5600" y="3967200"/>
            <a:ext cx="271152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72800" y="205920"/>
            <a:ext cx="8767800" cy="645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fferent nerves (motor nerves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rasympathetic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 sympathetic suppl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ceptors in smooth muscles and gla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40976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 mucus secre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3382920" y="2556000"/>
            <a:ext cx="228600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3" name="Picture 6" descr="respiratory"/>
          <p:cNvPicPr/>
          <p:nvPr/>
        </p:nvPicPr>
        <p:blipFill>
          <a:blip r:embed="rId1"/>
          <a:stretch/>
        </p:blipFill>
        <p:spPr>
          <a:xfrm>
            <a:off x="252360" y="249120"/>
            <a:ext cx="86518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82520" y="276120"/>
            <a:ext cx="8818560" cy="636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) Quick relief medications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lieve acute episodic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ks of asthma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) Control therapy (prophylactic drug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drugs used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duce th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of attacks, and nocturnal awakenings.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2065320" y="255600"/>
            <a:ext cx="4619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 asthmatic drug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14480" y="866880"/>
            <a:ext cx="4438440" cy="575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ronchodilato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Quick relief medic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 acute attack of asth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actin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629240" y="885960"/>
            <a:ext cx="4371840" cy="575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nti-inflammatory Agents</a:t>
            </a:r>
            <a:r>
              <a:rPr b="1" lang="en-US" sz="28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 therapy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frequency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ticosteroi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ß2-agonis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dila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produce rapid relief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onchodila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- adrenoreceptor agonis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muscarini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anthine prepa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2160" y="166320"/>
            <a:ext cx="8783640" cy="63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ympathomimetic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adrenoceptor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17bbfd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imulate adenyl cyclas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MP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mucus clearance by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ncreasing ciliary activit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79360" y="286920"/>
            <a:ext cx="860904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lassification of </a:t>
            </a:r>
            <a:r>
              <a:rPr b="1" lang="en-US" sz="34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inephrine - isoprena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2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 agonists (Preferabl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(albutero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buta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8200" y="66600"/>
            <a:ext cx="8685360" cy="66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on selective </a:t>
            </a:r>
            <a:r>
              <a:rPr b="1" lang="en-US" sz="3600" spc="-1" strike="noStrike">
                <a:solidFill>
                  <a:srgbClr val="cc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agonis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pineph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ubcutaneously, S.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action (maximum effect within 15 mi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short duration of action (60-90 m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rug of choi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cute anaphylaxi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ypersensitivity re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10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90080" y="114120"/>
            <a:ext cx="8775720" cy="65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effective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chycardia, arrhythmia, hyperten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suitable for asthmatic patients with   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ntraindications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S patients, diabetic patien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86840" y="123480"/>
            <a:ext cx="8783640" cy="63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elective 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–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mainly given by </a:t>
            </a: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(metered dose inhaler or nebulizer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given orally, parenterally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butamol, terbutali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ß2 agonis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almeterol, formoterol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87200" y="258840"/>
            <a:ext cx="869472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Os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udents should be able 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types of drugs used for treatment of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e between treatment and prophylactic therapy for asth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ze the different types of bronchodilators regarding pharmacokinetics, pharmaco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the different anti-inflammatory drugs for asthma in respect to kinetics, dynamics, uses and side eff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90440" y="114120"/>
            <a:ext cx="8640720" cy="63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bulizer                           Inha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http://t2.gstatic.com/images?q=tbn:HMXOaS3Khjl4XM:http://drwaqipedia.files.wordpress.com/2009/08/steroid-inhaler.jpg"/>
          <p:cNvPicPr/>
          <p:nvPr/>
        </p:nvPicPr>
        <p:blipFill>
          <a:blip r:embed="rId1"/>
          <a:stretch/>
        </p:blipFill>
        <p:spPr>
          <a:xfrm>
            <a:off x="5111640" y="831960"/>
            <a:ext cx="2691000" cy="2401920"/>
          </a:xfrm>
          <a:prstGeom prst="rect">
            <a:avLst/>
          </a:prstGeom>
          <a:ln w="9360">
            <a:solidFill>
              <a:srgbClr val="696969">
                <a:alpha val="0"/>
              </a:srgbClr>
            </a:solidFill>
            <a:miter/>
          </a:ln>
        </p:spPr>
      </p:pic>
      <p:pic>
        <p:nvPicPr>
          <p:cNvPr id="76" name="Picture 5" descr="http://t3.gstatic.com/images?q=tbn:IxlfQqK05w844M:http://aiscracker.com/wp-content/uploads/2009/09/nebulizer.jpg"/>
          <p:cNvPicPr/>
          <p:nvPr/>
        </p:nvPicPr>
        <p:blipFill>
          <a:blip r:embed="rId2"/>
          <a:stretch/>
        </p:blipFill>
        <p:spPr>
          <a:xfrm>
            <a:off x="595440" y="841320"/>
            <a:ext cx="2900160" cy="2033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220px-Jet_nebulizer"/>
          <p:cNvPicPr/>
          <p:nvPr/>
        </p:nvPicPr>
        <p:blipFill>
          <a:blip r:embed="rId3"/>
          <a:stretch/>
        </p:blipFill>
        <p:spPr>
          <a:xfrm>
            <a:off x="577800" y="2976480"/>
            <a:ext cx="300852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4"/>
          <a:stretch/>
        </p:blipFill>
        <p:spPr>
          <a:xfrm>
            <a:off x="4911840" y="3257640"/>
            <a:ext cx="30366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45880" y="209160"/>
            <a:ext cx="8783640" cy="646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hort acting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butamol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nhalation, orally, i.v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erbutaline,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, orally, s.c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rapid onset of action (15-30 min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duration of action (4-6 hr)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</a:t>
            </a: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cute attack of asthma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rugs of choice)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1360" y="199800"/>
            <a:ext cx="8801280" cy="64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Long acting selective ß</a:t>
            </a:r>
            <a:r>
              <a:rPr b="1" lang="en-US" sz="36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goni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lmeterol &amp; formot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given by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acting bronchodilators (12 hours) due to  high lipid solubility (creates depot effect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re not used to relieve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episodes of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nocturnal asth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ned with inhaled corticosteroids to control asthma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decreases the number and severity of asthma attack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6600" y="182520"/>
            <a:ext cx="8988480" cy="648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CVS side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able for asthmatic patients with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disorders as hypertension or heart fail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isadvantages of ß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agonists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letal muscle trem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vous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lerance (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ceptors down regulat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dose may produce tachycardia due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08080" y="227160"/>
            <a:ext cx="873576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uscarinic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 – Tio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ro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blocking muscarinic receptor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aerosol inha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ternary derivatives of atropine (pol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not diffuse into the bloo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enter C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minimal systemic 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pratropi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short duration of action 3-5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iotropiu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longer duration of action (24 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2160" y="175680"/>
            <a:ext cx="8828280" cy="634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ronchoconstriction and mucus secre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nti-inflammatory action only bronchodil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choice in chronic obstructive pulmonary diseases (COPD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cute severe asthma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 &amp; 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23480" y="123840"/>
            <a:ext cx="8839080" cy="660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ethylxanthi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- aminophylline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 phosphodiestrase inhibitor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P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bronchodilation 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nosine receptors antagonists (A1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diaphragmatic contrac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bilization of mast cell membran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10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163440" y="1994040"/>
            <a:ext cx="2446560" cy="87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onchod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259240" y="977760"/>
            <a:ext cx="2490840" cy="41148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enyl cycl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5194440" y="3230640"/>
            <a:ext cx="3112920" cy="506160"/>
          </a:xfrm>
          <a:prstGeom prst="rect">
            <a:avLst/>
          </a:prstGeom>
          <a:solidFill>
            <a:srgbClr val="ffb8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osphodiester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4495680" y="210960"/>
            <a:ext cx="954360" cy="4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0"/>
          <p:cNvSpPr/>
          <p:nvPr/>
        </p:nvSpPr>
        <p:spPr>
          <a:xfrm>
            <a:off x="4578480" y="2178000"/>
            <a:ext cx="1022400" cy="42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4727520" y="5526000"/>
            <a:ext cx="1881360" cy="58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,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Line 23"/>
          <p:cNvSpPr/>
          <p:nvPr/>
        </p:nvSpPr>
        <p:spPr>
          <a:xfrm flipH="1">
            <a:off x="2619000" y="2454120"/>
            <a:ext cx="192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24"/>
          <p:cNvSpPr/>
          <p:nvPr/>
        </p:nvSpPr>
        <p:spPr>
          <a:xfrm>
            <a:off x="5508720" y="1504800"/>
            <a:ext cx="2571480" cy="49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+  </a:t>
            </a: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B-agon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5008680" y="2652840"/>
            <a:ext cx="0" cy="26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Line 28"/>
          <p:cNvSpPr/>
          <p:nvPr/>
        </p:nvSpPr>
        <p:spPr>
          <a:xfrm>
            <a:off x="4989600" y="689040"/>
            <a:ext cx="12600" cy="1471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5910120" y="4362480"/>
            <a:ext cx="2264040" cy="608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plified Arabic Fixed"/>
                <a:ea typeface="Simplified Arabic Fixed"/>
              </a:rPr>
              <a:t>Theophyl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Straight Connector 21"/>
          <p:cNvSpPr/>
          <p:nvPr/>
        </p:nvSpPr>
        <p:spPr>
          <a:xfrm>
            <a:off x="5821200" y="2898720"/>
            <a:ext cx="1438560" cy="133848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traight Connector 23"/>
          <p:cNvSpPr/>
          <p:nvPr/>
        </p:nvSpPr>
        <p:spPr>
          <a:xfrm flipH="1">
            <a:off x="5877000" y="2754360"/>
            <a:ext cx="1170000" cy="1460520"/>
          </a:xfrm>
          <a:prstGeom prst="line">
            <a:avLst/>
          </a:prstGeom>
          <a:ln w="50760">
            <a:solidFill>
              <a:srgbClr val="2c7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33200" y="123840"/>
            <a:ext cx="8877600" cy="64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harmacological effects 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muscle rela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ction of diaphragm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mprove venti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heart rate, ↑ force of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gastric acid secr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idney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renal blood flow, weak diuretic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st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stimulant effect on respiratory c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decrease fatigue &amp; elevate moo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overdose (tremors, nervousness, insomnia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uls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1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42560" y="190080"/>
            <a:ext cx="8739000" cy="651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kinet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phyllin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given o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inophyl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zed by Cyt P450 enzymes in liv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½= 8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many drug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duc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henobarbitone &amp; rifampici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↑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↓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zyme inhibi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rythromyc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sm of theophylline → ↑ T 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77920" y="258840"/>
            <a:ext cx="86040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ronchial Asthm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 is 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chronic inflammatory disord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airways that result in airwa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truction in response to external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 pollen grains, cold air and tobacco smok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90440" y="189000"/>
            <a:ext cx="8677440" cy="638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r>
              <a:rPr b="1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line drug in asthma (theophyllin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tatus asthmatics (aminophylline,  is given as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w infus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ow therapeutic index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rrow safety margin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itoring of theophylline blood level is necessary.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VS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ension, arrhythm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IT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usea &amp; vom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NS  side effects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mors, nervousness, insomnia, convul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10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18600" y="279360"/>
            <a:ext cx="8525160" cy="63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ophylactic therap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nti - inflammatory drug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 cell stabiliz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omalizum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0960" y="338040"/>
            <a:ext cx="87379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nti - inflammatory dru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control medications / prophylactic therap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ial hyper-reactiv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inflammation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the spasm of airw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00160" y="182520"/>
            <a:ext cx="8802720" cy="62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chanism of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 due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ospholipase A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aglandin and leukotrie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of inflammatory cells in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ation →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stamine rel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llary permeability and mucosal ede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09800" indent="-60984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ion of antigen-antibody rea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buClr>
                <a:srgbClr val="0000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pregulate </a:t>
            </a:r>
            <a:r>
              <a:rPr b="1" lang="el-GR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β</a:t>
            </a:r>
            <a:r>
              <a:rPr b="1" lang="en-US" sz="30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recepto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ave additive effect to B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1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168120" y="157320"/>
            <a:ext cx="8786880" cy="64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logical actions of 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unosuppressant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abolic eff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9c007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↑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in catabolism, </a:t>
            </a:r>
            <a:r>
              <a:rPr b="0" lang="en-US" sz="3200" spc="-1" strike="noStrike">
                <a:solidFill>
                  <a:srgbClr val="9c007f"/>
                </a:solidFill>
                <a:latin typeface="Times New Roman"/>
                <a:ea typeface="Times New Roman"/>
              </a:rPr>
              <a:t>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tein an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mulation o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ipolysis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eralocorticoid eff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dium/fluid reten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otassium excre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hypokalemia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lood volume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hypertensio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1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10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10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10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1000"/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10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havioral changes: depr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1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ne los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steoporosi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ibit bone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ium absorption from G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4160" y="258840"/>
            <a:ext cx="8710560" cy="63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5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Routes of administr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Budesonide &amp; Fluticasone, beclomet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metered-dose inhaler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first pass metabolis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t choice in asthma, less side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ly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nisone, methyl predniso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: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drocortisone, dexamethas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1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66680" y="166680"/>
            <a:ext cx="8734320" cy="64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Glucocorticoids in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inflam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 to stimu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layed onset of action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effect usually attained after 2-4 week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imum action at 9-12 month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as prophylactic medications, used alone or combined with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goni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allergic, exercise, antigen and irritant-induced asthma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0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2120" y="239760"/>
            <a:ext cx="8739360" cy="64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stemic corticosteroids are reserved for:</a:t>
            </a:r>
            <a:r>
              <a:rPr b="0" lang="en-US" sz="3200" spc="-1" strike="noStrike">
                <a:solidFill>
                  <a:srgbClr val="ff2bd8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asthmaticus (i.v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steroids should be consider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dult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with any of the following fea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inhaled β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gonists three times/we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ptomatic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tim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week or mor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ak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nigh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we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39760" y="237960"/>
            <a:ext cx="872496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haracters of airways in asthmatic patient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hyper-reactivity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normal sensitivity of the airways to any external stimuli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flam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ema, swe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 mucus produc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ronchospas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striction of the bronchial smooth muscl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655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linical Uses of glucocortico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lammatory disord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sthma, rheumatoid arthritis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tment of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immune disorder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cerative colitis, psoriasis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fter organ or bone marrow transplant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5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emetic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ncer chemotherap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  <p:sndAc>
      <p:stSnd>
        <p:snd r:embed="rId1" name="laser.wav"/>
      </p:stSnd>
    </p:sndAc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4840" y="212760"/>
            <a:ext cx="87818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 due to systemic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suppress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 retardation in childr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ceptibility to infe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teoporo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id retention, weight gain, hypertens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1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erglycemi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distribu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rac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5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5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5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228240" y="299880"/>
            <a:ext cx="86612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nhalation has very less side effec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opharyngeal candidiasis (thrush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sphonia (voice hoarsenes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ithdraw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upt stop of corticosteroids should be avoided and dose should be tapered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renal insufficiency syndrome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1" dur="indefinite" restart="never" nodeType="tmRoot">
          <p:childTnLst>
            <p:seq>
              <p:cTn id="1202" dur="indefinite" nodeType="mainSeq">
                <p:childTnLst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7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03040" y="291960"/>
            <a:ext cx="8678880" cy="62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ast cell stabiliz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romoglycate </a:t>
            </a:r>
            <a:r>
              <a:rPr b="1" i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</a:t>
            </a:r>
            <a:r>
              <a:rPr b="1" lang="en-US" sz="3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edocromi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 by stabilization of mast cell membra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by inhalation (aerosol, nebulize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poor oral absorption (10%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40840" y="245880"/>
            <a:ext cx="86886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harmacodynami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ophyla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ti-inflammatory dru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bronchial hyper-reactivity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ive in exercise, antigen and irritant-in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 respond better than 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nodeType="clickEffect" fill="hold">
                      <p:stCondLst>
                        <p:cond delay="indefinite"/>
                      </p:stCondLst>
                      <p:childTnLst>
                        <p:par>
                          <p:cTn id="1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58760" y="250560"/>
            <a:ext cx="8794800" cy="63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ctic therapy in asthma especially in child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ergic rhin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ctivit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ter ta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or upper respiratory tract irritation  (burning sensation, nasal conges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3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3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8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nodeType="clickEffect" fill="hold">
                      <p:stCondLst>
                        <p:cond delay="indefinite"/>
                      </p:stCondLst>
                      <p:childTnLst>
                        <p:par>
                          <p:cTn id="1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9680" y="471600"/>
            <a:ext cx="8147160" cy="59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82520" y="194760"/>
            <a:ext cx="8817120" cy="64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s antagonis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ukotri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hesized by inflammatory cells found in the airways (eosinophils, macrophages, mast cells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d by the action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-lipoxygenas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rachidonic aci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B4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otaxis of neutroph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ysteinyl leukotrienes C4, D4 &amp; E4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constri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bronchial hyper-reactivi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osal edema, ↑ mucus secretion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0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5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0" dur="10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0" t="8272" r="0" b="11029"/>
          <a:stretch/>
        </p:blipFill>
        <p:spPr>
          <a:xfrm>
            <a:off x="233280" y="236520"/>
            <a:ext cx="8472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12760" y="186840"/>
            <a:ext cx="8726400" cy="640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90400" indent="-5904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Leukotriene receptor antagonists</a:t>
            </a:r>
            <a:r>
              <a:rPr b="1" lang="en-US" sz="40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zafir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monte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, pran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lu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elective, reversible antagonists of cysteinyl leukotriene receptor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ysL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or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en oral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anti-inflammatory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effective than inhaled corticoster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0400" indent="-590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paring effec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tentiate corticosteroid ac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7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2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7" dur="1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2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10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0600" y="132840"/>
            <a:ext cx="8690040" cy="63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ses of leukotriene receptor ant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ffective in acute attack of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hylax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mild to moderate asth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pirin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gen and exercise-induced asth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combined with glucocorticoids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dditive effects, low dose of glucocorticoids can be used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ide effect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vation of liver enzymes, headache, dyspeps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210960" y="6367680"/>
            <a:ext cx="87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link.brightcove.com/services/player/bcpid236059233?bctid=3478068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صورة 1" descr="Figure A shows the location of the lungs and airways in the body. Figure B shows a cross-section of a normal airway. Figure C shows a cross-section of an airway during asthma symptoms."/>
          <p:cNvPicPr/>
          <p:nvPr/>
        </p:nvPicPr>
        <p:blipFill>
          <a:blip r:embed="rId1"/>
          <a:stretch/>
        </p:blipFill>
        <p:spPr>
          <a:xfrm>
            <a:off x="85680" y="155520"/>
            <a:ext cx="885528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05920" y="239760"/>
            <a:ext cx="8774280" cy="64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gE monoclonal antibod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.g. Omalizuma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monoclonal antibody directed against 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uman Ig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given by injection (s.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s IgE binding with its receptors on mast cells &amp; basoph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of allergic medi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ive-not first line therap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treatment of moderate to severe allergic asthma which does not respond to high doses of corticosteroi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nodeType="clickEffect" fill="hold">
                      <p:stCondLst>
                        <p:cond delay="indefinite"/>
                      </p:stCondLst>
                      <p:childTnLst>
                        <p:par>
                          <p:cTn id="1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9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nodeType="clickEffect" fill="hold">
                      <p:stCondLst>
                        <p:cond delay="indefinite"/>
                      </p:stCondLst>
                      <p:childTnLst>
                        <p:par>
                          <p:cTn id="1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nodeType="clickEffect" fill="hold">
                      <p:stCondLst>
                        <p:cond delay="indefinite"/>
                      </p:stCondLst>
                      <p:childTnLst>
                        <p:par>
                          <p:cTn id="1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4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1838160" y="176040"/>
            <a:ext cx="5072400" cy="6492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http://callisto.ggsrv.com/imgsrv/FastFetch/UBER1/ZI-5RLS-2012-JUN12-IDSI-2-1"/>
          <p:cNvPicPr/>
          <p:nvPr/>
        </p:nvPicPr>
        <p:blipFill>
          <a:blip r:embed="rId1"/>
          <a:stretch/>
        </p:blipFill>
        <p:spPr>
          <a:xfrm>
            <a:off x="141120" y="374760"/>
            <a:ext cx="89442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59920"/>
            <a:ext cx="82296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rugs used in chronic obstructive pulmonary disease (COP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5120" y="1436400"/>
            <a:ext cx="875376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P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 chronic irreversibl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rflow obstruction, lung damage and inflammation of the air sacs (alveoli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king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 high risk factor but air pollution and genetic factors can contribu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3560" y="390600"/>
            <a:ext cx="8745480" cy="61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59"/>
                </a:solidFill>
                <a:latin typeface="Times New Roman"/>
                <a:ea typeface="Times New Roman"/>
              </a:rPr>
              <a:t>Treatmen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bronchodi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glucocortico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ygen thera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biotic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ally macrolides such as 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zithromyci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duce the number of exacerbations.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ng transplantation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8280" y="195120"/>
            <a:ext cx="8963280" cy="62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led bronchodilators in CO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ed antimuscarini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ratropium &amp; tiotrop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superior to β2 agonists in COP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gonis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drugs can be used either alone or comb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butamol + ipratrop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meterol + Tiotropium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long acting-less dose frequency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>
            <a:lum bright="-18000"/>
          </a:blip>
          <a:srcRect l="21484" t="4934" r="15625" b="0"/>
          <a:stretch/>
        </p:blipFill>
        <p:spPr>
          <a:xfrm>
            <a:off x="114480" y="25560"/>
            <a:ext cx="8894520" cy="6804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210960" y="274680"/>
            <a:ext cx="29307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64960" y="635040"/>
          <a:ext cx="8672760" cy="5883120"/>
        </p:xfrm>
        <a:graphic>
          <a:graphicData uri="http://schemas.openxmlformats.org/drawingml/2006/table">
            <a:tbl>
              <a:tblPr/>
              <a:tblGrid>
                <a:gridCol w="3533760"/>
                <a:gridCol w="3578400"/>
                <a:gridCol w="1560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99"/>
                          </a:solidFill>
                          <a:latin typeface="Times New Roman"/>
                          <a:ea typeface="Times New Roman"/>
                        </a:rPr>
                        <a:t>Dru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B2 agonists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butamol, terbutalin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ort ac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in choic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in acute attack of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nyl cycl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meterol, formote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ng acting, Prophylaxi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cturnal asth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ntimuscarin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ratropium (Shor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otropium (lon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Main drugs For COP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locks M recepr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3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Xanthine derivativ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minophyl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arenterall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ibits phosphodiester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ext Box 57"/>
          <p:cNvSpPr/>
          <p:nvPr/>
        </p:nvSpPr>
        <p:spPr>
          <a:xfrm>
            <a:off x="450720" y="68400"/>
            <a:ext cx="840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nchodilators (relievers for bronchospas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31640" y="800280"/>
            <a:ext cx="82807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92240" y="635040"/>
          <a:ext cx="8745480" cy="5979960"/>
        </p:xfrm>
        <a:graphic>
          <a:graphicData uri="http://schemas.openxmlformats.org/drawingml/2006/table">
            <a:tbl>
              <a:tblPr/>
              <a:tblGrid>
                <a:gridCol w="5913360"/>
                <a:gridCol w="283212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orticosteroid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hibits phospholipase A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xamethasone, Fluticasone, budesoni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lvl="1" marL="179280">
                        <a:lnSpc>
                          <a:spcPct val="8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nisol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ydrocortiso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te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st stabiliz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romoglycate (Cromolyn), Nedocrom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halation, prophylaxis in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ysteinyl antagonist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CyLT1 antagoi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firlukast, monteluk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Omalizumab (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ti IgE antibod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jection, S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36"/>
          <p:cNvSpPr/>
          <p:nvPr/>
        </p:nvSpPr>
        <p:spPr>
          <a:xfrm>
            <a:off x="573120" y="0"/>
            <a:ext cx="74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-inflammatory drugs (prophylacti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nodeType="clickEffect" fill="hold">
                      <p:stCondLst>
                        <p:cond delay="indefinite"/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>
            <a:lum bright="-16000"/>
          </a:blip>
          <a:srcRect l="28847" t="20432" r="18030" b="21634"/>
          <a:stretch/>
        </p:blipFill>
        <p:spPr>
          <a:xfrm>
            <a:off x="4502160" y="187200"/>
            <a:ext cx="4506840" cy="651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Rectangle 2"/>
          <p:cNvSpPr/>
          <p:nvPr/>
        </p:nvSpPr>
        <p:spPr>
          <a:xfrm>
            <a:off x="0" y="222120"/>
            <a:ext cx="46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irway  hyper-re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7920" y="258840"/>
            <a:ext cx="863280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ymptoms of asthm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sthma produces recurrent episodic attack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 bronchoconstr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ness of brea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st t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g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ymptoms can happen each time the airway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re irritated by inhaled irritants or allerge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77560" y="299520"/>
            <a:ext cx="8607240" cy="62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au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 (cold 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asonal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otional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2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drugs as aspirin,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ock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44000" y="260280"/>
            <a:ext cx="8542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irways Innervation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fferent nerves (sensory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Irritant recep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upper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-fiber recepto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lower airw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timulated 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ogenous chemicals or irrit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 stimuli (cold ai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genous inflammatory mediators e.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am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10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CUSER</cp:lastModifiedBy>
  <dcterms:modified xsi:type="dcterms:W3CDTF">2015-02-05T09:07:56Z</dcterms:modified>
  <cp:revision>227</cp:revision>
  <dc:subject/>
  <dc:title>PowerPoint Presentation</dc:title>
</cp:coreProperties>
</file>