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52AE-4F6E-4F72-8631-E1BA3C04C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309F-4922-4D2B-BC92-27E3FF33CB8E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605D-1A4F-41F1-B7EA-584D391F506B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CDEF-447D-4A21-8263-52B2080D1EFF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57D8-7536-4137-B014-ECD18889E856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38F3-7AE0-46FE-88C1-5C399BA1406F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7DDC-E125-4038-9CA4-002CEFB2FD8B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8C99-397D-46E6-AFF4-BE5567351D3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D17F-5E5D-40F8-8CA2-DE4E127813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B236-9914-484D-AC27-64BF8AAA7A9A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B6B0-0111-4D44-BDD2-11ECDE226E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7169-8266-4549-AC48-8DB3D32FC31B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C343-FDF9-4DCF-8046-B1478A64E61A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D563-194D-4375-B250-2A3FC256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DAC2-C095-40D1-80DA-AFD6CEF9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B059-90D0-419F-94FF-350FFDF1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9A9-8A26-42F5-B9AE-806BEBCF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9B2D-2DB9-499C-9E36-85AA5E37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F270-49F3-4BBA-AD6C-BFDF5EEC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6164-880D-4346-BB6D-434D7185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BEB8-DB6A-4C16-AD47-9275553A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AB44-52A6-4D76-BF8A-DA7C7AEC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6048-404D-4B9C-9040-6A97B638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FB5E-31B3-4B45-8039-0D976D3C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5644-2465-42AD-A628-FB6B6A2E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BB78-592A-47B6-90CD-00AC3A19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7637-3A89-40A9-8950-1D528684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7C19-4FD6-4A5B-AFD6-4BFF7063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4180-D12D-4E50-9105-4B286280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E958-0AC9-449F-8ABC-3FA228C8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367-63CE-4199-B13D-24F24E91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B2A5-79E2-4C01-967F-4CD9F9E5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C386-5F64-44C0-81C4-B0C36B69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1EAD-A458-4EE5-BC55-22B72C93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C8A0-B004-477E-94DA-37DFC495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0AB1-5177-40AC-941C-CAFFB984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3CD-C610-414F-878F-CAA24694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8BD0-A0EE-4AF1-BC5A-50893321A95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9E43-1A22-4EDB-B0E0-CF4E1BFC804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troduction to Antibiotic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4400" spc="-1" strike="noStrike" baseline="30000">
                <a:solidFill>
                  <a:srgbClr val="ffff00"/>
                </a:solidFill>
                <a:latin typeface="Times New Roman"/>
              </a:rPr>
              <a:t>st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yr( Respiratory block)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47ffff"/>
                </a:solidFill>
                <a:latin typeface="Times New Roman"/>
              </a:rPr>
              <a:t>Prof. Azza Elmedan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oice of Antimicrobials ( 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)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gnancy and Lactation (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raindicat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minoglycosides     ( hearing loss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tracyclines            ( bone deformit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)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ld patients tend to have decreased renal functions; infants have poorly detoxification mechanis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)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nal Disease  (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raindicat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.g.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minoglycosides   ( renal failure 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Hepatic disease  (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ntraindica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.g. Erythromycin   (  hepatic failure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900"/>
                            </p:stCondLst>
                            <p:childTnLst>
                              <p:par>
                                <p:cTn id="1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( Cont.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-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rug  Fa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 - Site of inf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  - Mode of adminis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 - Potential Side Effects  </a:t>
            </a:r>
            <a:r>
              <a:rPr b="1" lang="en-US" sz="3200" spc="-1" strike="noStrike">
                <a:solidFill>
                  <a:srgbClr val="ffadeb"/>
                </a:solidFill>
                <a:latin typeface="Times New Roman"/>
              </a:rPr>
              <a:t>(Drug safet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loramphenicol ( a plastic ana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louroquinolones ( cartilage damage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 -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cost of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ISUSES OF ANTIBIO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456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Treatment of untreatable inf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 viral inf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Improper dos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Therapy of fever of unknown orig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sence of pus or necrotic tissues, or blood at the surgical si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Excessive use of prophylactic antibiotics 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travel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Lack of adequate bacteriological                           informa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chanisms of Acquired Antibiotic Resis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641600"/>
            <a:ext cx="77724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activation of the dr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cterial 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lactamase inactivates penicillins &amp; cephalosporins by cleaving the 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lactam ring of the dru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utation of the tar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cteria synthesize modified targets against which the drug has no effect ( B-Streptococcus can  develop resistance to erythromyci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tinu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vention of the drug from entering the cell by decreasing permeability of the ce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tively transporting the drug out of the ce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Prevention of bacterial resistance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e antibiotic only when absolutely requ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e antibiotics in adequate dosage for sufficient period of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bination of antibiotics may be required to delay re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Times New Roman"/>
              </a:rPr>
              <a:t>General Principles of Chemotherapy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456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minister drug in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ull dos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at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roper interv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by the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est ro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n apparent cure achieved-continue for about 3 days further to avoid       relap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kipping doses may decrease effectiveness of antibiotics &amp; increase the incidence of bacterial re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Times New Roman"/>
              </a:rPr>
              <a:t>Cont.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wo or more antimicrobials should not be used without good               reason, e.g.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ll patient of unknown eti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prevent emergence of resistance (e.g. TB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achieve synergism                 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.g. piperacillin+ gentamicin   (p. aeruginosae)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some infections bacteriological proof of cure is desir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asurement of plasma conc. Of antibiotics is seldom needed , except  in some conditions such as  streptomycin in renal T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dications for antibiotics prophylax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641600"/>
            <a:ext cx="77724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81d5"/>
                </a:solidFill>
                <a:latin typeface="Times New Roman"/>
              </a:rPr>
              <a:t>Is recommended for patients undergoing procedures that will cause bacteremia  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81d5"/>
                </a:solidFill>
                <a:latin typeface="Times New Roman"/>
              </a:rPr>
              <a:t>a- Surgical pro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81d5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wel surgery, joint replacement, gynecological inter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5e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f181d5"/>
                </a:solidFill>
                <a:latin typeface="Times New Roman"/>
              </a:rPr>
              <a:t>Dental ex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  patient with joint replacement or with prosthetic heart valves or history of bacterial endocard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Definition of Antibiotic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3120" y="1988640"/>
            <a:ext cx="8229600" cy="4526280"/>
          </a:xfrm>
          <a:prstGeom prst="rect">
            <a:avLst/>
          </a:prstGeom>
          <a:noFill/>
          <a:ln cap="sq" w="12600">
            <a:solidFill>
              <a:srgbClr val="ff66ff"/>
            </a:solidFill>
            <a:miter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ical substances produced by various microorganisms that have the capacity to inhibit   or destroy  other microorgani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waday they are chemically synthesized  dru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tibiotics will not cure infection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used by viru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tinue “Indications for antibiotics prophylaxis “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641600"/>
            <a:ext cx="77724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81d5"/>
                </a:solidFill>
                <a:latin typeface="Times New Roman"/>
              </a:rPr>
              <a:t>Immunosuppressed  pat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81d5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ry old, very young, diabetic, can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631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LASSIFICATION OF ANTIBIOTICS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CCORDING TO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ECHANISM OF ACTION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HIBITION OF CELL WALL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YNTHESIS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e.g. </a:t>
            </a:r>
            <a:r>
              <a:rPr b="1" lang="el-GR" sz="28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lactam :  Penicillins , cephalosporins, carbapen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thers : Vancomycin , cycloser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HIBITION OF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TEIN SYNTHESI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e.g.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crolide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tracyc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HIBITION OF NUCLEIC ACI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YNTHESIS   e.g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.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inolo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ification of antimicrobial agents ( 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hibition of essential enzymes of folate metabolism  e.g. :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methoprim, sulfonam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hibition of nucleic acid metabolism by inhibiting RNA polymerase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g. : Rifamp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ification According to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arrow spectru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e.g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nicillin G ,  aminoglycos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road spectrum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e.g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mpicillin  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moxicil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hoice of Antibio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959120" y="190008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)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nical diagn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 e.g. syphil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4"/>
          <p:cNvSpPr/>
          <p:nvPr/>
        </p:nvSpPr>
        <p:spPr>
          <a:xfrm flipH="1">
            <a:off x="1547280" y="2924280"/>
            <a:ext cx="180036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-36360" y="44370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) Microbiological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4716360" y="2997360"/>
            <a:ext cx="172728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983120" y="44928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) Pharmacological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sid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3995640" y="494172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) Bacteriological infor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exact antibiotic to be used, through studying the sensitivity of the infecting organisms to antibio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most effective &amp; reject the one with little or no 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least tox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cheap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isadvanta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casionally these tests do not parallel in vivo sensi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take in consideration certain sites of inf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bacteria can not be cultivated or take time to grow  ( M. leprae, M. tuberculosis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teriological services are not available at all hospi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) Pharmacological consider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Patient fa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)Immune statu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Alcoholism, diabetes, HI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)Genetic fa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atients with G-6-PD deficiency wi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ulfonamides or chlorampheni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7:11:28Z</dcterms:created>
  <dc:creator>DTK</dc:creator>
  <dc:description/>
  <dc:language>en-US</dc:language>
  <cp:lastModifiedBy>Azaa Almedany</cp:lastModifiedBy>
  <dcterms:modified xsi:type="dcterms:W3CDTF">2015-02-09T09:09:28Z</dcterms:modified>
  <cp:revision>158</cp:revision>
  <dc:subject/>
  <dc:title>CHEMOTHERAPY</dc:title>
</cp:coreProperties>
</file>