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C872-FCBF-4EC1-9400-82FB297D1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5FE0-7145-4DE5-8335-BFB59616569C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4219-BEF1-4B8D-BDA1-E5ABEB8A7801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7C87-A742-40A2-A7B7-B8F8F36E13BA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57C5-8DFB-4D9F-B411-42D5DD6267E0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FBE1-4A31-47C2-A5C7-4A16814CBCEF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7C108-8A68-4E19-8A03-595C0E05C983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CC6D-4CE9-493A-881D-1BCFC4F6F71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AC97-AF18-4906-B050-A19FDF9CAA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81C5-B8E3-4CA4-86D6-6C000666DCA1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6ADF-DE2D-4C80-8B33-190DAD9F92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1019-6101-4393-B5E9-EB0AB21914BD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1B68-AE9F-4010-9C98-32D5F81F05E3}" type="slidenum">
              <a:rPr b="0" lang="ar-S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0D98-115D-4E19-BA88-B478FF9C1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33C-0E8B-4F77-BE62-AC8303DE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C101-EF3C-4CF2-8193-65A89F19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320-059B-4A06-938C-4B8BD3CD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4CEB-3EB3-4CD8-8E10-9A1F779A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E655-98AD-41E7-B6C8-F70B772D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039D-E603-4B27-A238-1AC4619B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7787-DA02-45E4-9DFB-31ACCA53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1FBD-21E8-4277-869F-2A4CC0B1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80A2-72BF-477E-83D5-7725629D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70A2D-2A51-47E7-A6D1-855A5B1A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E19F-5DA0-4451-BB5C-93958704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FD6E-ED56-421C-B71E-9DF5F35E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A478-FE2C-411A-A4A7-3FDB8E08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0F92C-E488-4A7B-8D26-87A26C30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B3432-84D2-4C0E-BF6E-1613FE18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2FE6-D992-4ED7-B78C-33F2D317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B46-82F0-4AB3-9327-A019A8A4E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EA6-BB16-4E98-879C-C234943C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266-FBA0-40D9-8F57-7B7BDD47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46A-6238-49F2-A42C-513463BE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132F-14D8-4E62-AB54-63F24220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488-D08A-4FCC-8BBD-0551DC4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455-F33E-46CE-8D2A-110E8AF6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0589-C5FA-4AEF-A8F9-4584CB107F7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F501-4BCF-4A23-ABED-A2928D0043C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troduction to Antibiotic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4400" spc="-1" strike="noStrike" baseline="30000">
                <a:solidFill>
                  <a:srgbClr val="ffff00"/>
                </a:solidFill>
                <a:latin typeface="Times New Roman"/>
              </a:rPr>
              <a:t>st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yr( Respiratory block)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47ffff"/>
                </a:solidFill>
                <a:latin typeface="Times New Roman"/>
              </a:rPr>
              <a:t>Prof. Azza Elmedan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hoice of Antimicrobials ( 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gnancy and Lactation (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indica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minoglycosides     ( hearing loss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tracyclines            ( bone deformit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g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Old patients tend to have decreased renal functions; infants have poorly detoxification mechanis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)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enal Disease  (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ntraindicated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.g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minoglycosides   ( renal failure 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epatic disease  (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ntraindicat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e.g. Erythromycin   (  hepatic failure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9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900"/>
                            </p:stCondLst>
                            <p:childTnLst>
                              <p:par>
                                <p:cTn id="14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800" spc="-1" strike="noStrike">
                <a:solidFill>
                  <a:srgbClr val="ffff00"/>
                </a:solidFill>
                <a:latin typeface="Times New Roman"/>
              </a:rPr>
              <a:t>( 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-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Drug 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 - Site of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  - Mode of administ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 - Potential Side Effects  </a:t>
            </a:r>
            <a:r>
              <a:rPr b="1" lang="en-US" sz="3200" spc="-1" strike="noStrike">
                <a:solidFill>
                  <a:srgbClr val="ffadeb"/>
                </a:solidFill>
                <a:latin typeface="Times New Roman"/>
              </a:rPr>
              <a:t>(Drug safety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loramphenicol ( a plastic anaemi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louroquinolones ( cartilage damage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 -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ost of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ISUSES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eatment of untreatable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.g. viral inf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Improper dos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herapy of fever of unknown orig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esence of pus or necrotic tissues, or blood at the surgical sit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Excessive use of prophylactic antibiotic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travel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Lack of adequate bacteriological                           inform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chanisms of Acquired Antibiotic Resist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641600"/>
            <a:ext cx="77724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activation of the dru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terial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lactamase inactivates penicillins &amp; cephalosporins by cleaving the </a:t>
            </a:r>
            <a:r>
              <a:rPr b="1" lang="el-GR" sz="32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lactam ring of the dru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utation of the targ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acteria synthesize modified targets against which the drug has no effect ( B-Streptococcus can  develop resistance to erythromyci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inu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ention of the drug from entering the cell by decreasing permeability of the c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ctively transporting the drug out of the cel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</a:rPr>
              <a:t>Prevention of bacterial resistance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antibiotic only when absolutely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se antibiotics in adequate dosage for sufficient period 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bination of antibiotics may be required to delay re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General Principles of Chemotherapy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minister drug in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ull dos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at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oper interv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by the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est ro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en apparent cure achieved-continue for about 3 days further to avoid       relap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kipping doses may decrease effectiveness of antibiotics &amp; increase the incidence of bacterial resist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00"/>
                </a:solidFill>
                <a:latin typeface="Times New Roman"/>
              </a:rPr>
              <a:t>Cont.</a:t>
            </a:r>
            <a:endParaRPr b="0" lang="en-US" sz="3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wo or more antimicrobials should not be used without good               reason, e.g.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ll patient of unknown eti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prevent emergence of resistance (e.g. TB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achieve synergism              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.g. piperacillin+ gentamicin   (p. aeruginosae)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8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o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 some infections bacteriological proof of cure is desi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asurement of plasma conc. Of antibiotics is seldom needed , except  in some conditions such as  streptomycin in renal T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dications for antibiotics prophylax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1641600"/>
            <a:ext cx="77724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Is recommended for patients undergoing procedures that will cause bacteremia  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a- Surgical prophylax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owel surgery, joint replacement, gynecological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5e0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Dental ext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  patient with joint replacement or with prosthetic heart valves or history of bacterial endocardit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Definition of Antibiotics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3120" y="1988640"/>
            <a:ext cx="8229600" cy="4526280"/>
          </a:xfrm>
          <a:prstGeom prst="rect">
            <a:avLst/>
          </a:prstGeom>
          <a:noFill/>
          <a:ln cap="sq" w="12600">
            <a:solidFill>
              <a:srgbClr val="ff66ff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emical substances produced by various microorganisms that have the capacity to inhibit   or destroy  other microorganis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waday they are chemically synthesized  dru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tibiotics will not cure infection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used by viru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ntinue “Indications for antibiotics prophylaxis “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641600"/>
            <a:ext cx="77724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Immunosuppressed  pat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181d5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ery old, very young, diabetic, canc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631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LASSIFICATION OF ANTIBIOTICS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CCORDING TO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HIBITION OF CELL WAL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YNTHESIS </a:t>
            </a:r>
            <a:r>
              <a:rPr b="1" lang="en-US" sz="2800" spc="-1" strike="noStrike">
                <a:solidFill>
                  <a:srgbClr val="ffadeb"/>
                </a:solidFill>
                <a:latin typeface="Times New Roman"/>
              </a:rPr>
              <a:t>e.g. </a:t>
            </a:r>
            <a:r>
              <a:rPr b="1" lang="el-GR" sz="2800" spc="-1" strike="noStrike">
                <a:solidFill>
                  <a:srgbClr val="ffffff"/>
                </a:solidFill>
                <a:latin typeface="Times New Roman"/>
              </a:rPr>
              <a:t>β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lactam :  Penicillins , cephalosporins, carbapen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thers : Vancomycin , cycloser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HIBITION OF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TEIN SYNTHESI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e.g.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crolides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tracyc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INHIBITION OF NUCLEIC ACID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YNTHESIS   e.g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inol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ication of antimicrobial agents ( 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hibition of essential enzymes of folate metabolism  e.g. :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methoprim, sulfonam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hibition of nucleic acid metabolism by inhibiting RNA polymerase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.g. : Rifamp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ication According to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Narrow spectrum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nicillin G ,  aminoglycos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road spectrum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e.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mpicillin  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moxicil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Choice of Antibiot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959120" y="190008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)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linical diagno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 e.g. syphils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Line 4"/>
          <p:cNvSpPr/>
          <p:nvPr/>
        </p:nvSpPr>
        <p:spPr>
          <a:xfrm flipH="1">
            <a:off x="1547280" y="2924280"/>
            <a:ext cx="1800360" cy="172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-36360" y="4437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) Microbiological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form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6"/>
          <p:cNvSpPr/>
          <p:nvPr/>
        </p:nvSpPr>
        <p:spPr>
          <a:xfrm>
            <a:off x="4716360" y="2997360"/>
            <a:ext cx="1727280" cy="165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983120" y="44928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) Pharmacological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onsid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95640" y="4941720"/>
            <a:ext cx="936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) Bacteriological in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exact antibiotic to be used, through studying the sensitivity of the infecting organisms to antibiotic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st effective &amp; reject the one with little or no ac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least tox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cheap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sadvantag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asionally these tests do not parallel in vivo sensiti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not take in consideration certain sites of inf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bacteria can not be cultivated or take time to grow  ( M. leprae, M. tuberculosis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ological services are not available at all hospit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ffff00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) Pharmacological consid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Patient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a)Immune statu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Alcoholism, diabetes, HIV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)Genetic fa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atients with G-6-PD deficiency wi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ulfonamides or chloramphenic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7:11:28Z</dcterms:created>
  <dc:creator>DTK</dc:creator>
  <dc:description/>
  <dc:language>en-US</dc:language>
  <cp:lastModifiedBy>Azaa Almedany</cp:lastModifiedBy>
  <dcterms:modified xsi:type="dcterms:W3CDTF">2015-02-09T09:09:28Z</dcterms:modified>
  <cp:revision>158</cp:revision>
  <dc:subject/>
  <dc:title>CHEMOTHERAPY</dc:title>
</cp:coreProperties>
</file>