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3"/>
          </p:nvPr>
        </p:nvSpPr>
        <p:spPr>
          <a:xfrm>
            <a:off x="3940200" y="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Img"/>
          </p:nvPr>
        </p:nvSpPr>
        <p:spPr>
          <a:xfrm>
            <a:off x="1150560" y="698040"/>
            <a:ext cx="465300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ftr" idx="14"/>
          </p:nvPr>
        </p:nvSpPr>
        <p:spPr>
          <a:xfrm>
            <a:off x="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 type="sldNum" idx="15"/>
          </p:nvPr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DFA1-6C37-46CD-BBCA-1FE83BFD6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46B4-DE40-40CA-BE2C-28FA6954E84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48B6-5344-4885-B19E-26D8F8BB017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359E-A30E-456E-9DC4-4BB7FC9AC32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37AA-0841-4B08-BDFF-AB4C15AD79C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58AD-EB0D-4E41-BD99-C80C3FA97A7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A6FF-5CA9-4CCA-9265-639FBC4D109A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6EA8-D2A5-4E05-83CE-467B00695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40200" y="8842320"/>
            <a:ext cx="301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7F0F-3AFF-4FE4-9D1B-D94421D88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50920" y="698400"/>
            <a:ext cx="4653000" cy="34909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94800" y="4420800"/>
            <a:ext cx="5564520" cy="4189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arynx has three parts: the nasopharynx, the oropharynx, and the laryngopharyn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nsils contain lymphocytes that protect against invasion of foreign antigens that are inha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E639-F11E-4FE5-ADCD-2570720E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713-2F86-4B73-A62F-CD79AA1A1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786-D146-4990-8AEB-CD20821C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70E-854B-4F96-ACBA-AEA6487E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60F3-7398-41AA-A422-233E4B2A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CC44-EBD4-427F-A037-71A50185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1308-D87C-4DB9-BB42-FB79033A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1326-D234-49AF-A65B-4C09811A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813A-1CFC-448C-9E09-429A4058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1E13-D0FC-4FE7-9846-CB58D14F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DB32-4540-4D9A-B69C-7C19A045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E53-73E7-4D3E-B3BB-51AC1971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E85A-00C2-4C7E-B287-99FC89CC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E93C-A46B-4CC7-B31C-82EA4C8F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4E67-9B82-4692-801D-C9E82462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F980-8E1C-4B1E-9F13-5AF132A1F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9256-0611-435B-A193-58D86240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59DBC-12F9-4213-85A9-26A7055BE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F260D-9146-45AF-916E-4E2FA2826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9B916-4028-43E2-9A68-B739AAAC5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791B1-783C-4429-A6C5-C4971BB6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7AFFD-7C76-4B08-93E0-5F551972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9EA-24AF-482C-B518-31D5D076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01CED-B612-4849-9F0E-753A3910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283F9-B8C8-4B42-9B30-8DF4AF18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F319-0516-465C-BF2E-90397F30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2C1F4-ACA7-4714-A426-E98D3862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97994-831A-4E8B-8B48-3EDEE441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E0AD-852B-4AFF-86A4-5F93B52D3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FED7E-8015-41B0-B1E1-B249C67E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42B09-A870-4B81-8635-E8D29ACE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B0636-BEEC-46CE-AC6E-9C936E58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427E0-9BC4-4099-8985-BA982160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1E04-AD6A-4551-AD41-84EAFA2C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37FC3-6C35-4D73-B863-EA49C004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52A68-84DD-43D7-A8EB-C0D5B0A8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80415-AFC4-4353-A275-A24CCFAC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AD3C5-3501-4E95-80D0-8A42CA53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6ADB7-3C50-4BA0-A43B-AFA452F7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B5665-C8C1-4300-8F9A-3623FAF7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7B8B7-1C3B-438A-87CC-C576F824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0B883-0ECF-48EF-9175-67DDFCEA7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8638E-DC68-47E2-BC66-52EDE3006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3703-EEFF-4169-9166-1A2B21F2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34A-19A2-46FC-B6EC-27DFC309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B49-48A4-4EA0-AD61-91008A7F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2635-3434-4C4A-870C-B5A6766A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5F8-46AE-4EFF-AF42-7A600F3B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A169-792D-48DD-8719-59AC112A5AF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7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64" name="Straight Connector 18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19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20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1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2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23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24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25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6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DAF1-4F72-40B1-8E4D-14091D478727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99B1-790E-458B-8FB3-66CACB621068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7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BA81-6C63-4188-BB74-B852B2DE8F53}" type="slidenum">
              <a:rPr b="0" lang="en-US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676520"/>
            <a:ext cx="6858000" cy="350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600" spc="-1" strike="noStrike">
                <a:solidFill>
                  <a:srgbClr val="c00000"/>
                </a:solidFill>
                <a:latin typeface="Book Antiqua"/>
              </a:rPr>
              <a:t>Treatment Of Respiratory Tract infections</a:t>
            </a:r>
            <a:endParaRPr b="0" lang="en-US" sz="6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3482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enicill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8" name="Picture 2" descr="I:\2011-01-10\Fig. 45.3(2).JPG"/>
          <p:cNvPicPr/>
          <p:nvPr/>
        </p:nvPicPr>
        <p:blipFill>
          <a:blip r:embed="rId1"/>
          <a:stretch/>
        </p:blipFill>
        <p:spPr>
          <a:xfrm>
            <a:off x="1295280" y="1752480"/>
            <a:ext cx="6897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Broad- spectrum penicill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Amoxicill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Ampicill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cts on both gram positive gram  and  gram negative microorganisms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estroyed by 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-lactamase enzyme produced by some 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8046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s bacterial cell wall synth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Through inhibition of transpeptidas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nzy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ctericid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2120" y="13716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Pharmacokinetics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Given orally or parentrally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Not metabolized in human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elatively lipid insolubl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Excreted mostly unchanged in urin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Half-life  30-60 min ( increased in renal failure)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.   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Diagram 7" descr=""/>
          <p:cNvPicPr/>
          <p:nvPr/>
        </p:nvPicPr>
        <p:blipFill>
          <a:blip r:embed="rId1"/>
          <a:stretch/>
        </p:blipFill>
        <p:spPr>
          <a:xfrm>
            <a:off x="401760" y="304920"/>
            <a:ext cx="837720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42f1a"/>
                </a:solidFill>
                <a:latin typeface="Trebuchet MS"/>
              </a:rPr>
              <a:t>Therapeutic us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762120" y="2286000"/>
            <a:ext cx="6348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pper respiratory tract infections, Acute otitis media especially those produced by Group A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gram positive beta-hemolytic 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streptococci</a:t>
            </a:r>
            <a:r>
              <a:rPr b="0" lang="en-US" sz="2400" spc="-1" strike="noStrike">
                <a:solidFill>
                  <a:srgbClr val="ff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ower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3600" spc="-1" strike="noStrike">
                <a:solidFill>
                  <a:srgbClr val="c42f1a"/>
                </a:solidFill>
                <a:latin typeface="Trebuchet MS"/>
              </a:rPr>
              <a:t>β</a:t>
            </a:r>
            <a:r>
              <a:rPr b="1" lang="en-US" sz="3600" spc="-1" strike="noStrike">
                <a:solidFill>
                  <a:srgbClr val="c42f1a"/>
                </a:solidFill>
                <a:latin typeface="Trebuchet MS"/>
              </a:rPr>
              <a:t>-Lactamase inhibitor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09120" y="1600200"/>
            <a:ext cx="670572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rebuchet MS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lavulanic aci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ulbactam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hemselves have no antibacterial activity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hey inactivate </a:t>
            </a:r>
            <a:r>
              <a:rPr b="1" lang="el-GR" sz="2400" spc="-1" strike="noStrike">
                <a:solidFill>
                  <a:srgbClr val="0070c0"/>
                </a:solidFill>
                <a:latin typeface="Trebuchet MS"/>
              </a:rPr>
              <a:t>β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-lactamase enzy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.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moxicilli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lavulanic acid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mpicilli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/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ulbacta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63482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rebuchet MS"/>
              </a:rPr>
              <a:t>Cephalosporin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1" name="Picture 2" descr="I:\2011-01-10\Fig. 45.3(1).JPG"/>
          <p:cNvPicPr/>
          <p:nvPr/>
        </p:nvPicPr>
        <p:blipFill>
          <a:blip r:embed="rId1"/>
          <a:stretch/>
        </p:blipFill>
        <p:spPr>
          <a:xfrm>
            <a:off x="565200" y="1371600"/>
            <a:ext cx="624852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 bacterial cell wall synthesi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ctericidal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3152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1</a:t>
            </a:r>
            <a:r>
              <a:rPr b="1" lang="en-US" sz="4000" spc="-1" strike="noStrike" baseline="30000">
                <a:solidFill>
                  <a:srgbClr val="c00000"/>
                </a:solidFill>
                <a:latin typeface="Trebuchet MS"/>
              </a:rPr>
              <a:t>st</a:t>
            </a: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 Generation Cephalosporin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phalexin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rebuchet MS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o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against gram positive microorganisms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in URTI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8080" y="1905120"/>
            <a:ext cx="6400800" cy="228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Prof. Azza ELMedany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Department of Pharmacology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rebuchet MS"/>
              </a:rPr>
              <a:t>Ext. 52412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1629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2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n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Generation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480" y="2160360"/>
            <a:ext cx="7391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uroxime axetil , cefaclor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mainly against Gram-negative bacter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Well absorbed orall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ctive against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  <a:ea typeface="Tahoma"/>
              </a:rPr>
              <a:t>-lactamase –producing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Uses of 2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n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generatio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pper and lower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inusitis, otitis med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69343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3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rd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 Generation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 /  Cefotaxime / Cefixim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against gram-negative bacill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ffective treatment in pneumonia produced by </a:t>
            </a:r>
            <a:r>
              <a:rPr b="1" lang="el-GR" sz="2400" spc="-1" strike="noStrike">
                <a:solidFill>
                  <a:srgbClr val="000000"/>
                </a:solidFill>
                <a:latin typeface="Trebuchet MS"/>
              </a:rPr>
              <a:t>β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-lactamase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harmacokinetics 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ven  mainly parentrally  ( I.V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ral preparation 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: Cefixim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enetration into CS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rtl="1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xcreted  Mostly unchanged in the urine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liminated via biliary excretion (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ong Half-life 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(</a:t>
            </a:r>
            <a:r>
              <a:rPr b="1" lang="en-US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ceftriaxone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10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470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effects of 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          cephalospori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75" name="Content Placeholder 3" descr=""/>
          <p:cNvPicPr/>
          <p:nvPr/>
        </p:nvPicPr>
        <p:blipFill>
          <a:blip r:embed="rId1"/>
          <a:stretch/>
        </p:blipFill>
        <p:spPr>
          <a:xfrm>
            <a:off x="450720" y="2004840"/>
            <a:ext cx="8248680" cy="47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hibit protein synthesis by binding to  50 S subunit of the bacterial ribosomes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cteriostatic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Bacteriocidal at high concentration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5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5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5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0" dur="8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1" dur="8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arithromyc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09480" y="2160360"/>
            <a:ext cx="78487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on G+ve bacteri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table at gastric acid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Inhibits cytochrome P450 syste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etabolized to active metabolit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Excreted in urine 20-40%unchanged or metabolite &amp; 60% in bile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alf-life 6-8 hou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zithromyci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ore effective on Gram negative  bacteri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table at  gastric acidit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Undergo some hepatic metabolism ( inactive metabolite 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iliary route is the major route of eliminati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nly 10-15% excreted unchanged in the urin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alf- life ( 3 days)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nce daily dos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o effect on  cytochrome  P- 45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520"/>
                            </p:stCondLst>
                            <p:childTnLst>
                              <p:par>
                                <p:cTn id="6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8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6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4880"/>
                            </p:stCondLst>
                            <p:childTnLst>
                              <p:par>
                                <p:cTn id="6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1" dur="8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8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6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8039"/>
                            </p:stCondLst>
                            <p:childTnLst>
                              <p:par>
                                <p:cTn id="6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8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8720"/>
                            </p:stCondLst>
                            <p:childTnLst>
                              <p:par>
                                <p:cTn id="6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8" dur="8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8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8760"/>
                            </p:stCondLst>
                            <p:childTnLst>
                              <p:par>
                                <p:cTn id="6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5" dur="8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8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6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inical uses of Macrolide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09120" y="2976480"/>
            <a:ext cx="6348600" cy="25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hlamydial pneumo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egionella pneumon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gradFill rotWithShape="0">
            <a:gsLst>
              <a:gs pos="0">
                <a:srgbClr val="efea2b"/>
              </a:gs>
              <a:gs pos="50000">
                <a:srgbClr val="ffffff"/>
              </a:gs>
              <a:gs pos="100000">
                <a:srgbClr val="efea2b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rebuchet MS"/>
              </a:rPr>
              <a:t>Objectives of the lectur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0680" y="2163240"/>
            <a:ext cx="751032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t the end of lecture , the students should be able to understand the following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types of respiratory tract infectio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e antibiotics that are commonly used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 treat respiratory tract infections and thei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de effect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derstand the mechanism of action, pharmacokinetics of individual drug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634824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effect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86" name="Picture 2" descr="G:\2011-01-12\Fig.32-15(1).JPG"/>
          <p:cNvPicPr/>
          <p:nvPr/>
        </p:nvPicPr>
        <p:blipFill>
          <a:blip r:embed="rId1"/>
          <a:stretch/>
        </p:blipFill>
        <p:spPr>
          <a:xfrm>
            <a:off x="533520" y="1295280"/>
            <a:ext cx="7391160" cy="4191120"/>
          </a:xfrm>
          <a:prstGeom prst="rect">
            <a:avLst/>
          </a:prstGeom>
          <a:ln w="0">
            <a:noFill/>
          </a:ln>
        </p:spPr>
      </p:pic>
      <p:sp>
        <p:nvSpPr>
          <p:cNvPr id="287" name="Title 1"/>
          <p:cNvSpPr/>
          <p:nvPr/>
        </p:nvSpPr>
        <p:spPr>
          <a:xfrm>
            <a:off x="533520" y="5722920"/>
            <a:ext cx="6086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ypersensitivity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Content Placeholder 3" descr=""/>
          <p:cNvPicPr/>
          <p:nvPr/>
        </p:nvPicPr>
        <p:blipFill>
          <a:blip r:embed="rId1"/>
          <a:stretch/>
        </p:blipFill>
        <p:spPr>
          <a:xfrm>
            <a:off x="-648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rebuchet MS"/>
              </a:rPr>
              <a:t>Mechanism of actio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e76618"/>
                </a:solidFill>
                <a:latin typeface="Trebuchet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Inhibit DNA Gyrase enzyme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( an enzyme involved in DNA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supercoiling)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7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2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609120" y="1929960"/>
            <a:ext cx="6348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ntibacterial spectrum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inly effective against G –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( highly active against Pseudomonas species 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IPROFLOXACIN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9ca3c"/>
                </a:solidFill>
                <a:latin typeface="Trebuchet MS"/>
              </a:rPr>
              <a:t>     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Pharmacokinetic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304920" y="685800"/>
            <a:ext cx="883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ll absorbed orally ( available i.v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ntrates in many tissues ( kidney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tate, lung &amp; bones/ joint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reted mainly through the ki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ir relatively long Half-life   allows twice-daily do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5400" spc="-1" strike="noStrike">
                <a:solidFill>
                  <a:srgbClr val="ff0000"/>
                </a:solidFill>
                <a:latin typeface="Trebuchet MS"/>
              </a:rPr>
              <a:t>Clinical Uses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96" name="Content Placeholder 4" descr=""/>
          <p:cNvPicPr/>
          <p:nvPr/>
        </p:nvPicPr>
        <p:blipFill>
          <a:blip r:embed="rId1"/>
          <a:stretch/>
        </p:blipFill>
        <p:spPr>
          <a:xfrm>
            <a:off x="701640" y="1494000"/>
            <a:ext cx="82296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2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Adverse  effects 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094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ausea , vomiting , diarrhe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NS effects ( confusion, insomnia,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headache, anxiety)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Damage growing cartilage 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(arthropathy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hototoxicity  ( avoid excessive sunlight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7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3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4" dur="8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8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1" dur="8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4" dur="8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5" dur="8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80"/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9" dur="8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0" dur="8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80"/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rebuchet MS"/>
              </a:rPr>
              <a:t>Contraindications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Not recommended for patients younger than 18 year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regnancy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reast feeding wom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0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743200" y="609120"/>
            <a:ext cx="42148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THANK YOU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302" name="Picture 10" descr="camel"/>
          <p:cNvPicPr/>
          <p:nvPr/>
        </p:nvPicPr>
        <p:blipFill>
          <a:blip r:embed="rId1"/>
          <a:stretch/>
        </p:blipFill>
        <p:spPr>
          <a:xfrm>
            <a:off x="533520" y="1557360"/>
            <a:ext cx="8153280" cy="45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lassification of respiratory tract infectio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9807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Upper respiratory tract infections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(URTI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wer respiratory tract infections 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(LRTI)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SCAN002"/>
          <p:cNvPicPr/>
          <p:nvPr/>
        </p:nvPicPr>
        <p:blipFill>
          <a:blip r:embed="rId1"/>
          <a:stretch/>
        </p:blipFill>
        <p:spPr>
          <a:xfrm>
            <a:off x="10439280" y="0"/>
            <a:ext cx="381240" cy="9105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Object 2"/>
          <p:cNvGraphicFramePr/>
          <p:nvPr/>
        </p:nvGraphicFramePr>
        <p:xfrm>
          <a:off x="457200" y="990720"/>
          <a:ext cx="7848720" cy="5410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990720"/>
                    <a:ext cx="784872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Causes of URTI</a:t>
            </a:r>
            <a:r>
              <a:rPr b="1" lang="en-US" sz="3600" spc="-1" strike="noStrike" baseline="30000">
                <a:solidFill>
                  <a:srgbClr val="c00000"/>
                </a:solidFill>
                <a:latin typeface="Trebuchet MS"/>
              </a:rPr>
              <a:t>,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Viruses</a:t>
            </a:r>
            <a:r>
              <a:rPr b="0" lang="en-US" sz="34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over 200 different types hav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een isolated )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(Should not be treated with antibiotics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reatment: rest and plenty of fluids,  pain reliever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Bacteria</a:t>
            </a: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(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mainly Group A streptococcus  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H. influenzae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reatment: Antibiotics. The type depends  o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Type of bacteria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                  </a:t>
            </a:r>
            <a:r>
              <a:rPr b="1" lang="en-US" sz="2400" spc="-1" strike="noStrike">
                <a:solidFill>
                  <a:srgbClr val="0070c0"/>
                </a:solidFill>
                <a:latin typeface="Trebuchet MS"/>
              </a:rPr>
              <a:t>Sensitivity tes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LRTI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Bronchitis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Acute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(Mostly due to viruses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hronic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Acute exacerbation of chronic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bronchitis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c00000"/>
                </a:solidFill>
                <a:latin typeface="Trebuchet MS"/>
              </a:rPr>
              <a:t>Pneumonia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Community –acquired(CAP) 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404040"/>
                </a:solidFill>
                <a:latin typeface="Trebuchet MS"/>
              </a:rPr>
              <a:t>       </a:t>
            </a: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Hospital-acquired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RTI’s are more 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costly to treat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and generally 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more serious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han URTI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rebuchet MS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90c226"/>
                </a:solidFill>
                <a:latin typeface="Trebuchet MS"/>
              </a:rPr>
              <a:t>Causes of LRTI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Bacteria mainly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Streptococcus pneumonia</a:t>
            </a:r>
            <a:r>
              <a:rPr b="1" lang="en-US" sz="3200" spc="-1" strike="noStrike">
                <a:solidFill>
                  <a:srgbClr val="ff0000"/>
                </a:solidFill>
                <a:latin typeface="Trebuchet MS"/>
              </a:rPr>
              <a:t>**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Haemophilus influenza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Trebuchet MS"/>
              </a:rPr>
              <a:t>Moraxella catarrhalis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rebuchet MS"/>
              </a:rPr>
              <a:t>Antibiotics used in the treatment of RTI’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Beta lactam antibiotics  (Penicillins /  Cephalosporins)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Macrolid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luoroquinolon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minoglycosides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Doxycyclin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05:49:35Z</dcterms:created>
  <dc:creator>Dr. Philip L. Pokorski</dc:creator>
  <dc:description/>
  <dc:language>en-US</dc:language>
  <cp:lastModifiedBy>Azaa Almedany</cp:lastModifiedBy>
  <cp:lastPrinted>2015-02-02T08:43:10Z</cp:lastPrinted>
  <dcterms:modified xsi:type="dcterms:W3CDTF">2015-02-09T09:48:48Z</dcterms:modified>
  <cp:revision>212</cp:revision>
  <dc:subject/>
  <dc:title>Respiratory System</dc:title>
</cp:coreProperties>
</file>