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3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1150560" y="698040"/>
            <a:ext cx="465300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4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15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FAAE-D7FC-41F1-B202-A2256371D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C5FF-28BD-4393-9644-ACC2666F764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2D22-770E-4EF2-8B95-FA9EECE0738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3779-79A2-4CE9-866F-7E4377D7F1A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10A6-0D3A-4D63-BC6C-DA4259F5E53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CEC8-469F-45DC-A36A-F4AC65E2B14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C9B8-9CE5-4707-959C-28074BE13E0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6EB2-7EB4-4965-9796-4ACC2FB41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A97F-53A6-491E-B972-E15D8EDD6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rynx has three parts: the nasopharynx, the oropharynx, and the laryngopharyn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nsils contain lymphocytes that protect against invasion of foreign antigens that are inha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C4C2-0880-4CB5-ABBF-329A7B9F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0419-1DB9-4A88-B9A9-983822A8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60FA-0379-43C3-A1F7-C089AC20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B599-A6EA-4C88-BD99-CF100EE7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9F3E-ED33-462B-B2A9-02923515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BC8A-56AF-4EF0-88FA-94BE4EDA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F839-8A6B-43D5-8CF2-EC515577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E23B-95AD-440C-BA41-2FA734DE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BA87-8E6B-4D14-9EF2-9BCC774F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A797-5DA5-4BB3-AA9D-4471745B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5627-19CC-459D-B4B9-ED1257A3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1A30-440F-4196-BE98-CD4F68AF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562A-77F0-4112-9685-220C3CD8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BE37-4643-4DB6-A039-65D99AFD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91CB-372F-48D0-B1AD-D8BB6516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210E-7D17-40AC-B3B9-97F35032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4FF6-C443-41B4-A518-78870E69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9F696-B022-440A-B5D6-5636B06DC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C4305-0583-4D50-9862-05AC5F20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F4DCC-AFD9-42A7-AA9C-083F9A1D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9A528-06A8-4315-8F6E-739EE62F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DF1B5-2115-41C9-A9DA-020395AA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4EA0-AB4D-4D38-A0D8-6D2A7284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95C56-86A6-41D2-A4B4-FEEED904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EC2D0-6C29-45C0-B244-C96C800D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2896F-7F47-414F-A9DC-AEF64ABD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28E3A-E481-41A8-A8A2-6B5E6356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34AAB-C695-45BC-AAD2-8DDF329A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EBB07-555B-4D5F-96B4-72034D35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4D967-EC0A-4C80-9C12-6B8C49DB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80D65-7C87-4F45-96B9-7951D469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14B9A-E3B5-4B34-A1C9-E6EAD5CA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6DC8C-B281-4CD9-A140-6F8973A2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9751-5903-4FDA-AE9F-CB9B0A2F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0CB55-FC14-4C9D-8E83-46CC0F2D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5866F-E582-4CE9-93F1-7FDE9F2C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502F7-A3FF-485D-9119-9FCC4128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4D17F-A505-4900-88DE-C6B38C26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2690A-07E8-4C36-A288-672EE6FB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A5DB7-F536-48C4-A6A0-2A5DAC4F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F2781-E2F4-486B-95A2-4762D8CC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7A79D-2FF6-490E-A24C-F88A9869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8F56A-AC79-4FB6-95DD-D219BCE0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1217-FEDC-4875-9F3C-48E49715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9BF2-7A69-449F-B9B8-2C143EC4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2ACF-E489-4E8D-9730-FF5663E8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10F0-FF1D-4BDA-91D8-C4F1B6F4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4191-E4A7-4E74-988A-11D1E405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0492-B4DF-4684-8A3E-CD8CCABD000A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4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E7A4-529E-408D-940B-FCC6C362795A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1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3B99-FA32-4A9A-9FC1-E590004882EE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7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143E-061B-47ED-BDA6-416B652CC9E9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676520"/>
            <a:ext cx="6858000" cy="350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Book Antiqua"/>
              </a:rPr>
              <a:t>Treatment Of Respiratory Tract infections</a:t>
            </a:r>
            <a:endParaRPr b="0" lang="en-US" sz="6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Penicill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8" name="Picture 2" descr="I:\2011-01-10\Fig. 45.3(2).JPG"/>
          <p:cNvPicPr/>
          <p:nvPr/>
        </p:nvPicPr>
        <p:blipFill>
          <a:blip r:embed="rId1"/>
          <a:stretch/>
        </p:blipFill>
        <p:spPr>
          <a:xfrm>
            <a:off x="1295280" y="1752480"/>
            <a:ext cx="6897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Broad- spectrum penicill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Amoxicill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Ampicill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cts on both gram positive gram  and  gram negative microorganisms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troyed by  </a:t>
            </a:r>
            <a:r>
              <a:rPr b="1" lang="el-GR" sz="2400" spc="-1" strike="noStrike">
                <a:solidFill>
                  <a:srgbClr val="000000"/>
                </a:solidFill>
                <a:latin typeface="Trebuchet MS"/>
              </a:rPr>
              <a:t>β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-lactamase enzyme produced by some 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80460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hibits bacterial cell wall synthes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hrough inhibition of transpeptidase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nzym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actericid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2120" y="1371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rebuchet MS"/>
              </a:rPr>
              <a:t>Pharmacokinetics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Given orally or parentrally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Not metabolized in human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elatively lipid insolubl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xcreted mostly unchanged in urin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Half-life  30-60 min ( increased in renal failure)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. 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Diagram 7" descr=""/>
          <p:cNvPicPr/>
          <p:nvPr/>
        </p:nvPicPr>
        <p:blipFill>
          <a:blip r:embed="rId1"/>
          <a:stretch/>
        </p:blipFill>
        <p:spPr>
          <a:xfrm>
            <a:off x="401760" y="304920"/>
            <a:ext cx="8377200" cy="62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42f1a"/>
                </a:solidFill>
                <a:latin typeface="Trebuchet MS"/>
              </a:rPr>
              <a:t>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62120" y="2286000"/>
            <a:ext cx="63482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Upper respiratory tract infections, Acute otitis media especially those produced by Group A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gram positive beta-hemolytic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streptococci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ower respiratory tract infe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3600" spc="-1" strike="noStrike">
                <a:solidFill>
                  <a:srgbClr val="c42f1a"/>
                </a:solidFill>
                <a:latin typeface="Trebuchet MS"/>
              </a:rPr>
              <a:t>β</a:t>
            </a:r>
            <a:r>
              <a:rPr b="1" lang="en-US" sz="3600" spc="-1" strike="noStrike">
                <a:solidFill>
                  <a:srgbClr val="c42f1a"/>
                </a:solidFill>
                <a:latin typeface="Trebuchet MS"/>
              </a:rPr>
              <a:t>-Lactamase inhibitor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09120" y="1600200"/>
            <a:ext cx="670572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lavulanic aci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ulbactam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Themselves have no antibacterial activit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They inactivate </a:t>
            </a:r>
            <a:r>
              <a:rPr b="1" lang="el-GR" sz="2400" spc="-1" strike="noStrike">
                <a:solidFill>
                  <a:srgbClr val="0070c0"/>
                </a:solidFill>
                <a:latin typeface="Trebuchet MS"/>
              </a:rPr>
              <a:t>β</a:t>
            </a: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-lactamase enzym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.g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moxicilli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lavulanic acid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mpicilli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/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ulbacta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63482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rebuchet MS"/>
              </a:rPr>
              <a:t>Cephalosporin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1" name="Picture 2" descr="I:\2011-01-10\Fig. 45.3(1).JPG"/>
          <p:cNvPicPr/>
          <p:nvPr/>
        </p:nvPicPr>
        <p:blipFill>
          <a:blip r:embed="rId1"/>
          <a:stretch/>
        </p:blipFill>
        <p:spPr>
          <a:xfrm>
            <a:off x="565200" y="1371600"/>
            <a:ext cx="624852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hibit bacterial cell wall synthes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actericid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3152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rebuchet MS"/>
              </a:rPr>
              <a:t>1</a:t>
            </a:r>
            <a:r>
              <a:rPr b="1" lang="en-US" sz="4000" spc="-1" strike="noStrike" baseline="30000">
                <a:solidFill>
                  <a:srgbClr val="c00000"/>
                </a:solidFill>
                <a:latin typeface="Trebuchet MS"/>
              </a:rPr>
              <a:t>st</a:t>
            </a:r>
            <a:r>
              <a:rPr b="1" lang="en-US" sz="4000" spc="-1" strike="noStrike">
                <a:solidFill>
                  <a:srgbClr val="c00000"/>
                </a:solidFill>
                <a:latin typeface="Trebuchet MS"/>
              </a:rPr>
              <a:t> Generation Cephalospori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ephalexin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Given orall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ffective against gram positive microorganism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ffective in URTI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8080" y="1905120"/>
            <a:ext cx="6400800" cy="228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rebuchet MS"/>
              </a:rPr>
              <a:t>Prof. Azza ELMedany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rebuchet MS"/>
              </a:rPr>
              <a:t>Department of Pharmacology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rebuchet MS"/>
              </a:rPr>
              <a:t>Ext. 52412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1629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2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rebuchet MS"/>
              </a:rPr>
              <a:t>nd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Generation Cephalospor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09480" y="2160360"/>
            <a:ext cx="7391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efuroxime axetil , cefaclor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ffective mainly against Gram-negative bacteri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ell absorbed orall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ctive against </a:t>
            </a:r>
            <a:r>
              <a:rPr b="1" lang="el-GR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β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-lactamase –producing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Uses of 2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rebuchet MS"/>
              </a:rPr>
              <a:t>nd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genera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Upper and lower respiratory tract infe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inusitis, otitis med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9343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3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rebuchet MS"/>
              </a:rPr>
              <a:t>rd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 Generation Cephalospor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eftriaxone /  Cefotaxime / Cefixim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ore effective against gram-negative bacilli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ffective treatment in pneumonia produced by </a:t>
            </a:r>
            <a:r>
              <a:rPr b="1" lang="el-GR" sz="2400" spc="-1" strike="noStrike">
                <a:solidFill>
                  <a:srgbClr val="000000"/>
                </a:solidFill>
                <a:latin typeface="Trebuchet MS"/>
              </a:rPr>
              <a:t>β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-lactamase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Pharmacokinetics 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Given  mainly parentrally  ( I.V.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Oral preparation  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: Cefixim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enetration into CSF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xcreted  Mostly unchanged in the urine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liminated via biliary excretion ( 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eftriaxone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ong Half-life  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(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eftriaxone 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470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dverse effects of 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          cephalospor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5" name="Content Placeholder 3" descr=""/>
          <p:cNvPicPr/>
          <p:nvPr/>
        </p:nvPicPr>
        <p:blipFill>
          <a:blip r:embed="rId1"/>
          <a:stretch/>
        </p:blipFill>
        <p:spPr>
          <a:xfrm>
            <a:off x="450720" y="2004840"/>
            <a:ext cx="8248680" cy="47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rebuchet MS"/>
              </a:rPr>
              <a:t>Mechanism of action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nhibit protein synthesis by binding to  50 S subunit of the bacterial ribosomes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cteriostatic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cteriocidal at high concentratio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5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5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larithromyci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9480" y="2160360"/>
            <a:ext cx="7848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ore effective on G+ve bacteri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table at gastric acid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hibits cytochrome P450 syste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etabolized to active metabolit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xcreted in urine 20-40%unchanged or metabolite &amp; 60% in bile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Half-life 6-8 hou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zithromyci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ore effective on Gram negative  bacteria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table at  gastric acid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Undergo some hepatic metabolism ( inactive metabolite 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iliary route is the major route of elimin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Only 10-15% excreted unchanged in the ur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Half- life ( 3 days)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Once daily dos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No effect on  cytochrome  P- 45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6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8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6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6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8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6520"/>
                            </p:stCondLst>
                            <p:childTnLst>
                              <p:par>
                                <p:cTn id="6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8039"/>
                            </p:stCondLst>
                            <p:childTnLst>
                              <p:par>
                                <p:cTn id="6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8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8720"/>
                            </p:stCondLst>
                            <p:childTnLst>
                              <p:par>
                                <p:cTn id="6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80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8760"/>
                            </p:stCondLst>
                            <p:childTnLst>
                              <p:par>
                                <p:cTn id="6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80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6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linical uses of Macrolid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09120" y="2976480"/>
            <a:ext cx="6348600" cy="25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hlamydial pneumon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egionella pneumon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gradFill rotWithShape="0">
            <a:gsLst>
              <a:gs pos="0">
                <a:srgbClr val="efea2b"/>
              </a:gs>
              <a:gs pos="50000">
                <a:srgbClr val="ffffff"/>
              </a:gs>
              <a:gs pos="100000">
                <a:srgbClr val="efea2b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rebuchet MS"/>
              </a:rPr>
              <a:t>Objectives of the lecture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90680" y="2163240"/>
            <a:ext cx="75103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 the end of lecture , the students should be able to understand the following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types of respiratory tract infe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antibiotics that are commonly use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treat respiratory tract infections and thei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de effect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derstand the mechanism of action, pharmacokinetics of individual drug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63482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dvers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6" name="Picture 2" descr="G:\2011-01-12\Fig.32-15(1).JPG"/>
          <p:cNvPicPr/>
          <p:nvPr/>
        </p:nvPicPr>
        <p:blipFill>
          <a:blip r:embed="rId1"/>
          <a:stretch/>
        </p:blipFill>
        <p:spPr>
          <a:xfrm>
            <a:off x="533520" y="1295280"/>
            <a:ext cx="7391160" cy="4191120"/>
          </a:xfrm>
          <a:prstGeom prst="rect">
            <a:avLst/>
          </a:prstGeom>
          <a:ln w="0">
            <a:noFill/>
          </a:ln>
        </p:spPr>
      </p:pic>
      <p:sp>
        <p:nvSpPr>
          <p:cNvPr id="287" name="Title 1"/>
          <p:cNvSpPr/>
          <p:nvPr/>
        </p:nvSpPr>
        <p:spPr>
          <a:xfrm>
            <a:off x="533520" y="5722920"/>
            <a:ext cx="6086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Hypersensitivity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Content Placeholder 3" descr=""/>
          <p:cNvPicPr/>
          <p:nvPr/>
        </p:nvPicPr>
        <p:blipFill>
          <a:blip r:embed="rId1"/>
          <a:stretch/>
        </p:blipFill>
        <p:spPr>
          <a:xfrm>
            <a:off x="-6480" y="0"/>
            <a:ext cx="916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rebuchet MS"/>
              </a:rPr>
              <a:t>Mechanism of action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76618"/>
                </a:solidFill>
                <a:latin typeface="Trebuchet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nhibit DNA Gyrase enzyme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( an enzyme involved in DNA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upercoiling)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8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7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72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609120" y="1929960"/>
            <a:ext cx="6348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ntibacterial spectrum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ainly effective against G –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( highly active against Pseudomonas species 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IPROFLOXACI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9ca3c"/>
                </a:solidFill>
                <a:latin typeface="Trebuchet MS"/>
              </a:rPr>
              <a:t>     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Pharmacokinetic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304920" y="685800"/>
            <a:ext cx="883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 absorbed orally ( available i.v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ntrates in many tissues ( kidney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tate, lung &amp; bones/ joint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reted mainly through the kid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ir relatively long Half-life   allows twice-daily do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Trebuchet MS"/>
              </a:rPr>
              <a:t>Clinical Uses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6" name="Content Placeholder 4" descr=""/>
          <p:cNvPicPr/>
          <p:nvPr/>
        </p:nvPicPr>
        <p:blipFill>
          <a:blip r:embed="rId1"/>
          <a:stretch/>
        </p:blipFill>
        <p:spPr>
          <a:xfrm>
            <a:off x="701640" y="1494000"/>
            <a:ext cx="82296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0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2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dverse  effect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948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Nausea , vomiting , diarrhe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NS effects ( confusion, insomnia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headache, anxiety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amage growing cartilage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(arthropathy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hototoxicity  ( avoid excessive sunlight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8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8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4" dur="8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8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8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rebuchet MS"/>
              </a:rPr>
              <a:t>Contraindication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Not recommended for patients younger than 18 yea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egnanc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reast feeding wo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0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743200" y="609120"/>
            <a:ext cx="4214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THANK YOU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2" name="Picture 10" descr="camel"/>
          <p:cNvPicPr/>
          <p:nvPr/>
        </p:nvPicPr>
        <p:blipFill>
          <a:blip r:embed="rId1"/>
          <a:stretch/>
        </p:blipFill>
        <p:spPr>
          <a:xfrm>
            <a:off x="533520" y="1557360"/>
            <a:ext cx="8153280" cy="45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lassification of respiratory tract infec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600" y="19807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Upper respiratory tract infections 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(URTI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ower respiratory tract infections 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(LRTI)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SCAN002"/>
          <p:cNvPicPr/>
          <p:nvPr/>
        </p:nvPicPr>
        <p:blipFill>
          <a:blip r:embed="rId1"/>
          <a:stretch/>
        </p:blipFill>
        <p:spPr>
          <a:xfrm>
            <a:off x="10439280" y="0"/>
            <a:ext cx="381240" cy="910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Object 2"/>
          <p:cNvGraphicFramePr/>
          <p:nvPr/>
        </p:nvGraphicFramePr>
        <p:xfrm>
          <a:off x="457200" y="990720"/>
          <a:ext cx="7848720" cy="5410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90720"/>
                    <a:ext cx="78487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auses of URTI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rebuchet MS"/>
              </a:rPr>
              <a:t>,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rebuchet MS"/>
              </a:rPr>
              <a:t>Viruses</a:t>
            </a:r>
            <a:r>
              <a:rPr b="0" lang="en-US" sz="34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over 200 different types have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een isolated 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      </a:t>
            </a: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(Should not be treated with antibiotics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Treatment: rest and plenty of fluids,  pain reliever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rebuchet MS"/>
              </a:rPr>
              <a:t>Bacteria</a:t>
            </a:r>
            <a:r>
              <a:rPr b="0" lang="en-US" sz="3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ainly Group A streptococcus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H. influenza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Treatment: Antibiotics. The type depends  on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                  </a:t>
            </a: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Type of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                  </a:t>
            </a: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Sensitivity tes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LRTI’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7617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rebuchet MS"/>
              </a:rPr>
              <a:t>Bronchitis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404040"/>
                </a:solidFill>
                <a:latin typeface="Trebuchet MS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Acute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(Mostly due to viruses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hronic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Acute exacerbation of chronic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bronchitis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rebuchet MS"/>
              </a:rPr>
              <a:t>Pneumonia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ommunity –acquired(CAP) 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404040"/>
                </a:solidFill>
                <a:latin typeface="Trebuchet MS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Hospital-acquired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RTI’s are more 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costly to treat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nd generally 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more serious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han URTI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Causes of LRTI’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Bacteria mainly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Streptococcus pneumonia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**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Haemophilus influenza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Moraxella catarrhalis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Antibiotics used in the treatment of RTI’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eta lactam antibiotics  (Penicillins /  Cephalosporins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crolide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luoroquinolone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minoglycoside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oxycycline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05:49:35Z</dcterms:created>
  <dc:creator>Dr. Philip L. Pokorski</dc:creator>
  <dc:description/>
  <dc:language>en-US</dc:language>
  <cp:lastModifiedBy>Azaa Almedany</cp:lastModifiedBy>
  <cp:lastPrinted>2015-02-02T08:43:10Z</cp:lastPrinted>
  <dcterms:modified xsi:type="dcterms:W3CDTF">2015-02-09T09:48:48Z</dcterms:modified>
  <cp:revision>212</cp:revision>
  <dc:subject/>
  <dc:title>Respiratory System</dc:title>
</cp:coreProperties>
</file>