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B79-BB82-4C65-9653-4F8220081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985-0220-404E-9288-AA98C9F2A942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65AE-F2A5-4F3C-9769-476DB54BE240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8F34-1BC7-4DF9-8700-9CEE2C8662DE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6279-04B7-49D3-B98F-4848BE642580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FEDA-B310-432F-85D9-FB64182BFAFD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C19F-BC23-45E0-98FC-8C7CB8B93B71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8AD-2DD0-4592-A159-D54CD4EA2882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7CB0-2176-4360-B282-4A72DC4D5F00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417C-3F65-4FA6-9F4B-D123C4675B75}" type="slidenum">
              <a:rPr b="1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DE3-B2CD-47D1-A81F-6E83BE60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B0F3-0B96-45C5-9978-1F8C20D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EC6D-9B7A-4300-83AA-89E6C55E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134-18B6-4DB4-898F-A2F352FB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EAD0-2524-4938-A82C-C65E1B41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F3B1-AFB8-4A9E-B21E-79D63FCA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E135-893D-4131-A47B-01507F6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D885-0F52-4CF7-9EA8-486554BB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CA57-305F-4B0C-9410-B24BD714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E14E-8317-4912-A3EF-5893FFF2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FE52-D6B5-4041-AB65-75B5AC59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1D7-241E-4E81-8A77-89CC3379A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F223-CA92-4EFB-BFFC-A95F7F4B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0CF9-EC1A-4BF4-8B0D-AF79DCB4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E23-F57A-46AE-AE9B-F5F2C07E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13D7-AC73-49ED-8470-D1C7BF40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5C26-2425-4980-AF31-A8A82BA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71EE-AC23-49B2-B5E7-E1FF337E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6602-E64F-49E7-A18F-9BC3D602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AF46B-D5D3-40B7-A8F9-C162E91E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267D8-2721-4185-A073-745C355F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965BE-5BA2-4F39-B93B-EAD5C6A3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AF9F-05E4-4263-9B75-55488194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F593D-4D9E-4FE7-AF10-1BD8B7D6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6123-3FCD-44D6-B7BE-35A52AEF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2202C-9727-4824-A456-FEE0552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8C97F-5548-4480-8410-9C3BE252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F6F23-94DA-4B3B-8F60-1C4AF43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0CA9-62DC-4BCF-A873-F7A8655EE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7DCF-482D-4BE1-9553-4905A6626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F5D-7E1E-4F35-8E31-6CA2F61A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857-8676-4150-A9D6-A42A80B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3F1-71BA-45CA-B0DA-53771F6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FBEE-6B5B-4BF4-93EC-5630B68B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F413-814F-48AA-A359-01C4E951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D5F-CBD7-41C9-ACBF-C8567021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849EA-A3D5-4487-AF1E-4ADCDEE348F0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7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9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10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11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12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13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14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6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7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8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9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20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21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22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23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24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5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6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7B84-66BA-4551-A2EA-19AA7E5596E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reeform 7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Oval 8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Freeform 9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Freeform 10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Freeform 11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Freeform 12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Freeform 13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Freeform 14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15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31" name="Freeform 16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Freeform 17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Freeform 18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4" name="Freeform 19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Freeform 20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37" name="Freeform 22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Freeform 23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9" name="Freeform 24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Freeform 26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4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3B4B-6643-419C-BA6C-8679B760FBD9}" type="slidenum">
              <a:rPr b="0" lang="ar-S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who.int/tb/publications/global_report/en/index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ulmonary TB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4" descr="starv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5"/>
          <p:cNvSpPr txBox="1"/>
          <p:nvPr/>
        </p:nvSpPr>
        <p:spPr>
          <a:xfrm>
            <a:off x="1219320" y="1676520"/>
            <a:ext cx="678168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Impact"/>
              </a:rPr>
              <a:t>TUBERCULOSIS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poster_cough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ommon sites of infe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pical areas of lu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Renal parenchym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Growing ends of bon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Where oxygen tension is hig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reatment Of Tuberculos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eventing  development of drug resistance is the most important reason to use drug combination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eriods of treatment ( minimum 6 months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s are divided into two groups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irst line                2.  Second lin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ntimycobacterial drug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First line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soniazid (INH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ifamp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treptomyci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yrazinamid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Never use a single drug therap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soniazid –rifampin combination administered for 9 months will cure 95-98% of cases 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Addition of pyrazinamide for this combination for the first 2 months allows total duration to be reduced to 6 month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soniazi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ostatic for resting bacilli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Bactericidal   for rapidly growing bacilli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s effective against intracellular  &amp; extracellular bacilli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chanism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Inhibits the synthesis of mycobacterial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ell wall ( inhibit the  synthesis of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mycolic acid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TB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Treatment of Latent TB in patients with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ositive tuberculin skin te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Prophylaxis against active TB in individuals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who are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n great risk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Peripheral neuriti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in &amp; needles sensation in the feet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Times New Roman"/>
              </a:rPr>
              <a:t>Optic neuritis &amp;atrophy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(Pyridoxine ( vitamin B6) should be given in both 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cases 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 of IN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nzyme inhibitor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35000" y="2115720"/>
            <a:ext cx="786600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PROF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ZZA ELMedan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mp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RNA synthesi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y binding to DNA dependent RN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olymerase enzy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B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active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armless red-orange discoloration of body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secretions  ( saliva, sweat  …..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epatit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lu-like syndro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molytic anem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rug Interac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Potent enzyme inducer   (  Hepatic P-450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0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ambutol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 of mycobacterial arabinosyl transferase ( alters the cell barrier )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tracellular &amp; 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reatment of tuberculosis in combination with other drug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5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mpaired  visual acuity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red-green color blindness  ( poor color discrimination )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thambutol is contraindicated in children under 5 year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8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Pyrazi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echanism of action is unknown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t the end of lecture , the students should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etiology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common route for transmission of the disea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es the out line for treatment of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he drugs used in the first &amp; second line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ite Of A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tive against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In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Mycobacterial  infections  mainly in multidrug resistance case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t is important in short –course (6 month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gimen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Prophylaxis of TB 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Hepa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Hyperuricemia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( gouty arthritis 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Drug fever &amp; skin rash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reptomycin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7680" y="2209680"/>
            <a:ext cx="889632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cid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ors of protein synthesis by binding to 30 S ribosomal subunit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ctive mainly  on </a:t>
            </a: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extracellular bacilli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Severe , life-threating form of T.B. as meningitis, disseminated disease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Ot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phrotoxicit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Neuromuscular block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8480" y="914400"/>
            <a:ext cx="888516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Indication of 2</a:t>
            </a:r>
            <a:r>
              <a:rPr b="1" lang="en-US" sz="44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line treatment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esistance to the drugs of 1</a:t>
            </a:r>
            <a:r>
              <a:rPr b="1" lang="en-US" sz="3600" spc="-1" strike="noStrike" baseline="30000">
                <a:solidFill>
                  <a:srgbClr val="ffffcc"/>
                </a:solidFill>
                <a:latin typeface="Times New Roman"/>
              </a:rPr>
              <a:t>st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lin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Failure of clinical respons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here is contraindication for first line  drug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sed in typical &amp; atypical tuberculos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Ethionam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the synthesis of   mycolic aci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 a secondary line agent  ,treatment of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6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Poorly tolerate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92d050"/>
                </a:solidFill>
                <a:latin typeface="Times New Roman"/>
              </a:rPr>
              <a:t>Because of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eeef1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eeef1"/>
                </a:solidFill>
                <a:latin typeface="Times New Roman"/>
              </a:rPr>
              <a:t>Severe gastric irritation &amp;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Neurological manifestati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 ( continue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garding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echanism of 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dverse effec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rug interact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raindica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pregnancy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scuss tuberculosis &amp; breast feed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luoroquinolones (Ciprofloxacin  </a:t>
            </a:r>
            <a:r>
              <a:rPr b="1" lang="en-US" sz="4400" spc="-1" strike="noStrike">
                <a:solidFill>
                  <a:srgbClr val="ff505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against  multidrug- resistant tuberculosi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ifabuti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RNA inhibitor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Cross –resistance with rifampin is complet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nzyme inducer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Effective in prevention &amp;treatment of T.B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 prevention &amp; treatment of atypical TB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GIT intolera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range-red discoloration of body secretion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0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minosalicylic Acid (PAS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Bacteriostatic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Inhibits Folic acid synthe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0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linical us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As a second line agent is used in the treatment of pulmonary &amp; other forms of tuberculosi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dverse effect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GIT upset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000"/>
                </a:solidFill>
                <a:latin typeface="Times New Roman"/>
              </a:rPr>
              <a:t>Crystalluri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2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Pregnanc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Untreated TB represents a great risk to the pregnant woman &amp; her fetus than the treatment itsel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First line drugs are given for 9 months in normal do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reptomycin is the last alternative in treatm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9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B &amp; Breast Feedi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It is not a contraindication to receive drugs , but caution is recommend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40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poster_health"/>
          <p:cNvPicPr/>
          <p:nvPr/>
        </p:nvPicPr>
        <p:blipFill>
          <a:blip r:embed="rId1"/>
          <a:stretch/>
        </p:blipFill>
        <p:spPr>
          <a:xfrm>
            <a:off x="685800" y="380880"/>
            <a:ext cx="7924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1007640"/>
            <a:ext cx="777240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tiology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ycobacterium tuberculosis, an acid fast bacillus with three types known to infect man  causing  pulmonary TB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human type, commone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bovine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african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poster_swan"/>
          <p:cNvPicPr/>
          <p:nvPr/>
        </p:nvPicPr>
        <p:blipFill>
          <a:blip r:embed="rId1"/>
          <a:stretch/>
        </p:blipFill>
        <p:spPr>
          <a:xfrm>
            <a:off x="380880" y="457200"/>
            <a:ext cx="82296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133720"/>
            <a:ext cx="4724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obert Koch was the firs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o se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cobacterium tuberculosis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with his staining technique in 1882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2" name="Picture 8" descr="robert"/>
          <p:cNvPicPr/>
          <p:nvPr/>
        </p:nvPicPr>
        <p:blipFill>
          <a:blip r:embed="rId1"/>
          <a:stretch/>
        </p:blipFill>
        <p:spPr>
          <a:xfrm>
            <a:off x="5410080" y="1143000"/>
            <a:ext cx="350532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132_bacillus"/>
          <p:cNvPicPr/>
          <p:nvPr/>
        </p:nvPicPr>
        <p:blipFill>
          <a:blip r:embed="rId2"/>
          <a:stretch/>
        </p:blipFill>
        <p:spPr>
          <a:xfrm>
            <a:off x="5638680" y="44956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5219640" y="1847880"/>
            <a:ext cx="374508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lnSpc>
                <a:spcPct val="120000"/>
              </a:lnSpc>
              <a:buClr>
                <a:srgbClr val="ffffc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Georgia"/>
              </a:rPr>
              <a:t>Each year, 1% of the  global population is infected.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173160" indent="-173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8532720" y="858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cc"/>
                </a:solidFill>
                <a:latin typeface="Arial"/>
              </a:rPr>
              <a:t>   </a:t>
            </a:r>
            <a:endParaRPr b="1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71640" y="54612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Georgia"/>
              </a:rPr>
              <a:t>Disease information:</a:t>
            </a:r>
            <a:endParaRPr b="1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5" descr="tuberculosis incidence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16280"/>
            <a:ext cx="4608360" cy="360036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poster_bab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poster_babykiss"/>
          <p:cNvPicPr/>
          <p:nvPr/>
        </p:nvPicPr>
        <p:blipFill>
          <a:blip r:embed="rId1"/>
          <a:stretch/>
        </p:blipFill>
        <p:spPr>
          <a:xfrm>
            <a:off x="457200" y="533520"/>
            <a:ext cx="81532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9:22:10Z</dcterms:created>
  <dc:creator>DTK</dc:creator>
  <dc:description/>
  <dc:language>en-US</dc:language>
  <cp:lastModifiedBy>Azaa Almedany</cp:lastModifiedBy>
  <dcterms:modified xsi:type="dcterms:W3CDTF">2015-02-11T09:42:30Z</dcterms:modified>
  <cp:revision>309</cp:revision>
  <dc:subject/>
  <dc:title>Antimycobacterial drugs</dc:title>
</cp:coreProperties>
</file>