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FD32-0651-4D83-BE30-C27A75E4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D74E-C091-42C1-A3DE-8A8550C5347B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6F56-2F1B-4C51-B613-26286290DB6E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ECA-85F8-4665-ACE3-6986513F74F0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8ED9-A7BF-4E00-BFE2-B8CAC6ABBCF3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064-2EBF-43AB-92C7-354EE5D0F7E7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971-73F0-49AE-B19D-11CB49732B48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7A1-C0E2-4F99-9E4E-8C69BE677EF4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134-F297-4248-AA3C-634B0C781EF1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F86A-732C-47F3-B68B-1C106E55A413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11B-3214-475A-A306-DF835C25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96F-7E26-4EBF-8254-F75D83C7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6D1-79BB-4BBB-AF96-2C687FF7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615-E45F-42B1-9B86-A98FB3F0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68C-61F3-4B89-88DF-0CAEFA66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6EC8-35A3-479D-AB52-D539848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06E-270D-42B4-9AB7-DE97C86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6D9-6123-44B9-8EC7-077AAA66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C494-3CDD-4682-AE99-E74A3AE2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35C3-2DA1-4EB2-8FB9-FE50754B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A465-8448-4D41-8CBA-122CB55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88F-7886-4ECB-B792-F1705631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7B1-A52F-4889-9B04-8AB9E3F8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E63-F706-4E1E-BA9F-8428CF2A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949-8CA1-40C6-8289-44599DE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A9C-16A0-4D6E-90E5-2974FFCB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D91-B299-4355-B3AD-B6ED9A74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87E0-EAAD-4E00-A66E-FCD11894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85C8-1E15-45BB-B13E-C136008D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6624-C79E-4154-BA37-89E0FC8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394C-1957-4064-B1C0-F9F906A8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9E5E-F4D6-4894-99E1-E741EB32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31E-B767-4FDA-AA1C-F0DDA00C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1127-0FEB-466E-8E24-08C59AA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4E01-1BAB-4C7C-B4F1-862EA58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788F-2089-4C78-A819-8E3C1E2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1753-BEED-4CEE-AE54-FCFE6E8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C786-8FCC-4FA9-927D-FE25A9E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6004-BADF-4CC7-93F2-ECED459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0655-F86A-4EDD-8FCD-7557C53F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D83-DE7D-4464-ABB6-D03784D1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15B-0635-48B6-8968-E6C3075D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46-F898-4FF2-A4AC-B2E46E29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BC5-DE13-48F1-BCCC-D04050B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2A3-8BBA-47E2-A443-7E39B1B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B6C-C85D-4D32-A60F-C35050D8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3D8-6292-48B5-85CD-E06FD23F7D8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5FB-B5B7-411D-9F18-43933231EF4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719-A487-45BB-8AE0-4030C9FF3C6C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 oxygen tension is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yridoxine ( vitamin B6) should be given in both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ases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OF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ZZA ELMedan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active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Potent enzyme inducer   (  Hepatic P-450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  ( poor color discrimination 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is the last alternative in treat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cobacterium tuberculosis, an acid fast bacillus with three types known to infect man  causing  pulmonary TB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type, common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bovine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frican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Azaa Almedany</cp:lastModifiedBy>
  <dcterms:modified xsi:type="dcterms:W3CDTF">2015-02-11T09:42:30Z</dcterms:modified>
  <cp:revision>309</cp:revision>
  <dc:subject/>
  <dc:title>Antimycobacterial drugs</dc:title>
</cp:coreProperties>
</file>