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DA2F-4323-44F0-9B6E-8513D03B3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1C0C-84EA-4DF1-B44B-DD3CF3037D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A1AB-C9D9-4D33-80B4-247F2A9F69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0C5F-1A05-4102-A9E7-63FE5114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4B67-EFE8-4D7A-9038-6E34DAE3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F19-DD2A-4EE4-BA3C-BB11614D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3DCB-9E97-4A2C-8954-BBFBBA40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70A8-A0EB-4A79-AE1D-1707F7FA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3729-5297-4EB5-B96A-573A739B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653F-3994-43CE-8ADF-73B87873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52C4-AB42-4D13-A7F8-490068ED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ABE6-7C27-4D1C-A5F0-4C800BCE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8428-1126-45BA-A1FD-24256EBA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1B2D-6EEC-4A9C-8ED6-B6B2BB0F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A9A-8F43-4816-9D71-2295B056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B6E5-A87A-48BB-9CAA-442B52E9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FCA5-A958-4FA6-9062-2B33A317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B63A-EE5B-4F90-B57B-D54D8C42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66EA-3A82-4B12-B095-68D1634B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00B5-6CB4-4443-8B95-D633AFCA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9FB-A2EC-45C7-8195-DDF32D58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23B-9D2C-4E0B-A4B8-D39C8392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7518-ECC8-409E-AEA9-670BAA23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0A4-EB3F-4DEA-9DD3-B2F4F467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771E-61AD-406E-8F6F-3C5EB42C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9B88-6121-443D-92B1-1EE78AC3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22A6-73FF-41AD-BFC9-91DFEA26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9431-C64D-4FC5-A801-1B96D56C3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f. Saeed Maka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0F34-A253-49CD-BBAB-36F79B5DC3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Bismillah_458"/>
          <p:cNvPicPr/>
          <p:nvPr/>
        </p:nvPicPr>
        <p:blipFill>
          <a:blip r:embed="rId1"/>
          <a:stretch/>
        </p:blipFill>
        <p:spPr>
          <a:xfrm>
            <a:off x="2743200" y="2438280"/>
            <a:ext cx="37339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3816360" cy="647640"/>
          </a:xfrm>
          <a:prstGeom prst="rect">
            <a:avLst/>
          </a:prstGeom>
          <a:gradFill rotWithShape="0">
            <a:gsLst>
              <a:gs pos="0">
                <a:srgbClr val="90f1f1"/>
              </a:gs>
              <a:gs pos="100000">
                <a:srgbClr val="dff9f9"/>
              </a:gs>
            </a:gsLst>
            <a:lin ang="8100000"/>
          </a:gra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74ff"/>
                </a:solidFill>
                <a:latin typeface="Arial"/>
              </a:rPr>
              <a:t>Nasal muc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999720"/>
            <a:ext cx="4143240" cy="5597640"/>
          </a:xfrm>
          <a:prstGeom prst="rect">
            <a:avLst/>
          </a:prstGeom>
          <a:gradFill rotWithShape="0">
            <a:gsLst>
              <a:gs pos="0">
                <a:srgbClr val="91b7d6"/>
              </a:gs>
              <a:gs pos="100000">
                <a:srgbClr val="dfe9f1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Olfactory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lic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contains olfactory nerv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present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oof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a0aff"/>
                </a:solidFill>
                <a:latin typeface="Arial"/>
              </a:rPr>
              <a:t>lateral wal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pper part of nasal sept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n the lateral w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lines the upper surface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 conch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henoethmoidal re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n the medial w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line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 pa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nasal sept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A9CF-2188-4127-86D1-B02001AFEA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F0929065"/>
          <p:cNvPicPr/>
          <p:nvPr/>
        </p:nvPicPr>
        <p:blipFill>
          <a:blip r:embed="rId1"/>
          <a:srcRect l="58177" t="4538" r="2653" b="5452"/>
          <a:stretch/>
        </p:blipFill>
        <p:spPr>
          <a:xfrm>
            <a:off x="4284720" y="189000"/>
            <a:ext cx="4608360" cy="3240000"/>
          </a:xfrm>
          <a:prstGeom prst="rect">
            <a:avLst/>
          </a:prstGeom>
          <a:ln w="9360">
            <a:solidFill>
              <a:srgbClr val="0079a4"/>
            </a:solidFill>
            <a:miter/>
          </a:ln>
        </p:spPr>
      </p:pic>
      <p:pic>
        <p:nvPicPr>
          <p:cNvPr id="144" name="Picture 4" descr="F0929065"/>
          <p:cNvPicPr/>
          <p:nvPr/>
        </p:nvPicPr>
        <p:blipFill>
          <a:blip r:embed="rId2"/>
          <a:srcRect l="1761" t="4538" r="44954" b="5452"/>
          <a:stretch/>
        </p:blipFill>
        <p:spPr>
          <a:xfrm>
            <a:off x="4211640" y="3500280"/>
            <a:ext cx="4681440" cy="31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Rectangle 2"/>
          <p:cNvGrpSpPr/>
          <p:nvPr/>
        </p:nvGrpSpPr>
        <p:grpSpPr>
          <a:xfrm>
            <a:off x="1103400" y="176040"/>
            <a:ext cx="6583320" cy="605160"/>
            <a:chOff x="1103400" y="176040"/>
            <a:chExt cx="6583320" cy="605160"/>
          </a:xfrm>
        </p:grpSpPr>
        <p:pic>
          <p:nvPicPr>
            <p:cNvPr id="146" name="Rectangle 2" descr=""/>
            <p:cNvPicPr/>
            <p:nvPr/>
          </p:nvPicPr>
          <p:blipFill>
            <a:blip r:embed="rId1"/>
            <a:stretch/>
          </p:blipFill>
          <p:spPr>
            <a:xfrm>
              <a:off x="1103400" y="176040"/>
              <a:ext cx="6583320" cy="6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116000" y="189000"/>
              <a:ext cx="65516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00000"/>
                  </a:solidFill>
                  <a:latin typeface="Arial"/>
                  <a:ea typeface="Aharoni"/>
                </a:rPr>
                <a:t>RESPIRATORY MUCOS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4508640"/>
            <a:ext cx="8424720" cy="2349360"/>
          </a:xfrm>
          <a:prstGeom prst="rect">
            <a:avLst/>
          </a:prstGeom>
          <a:gradFill rotWithShape="0">
            <a:gsLst>
              <a:gs pos="0">
                <a:srgbClr val="688b98"/>
              </a:gs>
              <a:gs pos="100000">
                <a:srgbClr val="b5ef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ick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iliated highly vascular and contains mucous glands &amp; goblet cel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t lines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wer part </a:t>
            </a: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of the nasal cav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It functions to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oisten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lean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161616"/>
                </a:solidFill>
                <a:uFillTx/>
                <a:latin typeface="Arial"/>
              </a:rPr>
              <a:t>warm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the inspired a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The air is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moistened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by the secretion of numerous serous gla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It is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cleaned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by the removal of the dust particles by the ciliary action of the columnar ciliated epithelium that covers the muco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The air </a:t>
            </a:r>
            <a:r>
              <a:rPr b="0" lang="en-US" sz="1800" spc="-1" strike="noStrike">
                <a:solidFill>
                  <a:srgbClr val="6e90ad"/>
                </a:solidFill>
                <a:latin typeface="Arial"/>
              </a:rPr>
              <a:t>is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warmed</a:t>
            </a:r>
            <a:r>
              <a:rPr b="0" lang="en-US" sz="1800" spc="-1" strike="noStrike">
                <a:solidFill>
                  <a:srgbClr val="6e90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by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submucous venous plexus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vestibule is lined by sk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9431-C7D4-4EC8-AD56-2EDA1AC781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9347834A"/>
          <p:cNvPicPr/>
          <p:nvPr/>
        </p:nvPicPr>
        <p:blipFill>
          <a:blip r:embed="rId2"/>
          <a:srcRect l="2020" t="6816" r="3041" b="4550"/>
          <a:stretch/>
        </p:blipFill>
        <p:spPr>
          <a:xfrm>
            <a:off x="395280" y="836640"/>
            <a:ext cx="7632720" cy="36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0" y="685800"/>
            <a:ext cx="300816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Nerve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228600"/>
            <a:ext cx="3160440" cy="5897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Olfactory mucosa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upplied by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olfactory ner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erves of general sensation are derived fro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ophthalmi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axillary division of the trigeminal ner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Anterior ethemoidal ner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Nasal, nasopalatine and palatine branches of the ptergopalatine gangl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0" descr="F66122-008-f232"/>
          <p:cNvPicPr/>
          <p:nvPr/>
        </p:nvPicPr>
        <p:blipFill>
          <a:blip r:embed="rId1"/>
          <a:stretch/>
        </p:blipFill>
        <p:spPr>
          <a:xfrm>
            <a:off x="3654360" y="2057400"/>
            <a:ext cx="54896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19360" y="761760"/>
            <a:ext cx="42670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lood supp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456840"/>
            <a:ext cx="3429000" cy="6095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Arterial Suppl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Branches of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Maxillary; sphenopalatine arte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Facial; superior labial 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Ophthalmic; ethmoidal  arter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The arteries make a rich anastomosis in the region of the vestibule, and anterior portion of the sept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Venous Drainage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ubmucosal plexus by veins accompany the arteries which drain into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facia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ophthalmic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,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spheno-palatine vei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F66122-008-f230"/>
          <p:cNvPicPr/>
          <p:nvPr/>
        </p:nvPicPr>
        <p:blipFill>
          <a:blip r:embed="rId1"/>
          <a:stretch/>
        </p:blipFill>
        <p:spPr>
          <a:xfrm>
            <a:off x="3886200" y="2438280"/>
            <a:ext cx="51116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505320" cy="71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Rounded MT Bold"/>
                <a:ea typeface="Tahoma"/>
              </a:rPr>
              <a:t>Lymphatic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lymphatics from t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Vestibul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rains into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bmandibula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lymph no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Rest of the cavit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rains into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upper deep cerv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lymph no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" descr="F66122-008-f233"/>
          <p:cNvPicPr/>
          <p:nvPr/>
        </p:nvPicPr>
        <p:blipFill>
          <a:blip r:embed="rId1"/>
          <a:stretch/>
        </p:blipFill>
        <p:spPr>
          <a:xfrm>
            <a:off x="3575160" y="1584360"/>
            <a:ext cx="5111640" cy="47401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4495680" y="4572000"/>
            <a:ext cx="1295640" cy="304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553080" y="1523880"/>
            <a:ext cx="1143000" cy="304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Rounded MT Bold"/>
              </a:rPr>
              <a:t>Paranasal Sinu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48006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Air filled cavitie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located in the bones around the nasal cavity: </a:t>
            </a:r>
            <a:r>
              <a:rPr b="0" lang="en-US" sz="2000" spc="-1" strike="noStrike">
                <a:solidFill>
                  <a:srgbClr val="ff66ff"/>
                </a:solidFill>
                <a:latin typeface="Tahoma"/>
                <a:ea typeface="Tahoma"/>
              </a:rPr>
              <a:t>ethmoid, sphenoid, frontal bones &amp; maxilla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Lined by respiratory mucos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which is continuous with the mucosa of the nasal ca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Drain into the nasal ca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 Rounded MT Bold"/>
              </a:rPr>
              <a:t>Fun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Lighten the sku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Act as resonant chambers for speec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ir conditioning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he respiratory mucosal lining helps in warming, cleaning and moistening the incoming ai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ClipArt Placeholder 6" descr="pns"/>
          <p:cNvPicPr/>
          <p:nvPr/>
        </p:nvPicPr>
        <p:blipFill>
          <a:blip r:embed="rId1"/>
          <a:srcRect l="3457" t="12704" r="2000" b="3383"/>
          <a:stretch/>
        </p:blipFill>
        <p:spPr>
          <a:xfrm>
            <a:off x="5103720" y="1600200"/>
            <a:ext cx="39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4727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Arial Rounded MT Bold"/>
                <a:ea typeface="Arial Unicode MS"/>
              </a:rPr>
              <a:t>Pharyn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724640" cy="5410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ular tube lying behind the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oral cav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laryn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s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rom the base of the skull to level of the 6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cervical verteb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ere it is continuous with the esoph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nterior wall is deficient and shows (from above downwar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sterior nasal apert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pening of the oral ca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ryngeal inl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uscles arranged i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ir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itudinal lay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C:\Documents and Settings\user\My Documents\My Pictures\pharynx1.jpg"/>
          <p:cNvPicPr/>
          <p:nvPr/>
        </p:nvPicPr>
        <p:blipFill>
          <a:blip r:embed="rId1"/>
          <a:srcRect l="-434" t="1720" r="7410" b="28506"/>
          <a:stretch/>
        </p:blipFill>
        <p:spPr>
          <a:xfrm>
            <a:off x="4952880" y="304920"/>
            <a:ext cx="3200400" cy="28908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1"/>
          <p:cNvSpPr/>
          <p:nvPr/>
        </p:nvSpPr>
        <p:spPr>
          <a:xfrm>
            <a:off x="601992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601992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6" descr="C:\Documents and Settings\user\My Documents\My Pictures\phnx.jpg"/>
          <p:cNvPicPr/>
          <p:nvPr/>
        </p:nvPicPr>
        <p:blipFill>
          <a:blip r:embed="rId2"/>
          <a:srcRect l="0" t="2520" r="0" b="6602"/>
          <a:stretch/>
        </p:blipFill>
        <p:spPr>
          <a:xfrm>
            <a:off x="5029200" y="3352680"/>
            <a:ext cx="3124080" cy="3200400"/>
          </a:xfrm>
          <a:prstGeom prst="rect">
            <a:avLst/>
          </a:prstGeom>
          <a:ln w="0">
            <a:noFill/>
          </a:ln>
        </p:spPr>
      </p:pic>
      <p:cxnSp>
        <p:nvCxnSpPr>
          <p:cNvPr id="171" name="Straight Arrow Connector 12"/>
          <p:cNvCxnSpPr/>
          <p:nvPr/>
        </p:nvCxnSpPr>
        <p:spPr>
          <a:xfrm>
            <a:off x="6933240" y="1219320"/>
            <a:ext cx="76680" cy="1219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2" name="TextBox 1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phnx"/>
          <p:cNvPicPr/>
          <p:nvPr/>
        </p:nvPicPr>
        <p:blipFill>
          <a:blip r:embed="rId1"/>
          <a:srcRect l="4108" t="6849" r="4108" b="2740"/>
          <a:stretch/>
        </p:blipFill>
        <p:spPr>
          <a:xfrm>
            <a:off x="4648320" y="838080"/>
            <a:ext cx="3646440" cy="32767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Rounded MT Bold"/>
              </a:rPr>
              <a:t>Circular (Constrictor) Musc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610480" cy="213372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nc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l the bolus of food down into the esophag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fibers of the inferior constrictor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ricopharyge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act as a sphincter, preventing the entry of air into the esophagus between the acts of swallow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647712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6400800" y="1828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64008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80880" y="838080"/>
            <a:ext cx="4114800" cy="320040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in numb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Superior constricto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Middle constrictor &amp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Inferior constri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ree muscles overlap each 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Rounded MT Bold"/>
              </a:rPr>
              <a:t>Longitudinal Musc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4000" cy="457200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in numb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ylopharyng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lpingopharyng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latpharyng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Functi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e the larynx &amp; pharynx during swallo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C:\Documents and Settings\user\My Documents\My Pictures\long.png"/>
          <p:cNvPicPr/>
          <p:nvPr/>
        </p:nvPicPr>
        <p:blipFill>
          <a:blip r:embed="rId1"/>
          <a:srcRect l="21432" t="20259" r="0" b="0"/>
          <a:stretch/>
        </p:blipFill>
        <p:spPr>
          <a:xfrm>
            <a:off x="4691160" y="1371600"/>
            <a:ext cx="4071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4800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harynx is divided into three pa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asopharynx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opharynx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ryngopharynx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257800" y="1219320"/>
            <a:ext cx="3616200" cy="3516120"/>
          </a:xfrm>
          <a:prstGeom prst="rect">
            <a:avLst/>
          </a:prstGeom>
          <a:ln w="0">
            <a:noFill/>
          </a:ln>
        </p:spPr>
      </p:pic>
      <p:sp>
        <p:nvSpPr>
          <p:cNvPr id="185" name="Oval 4"/>
          <p:cNvSpPr/>
          <p:nvPr/>
        </p:nvSpPr>
        <p:spPr>
          <a:xfrm>
            <a:off x="6324480" y="39625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6477120" y="3352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477120" y="2514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Eras Bold ITC"/>
                <a:ea typeface="Aharoni"/>
              </a:rPr>
              <a:t>Nose, Nasal cavity, </a:t>
            </a: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Eras Bold ITC"/>
                <a:ea typeface="Aharoni"/>
              </a:rPr>
              <a:t>Paranasal Sinuses &amp; Pharyn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Rectangle 4" descr=""/>
          <p:cNvPicPr/>
          <p:nvPr/>
        </p:nvPicPr>
        <p:blipFill>
          <a:blip r:embed="rId1"/>
          <a:stretch/>
        </p:blipFill>
        <p:spPr>
          <a:xfrm>
            <a:off x="-103320" y="4748040"/>
            <a:ext cx="935064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800600" y="228600"/>
            <a:ext cx="419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Nas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380520"/>
            <a:ext cx="4419720" cy="678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2"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ds from the base of skull to the soft pal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es with the nasal cavity through 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posterior nasal aper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ryngeal tonsils (adenoides) present in the submucosa covering the roo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ral wall show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ing of auditory tub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bal elevation (produced by posterior margin of the auditory tub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bal tons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pingopharyngeal fold (raised by salpingo-pharyngeus musc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yngeal rec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105520" y="762120"/>
            <a:ext cx="3200400" cy="3111480"/>
          </a:xfrm>
          <a:prstGeom prst="rect">
            <a:avLst/>
          </a:prstGeom>
          <a:ln w="0">
            <a:noFill/>
          </a:ln>
        </p:spPr>
      </p:pic>
      <p:pic>
        <p:nvPicPr>
          <p:cNvPr id="191" name="ClipArt Placeholder 6" descr="C:\Documents and Settings\user\My Documents\My Pictures\jhu.jpg"/>
          <p:cNvPicPr/>
          <p:nvPr/>
        </p:nvPicPr>
        <p:blipFill>
          <a:blip r:embed="rId2"/>
          <a:srcRect l="0" t="0" r="0" b="30226"/>
          <a:stretch/>
        </p:blipFill>
        <p:spPr>
          <a:xfrm>
            <a:off x="4699080" y="3429000"/>
            <a:ext cx="4444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67080" y="228240"/>
            <a:ext cx="427032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Or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280" y="380520"/>
            <a:ext cx="3810240" cy="62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es behind the mouth cavity, communicates with the oral cavity through the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oropharyngeal isth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s from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soft pala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upper border of epiglott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teral wall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sh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opharyngeal fol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oglossal f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ine tonsil 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located between them in                      a depression called the </a:t>
            </a: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‘t</a:t>
            </a: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onsillar 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fossa’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ClipArt Placeholder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4343400" y="1295280"/>
            <a:ext cx="4546440" cy="44197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6858000" y="48769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atoglossal f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4038480" y="5943600"/>
            <a:ext cx="19051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lato-pharyngeal  f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6324480" y="6172200"/>
            <a:ext cx="17528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nsillar fos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8" name="Straight Arrow Connector 9"/>
          <p:cNvCxnSpPr/>
          <p:nvPr/>
        </p:nvCxnSpPr>
        <p:spPr>
          <a:xfrm flipH="1" flipV="1">
            <a:off x="6324120" y="3504600"/>
            <a:ext cx="1067760" cy="1448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9" name="Straight Arrow Connector 11"/>
          <p:cNvCxnSpPr/>
          <p:nvPr/>
        </p:nvCxnSpPr>
        <p:spPr>
          <a:xfrm flipV="1">
            <a:off x="4875840" y="3733200"/>
            <a:ext cx="1143720" cy="2439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0" name="Straight Arrow Connector 12"/>
          <p:cNvCxnSpPr/>
          <p:nvPr/>
        </p:nvCxnSpPr>
        <p:spPr>
          <a:xfrm flipH="1" flipV="1">
            <a:off x="6171480" y="3656880"/>
            <a:ext cx="762840" cy="2515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tine tonsi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Content Placeholder 4" descr=""/>
          <p:cNvPicPr/>
          <p:nvPr/>
        </p:nvPicPr>
        <p:blipFill>
          <a:blip r:embed="rId1"/>
          <a:stretch/>
        </p:blipFill>
        <p:spPr>
          <a:xfrm>
            <a:off x="4527720" y="4038480"/>
            <a:ext cx="3809880" cy="26575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masses of lymphoid tissue located in the lateral wall of the oropharynx in the tonsillar fos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one is covered by mucous membrane and laterally by fibrous tissue (capsu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reaches a maximum size during childhood,  after puberty it diminishes in size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3962520" y="111240"/>
            <a:ext cx="49402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atine tonsils; re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1680" y="1523520"/>
            <a:ext cx="854064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relat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erior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palatoglossal 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sterior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palatopharyngeal 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perior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soft pal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ferior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posterior 1\3 of the tong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di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cavity of the oropharyn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ter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superior constrictor of the pharynx separated from it by loss connective tissue through which descends the external palatine vein ,                                          , loop of the facial artery and                                                                             , the internal carotid artery which lies behind and lateral to the tonsils.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3440" y="635040"/>
            <a:ext cx="30081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Content Placeholder 5" descr=""/>
          <p:cNvPicPr/>
          <p:nvPr/>
        </p:nvPicPr>
        <p:blipFill>
          <a:blip r:embed="rId1"/>
          <a:stretch/>
        </p:blipFill>
        <p:spPr>
          <a:xfrm>
            <a:off x="3809880" y="3124080"/>
            <a:ext cx="5112000" cy="30574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32637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terial supp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onsillar arteries; from the lingual, fascial, ascending pharyngeal, and greater palati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enous drainag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external palatine, pharyngeal, and fascial vei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ymphatic drain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o the upper deep cervical (jugulodigastric nod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3962520" y="853920"/>
            <a:ext cx="5048280" cy="19148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7620120" y="914400"/>
            <a:ext cx="914400" cy="1522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7924680" y="1371600"/>
            <a:ext cx="997200" cy="228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7924680" y="2057400"/>
            <a:ext cx="533520" cy="1522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781680" y="2438280"/>
            <a:ext cx="457200" cy="228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5334120" y="914400"/>
            <a:ext cx="457200" cy="331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5334120" y="2514600"/>
            <a:ext cx="380880" cy="228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724280" y="2286000"/>
            <a:ext cx="304920" cy="228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943440" y="1371600"/>
            <a:ext cx="476280" cy="304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498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Laryng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49532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2f4f4"/>
                </a:solidFill>
                <a:latin typeface="Arial"/>
              </a:rPr>
              <a:t>Lies behind the laryngeal inlet &amp; the posterior surface of laryn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es with the larynx  through the 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laryngeal in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2f4f4"/>
                </a:solidFill>
                <a:latin typeface="Arial"/>
              </a:rPr>
              <a:t>Extends from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upper border of epiglottis </a:t>
            </a:r>
            <a:r>
              <a:rPr b="0" lang="en-US" sz="2000" spc="-1" strike="noStrike">
                <a:solidFill>
                  <a:srgbClr val="d2f4f4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lower border of cricoid cartil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depression situated on either side of the laryngeal inlet is called ‘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iriform fossa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common site for the lodging of foreign bod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nches of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ternal laryngeal (&amp; recurrent laryngeal) ner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e deep to the mucous membrane of the fossa and are vulnerable to injury during removal of a foreign bod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ClipArt Placeholder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486400" y="228600"/>
            <a:ext cx="3381480" cy="3286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C:\Documents and Settings\user\My Documents\My Pictures\vfd.png"/>
          <p:cNvPicPr/>
          <p:nvPr/>
        </p:nvPicPr>
        <p:blipFill>
          <a:blip r:embed="rId2"/>
          <a:stretch/>
        </p:blipFill>
        <p:spPr>
          <a:xfrm>
            <a:off x="5638680" y="3581280"/>
            <a:ext cx="2971800" cy="2989440"/>
          </a:xfrm>
          <a:prstGeom prst="rect">
            <a:avLst/>
          </a:prstGeom>
          <a:ln w="0">
            <a:noFill/>
          </a:ln>
        </p:spPr>
      </p:pic>
      <p:cxnSp>
        <p:nvCxnSpPr>
          <p:cNvPr id="223" name="Straight Arrow Connector 6"/>
          <p:cNvCxnSpPr/>
          <p:nvPr/>
        </p:nvCxnSpPr>
        <p:spPr>
          <a:xfrm flipV="1">
            <a:off x="6552000" y="4800240"/>
            <a:ext cx="76284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240" y="228240"/>
            <a:ext cx="3809880" cy="624852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 Rounded MT Bold"/>
              </a:rPr>
              <a:t>Nerve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Senso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Nasopharynx</a:t>
            </a:r>
            <a:r>
              <a:rPr b="0" lang="en-US" sz="2000" spc="-1" strike="noStrike">
                <a:solidFill>
                  <a:srgbClr val="00a2d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xillary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Oropharynx</a:t>
            </a:r>
            <a:r>
              <a:rPr b="0" lang="en-US" sz="2000" spc="-1" strike="noStrike">
                <a:solidFill>
                  <a:srgbClr val="00a2d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lossopharyngeal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Laryngopharynx</a:t>
            </a:r>
            <a:r>
              <a:rPr b="0" lang="en-US" sz="2000" spc="-1" strike="noStrike">
                <a:solidFill>
                  <a:srgbClr val="00a2d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agus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Motor Nerve Supp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l the muscles of pharynx are supplied by the pharyngeal plexus.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except ;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the Stylopharyngeus is supplied by the glossopharyngeal ner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114440" y="304920"/>
            <a:ext cx="4724280" cy="266688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 Rounded MT Bold"/>
              </a:rPr>
              <a:t>Arterial supply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branche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cending pharyngeal ar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cending palatine ar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cial ar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xillary ar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gual ar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114800" y="3124080"/>
            <a:ext cx="4724280" cy="129564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ff"/>
                </a:solidFill>
                <a:latin typeface="Arial Rounded MT Bold"/>
              </a:rPr>
              <a:t>Veins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in into pharyngeal venous plexus, which drains into the internal jugular v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4114800" y="4495680"/>
            <a:ext cx="4724280" cy="198144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66ff"/>
                </a:solidFill>
                <a:latin typeface="Arial Rounded MT Bold"/>
              </a:rPr>
              <a:t>lymphatics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drain into the </a:t>
            </a: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deep cervical lymph 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nodes either directly, or indirectly via the </a:t>
            </a: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retropharyngeal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ratracheal lymph n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lilly4"/>
          <p:cNvPicPr/>
          <p:nvPr/>
        </p:nvPicPr>
        <p:blipFill>
          <a:blip r:embed="rId1"/>
          <a:stretch/>
        </p:blipFill>
        <p:spPr>
          <a:xfrm>
            <a:off x="2286000" y="1719360"/>
            <a:ext cx="4191120" cy="31352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1981080" y="220968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cript MT Bold"/>
              </a:rPr>
              <a:t>Thank You &amp; Good Lu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1680" y="1294920"/>
            <a:ext cx="8540640" cy="403884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At the end of the lecture, the students should be abl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boundaries of the nasal c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nasal conchae and mea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the openings in each me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paranasal sinuses and thei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pharynx, its parts, and the related structu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Rounded MT Bold"/>
              </a:rPr>
              <a:t>N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cathnose"/>
          <p:cNvPicPr/>
          <p:nvPr/>
        </p:nvPicPr>
        <p:blipFill>
          <a:blip r:embed="rId1"/>
          <a:stretch/>
        </p:blipFill>
        <p:spPr>
          <a:xfrm>
            <a:off x="6172200" y="914400"/>
            <a:ext cx="2682720" cy="261468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7696080" y="990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6553080" y="2133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7315200" y="2895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a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6705720" y="2743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pt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7543800" y="23623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" name="Straight Arrow Connector 13"/>
          <p:cNvCxnSpPr/>
          <p:nvPr/>
        </p:nvCxnSpPr>
        <p:spPr>
          <a:xfrm flipH="1" flipV="1">
            <a:off x="7543080" y="2742480"/>
            <a:ext cx="15300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2" name="Picture 7" descr="C:\Documents and Settings\user\My Documents\My Pictures\nasalcartilages.gif"/>
          <p:cNvPicPr/>
          <p:nvPr/>
        </p:nvPicPr>
        <p:blipFill>
          <a:blip r:embed="rId2"/>
          <a:stretch/>
        </p:blipFill>
        <p:spPr>
          <a:xfrm>
            <a:off x="3962520" y="2819520"/>
            <a:ext cx="2133360" cy="3684600"/>
          </a:xfrm>
          <a:prstGeom prst="rect">
            <a:avLst/>
          </a:prstGeom>
          <a:ln w="0">
            <a:noFill/>
          </a:ln>
        </p:spPr>
      </p:pic>
      <p:cxnSp>
        <p:nvCxnSpPr>
          <p:cNvPr id="103" name="Straight Arrow Connector 19"/>
          <p:cNvCxnSpPr/>
          <p:nvPr/>
        </p:nvCxnSpPr>
        <p:spPr>
          <a:xfrm flipH="1">
            <a:off x="5638320" y="4572000"/>
            <a:ext cx="610560" cy="99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4" name="Straight Arrow Connector 20"/>
          <p:cNvCxnSpPr/>
          <p:nvPr/>
        </p:nvCxnSpPr>
        <p:spPr>
          <a:xfrm flipH="1">
            <a:off x="5257440" y="4570920"/>
            <a:ext cx="99144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5" name="Rectangle 3"/>
          <p:cNvSpPr/>
          <p:nvPr/>
        </p:nvSpPr>
        <p:spPr>
          <a:xfrm>
            <a:off x="0" y="3581280"/>
            <a:ext cx="3200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152280" y="914400"/>
            <a:ext cx="3733920" cy="1752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external (anterior ) nar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r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 nostrils</a:t>
            </a:r>
            <a:r>
              <a:rPr b="0" lang="en-US" sz="2800" spc="-1" strike="noStrike">
                <a:solidFill>
                  <a:srgbClr val="33cccc"/>
                </a:solidFill>
                <a:latin typeface="Tahoma"/>
                <a:ea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lead to the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nasal c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3048120"/>
            <a:ext cx="3432240" cy="1218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77000"/>
          </a:bodyPr>
          <a:p>
            <a:pPr lvl="1" marL="26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ed above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Bony skele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28"/>
          <p:cNvSpPr/>
          <p:nvPr/>
        </p:nvSpPr>
        <p:spPr>
          <a:xfrm>
            <a:off x="4495680" y="3048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29"/>
          <p:cNvSpPr/>
          <p:nvPr/>
        </p:nvSpPr>
        <p:spPr>
          <a:xfrm>
            <a:off x="4724280" y="3809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30"/>
          <p:cNvSpPr/>
          <p:nvPr/>
        </p:nvSpPr>
        <p:spPr>
          <a:xfrm>
            <a:off x="44197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Placeholder 5"/>
          <p:cNvSpPr/>
          <p:nvPr/>
        </p:nvSpPr>
        <p:spPr>
          <a:xfrm>
            <a:off x="6248520" y="3962520"/>
            <a:ext cx="2133360" cy="228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ed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bel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by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  <a:ea typeface="Tahoma"/>
              </a:rPr>
              <a:t>plates of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hyaline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2" name="Straight Arrow Connector 20"/>
          <p:cNvCxnSpPr/>
          <p:nvPr/>
        </p:nvCxnSpPr>
        <p:spPr>
          <a:xfrm>
            <a:off x="3657240" y="3352680"/>
            <a:ext cx="1067400" cy="1533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3" name="Straight Arrow Connector 22"/>
          <p:cNvCxnSpPr/>
          <p:nvPr/>
        </p:nvCxnSpPr>
        <p:spPr>
          <a:xfrm>
            <a:off x="3656520" y="3352680"/>
            <a:ext cx="762840" cy="144864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Rounded MT Bold"/>
              </a:rPr>
              <a:t>Nasal Ca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3429000" cy="5181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xtends from the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external (anterior) nar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o the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posterior nares (choana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vided into right &amp; left halves by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nasal sept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ach half has 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Ro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Lateral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edial wall (septu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b8"/>
          <p:cNvPicPr/>
          <p:nvPr/>
        </p:nvPicPr>
        <p:blipFill>
          <a:blip r:embed="rId1"/>
          <a:srcRect l="3159" t="0" r="1451" b="15961"/>
          <a:stretch/>
        </p:blipFill>
        <p:spPr>
          <a:xfrm>
            <a:off x="4343400" y="3581280"/>
            <a:ext cx="4545000" cy="2895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:\Documents and Settings\user\My Documents\My Pictures\xx.jpg"/>
          <p:cNvPicPr/>
          <p:nvPr/>
        </p:nvPicPr>
        <p:blipFill>
          <a:blip r:embed="rId2"/>
          <a:stretch/>
        </p:blipFill>
        <p:spPr>
          <a:xfrm>
            <a:off x="4495680" y="762120"/>
            <a:ext cx="3810240" cy="2762280"/>
          </a:xfrm>
          <a:prstGeom prst="rect">
            <a:avLst/>
          </a:prstGeom>
          <a:ln w="0">
            <a:noFill/>
          </a:ln>
        </p:spPr>
      </p:pic>
      <p:sp>
        <p:nvSpPr>
          <p:cNvPr id="118" name="Straight Connector 6"/>
          <p:cNvSpPr/>
          <p:nvPr/>
        </p:nvSpPr>
        <p:spPr>
          <a:xfrm flipH="1">
            <a:off x="6629400" y="4572000"/>
            <a:ext cx="7632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traight Connector 9"/>
          <p:cNvSpPr/>
          <p:nvPr/>
        </p:nvSpPr>
        <p:spPr>
          <a:xfrm>
            <a:off x="6629400" y="6019920"/>
            <a:ext cx="5335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traight Connector 11"/>
          <p:cNvSpPr/>
          <p:nvPr/>
        </p:nvSpPr>
        <p:spPr>
          <a:xfrm>
            <a:off x="6780960" y="4572000"/>
            <a:ext cx="38124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traight Connector 14"/>
          <p:cNvSpPr/>
          <p:nvPr/>
        </p:nvSpPr>
        <p:spPr>
          <a:xfrm>
            <a:off x="6705720" y="4572000"/>
            <a:ext cx="759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724280" y="685440"/>
            <a:ext cx="4191120" cy="3505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 Rounded MT Bold"/>
              </a:rPr>
              <a:t>Ro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arrow &amp; formed (from behind forward) by th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Body of spheno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Cribriform plate of ethmoid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Frontal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Nasal bone &amp; cartilag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C:\Documents and Settings\user\My Documents\My Pictures\f0417-01.jpg"/>
          <p:cNvPicPr/>
          <p:nvPr/>
        </p:nvPicPr>
        <p:blipFill>
          <a:blip r:embed="rId1"/>
          <a:stretch/>
        </p:blipFill>
        <p:spPr>
          <a:xfrm>
            <a:off x="457200" y="762120"/>
            <a:ext cx="4194000" cy="3504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990720" y="4495680"/>
            <a:ext cx="6476760" cy="13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 Rounded MT Bold"/>
              </a:rPr>
              <a:t>Fl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eparates it from the oral cav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ormed by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hard (bony) pal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752480" y="1600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2209680" y="1371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2743200" y="1447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3276720" y="2057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9" name="Straight Arrow Connector 9"/>
          <p:cNvCxnSpPr/>
          <p:nvPr/>
        </p:nvCxnSpPr>
        <p:spPr>
          <a:xfrm flipH="1" flipV="1">
            <a:off x="2286000" y="3351960"/>
            <a:ext cx="76680" cy="129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3581280" cy="556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 Rounded MT Bold"/>
                <a:ea typeface="Tahoma"/>
              </a:rPr>
              <a:t>Medial Wall (Nasal Sept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Osteocartilagino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part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ormed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Perpendicular plate of ethmoid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Vom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eptal cartil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C:\Documents and Settings\user\My Documents\My Pictures\f0417-01.jpg"/>
          <p:cNvPicPr/>
          <p:nvPr/>
        </p:nvPicPr>
        <p:blipFill>
          <a:blip r:embed="rId1"/>
          <a:stretch/>
        </p:blipFill>
        <p:spPr>
          <a:xfrm>
            <a:off x="4114800" y="1523880"/>
            <a:ext cx="4376880" cy="3657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2" name="TextBox 3"/>
          <p:cNvSpPr/>
          <p:nvPr/>
        </p:nvSpPr>
        <p:spPr>
          <a:xfrm>
            <a:off x="61722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63244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4864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1920" y="837720"/>
            <a:ext cx="4419720" cy="342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 Rounded MT Bold"/>
                <a:ea typeface="Tahoma"/>
              </a:rPr>
              <a:t>Lateral Wal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hows three horizontal bony projections,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peri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iddle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&amp;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inferior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conch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Picture1"/>
          <p:cNvPicPr/>
          <p:nvPr/>
        </p:nvPicPr>
        <p:blipFill>
          <a:blip r:embed="rId1"/>
          <a:stretch/>
        </p:blipFill>
        <p:spPr>
          <a:xfrm>
            <a:off x="4648320" y="838080"/>
            <a:ext cx="4384440" cy="3318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304920" y="4419720"/>
            <a:ext cx="868680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cavity below each concha is called a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meat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and are named as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peri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idd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&amp;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inferi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corresponding to the concha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small space above the superior concha is the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sphenoethmoidal re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3504960" cy="50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concha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the surface area of the nasal c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 rec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meat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eive the openings of th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Arial"/>
              </a:rPr>
              <a:t>Paranasal sinu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Arial"/>
              </a:rPr>
              <a:t>Nasolacrimal 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886200" y="762120"/>
          <a:ext cx="4952880" cy="4657680"/>
        </p:xfrm>
        <a:graphic>
          <a:graphicData uri="http://schemas.openxmlformats.org/drawingml/2006/table">
            <a:tbl>
              <a:tblPr/>
              <a:tblGrid>
                <a:gridCol w="1371600"/>
                <a:gridCol w="3581280"/>
              </a:tblGrid>
              <a:tr h="125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ahoma"/>
                        </a:rPr>
                        <a:t>Spheno ethmoidal re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9a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phenoidal sin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9a4"/>
                    </a:solidFill>
                  </a:tcPr>
                </a:tc>
              </a:tr>
              <a:tr h="102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uperior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ahoma"/>
                          <a:ea typeface="Tahoma"/>
                        </a:rPr>
                        <a:t>posterior ethmoidal sin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ddle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ddle ethmoidal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xillary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rontal &amp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he anterior ethmoidal sinus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ff"/>
                    </a:solidFill>
                  </a:tcPr>
                </a:tc>
              </a:tr>
              <a:tr h="75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ferior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nasolacrimal duc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22:08:28Z</dcterms:created>
  <dc:creator>Dr. Zeenat Zaidi</dc:creator>
  <dc:description/>
  <dc:language>en-US</dc:language>
  <cp:lastModifiedBy>ESSAM</cp:lastModifiedBy>
  <dcterms:modified xsi:type="dcterms:W3CDTF">2015-01-26T10:39:30Z</dcterms:modified>
  <cp:revision>169</cp:revision>
  <dc:subject/>
  <dc:title>Nose, Nasal cavity &amp; Paranasal sinuses &amp; Pharynx</dc:title>
</cp:coreProperties>
</file>