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07B6-56A4-49C1-8F72-7089CCA34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B198-2328-44AF-B033-CC4491BAFF5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20FD-15D3-406E-8BBE-1232A5A79B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AC1A-BD0C-413B-819F-3351C79E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0247-EDC3-472C-BB13-C36C5B86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0786-E370-428A-A357-5DD6035E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BD3-26B6-4532-A32F-819BE7E1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2AE7-6710-48EC-9E07-0A6B9DD0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C0D7-D4B6-4B9B-BD17-1E127561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A624-74AE-4797-B15D-5C1F64AA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D883-EF04-4EB5-A844-33C83FB3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0785-90CA-4481-9C2E-A58922A9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B469-064D-4C37-84B6-A2F527B1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CD4B-F2CF-4399-9C40-3D995C19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42C-C40A-4200-A748-FF68F03A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A20F-4312-4364-B1C6-33B6630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CCE6-C8A3-4036-8F7D-C3A2EEBD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8A1D-F808-410C-8776-DA4CCD19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104F-C7AD-4ED4-A02D-872CA0CE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6E3C-3B5E-449F-B5EE-60C6C8BA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112-258C-42EE-BA56-EDAC7BC2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D2E-BDEC-406E-9DFC-C0CE1520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635-ED01-4F46-83B7-BDC7EBED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3F8-C3B5-41C5-86C1-07F4AF80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7DF-4B99-4D2A-A12C-C351F021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088-0C09-4695-9FD4-9E9A47E4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5DA-9668-464E-94CC-221AEAC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B15B-01E8-4EE0-A8CA-53E1B9D93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. Saeed Maka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34CB-7332-4ECB-832F-C242AA6D0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ismillah_458"/>
          <p:cNvPicPr/>
          <p:nvPr/>
        </p:nvPicPr>
        <p:blipFill>
          <a:blip r:embed="rId1"/>
          <a:stretch/>
        </p:blipFill>
        <p:spPr>
          <a:xfrm>
            <a:off x="2743200" y="2438280"/>
            <a:ext cx="3733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816360" cy="64764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74ff"/>
                </a:solidFill>
                <a:latin typeface="Arial"/>
              </a:rPr>
              <a:t>Nas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99720"/>
            <a:ext cx="4143240" cy="5597640"/>
          </a:xfrm>
          <a:prstGeom prst="rect">
            <a:avLst/>
          </a:prstGeom>
          <a:gradFill rotWithShape="0">
            <a:gsLst>
              <a:gs pos="0">
                <a:srgbClr val="91b7d6"/>
              </a:gs>
              <a:gs pos="100000">
                <a:srgbClr val="dfe9f1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Olfactory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i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ontains olfactory nerv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resent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oof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a0aff"/>
                </a:solidFill>
                <a:latin typeface="Arial"/>
              </a:rPr>
              <a:t>lateral w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per part of nasal sept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n the later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upper surfa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con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n the medi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CC8A-B0E5-4859-A449-8AFDFB7CB2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F0929065"/>
          <p:cNvPicPr/>
          <p:nvPr/>
        </p:nvPicPr>
        <p:blipFill>
          <a:blip r:embed="rId1"/>
          <a:srcRect l="58177" t="4538" r="2653" b="5452"/>
          <a:stretch/>
        </p:blipFill>
        <p:spPr>
          <a:xfrm>
            <a:off x="4284720" y="189000"/>
            <a:ext cx="4608360" cy="3240000"/>
          </a:xfrm>
          <a:prstGeom prst="rect">
            <a:avLst/>
          </a:prstGeom>
          <a:ln w="9360">
            <a:solidFill>
              <a:srgbClr val="0079a4"/>
            </a:solidFill>
            <a:miter/>
          </a:ln>
        </p:spPr>
      </p:pic>
      <p:pic>
        <p:nvPicPr>
          <p:cNvPr id="144" name="Picture 4" descr="F0929065"/>
          <p:cNvPicPr/>
          <p:nvPr/>
        </p:nvPicPr>
        <p:blipFill>
          <a:blip r:embed="rId2"/>
          <a:srcRect l="1761" t="4538" r="44954" b="5452"/>
          <a:stretch/>
        </p:blipFill>
        <p:spPr>
          <a:xfrm>
            <a:off x="4211640" y="3500280"/>
            <a:ext cx="468144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ectangle 2"/>
          <p:cNvGrpSpPr/>
          <p:nvPr/>
        </p:nvGrpSpPr>
        <p:grpSpPr>
          <a:xfrm>
            <a:off x="1103400" y="176040"/>
            <a:ext cx="6583320" cy="605160"/>
            <a:chOff x="1103400" y="176040"/>
            <a:chExt cx="6583320" cy="605160"/>
          </a:xfrm>
        </p:grpSpPr>
        <p:pic>
          <p:nvPicPr>
            <p:cNvPr id="146" name="Rectangle 2" descr=""/>
            <p:cNvPicPr/>
            <p:nvPr/>
          </p:nvPicPr>
          <p:blipFill>
            <a:blip r:embed="rId1"/>
            <a:stretch/>
          </p:blipFill>
          <p:spPr>
            <a:xfrm>
              <a:off x="1103400" y="176040"/>
              <a:ext cx="658332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6000" y="189000"/>
              <a:ext cx="6551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haroni"/>
                </a:rPr>
                <a:t>RESPIRATORY MUCO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4508640"/>
            <a:ext cx="8424720" cy="2349360"/>
          </a:xfrm>
          <a:prstGeom prst="rect">
            <a:avLst/>
          </a:prstGeom>
          <a:gradFill rotWithShape="0">
            <a:gsLst>
              <a:gs pos="0">
                <a:srgbClr val="688b98"/>
              </a:gs>
              <a:gs pos="100000">
                <a:srgbClr val="b5e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ck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liated highly vascular and contains mucous glands &amp; goblet cel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lin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er part </a:t>
            </a: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of the nasal ca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functions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oiste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lea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161616"/>
                </a:solidFill>
                <a:uFillTx/>
                <a:latin typeface="Arial"/>
              </a:rPr>
              <a:t>warm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the inspired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moiste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secretion of numerous serous g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clea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removal of the dust particles by the ciliary action of the columnar ciliated epithelium that covers the m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warmed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b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submucous venous plexu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vestibule is lined by sk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F82E-6F2A-45BC-856D-6B4A6F6916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9347834A"/>
          <p:cNvPicPr/>
          <p:nvPr/>
        </p:nvPicPr>
        <p:blipFill>
          <a:blip r:embed="rId2"/>
          <a:srcRect l="2020" t="6816" r="3041" b="4550"/>
          <a:stretch/>
        </p:blipFill>
        <p:spPr>
          <a:xfrm>
            <a:off x="395280" y="836640"/>
            <a:ext cx="763272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0" y="685800"/>
            <a:ext cx="300816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erve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28600"/>
            <a:ext cx="3160440" cy="5897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lfactory mucosa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pplied by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lfactory ner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erves of general sensation are derived fro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axillary division of the trigemin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Anterior ethemoid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, nasopalatine and palatine branches of the ptergopalatine gang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F66122-008-f232"/>
          <p:cNvPicPr/>
          <p:nvPr/>
        </p:nvPicPr>
        <p:blipFill>
          <a:blip r:embed="rId1"/>
          <a:stretch/>
        </p:blipFill>
        <p:spPr>
          <a:xfrm>
            <a:off x="3654360" y="2057400"/>
            <a:ext cx="5489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19360" y="761760"/>
            <a:ext cx="42670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sup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456840"/>
            <a:ext cx="3429000" cy="6095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Arterial Suppl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Branches of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Maxillary; sphenopalatine arte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Facial; superior labial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Ophthalmic; ethmoidal  arte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he arteries make a rich anastomosis in the region of the vestibule, and anterior portion of the sept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Venous Drainag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ubmucosal plexus by veins accompany the arteries which drain in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faci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spheno-palatine vei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F66122-008-f230"/>
          <p:cNvPicPr/>
          <p:nvPr/>
        </p:nvPicPr>
        <p:blipFill>
          <a:blip r:embed="rId1"/>
          <a:stretch/>
        </p:blipFill>
        <p:spPr>
          <a:xfrm>
            <a:off x="3886200" y="2438280"/>
            <a:ext cx="5111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0532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  <a:ea typeface="Tahoma"/>
              </a:rPr>
              <a:t>Lymphatic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lymphatics from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Vestibu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bmandib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Rest of the cavit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upper deep cerv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F66122-008-f233"/>
          <p:cNvPicPr/>
          <p:nvPr/>
        </p:nvPicPr>
        <p:blipFill>
          <a:blip r:embed="rId1"/>
          <a:stretch/>
        </p:blipFill>
        <p:spPr>
          <a:xfrm>
            <a:off x="3575160" y="1584360"/>
            <a:ext cx="5111640" cy="47401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4495680" y="4572000"/>
            <a:ext cx="129564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553080" y="1523880"/>
            <a:ext cx="114300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Paranasal Sin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ir filled caviti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ocated in the bones around the nasal cavity: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  <a:ea typeface="Tahoma"/>
              </a:rPr>
              <a:t>ethmoid, sphenoid, frontal bones &amp; maxilla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ned by respiratory mucos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which is continuous with the mucosa of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Drain into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Rounded MT Bold"/>
              </a:rPr>
              <a:t>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ghten the sk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ct as resonant chambers for spe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 condition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respiratory mucosal lining helps in warming, cleaning and moistening the incoming ai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ClipArt Placeholder 6" descr="pns"/>
          <p:cNvPicPr/>
          <p:nvPr/>
        </p:nvPicPr>
        <p:blipFill>
          <a:blip r:embed="rId1"/>
          <a:srcRect l="3457" t="12704" r="2000" b="3383"/>
          <a:stretch/>
        </p:blipFill>
        <p:spPr>
          <a:xfrm>
            <a:off x="5103720" y="1600200"/>
            <a:ext cx="39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27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 Rounded MT Bold"/>
                <a:ea typeface="Arial Unicode MS"/>
              </a:rPr>
              <a:t>Pharyn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72464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ar tube lying behind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ral cav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rom the base of the skull to level of the 6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cervical verteb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ere it is continuous with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terior wall is deficient and shows (from above downwar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erior nasal aper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ning of the or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eal in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scles arranged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r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itudinal lay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C:\Documents and Settings\user\My Documents\My Pictures\pharynx1.jpg"/>
          <p:cNvPicPr/>
          <p:nvPr/>
        </p:nvPicPr>
        <p:blipFill>
          <a:blip r:embed="rId1"/>
          <a:srcRect l="-434" t="1720" r="7410" b="28506"/>
          <a:stretch/>
        </p:blipFill>
        <p:spPr>
          <a:xfrm>
            <a:off x="4952880" y="304920"/>
            <a:ext cx="3200400" cy="2890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1"/>
          <p:cNvSpPr/>
          <p:nvPr/>
        </p:nvSpPr>
        <p:spPr>
          <a:xfrm>
            <a:off x="601992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60199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C:\Documents and Settings\user\My Documents\My Pictures\phnx.jpg"/>
          <p:cNvPicPr/>
          <p:nvPr/>
        </p:nvPicPr>
        <p:blipFill>
          <a:blip r:embed="rId2"/>
          <a:srcRect l="0" t="2520" r="0" b="6602"/>
          <a:stretch/>
        </p:blipFill>
        <p:spPr>
          <a:xfrm>
            <a:off x="5029200" y="3352680"/>
            <a:ext cx="31240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171" name="Straight Arrow Connector 12"/>
          <p:cNvCxnSpPr/>
          <p:nvPr/>
        </p:nvCxnSpPr>
        <p:spPr>
          <a:xfrm>
            <a:off x="6933240" y="1219320"/>
            <a:ext cx="76680" cy="121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TextBox 1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phnx"/>
          <p:cNvPicPr/>
          <p:nvPr/>
        </p:nvPicPr>
        <p:blipFill>
          <a:blip r:embed="rId1"/>
          <a:srcRect l="4108" t="6849" r="4108" b="2740"/>
          <a:stretch/>
        </p:blipFill>
        <p:spPr>
          <a:xfrm>
            <a:off x="4648320" y="83808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Circular (Constrictor)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10480" cy="21337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 the bolus of food down into the esophag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ibers of the inferior constrictor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ricopharyg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ct as a sphincter, preventing the entry of air into the esophagus between the acts of swallow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4771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64008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80880" y="838080"/>
            <a:ext cx="4114800" cy="32004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uperior constrict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iddle constrictor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nferior constri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uscles overlap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Longitudinal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4000" cy="45720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yl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ping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latpharyn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Fun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 the larynx &amp; pharynx during swall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C:\Documents and Settings\user\My Documents\My Pictures\long.png"/>
          <p:cNvPicPr/>
          <p:nvPr/>
        </p:nvPicPr>
        <p:blipFill>
          <a:blip r:embed="rId1"/>
          <a:srcRect l="21432" t="20259" r="0" b="0"/>
          <a:stretch/>
        </p:blipFill>
        <p:spPr>
          <a:xfrm>
            <a:off x="4691160" y="1371600"/>
            <a:ext cx="4071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harynx is divided into three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s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257800" y="1219320"/>
            <a:ext cx="3616200" cy="3516120"/>
          </a:xfrm>
          <a:prstGeom prst="rect">
            <a:avLst/>
          </a:prstGeom>
          <a:ln w="0">
            <a:noFill/>
          </a:ln>
        </p:spPr>
      </p:pic>
      <p:sp>
        <p:nvSpPr>
          <p:cNvPr id="185" name="Oval 4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4771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Nose, Nasal cavity, </a:t>
            </a: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Paranasal Sinuses &amp; Pharyn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-103320" y="4748040"/>
            <a:ext cx="935064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00600" y="228600"/>
            <a:ext cx="419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Nas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4419720" cy="67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s from the base of skull to the soft pal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nasal cavity through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posterior nasal aper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yngeal tonsils (adenoides) present in the submucosa covering the ro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wall sh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of auditory tu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elevation (produced by posterior margin of the auditory tub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ton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pingopharyngeal fold (raised by salpingo-pharyngeus musc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yngeal re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105520" y="762120"/>
            <a:ext cx="3200400" cy="3111480"/>
          </a:xfrm>
          <a:prstGeom prst="rect">
            <a:avLst/>
          </a:prstGeom>
          <a:ln w="0">
            <a:noFill/>
          </a:ln>
        </p:spPr>
      </p:pic>
      <p:pic>
        <p:nvPicPr>
          <p:cNvPr id="191" name="ClipArt Placeholder 6" descr="C:\Documents and Settings\user\My Documents\My Pictures\jhu.jpg"/>
          <p:cNvPicPr/>
          <p:nvPr/>
        </p:nvPicPr>
        <p:blipFill>
          <a:blip r:embed="rId2"/>
          <a:srcRect l="0" t="0" r="0" b="30226"/>
          <a:stretch/>
        </p:blipFill>
        <p:spPr>
          <a:xfrm>
            <a:off x="4699080" y="3429000"/>
            <a:ext cx="444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67080" y="228240"/>
            <a:ext cx="42703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Or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381024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es behind the mouth cavity, communicates with the oral cavity through the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ropharyngeal isth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o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upper border of epiglot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ral wal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pharyngeal fol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glossal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ine tonsil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located between them in                      a depression called the 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‘t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nsillar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fossa’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4343400" y="1295280"/>
            <a:ext cx="4546440" cy="4419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6858000" y="48769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toglossal f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038480" y="59436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ato-pharyngeal  f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6324480" y="6172200"/>
            <a:ext cx="1752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nsillar fo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Straight Arrow Connector 9"/>
          <p:cNvCxnSpPr/>
          <p:nvPr/>
        </p:nvCxnSpPr>
        <p:spPr>
          <a:xfrm flipH="1" flipV="1">
            <a:off x="6324120" y="3504600"/>
            <a:ext cx="1067760" cy="1448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Straight Arrow Connector 11"/>
          <p:cNvCxnSpPr/>
          <p:nvPr/>
        </p:nvCxnSpPr>
        <p:spPr>
          <a:xfrm flipV="1">
            <a:off x="4875840" y="3733200"/>
            <a:ext cx="1143720" cy="2439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Straight Arrow Connector 12"/>
          <p:cNvCxnSpPr/>
          <p:nvPr/>
        </p:nvCxnSpPr>
        <p:spPr>
          <a:xfrm flipH="1" flipV="1">
            <a:off x="6171480" y="3656880"/>
            <a:ext cx="762840" cy="25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tine tons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Content Placeholder 4" descr=""/>
          <p:cNvPicPr/>
          <p:nvPr/>
        </p:nvPicPr>
        <p:blipFill>
          <a:blip r:embed="rId1"/>
          <a:stretch/>
        </p:blipFill>
        <p:spPr>
          <a:xfrm>
            <a:off x="4527720" y="4038480"/>
            <a:ext cx="3809880" cy="2657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masses of lymphoid tissue located in the lateral wall of the oropharynx in the tonsillar fos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one is covered by mucous membrane and laterally by fibrous tissue (capsu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eaches a maximum size during childhood,  after puberty it diminishes in siz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962520" y="111240"/>
            <a:ext cx="4940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atine tonsils; re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rela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alatoglossal 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alatopharyngeal 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soft pa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osterior 1\3 of the tong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cavity of the orophar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r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superior constrictor of the pharynx separated from it by loss connective tissue through which descends the external palatine vein ,                                          , loop of the facial artery and                                                                             , the internal carotid artery which lies behind and lateral to the tonsils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440" y="635040"/>
            <a:ext cx="3008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Content Placeholder 5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112000" cy="3057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3263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terial supp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onsillar arteries; from the lingual, fascial, ascending pharyngeal, and greater pala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nous draina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external palatine, pharyngeal, and fascial v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mphatic drain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o the upper deep cervical (jugulodigastric nod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3962520" y="853920"/>
            <a:ext cx="5048280" cy="19148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7620120" y="914400"/>
            <a:ext cx="914400" cy="152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7924680" y="1371600"/>
            <a:ext cx="99720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7924680" y="2057400"/>
            <a:ext cx="533520" cy="152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781680" y="2438280"/>
            <a:ext cx="45720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5334120" y="914400"/>
            <a:ext cx="457200" cy="331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334120" y="2514600"/>
            <a:ext cx="38088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724280" y="2286000"/>
            <a:ext cx="30492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943440" y="1371600"/>
            <a:ext cx="47628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498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Lies behind the laryngeal inlet &amp; the posterior surface of laryn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larynx  through the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eal in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Extends from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upper border of epiglottis </a:t>
            </a: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lower border of cricoid carti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depression situated on either side of the laryngeal inlet is called ‘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riform fossa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common site for the lodging of foreign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nches of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ternal laryngeal (&amp; recurrent laryngeal) ner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e deep to the mucous membrane of the fossa and are vulnerable to injury during removal of a foreign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486400" y="228600"/>
            <a:ext cx="3381480" cy="3286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Documents and Settings\user\My Documents\My Pictures\vfd.png"/>
          <p:cNvPicPr/>
          <p:nvPr/>
        </p:nvPicPr>
        <p:blipFill>
          <a:blip r:embed="rId2"/>
          <a:stretch/>
        </p:blipFill>
        <p:spPr>
          <a:xfrm>
            <a:off x="5638680" y="3581280"/>
            <a:ext cx="2971800" cy="2989440"/>
          </a:xfrm>
          <a:prstGeom prst="rect">
            <a:avLst/>
          </a:prstGeom>
          <a:ln w="0">
            <a:noFill/>
          </a:ln>
        </p:spPr>
      </p:pic>
      <p:cxnSp>
        <p:nvCxnSpPr>
          <p:cNvPr id="223" name="Straight Arrow Connector 6"/>
          <p:cNvCxnSpPr/>
          <p:nvPr/>
        </p:nvCxnSpPr>
        <p:spPr>
          <a:xfrm flipV="1">
            <a:off x="6552000" y="48002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240" y="228240"/>
            <a:ext cx="3809880" cy="62485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Nas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xillary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Or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lossopharyngeal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gus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otor Nerve Su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the muscles of pharynx are supplied by the pharyngeal plexus.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cept ;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the Stylopharyngeus is supplied by the glossopharyngeal n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114440" y="304920"/>
            <a:ext cx="4724280" cy="266688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Arterial supply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ranche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harynge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alatine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i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illary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114800" y="3124080"/>
            <a:ext cx="4724280" cy="12956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ff"/>
                </a:solidFill>
                <a:latin typeface="Arial Rounded MT Bold"/>
              </a:rPr>
              <a:t>Vein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in into pharyngeal venous plexus, which drains into the internal jugular v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114800" y="4495680"/>
            <a:ext cx="4724280" cy="19814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66ff"/>
                </a:solidFill>
                <a:latin typeface="Arial Rounded MT Bold"/>
              </a:rPr>
              <a:t>lymphatic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drain into the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deep cervical lymph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nodes either directly, or indirectly via the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retropharyngea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ratracheal lymph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lilly4"/>
          <p:cNvPicPr/>
          <p:nvPr/>
        </p:nvPicPr>
        <p:blipFill>
          <a:blip r:embed="rId1"/>
          <a:stretch/>
        </p:blipFill>
        <p:spPr>
          <a:xfrm>
            <a:off x="2286000" y="1719360"/>
            <a:ext cx="4191120" cy="3135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981080" y="2209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cript MT Bold"/>
              </a:rPr>
              <a:t>Thank You &amp; Good Lu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294920"/>
            <a:ext cx="8540640" cy="40388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t the end of the lecture, the student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boundaries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nasal conchae and me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the openings in each me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aranasal sinus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harynx, its parts, and the related struct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cathnose"/>
          <p:cNvPicPr/>
          <p:nvPr/>
        </p:nvPicPr>
        <p:blipFill>
          <a:blip r:embed="rId1"/>
          <a:stretch/>
        </p:blipFill>
        <p:spPr>
          <a:xfrm>
            <a:off x="6172200" y="914400"/>
            <a:ext cx="2682720" cy="26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7696080" y="9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553080" y="2133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3152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7057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7543800" y="2362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Straight Arrow Connector 13"/>
          <p:cNvCxnSpPr/>
          <p:nvPr/>
        </p:nvCxnSpPr>
        <p:spPr>
          <a:xfrm flipH="1" flipV="1">
            <a:off x="7543080" y="2742480"/>
            <a:ext cx="1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7" descr="C:\Documents and Settings\user\My Documents\My Pictures\nasalcartilages.gif"/>
          <p:cNvPicPr/>
          <p:nvPr/>
        </p:nvPicPr>
        <p:blipFill>
          <a:blip r:embed="rId2"/>
          <a:stretch/>
        </p:blipFill>
        <p:spPr>
          <a:xfrm>
            <a:off x="3962520" y="2819520"/>
            <a:ext cx="2133360" cy="3684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19"/>
          <p:cNvCxnSpPr/>
          <p:nvPr/>
        </p:nvCxnSpPr>
        <p:spPr>
          <a:xfrm flipH="1">
            <a:off x="5638320" y="4572000"/>
            <a:ext cx="61056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4" name="Straight Arrow Connector 20"/>
          <p:cNvCxnSpPr/>
          <p:nvPr/>
        </p:nvCxnSpPr>
        <p:spPr>
          <a:xfrm flipH="1">
            <a:off x="5257440" y="4570920"/>
            <a:ext cx="99144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Rectangle 3"/>
          <p:cNvSpPr/>
          <p:nvPr/>
        </p:nvSpPr>
        <p:spPr>
          <a:xfrm>
            <a:off x="0" y="358128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152280" y="914400"/>
            <a:ext cx="373392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 ) na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r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nostrils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ad to the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432240" cy="121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77000"/>
          </a:bodyPr>
          <a:p>
            <a:pPr lvl="1"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above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y 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495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47242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44197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Placeholder 5"/>
          <p:cNvSpPr/>
          <p:nvPr/>
        </p:nvSpPr>
        <p:spPr>
          <a:xfrm>
            <a:off x="6248520" y="3962520"/>
            <a:ext cx="213336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e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y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plates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20"/>
          <p:cNvCxnSpPr/>
          <p:nvPr/>
        </p:nvCxnSpPr>
        <p:spPr>
          <a:xfrm>
            <a:off x="3657240" y="3352680"/>
            <a:ext cx="1067400" cy="153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Straight Arrow Connector 22"/>
          <p:cNvCxnSpPr/>
          <p:nvPr/>
        </p:nvCxnSpPr>
        <p:spPr>
          <a:xfrm>
            <a:off x="3656520" y="3352680"/>
            <a:ext cx="762840" cy="14486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Nasal C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429000" cy="518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xtends from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) nar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posterior nares (choana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vided into right &amp; left halves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ach half has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Later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edial wall (sept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b8"/>
          <p:cNvPicPr/>
          <p:nvPr/>
        </p:nvPicPr>
        <p:blipFill>
          <a:blip r:embed="rId1"/>
          <a:srcRect l="3159" t="0" r="1451" b="15961"/>
          <a:stretch/>
        </p:blipFill>
        <p:spPr>
          <a:xfrm>
            <a:off x="4343400" y="3581280"/>
            <a:ext cx="4545000" cy="289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user\My Documents\My Pictures\xx.jpg"/>
          <p:cNvPicPr/>
          <p:nvPr/>
        </p:nvPicPr>
        <p:blipFill>
          <a:blip r:embed="rId2"/>
          <a:stretch/>
        </p:blipFill>
        <p:spPr>
          <a:xfrm>
            <a:off x="4495680" y="762120"/>
            <a:ext cx="3810240" cy="276228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6"/>
          <p:cNvSpPr/>
          <p:nvPr/>
        </p:nvSpPr>
        <p:spPr>
          <a:xfrm flipH="1">
            <a:off x="6629400" y="4572000"/>
            <a:ext cx="763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9"/>
          <p:cNvSpPr/>
          <p:nvPr/>
        </p:nvSpPr>
        <p:spPr>
          <a:xfrm>
            <a:off x="6629400" y="6019920"/>
            <a:ext cx="533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780960" y="4572000"/>
            <a:ext cx="38124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14"/>
          <p:cNvSpPr/>
          <p:nvPr/>
        </p:nvSpPr>
        <p:spPr>
          <a:xfrm>
            <a:off x="6705720" y="4572000"/>
            <a:ext cx="7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4280" y="685440"/>
            <a:ext cx="419112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arrow &amp; formed (from behind forward) by t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Body of spheno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ibriform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rontal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bone &amp; cartilag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57200" y="762120"/>
            <a:ext cx="4194000" cy="3504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90720" y="4495680"/>
            <a:ext cx="647676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parates it from the oral cav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hard (bony) pa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52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209680" y="1371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7432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Straight Arrow Connector 9"/>
          <p:cNvCxnSpPr/>
          <p:nvPr/>
        </p:nvCxnSpPr>
        <p:spPr>
          <a:xfrm flipH="1" flipV="1">
            <a:off x="2286000" y="3351960"/>
            <a:ext cx="766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Medial Wall (Nasal Sept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steocartilagin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part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Perpendicular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Vom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eptal carti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114800" y="1523880"/>
            <a:ext cx="43768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172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244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864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441972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Lateral W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hows three horizontal bony projections,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amp;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conc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Picture1"/>
          <p:cNvPicPr/>
          <p:nvPr/>
        </p:nvPicPr>
        <p:blipFill>
          <a:blip r:embed="rId1"/>
          <a:stretch/>
        </p:blipFill>
        <p:spPr>
          <a:xfrm>
            <a:off x="4648320" y="838080"/>
            <a:ext cx="4384440" cy="3318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4920" y="4419720"/>
            <a:ext cx="86868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avity below each concha is called a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meat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and are named a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&amp;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corresponding to the conch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small space above the superior concha is the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350496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onch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the surface area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 re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mea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 the openings of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Paranasal sin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Nasolacrimal 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86200" y="762120"/>
          <a:ext cx="4952880" cy="4657680"/>
        </p:xfrm>
        <a:graphic>
          <a:graphicData uri="http://schemas.openxmlformats.org/drawingml/2006/table">
            <a:tbl>
              <a:tblPr/>
              <a:tblGrid>
                <a:gridCol w="1371600"/>
                <a:gridCol w="3581280"/>
              </a:tblGrid>
              <a:tr h="125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Spheno ethmoidal re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phen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</a:tr>
              <a:tr h="102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p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posterior ethm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ethmoidal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xillary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ontal &amp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anterior ethmoidal sinus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75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nasolacrimal duc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08:28Z</dcterms:created>
  <dc:creator>Dr. Zeenat Zaidi</dc:creator>
  <dc:description/>
  <dc:language>en-US</dc:language>
  <cp:lastModifiedBy>ESSAM</cp:lastModifiedBy>
  <dcterms:modified xsi:type="dcterms:W3CDTF">2015-01-26T10:39:30Z</dcterms:modified>
  <cp:revision>169</cp:revision>
  <dc:subject/>
  <dc:title>Nose, Nasal cavity &amp; Paranasal sinuses &amp; Pharynx</dc:title>
</cp:coreProperties>
</file>