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91C-FFAF-4914-A866-50A5EB7E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558-57CB-4576-8340-7977AF8B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DC8-0218-44EB-98F7-91C73112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15F-2516-4E84-8D7B-9E2DEE2B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B13-3F9D-4AD2-BD26-798BB8F3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13E0-AB8E-427F-AFF0-832090AF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D75-6052-45AE-9715-B27F8559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081-B1B6-4BC7-B99B-44660125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1976-7E0A-4E1C-8352-5E21EEEF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EB46-B5A3-40A9-A720-0DCCCEBB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09C-17C7-4EBE-83E0-BDD952AF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47B7-B4EC-4610-903D-92EAC561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9DCE5-35CF-4C8B-ABB7-DA25DC5E6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3124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adiological Anatomy </a:t>
            </a:r>
            <a:br>
              <a:rPr sz="6600"/>
            </a:br>
            <a:r>
              <a:rPr b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f </a:t>
            </a:r>
            <a:br>
              <a:rPr sz="6600"/>
            </a:br>
            <a:r>
              <a:rPr b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Ches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rad1a.bmp"/>
          <p:cNvPicPr/>
          <p:nvPr/>
        </p:nvPicPr>
        <p:blipFill>
          <a:blip r:embed="rId1"/>
          <a:srcRect l="46963" t="0" r="3476" b="0"/>
          <a:stretch/>
        </p:blipFill>
        <p:spPr>
          <a:xfrm>
            <a:off x="4343400" y="1600200"/>
            <a:ext cx="4267080" cy="48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272880"/>
            <a:ext cx="289548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rache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3200400" cy="350532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dio-translucent, air-filled shadow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he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een in the midline of the neck as    a dark ar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superimposed by the lower cervical and upper thoracic vertebr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C:\Users\user\Pictures\cvvcv.png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5852880"/>
          </a:xfrm>
          <a:prstGeom prst="rect">
            <a:avLst/>
          </a:prstGeom>
          <a:ln w="0">
            <a:noFill/>
          </a:ln>
        </p:spPr>
      </p:pic>
      <p:sp>
        <p:nvSpPr>
          <p:cNvPr id="80" name="Right Arrow 5"/>
          <p:cNvSpPr/>
          <p:nvPr/>
        </p:nvSpPr>
        <p:spPr>
          <a:xfrm>
            <a:off x="4800600" y="609480"/>
            <a:ext cx="13716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29718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un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048120" cy="51814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ung roo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latively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adows caused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sence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-filled pulmonary and bronchial vesse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bronch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the lower margin of left hilum is at the level of upper margin of right hil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meddean.luc.edu/lumen/medEd/Radio/curriculum/Pulmonary/image2.jpg"/>
          <p:cNvPicPr/>
          <p:nvPr/>
        </p:nvPicPr>
        <p:blipFill>
          <a:blip r:embed="rId1"/>
          <a:stretch/>
        </p:blipFill>
        <p:spPr>
          <a:xfrm>
            <a:off x="3352680" y="380880"/>
            <a:ext cx="55692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28195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un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3505320" cy="48006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ung fields, by the air so they are more translucent on full inspiration than on expir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ulmonary blood vessels are seen as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ries of small, rounded, white shadow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ng from the lung roo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 bronchi, are seen as similar round shadow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maller bronchi are not se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C:\Users\user\Pictures\cvvcv.png"/>
          <p:cNvPicPr/>
          <p:nvPr/>
        </p:nvPicPr>
        <p:blipFill>
          <a:blip r:embed="rId1"/>
          <a:stretch/>
        </p:blipFill>
        <p:spPr>
          <a:xfrm>
            <a:off x="3733920" y="228600"/>
            <a:ext cx="5181480" cy="609588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>
            <a:off x="4419720" y="3276720"/>
            <a:ext cx="11430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eft Arrow 7"/>
          <p:cNvSpPr/>
          <p:nvPr/>
        </p:nvSpPr>
        <p:spPr>
          <a:xfrm>
            <a:off x="7543800" y="2971800"/>
            <a:ext cx="838080" cy="152280"/>
          </a:xfrm>
          <a:prstGeom prst="leftArrow">
            <a:avLst>
              <a:gd name="adj1" fmla="val 50000"/>
              <a:gd name="adj2" fmla="val 50041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2880"/>
            <a:ext cx="2666880" cy="16322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diastin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3200400" cy="33526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ight border of the  mediasti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hiocephalic vei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ior vena cav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atrium,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4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562720" cy="64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user\Desktop\startimage[1].jpg"/>
          <p:cNvPicPr/>
          <p:nvPr/>
        </p:nvPicPr>
        <p:blipFill>
          <a:blip r:embed="rId1"/>
          <a:srcRect l="22220" t="4073" r="24446" b="2590"/>
          <a:stretch/>
        </p:blipFill>
        <p:spPr>
          <a:xfrm>
            <a:off x="2362320" y="228600"/>
            <a:ext cx="4419360" cy="64008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52280" y="457200"/>
            <a:ext cx="236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chiocephalic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r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715000" y="45720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knuckl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b  (aortic 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trun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auric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ventr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Users\user\Desktop\startimage[1] (2).jpg"/>
          <p:cNvPicPr/>
          <p:nvPr/>
        </p:nvPicPr>
        <p:blipFill>
          <a:blip r:embed="rId1"/>
          <a:srcRect l="4687" t="0" r="4687" b="6250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72520"/>
            <a:ext cx="2666880" cy="178452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diastinu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2971800" cy="34290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left border of mediastin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knuckle,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b  (aortic arch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trun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auricl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ventri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4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5715000" cy="64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72520"/>
            <a:ext cx="2895480" cy="1251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diastinu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971800" cy="47242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ansverse diameter of the heart should not exceed half the width of thoracic c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piration, when the diaphrag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c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vertical length of the heart increases and the transverse diameter is narrow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meddean.luc.edu/lumen/medEd/Radio/curriculum/Pulmonary/image7.jpg"/>
          <p:cNvPicPr/>
          <p:nvPr/>
        </p:nvPicPr>
        <p:blipFill>
          <a:blip r:embed="rId1"/>
          <a:stretch/>
        </p:blipFill>
        <p:spPr>
          <a:xfrm>
            <a:off x="3276720" y="228600"/>
            <a:ext cx="563868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297180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graphy and contrast visualization of the esopha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2895480" cy="236232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onchograph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 special study of the bronchial tree by introduction of contrast medium into a particular bronch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user\Pictures\C3FF61.png"/>
          <p:cNvPicPr/>
          <p:nvPr/>
        </p:nvPicPr>
        <p:blipFill>
          <a:blip r:embed="rId1"/>
          <a:stretch/>
        </p:blipFill>
        <p:spPr>
          <a:xfrm>
            <a:off x="3276720" y="493560"/>
            <a:ext cx="5638680" cy="575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72880"/>
            <a:ext cx="316044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graphy and contrast visualization of the esopha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276720" cy="426744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st visualization of the esophagus by swallow a contrast media, (barium swallow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of the aortic arch and left bronch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of enlargement of left atri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C:\Users\user\Pictures\C3FF59.png"/>
          <p:cNvPicPr/>
          <p:nvPr/>
        </p:nvPicPr>
        <p:blipFill>
          <a:blip r:embed="rId1"/>
          <a:stretch/>
        </p:blipFill>
        <p:spPr>
          <a:xfrm>
            <a:off x="3657600" y="304920"/>
            <a:ext cx="5324400" cy="6248160"/>
          </a:xfrm>
          <a:prstGeom prst="rect">
            <a:avLst/>
          </a:prstGeom>
          <a:ln w="0">
            <a:noFill/>
          </a:ln>
        </p:spPr>
      </p:pic>
      <p:cxnSp>
        <p:nvCxnSpPr>
          <p:cNvPr id="108" name="Straight Arrow Connector 6"/>
          <p:cNvCxnSpPr/>
          <p:nvPr/>
        </p:nvCxnSpPr>
        <p:spPr>
          <a:xfrm flipV="1">
            <a:off x="3048120" y="2209320"/>
            <a:ext cx="27439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Straight Arrow Connector 9"/>
          <p:cNvCxnSpPr/>
          <p:nvPr/>
        </p:nvCxnSpPr>
        <p:spPr>
          <a:xfrm flipV="1">
            <a:off x="2590920" y="3733200"/>
            <a:ext cx="365832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106704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8763120" cy="35816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 the end of the lecture you should be able 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dentify the bones of the thoracic c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Identify superficial soft tiss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Identify the trachea and lunge fiel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Describe the mediastinum and the cardiac shado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Describe brief knowledge ab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graph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Describe brief knowledge ab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onary Ang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3276720" cy="97776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onary Angiograp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3505320" cy="28954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onary arteries are visualized by introduction of radio-opaque material into their lum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logical narrowing or blockage of coronary artery can be identif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" descr="C:\Documents and Settings\Free User\My Documents\My Pictures\RCA-in-PA-cranial-view.jpg"/>
          <p:cNvPicPr/>
          <p:nvPr/>
        </p:nvPicPr>
        <p:blipFill>
          <a:blip r:embed="rId1"/>
          <a:stretch/>
        </p:blipFill>
        <p:spPr>
          <a:xfrm>
            <a:off x="4038480" y="0"/>
            <a:ext cx="4295880" cy="341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Free User\My Documents\My Pictures\lca-pa-cranial.jpg"/>
          <p:cNvPicPr/>
          <p:nvPr/>
        </p:nvPicPr>
        <p:blipFill>
          <a:blip r:embed="rId2"/>
          <a:stretch/>
        </p:blipFill>
        <p:spPr>
          <a:xfrm>
            <a:off x="4419720" y="3505320"/>
            <a:ext cx="3733560" cy="3352680"/>
          </a:xfrm>
          <a:prstGeom prst="rect">
            <a:avLst/>
          </a:prstGeom>
          <a:ln w="0">
            <a:noFill/>
          </a:ln>
        </p:spPr>
      </p:pic>
      <p:cxnSp>
        <p:nvCxnSpPr>
          <p:cNvPr id="114" name="Straight Arrow Connector 7"/>
          <p:cNvCxnSpPr/>
          <p:nvPr/>
        </p:nvCxnSpPr>
        <p:spPr>
          <a:xfrm flipV="1">
            <a:off x="4190040" y="1751760"/>
            <a:ext cx="533880" cy="839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5" name="Straight Arrow Connector 9"/>
          <p:cNvCxnSpPr/>
          <p:nvPr/>
        </p:nvCxnSpPr>
        <p:spPr>
          <a:xfrm flipV="1">
            <a:off x="4952520" y="4190400"/>
            <a:ext cx="68652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914400" y="1981080"/>
            <a:ext cx="7467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OODLUC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5840" y="272880"/>
            <a:ext cx="4800600" cy="6415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diograph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3200400" cy="44956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views of the chest can be obtained by changing the orientation of the body and the direction of the x-ray bea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most common views 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(PA),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oposterior (AP)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fmh.org/images/X-ray_chest_machine.jpg"/>
          <p:cNvPicPr/>
          <p:nvPr/>
        </p:nvPicPr>
        <p:blipFill>
          <a:blip r:embed="rId1"/>
          <a:stretch/>
        </p:blipFill>
        <p:spPr>
          <a:xfrm>
            <a:off x="3429000" y="1447920"/>
            <a:ext cx="54673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i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chest x-ra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 used to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iagnose and to plan the treatment  and follow up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various conditions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clu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actures of the bon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cluding ribs, sternum, vertebrae, clavicle and scap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ung disord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s pneumonia, emphysema, pleural effusion, tuberculosis and lung canc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art disord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s congestive heart failure (which causes  heart enlarg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st radiograp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lso used to screen f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b-related lung disea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industries such as mining where workers are exposed to dust, (asbestosis, silicosi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st x-ra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lso requested as pre-employment dem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rad1a.bmp"/>
          <p:cNvPicPr/>
          <p:nvPr/>
        </p:nvPicPr>
        <p:blipFill>
          <a:blip r:embed="rId1"/>
          <a:stretch/>
        </p:blipFill>
        <p:spPr>
          <a:xfrm>
            <a:off x="152280" y="990720"/>
            <a:ext cx="876312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2362320" y="304920"/>
            <a:ext cx="30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72880"/>
            <a:ext cx="281916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3124440" cy="426708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he following systems must be examined in or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ficial soft tiss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ipples in both sexes and the breast in female are seen superimposed on the lung fiel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3352680" y="228600"/>
          <a:ext cx="563904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28600"/>
                    <a:ext cx="563904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297180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on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124080" cy="42670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s of the thoracic cag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nterior ribs, posterior rib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racic vertebr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transverse joi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vic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l border of the scapu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Normal CXR"/>
          <p:cNvPicPr/>
          <p:nvPr/>
        </p:nvPicPr>
        <p:blipFill>
          <a:blip r:embed="rId1"/>
          <a:stretch/>
        </p:blipFill>
        <p:spPr>
          <a:xfrm>
            <a:off x="3505320" y="304920"/>
            <a:ext cx="541656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cxnSp>
        <p:nvCxnSpPr>
          <p:cNvPr id="59" name="Straight Arrow Connector 8"/>
          <p:cNvCxnSpPr/>
          <p:nvPr/>
        </p:nvCxnSpPr>
        <p:spPr>
          <a:xfrm flipV="1">
            <a:off x="4038480" y="2209320"/>
            <a:ext cx="91512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12"/>
          <p:cNvCxnSpPr/>
          <p:nvPr/>
        </p:nvCxnSpPr>
        <p:spPr>
          <a:xfrm flipH="1" flipV="1">
            <a:off x="7619760" y="2894760"/>
            <a:ext cx="9151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14"/>
          <p:cNvCxnSpPr/>
          <p:nvPr/>
        </p:nvCxnSpPr>
        <p:spPr>
          <a:xfrm flipV="1">
            <a:off x="3962520" y="2056680"/>
            <a:ext cx="182952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Straight Arrow Connector 16"/>
          <p:cNvCxnSpPr/>
          <p:nvPr/>
        </p:nvCxnSpPr>
        <p:spPr>
          <a:xfrm>
            <a:off x="5029200" y="1143000"/>
            <a:ext cx="12960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18"/>
          <p:cNvCxnSpPr/>
          <p:nvPr/>
        </p:nvCxnSpPr>
        <p:spPr>
          <a:xfrm flipV="1">
            <a:off x="3962160" y="40377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13"/>
          <p:cNvCxnSpPr/>
          <p:nvPr/>
        </p:nvCxnSpPr>
        <p:spPr>
          <a:xfrm flipH="1" flipV="1">
            <a:off x="8152560" y="2208960"/>
            <a:ext cx="6865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289548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aphrag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895840" cy="50292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aphrag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as a dome-shaped shadow on each side; the right side is slightly higher than the  lef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ath the right dome is the homogeneous, dense shadow of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ath the left dome     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 bub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 seen in the fundus of the stoma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Users\user\Pictures\cvvcv.png"/>
          <p:cNvPicPr/>
          <p:nvPr/>
        </p:nvPicPr>
        <p:blipFill>
          <a:blip r:embed="rId1"/>
          <a:stretch/>
        </p:blipFill>
        <p:spPr>
          <a:xfrm>
            <a:off x="3352680" y="272880"/>
            <a:ext cx="5330880" cy="5975640"/>
          </a:xfrm>
          <a:prstGeom prst="rect">
            <a:avLst/>
          </a:prstGeom>
          <a:ln w="0">
            <a:noFill/>
          </a:ln>
        </p:spPr>
      </p:pic>
      <p:sp>
        <p:nvSpPr>
          <p:cNvPr id="68" name="Up Arrow 11"/>
          <p:cNvSpPr/>
          <p:nvPr/>
        </p:nvSpPr>
        <p:spPr>
          <a:xfrm>
            <a:off x="4419720" y="5257800"/>
            <a:ext cx="274680" cy="53352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4"/>
          <p:cNvSpPr/>
          <p:nvPr/>
        </p:nvSpPr>
        <p:spPr>
          <a:xfrm>
            <a:off x="7391520" y="5410080"/>
            <a:ext cx="609480" cy="152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743200" cy="12956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aphrag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95840" cy="510552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to-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reni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le, where the diaphragm meets the thoracic wa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gle becomes blunt or obscured due to mini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ur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usi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fibr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note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diophren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gle where the diaphragm meet the hea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meddean.luc.edu/lumen/medEd/Radio/curriculum/Pulmonary/image1o.jpg"/>
          <p:cNvPicPr/>
          <p:nvPr/>
        </p:nvPicPr>
        <p:blipFill>
          <a:blip r:embed="rId1"/>
          <a:srcRect l="0" t="0" r="4055" b="3789"/>
          <a:stretch/>
        </p:blipFill>
        <p:spPr>
          <a:xfrm>
            <a:off x="3200400" y="609480"/>
            <a:ext cx="57913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Freeform 4"/>
          <p:cNvSpPr/>
          <p:nvPr/>
        </p:nvSpPr>
        <p:spPr>
          <a:xfrm>
            <a:off x="5311800" y="4848120"/>
            <a:ext cx="725400" cy="636840"/>
          </a:xfrm>
          <a:custGeom>
            <a:avLst/>
            <a:gdLst/>
            <a:ahLst/>
            <a:rect l="l" t="t" r="r" b="b"/>
            <a:pathLst>
              <a:path w="725714" h="636849">
                <a:moveTo>
                  <a:pt x="725714" y="0"/>
                </a:moveTo>
                <a:lnTo>
                  <a:pt x="696685" y="87086"/>
                </a:lnTo>
                <a:lnTo>
                  <a:pt x="682171" y="130629"/>
                </a:lnTo>
                <a:cubicBezTo>
                  <a:pt x="677333" y="188686"/>
                  <a:pt x="674464" y="246941"/>
                  <a:pt x="667657" y="304800"/>
                </a:cubicBezTo>
                <a:cubicBezTo>
                  <a:pt x="655769" y="405845"/>
                  <a:pt x="657453" y="345614"/>
                  <a:pt x="638628" y="420915"/>
                </a:cubicBezTo>
                <a:cubicBezTo>
                  <a:pt x="632645" y="444848"/>
                  <a:pt x="627865" y="469103"/>
                  <a:pt x="624114" y="493486"/>
                </a:cubicBezTo>
                <a:cubicBezTo>
                  <a:pt x="618183" y="532038"/>
                  <a:pt x="628543" y="575503"/>
                  <a:pt x="609600" y="609600"/>
                </a:cubicBezTo>
                <a:cubicBezTo>
                  <a:pt x="599912" y="627038"/>
                  <a:pt x="570895" y="619277"/>
                  <a:pt x="551542" y="624115"/>
                </a:cubicBezTo>
                <a:cubicBezTo>
                  <a:pt x="442088" y="587628"/>
                  <a:pt x="577013" y="636849"/>
                  <a:pt x="464457" y="580572"/>
                </a:cubicBezTo>
                <a:cubicBezTo>
                  <a:pt x="450773" y="573730"/>
                  <a:pt x="434976" y="572085"/>
                  <a:pt x="420914" y="566058"/>
                </a:cubicBezTo>
                <a:cubicBezTo>
                  <a:pt x="401027" y="557535"/>
                  <a:pt x="383116" y="544626"/>
                  <a:pt x="362857" y="537029"/>
                </a:cubicBezTo>
                <a:cubicBezTo>
                  <a:pt x="333066" y="525857"/>
                  <a:pt x="259806" y="514894"/>
                  <a:pt x="232228" y="508000"/>
                </a:cubicBezTo>
                <a:cubicBezTo>
                  <a:pt x="97957" y="474432"/>
                  <a:pt x="312245" y="514631"/>
                  <a:pt x="116114" y="478972"/>
                </a:cubicBezTo>
                <a:cubicBezTo>
                  <a:pt x="13702" y="460352"/>
                  <a:pt x="57061" y="478475"/>
                  <a:pt x="0" y="44994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7662960" y="4890960"/>
            <a:ext cx="1046160" cy="871560"/>
          </a:xfrm>
          <a:custGeom>
            <a:avLst/>
            <a:gdLst/>
            <a:ahLst/>
            <a:rect l="l" t="t" r="r" b="b"/>
            <a:pathLst>
              <a:path w="1045028" h="870857">
                <a:moveTo>
                  <a:pt x="1045028" y="870857"/>
                </a:moveTo>
                <a:cubicBezTo>
                  <a:pt x="1017684" y="843513"/>
                  <a:pt x="994315" y="814452"/>
                  <a:pt x="957943" y="798286"/>
                </a:cubicBezTo>
                <a:cubicBezTo>
                  <a:pt x="929981" y="785858"/>
                  <a:pt x="899886" y="778933"/>
                  <a:pt x="870857" y="769257"/>
                </a:cubicBezTo>
                <a:cubicBezTo>
                  <a:pt x="806993" y="747969"/>
                  <a:pt x="756901" y="729274"/>
                  <a:pt x="682171" y="725715"/>
                </a:cubicBezTo>
                <a:lnTo>
                  <a:pt x="377371" y="711200"/>
                </a:lnTo>
                <a:cubicBezTo>
                  <a:pt x="353181" y="706362"/>
                  <a:pt x="326219" y="708925"/>
                  <a:pt x="304800" y="696686"/>
                </a:cubicBezTo>
                <a:cubicBezTo>
                  <a:pt x="289654" y="688031"/>
                  <a:pt x="281896" y="669476"/>
                  <a:pt x="275771" y="653143"/>
                </a:cubicBezTo>
                <a:cubicBezTo>
                  <a:pt x="260924" y="613550"/>
                  <a:pt x="267404" y="574219"/>
                  <a:pt x="246743" y="537029"/>
                </a:cubicBezTo>
                <a:cubicBezTo>
                  <a:pt x="229800" y="506531"/>
                  <a:pt x="199719" y="483041"/>
                  <a:pt x="188686" y="449943"/>
                </a:cubicBezTo>
                <a:lnTo>
                  <a:pt x="145143" y="319315"/>
                </a:lnTo>
                <a:cubicBezTo>
                  <a:pt x="140305" y="304801"/>
                  <a:pt x="141446" y="286591"/>
                  <a:pt x="130628" y="275772"/>
                </a:cubicBezTo>
                <a:lnTo>
                  <a:pt x="87086" y="232229"/>
                </a:lnTo>
                <a:lnTo>
                  <a:pt x="43543" y="101600"/>
                </a:lnTo>
                <a:lnTo>
                  <a:pt x="29028" y="58057"/>
                </a:lnTo>
                <a:cubicBezTo>
                  <a:pt x="24190" y="43543"/>
                  <a:pt x="25332" y="25333"/>
                  <a:pt x="14514" y="14515"/>
                </a:cubicBez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Straight Arrow Connector 7"/>
          <p:cNvCxnSpPr/>
          <p:nvPr/>
        </p:nvCxnSpPr>
        <p:spPr>
          <a:xfrm>
            <a:off x="4952520" y="3809880"/>
            <a:ext cx="839160" cy="1448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6" name="Straight Arrow Connector 10"/>
          <p:cNvCxnSpPr/>
          <p:nvPr/>
        </p:nvCxnSpPr>
        <p:spPr>
          <a:xfrm flipH="1">
            <a:off x="8076960" y="3809520"/>
            <a:ext cx="381600" cy="1600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saeed1</cp:lastModifiedBy>
  <dcterms:modified xsi:type="dcterms:W3CDTF">2015-01-30T13:46:47Z</dcterms:modified>
  <cp:revision>61</cp:revision>
  <dc:subject/>
  <dc:title>Radiological anatomy of the chest </dc:title>
</cp:coreProperties>
</file>