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8CB-231D-4FB1-99A3-809287BD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CC6-D4B0-4DA7-952F-FDA46296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ECB-C76D-407A-B582-65D0F325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75B-BDE0-457C-BEE5-DB1DD848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1A9-04E2-42E4-94B6-B7D5CD8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722-BDE6-4BFB-80F7-FD8F1C47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869-7C82-4188-9028-DA49835A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D4B-44FD-4BB0-91EC-DFE19597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0D6-5C1E-4E9E-BA08-E718D531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E65-1B9D-42D2-9437-33AD0358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A9D-651E-4E89-9A40-2B65CEEE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E3B-E9EA-45FC-BEC8-A50A399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72E-670D-4FD9-9956-141485001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3124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diological Anatomy </a:t>
            </a: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f </a:t>
            </a: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Ches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rad1a.bmp"/>
          <p:cNvPicPr/>
          <p:nvPr/>
        </p:nvPicPr>
        <p:blipFill>
          <a:blip r:embed="rId1"/>
          <a:srcRect l="46963" t="0" r="3476" b="0"/>
          <a:stretch/>
        </p:blipFill>
        <p:spPr>
          <a:xfrm>
            <a:off x="4343400" y="160020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289548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ache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3200400" cy="35053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dio-translucent, air-filled shadow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he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een in the midline of the neck as    a dark ar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superimposed by the lower cervical and upper thoracic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5852880"/>
          </a:xfrm>
          <a:prstGeom prst="rect">
            <a:avLst/>
          </a:prstGeom>
          <a:ln w="0">
            <a:noFill/>
          </a:ln>
        </p:spPr>
      </p:pic>
      <p:sp>
        <p:nvSpPr>
          <p:cNvPr id="80" name="Right Arrow 5"/>
          <p:cNvSpPr/>
          <p:nvPr/>
        </p:nvSpPr>
        <p:spPr>
          <a:xfrm>
            <a:off x="4800600" y="609480"/>
            <a:ext cx="1371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29718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u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048120" cy="5181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ng ro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latively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adows caused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nce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-filled pulmonary and bronchial vess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bronch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the lower margin of left hilum is at the level of upper margin of right hil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meddean.luc.edu/lumen/medEd/Radio/curriculum/Pulmonary/image2.jpg"/>
          <p:cNvPicPr/>
          <p:nvPr/>
        </p:nvPicPr>
        <p:blipFill>
          <a:blip r:embed="rId1"/>
          <a:stretch/>
        </p:blipFill>
        <p:spPr>
          <a:xfrm>
            <a:off x="3352680" y="380880"/>
            <a:ext cx="55692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28195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u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3505320" cy="48006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ung fields, by the air so they are more translucent on full inspiration than on expir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lmonary blood vessels are seen as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ries of small, rounded, white shadow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ng from the lung roo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 bronchi, are seen as similar round shadow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maller bronchi are not se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733920" y="228600"/>
            <a:ext cx="5181480" cy="609588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>
            <a:off x="4419720" y="3276720"/>
            <a:ext cx="11430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eft Arrow 7"/>
          <p:cNvSpPr/>
          <p:nvPr/>
        </p:nvSpPr>
        <p:spPr>
          <a:xfrm>
            <a:off x="7543800" y="2971800"/>
            <a:ext cx="838080" cy="152280"/>
          </a:xfrm>
          <a:prstGeom prst="leftArrow">
            <a:avLst>
              <a:gd name="adj1" fmla="val 50000"/>
              <a:gd name="adj2" fmla="val 50041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2880"/>
            <a:ext cx="2666880" cy="16322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3200400" cy="33526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ight border of the  mediasti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ocephalic vei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 vena cav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atrium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4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562720" cy="64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user\Desktop\startimage[1].jpg"/>
          <p:cNvPicPr/>
          <p:nvPr/>
        </p:nvPicPr>
        <p:blipFill>
          <a:blip r:embed="rId1"/>
          <a:srcRect l="22220" t="4073" r="24446" b="2590"/>
          <a:stretch/>
        </p:blipFill>
        <p:spPr>
          <a:xfrm>
            <a:off x="2362320" y="228600"/>
            <a:ext cx="4419360" cy="6400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52280" y="45720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chiocephalic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715000" y="45720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knuckl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b  (aortic 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trun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uric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ventr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user\Desktop\startimage[1] (2).jpg"/>
          <p:cNvPicPr/>
          <p:nvPr/>
        </p:nvPicPr>
        <p:blipFill>
          <a:blip r:embed="rId1"/>
          <a:srcRect l="4687" t="0" r="4687" b="6250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2520"/>
            <a:ext cx="2666880" cy="178452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2971800" cy="34290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left border of mediastin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knuckle,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b  (aortic arch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trun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uricl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ventr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4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72520"/>
            <a:ext cx="2895480" cy="1251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971800" cy="47242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verse diameter of the heart should not exceed half the width of thoracic c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piration, when the diaphrag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c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vertical length of the heart increases and the transverse diameter is narrow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meddean.luc.edu/lumen/medEd/Radio/curriculum/Pulmonary/image7.jpg"/>
          <p:cNvPicPr/>
          <p:nvPr/>
        </p:nvPicPr>
        <p:blipFill>
          <a:blip r:embed="rId1"/>
          <a:stretch/>
        </p:blipFill>
        <p:spPr>
          <a:xfrm>
            <a:off x="3276720" y="228600"/>
            <a:ext cx="563868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97180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 and contrast visualization of the 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2895480" cy="23623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onchograph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 special study of the bronchial tree by introduction of contrast medium into a particular bron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user\Pictures\C3FF61.png"/>
          <p:cNvPicPr/>
          <p:nvPr/>
        </p:nvPicPr>
        <p:blipFill>
          <a:blip r:embed="rId1"/>
          <a:stretch/>
        </p:blipFill>
        <p:spPr>
          <a:xfrm>
            <a:off x="3276720" y="493560"/>
            <a:ext cx="5638680" cy="575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316044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 and contrast visualization of the 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276720" cy="426744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st visualization of the esophagus by swallow a contrast media, (barium swallo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the aortic arch and left bron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enlargement of left atr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C:\Users\user\Pictures\C3FF59.png"/>
          <p:cNvPicPr/>
          <p:nvPr/>
        </p:nvPicPr>
        <p:blipFill>
          <a:blip r:embed="rId1"/>
          <a:stretch/>
        </p:blipFill>
        <p:spPr>
          <a:xfrm>
            <a:off x="3657600" y="304920"/>
            <a:ext cx="5324400" cy="6248160"/>
          </a:xfrm>
          <a:prstGeom prst="rect">
            <a:avLst/>
          </a:prstGeom>
          <a:ln w="0">
            <a:noFill/>
          </a:ln>
        </p:spPr>
      </p:pic>
      <p:cxnSp>
        <p:nvCxnSpPr>
          <p:cNvPr id="108" name="Straight Arrow Connector 6"/>
          <p:cNvCxnSpPr/>
          <p:nvPr/>
        </p:nvCxnSpPr>
        <p:spPr>
          <a:xfrm flipV="1">
            <a:off x="3048120" y="2209320"/>
            <a:ext cx="27439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9"/>
          <p:cNvCxnSpPr/>
          <p:nvPr/>
        </p:nvCxnSpPr>
        <p:spPr>
          <a:xfrm flipV="1">
            <a:off x="2590920" y="3733200"/>
            <a:ext cx="365832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106704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8763120" cy="35816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 the end of the lecture you should be able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dentify the bones of the thoracic c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Identify superficial soft tiss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Identify the trachea and lunge fiel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Describe the mediastinum and the cardiac shad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Describe brief knowledge ab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Describe brief knowledge ab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nary Ang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3276720" cy="97776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nary Angi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3505320" cy="2895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onary arteries are visualized by introduction of radio-opaque material into their lu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logical narrowing or blockage of coronary artery can be identif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C:\Documents and Settings\Free User\My Documents\My Pictures\RCA-in-PA-cranial-view.jpg"/>
          <p:cNvPicPr/>
          <p:nvPr/>
        </p:nvPicPr>
        <p:blipFill>
          <a:blip r:embed="rId1"/>
          <a:stretch/>
        </p:blipFill>
        <p:spPr>
          <a:xfrm>
            <a:off x="4038480" y="0"/>
            <a:ext cx="4295880" cy="341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Free User\My Documents\My Pictures\lca-pa-cranial.jpg"/>
          <p:cNvPicPr/>
          <p:nvPr/>
        </p:nvPicPr>
        <p:blipFill>
          <a:blip r:embed="rId2"/>
          <a:stretch/>
        </p:blipFill>
        <p:spPr>
          <a:xfrm>
            <a:off x="4419720" y="3505320"/>
            <a:ext cx="3733560" cy="3352680"/>
          </a:xfrm>
          <a:prstGeom prst="rect">
            <a:avLst/>
          </a:prstGeom>
          <a:ln w="0">
            <a:noFill/>
          </a:ln>
        </p:spPr>
      </p:pic>
      <p:cxnSp>
        <p:nvCxnSpPr>
          <p:cNvPr id="114" name="Straight Arrow Connector 7"/>
          <p:cNvCxnSpPr/>
          <p:nvPr/>
        </p:nvCxnSpPr>
        <p:spPr>
          <a:xfrm flipV="1">
            <a:off x="4190040" y="1751760"/>
            <a:ext cx="533880" cy="839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5" name="Straight Arrow Connector 9"/>
          <p:cNvCxnSpPr/>
          <p:nvPr/>
        </p:nvCxnSpPr>
        <p:spPr>
          <a:xfrm flipV="1">
            <a:off x="4952520" y="4190400"/>
            <a:ext cx="68652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914400" y="198108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OODLU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5840" y="272880"/>
            <a:ext cx="4800600" cy="6415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3200400" cy="44956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views of the chest can be obtained by changing the orientation of the body and the direction of the x-ray bea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most common view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(PA)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oposterior (AP)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fmh.org/images/X-ray_chest_machine.jpg"/>
          <p:cNvPicPr/>
          <p:nvPr/>
        </p:nvPicPr>
        <p:blipFill>
          <a:blip r:embed="rId1"/>
          <a:stretch/>
        </p:blipFill>
        <p:spPr>
          <a:xfrm>
            <a:off x="3429000" y="1447920"/>
            <a:ext cx="54673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i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chest x-ra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used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iagnose and to plan the treatment  and follow 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various conditions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clu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actures of the bon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ding ribs, sternum, vertebrae, clavicle and scap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ung disor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pneumonia, emphysema, pleural effusion, tuberculosis and lung canc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art disor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congestive heart failure (which causes  heart enlarg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st radiograp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lso used to screen f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b-related lung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industries such as mining where workers are exposed to dust, (asbestosis, silicos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st x-ra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so requested as pre-employment dem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rad1a.bmp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362320" y="30492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281916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3124440" cy="426708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e following systems must be examined in 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al soft tiss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pples in both sexes and the breast in female are seen superimposed on the lung fiel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3352680" y="228600"/>
          <a:ext cx="563904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8600"/>
                    <a:ext cx="56390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97180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124080" cy="42670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s of the thoracic cag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nterior ribs, posterior rib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acic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transverse joi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vi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l border of the scapu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Normal CXR"/>
          <p:cNvPicPr/>
          <p:nvPr/>
        </p:nvPicPr>
        <p:blipFill>
          <a:blip r:embed="rId1"/>
          <a:stretch/>
        </p:blipFill>
        <p:spPr>
          <a:xfrm>
            <a:off x="3505320" y="304920"/>
            <a:ext cx="541656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cxnSp>
        <p:nvCxnSpPr>
          <p:cNvPr id="59" name="Straight Arrow Connector 8"/>
          <p:cNvCxnSpPr/>
          <p:nvPr/>
        </p:nvCxnSpPr>
        <p:spPr>
          <a:xfrm flipV="1">
            <a:off x="4038480" y="2209320"/>
            <a:ext cx="9151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12"/>
          <p:cNvCxnSpPr/>
          <p:nvPr/>
        </p:nvCxnSpPr>
        <p:spPr>
          <a:xfrm flipH="1" flipV="1">
            <a:off x="7619760" y="2894760"/>
            <a:ext cx="9151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14"/>
          <p:cNvCxnSpPr/>
          <p:nvPr/>
        </p:nvCxnSpPr>
        <p:spPr>
          <a:xfrm flipV="1">
            <a:off x="3962520" y="2056680"/>
            <a:ext cx="18295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16"/>
          <p:cNvCxnSpPr/>
          <p:nvPr/>
        </p:nvCxnSpPr>
        <p:spPr>
          <a:xfrm>
            <a:off x="5029200" y="1143000"/>
            <a:ext cx="12960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8"/>
          <p:cNvCxnSpPr/>
          <p:nvPr/>
        </p:nvCxnSpPr>
        <p:spPr>
          <a:xfrm flipV="1">
            <a:off x="3962160" y="40377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3"/>
          <p:cNvCxnSpPr/>
          <p:nvPr/>
        </p:nvCxnSpPr>
        <p:spPr>
          <a:xfrm flipH="1" flipV="1">
            <a:off x="8152560" y="2208960"/>
            <a:ext cx="686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89548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95840" cy="50292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phrag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as a dome-shaped shadow on each side; the right side is slightly higher than the  lef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the right dome is the homogeneous, dense shadow of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the left dome     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 bub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 seen in the fundus of the stoma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352680" y="272880"/>
            <a:ext cx="5330880" cy="5975640"/>
          </a:xfrm>
          <a:prstGeom prst="rect">
            <a:avLst/>
          </a:prstGeom>
          <a:ln w="0">
            <a:noFill/>
          </a:ln>
        </p:spPr>
      </p:pic>
      <p:sp>
        <p:nvSpPr>
          <p:cNvPr id="68" name="Up Arrow 11"/>
          <p:cNvSpPr/>
          <p:nvPr/>
        </p:nvSpPr>
        <p:spPr>
          <a:xfrm>
            <a:off x="4419720" y="5257800"/>
            <a:ext cx="274680" cy="53352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4"/>
          <p:cNvSpPr/>
          <p:nvPr/>
        </p:nvSpPr>
        <p:spPr>
          <a:xfrm>
            <a:off x="7391520" y="5410080"/>
            <a:ext cx="609480" cy="152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743200" cy="12956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95840" cy="51055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to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ren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, where the diaphragm meets the thoracic wa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gle becomes blunt or obscured due to mini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ur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fibr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note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diophre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gle where the diaphragm meet the hea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meddean.luc.edu/lumen/medEd/Radio/curriculum/Pulmonary/image1o.jpg"/>
          <p:cNvPicPr/>
          <p:nvPr/>
        </p:nvPicPr>
        <p:blipFill>
          <a:blip r:embed="rId1"/>
          <a:srcRect l="0" t="0" r="4055" b="3789"/>
          <a:stretch/>
        </p:blipFill>
        <p:spPr>
          <a:xfrm>
            <a:off x="3200400" y="609480"/>
            <a:ext cx="57913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Freeform 4"/>
          <p:cNvSpPr/>
          <p:nvPr/>
        </p:nvSpPr>
        <p:spPr>
          <a:xfrm>
            <a:off x="5311800" y="4848120"/>
            <a:ext cx="725400" cy="636840"/>
          </a:xfrm>
          <a:custGeom>
            <a:avLst/>
            <a:gdLst/>
            <a:ahLst/>
            <a:rect l="l" t="t" r="r" b="b"/>
            <a:pathLst>
              <a:path w="725714" h="636849">
                <a:moveTo>
                  <a:pt x="725714" y="0"/>
                </a:moveTo>
                <a:lnTo>
                  <a:pt x="696685" y="87086"/>
                </a:lnTo>
                <a:lnTo>
                  <a:pt x="682171" y="130629"/>
                </a:lnTo>
                <a:cubicBezTo>
                  <a:pt x="677333" y="188686"/>
                  <a:pt x="674464" y="246941"/>
                  <a:pt x="667657" y="304800"/>
                </a:cubicBezTo>
                <a:cubicBezTo>
                  <a:pt x="655769" y="405845"/>
                  <a:pt x="657453" y="345614"/>
                  <a:pt x="638628" y="420915"/>
                </a:cubicBezTo>
                <a:cubicBezTo>
                  <a:pt x="632645" y="444848"/>
                  <a:pt x="627865" y="469103"/>
                  <a:pt x="624114" y="493486"/>
                </a:cubicBezTo>
                <a:cubicBezTo>
                  <a:pt x="618183" y="532038"/>
                  <a:pt x="628543" y="575503"/>
                  <a:pt x="609600" y="609600"/>
                </a:cubicBezTo>
                <a:cubicBezTo>
                  <a:pt x="599912" y="627038"/>
                  <a:pt x="570895" y="619277"/>
                  <a:pt x="551542" y="624115"/>
                </a:cubicBezTo>
                <a:cubicBezTo>
                  <a:pt x="442088" y="587628"/>
                  <a:pt x="577013" y="636849"/>
                  <a:pt x="464457" y="580572"/>
                </a:cubicBezTo>
                <a:cubicBezTo>
                  <a:pt x="450773" y="573730"/>
                  <a:pt x="434976" y="572085"/>
                  <a:pt x="420914" y="566058"/>
                </a:cubicBezTo>
                <a:cubicBezTo>
                  <a:pt x="401027" y="557535"/>
                  <a:pt x="383116" y="544626"/>
                  <a:pt x="362857" y="537029"/>
                </a:cubicBezTo>
                <a:cubicBezTo>
                  <a:pt x="333066" y="525857"/>
                  <a:pt x="259806" y="514894"/>
                  <a:pt x="232228" y="508000"/>
                </a:cubicBezTo>
                <a:cubicBezTo>
                  <a:pt x="97957" y="474432"/>
                  <a:pt x="312245" y="514631"/>
                  <a:pt x="116114" y="478972"/>
                </a:cubicBezTo>
                <a:cubicBezTo>
                  <a:pt x="13702" y="460352"/>
                  <a:pt x="57061" y="478475"/>
                  <a:pt x="0" y="44994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7662960" y="4890960"/>
            <a:ext cx="1046160" cy="871560"/>
          </a:xfrm>
          <a:custGeom>
            <a:avLst/>
            <a:gdLst/>
            <a:ahLst/>
            <a:rect l="l" t="t" r="r" b="b"/>
            <a:pathLst>
              <a:path w="1045028" h="870857">
                <a:moveTo>
                  <a:pt x="1045028" y="870857"/>
                </a:moveTo>
                <a:cubicBezTo>
                  <a:pt x="1017684" y="843513"/>
                  <a:pt x="994315" y="814452"/>
                  <a:pt x="957943" y="798286"/>
                </a:cubicBezTo>
                <a:cubicBezTo>
                  <a:pt x="929981" y="785858"/>
                  <a:pt x="899886" y="778933"/>
                  <a:pt x="870857" y="769257"/>
                </a:cubicBezTo>
                <a:cubicBezTo>
                  <a:pt x="806993" y="747969"/>
                  <a:pt x="756901" y="729274"/>
                  <a:pt x="682171" y="725715"/>
                </a:cubicBezTo>
                <a:lnTo>
                  <a:pt x="377371" y="711200"/>
                </a:lnTo>
                <a:cubicBezTo>
                  <a:pt x="353181" y="706362"/>
                  <a:pt x="326219" y="708925"/>
                  <a:pt x="304800" y="696686"/>
                </a:cubicBezTo>
                <a:cubicBezTo>
                  <a:pt x="289654" y="688031"/>
                  <a:pt x="281896" y="669476"/>
                  <a:pt x="275771" y="653143"/>
                </a:cubicBezTo>
                <a:cubicBezTo>
                  <a:pt x="260924" y="613550"/>
                  <a:pt x="267404" y="574219"/>
                  <a:pt x="246743" y="537029"/>
                </a:cubicBezTo>
                <a:cubicBezTo>
                  <a:pt x="229800" y="506531"/>
                  <a:pt x="199719" y="483041"/>
                  <a:pt x="188686" y="449943"/>
                </a:cubicBezTo>
                <a:lnTo>
                  <a:pt x="145143" y="319315"/>
                </a:lnTo>
                <a:cubicBezTo>
                  <a:pt x="140305" y="304801"/>
                  <a:pt x="141446" y="286591"/>
                  <a:pt x="130628" y="275772"/>
                </a:cubicBezTo>
                <a:lnTo>
                  <a:pt x="87086" y="232229"/>
                </a:lnTo>
                <a:lnTo>
                  <a:pt x="43543" y="101600"/>
                </a:lnTo>
                <a:lnTo>
                  <a:pt x="29028" y="58057"/>
                </a:lnTo>
                <a:cubicBezTo>
                  <a:pt x="24190" y="43543"/>
                  <a:pt x="25332" y="25333"/>
                  <a:pt x="14514" y="14515"/>
                </a:cubicBez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7"/>
          <p:cNvCxnSpPr/>
          <p:nvPr/>
        </p:nvCxnSpPr>
        <p:spPr>
          <a:xfrm>
            <a:off x="4952520" y="3809880"/>
            <a:ext cx="839160" cy="144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6" name="Straight Arrow Connector 10"/>
          <p:cNvCxnSpPr/>
          <p:nvPr/>
        </p:nvCxnSpPr>
        <p:spPr>
          <a:xfrm flipH="1">
            <a:off x="8076960" y="3809520"/>
            <a:ext cx="381600" cy="16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aeed1</cp:lastModifiedBy>
  <dcterms:modified xsi:type="dcterms:W3CDTF">2015-01-30T13:46:47Z</dcterms:modified>
  <cp:revision>61</cp:revision>
  <dc:subject/>
  <dc:title>Radiological anatomy of the chest </dc:title>
</cp:coreProperties>
</file>