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C492-76A0-4D03-82D1-A7EECC7BE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A34-26BA-4E06-BB4B-C2451E6E4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0A4-D40E-4544-B6DD-B7E44C1D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D997-AD76-48BE-8848-741CDAF9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EF5E-AA1A-4BAE-AF30-58966DF4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8EB8-2C54-41A3-A58A-3615CB73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197A8-6425-4720-9A1E-D595E5D5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434B-9EF8-47FF-9CF1-BEF77520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ECE0-1D50-462F-A465-0559C85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1AA5-94C0-47DB-BC75-8C0D8D36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810B-CE3C-477E-A0A0-84CC75EE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B7EC-8EC2-44AA-9E41-D9B55382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EF0A1-0CDD-455B-AD9C-1DABD94D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634E-A9F7-4D61-BCEA-FB8E028D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27E8-4990-4298-A8C7-03245C37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B90C-23B7-48A6-B9C0-34D0DA07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D1F8-592A-4C3C-B332-94BC371A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E2A-8F41-462D-A844-B07431E0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CCA331-18E6-4AC3-B476-D2D91504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F339BF-AA08-455C-873B-71F443F6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7362C1-9CD8-47C6-B8DE-AA942C84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F4A1-5A84-4B53-9D8A-EAF8043F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F59F33-2526-4816-BEB9-E9542C5D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9833F-F026-44F1-9283-20926C9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93B5B-AD4E-4795-9514-FE1DE06D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B6737F-FC29-49C0-BDD3-3DFAF576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6695CE-62B6-49D3-B96E-EFA09E05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A4264E-63A6-4013-9D28-BA605301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B2704F-4555-4E9E-A56D-24F63368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366D2-58C6-4E79-AA64-CFED8079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72C53D-9D8A-4A42-930B-44E1ACE6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D98EE-6E3D-46D1-988B-70B3AEA6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20A-A442-4A73-9E6A-20A3EA9B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C7C977-29BE-480B-96B4-D88EAC0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DEF73-A4B5-4A3D-8452-8B6AE314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861A37-E55A-49A2-9D8F-C8DA043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B2AA05-48DB-4BA6-A2E9-E6C44323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9ED8F7-418E-4A07-8D72-51871312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991A9-C189-450A-A606-097D5CB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75B7C6-0A4C-428A-B5C2-0CC92E4D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B45A6-CB59-426B-8983-F438680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89E07-B5A7-487F-BA2D-9D6089DE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254172-0693-4E1E-8E3F-938AA3565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908-5807-4481-A705-596D4D94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5F3358-7084-4727-8ED9-DCCD5A81C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C45-377B-4A4E-8CFF-BB4DFF57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73C0-B966-4B16-8691-AAC98686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816-5141-4215-A7B3-FDFF358B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D6A-40F6-4585-83D1-E44381A41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03FC-1179-41F6-830F-3D6ADB640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9DA4-6F40-497E-AA60-8A04D37A5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678-CA3E-4369-A7F5-998109BB0C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405900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 Block  |  1 Le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Ahmed Hussain A. Mujamamm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MS PGothi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What are globular protein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ypes and functions of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                          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Windows User</cp:lastModifiedBy>
  <dcterms:modified xsi:type="dcterms:W3CDTF">2015-01-26T05:55:41Z</dcterms:modified>
  <cp:revision>143</cp:revision>
  <dc:subject/>
  <dc:title>Globular Proteins</dc:title>
</cp:coreProperties>
</file>