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DDD-5EFF-4C5C-AA9B-3193A53C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412-1456-4E8F-B766-C06D0848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642-0F40-49CF-AB8F-C2B2BC1D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356-A59C-4A2D-8FEF-782EC0AB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374B-28D0-40DD-9E89-13E8DB1E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C2D4-BCEC-4514-AFDD-E1FF39B7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ED8E-92C9-4ED9-95D3-04C86DE0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83AB-2EF0-469E-BA1F-16910F32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6FC5-36D1-49F9-9738-37A83254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AD47-5ED3-480F-A6A1-46078FCD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9D65-E14B-40B1-8130-07AF0EA4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13A-A7A3-45D1-803D-51351654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3C75-936E-4E7D-A910-63FB8BA7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B744-E293-4088-9985-C730E1CF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B5FA-DC1F-4D67-AEDA-5D9F339E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B11C-AC76-43C8-AEF8-BB7B84FC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0FE7-8560-438F-A990-7E295BA8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22B-D5A4-408A-A73C-3CBF602C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5A3413-8CFF-47C6-ADA5-E297736A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0D2319-AE8C-41CC-820E-8C6CC5DD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B418F2-C791-44CD-9B0D-2D2ADBEA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3B4-3FFF-4580-A48C-4E4706F0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4D341-FA79-44EB-95F4-D02002AF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609C2B-A778-474C-B91E-E9CC4AB7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54377F-0812-4AF3-9B3F-ADE2660C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FBC98E-0D4D-4C17-BE40-ED884EC6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0034A3-84A9-4881-9191-1CF52F20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6E3D1D-AA18-455A-9232-559E70EA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6AF47F-0DCD-4D27-AD20-78148787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265785-6D18-4E2A-A122-71384711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03EE1-4359-4E25-8350-AF888BE7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B53BCA-4E9D-46EC-A8BC-9FB1AEFB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228-F83A-4E1D-BD9C-08F0C9B7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FF6339-46F6-439D-BFE8-35A9A226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38A8C0-14C7-4B44-8407-4AEDB940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1F0080-0489-4C68-809D-CB04F04C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2DD122-8B73-4EEA-B335-14FD5AFA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7E81CE-6418-4EB1-ABBC-CCE4B491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6915B0-6910-4CDA-B646-9FD55701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62ED3F-C0CF-45DA-89A4-AAA6D365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F1E8E2-295F-47B0-89A0-9F130359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84F4F4-91D6-4437-9701-BBAAC321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A235B6-6EB8-475B-885D-421F9C10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462-6558-4FEA-9D17-C9ECCC2C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81C979-749D-4AA6-9E6F-E9DE1652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5B4-77FD-4FC9-8960-DE2CEEDA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E6D-8209-4AFA-A959-71BA2ABE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2611-31BE-49D9-9D43-8363E8ED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ACE2-AED7-4BA5-ACCF-B42B2A761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407F-7684-4F0D-99CF-4199C6E20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E7AD-46CD-4F8E-B990-C816E4802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323A-C5D1-4F3F-99E6-31223736B8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66320" y="4059000"/>
            <a:ext cx="71629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iratory  Block  |  1 Le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Ahmed Hussain A. Mujamamm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193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etal hemoglobin (HbF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hemoglobin found in the fetus and newbo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etramer with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er affinity for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han Hb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ransfer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from maternal to fetal circulation across placen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pears ~12 weeks after bir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onstitutes ~2% of tot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osed of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globin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1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 undergoes non-enzymatic glycosy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Glycosylation depends on plasma glucose lev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1c levels are high in patients with diabetes melli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2" descr="C:\Documents and Settings\Fatma\Desktop\chapter03\jpg\0315_Formation_HbA1C.jpg"/>
          <p:cNvPicPr/>
          <p:nvPr/>
        </p:nvPicPr>
        <p:blipFill>
          <a:blip r:embed="rId1"/>
          <a:stretch/>
        </p:blipFill>
        <p:spPr>
          <a:xfrm>
            <a:off x="5857920" y="1371600"/>
            <a:ext cx="290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Abnormal Hb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able to transport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due to abnormal structu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boxy-Hb: CO replace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binds 200X tighter than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(in smoker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-Hb: Contains oxidized 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~2%) that cannot car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lf-HB: Forms due to high sulfur levels in blood (irreversible reac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Disorders of hemoglobin caused b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structurally ab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insufficient quantities of 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ombination of bo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MS PGothic"/>
              </a:rPr>
              <a:t>Sickle cell (HbS)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Glutamic acid at position 6 in HbA is replaced by va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The mutant HbS contain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  <a:ea typeface="MS PGothic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 ch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The shape of RBCs become sickl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auses sickle cell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0" name="Picture 4" descr="tumblr_lbwj8cQJ7M1qaqphpo1_400"/>
          <p:cNvPicPr/>
          <p:nvPr/>
        </p:nvPicPr>
        <p:blipFill>
          <a:blip r:embed="rId1"/>
          <a:stretch/>
        </p:blipFill>
        <p:spPr>
          <a:xfrm>
            <a:off x="6705720" y="3962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MS PGothic"/>
              </a:rPr>
              <a:t>Hemoglobin C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Glutamic acid at position 6 in HbA is replaced by lys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auses a mild form of hemolytic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ethemoglobin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oxidation of Hb to ferric (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st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hemoglobin cannot bind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certain drugs, reactive oxygen species and NADH-cytochrome b5 reductase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colate cyanosis: brownish-blue color of the skin and blo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ctive synthesis of ei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globin chain due to gene mu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mild to moderate hemolytic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severe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Patients need regular blood transfu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What are globular proteins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ypes and functions of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Hemoglobin (a major globular protein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Myoglobi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 (immunoglobulin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Diseases associated with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A globular hemeprotein in heart and musc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MS PGothic"/>
              </a:rPr>
              <a:t>Stores and supplies oxygen to the heart and muscle on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ontains a single polypeptide chain forming a single subunit with eigh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-helix struc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MS PGothic"/>
              </a:rPr>
              <a:t>The interior of the subunit is composed of nonpolar amino ac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971800" y="579096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ucture of myoglob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009880" y="419040"/>
            <a:ext cx="5122800" cy="51055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 rot="16200000">
            <a:off x="-145440" y="4760280"/>
            <a:ext cx="83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ge 328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d amino acids are located on th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e heme group is present at the center of the molecu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 gives red color to skeletal musc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pplies oxygen during aerobic exerc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 in diseas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uria: Myoglobin is excreted in urine due to muscle damage (rhabdomyoly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ay cause acute renal fail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fic marker for muscle inju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Less specific marker for heart atta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Immunoglobul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219320"/>
            <a:ext cx="4495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nsive proteins produced by the B-cells of the immune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Y-shaped structure with 2 heavy and 2 light polypeptide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tralize bacteria and viru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ypes: IgA, IgD, IgE, IgG, Ig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5278320" y="1511280"/>
            <a:ext cx="35737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mino acid chains fold into shapes that resemble spheres are called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his type of folding increases solubility of proteins in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Polar groups on the protein</a:t>
            </a:r>
            <a:r>
              <a:rPr b="0" lang="ja-JP" sz="2600" spc="-1" strike="noStrike">
                <a:solidFill>
                  <a:srgbClr val="ffcc00"/>
                </a:solidFill>
                <a:latin typeface="Arial"/>
                <a:ea typeface="MS PGothic"/>
              </a:rPr>
              <a:t>’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  <a:ea typeface="MS PGothic"/>
              </a:rPr>
              <a:t>s surfac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Hydrophobic groups in the interio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brous proteins are mainly insoluble structural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emoglobin: oxygen transport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Myoglobin: oxygen storage/supply function in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heart and muscl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-globulins: various fun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 (immunoglobulins): immune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zymes: catalysis of biochemical rea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 major globular protein in huma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Composed of four polypeptide chain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ains two dimers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ubun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Held together by non-covalent intera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hain is a subunit with a heme group in the center that carries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A Hb molecule contains 4 heme groups and carries 4 molecules of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Figure3-8.jpg"/>
          <p:cNvPicPr/>
          <p:nvPr/>
        </p:nvPicPr>
        <p:blipFill>
          <a:blip r:embed="rId1"/>
          <a:stretch/>
        </p:blipFill>
        <p:spPr>
          <a:xfrm>
            <a:off x="1295280" y="228600"/>
            <a:ext cx="6324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b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1541520"/>
          <a:ext cx="609588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bA (97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 (2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F (1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1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Ab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xy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A structur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262800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Calibri"/>
              </a:rPr>
              <a:t>Oxygen binding to hemoglob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 functio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s oxygen from the lungs to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ries carbon dioxide from tissues back to the lu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level (g/dL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les: 14-1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males: 13-1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1:27:42Z</dcterms:created>
  <dc:creator>Usman Ghani</dc:creator>
  <dc:description/>
  <dc:language>en-US</dc:language>
  <cp:lastModifiedBy>Windows User</cp:lastModifiedBy>
  <dcterms:modified xsi:type="dcterms:W3CDTF">2015-01-26T05:55:41Z</dcterms:modified>
  <cp:revision>143</cp:revision>
  <dc:subject/>
  <dc:title>Globular Proteins</dc:title>
</cp:coreProperties>
</file>