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664-C2A3-40B1-8448-2B3CB2AF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73C-39AD-43CD-AD44-20B73CC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8D0-0725-4B11-8655-513AE75E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F15-2EC1-4B87-9BDC-6C429614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FDA-732C-44EC-8716-BB3F82DA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827C9-E934-4869-8F0F-DAF57EFE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8E15A-D795-4DAB-9243-D901775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3B029-4895-4B06-9D99-038A9BE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9EE9C-EC1B-4219-BECC-899E6EFA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94947-BCF1-409B-BDBF-33C63305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AC3-54CF-4D10-8F10-0A66E2E8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5AD2F-37CC-45EC-8842-12876F1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D82A6-0857-45D6-AEAD-91B2A7E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49194-5C02-4C5E-8DA6-43923C2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ABE8B-C258-4F2C-B30B-70EB38D9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7D0B1-86D6-453E-82D1-9E53B8D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47503-B304-472B-87E0-6C8622C0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F3208-5898-4AFB-A049-813D527C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EAA-AE4B-4BB8-9645-02C3049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E81-51C2-48EC-9BD7-2218F45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AA4-9D55-47F3-8B5E-084A4EE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68E-0BB7-4866-811C-AEC4CB4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D29-3817-4179-97FB-D1F4F754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C99-55DB-4E80-B6A6-5DA4F4A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21A0-558A-4D5E-9DF0-CEF832586C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6888-07F0-4D88-A015-8AF3211535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Krebs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ic) 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o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>
              <a:gd name="textAreaLeft" fmla="*/ 769320 w 3276720"/>
              <a:gd name="textAreaRight" fmla="*/ 2507400 w 3276720"/>
              <a:gd name="textAreaTop" fmla="*/ 393480 h 1676160"/>
              <a:gd name="textAreaBottom" fmla="*/ 1282680 h 1676160"/>
            </a:gdLst>
            <a:ahLst/>
            <a:rect l="textAreaLeft" t="textAreaTop" r="textAreaRight" b="textAreaBottom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7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7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3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3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lnTo>
                  <a:pt x="0" y="83820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: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UG</cp:lastModifiedBy>
  <dcterms:modified xsi:type="dcterms:W3CDTF">2015-02-09T07:57:53Z</dcterms:modified>
  <cp:revision>26</cp:revision>
  <dc:subject/>
  <dc:title>Slide 1</dc:title>
</cp:coreProperties>
</file>