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2774-B387-45BA-BD98-7D3F6B3A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738-1A0C-40E8-889C-A9846E07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53B-5C61-444C-8097-3C9191D6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031-A2AA-4B3E-8082-C0983640F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6C8-AC1E-4AE2-A667-9B5458B2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3CC9-2753-4FBF-9D86-EFD8F12F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C63B-FA18-4CEF-A69D-DC6B2A4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A51-D537-422E-A178-FA184D0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FFB-A0F7-4C27-9754-BD8905E4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151-40FF-400E-BEB4-28D59E9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88EA-3B26-4407-992C-8AB73BF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143E-8E1A-44A2-8425-C95C6065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0126-1784-4B83-A05A-83FC0A6393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5334120" y="4218120"/>
            <a:ext cx="380988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3049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71629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791320" y="234792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81280" y="3330720"/>
            <a:ext cx="5562720" cy="3527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5334120" y="106668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5486400" y="3409920"/>
            <a:ext cx="36576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ALI</cp:lastModifiedBy>
  <dcterms:modified xsi:type="dcterms:W3CDTF">2014-01-13T08:52:30Z</dcterms:modified>
  <cp:revision>286</cp:revision>
  <dc:subject/>
  <dc:title>RESPIRATORY SYSTEM</dc:title>
</cp:coreProperties>
</file>