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01D-5A14-42FD-8D04-FC0762D0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4FB-A816-4D68-8544-B1B5E30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D56-9790-47F7-9B0F-18EBCD59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DA1-DA23-4B6E-9D30-794D6DE5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D90-2E94-4808-8341-7A51ECB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B66-286A-4EBD-9B94-8235275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816-36C8-4DC9-873A-3A4AA2BC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536-839E-41CB-836C-B1BB5EE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DFD-689E-4DBE-9088-92DD6D0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2F-BEA8-4B09-A083-D4AA152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CFD-C654-4669-BC35-81FFBB9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C7B-4C27-49F5-BC4D-2F46028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0CEA-4564-44E7-AA31-E58E0C20AD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5334120" y="4218120"/>
            <a:ext cx="380988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3049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71629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791320" y="234792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81280" y="3330720"/>
            <a:ext cx="5562720" cy="3527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5334120" y="106668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5486400" y="3409920"/>
            <a:ext cx="3657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ALI</cp:lastModifiedBy>
  <dcterms:modified xsi:type="dcterms:W3CDTF">2014-01-13T08:52:30Z</dcterms:modified>
  <cp:revision>286</cp:revision>
  <dc:subject/>
  <dc:title>RESPIRATORY SYSTEM</dc:title>
</cp:coreProperties>
</file>