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2101-5F17-4FAF-A1BA-997672D22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1B47-5AC5-4670-8808-B435D63C8D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676-BB8E-41E0-BAB6-BD2B0DA179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E2E-CD65-4291-82E9-56C160D25B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F33-F5FA-4DF4-806B-00326C33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09D-168C-4B3F-92A6-A427E0B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632A-0F0F-4ADA-BFB7-B33F458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C9CEC-0C64-48C5-A23F-C39A973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F1F26-79E0-4224-A9EA-E2B5498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2E759-6E8D-4483-B377-932474D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ABE57-B06F-42B2-9417-967982F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417B1-8165-499E-8CE6-67A701AF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8121E-1B15-4D25-AEB3-4B8E42E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37CF2-16F5-43CB-9577-CA9FBA1E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75B8D-A5EB-450B-AB49-51B0776C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BC984-3AA6-47E2-835B-6A816F57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FEC-096D-4F3E-9398-A45B0D12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5890-47E1-4E9C-8D75-6A78F717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6808B-A5C0-4D78-99A4-EEB58BC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79DC4-BC86-4D7D-94E7-E47A369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8586-2864-43A4-B70B-C59C67F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E4F7C-B321-48BA-93EB-B21A363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6AC5D-770F-4F2F-90AB-D7D2B1F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B744-580D-4984-B975-B4491AA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0CE8C-AC0A-4AAD-86BC-A74E7C5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5B9A3-F26E-428B-8A4C-9C611FB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B5682-5681-47BA-A98E-CE11532C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3CA-8C22-4AAC-A266-80863C3E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40568-8588-4ADF-809F-9212D11D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4F0FA-177E-495D-B06C-DC0E7681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D1E9-0EF1-4233-9C99-9672719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2449D-A44A-4142-8B11-EF9B606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DF5A-9C05-4A2E-8F01-BC84DA96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11E7E-16C8-4E18-85B5-DED6A1DC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279C-1205-44C6-B081-3B624F1E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BB582-EAE1-432C-81E9-4969AB0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86B09-7BB6-4DA6-8AAC-864AD25E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DAE0-BA45-4650-AA08-E8CCEFF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F497-52CE-410C-AC56-497393CF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BCE64-691F-4AD0-9646-A5CA4794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493E7-6148-4704-B085-38C8536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491F-BAAB-49BF-9573-B820CBA1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C8D0C-8EBD-4670-A41E-9ECA5D3B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F71FD-B6A1-4E64-A9D3-5439ECF6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177D0-97E1-4F63-88FB-6022E402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AE953-5DD9-4C32-AFEA-4CB3456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1D94D-18EB-4A2D-999B-51AF1E53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CE049-3A83-4C83-89AC-AC4C726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EBA12-1224-4B4B-A701-45EF171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E8ED-0E50-4CCA-87C7-9176788B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B848C-1FDD-4711-B397-FC11198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04A6-4946-4B86-AA02-3635875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64B3C-5D19-4CF3-A842-EB5BE889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A5AED-382F-4079-9146-8FC77502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EFAC1-1315-42D9-A170-6D54CD91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999C-3FD5-4105-869A-57465F5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662-9B45-49B6-B1AD-0048BEB2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D93B-7147-49DB-95A1-2B8F51B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FB1-4BFC-4CC8-8E92-7CB44D4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EF18-A2AB-443E-B37C-BF4FEFF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831-279D-45A5-BF06-329E76F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5105-A693-4438-A1B4-D662C5F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77DD-0171-42AA-9750-E995E7BA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A2C-6CF5-4EF7-835B-0C23D21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5C5-B91E-45A3-9EBE-920CEC6E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7BED-799D-4E77-BD3A-438D07C7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B3F8-2D15-4077-B91D-2513A75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7F39-0D0E-493C-92E1-E8E89F6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43D6-6116-462B-98AF-179BEEF8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1654-8D58-4624-85A8-C4632429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5B04-AEC7-439C-9460-51D05B2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256-212A-44C8-A84B-1B49CA97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C18B-2557-4F67-A53C-444C559D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C534-BA0B-4B20-A0FA-D1E3D9E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760E-4AB5-4713-AB8B-4DB3DF6E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3B4B-AA1F-4299-B3F4-181046AB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E371-D274-4403-983D-73B24C8B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3492-DEDB-4195-915C-3874D7C3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54EB-CD51-40BE-8317-EFDC188E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0BEB-241E-4576-831F-EE9D1DD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1E55-03DE-4FDB-9A9D-2CDE9D7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24E1-CE00-4E19-9840-49038CE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82B-CC6C-4713-9A31-E3AA1F4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6D66-BC4D-4103-B1AA-283DD43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8BC1-AD61-4C7F-B373-9B5A7B7A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0049-025C-4C04-97D1-D0CBDB4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E59E-7457-4C78-A69A-AD4DE5C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7EA0-C609-4607-BA94-09217BC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3FE5-1BDF-4B39-B90F-CF5DD66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8225-F08A-455D-BE23-B2B1653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E782-DF53-4788-8BE5-797A404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42B4-524C-4D94-8A68-20830F46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AD57-84C7-43D4-B5F3-36E68C1F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B24-064B-49D7-8430-4B5FCEE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B68BA-3D64-4413-B494-79F01488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82B0-1429-4283-B6C6-5B83853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CCB8-0FF0-4792-9DEC-5DB6688A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EF6D-341A-447D-A8A2-7AC41EC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637D-1C57-43AD-B2BF-E179347E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9AAF-21A2-42BA-9A0C-693F36F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E124-B9B9-4404-8E15-4B26414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9ECC-C589-4E1F-9B0E-932B5D8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4009-F438-4BEA-BF4C-A2EFB2B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35D3-ACCD-4BF8-89F5-1801E003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527-5E1B-47A4-8E02-5F857EC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E190-AC28-4288-BABD-7EDD8D76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D39F-3020-4B82-8F9A-6569DC7D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2597-F60F-4779-BE26-05A8B548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53BB-359A-443E-A63F-AE57291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C8E0-9E13-4716-A7FE-3A7FB17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BF363-6825-40E2-AF62-EADA1177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E48E-E106-488F-9D99-8F05073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74FB-4C78-401D-9238-C98801C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7232-F598-4E9A-9CA6-C996DB6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1D96-EA30-4D08-95DA-2885249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CFC-7AF5-43E8-BE8D-EB5DF9E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6F003-833F-4FBD-8E37-B674530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C04C-827E-4094-8F22-60DEF5E2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DDA0-722C-4E45-9BAD-3A50E5B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52C44-A23D-43EB-85DD-312FD1C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25879-2CE0-4742-8FB9-3BAEB18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38EFD-E094-4CA0-A30F-8B233BD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E214F-8571-4EC0-A7F3-4347C30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818BE-EAEE-46A5-BB79-6A23F018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7C4A5-F2EC-4F7B-84C1-7056F21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4AEE8-4AE9-4AE5-8805-3A7C016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EFB-9099-42E3-8CAF-AD45FA9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877A9-42BE-4CF5-83AE-F6F0F2A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F6631-7F63-400D-A633-5BE5C80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4C24D-0093-4207-9906-610D5C95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0D54F-743F-40E1-BE0F-0D8688EE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07F80-2F1C-4DC1-A420-6B27BB02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D471-8809-42A4-9DC5-5900B7FE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4FE21-3B4E-41D8-AD24-1E87DFF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053FD-C163-4D8F-A916-AF403C5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B6E8-83A3-46DA-963C-516218F3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30526-101F-4AD5-8C0B-FB1588A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ACB-4A99-473A-8CAB-8A99665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F868-40A9-4F0C-9C67-3F30B3C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D1366-A2E3-4A0A-8119-681E1EB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F7848-D9B1-4B0A-8A91-49EC837E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5FC3-10FA-4DD4-AE7D-FAAE61B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4354B-5F93-4802-83C5-F4E37D2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3C6D7-0737-4C65-AD4C-6E0893A2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9E176-14B0-45D8-A517-70306E7E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69639-FE15-4978-9210-4DA256E8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642B-8561-4E70-A290-9EA1395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75FA2-149E-4AB9-8433-7209D575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54E-05E5-40F4-B23A-49E4A02B7F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84DF-3E32-4ADA-88DF-A68C784593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7C6E-5609-4412-819E-DAB4BB92A66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E44-D922-4069-BB2C-60E08BBED3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D77-FC44-4A8A-B52C-EEB22899C2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345-86D6-4EFD-8447-7A8D9BC632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831-E865-450A-9655-044746D9F37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4219-E29A-4E0A-B363-D147A4C41AC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F2B-97EA-4B72-8E62-D8D67E7BE3A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5BC-0187-40A8-8E65-31B8CFE3E4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E8E-67D7-4F35-B840-44D5470FDCB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358C-4D17-44BE-A679-F881530D5E3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2743200" y="1828800"/>
            <a:ext cx="373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mmunology of Tubercul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2895480" y="4952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mmunology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epartment of Path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br>
              <a:rPr sz="3600"/>
            </a:b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(Approximately 10% of infected individual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ubercle bacilli establish infection in the lungs after they are carried in droplets to reach the alveolar sp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ate defense syste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 host fails to eliminate the infection,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cilli proliferat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ide alveolar macrophages and eventually ki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infected macrophages produce cytokines and chemokines that attract other phagocytic cells, which eventually form a nodular granulomatous structure called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berc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f the bacterial replication is not controlled, the tubercle enlarges and the bacilli enter local draining lymph nod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is leads to lymphadenopathy, a characteristic manifestation of primary TB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lesion produced by the expansion of the tubercle into the lung parenchyma and lymph node involvement is called the Ghon complex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hon’s and Ranke complex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lung lesions (tubercles –small granulomas (Ghon’s focus)  and the enlarged lymph nodes constitutes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hon’s comple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bercles may heal becom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ibrotic or calcified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nd persist as such for a lifetime (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anke Complex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Diagram 6" descr=""/>
          <p:cNvPicPr/>
          <p:nvPr/>
        </p:nvPicPr>
        <p:blipFill>
          <a:blip r:embed="rId1"/>
          <a:stretch/>
        </p:blipFill>
        <p:spPr>
          <a:xfrm>
            <a:off x="-12600" y="755640"/>
            <a:ext cx="9242280" cy="6108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1676520" y="152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eks after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bacilli continue to proliferate until an effective cell-mediated immune (CMI) response develops, usually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two to six weeks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fter infec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Failure by the host to mount an effective CMI response and tissue repair leads to progressive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destruction of the lung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b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mor necrosis factor (TNF)-alp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ctive oxy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itrogen intermedi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tents of cytotoxic cells (granzymes, perfori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ll of the above may contribute to the development of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caseating necrosis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at characterizes a tuberculous lesio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22-08a_Tuberculosis_1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Tuberculosis-ln-mandibular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ni_1781-F1.jpg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"/>
          <p:cNvSpPr/>
          <p:nvPr/>
        </p:nvSpPr>
        <p:spPr>
          <a:xfrm>
            <a:off x="228600" y="1143000"/>
            <a:ext cx="2590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cilli can spread mechanically by erosion of the caseating lesions into the lung airways; at this point the host becomes infectious to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228600" y="228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iliary TB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checked bacterial growth may lead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matogenous sprea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 bacilli to produce disseminated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seminated disease with lesions resembling millet seeds has been termed miliary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common presentation –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B mening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ronic Diseas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n th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bsence of treatment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, death occurs in 80 percent of c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remaining patients develop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chronic disease or recover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hronic disease is characterized by repeated episodes of healing by fibrotic changes around the lesions and tissue breakdown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omplete spontaneous eradication of the bacilli is ra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omic Sans MS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know how M. tuberculosis infection is contracted and its initial encounter with the immune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understand delayed type of hypersensitivity reaction against M. tuberculos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be familiar with the possible outcomes of the infection with M. tuberculosis in immuno-competent and immuno-compromised hos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understand the basis of tuberculin test and its importance in gauging immunity against M. tuberculosis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Diagram 2" descr=""/>
          <p:cNvPicPr/>
          <p:nvPr/>
        </p:nvPicPr>
        <p:blipFill>
          <a:blip r:embed="rId1"/>
          <a:stretch/>
        </p:blipFill>
        <p:spPr>
          <a:xfrm>
            <a:off x="66600" y="738360"/>
            <a:ext cx="8944200" cy="61434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228600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atent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tent TB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s period of latency is sustained predominantly by a population of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non-replicating bacilli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ather than a population of growing bacilli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t is believed that the immune response is mainly directed towards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ntigens secreted by growing bacill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refore non-replicating bacilli will b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less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obvious to the protective cellular respons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s state correlates directly with an innat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resistance to anti-Mtb drug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, most of which target processes active in replicating organis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ctivation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eactivation TB results from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proliferation of a previously dormant bacteria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eeded at the time of the primary infec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mong individuals with latent infection and no underlying medical problems, reactivation disease occurs in approximately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5 to 10 percent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of case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disease process in reactivation TB tends to be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calized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in contrast to primary diseas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ittl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gional lymph node involvement and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ess casea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lesion typically occurs at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ung ap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isseminated disease is unus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ctivation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muno-suppre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clearly associated with reactivation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ociated condition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V infection and 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-stag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ignant lymph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ticosteroi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hibitors of TNF-alpha and its 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minution in cell mediated immunity associated with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tb_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1523880" y="1676520"/>
            <a:ext cx="609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role of the granuloma as a host protective factor needs a revision in thinking as it may also play a role in protecting the tubercle bacilli for its long-term survival in the h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609480" y="304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br>
              <a:rPr sz="7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est for immunity against TB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layed hypersensitivity ski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uberculin test or (Mantoux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tradermal injection of P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urified protein derivative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rrect interpretation of the result is unreliable in immuno-compromised states affecting C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http://www.clinicalcorrelations.org/wp-content/uploads/2007/03/mantoux_tuberculin_skin_test.jpeg"/>
          <p:cNvPicPr/>
          <p:nvPr/>
        </p:nvPicPr>
        <p:blipFill>
          <a:blip r:embed="rId1"/>
          <a:stretch/>
        </p:blipFill>
        <p:spPr>
          <a:xfrm>
            <a:off x="4952880" y="289548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TB skin test 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7238880" y="0"/>
            <a:ext cx="190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Test result is interpreted by measuring the diameter of the induration after 48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oip_c4_d02.png"/>
          <p:cNvPicPr/>
          <p:nvPr/>
        </p:nvPicPr>
        <p:blipFill>
          <a:blip r:embed="rId1"/>
          <a:stretch/>
        </p:blipFill>
        <p:spPr>
          <a:xfrm>
            <a:off x="85680" y="152280"/>
            <a:ext cx="89726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layed-type hypersensitivity (DTH) respons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DTH respons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oes not correlate with protection against TB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since numerous BCG vaccination trials have demonstrated that disease can occur in those who mount a DTH respo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a result, the protective T cell response must be distinguished from the T cell response associated with 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 in vitro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nterferon-gamma release assay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s been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ssay is a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lternativ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o the tuberculin skin test (TST) for detection of latent M. tuberculosis infection in human h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uberculosis (TB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77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an example of an infection in which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otective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mmunity &amp;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thologic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hypersensitivity coexist, and the lesions are caused mainly by the host respo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N-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release assa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test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measure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interferon-gamma released into blood from T cells when they are activated by M. tuberculosis antigens in vitro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tests use antigens specific to M. tuberculosis including the early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secretory antigenic target 6 (ESAT-6) and culture filtrate protein (CFP-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se proteins ar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bsent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in vaccine strain BCG, or M. bovi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This enables the test to differentiate those latently infected with M. tuberculosis from those vaccinated with BCG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TB 1.jpg"/>
          <p:cNvPicPr/>
          <p:nvPr/>
        </p:nvPicPr>
        <p:blipFill>
          <a:blip r:embed="rId1"/>
          <a:stretch/>
        </p:blipFill>
        <p:spPr>
          <a:xfrm>
            <a:off x="1238400" y="4680"/>
            <a:ext cx="6667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ake home messag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After exposure to M. tuberculosis immune handling of the infection determines the final outcom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elatively small proportion of individuals develop primary disea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eactivation of tuberculosis can occur in patients who are immuno-compromis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uberculin test should be interpreted with caution as it may be difficult to differentiate between DTH against M. tuberculosis and latent disea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3"/>
          <p:cNvSpPr/>
          <p:nvPr/>
        </p:nvSpPr>
        <p:spPr>
          <a:xfrm>
            <a:off x="2666880" y="2666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ntroduction 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cobacterium tuberculosis is th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co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common infectious cause of death in adults worldwid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uman hos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rves is the natural reservoir for M. tuberculo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isease incidence is magnified by the concurrent epidemic of human immunodeficiency viru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HIV)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 of transmiss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fection is acquired by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hala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of M.tuberculosis in aerosols and dust (airborne transmis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fected peopl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ugh up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rge numbers of 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organism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axy outer coa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n withstand drying and survive for long periods in air and house du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Virulence factor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axy coa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ocks phagocyte 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talase-peroxidas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which resists the host cell oxidativ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poarabinomann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LAM)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lycolipi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induce cytokines and resist host oxidativ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fere with antigen presentation by MHC class II molecules for priming CD4 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mmunology 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majority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of individuals in the general population who become infected with M. tuberculosis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never develop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clinical disea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s demonstrates that th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innate and adaptive immune response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of the host in controlling TB infection is effectiv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st factor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nnate immunity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tubercle bacillus ultimately gets taken up by macrophages and has evolved several strategies to evade early intracellular killing mechanisms. These inclu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sistance to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reactive oxygen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termediates (RO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hibition of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hagosome-lysosome 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hibition of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hagosome aci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scape from the phagosomal compartment into the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cytoplasmic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Diagram 3" descr=""/>
          <p:cNvPicPr/>
          <p:nvPr/>
        </p:nvPicPr>
        <p:blipFill>
          <a:blip r:embed="rId1"/>
          <a:stretch/>
        </p:blipFill>
        <p:spPr>
          <a:xfrm>
            <a:off x="-96840" y="1060560"/>
            <a:ext cx="9399600" cy="5803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10666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atural History of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1:24:12Z</dcterms:created>
  <dc:creator>Dr.Zahid</dc:creator>
  <dc:description/>
  <dc:language>en-US</dc:language>
  <cp:lastModifiedBy>Dr.Zahid</cp:lastModifiedBy>
  <dcterms:modified xsi:type="dcterms:W3CDTF">2013-02-15T22:50:25Z</dcterms:modified>
  <cp:revision>381</cp:revision>
  <dc:subject/>
  <dc:title>Slide 1</dc:title>
</cp:coreProperties>
</file>