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BB52-4FFC-4ED6-9720-67844C9E3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07CF-08CE-4BD0-8D19-1E82278328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A1DB-88E8-4726-B55C-BA56CC71E6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33F8-F6B2-4743-8260-ADD08DC14C8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0627-6DEE-40F7-98E8-1F4E01D5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60A8-5342-47C0-BECA-54D14299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9662C-7A30-4AAA-9C08-EE05D6DD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2E2D0-3A38-41D4-987D-0AAC8C0E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B6B424-C90A-4AE2-8E3A-52AC5FB1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728A4-4B68-48C0-8129-99ACD26D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AC1FA-763D-4713-8B45-BBBAC399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4C8C5-4690-4D6E-843B-303815DB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EBF20-C187-4233-92E4-11F8BA31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A7EF8-E8F8-495B-A903-30325208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C4AF5-2B97-4842-9F39-605C9116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8C821-AA1A-4305-95B6-96CC8D05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D0A-B932-45EB-B740-952F8A49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C2A4B-6B04-4A59-AA5C-4D1DCB8F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70108-AB37-432F-9091-500E9A49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9CAD1-A792-4014-BF4E-EBBC23DF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8006E-F1F4-4E74-9137-CF1EC889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7471B-F83A-4E83-8B73-7E029EBC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A99A0-D143-4ECF-BD85-FA9BC1BB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DF616C-A8D4-4A82-8366-6B45CF08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50F78-3384-4876-A397-FDFF14A3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ACF02-A10A-44DF-B3FC-E46DAC30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48224-ECE1-4629-AC0F-8AF41CDA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F03-2F13-4706-858C-8E99C9C8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1FE5A-0693-4E01-B50F-428D80CE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85693-AF65-4839-A863-819B4B32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7875A-4E4A-452D-997D-8AECFA2D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9DCC5-5521-4BCC-9DC9-5DC4780F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6CF31-3B44-4080-A4A7-DB5318CA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1E0F5-17E5-4E4E-AF0D-4BD583FA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95AA9-032F-4EBA-A700-91C2042F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C4529-CEA2-459F-B4BC-222E68EA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5D4E9-6310-48A5-84ED-53897992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C86A3-EF92-45EC-B3C3-DECE1134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FE93-410F-415C-B962-9236699A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3456B-E939-4549-9B1E-9401580C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3913E-773B-4B67-9648-A619BA9A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E5C9F-2A22-42EF-9984-73AAA8D8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155DA-454A-4C87-AB68-34E3D7F9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6A9A26-D87A-4EB2-B527-5FD3A60D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C7F4F-9F49-437D-834E-B36609DF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C245D-469E-4AB7-A411-0005D71E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E8B65-5DA1-4F9E-9B50-5C955E2B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85167-A8CD-4D3F-BFC2-F4D2F181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051C5-56D4-44C0-BFDA-52B678A9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1264-770C-4A69-9F09-D6074A3A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CC472-BEC9-4B8B-BD2F-00E8AC74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CBBCE-0D22-4812-8074-6D1F0E0A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1B680-B587-4BC3-8FAC-CF3D3DAA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929BE-84A9-4E50-95DA-CF856D26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B39E4-1B4B-43FF-898A-6ADA1E31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9A69-CDFF-4280-B9E7-CBE78362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299A-C502-49D4-828A-6C15BC9A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2CA8-01DE-493E-9096-3E50A6ED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78B5-EE12-4621-B65A-0AB77DED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50A1-4742-4067-AD7C-F280ED8A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4D0E-99ED-42BA-9634-1E2A3303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E581-33BC-4FFE-B6A7-AF4216A6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C658-1EC5-4074-9C32-1A2B56CF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BDB7-572D-4312-A00F-42CF3C15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A5AD-45E4-4CB9-ADA8-B07E5C35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AD83-EF8C-4E89-AFA2-07E6C1D0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5B77F-75FA-46AE-85B4-8B8A7AD6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404A7-4373-4514-8F8B-10C6CE73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E61C3-7DB4-4B99-96C0-3FA2567F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CEAD2-9AB7-4EDC-8251-D5739243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46FF5-CD83-41AB-BB9D-5A7FA5FA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CDA-E580-46FF-B0DE-7CA9ADAB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542ED-24AC-4A01-90D1-DD345057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090EE-57DD-42FA-A3CF-8FCB1E3B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5F361-893D-4B94-A2DD-0F003837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2A679-2FC5-4E1F-8552-6EC5C09D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43059-CEDA-425D-9CAA-C7C84159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F99FF-6627-48CE-B62C-2B41D8BC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D2C96-4E54-40DC-99E6-DEE05937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C2C87-EB96-451F-9C02-948D0F2A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1C0A4-D294-4122-A8B2-B05F6D4B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F4476-E6BC-431F-A200-33A0D931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D6B-3528-4D05-BD09-4EC1951C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A76F6-540A-4FBC-897A-2FED7228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BAA11-5DA7-47CC-96F9-812286D3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80B6A-72F2-4374-A9B9-C4C889F4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09936-D218-4F0C-A87A-27E3475C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BAFF6-1A27-473A-854F-51D04CC8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4D4AD-588B-4097-8C70-FE9D1FD4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1B608-69BE-4185-8304-C2802C49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981ED-D736-4B87-BD3C-45976C68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728CB-E009-4071-8415-CE8DFCD4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534A3-EEEE-4F02-BCBA-C68BAD49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1DE1-5F85-4674-9801-53508667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DB635-A289-47A7-AF43-66CDCA2C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427CA-462E-4DB4-92DB-AEF5458D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A9FB1-426F-449B-9C14-45DCDF4A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DB334-BC59-4685-A8EB-843E6745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B96F6-2D4C-4FF2-BA43-03BFE442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50D41-A8EB-4F66-861F-AEA098D3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2D3C4-1C6F-4ADF-A311-BA54CD2C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48260-EE74-4EF4-AE2A-C8631487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0C1E2-1550-416E-A3D9-4DAAFCCB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79787-22F5-4E48-B157-E1D8552C8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FDB5-297E-4D08-93C2-850D23A3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47376-B809-4158-A5BB-F952D019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1BA45-1C64-41C6-BDD6-1EB1986F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7D915-21E1-48E5-98A9-B1A0631B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20B5C-42E4-4B9F-8440-CA73FD47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8CFA8-AB4C-4080-89B5-DB4EFA71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973A3-C432-4157-B307-1BC754A9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40BEA-365A-460A-86AC-97AA7052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A03C9-D90C-40FC-8935-9FC2BC9A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A6BF6-FDA8-4DEE-904E-F83F3CBC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C627C-7984-4200-B71F-9A11EE0C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268-0CC6-4DA2-8609-2F09AFC2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62CDA-6180-434D-A669-D2E71874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50265-068A-4535-916F-C28E41D1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58D84-3052-419E-A2F5-7E3A15C7A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3DDF70-52F4-4A3B-8A60-95E300E8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C2178E-AEF1-4B22-8A15-95EFA674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53581D-4CEA-4F65-A5DC-4A9F1F4D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603222-095C-4115-B469-D711CEF9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674FB0-A619-49A0-A644-81DEDEC5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578C37-9440-4F9E-A7FC-E174C590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1A7F63-B253-424B-A3B7-06550232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CF1-B65A-4FDF-82C1-F1C742C4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0CEEBF-FF34-4E0A-A545-471BF9A0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77EF07-79A8-4759-B0AE-977F5025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3D16CF-7718-413E-AEDA-55313A5C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FDA4B7-9C50-420D-AE42-2B4DABE6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13DB9-563B-46C0-A232-7036BF12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A3D20-E18B-4DB6-BB04-BFE434AC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DA019-B4A3-4700-9D39-F85F0320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FF2D8-9BE3-4DAC-9188-E7B8A6C6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DF96D-253C-4226-8BE2-9F4605B6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E8D83-68A4-4D82-BCB7-CAE3561F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04C-1787-4C4F-BD17-0C88419B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E0F75-BC1D-4F29-9741-2598F139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8160D-5786-40E4-A7AC-0734CCE2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8091C-6889-443B-A4C1-778776FA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BCD4A-C2CA-49EC-9403-F4E75773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8ECBC-F311-4857-AFB9-08F069AE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782DD-DAE4-4629-8958-D99A7734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6C20B2-2E52-48F7-AFFF-B7D3C667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17325-1989-4C35-A7DD-AEE6EA70A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0DA3B-4DF4-41E6-AD18-1F30C809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039B3-C8B7-48BC-8751-24E9E31A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46D4-F88C-443C-93E4-8112F694916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91E9-686B-4E47-A754-D910AE37FCB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4DCA-FA5E-4715-9A1B-436E1509614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83A8-F4CB-4DD2-A974-0D6523345B7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B5C7-9DC7-4916-ACC7-CD74F95CF03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A5A7-260F-4F77-8747-C1054393326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F86F-80E6-483F-8AEF-463AD821AB5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C41F-C42C-4F29-A65F-E34C457C027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5EDE-EDE3-43E9-A1F2-F13CA76F96F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2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9AAD-7BCA-4DCC-9C5B-2D9DFCD9AB8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ftr" idx="2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FE97-4DEC-43D7-BBA4-4597FD4459D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1B0E-3364-4C80-9CF0-F80BA91CCF6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2743200" y="1828800"/>
            <a:ext cx="3733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Immunology of Tubercul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Box 4"/>
          <p:cNvSpPr/>
          <p:nvPr/>
        </p:nvSpPr>
        <p:spPr>
          <a:xfrm>
            <a:off x="2895480" y="49528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Immunology 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Department of Path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rimary disease</a:t>
            </a:r>
            <a:br>
              <a:rPr sz="3600"/>
            </a:b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(Approximately 10% of infected individuals)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tubercle bacilli establish infection in the lungs after they are carried in droplets to reach the alveolar spa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f th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innate defense system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the host fails to eliminate the infection, th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acilli proliferate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ide alveolar macrophages and eventually kill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infected macrophages produce cytokines and chemokines that attract other phagocytic cells, which eventually form a nodular granulomatous structure called th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bercl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rimary disease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If the bacterial replication is not controlled, the tubercle enlarges and the bacilli enter local draining lymph node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his leads to lymphadenopathy, a characteristic manifestation of primary TB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he lesion produced by the expansion of the tubercle into the lung parenchyma and lymph node involvement is called the Ghon complex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Ghon’s and Ranke complex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e lung lesions (tubercles –small granulomas (Ghon’s focus)  and the enlarged lymph nodes constitutes 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Ghon’s complex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ubercles may heal become 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ibrotic or calcified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and persist as such for a lifetime (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anke Complex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Diagram 6" descr=""/>
          <p:cNvPicPr/>
          <p:nvPr/>
        </p:nvPicPr>
        <p:blipFill>
          <a:blip r:embed="rId1"/>
          <a:stretch/>
        </p:blipFill>
        <p:spPr>
          <a:xfrm>
            <a:off x="-12600" y="755640"/>
            <a:ext cx="9242280" cy="61088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7"/>
          <p:cNvSpPr/>
          <p:nvPr/>
        </p:nvSpPr>
        <p:spPr>
          <a:xfrm>
            <a:off x="1676520" y="1522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Weeks after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Primary disease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e bacilli continue to proliferate until an effective cell-mediated immune (CMI) response develops, usually </a:t>
            </a: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two to six weeks 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after infection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Failure by the host to mount an effective CMI response and tissue repair leads to progressive </a:t>
            </a: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destruction of the lung 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by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umor necrosis factor (TNF)-alph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active oxyg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Nitrogen intermediat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ntents of cytotoxic cells (granzymes, perfori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All of the above may contribute to the development of </a:t>
            </a: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caseating necrosis 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at characterizes a tuberculous lesion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22-08a_Tuberculosis_1.jpg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1" descr="Tuberculosis-ln-mandibular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" descr="ni_1781-F1.jpg"/>
          <p:cNvPicPr/>
          <p:nvPr/>
        </p:nvPicPr>
        <p:blipFill>
          <a:blip r:embed="rId1"/>
          <a:stretch/>
        </p:blipFill>
        <p:spPr>
          <a:xfrm>
            <a:off x="2971800" y="0"/>
            <a:ext cx="61722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2"/>
          <p:cNvSpPr/>
          <p:nvPr/>
        </p:nvSpPr>
        <p:spPr>
          <a:xfrm>
            <a:off x="228600" y="1143000"/>
            <a:ext cx="2590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acilli can spread mechanically by erosion of the caseating lesions into the lung airways; at this point the host becomes infectious to oth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Box 3"/>
          <p:cNvSpPr/>
          <p:nvPr/>
        </p:nvSpPr>
        <p:spPr>
          <a:xfrm>
            <a:off x="228600" y="228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Outco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Miliary TB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nchecked bacterial growth may lead to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ematogenous spread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f bacilli to produce disseminated T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isseminated disease with lesions resembling millet seeds has been termed miliary T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st common presentation –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TB mening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Chronic Disease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In the 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absence of treatment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, death occurs in 80 percent of cas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he remaining patients develop 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chronic disease or recover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Chronic disease is characterized by repeated episodes of healing by fibrotic changes around the lesions and tissue breakdown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Complete spontaneous eradication of the bacilli is ra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Comic Sans MS"/>
              </a:rPr>
              <a:t>Objectiv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o know how M. tuberculosis infection is contracted and its initial encounter with the immune system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o understand delayed type of hypersensitivity reaction against M. tuberculosi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o be familiar with the possible outcomes of the infection with M. tuberculosis in immuno-competent and immuno-compromised host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o understand the basis of tuberculin test and its importance in gauging immunity against M. tuberculosis  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Diagram 2" descr=""/>
          <p:cNvPicPr/>
          <p:nvPr/>
        </p:nvPicPr>
        <p:blipFill>
          <a:blip r:embed="rId1"/>
          <a:stretch/>
        </p:blipFill>
        <p:spPr>
          <a:xfrm>
            <a:off x="66600" y="738360"/>
            <a:ext cx="8944200" cy="6143400"/>
          </a:xfrm>
          <a:prstGeom prst="rect">
            <a:avLst/>
          </a:prstGeom>
          <a:ln w="0">
            <a:noFill/>
          </a:ln>
        </p:spPr>
      </p:pic>
      <p:sp>
        <p:nvSpPr>
          <p:cNvPr id="543" name="TextBox 3"/>
          <p:cNvSpPr/>
          <p:nvPr/>
        </p:nvSpPr>
        <p:spPr>
          <a:xfrm>
            <a:off x="2286000" y="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atent 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Latent TB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his period of latency is sustained predominantly by a population of 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non-replicating bacilli 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rather than a population of growing bacilli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It is believed that the immune response is mainly directed towards 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antigens secreted by growing bacilli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herefore non-replicating bacilli will be 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less 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obvious to the protective cellular response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his state correlates directly with an innate 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resistance to anti-Mtb drugs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, most of which target processes active in replicating organism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activation disease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Reactivation TB results from </a:t>
            </a: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proliferation of a previously dormant bacteria 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seeded at the time of the primary infection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Among individuals with latent infection and no underlying medical problems, reactivation disease occurs in approximately </a:t>
            </a: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5 to 10 percent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of cases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e disease process in reactivation TB tends to be: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Localized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(in contrast to primary disease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Little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egional lymph node involvement and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less caseation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lesion typically occurs at the 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lung api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Disseminated disease is unusu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Reactivation disease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Immuno-suppress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is clearly associated with reactivation T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ssociated conditions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IV infection and A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nd-stage renal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abetes melli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lignant lymph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rticosteroi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hibitors of TNF-alpha and its recep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minution in cell mediated immunity associated with 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1" descr="tb_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3"/>
          <p:cNvSpPr/>
          <p:nvPr/>
        </p:nvSpPr>
        <p:spPr>
          <a:xfrm>
            <a:off x="1523880" y="1676520"/>
            <a:ext cx="6096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The role of the granuloma as a host protective factor needs a revision in thinking as it may also play a role in protecting the tubercle bacilli for its long-term survival in the h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tle 1"/>
          <p:cNvSpPr/>
          <p:nvPr/>
        </p:nvSpPr>
        <p:spPr>
          <a:xfrm>
            <a:off x="609480" y="30492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</a:t>
            </a:r>
            <a:br>
              <a:rPr sz="7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est for immunity against TB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Content Placeholder 2"/>
          <p:cNvSpPr/>
          <p:nvPr/>
        </p:nvSpPr>
        <p:spPr>
          <a:xfrm>
            <a:off x="228600" y="1219320"/>
            <a:ext cx="8686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elayed hypersensitivity skin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uberculin test or (Mantoux)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tradermal injection of PP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purified protein derivative)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rrect interpretation of the result is unreliable in immuno-compromised states affecting C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2" descr="http://www.clinicalcorrelations.org/wp-content/uploads/2007/03/mantoux_tuberculin_skin_test.jpeg"/>
          <p:cNvPicPr/>
          <p:nvPr/>
        </p:nvPicPr>
        <p:blipFill>
          <a:blip r:embed="rId1"/>
          <a:stretch/>
        </p:blipFill>
        <p:spPr>
          <a:xfrm>
            <a:off x="4952880" y="2895480"/>
            <a:ext cx="3962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4" descr="TB skin test pictu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56" name="TextBox 2"/>
          <p:cNvSpPr/>
          <p:nvPr/>
        </p:nvSpPr>
        <p:spPr>
          <a:xfrm>
            <a:off x="7238880" y="0"/>
            <a:ext cx="1905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omic Sans MS"/>
              </a:rPr>
              <a:t>Test result is interpreted by measuring the diameter of the induration after 48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3" descr="oip_c4_d02.png"/>
          <p:cNvPicPr/>
          <p:nvPr/>
        </p:nvPicPr>
        <p:blipFill>
          <a:blip r:embed="rId1"/>
          <a:stretch/>
        </p:blipFill>
        <p:spPr>
          <a:xfrm>
            <a:off x="85680" y="152280"/>
            <a:ext cx="89726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elayed-type hypersensitivity (DTH) response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DTH response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does not correlate with protection against TB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since numerous BCG vaccination trials have demonstrated that disease can occur in those who mount a DTH respon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s a result, the protective T cell response must be distinguished from the T cell response associated with D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n in vitro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nterferon-gamma release assay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s been develop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assay is a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lternative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to the tuberculin skin test (TST) for detection of latent M. tuberculosis infection in human hos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lnSpc>
                <a:spcPct val="10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Tuberculosis (TB)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837720" y="1600200"/>
            <a:ext cx="678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s an example of an infection in which 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rotective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immunity &amp; 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athologic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hypersensitivity coexist, and the lesions are caused mainly by the host respon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FN-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release assay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he test 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measures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 interferon-gamma released into blood from T cells when they are activated by M. tuberculosis antigens in vitro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he tests use antigens specific to M. tuberculosis including the early 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secretory antigenic target 6 (ESAT-6) and culture filtrate protein (CFP-10)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hese proteins are </a:t>
            </a: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absent</a:t>
            </a: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 in vaccine strain BCG, or M. bovis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00"/>
                </a:solidFill>
                <a:latin typeface="Comic Sans MS"/>
              </a:rPr>
              <a:t>This enables the test to differentiate those latently infected with M. tuberculosis from those vaccinated with BCG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TB 1.jpg"/>
          <p:cNvPicPr/>
          <p:nvPr/>
        </p:nvPicPr>
        <p:blipFill>
          <a:blip r:embed="rId1"/>
          <a:stretch/>
        </p:blipFill>
        <p:spPr>
          <a:xfrm>
            <a:off x="1238400" y="4680"/>
            <a:ext cx="66672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Take home message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After exposure to M. tuberculosis immune handling of the infection determines the final outcom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Relatively small proportion of individuals develop primary disease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Reactivation of tuberculosis can occur in patients who are immuno-compromise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mic Sans MS"/>
              </a:rPr>
              <a:t>Tuberculin test should be interpreted with caution as it may be difficult to differentiate between DTH against M. tuberculosis and latent diseas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Box 3"/>
          <p:cNvSpPr/>
          <p:nvPr/>
        </p:nvSpPr>
        <p:spPr>
          <a:xfrm>
            <a:off x="2666880" y="26668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Introduction 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cobacterium tuberculosis is the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second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ost common infectious cause of death in adults worldwide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human host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rves is the natural reservoir for M. tuberculosi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he disease incidence is magnified by the concurrent epidemic of human immunodeficiency viru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(HIV)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fe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de of transmission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fection is acquired by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halatio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of M.tuberculosis in aerosols and dust (airborne transmissio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fected people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ugh up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large numbers of myco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he organisms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waxy outer coat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n withstand drying and survive for long periods in air and house du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Virulence factors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Waxy coat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blocks phagocyte enzy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talase-peroxidas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, which resists the host cell oxidative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Lipoarabinomanna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(LAM) a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glycolipid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n induce cytokines and resist host oxidative 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terfere with antigen presentation by MHC class II molecules for priming CD4 T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mmunology 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majority 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of individuals in the general population who become infected with M. tuberculosis 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never develop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 clinical diseas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This demonstrates that the 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innate and adaptive immune response </a:t>
            </a: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of the host in controlling TB infection is effectiv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Host factors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mic Sans MS"/>
              </a:rPr>
              <a:t>Innate immunity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he tubercle bacillus ultimately gets taken up by macrophages and has evolved several strategies to evade early intracellular killing mechanisms. These includ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Resistance to 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reactive oxygen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intermediates (RO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Inhibition of 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phagosome-lysosome fu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Inhibition of 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phagosome acidif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Escape from the phagosomal compartment into the </a:t>
            </a:r>
            <a:r>
              <a:rPr b="0" lang="en-US" sz="2200" spc="-1" strike="noStrike">
                <a:solidFill>
                  <a:srgbClr val="ffff00"/>
                </a:solidFill>
                <a:latin typeface="Comic Sans MS"/>
              </a:rPr>
              <a:t>cytoplasmic sp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Diagram 3" descr=""/>
          <p:cNvPicPr/>
          <p:nvPr/>
        </p:nvPicPr>
        <p:blipFill>
          <a:blip r:embed="rId1"/>
          <a:stretch/>
        </p:blipFill>
        <p:spPr>
          <a:xfrm>
            <a:off x="-96840" y="1060560"/>
            <a:ext cx="9399600" cy="58039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4"/>
          <p:cNvSpPr/>
          <p:nvPr/>
        </p:nvSpPr>
        <p:spPr>
          <a:xfrm>
            <a:off x="1066680" y="457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Natural History of Inf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1:24:12Z</dcterms:created>
  <dc:creator>Dr.Zahid</dc:creator>
  <dc:description/>
  <dc:language>en-US</dc:language>
  <cp:lastModifiedBy>Dr.Zahid</cp:lastModifiedBy>
  <dcterms:modified xsi:type="dcterms:W3CDTF">2013-02-15T22:50:25Z</dcterms:modified>
  <cp:revision>381</cp:revision>
  <dc:subject/>
  <dc:title>Slide 1</dc:title>
</cp:coreProperties>
</file>