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AF7-F231-4C84-A646-F391A8B3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094-59B3-4297-BFB7-6DF239FB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A27-B344-4C88-A6A2-36A1A057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BE9-1D64-4187-942D-508CF476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63E9-2E70-4586-BF4E-69E32DD0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7BE8-23C1-4BA3-BBF6-36ED598E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4266-A17E-4D9D-9529-AC194179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ED00-99C7-4CD8-BCCB-C6C3A6FA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8254-D8E1-4401-8642-6AEBB6ED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31EF-ABF8-44BE-93CA-251A2E35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74D7-C535-438E-9345-E70C5BDE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EA9-4EB8-4246-BC74-52DDD03A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65D6-DC09-400D-8031-3722D2FE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FF68-ECAE-4910-A861-DF53E2DC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329F-4438-4037-80E2-35D81DA4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0322-062A-4EA0-9657-4CB5B144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0737-08A6-4196-B136-0B966B3B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41F2-99F6-4364-B9A1-AF0F3AD2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F36-9FB9-4650-ABA6-18544785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B08-C823-4502-882B-7C75DEEC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3DF-5686-4982-9781-94B2E7B3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47E-19B4-4E3C-92F1-4EBFEC41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C09-8429-4084-B896-F97B89C5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3FE-3AFF-4C2E-8BD3-558372D2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06B1-13F1-4851-9B3E-0818791626A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A280-0C55-4D58-B2D1-03DF4A850A6D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viasyshealthcare.com/bird/products/images/TBird_VS1.jpg&amp;imgrefurl=http://www.viasyshealthcare.com/bird/products/TBird_VS.htm&amp;usg=__-LYHLP9O9cO-fnTcxSlRLrHDINI=&amp;h=254&amp;w=261&amp;sz=17&amp;hl=en&amp;start=7&amp;zoom=1&amp;tbnid=_oUZ0ejTJUArxM:&amp;tbnh=109&amp;tbnw=112&amp;ei=GGI1Tc6ZEsmbhQeo-YipCw&amp;prev=/images%3Fq%3Dventilators%26hl%3Den%26safe%3Dactive%26sa%3DG%26gbv%3D2%26tbs%3Disch:1&amp;itbs=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com/imgres?imgurl=http://2.bp.blogspot.com/_FGHdkrEsceI/TDel9yp52vI/AAAAAAAAAAU/b6TBL23ysNY/s1600/ventilator.jpg&amp;imgrefurl=http://lisanance-pedspulm.blogspot.com/2010_07_01_archive.html&amp;usg=__W3mCj-5doucQAnyjeqt5g3rimdI=&amp;h=540&amp;w=459&amp;sz=42&amp;hl=en&amp;start=2&amp;zoom=1&amp;tbnid=vr8g_dM1jerBnM:&amp;tbnh=132&amp;tbnw=112&amp;ei=HJl0TZaRPJmAhAfnj_hA&amp;prev=/images%3Fq%3Dventilator%26hl%3Den%26safe%3Dactive%26sa%3DN%26gbv%3D2%26tbs%3Disch:1&amp;itbs=1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com/imgres?imgurl=http://www.firehow.com/images/stories/users/80/pneumonia.jpg&amp;imgrefurl=http://www.firehow.com/20090318668/how-to-cure-pneumonia-naturally.html&amp;usg=__0Sh-K7phAhEnqbunv50TDFmjDqE=&amp;h=450&amp;w=422&amp;sz=21&amp;hl=en&amp;start=4&amp;zoom=1&amp;tbnid=EhygMP9aVZYZ4M:&amp;tbnh=127&amp;tbnw=119&amp;ei=WWo1TbOGIZKGhQf2-4GpCw&amp;prev=/images%3Fq%3DPNEUMONIA%26hl%3Den%26safe%3Dactive%26gbv%3D2%26tbs%3Disch:1&amp;itbs=1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google.com/imgres?imgurl=http://www.corposaun.com/wp-content/uploads/2009/12/pneumonia.jpg&amp;imgrefurl=http://sandsofgold.com/catalog/yhf.php%3Fq%3Dpneumonia-symptoms&amp;usg=__nOWquPuSUwynJ6N7i-DZ0xTw-Fw=&amp;h=450&amp;w=500&amp;sz=21&amp;hl=en&amp;start=6&amp;zoom=1&amp;tbnid=fnou4RqwQSQKDM:&amp;tbnh=117&amp;tbnw=130&amp;ei=WWo1TbOGIZKGhQf2-4GpCw&amp;prev=/images%3Fq%3DPNEUMONIA%26hl%3Den%26safe%3Dactive%26gbv%3D2%26tbs%3Disch:1&amp;itbs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habirhospital.in/images/icu_bed_space.gif&amp;imgrefurl=http://mahabirhospital.in/facilities.php&amp;usg=__LMupEcGXNhhScr3A-OPJsoUuUKM=&amp;h=354&amp;w=472&amp;sz=131&amp;hl=en&amp;start=11&amp;zoom=1&amp;tbnid=XWlKjuvliHh1eM:&amp;tbnh=97&amp;tbnw=129&amp;ei=G5h0TcCvLIuYhQemwtgx&amp;prev=/images%3Fq%3Dintensive%2Bcare%2Bunit%26hl%3Den%26safe%3Dactive%26gbv%3D2%26tbs%3Disch:1&amp;itbs=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so-cdn.bestpractice.bmj.com/best-practice/images/bp/720-1-hlight_default.jpg&amp;imgrefurl=http://bestpractice.bmj.com/best-practice/monograph/720/resources/image/bp/1.html&amp;usg=__y6zzuBb9fiUqU4O3qEN-tn_t6A0=&amp;h=306&amp;w=450&amp;sz=39&amp;hl=en&amp;start=14&amp;zoom=1&amp;tbnid=B2AxVa52l1MOEM:&amp;tbnh=86&amp;tbnw=127&amp;ei=l2I1TczfE9KZhQfIvMmkCw&amp;prev=/images%3Fq%3Dhospital%2Bacquired%2Bpneumonia%26hl%3Den%26safe%3Dactive%26gbv%3D2%26tbs%3Disch:1&amp;itbs=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google.com/imgres?imgurl=http://www.nlm.nih.gov/medlineplus/ency/images/ency/fullsize/17276.jpg&amp;imgrefurl=http://www.nlm.nih.gov/medlineplus/ency/imagepages/17276.htm&amp;usg=__7-iMrx4X7xz4VRSxig2Gn9Iao6U=&amp;h=320&amp;w=400&amp;sz=14&amp;hl=en&amp;start=3&amp;zoom=1&amp;tbnid=9UXX-DdECD4cxM:&amp;tbnh=99&amp;tbnw=124&amp;ei=l2I1TczfE9KZhQfIvMmkCw&amp;prev=/images%3Fq%3Dhospital%2Bacquired%2Bpneumonia%26hl%3Den%26safe%3Dactive%26gbv%3D2%26tbs%3Disch:1&amp;itbs=1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google.com/imgres?imgurl=http://scienceline.org/wp-content/uploads/2006/10/pneumonia.JPG&amp;imgrefurl=http://www.scienceline.org/2006/10/bio-zielinska-hospitals/&amp;usg=__OxhLbwv7MeCkz5lgD59V9LTdV4k=&amp;h=396&amp;w=440&amp;sz=52&amp;hl=en&amp;start=13&amp;zoom=1&amp;tbnid=og8ljJjgKB02fM:&amp;tbnh=114&amp;tbnw=127&amp;ei=l2I1TczfE9KZhQfIvMmkCw&amp;prev=/images%3Fq%3Dhospital%2Bacquired%2Bpneumonia%26hl%3Den%26safe%3Dactive%26gbv%3D2%26tbs%3Disch:1&amp;itbs=1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Health Care Associated  </a:t>
            </a:r>
            <a:r>
              <a:rPr b="1" lang="en-US" sz="4800" spc="-1" strike="noStrike">
                <a:solidFill>
                  <a:srgbClr val="4d004d"/>
                </a:solidFill>
                <a:latin typeface="Tahoma"/>
              </a:rPr>
              <a:t>Pneumonia</a:t>
            </a:r>
            <a:br>
              <a:rPr sz="4800"/>
            </a:br>
            <a:r>
              <a:rPr b="1" lang="en-US" sz="2800" spc="-1" strike="noStrike">
                <a:solidFill>
                  <a:srgbClr val="4d4d86"/>
                </a:solidFill>
                <a:latin typeface="Tahoma"/>
              </a:rPr>
              <a:t>Respiratory Block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BY PROF .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A.M.KAMBA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L and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PROF .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HANAN HABIB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ahoma"/>
              </a:rPr>
              <a:t>Department of Pathology, KSU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pneumonia to occur, at least one of the following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three condition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ust occur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. Significant impairment of host defens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2. Introduction of a sufficient-size inoculum to overwhelm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the host's lower respiratory tract defens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3. The introduction of highly virulent organisms into the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lower respiratory trac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ost common is microaspiration of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oropharyngeal secretion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lonized with pathogenic bacteria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4" name="Picture 4" descr="C:\Documents and Settings\k\桌面\HAP--1.jpg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419360"/>
          </a:xfrm>
          <a:prstGeom prst="rect">
            <a:avLst/>
          </a:prstGeom>
          <a:ln w="38160">
            <a:solidFill>
              <a:srgbClr val="545472"/>
            </a:solidFill>
            <a:miter/>
          </a:ln>
        </p:spPr>
      </p:pic>
      <p:sp>
        <p:nvSpPr>
          <p:cNvPr id="165" name="Text Box 5"/>
          <p:cNvSpPr/>
          <p:nvPr/>
        </p:nvSpPr>
        <p:spPr>
          <a:xfrm>
            <a:off x="1600200" y="624852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lassif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Early-onset nosocomial pneumonia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ccurs during th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first 4 day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of admiss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ually is due to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S. pneumonia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MSSA (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ethicillin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ensitive 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S.aureus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H. Influenz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or anaerob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Late-onset nosocomial pneumonia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cur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ore than 4 days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f admiss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re commonly by Gram negative organisms, especially: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P. aeruginosa, Acinetobacter, Enterobacteriaceae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Klebsiella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Enterobacter, Serrati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 or MRSA.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Enteric Gram negative bacilli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re isolated most frequently particularly in patients with late-onset disease and in patients with serious underlying disease often already on broad-spectrum antibiotic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ior use of broad-spectrum antibiotics and an immunocompromised state make resistant Gram-negative organisms more likel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P. aeruginosa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d </a:t>
            </a: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Acinetobact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are common causes of late-onset pneumonia, particularly in the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ventilated patient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ahoma"/>
              </a:rPr>
              <a:t>S. aureus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isolated in about 20~40% of cases and is particularly common in 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Ventilated patients after head trauma, neurosurgery, and wound infection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In patients who had received prior antibiotics or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longed care in ICU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MRSA(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methicillin resistant </a:t>
            </a:r>
            <a:r>
              <a:rPr b="1" i="1" lang="en-US" sz="1800" spc="-1" strike="noStrike">
                <a:solidFill>
                  <a:srgbClr val="c00000"/>
                </a:solidFill>
                <a:latin typeface="Tahoma"/>
              </a:rPr>
              <a:t>S.aureus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s seen more commonly in patients who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ceived corticosteroid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ndergone mechanical ventilation &gt;5 day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esented with chronic lung diseas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ad prior antibiotics therap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Anaerob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are common in patients predisposed to aspiration 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7286"/>
                </a:solidFill>
                <a:latin typeface="Tahoma"/>
              </a:rPr>
              <a:t>Ventilator associated pneumonia (VAP )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ith anaerobes occurred more often with oropharyngeal intubation than nasopharyngeal intub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entilator-associated Pneumonia (VA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7" name="Picture 6" descr="http://t2.gstatic.com/images?q=tbn:_oUZ0ejTJUArxM:http://www.viasyshealthcare.com/bird/products/images/TBird_VS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386064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http://t2.gstatic.com/images?q=tbn:ANd9GcRC1Ee0iSqxl88UKAt6rvm2T3-fLzo07_HPnrTXw-bz26ntRtioyaZuUa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3860640"/>
            <a:ext cx="2521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entilator-associated Pneumonia (VA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finiti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socomial pneumonia that has developed in patient who are receiving mechanical ventilat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assificati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Early-onset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within 48-72 hours after tracheal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intubation,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which complicates the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intubation proces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Late-onset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after 72 hou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quires 2 important processe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Bacterial colonization of the aerodigestive tract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Aspiration of contaminated secretion into th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ower airwa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vents mechanical clearance by cough and the mucociliary escalato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alth Care Associated Pneumon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60"/>
                </a:solidFill>
                <a:latin typeface="Tahoma"/>
              </a:rPr>
              <a:t>Definition of Pneumonia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60"/>
                </a:solidFill>
                <a:latin typeface="Tahoma"/>
              </a:rPr>
              <a:t>Infection of the pulmonary Parenchym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0" name="Picture 7" descr="http://t2.gstatic.com/images?q=tbn:EhygMP9aVZYZ4M:http://www.firehow.com/images/stories/users/80/pneumon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3860640"/>
            <a:ext cx="2448000" cy="223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http://t2.gstatic.com/images?q=tbn:fnou4RqwQSQKDM:http://www.corposaun.com/wp-content/uploads/2009/12/pneumoni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79640" y="3789360"/>
            <a:ext cx="2521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for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oral regimen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topical Gentamicin, Colistin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Vancomycin cream  given every 6hours for 3 weeks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eating oropharyngeal colonization could prevent VAP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</a:t>
            </a: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Prevention of VAP by oral decontamination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American journal of respiratory critical care medicine2001 164:382-8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s for 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on-pharmacologic strateg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ffective hand washing and use of protective gowns and glov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Semirecumbent positio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voidance of large gastric volum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Oral (non-nasal) intub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ntinuous subglottic suctio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Humidification with heat and moisture exchang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sture chang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975680" y="624852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s for 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Pharmacologic strateg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ress-ulcer prophylaxi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ombination antibiotic therap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hylactic antibiotic therap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hlorhexidine oral rins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hylactic treatment of neutropenic pati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Vaccin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899360" y="624852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ost initial therapy is empiric because no pathogen is identified or results are not available when antimicrobial decisions are made in most patien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nitially be treated with a broad-spectrum antibiotic regimen aimed at covering all likely bacterial pathoge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This regimen should subsequently be narrowed, according to the result of cultu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pathogen may be influenced by coexisting illnesses, prior treatment, and length of hospitaliz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frequency of ICU-acquired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P. aeruginosa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rriage or colonization/infection was 23.4% at 7 days and 57.8% at 14 day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Current opinion in infectious disease 2002, 15:387-94, copyright LWW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mortality can be reduced with early appropriate empiric therapy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Form 30 % with appropriate therapy to more than 90 % with inappropriate therapy) 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uidelines  by American Thoracic Society has divided patients into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three group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each with a set of probable pathoge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mild to moderate HAP with no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2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mild to moderate HAP with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3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vere HAP, early-onset with no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3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vere HAP, late-onset or with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ild-to-moderat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P,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monotherapy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s been shown to be effective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ever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P in which infection with resistant organisms is likely,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ombination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rapy probably should be instituted until culture result are available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tients with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S. aureus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fection, agents against this organism are necessary, including 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ancomyci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f MRSA is suspected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Linezolid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comparable with Vancomycin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advantage of Linezolid is less possible nephrotoxicit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current opinion in infectious disease 2002, 15:387-94, copyright LWW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NEUMONIA can be 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</a:rPr>
              <a:t>A-Community acquired Pneumonia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cquired in the community, by community acquired organism, eg. </a:t>
            </a:r>
            <a:r>
              <a:rPr b="0" i="1" lang="en-GB" sz="2800" spc="-1" strike="noStrike">
                <a:solidFill>
                  <a:srgbClr val="545472"/>
                </a:solidFill>
                <a:latin typeface="Tahoma"/>
              </a:rPr>
              <a:t>Streptococcus pneumoniae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usually susceptible to antibioti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</a:rPr>
              <a:t>B-Health care associated pneumonia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cquired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48-72 hours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fter  admission to health care institutions eg. pneumonia caused by organisms in hospital which are usually resistant to antibiotics-eg. </a:t>
            </a:r>
            <a:r>
              <a:rPr b="0" i="1" lang="en-GB" sz="2800" spc="-1" strike="noStrike">
                <a:solidFill>
                  <a:srgbClr val="545472"/>
                </a:solidFill>
                <a:latin typeface="Tahoma"/>
              </a:rPr>
              <a:t>Pseudomonas aeruginos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bination of antipseudomonal drugs is controversial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70c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Traditional: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888ae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antipseudomonal Beta-lactam</a:t>
            </a: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with an Aminoglycoside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. Synergy but potential nephrotoxicity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Another approach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antipseudomonal Beta-lactam with a Fluoroquinolone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No benefit of synergy but reduce  concern of nephrotoxicity, and quinolone gets into the lungs at higher concentration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7" name="Picture 5" descr="http://t2.gstatic.com/images?q=tbn:XHlfonKhvKbM3M:http://img.tradeprince.com/100/20090713/2869321f-29c5-452b-9881-a4bd0a3831a5.jpg"/>
          <p:cNvPicPr/>
          <p:nvPr/>
        </p:nvPicPr>
        <p:blipFill>
          <a:blip r:embed="rId2"/>
          <a:stretch/>
        </p:blipFill>
        <p:spPr>
          <a:xfrm>
            <a:off x="7308720" y="836640"/>
            <a:ext cx="1114560" cy="1228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t2.gstatic.com/images?q=tbn:vy8HRq-GS9NdPM:http://www.connexions-rochdale.org.uk/images/Injection-Syringe-Medicine.gif"/>
          <p:cNvPicPr/>
          <p:nvPr/>
        </p:nvPicPr>
        <p:blipFill>
          <a:blip r:embed="rId3"/>
          <a:stretch/>
        </p:blipFill>
        <p:spPr>
          <a:xfrm>
            <a:off x="7308720" y="2637000"/>
            <a:ext cx="9907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Response to Therap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f no clinical response is noted or deterioration occurs, we need to consider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Infectious cause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Resistant pathoge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uperinfectio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nusual pathogen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ung absces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Extrapulmonary infection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Noninfectious event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Heart: congestive heart failure (CHF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ung: fibroproliferative acute respiratory distress syndrome (ARDS), pulmonary emboli, Atelectesi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osocomial pneumonia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: is defined as hospital associated pneumonia (HAP) or health care associated pneumonia (HCAP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curring at least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48 -72 hour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fter admission and not incubating at the time of hospitaliz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alth care associated Pneumonia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A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- Hospital Acquired Pneumonia(</a:t>
            </a: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HAP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B-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 Ventilator Associated Pneumonia (</a:t>
            </a: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VAP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) in patients with assisted respiration for a period of 48 hour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socomial pneumonia is the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0a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 most comm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ospital-acquired infections after urinary tract infection.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ccounting for 31 % of all nosocomial infection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socomial pneumonia is the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leading cause of death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rom hospital-acquired infectio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ncidence of nosocomial pneumonia is highest in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CU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(intensive care unit) patien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C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1" name="Picture 2" descr="http://t3.gstatic.com/images?q=tbn:ANd9GcQJgQ01y3lGpssbyxlNUmQAUjl-a-bB5vPQAcjkFpIZ22n_oqUBP8afg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060640"/>
            <a:ext cx="4319280" cy="381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blogs.jwatch.org/PaulSax/wp-content/uploads/2008/12/icu1.jpg"/>
          <p:cNvPicPr/>
          <p:nvPr/>
        </p:nvPicPr>
        <p:blipFill>
          <a:blip r:embed="rId3"/>
          <a:stretch/>
        </p:blipFill>
        <p:spPr>
          <a:xfrm>
            <a:off x="5076720" y="1916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ncidence of nosocomial pneumonia in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ventilated patient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a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10-fold high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than non-ventilated pati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reported crude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ortality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or HAP is 30% to greater than 70%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72736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178160" y="5486400"/>
            <a:ext cx="446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--- Medical Clinics of North America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Therapy of Nosocomial pneumonia</a:t>
            </a: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 2001 vol.85 1583-9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Picture 4" descr="http://t2.gstatic.com/images?q=tbn:B2AxVa52l1MOEM:http://eso-cdn.bestpractice.bmj.com/best-practice/images/bp/720-1-hlight_defaul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05360"/>
            <a:ext cx="2664000" cy="2016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t2.gstatic.com/images?q=tbn:9UXX-DdECD4cxM:http://www.nlm.nih.gov/medlineplus/ency/images/ency/fullsize/1727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393372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http://t2.gstatic.com/images?q=tbn:og8ljJjgKB02fM:http://scienceline.org/wp-content/uploads/2006/10/pneumoni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48360" y="400536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ICA</dc:creator>
  <dc:description/>
  <dc:language>en-US</dc:language>
  <cp:lastModifiedBy>JERICA</cp:lastModifiedBy>
  <dcterms:modified xsi:type="dcterms:W3CDTF">2014-08-04T08:53:53Z</dcterms:modified>
  <cp:revision>94</cp:revision>
  <dc:subject/>
  <dc:title>PowerPoint Presentation</dc:title>
</cp:coreProperties>
</file>