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806-AFB1-47DA-B967-3BE234BD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84C-4FA9-4B8D-A0A4-D1E56E2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BC5-68C1-4551-95E1-66CF1757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4FF-8FFC-4F2B-9353-1AA0EAB1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02B-8D02-4224-8ABD-2E7752A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936-7FFB-443D-9317-3568927D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C65-FCD3-4E20-AC79-DF84F745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5A9-9783-4E23-887F-267C9152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2FD-1183-44CD-B2E6-13524AEB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E93-3556-4BEB-ADE9-D7F5EC6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6F8-7AA3-4F1E-83EF-87506A9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D07-ADE5-4A92-984F-E1101117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2675-AC9F-4CCA-9836-0E3B63FCE2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amazon.com/Notes-Medical-Microbiology-Morag-Timbury/dp/0443071640/ref=sr_1_6?s=books&amp;ie=UTF8&amp;qid=1309599210&amp;sr=1-6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f/Illu_conducting_passage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24000" y="40053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 Abdulkarim Alheth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ant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Medicine &amp; KK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826920" y="1700280"/>
            <a:ext cx="7525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al Infections of the Respiratory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3"/>
          <p:cNvSpPr/>
          <p:nvPr/>
        </p:nvSpPr>
        <p:spPr>
          <a:xfrm>
            <a:off x="395280" y="202716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11280" y="3348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fluenza Viru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0920" y="874800"/>
            <a:ext cx="889308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d into subtypes based on the haemagglutinine and neuraminidase prote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rrently circulating strains are: H1N1 &amp; H3N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hogenesis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irus infects the epithelial cells of the nose, throat, bronchi and occasionally the lu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halation of infectious aerosol dropl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P.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-4 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ptom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ever, malaise, headache, cough, chills, sore throat, and generalized p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nosi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ually self-limiting dis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539640" y="1557360"/>
            <a:ext cx="820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Primary influenza pneumonia                    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- 2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cterial pneumoni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- Reye’s syndrome [fatty degeneration of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CNS and Liver (Aspirin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 routine testing b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detection of Influenza A or B virus from sputum, nasopharyngeal swab, aspirate (NPA) or respiratory secretion by direct immunoflourecent assay (IF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detection method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culture, PC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  Amantadine is effective against influenza A virus on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  Rimantadine, Oseltamivir (Tamiflu) or Zanamivir (Relenza) are effective against both influenza A &amp; B viruses and can be used as treatment and prophylax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ven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za vaccine: Two types of vaccines availab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 flu shot vaccine: Inactivated (killed vaccin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to people older than 6-months, including healthy people and  those with chronic medic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 nasal spray flue vaccine (Flu mist): Live attenuated vacc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 for use in healthy people between 5-49 years of 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oth vaccines contain two strains of the current circulating influenza A virus and the current circulating strain of influenza B vir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ccine should be given in October or November, before the influenza season beg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al etiology: Avian influenza type A virus (H5N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: Typical orthomyxovir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ology: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d birds are the natural reservoir for the virus. They shed the virus in saliva, nasal secretion and fec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domestic poultry are susceptible to infe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become infected, when they eat food contaminated with secretion or excretion from infected b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ian influenza viruses do not usually infect hum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risk group includes those who working in poultry farms and those who are in close contact with poultry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i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ptoms in hum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ges from typical flu to severe acute respiratory dis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rrhea, abdominal pain and bleeding from the nose have been repor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initiated within 48 hour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eltamivir and Zanamivir are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, detection of the viral RNA in throat sw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24000" y="1063800"/>
            <a:ext cx="63356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yx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eloped virus with - polarity ssRNA genome, with 5 serotyp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alation of infectious aerosol droplets mainly in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ndro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up or acute laryngotracheobronchitis. PIV Type-I, II affect mainly in infants and young children. Fever, harsh cough, difficult inspiration can lead to airway obstruction which may require hospitalization and tracheostom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olitis and Pneumonia: PIV Type-III in young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2620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- Parainfluenza 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yoursurgery.com/procedures/tracheostomy/images/trac5.jpg"/>
          <p:cNvPicPr/>
          <p:nvPr/>
        </p:nvPicPr>
        <p:blipFill>
          <a:blip r:embed="rId1"/>
          <a:stretch/>
        </p:blipFill>
        <p:spPr>
          <a:xfrm>
            <a:off x="6732720" y="2565360"/>
            <a:ext cx="23032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4360" y="1989000"/>
            <a:ext cx="799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ine testing b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detection of the virus from sputum, nasopharyngeal swab, aspirate (NPA) or respiratory secretion by direct immunoflourecent assay (IF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detection method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culture, PC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ve treatment, No specific treatment or vaccine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1116000" y="26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Respiratory Syncytial Virus (RS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95280" y="1463760"/>
            <a:ext cx="84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yx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eloped virus with - polarity ssRNA geno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halation of infectious aerosols mainly in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ndrom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olitis: Life-threatening disease in infant especially under 6 month of life with respiratory distress and cyanosis can be fatal and can lead to chronic lung disease in later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: can also be fatal in inf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 routine testing b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detection of the virus from sputum, nasopharyngeal swab, aspirate (NPA) or respiratory secretion by direct immunoflourecent assay (IF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detection method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d of virus by cell culture from N.P.A with multinucleated giant cell or syncytia as cytopathic effect (C.P.E); PC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avirin administered by inhalation for infants with severe condi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ccine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accine available, but passive immunization immunoglobulin can be given for infected premature inf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8"/>
          <p:cNvSpPr/>
          <p:nvPr/>
        </p:nvSpPr>
        <p:spPr>
          <a:xfrm>
            <a:off x="2841480" y="189000"/>
            <a:ext cx="30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Rhino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1197000"/>
            <a:ext cx="5545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orna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enveloped virus with + polarity ssRNA genome, more than 100 serotypes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alation of infectious aerosol dropl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mptom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1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of common cold. The main symptoms of common cold are sneezing, clear watery nasal discharge with mild sore throat, and cou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self-limiting disease, no specific treatment, and no vaccine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www.virology.ws/wp-content/uploads/2009/02/phil_235_lores-300x200.jpg"/>
          <p:cNvPicPr/>
          <p:nvPr/>
        </p:nvPicPr>
        <p:blipFill>
          <a:blip r:embed="rId1"/>
          <a:stretch/>
        </p:blipFill>
        <p:spPr>
          <a:xfrm>
            <a:off x="6084720" y="1773360"/>
            <a:ext cx="2924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358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respiratory viral inf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respiratory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 of trans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 featur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 diagn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&amp;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8"/>
          <p:cNvSpPr/>
          <p:nvPr/>
        </p:nvSpPr>
        <p:spPr>
          <a:xfrm>
            <a:off x="2627280" y="252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5- Corona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50920" y="1265400"/>
            <a:ext cx="61927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na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eloped virus with + polarity ssRNA geno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alation of infectious aerosol dropl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mptom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2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of common co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na virus can also cause severe respiratory diseases ( will be discussed in the 2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ec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CR or Tissue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 treatment or vaccine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pathmicro.med.sc.edu/graduate/corona-cdc.jpg"/>
          <p:cNvPicPr/>
          <p:nvPr/>
        </p:nvPicPr>
        <p:blipFill>
          <a:blip r:embed="rId1"/>
          <a:stretch/>
        </p:blipFill>
        <p:spPr>
          <a:xfrm>
            <a:off x="6402240" y="1628640"/>
            <a:ext cx="26337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8"/>
          <p:cNvSpPr/>
          <p:nvPr/>
        </p:nvSpPr>
        <p:spPr>
          <a:xfrm>
            <a:off x="3059280" y="44280"/>
            <a:ext cx="28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- Adeno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24000" y="836640"/>
            <a:ext cx="7993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: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enveloped virus with ds-DNA geno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hogenesi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ovirus infects epithelial cell lining respiratory tract, conjunctiva, urinary tract, gastrointestinal tract and genital tra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ndro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rayngitis and tonsil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yngioconjunctivit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ctiv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: in preschool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oenterit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ute hemorrhagic cyst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vicitis and urethr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 routine testing b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detection of the Ag from NPA by direct IFA.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detection method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culture, PC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 treatment or vaccine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www.virology.ws/wp-content/uploads/2009/01/adenovirus.jpg"/>
          <p:cNvPicPr/>
          <p:nvPr/>
        </p:nvPicPr>
        <p:blipFill>
          <a:blip r:embed="rId1"/>
          <a:stretch/>
        </p:blipFill>
        <p:spPr>
          <a:xfrm>
            <a:off x="6661080" y="2924280"/>
            <a:ext cx="23432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80960" y="281160"/>
            <a:ext cx="7158240" cy="14014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179280" y="1700280"/>
            <a:ext cx="63896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Notes on Medical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; Katherine N. Ward, A. Christine McCartney, and Bishan Thak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entury Gothic"/>
              </a:rPr>
              <a:t>Pages; 329-34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uman Vi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; Leslie Collier and John Oxf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, 7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large.bangzo.com/?SWBMDQ0MzEwMjg0OA=="/>
          <p:cNvPicPr/>
          <p:nvPr/>
        </p:nvPicPr>
        <p:blipFill>
          <a:blip r:embed="rId3"/>
          <a:stretch/>
        </p:blipFill>
        <p:spPr>
          <a:xfrm>
            <a:off x="7020000" y="112536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downeu.net/uploads/posts/2011-03-21/399117-0.jpg"/>
          <p:cNvPicPr/>
          <p:nvPr/>
        </p:nvPicPr>
        <p:blipFill>
          <a:blip r:embed="rId4"/>
          <a:stretch/>
        </p:blipFill>
        <p:spPr>
          <a:xfrm>
            <a:off x="7020000" y="407664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5280" y="1557360"/>
            <a:ext cx="874872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ank you for your attention!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116000" y="2679840"/>
            <a:ext cx="66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775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spiratory Tract Infections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50920" y="1268280"/>
            <a:ext cx="8642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the commonest of human infections and cause a large amount of morbidity and loss of time at work (sick leav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ommon in both children and adul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caused by viru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are mild and confined to the upper respiratory tract (UR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are self-limiting dis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T-infection may spread to other organs causing more severe infection and death.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979200"/>
            <a:ext cx="837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cold (rhiniti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yngit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nsilit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usitis &amp; otitis me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up (acute laryngotracheobronchiti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ute bronch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ute bronchiol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al pneumo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za (Fl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158920" y="260280"/>
            <a:ext cx="44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manife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940360" y="1557360"/>
            <a:ext cx="28796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File:Illu conducting passage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37120" y="1557360"/>
            <a:ext cx="288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1341360"/>
          <a:ext cx="8373960" cy="3909960"/>
        </p:xfrm>
        <a:graphic>
          <a:graphicData uri="http://schemas.openxmlformats.org/drawingml/2006/table">
            <a:tbl>
              <a:tblPr/>
              <a:tblGrid>
                <a:gridCol w="3189240"/>
                <a:gridCol w="2303280"/>
                <a:gridCol w="288144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Name of the vir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ami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ise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Influenza 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thomyx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&amp; 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Parainfluenza 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yx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&amp; 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Respiratory syncytial 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yx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Rhino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or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Coronaviro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o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&amp; 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Adenovir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and eye inf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7-Human metapneumovir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Paramyx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2" name="Text Box 9"/>
          <p:cNvSpPr/>
          <p:nvPr/>
        </p:nvSpPr>
        <p:spPr>
          <a:xfrm>
            <a:off x="250920" y="404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ommon respiratory viruses.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68360" y="530064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Upper respiratory tract infection includes: rhinitis (common cold), tonsillitis, pharyngiti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Lower respiratory tract infection includes: croup, bronchitis, bronchiolitis,  pneumoni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09480" y="1523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1430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057400" y="196992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09480" y="32004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48520" y="1371600"/>
            <a:ext cx="10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09480" y="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95640" y="30492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Influenza 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1525680"/>
            <a:ext cx="5688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 </a:t>
            </a:r>
            <a:r>
              <a:rPr b="0" i="1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Orthomyx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nveloped virus with 2 projecting glycoprotein spik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aemagglutinin (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Neuraminidase 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ome: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8 Segmented - polarity ssR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is virus is highly susceptible to mutations and rearrangements within the infected host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influenza%2520virus"/>
          <p:cNvPicPr/>
          <p:nvPr/>
        </p:nvPicPr>
        <p:blipFill>
          <a:blip r:embed="rId1"/>
          <a:stretch/>
        </p:blipFill>
        <p:spPr>
          <a:xfrm>
            <a:off x="6443640" y="160020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Image_HIPO_EN_250204"/>
          <p:cNvPicPr/>
          <p:nvPr/>
        </p:nvPicPr>
        <p:blipFill>
          <a:blip r:embed="rId2"/>
          <a:stretch/>
        </p:blipFill>
        <p:spPr>
          <a:xfrm>
            <a:off x="6443640" y="3759120"/>
            <a:ext cx="25923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aemagglutinin (H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ttachment to the cell surface recep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ntibodies to the HA  is responsible for 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16 haemagglutinin antigenic type, H1 – H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associated H antigenic type are H1, H2, H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Neuraminidase 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esponsible for release of the progeny viral particles from the infected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9 neuraminidase antigenic type, N1 – N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associated N antigenic type are N1, N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luenza viral protein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influenza 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971640" y="1557360"/>
            <a:ext cx="741672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971640" y="1557360"/>
            <a:ext cx="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4716360" y="1557360"/>
            <a:ext cx="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8388360" y="1557360"/>
            <a:ext cx="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108000" y="2023920"/>
            <a:ext cx="4248000" cy="32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s human and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epidemic &amp; pande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epizootic in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enic drif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in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enic shif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ajor change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3851280" y="2055960"/>
            <a:ext cx="24480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fects huma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auses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genic drift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805440" y="2046240"/>
            <a:ext cx="24480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Infects huma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Causes mild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1908000" y="4149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1935000" y="459900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gd-a06e"/>
          <p:cNvPicPr/>
          <p:nvPr/>
        </p:nvPicPr>
        <p:blipFill>
          <a:blip r:embed="rId1"/>
          <a:stretch/>
        </p:blipFill>
        <p:spPr>
          <a:xfrm>
            <a:off x="826920" y="504720"/>
            <a:ext cx="7837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3:51:34Z</dcterms:created>
  <dc:creator>abdulkarim alhetheel</dc:creator>
  <dc:description/>
  <dc:language>en-US</dc:language>
  <cp:lastModifiedBy>Dr Abdulkarim</cp:lastModifiedBy>
  <dcterms:modified xsi:type="dcterms:W3CDTF">2015-02-15T06:52:54Z</dcterms:modified>
  <cp:revision>812</cp:revision>
  <dc:subject/>
  <dc:title>Slide 1</dc:title>
</cp:coreProperties>
</file>