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FCA3-F070-4257-86DA-33F090430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0B28-DAE8-4ABA-AD02-2ADF8E4F396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A98E-C3FD-4AD0-ABEA-7A734EA6F56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74D5-58E4-4C0C-AACA-5003781200A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3A72-E0CF-4EE2-8EB9-035CD42A363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01E3-5F1C-4E89-844D-2FE3DBBF0B5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78A7-8903-4A8B-AE38-900D55DED3C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204A-16CC-4882-A451-DE3D5A6A0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62CC-F2E6-4F54-B4C5-CD5DD3C5E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rynx has three parts: the nasopharynx, the oropharynx, and the laryngopharyn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nsils contain lymphocytes that protect against invasion of foreign antigens that are inha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2A31-5C7D-4B29-A92C-A89607FA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B725-D46C-4D9E-94D7-F02F638E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7CA4-23A2-4D28-96F0-DBF424C5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73D-99F6-4BA9-8B92-767F148D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7A41-C854-4DBF-B45C-F040033A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3EE2-E99F-4283-9E6D-AF777B94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9756-DD23-417C-B207-8A5A5911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B74A-142F-46B9-9797-F04D6C00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B3B2-5CE0-4139-985E-9848B02D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1C19-A865-41B4-8A71-66F2EF43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7D38-381B-4D1C-832C-33BF9AEE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6DC3-206C-4A93-8DB2-306B099F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7167-262E-4CCD-92A5-1FD654D0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E906-C726-4B15-B569-62B9E240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7F17-7B64-4FB5-9957-1BFB50B9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DA05-8EC9-4956-9173-3C4F2298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DE9A-1879-425F-BC7A-DCF472DF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93FC4-4273-449C-B42C-6BC832A7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C2963-4157-4872-AB91-F6FF4859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99021-220E-4148-9263-CAFC411C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B2357-373F-4AE8-AC9E-FB4FBE5C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6EB79-BC5A-434F-B38A-4F302EBA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8E35-AB3F-4DA5-AC9A-690E83CB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81C49-2DC0-4CA1-A35B-A8F119AA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18B1-9217-4D39-AAAF-4AED7EA4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618FB-E4B8-4BC8-A210-F7E04BDE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0272-23B1-44D0-BCB6-CA869226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DA258-4CAF-463D-93EB-3BDBD5C6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D5AAF-3166-4125-95D7-825E5A24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D31FD-E16A-4052-B27C-0D27F1CD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0AA0F-7B2F-4911-9402-1AF4D0FF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434AF-C5AC-4D47-BB06-0A6C4B31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4D83B-A3AC-49C9-8060-DD2A51B8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C56-CB42-49E9-A6E8-D96364BD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618F-4A39-4FAE-AE1F-1CC67B9D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FE772-B0B2-488F-840F-BB793A4B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6415F-0358-47EF-86B3-ABB6A089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5EE23-BC06-42C0-83BC-1A876FC2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FC32E-5834-4749-8ADF-B2F958C4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65C12-271A-4F92-BBFE-B17B606E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AB3B5-BFF0-479C-A56F-8E9D0FA7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92A17-F91A-42B7-9401-7D2C4F3D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0B839-CD1C-4F61-AFF4-94217875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DC8-7BA4-4463-8418-88D11C07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6A1-A36E-4EA1-9E12-1D3F8045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D992-98EB-4BFD-A1E1-3056AD92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B1E2-41A9-4D47-82CF-FB65C27A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4A5-CE3A-4E4D-98EB-A5DA09CA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D7B1-BBAB-4A13-85CC-63C16A21E8D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211A-3AD0-4544-ACF5-FC41F5994F0F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B2E5-7558-41C4-AC84-62EBE87D01A0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7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5764-DA7B-421B-AA97-8D474FC5CCE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Book Antiqua"/>
              </a:rPr>
              <a:t>Treatment Of Respiratory Tract infections</a:t>
            </a:r>
            <a:endParaRPr b="0" lang="en-US" sz="6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enicill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8" name="Picture 2" descr="I:\2011-01-10\Fig. 45.3(2).JPG"/>
          <p:cNvPicPr/>
          <p:nvPr/>
        </p:nvPicPr>
        <p:blipFill>
          <a:blip r:embed="rId1"/>
          <a:stretch/>
        </p:blipFill>
        <p:spPr>
          <a:xfrm>
            <a:off x="1295280" y="1752480"/>
            <a:ext cx="6897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Broad- spectrum penicill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Amoxicilli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Ampicilli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cts on both gram + ve gram - v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croorganisms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estroyed by  </a:t>
            </a:r>
            <a:r>
              <a:rPr b="1" lang="el-GR" sz="2800" spc="-1" strike="noStrike">
                <a:solidFill>
                  <a:srgbClr val="000000"/>
                </a:solidFill>
                <a:latin typeface="Trebuchet MS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-lactamase enzym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8046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s bacterial cell wall synth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rough inhibition of transpeptidas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nzy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tericid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Pharmacokinetic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Given orally or parentrall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ot metabolized in huma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latively lipid insolubl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creted mostly unchanged in urin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alf-life  30-60 min ( increased in renal failure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Diagram 7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37720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42f1a"/>
                </a:solidFill>
                <a:latin typeface="Trebuchet MS"/>
              </a:rPr>
              <a:t>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2120" y="2286000"/>
            <a:ext cx="6348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per respiratory tract infections, Acute otitis media especially those produced by Group A gram positive beta-hemolytic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reptococci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wer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3600" spc="-1" strike="noStrike">
                <a:solidFill>
                  <a:srgbClr val="c42f1a"/>
                </a:solidFill>
                <a:latin typeface="Trebuchet MS"/>
              </a:rPr>
              <a:t>β</a:t>
            </a:r>
            <a:r>
              <a:rPr b="1" lang="en-US" sz="3600" spc="-1" strike="noStrike">
                <a:solidFill>
                  <a:srgbClr val="c42f1a"/>
                </a:solidFill>
                <a:latin typeface="Trebuchet MS"/>
              </a:rPr>
              <a:t>-Lactamase inhibito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120" y="1600200"/>
            <a:ext cx="6705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lavulanic aci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ulbacta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hemselves have no antibacterial ac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hey inactivate </a:t>
            </a:r>
            <a:r>
              <a:rPr b="1" lang="el-GR" sz="2400" spc="-1" strike="noStrike">
                <a:solidFill>
                  <a:srgbClr val="0070c0"/>
                </a:solidFill>
                <a:latin typeface="Trebuchet MS"/>
              </a:rPr>
              <a:t>β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-lactamase enzy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.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moxicilli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lavulanic acid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mpicilli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/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ulbacta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6348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Cephalosporin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1" name="Picture 2" descr="I:\2011-01-10\Fig. 45.3(1).JPG"/>
          <p:cNvPicPr/>
          <p:nvPr/>
        </p:nvPicPr>
        <p:blipFill>
          <a:blip r:embed="rId1"/>
          <a:stretch/>
        </p:blipFill>
        <p:spPr>
          <a:xfrm>
            <a:off x="565200" y="1371600"/>
            <a:ext cx="624852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 bacterial cell wall synth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tericid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3152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1</a:t>
            </a:r>
            <a:r>
              <a:rPr b="1" lang="en-US" sz="4000" spc="-1" strike="noStrike" baseline="30000">
                <a:solidFill>
                  <a:srgbClr val="c00000"/>
                </a:solidFill>
                <a:latin typeface="Trebuchet MS"/>
              </a:rPr>
              <a:t>st</a:t>
            </a: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 Generation Cephalospori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phalexin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o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against gram positive microorganism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in URT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8080" y="1905120"/>
            <a:ext cx="640080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Prof. Mohammad Alhumayyd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Department of Pharmacology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Ext. 71350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162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2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n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Generation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480" y="2160360"/>
            <a:ext cx="7391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uroxime axetil , cefaclor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mainly against Gram-negative bacter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ell absorbed o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ctive against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lactamase –producing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Uses of 2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n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gener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per and lower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inusitis, otitis med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9343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3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r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 Generation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 /  Cefotaxime / Cefixi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 on gram-negative bacill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treatment in pneumonia produced by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-lactamase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harmacokinetics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 mainly parentrall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ral preparation 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: Cefixim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enetration into CS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creted  Mostly unchanged in the urine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liminated via biliary excretion (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ng Half-life 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(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470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effects of 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         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5" name="Content Placeholder 3" descr=""/>
          <p:cNvPicPr/>
          <p:nvPr/>
        </p:nvPicPr>
        <p:blipFill>
          <a:blip r:embed="rId1"/>
          <a:stretch/>
        </p:blipFill>
        <p:spPr>
          <a:xfrm>
            <a:off x="450720" y="2004840"/>
            <a:ext cx="8248680" cy="47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hibit protein synthesis by binding to  50 S subunit of the bacterial ribosomes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cteriostat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cteriocidal at high concentra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arithromyc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480" y="2160360"/>
            <a:ext cx="7848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on G+ve bacter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ble at gastric acid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s cytochrome P450 syste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etabolized to active metaboli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creted in urine 20-40%unchanged or metabolite &amp; 60% in bile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lf-life 6-8 hou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zithromyc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on Gram negative  bacteri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ble at  gastric acid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ndergo some hepatic metabolism ( inactive metabolite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iliary route is the major route of elimin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nly 10-15% excreted unchanged in the ur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lf- life ( 3 days)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nce daily dos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o effect on  cytochrome  P- 45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6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6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6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6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8039"/>
                            </p:stCondLst>
                            <p:childTnLst>
                              <p:par>
                                <p:cTn id="6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872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6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6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inical uses of Macrolid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09120" y="2976480"/>
            <a:ext cx="63486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hlamydial pneumo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egionella pneumo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gradFill rotWithShape="0">
            <a:gsLst>
              <a:gs pos="0">
                <a:srgbClr val="efea2b"/>
              </a:gs>
              <a:gs pos="50000">
                <a:srgbClr val="ffffff"/>
              </a:gs>
              <a:gs pos="100000">
                <a:srgbClr val="efea2b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Objectives of the lectur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0680" y="2163240"/>
            <a:ext cx="7510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 the end of lecture , the students should be able to understand the following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types of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antibiotics that are commonly use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treat respiratory tract infections and thei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de effec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derstand the mechanism of action, pharmacokinetics of individual dru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63482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6" name="Picture 2" descr="G:\2011-01-12\Fig.32-15(1).JPG"/>
          <p:cNvPicPr/>
          <p:nvPr/>
        </p:nvPicPr>
        <p:blipFill>
          <a:blip r:embed="rId1"/>
          <a:stretch/>
        </p:blipFill>
        <p:spPr>
          <a:xfrm>
            <a:off x="533520" y="1295280"/>
            <a:ext cx="7391160" cy="4191120"/>
          </a:xfrm>
          <a:prstGeom prst="rect">
            <a:avLst/>
          </a:prstGeom>
          <a:ln w="0">
            <a:noFill/>
          </a:ln>
        </p:spPr>
      </p:pic>
      <p:sp>
        <p:nvSpPr>
          <p:cNvPr id="287" name="Title 1"/>
          <p:cNvSpPr/>
          <p:nvPr/>
        </p:nvSpPr>
        <p:spPr>
          <a:xfrm>
            <a:off x="533520" y="5722920"/>
            <a:ext cx="6086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ypersensitivity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Content Placeholder 3" descr=""/>
          <p:cNvPicPr/>
          <p:nvPr/>
        </p:nvPicPr>
        <p:blipFill>
          <a:blip r:embed="rId1"/>
          <a:stretch/>
        </p:blipFill>
        <p:spPr>
          <a:xfrm>
            <a:off x="-64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76618"/>
                </a:solidFill>
                <a:latin typeface="Trebuchet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hibit DNA Gyrase enzyme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( an enzyme involved in DNA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upercoiling)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7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609120" y="1929960"/>
            <a:ext cx="6348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ntibacterial spectrum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inly effective against G –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IPROFLOXACI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9ca3c"/>
                </a:solidFill>
                <a:latin typeface="Trebuchet MS"/>
              </a:rPr>
              <a:t>     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harmacokinetic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04920" y="685800"/>
            <a:ext cx="883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absorbed orally ( available i.v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ntrates in many tissues ( kidne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tate, lung &amp; bones/ joint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reted mainly through the ki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relatively long Half-life allows twice-daily do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Trebuchet MS"/>
              </a:rPr>
              <a:t>Clinical Use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6" name="Content Placeholder 4" descr=""/>
          <p:cNvPicPr/>
          <p:nvPr/>
        </p:nvPicPr>
        <p:blipFill>
          <a:blip r:embed="rId1"/>
          <a:stretch/>
        </p:blipFill>
        <p:spPr>
          <a:xfrm>
            <a:off x="701640" y="1494000"/>
            <a:ext cx="82296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 effect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4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ausea , vomiting , diarrh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NS effects ( confusion, insomnia, headache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nxiety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mage growing cartilage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(arthropathy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hototoxicity  ( avoid excessive sunlight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8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Contraindication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ot recommended for patients younger than 18 yea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egnanc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reast feeding wo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0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743200" y="609120"/>
            <a:ext cx="4214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THANK YO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2" name="Picture 10" descr="camel"/>
          <p:cNvPicPr/>
          <p:nvPr/>
        </p:nvPicPr>
        <p:blipFill>
          <a:blip r:embed="rId1"/>
          <a:stretch/>
        </p:blipFill>
        <p:spPr>
          <a:xfrm>
            <a:off x="533520" y="1557360"/>
            <a:ext cx="8153280" cy="45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assification of respiratory tract infe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Upper respiratory tract infections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(URTI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wer respiratory tract infections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(LRTI)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SCAN002"/>
          <p:cNvPicPr/>
          <p:nvPr/>
        </p:nvPicPr>
        <p:blipFill>
          <a:blip r:embed="rId1"/>
          <a:stretch/>
        </p:blipFill>
        <p:spPr>
          <a:xfrm>
            <a:off x="10439280" y="0"/>
            <a:ext cx="381240" cy="910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Object 2"/>
          <p:cNvGraphicFramePr/>
          <p:nvPr/>
        </p:nvGraphicFramePr>
        <p:xfrm>
          <a:off x="457200" y="990720"/>
          <a:ext cx="7848720" cy="541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78487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auses of URTI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,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Viruses</a:t>
            </a:r>
            <a:r>
              <a:rPr b="0" lang="en-US" sz="34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ver 200 different types hav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een isolated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(Should not be treated with antibiotic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reatment: rest and plenty of fluids, OTC cold, pain reliever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Bacteria</a:t>
            </a: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inly Group A streptococcus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H. influenza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reatment: Antibiotics. The type depends  o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ype of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Sensitivity te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LRTI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Bronchitis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Acut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(Mostly due to viruses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hronic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Acute exacerbation of chronic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bronchitis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Pneumonia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ommunity –acquired(CAP)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Hospital-acquired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RTI’s are more 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costly to treat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nd generally 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more serious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han URTI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Causes of LRTI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Bacteria mainly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Streptococcus pneumonia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**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Haemophilus influenz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Moraxella catarrhalis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Antibiotics used in the treatment of RTI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eta lactam antibiotics  (Penicillins /  Cephalosporins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rolid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oroquinolon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inoglycosid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oxycyclin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05:49:35Z</dcterms:created>
  <dc:creator>Dr. Philip L. Pokorski</dc:creator>
  <dc:description/>
  <dc:language>en-US</dc:language>
  <cp:lastModifiedBy>ALHUMAYYA</cp:lastModifiedBy>
  <cp:lastPrinted>2015-02-02T09:39:57Z</cp:lastPrinted>
  <dcterms:modified xsi:type="dcterms:W3CDTF">2015-02-02T10:53:21Z</dcterms:modified>
  <cp:revision>210</cp:revision>
  <dc:subject/>
  <dc:title>Respiratory System</dc:title>
</cp:coreProperties>
</file>