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E2A-BE7A-4BA1-A5BA-B2E13205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83C-81EB-4E65-A66B-B9E4D5A97FB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04F6-6C75-4ACB-96E3-874685EC1B5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F79-E5BC-4C62-AFA8-CD22FAF829B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283-8FF8-4DF4-B34F-DCBF8C3F73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8578-F7E2-4BE5-A17D-4886195362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FD96-F828-45D9-9951-740FB0FA55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92A0-04AE-4B5E-B06E-7A82ABF0E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E0EE-F406-47B5-814B-CA3F970C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C86-A15F-4196-BB45-0D61BDC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BDE-5609-4296-BA46-8B222713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3EF-F812-4531-8403-843196FE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8B8-0BF6-4E11-966E-D789313F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D6E7-40BD-4D61-AC2D-9BDA2808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1935-71FC-4A7D-8D7C-41A2AD7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053A-8556-4CED-A2B6-0AB38955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623B-5DFC-40A2-9C50-C3706D2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FB27-03A6-4361-BEFC-88894E4C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C530-C094-4634-9123-D751F57D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BECC-712F-4C0C-8484-283669D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BFC-1101-4B0D-BE56-3B647845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A7A4-BA74-4CBC-9621-EBDCFAD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59A-E4BA-44F1-B232-4F3A0D1A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1238-A1CB-4DF4-9E36-3A9F637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2135-CE12-482F-B63A-D373706E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A5AD-151E-45E4-8D5B-DED904CC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1BCC-125E-44AC-B6FD-8B3A76E7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CF8C-CB85-4A2D-9BD9-F732FE9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8E0B-65FD-4A48-8BB1-564A084D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E70E-A172-42E9-A0C9-C0430DA1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8F61-180F-4946-898C-CD6DF0B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BE0-4434-4E1A-835A-7640C7B3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5A04-05B2-403C-86A8-41C86E3A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3F51-3C97-4397-93B5-D9385499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37F1-2B1E-444F-8B6D-62389A0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E56B-28AB-4F4C-A5CF-DD15C96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1CC7-1C49-43A7-A531-2B677368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B2F4-2C1B-42CE-AF78-FDE4604D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0889-CB83-41EF-B49B-9844B8B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FEA6-1C14-4B66-8F7D-ABADFC6E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F5CA-5AA0-4C3E-9A7A-99D5D6D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8AD59-D26D-42B4-B592-F4688ECC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78A-330B-4A1E-8C3A-AB10C19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BFD3-E3DE-40FB-8A5C-B1963E9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04E5-4E07-4782-87C8-69C0402C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2636-45DE-4E00-A19A-D926EEBC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6B43-F777-4103-BBC7-095FBD1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B0DD-2653-40AD-A418-439DAB1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E272-CB9A-422F-B194-D22362A4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2A956-64CE-4969-BF89-18E32DCD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73FC-51AD-4B8A-9294-C61B4563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49A1-1F3B-4DCF-8A46-639EA216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1D1-7065-4336-9B14-AD64672C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667-1A41-46D1-A7FA-5E929F66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28D-31D1-473C-8099-252B731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242-9D18-477E-9B0C-47913B3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A04-9A12-4421-A82E-9653FD4A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EBAE-29B8-43D5-83BC-7607D73AEDA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C65-26EF-401E-B3D5-BB789BA8CA4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7A7B-13FE-4B72-90CC-556297E21C3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0AF8-880B-4BEA-81E0-FADB3846049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Amoxicill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Ampicill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ts on both gram + ve gram - v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croorganisms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troyed by  </a:t>
            </a:r>
            <a:r>
              <a:rPr b="1" lang="el-GR" sz="28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-lactamase enzym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transpeptidas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iven orally or parentrall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reted mostly unchanged in ur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lf-life  30-60 min ( increased in renal failure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gram positive beta-hemolytic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3600" spc="-1" strike="noStrike">
                <a:solidFill>
                  <a:srgbClr val="c42f1a"/>
                </a:solidFill>
                <a:latin typeface="Trebuchet MS"/>
              </a:rPr>
              <a:t>β</a:t>
            </a: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-Lactamase inhibito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1600200"/>
            <a:ext cx="6705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mselves have no antibacterial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y inactivate </a:t>
            </a:r>
            <a:r>
              <a:rPr b="1" lang="el-GR" sz="2400" spc="-1" strike="noStrike">
                <a:solidFill>
                  <a:srgbClr val="0070c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-lactamase 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ox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p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1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microorganism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8080" y="1905120"/>
            <a:ext cx="640080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Prof. Mohammad Alhumayy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Ext. 7135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480" y="2160360"/>
            <a:ext cx="7391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Uses of 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 on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ral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liminated via biliary excretion (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5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cidal at high concentr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6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7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09120" y="1929960"/>
            <a:ext cx="6348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IPROFLOXACI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04920" y="68580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absorbed orally ( available i.v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allows twice-dail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headache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growing cartilage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  ( 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2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ver 200 different types hav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een isolated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OTC cold,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Mostly due to viruses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 exacerbation of chronic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RTI’s are more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stly to treat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nd generally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more serious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an URTI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auses of 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Bacteria mainl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Streptococcus pneumonia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**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Haemophilus influenz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Moraxella catarrhalis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ALHUMAYYA</cp:lastModifiedBy>
  <cp:lastPrinted>2015-02-02T09:39:57Z</cp:lastPrinted>
  <dcterms:modified xsi:type="dcterms:W3CDTF">2015-02-02T10:53:21Z</dcterms:modified>
  <cp:revision>210</cp:revision>
  <dc:subject/>
  <dc:title>Respiratory System</dc:title>
</cp:coreProperties>
</file>