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4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laser.wav" ContentType="audio/x-wav"/>
  <Override PartName="/ppt/media/image4.png" ContentType="image/png"/>
  <Override PartName="/ppt/media/image14.jpeg" ContentType="image/jpeg"/>
  <Override PartName="/ppt/media/image13.jpeg" ContentType="image/jpeg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7.jpeg" ContentType="image/jpeg"/>
  <Override PartName="/ppt/media/image11.png" ContentType="image/png"/>
  <Override PartName="/ppt/media/image8.wmf" ContentType="image/x-wmf"/>
  <Override PartName="/ppt/media/image9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DA37-52FC-47CF-B752-E72E967864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C8C6-8159-461F-A837-25A1079748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F047-9C9D-471A-8ACE-71BEDA958BC4}" type="slidenum">
              <a:rPr b="0" lang="ar-EG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A65D-7BA2-4961-B2CA-F6B0C8F1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85CB-BE62-4803-B152-F944FDCB3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AB6E-E4FC-425B-B298-C35CB8F4F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4556-997F-4B3F-96F3-B450AD9B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7DDC-1ECA-44CD-AFE2-0F9AFC4C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55E1-9290-45F8-B001-704F0244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042F-8755-4A81-AF10-E63AE9A6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DF2C-8B84-4157-B4C9-42B27DF7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E64D-C3A1-4716-AA75-D6BECA37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D64E-AFFF-411F-9188-18200B4B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BA23-E050-43AA-89A4-A7701FC7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FBDC-5DA3-476D-A099-4FC9AD7E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8DAE-4961-4FCA-9129-37D6F9539A32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4000" y="382320"/>
            <a:ext cx="8193240" cy="17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logy of drugs used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asthma &amp; COP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5920" y="2100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s. Abdulqader Alhaider @ Hanan Hag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35 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5600" y="3967200"/>
            <a:ext cx="27115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382920" y="2556000"/>
            <a:ext cx="22860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" name="Picture 6" descr="respiratory"/>
          <p:cNvPicPr/>
          <p:nvPr/>
        </p:nvPicPr>
        <p:blipFill>
          <a:blip r:embed="rId1"/>
          <a:stretch/>
        </p:blipFill>
        <p:spPr>
          <a:xfrm>
            <a:off x="252360" y="249120"/>
            <a:ext cx="865188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82520" y="276120"/>
            <a:ext cx="8818560" cy="636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ims of anti asthmatic drugs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lieve acute episodic attacks of asthma </a:t>
            </a:r>
            <a:r>
              <a:rPr b="1" i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bronchodilators, quick relief medications).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duce the frequency of attacks, and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cturnal awakenings </a:t>
            </a:r>
            <a:r>
              <a:rPr b="1" i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nti-inflammatory drugs, prophylactic or control therapy ).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065320" y="255600"/>
            <a:ext cx="46195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ti asthmatic dru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14480" y="866880"/>
            <a:ext cx="4438440" cy="575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ronchodilato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Quick relief medic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 acute episodic attack of asth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acting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agon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uscari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anthine prepa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629240" y="885960"/>
            <a:ext cx="4371840" cy="575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ti-inflammatory Agents</a:t>
            </a:r>
            <a:r>
              <a:rPr b="1" lang="en-US" sz="28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ntrol medications or prophylactic therap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the frequency of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ticostero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 cell stabiliz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trienes antagon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gE monoclonal anti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acting ß2-agonis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77560" y="299520"/>
            <a:ext cx="8607240" cy="62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nti asthmatic dru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onchodilators : (Quick relief medica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used to relieve acute attack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constr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- adrenoreceptor agonis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ntimuscarin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Xanthine prepa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2160" y="246240"/>
            <a:ext cx="848052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ympathomimetic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 adrenoceptor 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 of A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on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imulate adenyl cyclas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rease cAMP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bronchodilatio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 mediators release from mast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mucus clearance by (increas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liary activit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 rot="5460000">
            <a:off x="1528560" y="-995040"/>
            <a:ext cx="6248520" cy="91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79360" y="286920"/>
            <a:ext cx="860904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lassification of </a:t>
            </a:r>
            <a:r>
              <a:rPr b="1" lang="en-US" sz="34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 selective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agonis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nephrine – Isoprenaline (Obse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ive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 –agonists (Preferab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. Short Ac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butamol (Albutero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buta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B. Long Ac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met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t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68200" y="228240"/>
            <a:ext cx="86853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n selective </a:t>
            </a:r>
            <a:r>
              <a:rPr b="1" lang="en-US" sz="36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agonis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pineph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 bronchodi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action (maximum effect within 15 mi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C. or by inhalation (aerosol or nebulize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short duration of action (60-90 m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ug of choi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ute anaphylax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ypersensitivity react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te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nephrine good for both the hypotension and Bronchoconstrictio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90440" y="114120"/>
            <a:ext cx="8640720" cy="63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advantag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effective or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glycem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S side effec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chycardia, arrhythmia, hyperten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eletal muscle trem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uitable for asthmatic patients with    hypertension or heart fail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ntraindication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S patients, diabetic patien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6840" y="123480"/>
            <a:ext cx="8783640" cy="63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ive 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 –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of choice for acute attack of asthma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mainly given by 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halatio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etered dose inhaler or nebulizer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given orally, parenterally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hort acting ß2 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albutamol (Ventoline</a:t>
            </a:r>
            <a:r>
              <a:rPr b="0" lang="en-US" sz="3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erbutalin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ng acting ß2 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al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terol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or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tero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49120" y="285480"/>
            <a:ext cx="8609040" cy="62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orders of Respiratory Fun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66"/>
                </a:solidFill>
                <a:latin typeface="Times New Roman"/>
              </a:rPr>
              <a:t>Main disorders of the respiratory system are 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Bronchial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ou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llergic rhin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Chronic obstructive pulmonary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PD, also called emphysem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90440" y="114120"/>
            <a:ext cx="8640720" cy="63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bulizer                           Inha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http://t2.gstatic.com/images?q=tbn:HMXOaS3Khjl4XM:http://drwaqipedia.files.wordpress.com/2009/08/steroid-inhaler.jpg"/>
          <p:cNvPicPr/>
          <p:nvPr/>
        </p:nvPicPr>
        <p:blipFill>
          <a:blip r:embed="rId1"/>
          <a:stretch/>
        </p:blipFill>
        <p:spPr>
          <a:xfrm>
            <a:off x="5111640" y="831960"/>
            <a:ext cx="2691000" cy="2401920"/>
          </a:xfrm>
          <a:prstGeom prst="rect">
            <a:avLst/>
          </a:prstGeom>
          <a:ln w="9360">
            <a:solidFill>
              <a:srgbClr val="696969">
                <a:alpha val="0"/>
              </a:srgbClr>
            </a:solidFill>
            <a:miter/>
          </a:ln>
        </p:spPr>
      </p:pic>
      <p:pic>
        <p:nvPicPr>
          <p:cNvPr id="75" name="Picture 5" descr="http://t3.gstatic.com/images?q=tbn:IxlfQqK05w844M:http://aiscracker.com/wp-content/uploads/2009/09/nebulizer.jpg"/>
          <p:cNvPicPr/>
          <p:nvPr/>
        </p:nvPicPr>
        <p:blipFill>
          <a:blip r:embed="rId2"/>
          <a:stretch/>
        </p:blipFill>
        <p:spPr>
          <a:xfrm>
            <a:off x="595440" y="841320"/>
            <a:ext cx="2900160" cy="2033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220px-Jet_nebulizer"/>
          <p:cNvPicPr/>
          <p:nvPr/>
        </p:nvPicPr>
        <p:blipFill>
          <a:blip r:embed="rId3"/>
          <a:stretch/>
        </p:blipFill>
        <p:spPr>
          <a:xfrm>
            <a:off x="577800" y="2976480"/>
            <a:ext cx="3008520" cy="244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4"/>
          <a:stretch/>
        </p:blipFill>
        <p:spPr>
          <a:xfrm>
            <a:off x="4911840" y="3257640"/>
            <a:ext cx="3036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71360" y="199800"/>
            <a:ext cx="8801280" cy="64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ng acting selective ß2 agonis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lmeterol &amp; formotero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acting bronchodilators (12 hou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high lipid solubility (creates depot eff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given by inha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re not used to relie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ute episodes of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nocturnal asthm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ong acting reliever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d with inhaled corticosteroids to control asthma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ecreases the number and severity of asthma attacks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86840" y="182520"/>
            <a:ext cx="8782200" cy="648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antages of ß2 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CVS side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table for asthmatic patients with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 or heart fail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advantages of ß2 agonist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eletal muscle trem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ous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e (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ß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ceptors down regulat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chycardia over dose (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stimulat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45880" y="209160"/>
            <a:ext cx="8783640" cy="64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hort acting ß2 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lbutamol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halation, orally, i.v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rbutaline,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ation, orally, s.c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rapid onset of action (15-30 min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duration of action (4-6 hr)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symptomatic treatment of acute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sodic attack of asthma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08080" y="227160"/>
            <a:ext cx="8735760" cy="63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uscarinic ant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pratropium – Tiotrop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by blocking muscarinic recep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erosol inha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ternary derivatives of atropine therefor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diffuse into the blood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enter CNS, minimal systemic side eff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ed onset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pratrop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short duration of action 3-5 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otropiu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longer duration of action (24 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83" name="Oval 4"/>
          <p:cNvSpPr/>
          <p:nvPr/>
        </p:nvSpPr>
        <p:spPr>
          <a:xfrm>
            <a:off x="-1428840" y="5357880"/>
            <a:ext cx="914400" cy="914400"/>
          </a:xfrm>
          <a:prstGeom prst="ellipse">
            <a:avLst/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139840" y="6226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139840" y="6083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2139840" y="6154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2124000" y="609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 rot="5460000">
            <a:off x="1528560" y="-995040"/>
            <a:ext cx="6248520" cy="91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82160" y="175680"/>
            <a:ext cx="8699400" cy="634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dynamic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 bronchoconstriction and mucus secre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effective than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agon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nti-inflammatory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choice in chronic obstructive pulmonary diseases (COPD).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cute severe asthma combined with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agonists &amp; steroi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23480" y="123840"/>
            <a:ext cx="883908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thylxanthi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phylline – Aminophyllin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ophyline with ethylenediamine  in 2:1 ratio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 of Action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 phosphodiestrase inhibitor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P </a:t>
            </a:r>
            <a:r>
              <a:rPr b="1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bronchodilation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Adenosine receptors antagonists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1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diaphragmatic contrac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zation of mast cell membran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 rot="5460000">
            <a:off x="1528560" y="-995040"/>
            <a:ext cx="6248520" cy="91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77920" y="258840"/>
            <a:ext cx="860400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sth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hma is a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chronic inflammatory disord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airways that result in airwa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truction in response to external stimu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 pollen grains, cold air and tobacco smok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900000" y="477720"/>
            <a:ext cx="3062520" cy="87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onchod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812880" y="3013200"/>
            <a:ext cx="3168720" cy="83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onchia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982800" y="5442120"/>
            <a:ext cx="3273120" cy="82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onchoconstri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Line 9"/>
          <p:cNvSpPr/>
          <p:nvPr/>
        </p:nvSpPr>
        <p:spPr>
          <a:xfrm>
            <a:off x="2176560" y="3878280"/>
            <a:ext cx="12600" cy="147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2166840" y="1509840"/>
            <a:ext cx="12960" cy="1471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5070600" y="811080"/>
            <a:ext cx="2265120" cy="41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enyl cycl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5194440" y="3230640"/>
            <a:ext cx="2904840" cy="506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hosphodiester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4495680" y="210960"/>
            <a:ext cx="954360" cy="4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4578480" y="2178000"/>
            <a:ext cx="1022400" cy="42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21"/>
          <p:cNvSpPr/>
          <p:nvPr/>
        </p:nvSpPr>
        <p:spPr>
          <a:xfrm>
            <a:off x="4727520" y="5526000"/>
            <a:ext cx="1881360" cy="58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,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Line 23"/>
          <p:cNvSpPr/>
          <p:nvPr/>
        </p:nvSpPr>
        <p:spPr>
          <a:xfrm flipH="1">
            <a:off x="2441160" y="2130480"/>
            <a:ext cx="192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6485040" y="1895400"/>
            <a:ext cx="2263680" cy="492120"/>
          </a:xfrm>
          <a:prstGeom prst="rect">
            <a:avLst/>
          </a:prstGeom>
          <a:solidFill>
            <a:srgbClr val="17bb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-agon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6045120" y="4253040"/>
            <a:ext cx="2263680" cy="492120"/>
          </a:xfrm>
          <a:prstGeom prst="rect">
            <a:avLst/>
          </a:prstGeom>
          <a:solidFill>
            <a:srgbClr val="17bb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ophyl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26"/>
          <p:cNvSpPr/>
          <p:nvPr/>
        </p:nvSpPr>
        <p:spPr>
          <a:xfrm>
            <a:off x="2246400" y="4424400"/>
            <a:ext cx="2265120" cy="41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enos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Line 27"/>
          <p:cNvSpPr/>
          <p:nvPr/>
        </p:nvSpPr>
        <p:spPr>
          <a:xfrm>
            <a:off x="5008680" y="2652840"/>
            <a:ext cx="0" cy="26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Line 28"/>
          <p:cNvSpPr/>
          <p:nvPr/>
        </p:nvSpPr>
        <p:spPr>
          <a:xfrm>
            <a:off x="4989600" y="689040"/>
            <a:ext cx="12600" cy="147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Line 19"/>
          <p:cNvSpPr/>
          <p:nvPr/>
        </p:nvSpPr>
        <p:spPr>
          <a:xfrm flipH="1" flipV="1">
            <a:off x="7126200" y="1131480"/>
            <a:ext cx="479520" cy="72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ine 20"/>
          <p:cNvSpPr/>
          <p:nvPr/>
        </p:nvSpPr>
        <p:spPr>
          <a:xfrm flipH="1" flipV="1">
            <a:off x="7184520" y="3642840"/>
            <a:ext cx="638280" cy="5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0" y="123840"/>
            <a:ext cx="9144000" cy="64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harmacological effects 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muscle relax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ction of diaphragm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mprove venti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V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heart rate, ↑ force of cont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IT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gastric acid secr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Kidney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renal blood flow, weak diuretic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NS st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stimulant effect on respiratory cen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decrease fatigue &amp; elevate moo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overdose (tremors, nervousness, insomnia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uls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42560" y="190440"/>
            <a:ext cx="87390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kinet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zed by Cyt P450 enzymes in liv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½= 8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many drug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inducer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phenobarbitone-rifampicin → ↑metabolism of theophylline → ↓ T 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inhibitor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rythromycin→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theophylline → ↑T 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90440" y="189000"/>
            <a:ext cx="8677440" cy="63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</a:t>
            </a:r>
            <a:r>
              <a:rPr b="1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line drug in asthma (theophylli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tatus asthmatics (aminophylline,  is given a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infusion).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Why not theophylline?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ow therapeutic index</a:t>
            </a:r>
            <a:r>
              <a:rPr b="1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rrow safety marg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 of theophylline blood level is necessary.</a:t>
            </a:r>
            <a:r>
              <a:rPr b="1" i="1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VS effects:</a:t>
            </a:r>
            <a:r>
              <a:rPr b="1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ension, arrhythm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IT effects:</a:t>
            </a:r>
            <a:r>
              <a:rPr b="1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sea &amp; vo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NS  side effects:</a:t>
            </a:r>
            <a:r>
              <a:rPr b="1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mors, nervousness,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somni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nvul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2. Anti-inflammatory Drugs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airway hypersensitivity is related the degree of inflammation; anti-inflammatory drugs are considered one of the most effective drugs in the treatment of chronic and acute types of asthm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10960" y="338040"/>
            <a:ext cx="87379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nti - inflammatory Ag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control medications / prophylactic therap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mber of inflammatory cells in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ways and prevent blood vessels from leak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id into the airway tissues. By redu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tion, they reduce the spasm of airw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bronchial hyper-reactiv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18600" y="279360"/>
            <a:ext cx="8525160" cy="63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ti - inflammatory agent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cortic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trienes ant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 cell stabilize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gE monoclonal antibody (omalizumab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54160" y="182520"/>
            <a:ext cx="861696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lucocorticoi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ospholipase A2  therefore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↓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aglandin and leukotrie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↓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inflammatory cells in airway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st cell stabilization →↓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stamine relea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↓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llary permeability and mucosal edem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antigen-antibody rea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pregulate </a:t>
            </a:r>
            <a:r>
              <a:rPr b="1" lang="el-GR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β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 receptor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ave additive effect to </a:t>
            </a:r>
            <a:r>
              <a:rPr b="1" lang="el-GR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β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onist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rcRect l="0" t="8272" r="0" b="11029"/>
          <a:stretch/>
        </p:blipFill>
        <p:spPr>
          <a:xfrm>
            <a:off x="168120" y="157320"/>
            <a:ext cx="8786880" cy="64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logical actions of glucocortic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nflammatory ac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seful effec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nosuppressant effec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seful effec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c effec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de Effec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glycem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20000"/>
              </a:lnSpc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↑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in catabolism,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tein anabo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on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ipolysi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 redistrib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eralocorticoid effects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doster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dium/fluid retention (hypertens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otassium excretion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hypokalemi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blood volume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hypertens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1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39760" y="237960"/>
            <a:ext cx="8724960" cy="58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haracters of airways in asthmatic patients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irway hyper-reactivity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normal sensitivity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irways to wide range of external stimuli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flam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ck mucus produ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onchospas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striction of the bronchial muscles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havioral changes: de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ne loss (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osteoporo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u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 bone 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10000"/>
              </a:lnSpc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ium absorp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54160" y="258840"/>
            <a:ext cx="8710560" cy="63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outes of administr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ation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udesonide &amp; Fluticasone, Beclometas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inhalation, given by metered-dose inhaler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choice in asthma, less side effe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ly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nisone, methyl prednisol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cortisone, dexamethas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te :Both have first pass metabolism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74680" y="235080"/>
            <a:ext cx="8626320" cy="63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lucocorticoids in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ronchial inflam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ronchial hyper-reactivity to stimu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delayed onset of actio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effect usually attained after 2-4 week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action at 9-12 mon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s prophylactic medications, used alone or combined with beta-agon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in allergic, exercise, antigen and irritant-induced asthm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22120" y="239760"/>
            <a:ext cx="8739360" cy="64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stemic corticosteroids are reserved for: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asthmaticus (i.v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ed steroids should be conside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dult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with any of the following fe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inhaled β2  agonists three times/w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atic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ti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week or more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wak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nigh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we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linical Uses of glucocorticoi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tory disorder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sthma, rheumatoid arthriti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immune disorder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cerative colitis, psoriasis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fter organ or bone marrow transplant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emetic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ncer chemotherap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  <p:sndAc>
      <p:stSnd>
        <p:snd r:embed="rId1" name="laser.wav"/>
      </p:stSnd>
    </p:sndAc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04840" y="212760"/>
            <a:ext cx="87818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 due to systemic corticoster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al suppress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th retardation in childr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eoporos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id retention, weight gain, hyperten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glycem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ceptibility to infe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auco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rac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 distribution, wasting of the musc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ychos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28240" y="299880"/>
            <a:ext cx="86612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halation has very less side effec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opharyngeal candidiasis (thrus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sphonia (voice hoarsen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ithdraw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upt stop of 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or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rticosteroids should be avoided and dose should be tapere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renal insufficiency syndrome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03040" y="291960"/>
            <a:ext cx="8678880" cy="62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st cell stabiliz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romolyn (cromoglycate) </a:t>
            </a:r>
            <a:r>
              <a:rPr b="1" i="1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 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edocromi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by stabilization of mast cell membr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inhalation (aerosol, microfine powder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bulize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poor oral absorption (10%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40840" y="245880"/>
            <a:ext cx="86886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dynam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ffective in acute attack of 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phylac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ti-inflammatory dr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ronchial hyper-reactivity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in exercise, antigen and irritant-indu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respond better than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58760" y="250560"/>
            <a:ext cx="8794800" cy="63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hylactic therapy in asthma especially in child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rgic rhinit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nctivit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ter t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r upper respiratory tract irritation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urning sensation, nasal conges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263520" y="6490440"/>
            <a:ext cx="84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link.brightcove.com/services/player/bcpid236059233?bctid=34780680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صورة 1" descr="Figure A shows the location of the lungs and airways in the body. Figure B shows a cross-section of a normal airway. Figure C shows a cross-section of an airway during asthma symptoms."/>
          <p:cNvPicPr/>
          <p:nvPr/>
        </p:nvPicPr>
        <p:blipFill>
          <a:blip r:embed="rId1"/>
          <a:stretch/>
        </p:blipFill>
        <p:spPr>
          <a:xfrm>
            <a:off x="85680" y="155520"/>
            <a:ext cx="885528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9680" y="471600"/>
            <a:ext cx="81471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520" y="194760"/>
            <a:ext cx="8740800" cy="64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kotrienes ant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kotrienes</a:t>
            </a:r>
            <a:r>
              <a:rPr b="1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d by the action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-lipoxygena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chidonic aci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sized by inflammatory cells found in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ways (eosinophils, macrophages, mast cell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kotriene B4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otaxis of neutroph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ysteinyl leukotrienes C4, D4 &amp; E4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constri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bronchial hyper-reactiv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osal edema, mucus hyper-secretion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rcRect l="0" t="8272" r="0" b="11029"/>
          <a:stretch/>
        </p:blipFill>
        <p:spPr>
          <a:xfrm>
            <a:off x="233280" y="236520"/>
            <a:ext cx="8472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12760" y="186840"/>
            <a:ext cx="8726400" cy="640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90400" indent="-590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kotriene receptor antagonists</a:t>
            </a:r>
            <a:r>
              <a:rPr b="1" lang="en-US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Zafirlukast, Montelukast, Pranluk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elective, reversible antagonists of cysteinyl leukotriene receptor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ysL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or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n or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re bronchodila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anti-inflammatory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effective than inhaled corticoster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glucocorticoids sparing effect (potentiate corticosteroid act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rcRect l="7212" t="61389" r="14424" b="2232"/>
          <a:stretch/>
        </p:blipFill>
        <p:spPr>
          <a:xfrm>
            <a:off x="317520" y="198360"/>
            <a:ext cx="830412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53800" y="299880"/>
            <a:ext cx="8646840" cy="619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 of leukotriene receptor ant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not effective to relieve acute attack of asthm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hylax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mild to moderate asthma. Lik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spirin-induced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ntigen and exercise-induced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combined with glucocorticoids 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dditive effects, low dose of glucocorticoids can be used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vation of liver enzymes, headache, dyspep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06280" y="239760"/>
            <a:ext cx="8623440" cy="64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malizuma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monoclonal antibody directed against 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uman IgE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s IgE binding with its receptors on mast cells &amp; basophile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↓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ase of allergic mediator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reatment of allergic asthma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ive-not first line therapy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59"/>
                </a:solidFill>
                <a:latin typeface="Calibri"/>
              </a:rPr>
              <a:t>Anti-immunoglobulin E (e.g. Omalizumab)</a:t>
            </a:r>
            <a:br>
              <a:rPr sz="4400"/>
            </a:br>
            <a:r>
              <a:rPr b="0" lang="en-US" sz="4400" spc="-1" strike="noStrike">
                <a:solidFill>
                  <a:srgbClr val="e40059"/>
                </a:solidFill>
                <a:latin typeface="Calibri"/>
              </a:rPr>
              <a:t>MOA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ive anti-IgE monoclonal antibody that binds to IgE and prevents its association with IgE receptors, thus preventing allergen from activating mast cells or basophi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reases serum I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e to the above effects, omalizumab decreases the numbers of eosinophils, T and B lymphocy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400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9"/>
                </a:solidFill>
                <a:latin typeface="Calibri"/>
              </a:rPr>
              <a:t>Use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resistance type of asthma and allergic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rhinit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400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9"/>
                </a:solidFill>
                <a:latin typeface="Calibri"/>
              </a:rPr>
              <a:t>Side effects and Limitation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usion side effects and  very expensiv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"/>
          <p:cNvPicPr/>
          <p:nvPr/>
        </p:nvPicPr>
        <p:blipFill>
          <a:blip r:embed="rId1">
            <a:lum bright="-16000"/>
          </a:blip>
          <a:srcRect l="28847" t="20432" r="18030" b="21634"/>
          <a:stretch/>
        </p:blipFill>
        <p:spPr>
          <a:xfrm>
            <a:off x="1838160" y="176040"/>
            <a:ext cx="5072400" cy="649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9720" y="2602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alibri"/>
              </a:rPr>
              <a:t>Drugs used in COP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95120" y="1246320"/>
            <a:ext cx="875376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P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chronic irreversible airflow obstruction, lung damage and inflammation of the air sacs (alveoli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ing is a high risk fact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ed bronchodi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ed glucocortico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ygen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23560" y="390600"/>
            <a:ext cx="8745480" cy="61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biotics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ally macrolides such as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zithromyc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the number of exacerbations.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ng transplant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77920" y="258840"/>
            <a:ext cx="863280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ymptoms of asth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thma produces recurrent episodic attack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bronchoconstr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ness of br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st tight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ez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re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mptoms can happen each time the airway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re irritated by inhaled irritants or allerge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9720" y="259920"/>
            <a:ext cx="8229600" cy="5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reatment of COP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955440"/>
            <a:ext cx="878364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haled bronchodil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ed antimuscarinics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re superior to β2 agonists in COP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2 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rugs can be used either alone 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butamol + ipratropi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meterol + Tiotropium </a:t>
            </a:r>
            <a:r>
              <a:rPr b="0" i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long acting-less dose frequency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684360" y="476280"/>
            <a:ext cx="806436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Arial"/>
              </a:rPr>
              <a:t>Does treatment of COPD differs from bronchial Asthm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ntimuscarenic drugs like Ipratropium is preferred for COPD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hort act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2-adrenergic agonist is used like for Asth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However, oral or  inhaled corticosteriods are only used for  severe form of COPD.  Why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ucolytics like Acetylcy</a:t>
            </a:r>
            <a:r>
              <a:rPr b="0" lang="en-US" sz="2400" spc="-1" strike="noStrike">
                <a:solidFill>
                  <a:srgbClr val="e40059"/>
                </a:solidFill>
                <a:latin typeface="Calibri"/>
                <a:ea typeface="Arial"/>
              </a:rPr>
              <a:t>ste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 may be u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outine administration of Oxygen may be included for advanced ca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>
            <a:lum bright="-18000"/>
          </a:blip>
          <a:srcRect l="21484" t="4934" r="15625" b="0"/>
          <a:stretch/>
        </p:blipFill>
        <p:spPr>
          <a:xfrm>
            <a:off x="114480" y="25560"/>
            <a:ext cx="8894520" cy="68040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2"/>
          <p:cNvSpPr/>
          <p:nvPr/>
        </p:nvSpPr>
        <p:spPr>
          <a:xfrm>
            <a:off x="210960" y="274680"/>
            <a:ext cx="2930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31640" y="800280"/>
            <a:ext cx="828072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64960" y="635040"/>
          <a:ext cx="8672760" cy="5883120"/>
        </p:xfrm>
        <a:graphic>
          <a:graphicData uri="http://schemas.openxmlformats.org/drawingml/2006/table">
            <a:tbl>
              <a:tblPr/>
              <a:tblGrid>
                <a:gridCol w="3533760"/>
                <a:gridCol w="3578400"/>
                <a:gridCol w="156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99"/>
                          </a:solidFill>
                          <a:latin typeface="Times New Roman"/>
                          <a:ea typeface="Times New Roman"/>
                        </a:rPr>
                        <a:t>Dru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B2 agonists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butamol, terbutali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 ac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ain choic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 acute attack of asth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enyl cycl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meterol, formote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 acting, Prophylaxi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cturnal asth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ntimuscarin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pratropium (Shor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otropium (lo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ain drugs For COP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cks M recepr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anthine deriva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ophyl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inophyl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orall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arenterall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ibits phosphodiesteras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cA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Text Box 57"/>
          <p:cNvSpPr/>
          <p:nvPr/>
        </p:nvSpPr>
        <p:spPr>
          <a:xfrm>
            <a:off x="450720" y="68400"/>
            <a:ext cx="840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 (relievers for bronchospas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31640" y="800280"/>
            <a:ext cx="828072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92240" y="635040"/>
          <a:ext cx="8745480" cy="5979960"/>
        </p:xfrm>
        <a:graphic>
          <a:graphicData uri="http://schemas.openxmlformats.org/drawingml/2006/table">
            <a:tbl>
              <a:tblPr/>
              <a:tblGrid>
                <a:gridCol w="5913360"/>
                <a:gridCol w="283212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rticosteroid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nhibits phospholipase A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xamethasone, Fluticasone, budesoni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dnisol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drocortis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nter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ast stabiliz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omoglycate (Cromolyn), Nedocrom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, prophylaxis in childr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ysteinyl antagonist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yLT1 antagois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firluk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malizumab 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i IgE antibod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jection, S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 Box 36"/>
          <p:cNvSpPr/>
          <p:nvPr/>
        </p:nvSpPr>
        <p:spPr>
          <a:xfrm>
            <a:off x="573120" y="0"/>
            <a:ext cx="74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nflammatory drugs (prophylacti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77560" y="299520"/>
            <a:ext cx="8607240" cy="62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au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otional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sonal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rugs as aspirin,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ck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44000" y="260280"/>
            <a:ext cx="8542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irways Innervation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fferent nerves (sensory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Irritant recepto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upper airw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C-fiber recepto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ower airw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imulated by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ogenous chemic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stimuli (cold ai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genous inflammatory medi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72800" y="205920"/>
            <a:ext cx="8767800" cy="645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fferent nerves (motor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rasympathetic su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3 receptors in smooth muscles and gl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 sympathetic supply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B2 receptors in smooth muscles and g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.ALHAIDER</dc:creator>
  <dc:description/>
  <dc:language>en-US</dc:language>
  <cp:lastModifiedBy>DR.ALHAIDER</cp:lastModifiedBy>
  <dcterms:modified xsi:type="dcterms:W3CDTF">2015-02-04T14:00:55Z</dcterms:modified>
  <cp:revision>192</cp:revision>
  <dc:subject/>
  <dc:title>PowerPoint Presentation</dc:title>
</cp:coreProperties>
</file>