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laser.wav" ContentType="audio/x-wav"/>
  <Override PartName="/ppt/media/image4.png" ContentType="image/png"/>
  <Override PartName="/ppt/media/image14.jpeg" ContentType="image/jpeg"/>
  <Override PartName="/ppt/media/image13.jpeg" ContentType="image/jpeg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F8F-A4B0-46B9-BA1B-88D72456A5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1AB-6836-4986-A4A0-6D6D622AE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EC1-362F-493D-94B3-243AC7302FD7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17C-5DA4-4605-BB13-BC58198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FB8-003B-4764-88C8-2EC5224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8C1-64F8-4C57-97C9-E0C272D2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1AF-89A2-4475-976C-5D5E3182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78C-A46F-48D9-9562-ADEBC26D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FD2-628F-48D9-8B59-345D929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0AA-043F-4494-88D9-D7BC9E93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53E-BDC4-43F8-A0F6-769753E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E24-45A3-456F-82B5-1950024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9C4-81B1-472E-AC3B-EFB30E1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DD1-1EE4-41FC-A443-DB7A92B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B20-EC1D-4C60-B4D2-AB2F687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C5A0-6A0C-4CB3-9716-BD30D62CC00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s. Abdulqader Alhaider @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5 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ms of 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 attacks of asthma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bronchodilators, quick relief medications)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 frequency of attacks, and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nal awakenings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inflammatory drugs, prophylactic or control therapy )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episodic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 medications or 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 : (Quick relief med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to relieve acute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2160" y="246240"/>
            <a:ext cx="84805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cAMP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ronchodil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mediators release from mast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(increas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– Isoprenaline (Obse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. Short Ac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. Long A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68200" y="228240"/>
            <a:ext cx="8685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C. or by inhalation (aerosol or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good for both the hypotension and Bronchoconstric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of choice for acute attack of asthm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 (Vento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ero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9120" y="285480"/>
            <a:ext cx="860904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Respiratory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</a:rPr>
              <a:t>Main disorders of the respiratory system are 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ronchial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llergic rh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hronic obstructive pulmonary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PD, also called emphyse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5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2 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 lipid solubility (creates depot eff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cturnal asth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ng acting reliev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86840" y="182520"/>
            <a:ext cx="878220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2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2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ß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over dose (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stim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ymptomatic treatment of acut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sodic attack of asthm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 – Tio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therefo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, minimal systemic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Oval 4"/>
          <p:cNvSpPr/>
          <p:nvPr/>
        </p:nvSpPr>
        <p:spPr>
          <a:xfrm>
            <a:off x="-1428840" y="5357880"/>
            <a:ext cx="914400" cy="914400"/>
          </a:xfrm>
          <a:prstGeom prst="ellipse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9840" y="622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39840" y="608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39840" y="61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2400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2160" y="175680"/>
            <a:ext cx="869940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 &amp; 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– Aminophyl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ophyline with ethylenediamine  in 2:1 rati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denosine receptors antagonists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900000" y="477720"/>
            <a:ext cx="3062520" cy="8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812880" y="3013200"/>
            <a:ext cx="3168720" cy="83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ia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82800" y="5442120"/>
            <a:ext cx="327312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constr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76560" y="387828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166840" y="1509840"/>
            <a:ext cx="12960" cy="14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070600" y="811080"/>
            <a:ext cx="2265120" cy="4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5194440" y="3230640"/>
            <a:ext cx="2904840" cy="50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 flipH="1">
            <a:off x="2441160" y="213048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6485040" y="1895400"/>
            <a:ext cx="2263680" cy="492120"/>
          </a:xfrm>
          <a:prstGeom prst="rect">
            <a:avLst/>
          </a:prstGeom>
          <a:solidFill>
            <a:srgbClr val="17b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6045120" y="4253040"/>
            <a:ext cx="2263680" cy="492120"/>
          </a:xfrm>
          <a:prstGeom prst="rect">
            <a:avLst/>
          </a:prstGeom>
          <a:solidFill>
            <a:srgbClr val="17b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246400" y="4424400"/>
            <a:ext cx="2265120" cy="4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9"/>
          <p:cNvSpPr/>
          <p:nvPr/>
        </p:nvSpPr>
        <p:spPr>
          <a:xfrm flipH="1" flipV="1">
            <a:off x="7126200" y="1131480"/>
            <a:ext cx="479520" cy="72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7184520" y="3642840"/>
            <a:ext cx="6382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23840"/>
            <a:ext cx="91440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2560" y="190440"/>
            <a:ext cx="8739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-rifampicin → ↑metabolism of theophylline → ↓ T 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→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T 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hy not theophylline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safety marg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1" i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somn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. Anti-inflammatory Drug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airway hypersensitivity is related the degree of inflammation; anti-inflammatory drugs are considered one of the most effective drugs in the treatment of chronic and acute types of asth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Ag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inflammatory cells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s and prevent blood vessels from le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into the airway tissues. By re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, they 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agent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(omalizuma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4160" y="182520"/>
            <a:ext cx="861696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 therefo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recep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ful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ful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de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doster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(hypert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hypokalem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hypert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rways to wide range of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muscle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(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steopor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, given by metered-dose inhaler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:Both have first pass metabolis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4680" y="235080"/>
            <a:ext cx="8626320" cy="63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beta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2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, wasting of the mus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lyn (cromoglycate)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microfine powde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63520" y="6490440"/>
            <a:ext cx="84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520" y="194760"/>
            <a:ext cx="874080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chidonic ac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s (eosinophils, macrophages, mast cell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mucus hyper-secretio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lukast, Montelukast, Pranlu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bronchodil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sparing effect 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7212" t="61389" r="14424" b="2232"/>
          <a:stretch/>
        </p:blipFill>
        <p:spPr>
          <a:xfrm>
            <a:off x="317520" y="198360"/>
            <a:ext cx="8304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3800" y="299880"/>
            <a:ext cx="8646840" cy="619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t effective to relieve acute attack of asth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 L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06280" y="239760"/>
            <a:ext cx="862344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allergic asthm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59"/>
                </a:solidFill>
                <a:latin typeface="Calibri"/>
              </a:rPr>
              <a:t>Anti-immunoglobulin E (e.g. Omalizumab)</a:t>
            </a:r>
            <a:br>
              <a:rPr sz="4400"/>
            </a:br>
            <a:r>
              <a:rPr b="0" lang="en-US" sz="4400" spc="-1" strike="noStrike">
                <a:solidFill>
                  <a:srgbClr val="e40059"/>
                </a:solidFill>
                <a:latin typeface="Calibri"/>
              </a:rPr>
              <a:t>MOA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 anti-IgE monoclonal antibody that binds to IgE and prevents its association with IgE receptors, thus preventing allergen from activating mast cells or basoph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serum I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above effects, omalizumab decreases the numbers of eosinophils, T and B lymphoc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Calibri"/>
              </a:rPr>
              <a:t>U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resistance type of asthma and allergi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rhinit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Calibri"/>
              </a:rPr>
              <a:t>Side effects and Limitation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usion side effects and  very expensi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720" y="2602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Drugs used in COP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5120" y="1246320"/>
            <a:ext cx="87537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hronic irreversible 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is a high risk fac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COP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955440"/>
            <a:ext cx="878364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re superior to β2 agonists in 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2 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4360" y="476280"/>
            <a:ext cx="80643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ial"/>
              </a:rPr>
              <a:t>Does treatment of COPD differs from bronchial Asthm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timuscarenic drugs like Ipratropium is preferred for COPD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rt ac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adrenergic agonist is used like for Asth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wever, oral or  inhaled corticosteriods are only used for  severe form of COPD.  Wh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ucolytics like Acetylcy</a:t>
            </a:r>
            <a:r>
              <a:rPr b="0" lang="en-US" sz="2400" spc="-1" strike="noStrike">
                <a:solidFill>
                  <a:srgbClr val="e40059"/>
                </a:solidFill>
                <a:latin typeface="Calibri"/>
                <a:ea typeface="Arial"/>
              </a:rPr>
              <a:t>ste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 may b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outine administration of Oxygen may be included for advanced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000" y="260280"/>
            <a:ext cx="8542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rways Innervation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erent nerves (sensory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rritant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upp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-fiber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ow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ulat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timuli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rent nerves (moto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2 receptors in smooth muscles and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LHAIDER</dc:creator>
  <dc:description/>
  <dc:language>en-US</dc:language>
  <cp:lastModifiedBy>DR.ALHAIDER</cp:lastModifiedBy>
  <dcterms:modified xsi:type="dcterms:W3CDTF">2015-02-04T14:00:55Z</dcterms:modified>
  <cp:revision>192</cp:revision>
  <dc:subject/>
  <dc:title>PowerPoint Presentation</dc:title>
</cp:coreProperties>
</file>