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5FAA-1845-4774-9549-34206A05A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10C3-47D6-4377-8C6C-464D573365B5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6187-9227-479F-B49E-74BAD853C412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4C2C-AF15-40D6-8812-361FEEEF42DB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9714-52CE-4FD4-9994-6171C25A3DBE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9D16-36F4-43E7-A974-205A6B32FD4A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8BB8-BF35-4283-90B3-A3C3A0C9F085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93F7-1B9F-4E52-845D-7809762B51F6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E76B-F347-42DB-9A8F-C79BD9DB9DB0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C58C-50E9-45FC-A343-DDCE2F361F1F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4B9-BF63-430F-BCFC-CBEAE6EF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69B0-797B-4A09-A351-0C1BAD78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E10-4C2C-40F4-8E65-A74A0005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D8D-921A-4579-ACD8-CBE9194A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37E7-ADC3-4BB0-B914-5B26C184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AF41-E44E-49D8-9758-125A4875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C63E-27CF-4776-8286-A7653D5C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49A0-968B-4850-8BDC-10AECA16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28A8-B837-4537-BDB9-C94841B6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1A58-9D5D-4A1F-B478-AF489446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8EC5-30F6-4240-BBE2-D8696A43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3BF-C0F4-453E-96C4-CB96DC63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2BBF-0143-443A-96A3-94D6AB68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C3EF-61E2-4B7A-A44F-514ACD88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DDA3-9EC1-48C8-8941-12CFB93E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9B06-A818-4D03-98EF-2911C207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B252-9A7D-417F-8AB1-76AB07C7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45E53-5598-4DD4-BC37-C653C74E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E3697-A831-4C52-AB14-F6DF4A8B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EC673-C7D3-41DB-A874-E1EFDBD7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EF3B5-D0A8-4546-8B25-4801EF03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2AAB9-6DFB-4C34-B90E-67BC565F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DB4-4D10-4DFE-882D-C7094714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EA5D-29B0-4825-9C94-77FCF574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270A-B5C3-47BD-BF55-ED64E23F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2CDBB-A6AF-454E-9CAB-A6FFFC10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396A5-6667-492C-9110-5C6F5020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D83B-DCBC-4E9D-BE78-63ABEBC5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2FB1-33AB-446F-924F-7987AF48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CD98A-D3E3-43B5-93FA-DF25C1D1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4E8A-F02A-4861-93A3-0AD3B970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809-10AA-4523-BEB8-9A2041D2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5F7-5C4D-4395-A27D-15B39421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039-B9D8-4BF0-B193-089ADA5C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457-B67C-4E3E-AACA-5FDCFCE1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25D-07D6-4453-BCF1-3D05B778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B954-399B-4AE7-B954-CFB5D83C262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7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2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4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5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6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22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47A1-6313-4DEE-B2EE-F1A13F3F7F7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3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3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59F8-6C0B-4972-94AC-815564943953}" type="slidenum">
              <a:rPr b="0" lang="ar-S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ho.int/tb/publications/global_report/en/index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4" descr="starv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92" name="WordArt 5"/>
          <p:cNvSpPr txBox="1"/>
          <p:nvPr/>
        </p:nvSpPr>
        <p:spPr>
          <a:xfrm>
            <a:off x="1219320" y="1676520"/>
            <a:ext cx="67816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TUBERCULOSI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poster_cough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uberculo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mmon sites of infe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pical areas of lu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enal parenchy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Growing ends of b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eatment Of Tuberculo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eventing  development of drug resistance is the most important reason to use drug combinatio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eriods of treatment ( minimum 6 month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rugs are divided into two group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irst line                2.  Second lin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timycobacterial dru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64180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rst line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soniazid (INH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ifamp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thambut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yrazinamid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treptomycin (should not be the first line choic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Right Brace 3"/>
          <p:cNvSpPr/>
          <p:nvPr/>
        </p:nvSpPr>
        <p:spPr>
          <a:xfrm>
            <a:off x="3657600" y="2743200"/>
            <a:ext cx="380880" cy="24382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2438280"/>
              <a:gd name="textAreaBottom" fmla="*/ 242856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1"/>
                  <a:pt x="10800" y="281"/>
                </a:cubicBezTo>
                <a:lnTo>
                  <a:pt x="10800" y="10519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1"/>
                  <a:pt x="10800" y="11081"/>
                </a:cubicBezTo>
                <a:lnTo>
                  <a:pt x="10800" y="21319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4419720" y="28195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iven for first 8 weeks, followed by INH/RIF for 18 week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ever use a single drug therap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soniazid –rifampin combination administered for 9 months will cure 95-98% of cases 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ddition of pyrazinamide/ethambutol for this combination for the first 2 months allows total duration to be reduced to 6 month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soniazi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acteriostatic for resting bacilli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actericidal   for rapidly growing bacilli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 effective against intracellular  &amp; extracellular bacill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chanism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nhibits the synthesis of mycobacteria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cell wall ( inhibit the  synthesis of 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mycolic acid 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reatment of TB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reatment of Latent TB in patients with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ositive tuberculin skin t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ophylaxis against active TB in individual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ho are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 great risk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5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Peripheral neur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pin &amp; needles sensation in the feet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Optic neuritis &amp;atrophy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Pyridoxine (Vit B6) should be given in both cases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imes New Roman"/>
              </a:rPr>
              <a:t>Hepatitis (toxic metabolite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ug Interactions of IN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nzyme inhibi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low and fast acetylato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35000" y="2115720"/>
            <a:ext cx="7866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OF. AZZA ELMed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r. Ishfaq Bukhar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famp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RNA synthesi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y binding to DNA dependent RNA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lymerase enzy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 (similar to INH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eatment of TB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ophylax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armless red-orange discoloration of body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secretions  ( saliva, sweat  …..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 Tell the patient about this effec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epatit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lu-like syndro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molytic anem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ug Interac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nzyme induc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8480" y="9144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hambutol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or of mycobacterial arabinosyl transferase ( alters the cell barrier )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isrupts the assembly of mycobacterial cell wall.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 (similar to INH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acellular &amp; 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eatment of tuberculosis in combination with other drug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mpaired  visual acuity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red-green color blindness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thambutol is contraindicated in children under 5 yea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yrazinam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echanism of action is unknown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the end of lecture , the students should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etiology of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common route for transmission of the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es the out line for treatment of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drugs used in the first &amp; second line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tive against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n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ycobacterial  infections  mainly in multidrug resistance cas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t is important in short –course (6 month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gime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ophylaxis of TB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patotoxicity (common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yperuricemia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 gouty arthritis 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rug fever &amp; skin ras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ptomycin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7680" y="22096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ors of protein synthesis by binding to 30 S ribosomal subuni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tive mainly  on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evere , life-threating form of T.B. as meningitis, disseminated diseas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Ot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Nephr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Neuromuscular bl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8480" y="9144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dication of 2</a:t>
            </a:r>
            <a:r>
              <a:rPr b="1" lang="en-US" sz="44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line treatment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sistance to the drugs of 1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s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lin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ailure of clinical respon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re is contraindication for first line  drug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sed in typical &amp; atypical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line drugs are more toxic than 1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line dru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hionam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the synthesis of   mycolic aci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  a secondary line agent  ,treatment of TB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erratogenic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Poorly toler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Because of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eeef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ef1"/>
                </a:solidFill>
                <a:latin typeface="Times New Roman"/>
              </a:rPr>
              <a:t>Severe gastric irritation &amp;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eurological manifesta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 ( continu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garding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echanism of 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erse eff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ug inter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aind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uberculosis &amp; pregnanc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uberculosis &amp; breast fee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luoroquinolones (Ciprofloxacin  </a:t>
            </a: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ffective against  multidrug- resistant tubercul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fabut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NA inhibi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ross –resistance with rifampin is comple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nzyme inducer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ffective in prevention &amp;treatment of T.B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 prevention &amp; treatment of atypical TB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GIT intolera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range-red discoloration of body secretion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minosalicylic Acid (PAS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Folic acid synthe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 a second line agent is used in the treatment of pulmonary &amp; other forms of tuberculosi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0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GIT upse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Crystallur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B &amp; Pregnanc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ntreated TB represents a great risk to the pregnant woman &amp; her fetus than the treatment itsel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rst line (INH, Ethmabutol and rifampicin) drugs are given for 9 months in normal do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reptomycin not us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B &amp; Breast Fee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t is not a contraindication to receive drugs , but caution is recommend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5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poster_health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1007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Etiology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ycobacterium tubercul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slow growing, an acid fast bacil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poster_swan"/>
          <p:cNvPicPr/>
          <p:nvPr/>
        </p:nvPicPr>
        <p:blipFill>
          <a:blip r:embed="rId1"/>
          <a:stretch/>
        </p:blipFill>
        <p:spPr>
          <a:xfrm>
            <a:off x="380880" y="45720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bert Koch was the fir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 see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Mycobacterium tuberculo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ith his staining technique in 1882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Picture 8" descr="robert"/>
          <p:cNvPicPr/>
          <p:nvPr/>
        </p:nvPicPr>
        <p:blipFill>
          <a:blip r:embed="rId1"/>
          <a:stretch/>
        </p:blipFill>
        <p:spPr>
          <a:xfrm>
            <a:off x="5410080" y="1143000"/>
            <a:ext cx="3505320" cy="2819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132_bacillus"/>
          <p:cNvPicPr/>
          <p:nvPr/>
        </p:nvPicPr>
        <p:blipFill>
          <a:blip r:embed="rId2"/>
          <a:stretch/>
        </p:blipFill>
        <p:spPr>
          <a:xfrm>
            <a:off x="5638680" y="4495680"/>
            <a:ext cx="3505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5219640" y="1847880"/>
            <a:ext cx="374508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lnSpc>
                <a:spcPct val="12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eorgia"/>
              </a:rPr>
              <a:t>Each year, 1% of the  global population is infected.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73160" indent="-173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8532720" y="858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   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971640" y="5461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Georgia"/>
              </a:rPr>
              <a:t>Disease information: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7" name="Picture 5" descr="tuberculosis incidence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16280"/>
            <a:ext cx="4608360" cy="36003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08" name="Rectangle 7"/>
          <p:cNvSpPr/>
          <p:nvPr/>
        </p:nvSpPr>
        <p:spPr>
          <a:xfrm>
            <a:off x="228600" y="59436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re than one third of the world's population has 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uberculosi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poster_bab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poster_babykiss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9:22:10Z</dcterms:created>
  <dc:creator>DTK</dc:creator>
  <dc:description/>
  <dc:language>en-US</dc:language>
  <cp:lastModifiedBy>User</cp:lastModifiedBy>
  <dcterms:modified xsi:type="dcterms:W3CDTF">2015-02-10T06:01:55Z</dcterms:modified>
  <cp:revision>327</cp:revision>
  <dc:subject/>
  <dc:title>Antimycobacterial drugs</dc:title>
</cp:coreProperties>
</file>