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A870-064C-4CD9-8D44-21337C2B1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2165-823F-487D-95D4-87843BE5A0FA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7125-0D4D-438C-9E6F-9DC7122B44F5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8712-E6F0-44E5-A350-F0F0DF211391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C595-FE75-4B61-B192-DC9C93EE6C42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4E12-1209-45EF-9FEE-EB0B79318EB0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85AC-844B-4149-811A-6D47829B387E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9BF4-5309-4D70-A438-6FE07AF79D57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FAE7-2594-4D81-AD45-E3C8AED7060A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F3A4-F77E-4CC4-A415-41948B4115E1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BAD-3E31-4A7F-9DF0-5AE38CB6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B87-139F-450E-8C5E-0A7C2503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73B-DEBA-4A76-ACBA-2E95167A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837-061C-4E5E-B370-26276E4F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05CE-ED94-4809-963F-F87AE199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C647-3509-4AA6-921C-C3874B67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A191-A736-47E5-9E0C-2D09C280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3ABA-63D5-47BE-8040-D624A2B9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E3C6-F987-4BD5-BFC1-B72BF2DE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93E0-5DB0-479C-9D02-AF522C1D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B6E1-06B1-4E62-AC79-CA984465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7B9-0FD9-4354-80FC-7C328765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AB39-BF71-4606-9BDD-FDE48DB3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85D2-06F7-4631-8365-64F07C60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EDC1-C2E2-4FB8-BCE9-8F0096A7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59D4-2978-46EE-8356-89CA92BA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02DC-B08A-4600-8FB4-583D90E0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79038-0CD2-475E-8A78-27F7D8D2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A5504-D74B-4F2D-8449-277D36A0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2BF1-C734-472D-BC60-7AC852F3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7BC3-4CB3-43DB-8080-341F52B7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9806-DE64-48EF-9299-414F4CB2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D50-CF48-46B2-BCE7-13A6E336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E38E-E673-4EAC-8E15-C7D10EBA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53D8-960E-42E8-86EE-DA34116A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1B95D-4AD8-4AD2-8000-5A2C6031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AC82-0FF6-4B20-BC2B-F93E3A7C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E49A-928C-4B77-AC8A-A2509371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ABDD-DEA7-4DFF-828D-9D627D71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84DB-2963-48B4-9996-8E43C99C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59B-5AAF-48A9-A39F-6DDE5FCF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E65-ADB6-45C1-810D-81E44AA4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B19-B288-4532-A22F-7E51C1A3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55D9-1684-43FF-8C96-A75FDE9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E272-9A8C-46B3-A7EE-90F6CDAA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C73-3BA8-407B-B214-31FDDFD3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A229-5D21-4574-A0A1-063477D5830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8A7D-C764-45AB-8F6A-13A55D70227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3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3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8C28-7B2F-4ECA-A404-277DB3B5FCDC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.int/tb/publications/global_report/en/index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4" descr="starv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92" name="WordArt 5"/>
          <p:cNvSpPr txBox="1"/>
          <p:nvPr/>
        </p:nvSpPr>
        <p:spPr>
          <a:xfrm>
            <a:off x="1219320" y="1676520"/>
            <a:ext cx="67816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UBERCULOSI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poster_cough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sites of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pical areas of l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enal parenchy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rowing ends of b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eatment Of 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eventing  development of drug resistance is the most important reason to use drug combinat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eriods of treatment ( minimum 6 month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s are divided into two group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rst line                2.  Second 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mycobacterial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64180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rst lin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oniazid (INH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ifamp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yrazinami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reptomycin (should not be the first line choi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Right Brace 3"/>
          <p:cNvSpPr/>
          <p:nvPr/>
        </p:nvSpPr>
        <p:spPr>
          <a:xfrm>
            <a:off x="3657600" y="2743200"/>
            <a:ext cx="380880" cy="24382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438280"/>
              <a:gd name="textAreaBottom" fmla="*/ 242856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1"/>
                </a:cubicBezTo>
                <a:lnTo>
                  <a:pt x="10800" y="10519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1"/>
                </a:cubicBezTo>
                <a:lnTo>
                  <a:pt x="10800" y="21319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4419720" y="2819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ven for first 8 weeks, followed by INH/RIF for 18 week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ver use a single drug therap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soniazid –rifampin combination administered for 9 months will cure 95-98% of cases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ddition of pyrazinamide/ethambutol for this combination for the first 2 months allows total duration to be reduced to 6 month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oniazi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ostatic for resting bacilli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cidal   for rapidly growing bacilli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 effective against intracellular  &amp; extracellular bacill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nhibits the synthesis of mycobacteri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ell wall ( inhibit the  synthesis of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colic acid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TB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Latent TB in patients with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sitive tuberculin skin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phylaxis against active TB in individual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ho ar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great risk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Peripheral neur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in &amp; needles sensation in the fee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Optic neuritis &amp;atrophy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yridoxine (Vit B6) should be given in both case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Hepatitis (toxic metabolite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 of IN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low and fast acetylato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35000" y="2115720"/>
            <a:ext cx="7866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F. AZZA ELMed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r. Ishfaq Bukha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mp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RNA synthesi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y binding to DNA dependent RN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lymerase enzy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B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armless red-orange discoloration of bod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ecretions  ( saliva, sweat  …..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 Tell the patient about this effec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epatit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u-like syndr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molytic an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duc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ambut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 of mycobacterial arabinosyl transferase ( alters the cell barrier )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rupts the assembly of mycobacterial cell wall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&amp; 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uberculosis in combination with other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mpaired  visual acuit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red-green color blindnes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 is contraindicated in children under 5 yea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yrazi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echanism of action is unknown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end of lecture , the students shoul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etiology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common route for transmission of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es the out line for treatment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drugs used in the first &amp; second lin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tive against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ycobacterial  infections  mainly in multidrug resistance ca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important in short –course (6 mon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gime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TB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patotoxicity (commo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yperuricemi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gouty arthritis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 fever &amp; skin r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myci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s of protein synthesis by binding to 30 S ribosomal subun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tive mainly  on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vere , life-threating form of T.B. as meningitis, disseminated diseas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O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phr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uromuscular bl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dication of 2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ine treatmen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sistance to the drugs of 1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ailure of clinical respon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re is contraindication for first line  dru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sed in typical &amp; atypical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 are more toxic than 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io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the synthesis of   mycolic aci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 a secondary line agent  ,treatment of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erratogenic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Poorly toler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Because of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ef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ef1"/>
                </a:solidFill>
                <a:latin typeface="Times New Roman"/>
              </a:rPr>
              <a:t>Severe gastric irritation &amp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urological manifest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( continu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garding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echanism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ind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pregna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breast f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oroquinolones (Ciprofloxacin 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against  multidrug- resistant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but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NA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ross –resistance with rifampin is comple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nzyme inducer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in prevention &amp;treatment of T.B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 prevention &amp; treatment of atypical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GIT intoler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range-red discoloration of body secre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minosalicylic Acid (PAS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Folic acid synthe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0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a second line agent is used in the treatment of pulmonary &amp; other forms of tuberculos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0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GIT upse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rystallur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Pregn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treated TB represents a great risk to the pregnant woman &amp; her fetus than the treatment it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rst line (INH, Ethmabutol and rifampicin) drugs are given for 9 months in normal d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ptomycin not us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Breast Fee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t is not a contraindication to receive drugs , but caution is recommend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5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poster_health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007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tiolog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cobacterium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slow growing, an acid fast bacil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poster_swan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Koch wa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se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his staining technique in 18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icture 8" descr="robert"/>
          <p:cNvPicPr/>
          <p:nvPr/>
        </p:nvPicPr>
        <p:blipFill>
          <a:blip r:embed="rId1"/>
          <a:stretch/>
        </p:blipFill>
        <p:spPr>
          <a:xfrm>
            <a:off x="5410080" y="114300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132_bacillus"/>
          <p:cNvPicPr/>
          <p:nvPr/>
        </p:nvPicPr>
        <p:blipFill>
          <a:blip r:embed="rId2"/>
          <a:stretch/>
        </p:blipFill>
        <p:spPr>
          <a:xfrm>
            <a:off x="5638680" y="44956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219640" y="1847880"/>
            <a:ext cx="37450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12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Each year, 1% of the  global population is infected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73160" indent="-173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8532720" y="858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   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971640" y="546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Disease information: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5" descr="tuberculosis incidence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608360" cy="3600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08" name="Rectangle 7"/>
          <p:cNvSpPr/>
          <p:nvPr/>
        </p:nvSpPr>
        <p:spPr>
          <a:xfrm>
            <a:off x="228600" y="5943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re than one third of the world's population has 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uberculos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poster_bab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poster_babykiss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9:22:10Z</dcterms:created>
  <dc:creator>DTK</dc:creator>
  <dc:description/>
  <dc:language>en-US</dc:language>
  <cp:lastModifiedBy>User</cp:lastModifiedBy>
  <dcterms:modified xsi:type="dcterms:W3CDTF">2015-02-10T06:01:55Z</dcterms:modified>
  <cp:revision>327</cp:revision>
  <dc:subject/>
  <dc:title>Antimycobacterial drugs</dc:title>
</cp:coreProperties>
</file>