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36BB-D351-4FC3-AD8E-D3900910D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D9BC-0246-4E86-8720-F42437862BAB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9C22-755B-4892-B8D6-036EC78A7FE9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C775-BCEE-4551-AA62-24AF38756FB6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6C7C-45ED-4B64-B02B-BE5AB6ADD6EF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C1A4-3A7E-438B-99C4-F33A2C2DA3EF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A5ED-DC2E-489D-9773-E186D0DB7590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7C69-DB94-40B7-8A1C-DA25DE921687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3AC6-0F32-4BE3-94A4-B2741F265068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1478-C780-4121-B7CC-87BCF2D65DE0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AAC4-825B-43CA-8D66-930B6C09338D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528B-4201-4C61-B0EF-CB4553E64582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C404-2AC4-4A6D-9A90-B0150A60CB36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0980-154F-400E-80FA-252EE4648DDC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08F8-7AC6-4882-A481-C95CE9AAFCE3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836-BB13-42F0-96CD-32D97E4A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7F0-F3E6-466D-B1FD-8EE788D5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67B-D62E-4CA0-9E87-12EE6536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006-97BD-42C4-9D2B-B22CE192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386B-FEFE-488B-B4FB-FA87BC10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D6DA-7729-4862-98F8-2D3681E6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EE1B-C73F-4BDD-87DA-7FF3CA6F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7D41-0050-4B93-88D1-9F192BD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5976-C1CF-41EF-A353-D9002F97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BAD7-460A-4554-9937-06E164D0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2340-E5D7-4301-9A6C-47199C47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B2B-3D1D-451F-A11D-DBCAAF6F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6404-AED1-46D8-B787-90B1C75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2B8C-8B5A-49FE-9761-BF048527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39D8-63BF-4723-8038-6BBA6C8F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780B-CD4F-4890-88E8-B9CCD45B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4931-0385-495F-825D-B9C4AEF3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DB8-D360-4951-B7DC-3A830BE8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59D-B668-46AA-B9F9-691113CD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FA3-6E4B-401D-BE88-3DBA2A63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D0F-C52A-4C9B-9192-7B129E7D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DFE-16D8-48C6-AF7A-130013D5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BC5-7B2E-43F5-81FC-422E1C2A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677-C25A-4C9D-93FD-1CD63EC1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DDFF-CC8C-4A90-AED1-EE6667C8665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CDED-C3B1-4065-829E-177330034D1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oduction to Antibiotic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rof. Mohammad Alhumayyd</a:t>
            </a:r>
            <a:br>
              <a:rPr sz="36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harmacology Depart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Drug All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Potential Side Effects   </a:t>
            </a: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85e0"/>
                </a:solidFill>
                <a:latin typeface="Times New Roman"/>
              </a:rPr>
              <a:t>Drug safety</a:t>
            </a: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loramphenicol </a:t>
            </a: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85e0"/>
                </a:solidFill>
                <a:latin typeface="Times New Roman"/>
              </a:rPr>
              <a:t>a plastic ana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luoroquinolones in children&amp;Pre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85e0"/>
                </a:solidFill>
                <a:latin typeface="Times New Roman"/>
              </a:rPr>
              <a:t>tendon damage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ost of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Bacterial  Resistanc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result of the widespread use of antibiotics has been the emergence of resistant pathogens that have been sensitive in the pa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evention of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only when absolutely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in adequate dosage for sufficient             perio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brief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prolonged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xceptions,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Combination of antibiotics may be required to        delay resistance (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General Principles of Chemotherapy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minister drug i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ull do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a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oper interv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by the  b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st ro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 apparent cure achieved , continue antibiotic for  about 3 days further to avoid  relap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ipping doses may decrease effectiveness of antibiotic &amp; increase the incidence  of bacterial res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Principles of Chemotherapy(con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cc"/>
                </a:solidFill>
                <a:latin typeface="Times New Roman"/>
              </a:rPr>
              <a:t>Two or more antimicrobials should not be used without good  reason, e.g.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xed bacterial (polymicrobial)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perately ill patient of unknown et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prevent emergence of resistance (e.g. TB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chieve synerg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g.piperacillin+gentamicin(p. aeruginosae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advantages of multiple antibio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sensitivity or 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colonization with a resi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ility of antago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gher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eneral principles ( Cont. 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some infections bacteriological proof of cure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rable ( e.g. TB, UTI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 of plasma conc. of antibiotics is seld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ed, except. streptomycin in renal TB; I.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tamic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ntibiotics prophylax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rgical prophylax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wel surgery, joint replacement, and some gynecological 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prevent postoperative infection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munosuppressed  Pati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ery old, very youn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abetics, Anaemics, AIDS pts ,Cancer p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ntal extr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total joint replac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cardiac abnorm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SUSES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eatment of untreatable infections ( wrong diagnos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Improper do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herapy of fever of unknown orig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Presence of  pus or necrotic tissues , or blood at the surgical si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Excessive use of prophylactic antibiotic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avel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Lack of adequate bacteriological                           inform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6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efinition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3120" y="1988640"/>
            <a:ext cx="8229600" cy="4526280"/>
          </a:xfrm>
          <a:prstGeom prst="rect">
            <a:avLst/>
          </a:prstGeom>
          <a:noFill/>
          <a:ln cap="sq" w="12600">
            <a:solidFill>
              <a:srgbClr val="ff66ff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substances produced by various microorganisms (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, fungi, actinomycetes)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at have the capacity to inhibit or destroy other microorg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Now a day they are chemically synthesiz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either kill bacteria(bactericidal) or keep more bacteria from growing(bacteristati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ntibiotics will not cure infections caused by vir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ANTIBIOTIC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CORDING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HIBITION OF CELL W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3200" spc="-1" strike="noStrike">
                <a:solidFill>
                  <a:srgbClr val="ffadeb"/>
                </a:solidFill>
                <a:latin typeface="Times New Roman"/>
              </a:rPr>
              <a:t>e.g.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nicilli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HIBI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IN SYNTHE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adeb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crol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HIBITION OF NUCLEIC ACI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SIS   </a:t>
            </a:r>
            <a:r>
              <a:rPr b="1" lang="en-US" sz="3200" spc="-1" strike="noStrike">
                <a:solidFill>
                  <a:srgbClr val="ffadeb"/>
                </a:solidFill>
                <a:latin typeface="Times New Roman"/>
              </a:rPr>
              <a:t>e.g.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inol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ording to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ow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nicillin 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inoglyco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picillin  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oxicil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oice of Antibio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959120" y="19000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A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Clinical 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4568"/>
                </a:solidFill>
                <a:latin typeface="Times New Roman"/>
              </a:rPr>
              <a:t>(e.g.,syphyl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 flipH="1">
            <a:off x="1547280" y="2924280"/>
            <a:ext cx="180036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36360" y="4437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Microbiological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716360" y="2997360"/>
            <a:ext cx="172728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983120" y="44928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Pharmacological 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995640" y="4941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acteriological in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xact antibiotic to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st effective and reject the one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 little or no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east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hea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cteria isolated may not be the prime cause    of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 not take in consideration site of 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 bacteria cannot be cultivated or take time     to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.g. M. Leprae, M. Tuberculosi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teriological services are not available at all       hospita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oice of Antibiotics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rmacological consi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Site o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ost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) Immune system e.g. Alcoholism, diabetes, HIV, malnutrition, advanced age-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higher than usual doses or longer courses are required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) Genetic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Patients with G-6-PD deficiency treated with sulfonamides and chloramphenicol 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Hemolysis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) Pregnancy and Lac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minoglycosides-   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hearing loss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tracyclines-   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bone deform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) Age of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 Grey baby Syndrome-     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chloramphenicol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) Renal fun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 Aminoglycosides 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renal failure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)Liver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 Erythromycin</a:t>
            </a: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( hepatic failure  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) Poor per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 Lower limbs of diabe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7:11:28Z</dcterms:created>
  <dc:creator>DTK</dc:creator>
  <dc:description/>
  <dc:language>en-US</dc:language>
  <cp:lastModifiedBy>3422</cp:lastModifiedBy>
  <dcterms:modified xsi:type="dcterms:W3CDTF">2015-02-11T09:56:16Z</dcterms:modified>
  <cp:revision>200</cp:revision>
  <dc:subject/>
  <dc:title>CHEMOTHERAPY</dc:title>
</cp:coreProperties>
</file>