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4B9D-D79C-4B18-B412-9DCE3A050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BE02-0654-449C-8B22-1198EFB3D164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FBE7-4C9A-4E53-B77A-5FE5F159F85F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4FCD-2187-45FF-9F34-5E8B7A477101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7AD4-3AD4-46D2-80D8-E57863A49078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7630-50D8-47D6-9C05-8D6D76BD5AAE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421D-5322-4E82-B9DA-F12B8933BDBA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3587-50AA-43DE-BC7B-75FADA818A04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D24E-00F2-4AEE-B7DB-353B903E606C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78AE-36AB-4CA5-BF36-A65B58DBBEFD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B513-8B4F-4A21-9BAB-A0F9C99ABFD7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0775-A227-4326-9691-FDE77DCDAC08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E76A-4426-4B57-9EFB-CD636288E08C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2561-FABE-4BD2-AF69-5B15E110E4E2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5642-B78C-4816-9BF7-E4D68CAB7E71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73B-E939-45F0-B481-7F36DB08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F5E-8150-4E2F-884B-88C291AD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650-2BD4-4504-9DC1-D671CE93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0A9-D1E8-4BC3-953C-3D042CBC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9378-711F-4200-BDA1-72173652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4E03-0B84-4BF5-B34F-746032D9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CB85-6766-489C-9118-95AF37F4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4CB5-DE20-4BC4-9FD2-EB062DC9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A118-FC41-4353-B640-AF14D946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33FD-C99C-4690-9FBC-46FD8CD5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9BAB-C1B4-41EC-A9B8-2128F4B4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2F1-6CCE-4D1B-A7D5-E7BC6952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AE98-82EC-4C3A-A9BF-92CD1CC9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829B-A76A-4917-8E1F-9B0F7285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BF11-2C79-4F6C-B51A-9DE118D1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DF5C-AFBB-474F-95AF-58C3CC11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CAF5-7683-4BA8-AE89-17671C4E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458-669D-4822-A7CD-ADF67252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C93-F3F5-402B-8582-0558542F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FC46-1340-4EC6-B856-924713E5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789-21D6-48DB-BD90-30BBB3C9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924-A1B0-4D70-97F6-20CF9C08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E19-5A99-4F65-A128-479D2D5A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BC0A-83FE-4294-84A9-B0699BFB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7A70-66BF-464E-9F19-AABE28A2C19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127B-608C-4517-A320-9879CF6CD36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roduction to Antibiotic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47ffff"/>
                </a:solidFill>
                <a:latin typeface="Times New Roman"/>
              </a:rPr>
              <a:t>Prof. Mohammad Alhumayyd</a:t>
            </a:r>
            <a:br>
              <a:rPr sz="3600"/>
            </a:br>
            <a:r>
              <a:rPr b="1" lang="en-US" sz="3600" spc="-1" strike="noStrike">
                <a:solidFill>
                  <a:srgbClr val="47ffff"/>
                </a:solidFill>
                <a:latin typeface="Times New Roman"/>
              </a:rPr>
              <a:t>Pharmacology Depart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Choice of Antibiotics ( Cont.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Drug All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Potential Side Effects   </a:t>
            </a: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85e0"/>
                </a:solidFill>
                <a:latin typeface="Times New Roman"/>
              </a:rPr>
              <a:t>Drug safety</a:t>
            </a: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hloramphenicol </a:t>
            </a: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85e0"/>
                </a:solidFill>
                <a:latin typeface="Times New Roman"/>
              </a:rPr>
              <a:t>a plastic ana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luoroquinolones in children&amp;Pre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85e0"/>
                </a:solidFill>
                <a:latin typeface="Times New Roman"/>
              </a:rPr>
              <a:t>tendon damage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ff85e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cost of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Bacterial  Resistanc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e result of the widespread use of antibiotics has been the emergence of resistant pathogens that have been sensitive in the pa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evention of Resi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Use antibiotics only when absolutely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Use antibiotics in adequate dosage for sufficient             period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too brief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too prolonged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exceptions, e.g. TB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Combination of antibiotics may be required to        delay resistance ( e.g. TB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8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8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8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8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General Principles of Chemotherapy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minister drug in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ull do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at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roper interv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by the  b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st ro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n apparent cure achieved , continue antibiotic for  about 3 days further to avoid  relap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kipping doses may decrease effectiveness of antibiotic &amp; increase the incidence  of bacterial resi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 Principles of Chemotherapy(con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cc"/>
                </a:solidFill>
                <a:latin typeface="Times New Roman"/>
              </a:rPr>
              <a:t>Two or more antimicrobials should not be used without good  reason, e.g.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xed bacterial (polymicrobial) inf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perately ill patient of unknown et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prevent emergence of resistance (e.g. TB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achieve synerg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g.piperacillin+gentamicin(p. aeruginosae)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sadvantages of multiple antibio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risk of sensitivity or tox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risk of colonization with a resista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sibility of antagon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gher 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General principles ( Cont. 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some infections bacteriological proof of cure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irable ( e.g. TB, UTI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asurement of plasma conc. of antibiotics is seld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eded, except. streptomycin in renal TB; I.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ntamic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0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dications for antibiotics prophylax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rgical prophylax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owel surgery, joint replacement, and some gynecological 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 prevent postoperative infection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mmunosuppressed  Pati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ery old, very young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abetics, Anaemics, AIDS pts ,Cancer p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ental extra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ts with total joint replac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ts with cardiac abnorma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1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1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10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ISUSES OF ANTIBIO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456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reatment of untreatable infections ( wrong diagnosi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 viral inf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Improper dos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herapy of fever of unknown orig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Presence of  pus or necrotic tissues , or blood at the surgical si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Excessive use of prophylactic antibiotics 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ravel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Lack of adequate bacteriological                           inform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6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efinition of Antibio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3120" y="1988640"/>
            <a:ext cx="8229600" cy="4526280"/>
          </a:xfrm>
          <a:prstGeom prst="rect">
            <a:avLst/>
          </a:prstGeom>
          <a:noFill/>
          <a:ln cap="sq" w="12600">
            <a:solidFill>
              <a:srgbClr val="ff66ff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ical substances produced by various microorganisms (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, fungi, actinomycetes)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at have the capacity to inhibit or destroy other microorganis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5e0"/>
                </a:solidFill>
                <a:latin typeface="Times New Roman"/>
              </a:rPr>
              <a:t>Now a day they are chemically synthesiz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either kill bacteria(bactericidal) or keep more bacteria from growing(bacteristati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Antibiotics will not cure infections caused by viru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ASSIFICATION OF ANTIBIOTIC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CCORDING 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CHANISM OF ACTION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HIBITION OF CELL W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3200" spc="-1" strike="noStrike">
                <a:solidFill>
                  <a:srgbClr val="ffadeb"/>
                </a:solidFill>
                <a:latin typeface="Times New Roman"/>
              </a:rPr>
              <a:t>e.g.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nicilli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HIBITION OF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TEIN SYNTHES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adeb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crol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HIBITION OF NUCLEIC ACI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YNTHESIS   </a:t>
            </a:r>
            <a:r>
              <a:rPr b="1" lang="en-US" sz="3200" spc="-1" strike="noStrike">
                <a:solidFill>
                  <a:srgbClr val="ffadeb"/>
                </a:solidFill>
                <a:latin typeface="Times New Roman"/>
              </a:rPr>
              <a:t>e.g.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inolo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ording to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rrow spectrum , e.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nicillin 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inoglyco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ad spectrum , e.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picillin  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oxicil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oice of Antibiot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959120" y="190008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A)</a:t>
            </a: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Clinical diagn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4568"/>
                </a:solidFill>
                <a:latin typeface="Times New Roman"/>
              </a:rPr>
              <a:t>(e.g.,syphyl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4"/>
          <p:cNvSpPr/>
          <p:nvPr/>
        </p:nvSpPr>
        <p:spPr>
          <a:xfrm flipH="1">
            <a:off x="1547280" y="2924280"/>
            <a:ext cx="180036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-36360" y="4437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B)</a:t>
            </a: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Microbiological</a:t>
            </a:r>
            <a:br>
              <a:rPr sz="3600"/>
            </a:b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   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4716360" y="2997360"/>
            <a:ext cx="172728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983120" y="44928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C)</a:t>
            </a: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Pharmacological </a:t>
            </a:r>
            <a:br>
              <a:rPr sz="3600"/>
            </a:b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     consid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3995640" y="4941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B)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acteriological inform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Advan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exact antibiotic to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most effective and reject the one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th little or no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least tox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cheap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Disadvan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bacteria isolated may not be the prime cause    of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 not take in consideration site of 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 bacteria cannot be cultivated or take time     to g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e.g. M. Leprae, M. Tuberculosi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teriological services are not available at all       hospita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oice of Antibiotics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armacological consid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Site o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Host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) Immune system e.g. Alcoholism, diabetes, HIV, malnutrition, advanced age- </a:t>
            </a:r>
            <a:r>
              <a:rPr b="1" lang="en-US" sz="28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85e0"/>
                </a:solidFill>
                <a:latin typeface="Times New Roman"/>
              </a:rPr>
              <a:t>higher than usual doses or longer courses are required 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) Genetic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 Patients with G-6-PD deficiency treated with sulfonamides and chloramphenicol  </a:t>
            </a:r>
            <a:r>
              <a:rPr b="1" lang="en-US" sz="2800" spc="-1" strike="noStrike">
                <a:solidFill>
                  <a:srgbClr val="f181d5"/>
                </a:solidFill>
                <a:latin typeface="Times New Roman"/>
              </a:rPr>
              <a:t>(Hemolysis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oice of Antibiotics ( 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) Pregnancy and Lac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minoglycosides-   </a:t>
            </a:r>
            <a:r>
              <a:rPr b="1" lang="en-US" sz="20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85e0"/>
                </a:solidFill>
                <a:latin typeface="Times New Roman"/>
              </a:rPr>
              <a:t>hearing loss</a:t>
            </a:r>
            <a:r>
              <a:rPr b="1" lang="en-US" sz="2000" spc="-1" strike="noStrike">
                <a:solidFill>
                  <a:srgbClr val="f181d5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tracyclines-   </a:t>
            </a:r>
            <a:r>
              <a:rPr b="1" lang="en-US" sz="20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85e0"/>
                </a:solidFill>
                <a:latin typeface="Times New Roman"/>
              </a:rPr>
              <a:t>bone deformi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5e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) Age of the 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.g. Grey baby Syndrome-     </a:t>
            </a:r>
            <a:r>
              <a:rPr b="1" lang="en-US" sz="20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85e0"/>
                </a:solidFill>
                <a:latin typeface="Times New Roman"/>
              </a:rPr>
              <a:t>chloramphenicol 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) Renal fun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.g. Aminoglycosides </a:t>
            </a:r>
            <a:r>
              <a:rPr b="1" lang="en-US" sz="20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85e0"/>
                </a:solidFill>
                <a:latin typeface="Times New Roman"/>
              </a:rPr>
              <a:t>renal failure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)Liver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.g. Erythromycin</a:t>
            </a:r>
            <a:r>
              <a:rPr b="1" lang="en-US" sz="2000" spc="-1" strike="noStrike">
                <a:solidFill>
                  <a:srgbClr val="ff85e0"/>
                </a:solidFill>
                <a:latin typeface="Times New Roman"/>
              </a:rPr>
              <a:t>( hepatic failure  </a:t>
            </a:r>
            <a:r>
              <a:rPr b="1" lang="en-US" sz="2000" spc="-1" strike="noStrike">
                <a:solidFill>
                  <a:srgbClr val="f181d5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) Poor perfu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.g. Lower limbs of diabe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1000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7:11:28Z</dcterms:created>
  <dc:creator>DTK</dc:creator>
  <dc:description/>
  <dc:language>en-US</dc:language>
  <cp:lastModifiedBy>3422</cp:lastModifiedBy>
  <dcterms:modified xsi:type="dcterms:W3CDTF">2015-02-11T09:56:16Z</dcterms:modified>
  <cp:revision>200</cp:revision>
  <dc:subject/>
  <dc:title>CHEMOTHERAPY</dc:title>
</cp:coreProperties>
</file>