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2CB-0B80-4C0E-8B5D-B4DF0537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069-6B80-45C3-9E19-5F4E10B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E96-3447-46CB-AB21-59BC27CE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7DC-1C32-4843-8047-F196FB87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60F-8327-4473-9DFF-DC5F3D9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28C-4387-435A-BB2D-0825BA97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932-92A5-4C0A-A3CF-E5C1FB6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BD8-DF95-492D-978A-0060F6D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649-A2A3-4A7E-BFB3-A2AF34F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689-4AB7-41F8-9B6A-7D08B99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505-9A6F-4E65-A604-4D57813D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DE0-A914-477A-8D53-747F14CD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887-1C9E-4B90-975A-E657118787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44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3520" y="4191120"/>
            <a:ext cx="289548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15000" y="4343400"/>
            <a:ext cx="274320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Essam Sa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76720" y="3505320"/>
            <a:ext cx="2365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ntent Placeholder 4" descr="CoronaryVeins1.jpg"/>
          <p:cNvPicPr/>
          <p:nvPr/>
        </p:nvPicPr>
        <p:blipFill>
          <a:blip r:embed="rId1"/>
          <a:stretch/>
        </p:blipFill>
        <p:spPr>
          <a:xfrm>
            <a:off x="3851280" y="1066680"/>
            <a:ext cx="5111640" cy="5029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7467480"/>
          </a:xfrm>
          <a:prstGeom prst="rect">
            <a:avLst/>
          </a:prstGeom>
          <a:gradFill rotWithShape="0">
            <a:gsLst>
              <a:gs pos="0">
                <a:srgbClr val="ffff79"/>
              </a:gs>
              <a:gs pos="100000">
                <a:srgbClr val="ffffd8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A)Anterior Interventric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escends in the anterior interventricular groove to the apex of the heart (accompanied by th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Great cardiac vei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most individuals it passes around the apex to anastomose with terminal branches of the right coronary , in 1\3 it ends at the apex ) It supplies the right and left ventricles and anterior part of ventricular sep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give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. Left conu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rtery for pulmonary con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. Anterior ventricular and Posterior ventricular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left ventric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. Atrial branche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greater part of left at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696080" y="3505320"/>
            <a:ext cx="1123920" cy="99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Straight Arrow Connector 12"/>
          <p:cNvCxnSpPr/>
          <p:nvPr/>
        </p:nvCxnSpPr>
        <p:spPr>
          <a:xfrm>
            <a:off x="6248520" y="3885840"/>
            <a:ext cx="305280" cy="305640"/>
          </a:xfrm>
          <a:prstGeom prst="straightConnector1">
            <a:avLst/>
          </a:prstGeom>
          <a:ln w="38160">
            <a:solidFill>
              <a:srgbClr val="050824"/>
            </a:solidFill>
            <a:miter/>
            <a:tailEnd len="med" type="arrow" w="med"/>
          </a:ln>
        </p:spPr>
      </p:cxnSp>
      <p:cxnSp>
        <p:nvCxnSpPr>
          <p:cNvPr id="181" name="Straight Arrow Connector 15"/>
          <p:cNvCxnSpPr/>
          <p:nvPr/>
        </p:nvCxnSpPr>
        <p:spPr>
          <a:xfrm flipV="1">
            <a:off x="6399720" y="4876560"/>
            <a:ext cx="153000" cy="30528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182" name="Straight Arrow Connector 17"/>
          <p:cNvCxnSpPr/>
          <p:nvPr/>
        </p:nvCxnSpPr>
        <p:spPr>
          <a:xfrm flipH="1">
            <a:off x="6553080" y="1828800"/>
            <a:ext cx="7668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83" name="Straight Arrow Connector 5"/>
          <p:cNvCxnSpPr/>
          <p:nvPr/>
        </p:nvCxnSpPr>
        <p:spPr>
          <a:xfrm flipV="1">
            <a:off x="6552720" y="3352320"/>
            <a:ext cx="229320" cy="15336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. Left diagonal art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ventricular branches or may arises from left coronar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B) Circumflex Arte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s around the left margin of the heart in the atrioventricular gro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. Left Marginal artery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ies the left margin of the left ventricle down to the ap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696080" y="5181480"/>
            <a:ext cx="914400" cy="30492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eft Arrow 7"/>
          <p:cNvSpPr/>
          <p:nvPr/>
        </p:nvSpPr>
        <p:spPr>
          <a:xfrm>
            <a:off x="7086600" y="388620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16161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324480" y="3581280"/>
            <a:ext cx="685800" cy="38124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781680" y="4800600"/>
            <a:ext cx="990720" cy="30492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934320" y="5486400"/>
            <a:ext cx="1218960" cy="6094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4114800" y="1143000"/>
            <a:ext cx="472428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1" name="Oval 4"/>
          <p:cNvSpPr/>
          <p:nvPr/>
        </p:nvSpPr>
        <p:spPr>
          <a:xfrm>
            <a:off x="7467480" y="5105520"/>
            <a:ext cx="914400" cy="3808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467480" y="3886200"/>
            <a:ext cx="990720" cy="457200"/>
          </a:xfrm>
          <a:prstGeom prst="rect">
            <a:avLst/>
          </a:prstGeom>
          <a:noFill/>
          <a:ln w="28440">
            <a:solidFill>
              <a:srgbClr val="f35b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467480" y="3352680"/>
            <a:ext cx="1143000" cy="419400"/>
          </a:xfrm>
          <a:prstGeom prst="rect">
            <a:avLst/>
          </a:prstGeom>
          <a:noFill/>
          <a:ln w="28440">
            <a:solidFill>
              <a:srgbClr val="2c6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9200" y="1904760"/>
            <a:ext cx="4114800" cy="480060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(90 %) of population, the Posterior Interventricular 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ft Dominanc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rest (10%), the Posterior Interventricular artery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ight Arrow 4"/>
          <p:cNvSpPr/>
          <p:nvPr/>
        </p:nvSpPr>
        <p:spPr>
          <a:xfrm>
            <a:off x="1295280" y="365760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eft Arrow 5"/>
          <p:cNvSpPr/>
          <p:nvPr/>
        </p:nvSpPr>
        <p:spPr>
          <a:xfrm>
            <a:off x="1981080" y="3962520"/>
            <a:ext cx="2286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228600" y="1981080"/>
            <a:ext cx="4724280" cy="44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0" name="Oval 8"/>
          <p:cNvSpPr/>
          <p:nvPr/>
        </p:nvSpPr>
        <p:spPr>
          <a:xfrm>
            <a:off x="1905120" y="4800600"/>
            <a:ext cx="30456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ight Arrow 9"/>
          <p:cNvSpPr/>
          <p:nvPr/>
        </p:nvSpPr>
        <p:spPr>
          <a:xfrm>
            <a:off x="2666880" y="40384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3505320" y="4267080"/>
            <a:ext cx="1143000" cy="304920"/>
          </a:xfrm>
          <a:prstGeom prst="rect">
            <a:avLst/>
          </a:prstGeom>
          <a:noFill/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505320" y="5257800"/>
            <a:ext cx="914400" cy="22860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2360" y="942840"/>
            <a:ext cx="6839280" cy="704880"/>
          </a:xfrm>
          <a:prstGeom prst="rect">
            <a:avLst/>
          </a:prstGeom>
          <a:solidFill>
            <a:srgbClr val="cad7f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Coronary Anastomosi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5" name="Content Placeholder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610160" cy="5486400"/>
          </a:xfrm>
          <a:prstGeom prst="rect">
            <a:avLst/>
          </a:prstGeom>
          <a:ln w="0">
            <a:noFill/>
          </a:ln>
        </p:spPr>
      </p:pic>
      <p:grpSp>
        <p:nvGrpSpPr>
          <p:cNvPr id="206" name="Content Placeholder 4"/>
          <p:cNvGrpSpPr/>
          <p:nvPr/>
        </p:nvGrpSpPr>
        <p:grpSpPr>
          <a:xfrm>
            <a:off x="4687920" y="1676520"/>
            <a:ext cx="4151160" cy="5181480"/>
            <a:chOff x="4687920" y="1676520"/>
            <a:chExt cx="4151160" cy="5181480"/>
          </a:xfrm>
        </p:grpSpPr>
        <p:pic>
          <p:nvPicPr>
            <p:cNvPr id="207" name="Content Placeholder 4" descr=""/>
            <p:cNvPicPr/>
            <p:nvPr/>
          </p:nvPicPr>
          <p:blipFill>
            <a:blip r:embed="rId2"/>
            <a:stretch/>
          </p:blipFill>
          <p:spPr>
            <a:xfrm>
              <a:off x="4689000" y="1676520"/>
              <a:ext cx="414972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687920" y="1676520"/>
              <a:ext cx="415116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In MOST of people, th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rminal branches of the right and left coronaries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  anastomose in the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osterior part of the IV groo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ever this anastomoses is  not large enough to provide adequate blood supply in case of coronary occlusion, (</a:t>
              </a: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Functional End arteries)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Down Arrow 6"/>
          <p:cNvSpPr/>
          <p:nvPr/>
        </p:nvSpPr>
        <p:spPr>
          <a:xfrm>
            <a:off x="2590920" y="4038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ight Arrow 7"/>
          <p:cNvSpPr/>
          <p:nvPr/>
        </p:nvSpPr>
        <p:spPr>
          <a:xfrm>
            <a:off x="2590920" y="5181480"/>
            <a:ext cx="228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" descr="C:\Documents and Settings\me\My Documents\snell CVS\scan0002.jpg"/>
          <p:cNvPicPr/>
          <p:nvPr/>
        </p:nvPicPr>
        <p:blipFill>
          <a:blip r:embed="rId3"/>
          <a:srcRect l="20015" t="75495" r="55980" b="5146"/>
          <a:stretch/>
        </p:blipFill>
        <p:spPr>
          <a:xfrm>
            <a:off x="457200" y="4951440"/>
            <a:ext cx="1415880" cy="190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Title 1"/>
          <p:cNvGrpSpPr/>
          <p:nvPr/>
        </p:nvGrpSpPr>
        <p:grpSpPr>
          <a:xfrm>
            <a:off x="1152360" y="596880"/>
            <a:ext cx="6918480" cy="1744560"/>
            <a:chOff x="1152360" y="596880"/>
            <a:chExt cx="6918480" cy="1744560"/>
          </a:xfrm>
        </p:grpSpPr>
        <p:pic>
          <p:nvPicPr>
            <p:cNvPr id="2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596880"/>
              <a:ext cx="691848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152360" y="641520"/>
              <a:ext cx="683928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Arterial Supply of</a:t>
              </a:r>
              <a:br>
                <a:rPr sz="4000"/>
              </a:b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Conducting Syste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5562720" y="2209680"/>
            <a:ext cx="35812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N, AVN &amp;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VB are usually supplied by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Right Bundle Branch (RBB) of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ft cor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 of (AVB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supplied by both Right and Left coron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228600" y="2666880"/>
            <a:ext cx="4724280" cy="335304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2438280" y="297180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2286000" y="4419720"/>
            <a:ext cx="685800" cy="4572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31f74"/>
                </a:solidFill>
                <a:uFillTx/>
                <a:latin typeface="Times New Roman"/>
              </a:rPr>
              <a:t>(3)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 Gr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 Midd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 Sm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Oblique vein of left atrium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(vein of Marshal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 flipV="1" rot="10800000">
            <a:off x="2209680" y="456120"/>
            <a:ext cx="4572000" cy="10666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Users\Administrator\Documents\CARDIOVAS (B)\New Folder heart\scan0006.jpg"/>
          <p:cNvPicPr/>
          <p:nvPr/>
        </p:nvPicPr>
        <p:blipFill>
          <a:blip r:embed="rId1"/>
          <a:srcRect l="0" t="51951" r="0" b="3139"/>
          <a:stretch/>
        </p:blipFill>
        <p:spPr>
          <a:xfrm>
            <a:off x="254160" y="2050920"/>
            <a:ext cx="4800600" cy="458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Left Arrow 3"/>
          <p:cNvSpPr/>
          <p:nvPr/>
        </p:nvSpPr>
        <p:spPr>
          <a:xfrm>
            <a:off x="2971800" y="4114800"/>
            <a:ext cx="533520" cy="130320"/>
          </a:xfrm>
          <a:prstGeom prst="leftArrow">
            <a:avLst>
              <a:gd name="adj1" fmla="val 50000"/>
              <a:gd name="adj2" fmla="val 49753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ight Arrow 5"/>
          <p:cNvSpPr/>
          <p:nvPr/>
        </p:nvSpPr>
        <p:spPr>
          <a:xfrm>
            <a:off x="2295360" y="4179960"/>
            <a:ext cx="295560" cy="16344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380880" y="3962520"/>
            <a:ext cx="838440" cy="28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80880" y="3962520"/>
            <a:ext cx="685800" cy="380880"/>
          </a:xfrm>
          <a:prstGeom prst="rect">
            <a:avLst/>
          </a:prstGeom>
          <a:noFill/>
          <a:ln w="12600">
            <a:solidFill>
              <a:srgbClr val="052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380880" y="2819520"/>
            <a:ext cx="838440" cy="5331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ermin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t empties into Right Atrium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opening is inferior &amp;  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guarded by a val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32" name="Left Arrow 2"/>
          <p:cNvSpPr/>
          <p:nvPr/>
        </p:nvSpPr>
        <p:spPr>
          <a:xfrm>
            <a:off x="2362320" y="5410080"/>
            <a:ext cx="304560" cy="7632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419360" y="2700000"/>
            <a:ext cx="4724280" cy="3430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. Anterior cardiac veins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directly into the  Right At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enae Cordis minime (small cardiac vein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into the heart cha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380880" y="2590920"/>
            <a:ext cx="3614760" cy="3962160"/>
          </a:xfrm>
          <a:prstGeom prst="rect">
            <a:avLst/>
          </a:prstGeom>
          <a:ln w="0">
            <a:noFill/>
          </a:ln>
        </p:spPr>
      </p:pic>
      <p:sp>
        <p:nvSpPr>
          <p:cNvPr id="235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76520" y="762120"/>
            <a:ext cx="5029200" cy="19224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  <a:ea typeface="Times New Roman"/>
              </a:rPr>
              <a:t>Veins Draining outside Coronary Sin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9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wo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8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657600" y="1600200"/>
            <a:ext cx="51055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5"/>
          <p:cNvCxnSpPr/>
          <p:nvPr/>
        </p:nvCxnSpPr>
        <p:spPr>
          <a:xfrm flipH="1">
            <a:off x="6247800" y="2971440"/>
            <a:ext cx="533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934320" y="2438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 Coronary art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657600" y="4495680"/>
            <a:ext cx="990720" cy="45720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262260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y arise 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Ascending Aorta (Aortic Sinuses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mmediately above the aortic val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7560" y="1571760"/>
            <a:ext cx="3067200" cy="3952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1562040" y="3276720"/>
            <a:ext cx="8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 flipH="1" flipV="1">
            <a:off x="875520" y="1814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Straight Arrow Connector 13"/>
          <p:cNvCxnSpPr/>
          <p:nvPr/>
        </p:nvCxnSpPr>
        <p:spPr>
          <a:xfrm flipV="1">
            <a:off x="2365200" y="1904760"/>
            <a:ext cx="53424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TextBox 14"/>
          <p:cNvSpPr/>
          <p:nvPr/>
        </p:nvSpPr>
        <p:spPr>
          <a:xfrm>
            <a:off x="27432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3" descr="C:\Documents and Settings\User\My Documents\Student Gray\3. Thorax\F66122-003-f068.jpg"/>
          <p:cNvPicPr/>
          <p:nvPr/>
        </p:nvPicPr>
        <p:blipFill>
          <a:blip r:embed="rId2"/>
          <a:srcRect l="15108" t="0" r="15584" b="3125"/>
          <a:stretch/>
        </p:blipFill>
        <p:spPr>
          <a:xfrm>
            <a:off x="1677960" y="4267080"/>
            <a:ext cx="3425760" cy="221004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8"/>
          <p:cNvCxnSpPr/>
          <p:nvPr/>
        </p:nvCxnSpPr>
        <p:spPr>
          <a:xfrm flipV="1">
            <a:off x="4419720" y="3123360"/>
            <a:ext cx="1296000" cy="2591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Straight Arrow Connector 11"/>
          <p:cNvCxnSpPr/>
          <p:nvPr/>
        </p:nvCxnSpPr>
        <p:spPr>
          <a:xfrm flipV="1">
            <a:off x="2364840" y="3276000"/>
            <a:ext cx="33505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Oval 12"/>
          <p:cNvSpPr/>
          <p:nvPr/>
        </p:nvSpPr>
        <p:spPr>
          <a:xfrm>
            <a:off x="3962520" y="4876920"/>
            <a:ext cx="914400" cy="228600"/>
          </a:xfrm>
          <a:prstGeom prst="ellipse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Title 1"/>
          <p:cNvGrpSpPr/>
          <p:nvPr/>
        </p:nvGrpSpPr>
        <p:grpSpPr>
          <a:xfrm>
            <a:off x="457200" y="244440"/>
            <a:ext cx="8156520" cy="1004760"/>
            <a:chOff x="457200" y="244440"/>
            <a:chExt cx="8156520" cy="1004760"/>
          </a:xfrm>
        </p:grpSpPr>
        <p:pic>
          <p:nvPicPr>
            <p:cNvPr id="136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44440"/>
              <a:ext cx="81565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475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aortic si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etween the Right Auricle and the Pulmonary trunk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es posteriorl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C:\Users\Administrator\Documents\CARDIOVAS (B)\New Folder heart\scan0006.jpg"/>
          <p:cNvPicPr/>
          <p:nvPr/>
        </p:nvPicPr>
        <p:blipFill>
          <a:blip r:embed="rId2"/>
          <a:srcRect l="1642" t="1205" r="2428" b="53239"/>
          <a:stretch/>
        </p:blipFill>
        <p:spPr>
          <a:xfrm>
            <a:off x="4722840" y="1638360"/>
            <a:ext cx="4311720" cy="4298760"/>
          </a:xfrm>
          <a:prstGeom prst="rect">
            <a:avLst/>
          </a:prstGeom>
          <a:ln w="0">
            <a:noFill/>
          </a:ln>
        </p:spPr>
      </p:pic>
      <p:sp>
        <p:nvSpPr>
          <p:cNvPr id="141" name="Down Arrow 4"/>
          <p:cNvSpPr/>
          <p:nvPr/>
        </p:nvSpPr>
        <p:spPr>
          <a:xfrm>
            <a:off x="6107040" y="34671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Down Arrow 5"/>
          <p:cNvSpPr/>
          <p:nvPr/>
        </p:nvSpPr>
        <p:spPr>
          <a:xfrm>
            <a:off x="5943600" y="2819520"/>
            <a:ext cx="239760" cy="3045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Up Arrow 6"/>
          <p:cNvSpPr/>
          <p:nvPr/>
        </p:nvSpPr>
        <p:spPr>
          <a:xfrm>
            <a:off x="6553080" y="3695760"/>
            <a:ext cx="228600" cy="342720"/>
          </a:xfrm>
          <a:prstGeom prst="upArrow">
            <a:avLst>
              <a:gd name="adj1" fmla="val 50000"/>
              <a:gd name="adj2" fmla="val 49974"/>
            </a:avLst>
          </a:prstGeom>
          <a:solidFill>
            <a:srgbClr val="0000ff"/>
          </a:solidFill>
          <a:ln w="12600">
            <a:solidFill>
              <a:srgbClr val="0508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0" y="838080"/>
            <a:ext cx="4572000" cy="54864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RCA ) 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 ventricle &amp; Atrioventricular sept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conducting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47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635040"/>
          </a:xfrm>
          <a:prstGeom prst="rect">
            <a:avLst/>
          </a:prstGeom>
          <a:gradFill rotWithShape="0">
            <a:gsLst>
              <a:gs pos="0">
                <a:srgbClr val="ffffb5"/>
              </a:gs>
              <a:gs pos="100000">
                <a:srgbClr val="ffffe8"/>
              </a:gs>
            </a:gsLst>
            <a:lin ang="16200000"/>
          </a:gradFill>
          <a:ln w="9360">
            <a:solidFill>
              <a:srgbClr val="f8faa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56272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C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or infundibulum and upper part of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ventricular branch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2-3 branches supply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rginal arter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s the largest branch, runs along the lower margin of the sternocostal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is accompanied by the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Small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Content Placeholder 6" descr="CoronaryVeins1.jpg"/>
          <p:cNvPicPr/>
          <p:nvPr/>
        </p:nvPicPr>
        <p:blipFill>
          <a:blip r:embed="rId1"/>
          <a:stretch/>
        </p:blipFill>
        <p:spPr>
          <a:xfrm>
            <a:off x="3924360" y="1981080"/>
            <a:ext cx="5111640" cy="3824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4" name="Oval 8"/>
          <p:cNvSpPr/>
          <p:nvPr/>
        </p:nvSpPr>
        <p:spPr>
          <a:xfrm>
            <a:off x="3851280" y="2708280"/>
            <a:ext cx="1008000" cy="649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Straight Arrow Connector 11"/>
          <p:cNvCxnSpPr/>
          <p:nvPr/>
        </p:nvCxnSpPr>
        <p:spPr>
          <a:xfrm flipH="1" flipV="1">
            <a:off x="5912640" y="4190760"/>
            <a:ext cx="793080" cy="18007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6" name="Straight Arrow Connector 14"/>
          <p:cNvCxnSpPr/>
          <p:nvPr/>
        </p:nvCxnSpPr>
        <p:spPr>
          <a:xfrm flipH="1" flipV="1">
            <a:off x="5336640" y="4479480"/>
            <a:ext cx="1153440" cy="151200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7" name="Straight Arrow Connector 18"/>
          <p:cNvCxnSpPr/>
          <p:nvPr/>
        </p:nvCxnSpPr>
        <p:spPr>
          <a:xfrm flipH="1">
            <a:off x="5808240" y="1693800"/>
            <a:ext cx="1153440" cy="1874160"/>
          </a:xfrm>
          <a:prstGeom prst="straightConnector1">
            <a:avLst/>
          </a:prstGeom>
          <a:ln w="28440">
            <a:solidFill>
              <a:srgbClr val="001350"/>
            </a:solidFill>
            <a:miter/>
            <a:tailEnd len="med" type="triangle" w="med"/>
          </a:ln>
        </p:spPr>
      </p:cxnSp>
      <p:sp>
        <p:nvSpPr>
          <p:cNvPr id="158" name="TextBox 2"/>
          <p:cNvSpPr/>
          <p:nvPr/>
        </p:nvSpPr>
        <p:spPr>
          <a:xfrm>
            <a:off x="6705720" y="1523880"/>
            <a:ext cx="14475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ight co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Straight Arrow Connector 4"/>
          <p:cNvCxnSpPr/>
          <p:nvPr/>
        </p:nvCxnSpPr>
        <p:spPr>
          <a:xfrm>
            <a:off x="2361960" y="4724280"/>
            <a:ext cx="2975400" cy="7668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4" descr="CoronaryVeins2.jpg"/>
          <p:cNvPicPr/>
          <p:nvPr/>
        </p:nvPicPr>
        <p:blipFill>
          <a:blip r:embed="rId1"/>
          <a:stretch/>
        </p:blipFill>
        <p:spPr>
          <a:xfrm>
            <a:off x="3886200" y="2590920"/>
            <a:ext cx="5111640" cy="3448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152280" y="-76680"/>
            <a:ext cx="4038480" cy="7543800"/>
          </a:xfrm>
          <a:prstGeom prst="rect">
            <a:avLst/>
          </a:prstGeom>
          <a:gradFill rotWithShape="0">
            <a:gsLst>
              <a:gs pos="0">
                <a:srgbClr val="bbc1ff"/>
              </a:gs>
              <a:gs pos="100000">
                <a:srgbClr val="eaecff"/>
              </a:gs>
            </a:gsLst>
            <a:lin ang="16200000"/>
          </a:gradFill>
          <a:ln w="9360">
            <a:solidFill>
              <a:srgbClr val="a4a9e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trial branches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anterior and lateral surfaces of the right at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ne branch supplies posterior surface of both atr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tery of the Sinuatrial No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ies the SAN and both atr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35% it arises from the left corona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 ventricular branch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bout 2 supply the diaphragmatic surface of the right ventri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sterior Interventricular artery;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(accompanied by Middle Cardiac ve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ies in the posterior interventricular groove, it supplies the Right and Left Ventricles, including their inferior wall, posterior part of ventricular septum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the Apical par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8101080" y="3213000"/>
            <a:ext cx="647640" cy="360360"/>
          </a:xfrm>
          <a:prstGeom prst="ellipse">
            <a:avLst/>
          </a:prstGeom>
          <a:noFill/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812000" y="4941720"/>
            <a:ext cx="1081080" cy="503280"/>
          </a:xfrm>
          <a:prstGeom prst="rect">
            <a:avLst/>
          </a:prstGeom>
          <a:noFill/>
          <a:ln w="38160">
            <a:solidFill>
              <a:srgbClr val="6086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Straight Arrow Connector 8"/>
          <p:cNvCxnSpPr/>
          <p:nvPr/>
        </p:nvCxnSpPr>
        <p:spPr>
          <a:xfrm flipV="1">
            <a:off x="4211280" y="4723920"/>
            <a:ext cx="1585080" cy="93744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165" name="Straight Arrow Connector 9"/>
          <p:cNvCxnSpPr/>
          <p:nvPr/>
        </p:nvCxnSpPr>
        <p:spPr>
          <a:xfrm flipV="1">
            <a:off x="4211640" y="4796640"/>
            <a:ext cx="1945440" cy="8643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166" name="Straight Arrow Connector 10"/>
          <p:cNvCxnSpPr/>
          <p:nvPr/>
        </p:nvCxnSpPr>
        <p:spPr>
          <a:xfrm>
            <a:off x="1752120" y="387360"/>
            <a:ext cx="6077880" cy="3124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8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7150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rises from t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posterior aortic sinu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086fb"/>
                </a:solidFill>
                <a:uFillTx/>
                <a:latin typeface="Times New Roman"/>
              </a:rPr>
              <a:t>Descends</a:t>
            </a:r>
            <a:r>
              <a:rPr b="1" lang="en-US" sz="2400" spc="-1" strike="noStrike">
                <a:solidFill>
                  <a:srgbClr val="6086fb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Between the pulmonary trunk and the left auric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V groove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to the apex of the heart.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Divides into two terminal branch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&amp; Circumflex</a:t>
            </a:r>
            <a:r>
              <a:rPr b="1" i="1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arteri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2" descr="C:\Users\Administrator\Documents\CARDIOVAS (B)\New Folder heart\scan0006.jpg"/>
          <p:cNvPicPr/>
          <p:nvPr/>
        </p:nvPicPr>
        <p:blipFill>
          <a:blip r:embed="rId2"/>
          <a:srcRect l="1642" t="1206" r="2428" b="53236"/>
          <a:stretch/>
        </p:blipFill>
        <p:spPr>
          <a:xfrm>
            <a:off x="4343400" y="1523880"/>
            <a:ext cx="4313160" cy="4724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2" name="Down Arrow 4"/>
          <p:cNvSpPr/>
          <p:nvPr/>
        </p:nvSpPr>
        <p:spPr>
          <a:xfrm>
            <a:off x="6477120" y="28195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  <p:sp>
        <p:nvSpPr>
          <p:cNvPr id="174" name="Oval 2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7620120" y="3733920"/>
            <a:ext cx="914400" cy="7617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cp:keywords/>
  <dc:language>en-US</dc:language>
  <cp:lastModifiedBy>Gamilah H. Al-Madani</cp:lastModifiedBy>
  <cp:lastPrinted>2009-04-22T19:24:48Z</cp:lastPrinted>
  <dcterms:modified xsi:type="dcterms:W3CDTF">2015-03-29T06:24:50Z</dcterms:modified>
  <cp:revision>141</cp:revision>
  <dc:subject/>
  <dc:title>Ch 21: Cardiovascular System - The Heart -</dc:title>
</cp:coreProperties>
</file>