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F911-E64B-4E35-B67B-1E58D3C81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69E2-4D31-4C11-B976-4FFADFB09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27BD-E36E-46D3-A658-511FB9067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5599-95C6-4E5C-8E2E-3EB3E028A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BD134-1D7A-49C2-97E6-43F435DA7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4CDC2-B87C-464F-A8BE-B46F962BC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001E8-8BD6-41EF-B8B5-0CAFFF58F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149E1-19A5-440D-9410-E91B9B099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86D6C-C4E0-48C2-A787-A32652ACB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4EA74-5740-4449-A5F9-EF72A6DD5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FF3EE-8403-4399-806A-F81FF1E8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B2BE-C9A2-4F05-917A-0E1EA8D5A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2988D-BB0F-46DC-8915-B52011CC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6491F-02E8-44BD-9801-9402D321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E8904-77E5-410A-A728-0CB613902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1C13E-2D3A-4E94-B941-ECB0DFDB6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C65FD-F64B-464C-9653-673788711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80D9-48DA-495E-A9EA-0AA063109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55B5-9D9D-4735-892D-B984B5DBC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6FC3-7554-4272-BD76-64F3093DA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E439-0896-4D5E-BB7E-83A57E0DB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0A6D-0B39-46EC-883C-5C8F6FD9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C90F-E68B-4CA4-8441-A299BDAA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C2BB-0164-4F35-9960-E385A786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8209B-38F3-4BC4-B973-3B8F2E0FF0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73127-4F5E-4857-B505-C2DA51A682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8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Lactic Acidosi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r. Sumbul Fat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 Le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rdiovascular 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8" descr="Picture1"/>
          <p:cNvPicPr/>
          <p:nvPr/>
        </p:nvPicPr>
        <p:blipFill>
          <a:blip r:embed="rId1"/>
          <a:srcRect l="0" t="932" r="0" b="50716"/>
          <a:stretch/>
        </p:blipFill>
        <p:spPr>
          <a:xfrm>
            <a:off x="533520" y="1371600"/>
            <a:ext cx="81151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Metabolic alkal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34136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crease in bicarbonate conc. in EC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uses a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ss of 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ons in gastric fluid due to vom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gestion of sodium bicarbon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tassium deficiency as a result of diuretic thera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linical effects of alkal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134136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ypoventilation (depressed breath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creases P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to compensate alkal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spiratory arr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fusion, coma, dea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7" descr="Picture1"/>
          <p:cNvPicPr/>
          <p:nvPr/>
        </p:nvPicPr>
        <p:blipFill>
          <a:blip r:embed="rId1"/>
          <a:srcRect l="0" t="48113" r="0" b="5899"/>
          <a:stretch/>
        </p:blipFill>
        <p:spPr>
          <a:xfrm>
            <a:off x="571680" y="1752480"/>
            <a:ext cx="81151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Lactic acid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levated conc. of plasma lactate is called lactic acid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ccurs either du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ailure of circulatory system (hypoxi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sorders of carbohydrate metaboli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Lactate metabolism in tiss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body tissues produce ~ 1500 mmoles of lactate each 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lactate enters blood stream and metabolized mainly by the liver (Cori cyc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ll tissues can produce lactate under anaerobic condi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yruvate is converted to lactate by lactate dehydrogenase enzy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2265120" y="1020600"/>
            <a:ext cx="443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Arial"/>
              </a:rPr>
              <a:t>Pyruvate + NADH + H</a:t>
            </a:r>
            <a:r>
              <a:rPr b="1" lang="en-US" sz="3200" spc="-1" strike="noStrike" baseline="30000">
                <a:solidFill>
                  <a:srgbClr val="4f81bd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"/>
          <p:cNvSpPr/>
          <p:nvPr/>
        </p:nvSpPr>
        <p:spPr>
          <a:xfrm>
            <a:off x="4267080" y="2286000"/>
            <a:ext cx="0" cy="990720"/>
          </a:xfrm>
          <a:prstGeom prst="line">
            <a:avLst/>
          </a:prstGeom>
          <a:ln w="5724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2925360" y="3916440"/>
            <a:ext cx="308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81bd"/>
                </a:solidFill>
                <a:latin typeface="Arial"/>
              </a:rPr>
              <a:t>Lactate + NAD</a:t>
            </a:r>
            <a:r>
              <a:rPr b="1" lang="en-US" sz="3200" spc="-1" strike="noStrike" baseline="30000">
                <a:solidFill>
                  <a:srgbClr val="4f81bd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4575240" y="2514600"/>
            <a:ext cx="35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504d"/>
                </a:solidFill>
                <a:latin typeface="Arial"/>
              </a:rPr>
              <a:t>Lactate dehydrogen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6" descr="glycogen_Cori_cycle"/>
          <p:cNvPicPr/>
          <p:nvPr/>
        </p:nvPicPr>
        <p:blipFill>
          <a:blip r:embed="rId1"/>
          <a:stretch/>
        </p:blipFill>
        <p:spPr>
          <a:xfrm>
            <a:off x="1828800" y="1295280"/>
            <a:ext cx="5486400" cy="366264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7"/>
          <p:cNvSpPr/>
          <p:nvPr/>
        </p:nvSpPr>
        <p:spPr>
          <a:xfrm>
            <a:off x="3278160" y="5410080"/>
            <a:ext cx="22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The Cori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Lactate metabolism in tiss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skeletal muscles produce high amounts of lactate during vigorous exerci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actate is metabolized in liver (60%) and kidney (30%) to gluc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me lactate is metabolized to CO2 and water (Krebs cyc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Mechanisms involved in lactic acidos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actic acidosis can occur du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xcessive tissue lactate p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mpaired hepatic metabolism of lact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189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troduction to metabolic acid-base disord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tabolic acidosis and alkal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actic acid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efin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actate metabolism in tiss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chanisms involved in lactic acid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ypes and causes of lactic acid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iagnosis and treat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Types and causes of lactic acid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ype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ue to hypoxia in tissues (most comm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ypoxia causes impaired oxidative phosphorylation and decreased ATP synth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o survive, the cells switch to anaerobic glycolysis for ATP synth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s produces lactate as a final produ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amount of oxygen required to recover from oxygen deficiency is called </a:t>
            </a: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oxygen deb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Types and causes of lactic acid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ype A is due to inadequate supply of oxygen to tissues i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yocardial infar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ulmonary emboli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Uncontrolled hemorrh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issue hypoperfusion (shock, cardiac arrest, acute heart failure, et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naerobic muscular exerci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Types and causes of lactic acid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ype 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ue to disorders in carbohydrate metabol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ngenital lactic acidosis is due to deficiency of pyruvate dehydrogenase enzy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ronic hepatic disease accompanied by shock or blee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iver fail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rug intox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Diagnosis and treat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agnosis done by measuring blood lactate lev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yperlactemia: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 – 5 mmols/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re lactic acidosis: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&gt; 5 mmols/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eatm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rrecting the underlying condi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estoring adequate tissue oxy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voiding sodium bicarbon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Metabolic acid-base disord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0948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anges in bicarbonate conc. in the extracellular fluid (ECF) cause acid-base disord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ccur due to high conc. or loss of 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n lead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tabolic acid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tabolic alkal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"/>
          <p:cNvPicPr/>
          <p:nvPr/>
        </p:nvPicPr>
        <p:blipFill>
          <a:blip r:embed="rId1"/>
          <a:srcRect l="12617" t="3170" r="0" b="3458"/>
          <a:stretch/>
        </p:blipFill>
        <p:spPr>
          <a:xfrm>
            <a:off x="1981080" y="228600"/>
            <a:ext cx="44532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8" descr="Picture3"/>
          <p:cNvPicPr/>
          <p:nvPr/>
        </p:nvPicPr>
        <p:blipFill>
          <a:blip r:embed="rId1"/>
          <a:srcRect l="6326" t="7132" r="6130" b="5573"/>
          <a:stretch/>
        </p:blipFill>
        <p:spPr>
          <a:xfrm>
            <a:off x="685800" y="1077840"/>
            <a:ext cx="746748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Metabolic acid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144792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duction in bicarbonate conc. of EC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uses a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creased production of 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gestion of 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or drugs metabolized to ac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mpaired excretion of 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Anion g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44792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t is the difference between the sum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Na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and K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(cations) a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sum of Cl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and H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alibri"/>
              </a:rPr>
              <a:t>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(anion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lps in assessing acid-base probl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rmal anion gap: 3-11 mEq/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gh anion gap: &gt;11 mEq/L (acidosi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w anion gap: &lt;3 mEq/L (alkalosi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Metabolic acid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44792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gh anion gap occurs i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nal dise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abetic ketoacid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actic acid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ronic diarrh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iso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nal tubular acid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linical effects of acid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34136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9646"/>
                </a:solidFill>
                <a:latin typeface="Calibri"/>
              </a:rPr>
              <a:t>Hyperventilation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s the compensatory physiological response to acid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creased H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conc. stimulates respiratory respon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yperventilation: deep, rapid, and gasping respiratory patte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rrhythmia, cardiac arr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ss of consciousness, coma, dea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Dr. Sumbul Fatma</dc:creator>
  <dc:description/>
  <dc:language>en-US</dc:language>
  <cp:lastModifiedBy>Sumbul Fatma</cp:lastModifiedBy>
  <dcterms:modified xsi:type="dcterms:W3CDTF">2015-03-08T08:11:33Z</dcterms:modified>
  <cp:revision>44</cp:revision>
  <dc:subject/>
  <dc:title>Slide 1</dc:title>
</cp:coreProperties>
</file>