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7F1-4BA8-4798-BBC4-C42BF766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C45-1E81-444F-902F-92388528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8CF-492A-4431-9D70-697C3248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E41-877A-4FAD-9DEE-38CC692B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473-9260-471D-9D72-2472E5E2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5492-947C-4221-97CC-AA24E87C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90E6-312F-4DB2-B071-C485947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4732-18B0-4487-B65B-59733E0A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3ECE-B9E1-48A3-B6E0-A21F1FEF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1187-D0D7-4B8D-A8CC-608C38F5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07A8-4249-449A-BB76-18D93D7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B13-C21E-4A14-B2B4-BA422D15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3AF5-37DA-4B13-A12B-B3D9DD8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0725-4011-4F9A-A2A7-64D1EA1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BF39-66B2-4265-9579-F8A49CFA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7C1F-35C5-400E-9E0F-354A0D94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D824-234B-4921-A318-000B8B9D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450-2F50-484A-B934-2F317FD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7D6-5E6B-45BB-B0ED-D009E445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29F-FB9F-44C8-BD5F-BACA9302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F7A-175D-4C1D-BA86-5D5B1BC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4D7-493E-4995-A802-30300032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35B-B810-41F9-9E76-2B53D4C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39F-7E76-4D05-9F08-AF0D30AA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0CEB-A3CE-4AAE-A4D3-6FFED6D91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CC49-9861-45D4-B302-7537A0308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2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Sumbul Fatma</cp:lastModifiedBy>
  <dcterms:modified xsi:type="dcterms:W3CDTF">2015-03-08T08:11:33Z</dcterms:modified>
  <cp:revision>44</cp:revision>
  <dc:subject/>
  <dc:title>Slide 1</dc:title>
</cp:coreProperties>
</file>