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A432-1C0F-4683-B2A2-470EABBB3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4096-3AE6-449F-93E5-A7A2B6B4E1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51F9-56EF-4C0E-B9EC-F3AAD670C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70B3-C6F1-4BFB-AD57-9ADAD67462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B17F-F8CD-49FB-8C45-FDBBD4A299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A266-8C4B-4DF0-9DBB-E350E4A63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591CD-27BA-4EC0-992E-4ED29EB7D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ED76-3F48-4B17-91AA-0904420E9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62654-47F1-48F4-A3F0-C7B0B3020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ED560-A443-4934-8163-0407E5680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CDAF7-E0A4-48A1-B301-1465F1287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5D1C-AF9A-4CA7-B0B4-369C06CDE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40368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D347-9BAD-4CAF-882A-D0918606802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Cholesterol Metabo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Cardiovascular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Further steps 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roduction of a 5-carbon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Isopentinyl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pyrophosphate (IP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ondensation to a 30C compound: squal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yclization of squalene to 30C lano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27-Carbon cholesterol (defect in this leads to Smith-Lemli-Opitz Syndro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1"/>
          <p:cNvGrpSpPr/>
          <p:nvPr/>
        </p:nvGrpSpPr>
        <p:grpSpPr>
          <a:xfrm>
            <a:off x="836640" y="3240"/>
            <a:ext cx="7850160" cy="6781680"/>
            <a:chOff x="836640" y="3240"/>
            <a:chExt cx="7850160" cy="6781680"/>
          </a:xfrm>
        </p:grpSpPr>
        <p:pic>
          <p:nvPicPr>
            <p:cNvPr id="60" name="Picture 2" descr="C:\Documents and Settings\aa\Desktop\141-repeaters\New Folder\chapter18\chapter18\jpg\1805_Synthesis_cholesterol.jpg"/>
            <p:cNvPicPr/>
            <p:nvPr/>
          </p:nvPicPr>
          <p:blipFill>
            <a:blip r:embed="rId1"/>
            <a:srcRect l="0" t="2467" r="0" b="2529"/>
            <a:stretch/>
          </p:blipFill>
          <p:spPr>
            <a:xfrm>
              <a:off x="836640" y="3240"/>
              <a:ext cx="7752240" cy="678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AutoShape 3"/>
            <p:cNvSpPr/>
            <p:nvPr/>
          </p:nvSpPr>
          <p:spPr>
            <a:xfrm>
              <a:off x="7020720" y="597960"/>
              <a:ext cx="1666080" cy="67464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AutoShape 4"/>
            <p:cNvSpPr/>
            <p:nvPr/>
          </p:nvSpPr>
          <p:spPr>
            <a:xfrm>
              <a:off x="1140480" y="2526120"/>
              <a:ext cx="2057760" cy="86760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AutoShape 5"/>
            <p:cNvSpPr/>
            <p:nvPr/>
          </p:nvSpPr>
          <p:spPr>
            <a:xfrm>
              <a:off x="846720" y="501840"/>
              <a:ext cx="1567800" cy="77112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8" y="6724"/>
                    <a:pt x="20638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944640" y="618948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AutoShape 7"/>
            <p:cNvSpPr/>
            <p:nvPr/>
          </p:nvSpPr>
          <p:spPr>
            <a:xfrm>
              <a:off x="4276800" y="628596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AutoShape 8"/>
            <p:cNvSpPr/>
            <p:nvPr/>
          </p:nvSpPr>
          <p:spPr>
            <a:xfrm>
              <a:off x="6629040" y="6189480"/>
              <a:ext cx="1469880" cy="481680"/>
            </a:xfrm>
            <a:custGeom>
              <a:avLst/>
              <a:gdLst/>
              <a:ahLst/>
              <a:rect l="l" t="t" r="r" b="b"/>
              <a:pathLst>
                <a:path w="19679" h="19679">
                  <a:moveTo>
                    <a:pt x="16796" y="2881"/>
                  </a:moveTo>
                  <a:cubicBezTo>
                    <a:pt x="20639" y="6724"/>
                    <a:pt x="20639" y="12953"/>
                    <a:pt x="16796" y="16796"/>
                  </a:cubicBezTo>
                  <a:cubicBezTo>
                    <a:pt x="12953" y="20638"/>
                    <a:pt x="6724" y="20638"/>
                    <a:pt x="2881" y="16796"/>
                  </a:cubicBezTo>
                  <a:cubicBezTo>
                    <a:pt x="-961" y="12953"/>
                    <a:pt x="-961" y="6724"/>
                    <a:pt x="2881" y="2881"/>
                  </a:cubicBezTo>
                  <a:cubicBezTo>
                    <a:pt x="6724" y="-961"/>
                    <a:pt x="12953" y="-961"/>
                    <a:pt x="16796" y="288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Calibri"/>
                <a:ea typeface="Calibri"/>
              </a:rPr>
              <a:t>Regulation of Cholesterol 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reductase is the rate-limiting enzyme of cholesterol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2"/>
          <p:cNvGrpSpPr/>
          <p:nvPr/>
        </p:nvGrpSpPr>
        <p:grpSpPr>
          <a:xfrm>
            <a:off x="1295280" y="1522440"/>
            <a:ext cx="6688080" cy="4255920"/>
            <a:chOff x="1295280" y="1522440"/>
            <a:chExt cx="6688080" cy="4255920"/>
          </a:xfrm>
        </p:grpSpPr>
        <p:sp>
          <p:nvSpPr>
            <p:cNvPr id="71" name="AutoShape 3"/>
            <p:cNvSpPr/>
            <p:nvPr/>
          </p:nvSpPr>
          <p:spPr>
            <a:xfrm>
              <a:off x="3733200" y="1522440"/>
              <a:ext cx="65520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Ge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AutoShape 4"/>
            <p:cNvSpPr/>
            <p:nvPr/>
          </p:nvSpPr>
          <p:spPr>
            <a:xfrm>
              <a:off x="3378600" y="2436840"/>
              <a:ext cx="150516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ranscrip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AutoShape 5"/>
            <p:cNvSpPr/>
            <p:nvPr/>
          </p:nvSpPr>
          <p:spPr>
            <a:xfrm>
              <a:off x="3468600" y="3311280"/>
              <a:ext cx="127836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ransl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AutoShape 6"/>
            <p:cNvSpPr/>
            <p:nvPr/>
          </p:nvSpPr>
          <p:spPr>
            <a:xfrm>
              <a:off x="3015720" y="4314600"/>
              <a:ext cx="222084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HMG CoA Reductas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AutoShape 7"/>
            <p:cNvSpPr/>
            <p:nvPr/>
          </p:nvSpPr>
          <p:spPr>
            <a:xfrm>
              <a:off x="3468600" y="5420160"/>
              <a:ext cx="10666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HMG Co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4113360" y="1892880"/>
              <a:ext cx="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4114080" y="2806920"/>
              <a:ext cx="6120" cy="62064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4114080" y="3721320"/>
              <a:ext cx="612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4114080" y="4788360"/>
              <a:ext cx="6120" cy="6206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2920320" y="2158920"/>
              <a:ext cx="106632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2742840" y="5028120"/>
              <a:ext cx="1294920" cy="144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772880" y="5610960"/>
              <a:ext cx="1294920" cy="14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 flipH="1">
              <a:off x="5637960" y="4520160"/>
              <a:ext cx="106632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AutoShape 16"/>
            <p:cNvSpPr/>
            <p:nvPr/>
          </p:nvSpPr>
          <p:spPr>
            <a:xfrm>
              <a:off x="1420920" y="1967400"/>
              <a:ext cx="13222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AutoShape 17"/>
            <p:cNvSpPr/>
            <p:nvPr/>
          </p:nvSpPr>
          <p:spPr>
            <a:xfrm>
              <a:off x="6050160" y="5398560"/>
              <a:ext cx="1322280" cy="358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holestero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AutoShape 18"/>
            <p:cNvSpPr/>
            <p:nvPr/>
          </p:nvSpPr>
          <p:spPr>
            <a:xfrm>
              <a:off x="1295280" y="4494600"/>
              <a:ext cx="1290960" cy="89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Glucag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Cortison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Statin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AutoShape 19"/>
            <p:cNvSpPr/>
            <p:nvPr/>
          </p:nvSpPr>
          <p:spPr>
            <a:xfrm>
              <a:off x="6856920" y="4175640"/>
              <a:ext cx="1126440" cy="8913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Insul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eece1"/>
                  </a:solidFill>
                  <a:latin typeface="Calibri"/>
                </a:rPr>
                <a:t>Thyrox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MG CoA Reductase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erol-dependent regulation of gen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terol-accelerated enzyme degra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erol-independent phosphorylation/de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Hormonal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500" spc="-1" strike="noStrike">
                <a:solidFill>
                  <a:srgbClr val="eeece1"/>
                </a:solidFill>
                <a:latin typeface="Calibri"/>
                <a:ea typeface="Calibri"/>
              </a:rPr>
              <a:t>Sterol-dependent regulation of gene expression of HMG Co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alibri"/>
                <a:ea typeface="Calibri"/>
              </a:rPr>
              <a:t>When sufficient cholesterol is present, transcription is suppressed and vice vers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eeece1"/>
                </a:solidFill>
                <a:latin typeface="Calibri"/>
                <a:ea typeface="Calibri"/>
              </a:rPr>
              <a:t>Sterol Regulatory Element (SRE) is a recognition sequence in the DN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Calibri"/>
                <a:ea typeface="Calibri"/>
              </a:rPr>
              <a:t>SREBP (SRE binding protein) binding to SRE is essential for transcription of this ge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100" spc="-1" strike="noStrike">
                <a:solidFill>
                  <a:srgbClr val="eeece1"/>
                </a:solidFill>
                <a:latin typeface="Calibri"/>
                <a:ea typeface="Calibri"/>
              </a:rPr>
              <a:t>SREBP cleavage-activating protein (SCAP) is an intracellular cholesterol sens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image.jpg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terol-dependent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 High</a:t>
            </a:r>
            <a:r>
              <a:rPr b="1" lang="en-US" sz="2400" spc="-1" strike="noStrike">
                <a:solidFill>
                  <a:srgbClr val="eeece1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457200" y="2174760"/>
            <a:ext cx="4040280" cy="2725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binds to insig protein (insulin-induced protein) in ER membra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is retained in the 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Down regulation of cholesterol synthe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4645080" y="1727280"/>
            <a:ext cx="4041720" cy="446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ece1"/>
                </a:solidFill>
                <a:latin typeface="Calibri"/>
              </a:rPr>
              <a:t>Cholesterol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645080" y="2174760"/>
            <a:ext cx="4041720" cy="27990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-SREBP moves to Golgi bod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CAP is removed from SRE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REBP binds to SRE in 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HMG CoA gene is activ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2880"/>
            <a:ext cx="85341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3500" spc="-1" strike="noStrike">
                <a:solidFill>
                  <a:srgbClr val="eeece1"/>
                </a:solidFill>
                <a:latin typeface="Calibri"/>
                <a:ea typeface="Calibri"/>
              </a:rPr>
              <a:t>Enzyme phosphorylation and dephosphoryl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AMP- activated protein kinase (AMPK) for phosphory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Phosphorylated form of enzyme is ina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Dephosphorylated form is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Low ATP or High AMP </a:t>
            </a:r>
            <a:r>
              <a:rPr b="0" lang="en-US" sz="3200" spc="-1" strike="noStrike">
                <a:solidFill>
                  <a:srgbClr val="ffff00"/>
                </a:solidFill>
                <a:latin typeface="Wingdings"/>
                <a:ea typeface="Wingdings"/>
              </a:rPr>
              <a:t>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ynthesis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image.jpg"/>
          <p:cNvPicPr/>
          <p:nvPr/>
        </p:nvPicPr>
        <p:blipFill>
          <a:blip r:embed="rId1"/>
          <a:stretch/>
        </p:blipFill>
        <p:spPr>
          <a:xfrm>
            <a:off x="228600" y="1204920"/>
            <a:ext cx="87631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  <a:ea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Cholesteryl 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Cholesterol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Regulation of cholesterol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Calibri"/>
              </a:rPr>
              <a:t>Excretion of choleste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803160"/>
                <a:tab algn="l" pos="1606680"/>
                <a:tab algn="l" pos="2409840"/>
                <a:tab algn="l" pos="3213000"/>
                <a:tab algn="l" pos="4016520"/>
                <a:tab algn="l" pos="4819680"/>
                <a:tab algn="l" pos="5622840"/>
                <a:tab algn="l" pos="6426360"/>
                <a:tab algn="l" pos="7229520"/>
                <a:tab algn="l" pos="8032680"/>
                <a:tab algn="l" pos="8836200"/>
                <a:tab algn="l" pos="9639360"/>
                <a:tab algn="l" pos="104425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Calibri"/>
              </a:rPr>
              <a:t>Hypercholesterolemia and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ormonal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sulin  and thyroxine increase upregulation of enzym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Glucagon and cortisol have opposit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Excretion of cholest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By conversion into bile acids and bile salts- excreted in the f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Secretion of cholesterol in 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Transported to intestine for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 the intestine, some cholesterol is converted by bacteria into coprostanol and cholestanol before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Hypercholester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igh conc. of cholesterol in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Leads to atheroscl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atin drugs are used to decrease plasma cholesterol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Statins are structural analogs of HMG CoA reduct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tatins inhibit enzyme activity by competitive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eece1"/>
                </a:solidFill>
                <a:latin typeface="Times New Roman"/>
                <a:ea typeface="Symbol"/>
              </a:rPr>
              <a:t>β</a:t>
            </a: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-Sitosterols/ Phytoste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lant sterols and are poorly absorbed by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Block the absorption of dietary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Clinically useful in the dietary treatment of hypercholesterol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Most important animal ster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aintains membrane flu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Insulating effect on nerve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is the parent molecule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Bile acids and bile s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eece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Calibri"/>
              </a:rPr>
              <a:t>Vitamin D</a:t>
            </a:r>
            <a:r>
              <a:rPr b="0" lang="en-US" sz="2800" spc="-1" strike="noStrike" baseline="-25000">
                <a:solidFill>
                  <a:srgbClr val="eeece1"/>
                </a:solidFill>
                <a:latin typeface="Calibri"/>
                <a:ea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A3C18FF1"/>
          <p:cNvPicPr/>
          <p:nvPr/>
        </p:nvPicPr>
        <p:blipFill>
          <a:blip r:embed="rId1"/>
          <a:stretch/>
        </p:blipFill>
        <p:spPr>
          <a:xfrm>
            <a:off x="4876920" y="228600"/>
            <a:ext cx="350496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0" y="1960560"/>
            <a:ext cx="4724280" cy="1409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Liver plays a central role in the regulation of cholesterol homeosta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A3C18FF2"/>
          <p:cNvPicPr/>
          <p:nvPr/>
        </p:nvPicPr>
        <p:blipFill>
          <a:blip r:embed="rId1"/>
          <a:stretch/>
        </p:blipFill>
        <p:spPr>
          <a:xfrm>
            <a:off x="2133720" y="1523880"/>
            <a:ext cx="4643280" cy="5140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yl 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Most plasma cholesterol is esterified with a fatty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Es are not present in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Present in small amounts in most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More hydrophobic than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Cholesterol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Synthesized in all t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ajor sites for synthesis: liver, adrenal cortex, testes, ovaries and intes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All carbon atoms are derived from acetyl C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Enzymes involved in biosynthesis are partly located in ER and partly in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A3C18FF3"/>
          <p:cNvPicPr/>
          <p:nvPr/>
        </p:nvPicPr>
        <p:blipFill>
          <a:blip r:embed="rId1"/>
          <a:stretch/>
        </p:blipFill>
        <p:spPr>
          <a:xfrm>
            <a:off x="838080" y="1600200"/>
            <a:ext cx="3471840" cy="495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HMG C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is present in both cytosol and mitochondria of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Mitochondrial- ketoge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Cytosolic – cholesterol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A3C18FF4"/>
          <p:cNvPicPr/>
          <p:nvPr/>
        </p:nvPicPr>
        <p:blipFill>
          <a:blip r:embed="rId1"/>
          <a:stretch/>
        </p:blipFill>
        <p:spPr>
          <a:xfrm>
            <a:off x="4836960" y="1523880"/>
            <a:ext cx="40021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ece1"/>
                </a:solidFill>
                <a:latin typeface="Calibri"/>
                <a:ea typeface="Calibri"/>
              </a:rPr>
              <a:t>Synthesis of mevalonic ac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Rate limiting and key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Calibri"/>
              </a:rPr>
              <a:t>Occurs in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  <a:ea typeface="Calibri"/>
              </a:rPr>
              <a:t>HMG CoA reductase is an ER membrane enzyme with catalytic unit hanging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umbul Fatma</dc:creator>
  <dc:description/>
  <dc:language>en-US</dc:language>
  <cp:lastModifiedBy>Sumbul Fatma</cp:lastModifiedBy>
  <dcterms:modified xsi:type="dcterms:W3CDTF">2015-03-19T04:28:25Z</dcterms:modified>
  <cp:revision>4</cp:revision>
  <dc:subject/>
  <dc:title>Cholesterol Metabolism</dc:title>
</cp:coreProperties>
</file>