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63825-D089-4CD4-AE3B-32B37B831A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BE966-639B-4E6B-994F-35B0BB0C86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4A3C0-A565-4263-B3D9-5A73550048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A8AC9-B0BD-458D-A581-4548B657C8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00A83-0B7E-41D6-851F-CA5BF4BBCD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369B2-2D22-4343-9F39-6B8B936F5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3841F-745D-42CC-ABBA-BF9EB77B1A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4EED5-9AD1-4B28-9581-532A7D8837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7C8DC-C719-4DA2-B210-B431B209CE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98B41-D43E-468D-ADC5-8A864CE32F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00CCB-7DEB-40D8-AB2C-A804A32DF1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94C60-A033-42A2-8EB7-70F2FAF2D8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40368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D6A7-3540-451C-87A7-E2892D8323C0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Cholesterol Metabolis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Cardiovascular B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. Sumbul Fat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Further steps in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Production of a 5-carbon un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Isopentinyl</a:t>
            </a:r>
            <a:r>
              <a:rPr b="0" lang="en-US" sz="2800" spc="-1" strike="noStrike">
                <a:solidFill>
                  <a:srgbClr val="eeece1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pyrophosphate (IP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Condensation to a 30C compound: squal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Cyclization of squalene to 30C lano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Synthesis of 27-Carbon cholesterol (defect in this leads to Smith-Lemli-Opitz Syndro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1"/>
          <p:cNvGrpSpPr/>
          <p:nvPr/>
        </p:nvGrpSpPr>
        <p:grpSpPr>
          <a:xfrm>
            <a:off x="836640" y="3240"/>
            <a:ext cx="7850160" cy="6781680"/>
            <a:chOff x="836640" y="3240"/>
            <a:chExt cx="7850160" cy="6781680"/>
          </a:xfrm>
        </p:grpSpPr>
        <p:pic>
          <p:nvPicPr>
            <p:cNvPr id="60" name="Picture 2" descr="C:\Documents and Settings\aa\Desktop\141-repeaters\New Folder\chapter18\chapter18\jpg\1805_Synthesis_cholesterol.jpg"/>
            <p:cNvPicPr/>
            <p:nvPr/>
          </p:nvPicPr>
          <p:blipFill>
            <a:blip r:embed="rId1"/>
            <a:srcRect l="0" t="2467" r="0" b="2529"/>
            <a:stretch/>
          </p:blipFill>
          <p:spPr>
            <a:xfrm>
              <a:off x="836640" y="3240"/>
              <a:ext cx="7752240" cy="678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AutoShape 3"/>
            <p:cNvSpPr/>
            <p:nvPr/>
          </p:nvSpPr>
          <p:spPr>
            <a:xfrm>
              <a:off x="7020720" y="597960"/>
              <a:ext cx="1666080" cy="67464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AutoShape 4"/>
            <p:cNvSpPr/>
            <p:nvPr/>
          </p:nvSpPr>
          <p:spPr>
            <a:xfrm>
              <a:off x="1140480" y="2526120"/>
              <a:ext cx="2057760" cy="86760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AutoShape 5"/>
            <p:cNvSpPr/>
            <p:nvPr/>
          </p:nvSpPr>
          <p:spPr>
            <a:xfrm>
              <a:off x="846720" y="501840"/>
              <a:ext cx="1567800" cy="7711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AutoShape 6"/>
            <p:cNvSpPr/>
            <p:nvPr/>
          </p:nvSpPr>
          <p:spPr>
            <a:xfrm>
              <a:off x="944640" y="6189480"/>
              <a:ext cx="1469880" cy="4816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AutoShape 7"/>
            <p:cNvSpPr/>
            <p:nvPr/>
          </p:nvSpPr>
          <p:spPr>
            <a:xfrm>
              <a:off x="4276800" y="6285960"/>
              <a:ext cx="1469880" cy="4816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AutoShape 8"/>
            <p:cNvSpPr/>
            <p:nvPr/>
          </p:nvSpPr>
          <p:spPr>
            <a:xfrm>
              <a:off x="6629040" y="6189480"/>
              <a:ext cx="1469880" cy="4816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Calibri"/>
                <a:ea typeface="Calibri"/>
              </a:rPr>
              <a:t>Regulation of Cholesterol Syn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HMG CoA reductase is the rate-limiting enzyme of cholesterol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HMG CoA Reductase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2"/>
          <p:cNvGrpSpPr/>
          <p:nvPr/>
        </p:nvGrpSpPr>
        <p:grpSpPr>
          <a:xfrm>
            <a:off x="1295280" y="1522440"/>
            <a:ext cx="6688080" cy="4255920"/>
            <a:chOff x="1295280" y="1522440"/>
            <a:chExt cx="6688080" cy="4255920"/>
          </a:xfrm>
        </p:grpSpPr>
        <p:sp>
          <p:nvSpPr>
            <p:cNvPr id="71" name="AutoShape 3"/>
            <p:cNvSpPr/>
            <p:nvPr/>
          </p:nvSpPr>
          <p:spPr>
            <a:xfrm>
              <a:off x="3733200" y="1522440"/>
              <a:ext cx="65520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Calibri"/>
                </a:rPr>
                <a:t>Gen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AutoShape 4"/>
            <p:cNvSpPr/>
            <p:nvPr/>
          </p:nvSpPr>
          <p:spPr>
            <a:xfrm>
              <a:off x="3378600" y="2436840"/>
              <a:ext cx="150516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Calibri"/>
                </a:rPr>
                <a:t>Transcrip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AutoShape 5"/>
            <p:cNvSpPr/>
            <p:nvPr/>
          </p:nvSpPr>
          <p:spPr>
            <a:xfrm>
              <a:off x="3468600" y="3311280"/>
              <a:ext cx="127836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Calibri"/>
                </a:rPr>
                <a:t>Transl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AutoShape 6"/>
            <p:cNvSpPr/>
            <p:nvPr/>
          </p:nvSpPr>
          <p:spPr>
            <a:xfrm>
              <a:off x="3015720" y="4314600"/>
              <a:ext cx="222084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Calibri"/>
                </a:rPr>
                <a:t>HMG CoA Reductas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AutoShape 7"/>
            <p:cNvSpPr/>
            <p:nvPr/>
          </p:nvSpPr>
          <p:spPr>
            <a:xfrm>
              <a:off x="3468600" y="5420160"/>
              <a:ext cx="106668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Calibri"/>
                </a:rPr>
                <a:t>HMG Co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4113360" y="1892880"/>
              <a:ext cx="0" cy="6206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Line 9"/>
            <p:cNvSpPr/>
            <p:nvPr/>
          </p:nvSpPr>
          <p:spPr>
            <a:xfrm>
              <a:off x="4114080" y="2806920"/>
              <a:ext cx="6120" cy="6206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Line 10"/>
            <p:cNvSpPr/>
            <p:nvPr/>
          </p:nvSpPr>
          <p:spPr>
            <a:xfrm>
              <a:off x="4114080" y="3721320"/>
              <a:ext cx="6120" cy="6206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Line 11"/>
            <p:cNvSpPr/>
            <p:nvPr/>
          </p:nvSpPr>
          <p:spPr>
            <a:xfrm>
              <a:off x="4114080" y="4788360"/>
              <a:ext cx="6120" cy="6206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Line 12"/>
            <p:cNvSpPr/>
            <p:nvPr/>
          </p:nvSpPr>
          <p:spPr>
            <a:xfrm>
              <a:off x="2920320" y="2158920"/>
              <a:ext cx="1066320" cy="144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Line 13"/>
            <p:cNvSpPr/>
            <p:nvPr/>
          </p:nvSpPr>
          <p:spPr>
            <a:xfrm>
              <a:off x="2742840" y="5028120"/>
              <a:ext cx="1294920" cy="144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Line 14"/>
            <p:cNvSpPr/>
            <p:nvPr/>
          </p:nvSpPr>
          <p:spPr>
            <a:xfrm>
              <a:off x="4772880" y="5610960"/>
              <a:ext cx="1294920" cy="14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Line 15"/>
            <p:cNvSpPr/>
            <p:nvPr/>
          </p:nvSpPr>
          <p:spPr>
            <a:xfrm flipH="1">
              <a:off x="5637960" y="4520160"/>
              <a:ext cx="1066320" cy="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AutoShape 16"/>
            <p:cNvSpPr/>
            <p:nvPr/>
          </p:nvSpPr>
          <p:spPr>
            <a:xfrm>
              <a:off x="1420920" y="1967400"/>
              <a:ext cx="132228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Calibri"/>
                </a:rPr>
                <a:t>Cholestero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AutoShape 17"/>
            <p:cNvSpPr/>
            <p:nvPr/>
          </p:nvSpPr>
          <p:spPr>
            <a:xfrm>
              <a:off x="6050160" y="5398560"/>
              <a:ext cx="132228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Calibri"/>
                </a:rPr>
                <a:t>Cholestero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AutoShape 18"/>
            <p:cNvSpPr/>
            <p:nvPr/>
          </p:nvSpPr>
          <p:spPr>
            <a:xfrm>
              <a:off x="1295280" y="4494600"/>
              <a:ext cx="1290960" cy="891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Calibri"/>
                </a:rPr>
                <a:t>Glucag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Calibri"/>
                </a:rPr>
                <a:t>Cortison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Calibri"/>
                </a:rPr>
                <a:t>Statin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AutoShape 19"/>
            <p:cNvSpPr/>
            <p:nvPr/>
          </p:nvSpPr>
          <p:spPr>
            <a:xfrm>
              <a:off x="6856920" y="4175640"/>
              <a:ext cx="1126440" cy="891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Calibri"/>
                </a:rPr>
                <a:t>Insuli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Calibri"/>
                </a:rPr>
                <a:t>Thyroxi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HMG CoA Reductase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Sterol-dependent regulation of gene 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Sterol-accelerated enzyme degra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Sterol-independent phosphorylation/dephosphor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Hormonal re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3500" spc="-1" strike="noStrike">
                <a:solidFill>
                  <a:srgbClr val="eeece1"/>
                </a:solidFill>
                <a:latin typeface="Calibri"/>
                <a:ea typeface="Calibri"/>
              </a:rPr>
              <a:t>Sterol-dependent regulation of gene expression of HMG Co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Calibri"/>
                <a:ea typeface="Calibri"/>
              </a:rPr>
              <a:t>When sufficient cholesterol is present, transcription is suppressed and vice vers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100" spc="-1" strike="noStrike">
                <a:solidFill>
                  <a:srgbClr val="eeece1"/>
                </a:solidFill>
                <a:latin typeface="Calibri"/>
                <a:ea typeface="Calibri"/>
              </a:rPr>
              <a:t>Sterol Regulatory Element (SRE) is a recognition sequence in the DN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Calibri"/>
                <a:ea typeface="Calibri"/>
              </a:rPr>
              <a:t>SREBP (SRE binding protein) binding to SRE is essential for transcription of this ge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100" spc="-1" strike="noStrike">
                <a:solidFill>
                  <a:srgbClr val="eeece1"/>
                </a:solidFill>
                <a:latin typeface="Calibri"/>
                <a:ea typeface="Calibri"/>
              </a:rPr>
              <a:t>SREBP cleavage-activating protein (SCAP) is an intracellular cholesterol senso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image.jpg"/>
          <p:cNvPicPr/>
          <p:nvPr/>
        </p:nvPicPr>
        <p:blipFill>
          <a:blip r:embed="rId1"/>
          <a:stretch/>
        </p:blipFill>
        <p:spPr>
          <a:xfrm>
            <a:off x="228600" y="1204920"/>
            <a:ext cx="876312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Sterol-dependent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Calibri"/>
                <a:ea typeface="Calibri"/>
              </a:rPr>
              <a:t>Cholesterol  High</a:t>
            </a:r>
            <a:r>
              <a:rPr b="1" lang="en-US" sz="2400" spc="-1" strike="noStrike">
                <a:solidFill>
                  <a:srgbClr val="eeece1"/>
                </a:solidFill>
                <a:latin typeface="Calibri"/>
                <a:ea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"/>
          <p:cNvSpPr/>
          <p:nvPr/>
        </p:nvSpPr>
        <p:spPr>
          <a:xfrm>
            <a:off x="457200" y="2174760"/>
            <a:ext cx="4040280" cy="2725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 marL="293760" indent="-293760">
              <a:spcBef>
                <a:spcPts val="4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SCAP binds to insig protein (insulin-induced protein) in ER membra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spcBef>
                <a:spcPts val="4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SCAP-SREBP is retained in the 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spcBef>
                <a:spcPts val="4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Down regulation of cholesterol synthe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AutoShape 4"/>
          <p:cNvSpPr/>
          <p:nvPr/>
        </p:nvSpPr>
        <p:spPr>
          <a:xfrm>
            <a:off x="4645080" y="1727280"/>
            <a:ext cx="4041720" cy="446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Calibri"/>
              </a:rPr>
              <a:t>Cholesterol 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4645080" y="2174760"/>
            <a:ext cx="4041720" cy="279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 marL="343080" indent="-343080">
              <a:spcBef>
                <a:spcPts val="4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SCAP-SREBP moves to Golgi bo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SCAP is removed from SRE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SREBP binds to SRE in D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HMG CoA gene is activ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272880"/>
            <a:ext cx="85341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3500" spc="-1" strike="noStrike">
                <a:solidFill>
                  <a:srgbClr val="eeece1"/>
                </a:solidFill>
                <a:latin typeface="Calibri"/>
                <a:ea typeface="Calibri"/>
              </a:rPr>
              <a:t>Enzyme phosphorylation and dephosphoryla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AMP- activated protein kinase (AMPK) for phosphor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Phosphorylated form of enzyme is inac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Dephosphorylated form is 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Low ATP or High AMP </a:t>
            </a:r>
            <a:r>
              <a:rPr b="0" lang="en-US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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cholesterol synthesis de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image.jpg"/>
          <p:cNvPicPr/>
          <p:nvPr/>
        </p:nvPicPr>
        <p:blipFill>
          <a:blip r:embed="rId1"/>
          <a:stretch/>
        </p:blipFill>
        <p:spPr>
          <a:xfrm>
            <a:off x="228600" y="1204920"/>
            <a:ext cx="876312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  <a:ea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alibri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Cholestero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Cholesteryl e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alibri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Cholesterol 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alibri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Regulation of cholesterol 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alibri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Excretion of cholest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Hypercholesterolemia and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Hormonal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Insulin  and thyroxine increase upregulation of enzyme 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Glucagon and cortisol have opposite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Excretion of choleste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By conversion into bile acids and bile salts- excreted in the f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eece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  <a:ea typeface="Calibri"/>
              </a:rPr>
              <a:t>Secretion of cholesterol in 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eece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  <a:ea typeface="Calibri"/>
              </a:rPr>
              <a:t>Transported to intestine for eli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In the intestine, some cholesterol is converted by bacteria into coprostanol and cholestanol before ex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Hypercholesterol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High conc. of cholesterol in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Leads to atheroscler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Statin drugs are used to decrease plasma cholesterol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Statins are structural analogs of HMG CoA reduct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Statins inhibit enzyme activity by competitive inhib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eeece1"/>
                </a:solidFill>
                <a:latin typeface="Times New Roman"/>
                <a:ea typeface="Symbol"/>
              </a:rPr>
              <a:t>β</a:t>
            </a:r>
            <a:r>
              <a:rPr b="0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-Sitosterols/ Phytoste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Plant sterols and are poorly absorbed by hu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Block the absorption of dietary ch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Clinically useful in the dietary treatment of hypercholesterole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Choleste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Most important animal stero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Maintains membrane flu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Insulating effect on nerve fi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Cholesterol is the parent molecule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eece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  <a:ea typeface="Calibri"/>
              </a:rPr>
              <a:t>Bile acids and bile sa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eece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  <a:ea typeface="Calibri"/>
              </a:rPr>
              <a:t>Steroid 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eece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  <a:ea typeface="Calibri"/>
              </a:rPr>
              <a:t>Vitamin D</a:t>
            </a:r>
            <a:r>
              <a:rPr b="0" lang="en-US" sz="2800" spc="-1" strike="noStrike" baseline="-25000">
                <a:solidFill>
                  <a:srgbClr val="eeece1"/>
                </a:solidFill>
                <a:latin typeface="Calibri"/>
                <a:ea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A3C18FF1"/>
          <p:cNvPicPr/>
          <p:nvPr/>
        </p:nvPicPr>
        <p:blipFill>
          <a:blip r:embed="rId1"/>
          <a:stretch/>
        </p:blipFill>
        <p:spPr>
          <a:xfrm>
            <a:off x="4876920" y="228600"/>
            <a:ext cx="3504960" cy="64008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>
            <a:off x="0" y="1960560"/>
            <a:ext cx="4724280" cy="1409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Liver plays a central role in the regulation of cholesterol homeosta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DA3C18FF2"/>
          <p:cNvPicPr/>
          <p:nvPr/>
        </p:nvPicPr>
        <p:blipFill>
          <a:blip r:embed="rId1"/>
          <a:stretch/>
        </p:blipFill>
        <p:spPr>
          <a:xfrm>
            <a:off x="2133720" y="1523880"/>
            <a:ext cx="4643280" cy="5140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Cholestero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Cholesteryl 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Most plasma cholesterol is esterified with a fatty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CEs are not present in membra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Present in small amounts in most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More hydrophobic than ch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Cholesterol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Synthesized in all t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Major sites for synthesis: liver, adrenal cortex, testes, ovaries and inte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All carbon atoms are derived from acetyl C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Enzymes involved in biosynthesis are partly located in ER and partly in cyt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DA3C18FF3"/>
          <p:cNvPicPr/>
          <p:nvPr/>
        </p:nvPicPr>
        <p:blipFill>
          <a:blip r:embed="rId1"/>
          <a:stretch/>
        </p:blipFill>
        <p:spPr>
          <a:xfrm>
            <a:off x="838080" y="1600200"/>
            <a:ext cx="3471840" cy="4952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Synthesis of HMG Co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HMG CoA is present in both cytosol and mitochondria of l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Mitochondrial- ket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Cytosolic – cholesterol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DA3C18FF4"/>
          <p:cNvPicPr/>
          <p:nvPr/>
        </p:nvPicPr>
        <p:blipFill>
          <a:blip r:embed="rId1"/>
          <a:stretch/>
        </p:blipFill>
        <p:spPr>
          <a:xfrm>
            <a:off x="4836960" y="1523880"/>
            <a:ext cx="4002120" cy="44197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Synthesis of mevalonic a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67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Rate limiting and key 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Occurs in cytos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HMG CoA reductase is an ER membrane enzyme with catalytic unit hanging in the cytos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umbul Fatma</dc:creator>
  <dc:description/>
  <dc:language>en-US</dc:language>
  <cp:lastModifiedBy>Sumbul Fatma</cp:lastModifiedBy>
  <dcterms:modified xsi:type="dcterms:W3CDTF">2015-03-19T04:28:25Z</dcterms:modified>
  <cp:revision>4</cp:revision>
  <dc:subject/>
  <dc:title>Cholesterol Metabolism</dc:title>
</cp:coreProperties>
</file>