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87AC-33A3-4EB5-89FE-DBDE4B65B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65E0-969A-4A79-B641-B4B18B6717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7E3B-E79C-495F-B340-C39D5C48D5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1ECD-22D8-4161-9FBC-B437A6D253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AE3-1E0D-44C6-BF9F-42D71642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92DC-1799-4C77-A055-5D07F362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5E1-6C81-48B5-AAD8-9239472C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853-1490-4A1C-92FC-3E1A6372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BEE3-F5A3-449C-9259-0C3460A9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F360-5BFA-4065-A7FD-5046AB65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54D4-7F67-45F0-86D8-786CF300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2603-E892-4012-BC23-337743D1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9F36-34BC-48DA-955E-48DF53DC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DE11-1C84-443B-84CE-78C0C05B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03E9-9A41-4E99-96D1-1703E186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49D-F796-4647-A0C3-923D2F6F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4942-D156-4842-B4EA-9108E62B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4AFF-C7DC-46E4-A402-59BFAB0C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0294-E62D-48BE-ACE8-BFDE8AA6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1F85-2093-4686-BAAC-C5D3E033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8238-7C1D-4A8D-AE52-31FA5144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808-475F-466E-B6A0-F58C08F6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495-E582-47C7-BFEA-2A2D0F3A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0B9-8E31-40AE-B06B-E58606B7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BBD-8965-4185-9C36-541E0911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4E8-DA0F-4668-9128-50CE73EC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695-3F54-4958-9356-469A1B70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E71-7273-4C9B-9D5D-EFA66757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6659-C418-4744-96E9-B8D6F73C97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64a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64a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4a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64a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4a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64a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4a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64a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4a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64a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64a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4a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64a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64a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4a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64a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64a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4a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64a2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9fb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5996-6318-450B-B678-B37DDBFF3ABC}" type="slidenum">
              <a:rPr b="0" lang="en-US" sz="1200" spc="-1" strike="noStrike">
                <a:solidFill>
                  <a:srgbClr val="ac9fb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roup_A_streptococcal_infection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1249560" y="2514600"/>
            <a:ext cx="65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ece1"/>
                </a:solidFill>
                <a:latin typeface="Comic Sans MS"/>
                <a:ea typeface="Arial"/>
              </a:rPr>
              <a:t>Rheumatic Heart Dise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231200" y="4343400"/>
            <a:ext cx="647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r. Hend Alotaibi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ssistant professor &amp; Consultan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llege of Medicine, King Saud Universit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Dermatology Department /KKU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PATHOGENE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Rheumatic fever  affect the peri-arteriolar connective tissu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It is believed to be caused by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  <a:ea typeface="Arial"/>
              </a:rPr>
              <a:t>antibody cross-re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This cross-reactivity is a 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  <a:ea typeface="Arial"/>
              </a:rPr>
              <a:t>Type II hypersensitivity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reaction and is termed </a:t>
            </a:r>
            <a:r>
              <a:rPr b="0" i="1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molecular mimicr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roup A streptococcus pyogenes has a cell wall composed of branched polymers which sometimes contain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"</a:t>
            </a:r>
            <a:r>
              <a:rPr b="1" i="1" lang="en-US" sz="2800" spc="-1" strike="noStrike">
                <a:solidFill>
                  <a:srgbClr val="00b0f0"/>
                </a:solidFill>
                <a:latin typeface="Comic Sans MS"/>
                <a:ea typeface="Arial"/>
              </a:rPr>
              <a:t>M proteins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that are highly antigeni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he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antibodi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which the immune system generates against the "</a:t>
            </a:r>
            <a:r>
              <a:rPr b="0" i="1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M protei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" may cross react with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cardiac myofiber protein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  <a:ea typeface="Arial"/>
              </a:rPr>
              <a:t>myosin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 and smooth muscle cells of arteri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, inducing cytokine release and tissue destr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his inflammation occurs through direct attachment of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comple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and Fc receptor-mediated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recruitment of neutrophils and macrophag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Image"/>
          <p:cNvPicPr/>
          <p:nvPr/>
        </p:nvPicPr>
        <p:blipFill>
          <a:blip r:embed="rId1"/>
          <a:stretch/>
        </p:blipFill>
        <p:spPr>
          <a:xfrm>
            <a:off x="609480" y="31680"/>
            <a:ext cx="8305920" cy="54594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533520" y="5527800"/>
            <a:ext cx="84582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gram illustrating the two hit theory of rheumatic heart disease. Group A streptococcal infection leads to the production of anti-group A carbohydrate antibody which cross-reacts with the valve endothelium as well as with the myocardium and </a:t>
            </a:r>
            <a:r>
              <a:rPr b="0" lang="en-US" sz="1600" spc="-1" strike="noStrike">
                <a:solidFill>
                  <a:srgbClr val="eeece1"/>
                </a:solidFill>
                <a:latin typeface="Arial"/>
                <a:ea typeface="Arial"/>
              </a:rPr>
              <a:t>up-regulates vascular cell adhesion molecule-1 (VCAM-1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on the valve endothelium. T cells adhere to the VCAM-1 on valve endothelium and extravasate into the valve. </a:t>
            </a:r>
            <a:br>
              <a:rPr sz="1800"/>
            </a:br>
            <a:br>
              <a:rPr sz="18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576600" y="471600"/>
            <a:ext cx="184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mage"/>
          <p:cNvPicPr/>
          <p:nvPr/>
        </p:nvPicPr>
        <p:blipFill>
          <a:blip r:embed="rId1"/>
          <a:stretch/>
        </p:blipFill>
        <p:spPr>
          <a:xfrm>
            <a:off x="30240" y="0"/>
            <a:ext cx="9113760" cy="5334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0" y="5257800"/>
            <a:ext cx="9144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agram illustrating the process of initial mimicry which leads to </a:t>
            </a:r>
            <a:r>
              <a:rPr b="0" lang="en-US" sz="1600" spc="-1" strike="noStrike">
                <a:solidFill>
                  <a:srgbClr val="eeece1"/>
                </a:solidFill>
                <a:latin typeface="Arial"/>
              </a:rPr>
              <a:t>granuloma formation, gamma interferon production and scarring in the valv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After the initial process has developed inflammation in the valve, other proteins in the valve may then be recognized by the immune system leading potentially to </a:t>
            </a:r>
            <a:r>
              <a:rPr b="0" lang="en-US" sz="1600" spc="-1" strike="noStrike">
                <a:solidFill>
                  <a:srgbClr val="eeece1"/>
                </a:solidFill>
                <a:latin typeface="Arial"/>
              </a:rPr>
              <a:t>epitope spreading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responses against other valve proteins such as </a:t>
            </a:r>
            <a:r>
              <a:rPr b="0" lang="en-US" sz="1600" spc="-1" strike="noStrike">
                <a:solidFill>
                  <a:srgbClr val="eeece1"/>
                </a:solidFill>
                <a:latin typeface="Arial"/>
              </a:rPr>
              <a:t>vimentin and collagen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Molecular mimicry in the autoimmune pathogenesis of rheumatic heart disease” by L. Guilherme; J. Kalil; M.W. Cunningham. </a:t>
            </a:r>
            <a:br>
              <a:rPr sz="1400"/>
            </a:br>
            <a:br>
              <a:rPr sz="14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73960" cy="58438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380880" y="60199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  <a:ea typeface="Arial"/>
              </a:rPr>
              <a:t>Immunofluorescent stain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f heart muscle with serum obtained from an acute rheumatic fever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alibri"/>
                <a:ea typeface="Times New Roman"/>
              </a:rPr>
              <a:t>Pathophysi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During a Strep. infection activated antigen presenting cells such as macrophages present the bacterial antigen to helper T cell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Helper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T cells subsequently activate self reactive B cell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nd induce the production of antibodies against the cell wall of Streptococc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However the antibodies may also react against the myocardium and joints, producing the symptoms of rheumatic fev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tmpa83a24.png"/>
          <p:cNvPicPr/>
          <p:nvPr/>
        </p:nvPicPr>
        <p:blipFill>
          <a:blip r:embed="rId1"/>
          <a:stretch/>
        </p:blipFill>
        <p:spPr>
          <a:xfrm>
            <a:off x="130320" y="152280"/>
            <a:ext cx="8883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1981080" y="27432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  <a:ea typeface="Arial"/>
              </a:rPr>
              <a:t>Clinical Pres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Calibri"/>
                <a:ea typeface="Times New Roman"/>
              </a:rPr>
              <a:t>Heart</a:t>
            </a:r>
            <a:r>
              <a:rPr b="0" lang="en-GB" sz="4400" spc="-1" strike="noStrike">
                <a:solidFill>
                  <a:srgbClr val="eeece1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p to 60% of patients with ARF progress to Rheumatic Heart Disease (RH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endocardium, pericardium, or myocardium may be affected (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pancarditi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alvular damage is the hallmark of rheumatic carditis. The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mitral valv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almost always affec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3" descr="Rheumatic_heart_disease%2C_gross_pathology_20G0013_lores.jpg"/>
          <p:cNvPicPr/>
          <p:nvPr/>
        </p:nvPicPr>
        <p:blipFill>
          <a:blip r:embed="rId1"/>
          <a:stretch/>
        </p:blipFill>
        <p:spPr>
          <a:xfrm>
            <a:off x="4495680" y="1752480"/>
            <a:ext cx="4648320" cy="33879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4267080" y="5257800"/>
            <a:ext cx="495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Left ventricle has been cut open to display characteristic severe thickening of mitral valve, thickened chordae tendineae, and hypertrophied left ventricul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ight Arrow 8"/>
          <p:cNvSpPr/>
          <p:nvPr/>
        </p:nvSpPr>
        <p:spPr>
          <a:xfrm>
            <a:off x="5486400" y="34290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ight Arrow 15"/>
          <p:cNvSpPr/>
          <p:nvPr/>
        </p:nvSpPr>
        <p:spPr>
          <a:xfrm>
            <a:off x="5334120" y="373392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ight Arrow 18"/>
          <p:cNvSpPr/>
          <p:nvPr/>
        </p:nvSpPr>
        <p:spPr>
          <a:xfrm>
            <a:off x="4876920" y="43434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  <a:ea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2949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o understand basis of rheumatic fever as an immunologically mediated </a:t>
            </a:r>
            <a:r>
              <a:rPr b="0" lang="en-US" sz="2800" spc="-1" strike="noStrike">
                <a:solidFill>
                  <a:srgbClr val="92d050"/>
                </a:solidFill>
                <a:latin typeface="Calibri"/>
                <a:ea typeface="Arial"/>
              </a:rPr>
              <a:t>late complication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of Streptococcal inf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o know that autoimmunity results from production of </a:t>
            </a:r>
            <a:r>
              <a:rPr b="0" lang="en-US" sz="2800" spc="-1" strike="noStrike">
                <a:solidFill>
                  <a:srgbClr val="92d050"/>
                </a:solidFill>
                <a:latin typeface="Calibri"/>
                <a:ea typeface="Arial"/>
              </a:rPr>
              <a:t>cross reacting antibodi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gainst Streptococcal antige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o describe rheumatic </a:t>
            </a:r>
            <a:r>
              <a:rPr b="0" lang="en-US" sz="2800" spc="-1" strike="noStrike">
                <a:solidFill>
                  <a:srgbClr val="92d050"/>
                </a:solidFill>
                <a:latin typeface="Calibri"/>
                <a:ea typeface="Arial"/>
              </a:rPr>
              <a:t>heart disea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s one of the several manifestations of rheumatic fev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o know the signs, symptoms, pathogenesis, treatment and prophylaxis of rheumatic heart disease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alibri"/>
                <a:ea typeface="Times New Roman"/>
              </a:rPr>
              <a:t>Joints (arthritis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s is usually polyarthritis, sometimes </a:t>
            </a:r>
            <a:r>
              <a:rPr b="0" lang="en-US" sz="2600" spc="-1" strike="noStrike">
                <a:solidFill>
                  <a:srgbClr val="eeece1"/>
                </a:solidFill>
                <a:latin typeface="Calibri"/>
              </a:rPr>
              <a:t>flitting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from joint to joint (migratory), affecting the larger joints more than the smaller on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38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38840" indent="-438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welling, redness and tenderness are the common findings and occasionally joint effusion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flamed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  <a:ea typeface="Arial"/>
              </a:rPr>
              <a:t>Keen Joi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6" descr="4453-4463-5382-12617"/>
          <p:cNvPicPr/>
          <p:nvPr/>
        </p:nvPicPr>
        <p:blipFill>
          <a:blip r:embed="rId1"/>
          <a:stretch/>
        </p:blipFill>
        <p:spPr>
          <a:xfrm>
            <a:off x="4413240" y="2133720"/>
            <a:ext cx="4502160" cy="38862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4267080" y="1981080"/>
            <a:ext cx="914400" cy="42087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33"/>
                </a:solidFill>
                <a:latin typeface="Calibri"/>
                <a:ea typeface="Times New Roman"/>
              </a:rPr>
              <a:t>Skin (Erythema Marginatum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Skin lesio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The classical </a:t>
            </a:r>
            <a:r>
              <a:rPr b="0" lang="en-US" sz="2800" spc="-1" strike="noStrike">
                <a:solidFill>
                  <a:srgbClr val="99ff33"/>
                </a:solidFill>
                <a:latin typeface="Calibri"/>
              </a:rPr>
              <a:t>erythema marginatum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—lesions with prominent margins slightly rai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7" descr="fig12a"/>
          <p:cNvPicPr/>
          <p:nvPr/>
        </p:nvPicPr>
        <p:blipFill>
          <a:blip r:embed="rId1"/>
          <a:stretch/>
        </p:blipFill>
        <p:spPr>
          <a:xfrm>
            <a:off x="5105520" y="1981080"/>
            <a:ext cx="4043160" cy="487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Erythema-Marginatum-4.jpg"/>
          <p:cNvPicPr/>
          <p:nvPr/>
        </p:nvPicPr>
        <p:blipFill>
          <a:blip r:embed="rId2"/>
          <a:stretch/>
        </p:blipFill>
        <p:spPr>
          <a:xfrm>
            <a:off x="0" y="1981080"/>
            <a:ext cx="5105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Calibri"/>
                <a:ea typeface="Times New Roman"/>
              </a:rPr>
              <a:t>Central nervous system (chorea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Sydenham's chore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choreiform movement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ffect particularly the head and the upper limb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y may be generalized or restricted to one side of the body (hemi-chorea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rea eventually resolves completely, usually within 6 week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7" descr="Boys-Afflicted-with-Chorea-Known-as-St-Vitus-Dance-or-as-Danse-de-Saint-Guy-in-France-Giclee-Print-C12374586"/>
          <p:cNvPicPr/>
          <p:nvPr/>
        </p:nvPicPr>
        <p:blipFill>
          <a:blip r:embed="rId1"/>
          <a:stretch/>
        </p:blipFill>
        <p:spPr>
          <a:xfrm>
            <a:off x="4648320" y="1676520"/>
            <a:ext cx="42670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  <a:ea typeface="Times New Roman"/>
              </a:rPr>
              <a:t>Subcutaneous nodu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ubcutaneous nodules :</a:t>
            </a:r>
            <a:r>
              <a:rPr b="0" lang="en-US" sz="2400" spc="-1" strike="noStrike" u="sng">
                <a:solidFill>
                  <a:srgbClr val="eeece1"/>
                </a:solidFill>
                <a:uFillTx/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se are painless, round, firm lumps overlaid by normal looking ski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y range from a few millimeters to 1.5 cm in diameter, and are localized over bony prominences like the elbow, shin and spine.  They sometimes last longer than a mon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7" descr="fig11"/>
          <p:cNvPicPr/>
          <p:nvPr/>
        </p:nvPicPr>
        <p:blipFill>
          <a:blip r:embed="rId1"/>
          <a:stretch/>
        </p:blipFill>
        <p:spPr>
          <a:xfrm>
            <a:off x="5029200" y="1523880"/>
            <a:ext cx="3505320" cy="2670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1949_f1"/>
          <p:cNvPicPr/>
          <p:nvPr/>
        </p:nvPicPr>
        <p:blipFill>
          <a:blip r:embed="rId2"/>
          <a:stretch/>
        </p:blipFill>
        <p:spPr>
          <a:xfrm>
            <a:off x="5029200" y="4267080"/>
            <a:ext cx="3581280" cy="2532240"/>
          </a:xfrm>
          <a:prstGeom prst="rect">
            <a:avLst/>
          </a:prstGeom>
          <a:ln w="0">
            <a:noFill/>
          </a:ln>
        </p:spPr>
      </p:pic>
      <p:sp>
        <p:nvSpPr>
          <p:cNvPr id="153" name="Right Arrow 8"/>
          <p:cNvSpPr/>
          <p:nvPr/>
        </p:nvSpPr>
        <p:spPr>
          <a:xfrm>
            <a:off x="5029200" y="32004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ight Arrow 9"/>
          <p:cNvSpPr/>
          <p:nvPr/>
        </p:nvSpPr>
        <p:spPr>
          <a:xfrm>
            <a:off x="5867280" y="533412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1331341-1331372-1007946-1782447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Calibri"/>
                <a:ea typeface="Times New Roman"/>
              </a:rPr>
              <a:t>Investigation of Rheumatic Fev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nti-streptolysin O (ASO) ti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 least 80% of patients with ARF have an elevated </a:t>
            </a:r>
            <a:r>
              <a:rPr b="0" lang="en-US" sz="2400" spc="-1" strike="noStrike">
                <a:solidFill>
                  <a:srgbClr val="ff9900"/>
                </a:solidFill>
                <a:latin typeface="Calibri"/>
                <a:ea typeface="Arial"/>
              </a:rPr>
              <a:t>anti-streptolysin O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iter at presen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Rising titer is more convinc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  <a:ea typeface="Arial"/>
              </a:rPr>
              <a:t>Anti-DNAse 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  <a:ea typeface="Arial"/>
              </a:rPr>
              <a:t>Anti-hyaluronidase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Throat cultur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for group A streptococci (obtain 2 or 3 culture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  <a:ea typeface="Times New Roman"/>
              </a:rPr>
              <a:t>Rheumatic Fever – Clinical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Subsequent attac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Increased vulnerability to </a:t>
            </a: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reactivation of disea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with subsequent strep infe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Same symptom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with each att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Carditis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worsens with each att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Heart valv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re frequently deformed (mitral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Hear failur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develops after deca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33"/>
                </a:solidFill>
                <a:latin typeface="Calibri"/>
                <a:ea typeface="Times New Roman"/>
              </a:rPr>
              <a:t>Acute, recurring, chronic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Arial"/>
              </a:rPr>
              <a:t>Symptoms prone to recur with subsequent Strep. infec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Arial"/>
              </a:rPr>
              <a:t>Chronic disease leads to fibrosis  (chordae of heart valves + valve cusp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3" descr="MS.bmp"/>
          <p:cNvPicPr/>
          <p:nvPr/>
        </p:nvPicPr>
        <p:blipFill>
          <a:blip r:embed="rId1"/>
          <a:stretch/>
        </p:blipFill>
        <p:spPr>
          <a:xfrm>
            <a:off x="990720" y="2743200"/>
            <a:ext cx="2638440" cy="350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MS_1.bmp"/>
          <p:cNvPicPr/>
          <p:nvPr/>
        </p:nvPicPr>
        <p:blipFill>
          <a:blip r:embed="rId2"/>
          <a:stretch/>
        </p:blipFill>
        <p:spPr>
          <a:xfrm>
            <a:off x="5562720" y="2666880"/>
            <a:ext cx="2489040" cy="35816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152280" y="63244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Arial"/>
                <a:ea typeface="Arial"/>
              </a:rPr>
              <a:t>Stenotic mitral valve seen from left atr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334120" y="63244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Arial"/>
                <a:ea typeface="Arial"/>
              </a:rPr>
              <a:t>Opened stenotic mitral val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Donut 8"/>
          <p:cNvSpPr/>
          <p:nvPr/>
        </p:nvSpPr>
        <p:spPr>
          <a:xfrm>
            <a:off x="1219320" y="3048120"/>
            <a:ext cx="2057400" cy="1981080"/>
          </a:xfrm>
          <a:custGeom>
            <a:avLst/>
            <a:gdLst/>
            <a:ahLst/>
            <a:rect l="l" t="t" r="r" b="b"/>
            <a:pathLst>
              <a:path w="2057400" h="1981200">
                <a:moveTo>
                  <a:pt x="0" y="990600"/>
                </a:moveTo>
                <a:cubicBezTo>
                  <a:pt x="0" y="443507"/>
                  <a:pt x="460565" y="0"/>
                  <a:pt x="1028700" y="0"/>
                </a:cubicBezTo>
                <a:cubicBezTo>
                  <a:pt x="1596835" y="0"/>
                  <a:pt x="2057400" y="443507"/>
                  <a:pt x="2057400" y="990600"/>
                </a:cubicBezTo>
                <a:cubicBezTo>
                  <a:pt x="2057400" y="1537693"/>
                  <a:pt x="1596835" y="1981200"/>
                  <a:pt x="1028700" y="1981200"/>
                </a:cubicBezTo>
                <a:cubicBezTo>
                  <a:pt x="460565" y="1981200"/>
                  <a:pt x="0" y="1537693"/>
                  <a:pt x="0" y="990600"/>
                </a:cubicBezTo>
                <a:close/>
                <a:moveTo>
                  <a:pt x="79486" y="990600"/>
                </a:moveTo>
                <a:cubicBezTo>
                  <a:pt x="79486" y="1493794"/>
                  <a:pt x="504464" y="1901714"/>
                  <a:pt x="1028700" y="1901714"/>
                </a:cubicBezTo>
                <a:cubicBezTo>
                  <a:pt x="1552936" y="1901714"/>
                  <a:pt x="1977914" y="1493794"/>
                  <a:pt x="1977914" y="990600"/>
                </a:cubicBezTo>
                <a:cubicBezTo>
                  <a:pt x="1977914" y="487406"/>
                  <a:pt x="1552936" y="79486"/>
                  <a:pt x="1028700" y="79486"/>
                </a:cubicBezTo>
                <a:cubicBezTo>
                  <a:pt x="504464" y="79486"/>
                  <a:pt x="79486" y="487406"/>
                  <a:pt x="79486" y="990600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  <a:ea typeface="Times New Roman"/>
              </a:rPr>
              <a:t>Treatment of 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Treat first strep throat infection with 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penicill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Treat other manifestations 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symptomatic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Prophylacti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long term anti-strep therapy given to anyone who has had rheumatic fev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alibri"/>
                <a:ea typeface="Times New Roman"/>
              </a:rPr>
              <a:t>Take home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Rheumatic heart disease results from </a:t>
            </a: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cross reacting antibodi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binding the heart va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Repeated attacks of Streptococcal throat infection over the years damage heart valves resulting in either </a:t>
            </a: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stenotic or incompeten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heart va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reatment involves </a:t>
            </a: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surgical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replacement of the damaged heart valv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In patients with rheumatic fever long term administration of </a:t>
            </a: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penicillin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is recommended for prevention of future infections by group A Streptococcus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b0f0"/>
                </a:solidFill>
                <a:latin typeface="Calibri"/>
                <a:ea typeface="Times New Roman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Epidemiology of Rheumatic Fever (RF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~3% of persons with untreated </a:t>
            </a:r>
            <a:r>
              <a:rPr b="0" lang="en-GB" sz="2800" spc="-1" strike="noStrike">
                <a:solidFill>
                  <a:srgbClr val="00b0f0"/>
                </a:solidFill>
                <a:latin typeface="Calibri"/>
              </a:rPr>
              <a:t>group A streptococcal pharyngitis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develop rheumatic fev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5-20 million new cases a year in developing countri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Risk fac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w standard of liv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ow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2286000" y="266688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33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alibri"/>
                <a:ea typeface="Times New Roman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Arial"/>
              </a:rPr>
              <a:t>Individual (HLA) susceptibility is  also importa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Antigen-presenting cells bearing the 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HLA-DR7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molecule from RHD patients preferentially recognize heart-tissue prote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(Guilherme L, Kalil J. Ann  N Y Acd Sci    2007,1107:426-43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  <a:ea typeface="Times New Roman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Rheumatic fev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is an inflammatory disease  which may develop after a 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Group A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 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Streptococcal infec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such a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Strep. throat infection or scarlet fev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Can involve the 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heart, joints, skin, and br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It commonly appears in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  <a:ea typeface="Arial"/>
              </a:rPr>
              <a:t>childre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ages 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5 through 15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Organ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aused by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  <a:ea typeface="Arial"/>
              </a:rPr>
              <a:t>group A streptococc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re is a latent period of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  <a:ea typeface="Arial"/>
              </a:rPr>
              <a:t>~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Arial"/>
              </a:rPr>
              <a:t>3 weeks (1–5 weeks)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between the group A streptococcal infection and the appearance of the clinical features of RF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ffffff"/>
              </a:solidFill>
              <a:latin typeface="Calibri"/>
              <a:ea typeface="Arial"/>
            </a:endParaRPr>
          </a:p>
        </p:txBody>
      </p:sp>
      <p:pic>
        <p:nvPicPr>
          <p:cNvPr id="102" name="Picture 6" descr="767703_com_streptococ"/>
          <p:cNvPicPr/>
          <p:nvPr/>
        </p:nvPicPr>
        <p:blipFill>
          <a:blip r:embed="rId1"/>
          <a:stretch/>
        </p:blipFill>
        <p:spPr>
          <a:xfrm>
            <a:off x="4114800" y="1600200"/>
            <a:ext cx="502920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2d050"/>
                </a:solidFill>
                <a:latin typeface="Calibri"/>
              </a:rPr>
              <a:t>Group A </a:t>
            </a:r>
            <a:r>
              <a:rPr b="0" lang="en-GB" sz="4000" spc="-1" strike="noStrike">
                <a:solidFill>
                  <a:srgbClr val="92d050"/>
                </a:solidFill>
                <a:latin typeface="Symbol"/>
                <a:ea typeface="Symbol"/>
              </a:rPr>
              <a:t></a:t>
            </a:r>
            <a:r>
              <a:rPr b="0" lang="en-GB" sz="4000" spc="-1" strike="noStrike">
                <a:solidFill>
                  <a:srgbClr val="92d050"/>
                </a:solidFill>
                <a:latin typeface="Calibri"/>
              </a:rPr>
              <a:t>haemolytic streptococc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Arial"/>
              </a:rPr>
              <a:t>All cases associated with recent infection (e.g. pharyngit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ece1"/>
                </a:solidFill>
                <a:latin typeface="Calibri"/>
                <a:ea typeface="Arial"/>
              </a:rPr>
              <a:t>Antibody and cellular immune response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Arial"/>
              </a:rPr>
              <a:t>cross-reacts with human connective tiss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26" descr="strept"/>
          <p:cNvPicPr/>
          <p:nvPr/>
        </p:nvPicPr>
        <p:blipFill>
          <a:blip r:embed="rId1"/>
          <a:srcRect l="7846" t="4539" r="6866" b="10021"/>
          <a:stretch/>
        </p:blipFill>
        <p:spPr>
          <a:xfrm>
            <a:off x="0" y="34920"/>
            <a:ext cx="9144000" cy="5985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27"/>
          <p:cNvSpPr/>
          <p:nvPr/>
        </p:nvSpPr>
        <p:spPr>
          <a:xfrm>
            <a:off x="533520" y="6124680"/>
            <a:ext cx="80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imishikavi S,  Stead L  Streptococcal Pharyngitis – Images in Clinical Medicine.   NEJM 2005: 352:e1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241200" y="0"/>
            <a:ext cx="729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M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Attachment &amp; interferes with host immun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8680" y="1339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236840" y="990720"/>
            <a:ext cx="481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Hyaluronic acid caps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Camouflages the bacte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17800" y="1644480"/>
            <a:ext cx="364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Comic Sans MS"/>
                <a:ea typeface="Arial"/>
              </a:rPr>
              <a:t>Streptokin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  <a:ea typeface="Arial"/>
              </a:rPr>
              <a:t>Dissolves blood cl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64880" y="2590920"/>
            <a:ext cx="828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33"/>
                </a:solidFill>
                <a:uFillTx/>
                <a:latin typeface="Comic Sans MS"/>
                <a:ea typeface="Arial"/>
              </a:rPr>
              <a:t>Peptid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Comic Sans MS"/>
                <a:ea typeface="Arial"/>
              </a:rPr>
              <a:t>Degrades proteins involved in immun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16840" y="3505320"/>
            <a:ext cx="50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64a2"/>
                </a:solidFill>
                <a:uFillTx/>
                <a:latin typeface="Comic Sans MS"/>
                <a:ea typeface="Arial"/>
              </a:rPr>
              <a:t>Pyrogenic 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4a2"/>
                </a:solidFill>
                <a:latin typeface="Comic Sans MS"/>
                <a:ea typeface="Arial"/>
              </a:rPr>
              <a:t>Stimulate fever, rash &amp; sh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97080" y="4267080"/>
            <a:ext cx="692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ff"/>
                </a:solidFill>
                <a:uFillTx/>
                <a:latin typeface="Comic Sans MS"/>
                <a:ea typeface="Arial"/>
              </a:rPr>
              <a:t>Streptolys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  <a:ea typeface="Arial"/>
              </a:rPr>
              <a:t>Lyse erythrocytes, leukocytes &amp; plate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914400" y="5257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  <a:ea typeface="Arial"/>
              </a:rPr>
              <a:t>Post streptococcal glomerulonephritis is caused by streptococcal antigen-antibody immune complexes (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Comic Sans MS"/>
                <a:ea typeface="Arial"/>
              </a:rPr>
              <a:t>Type III hypersensitivity reaction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2:43:46Z</dcterms:created>
  <dc:creator>Dr.Hend</dc:creator>
  <dc:description/>
  <dc:language>en-US</dc:language>
  <cp:lastModifiedBy>GCUSER</cp:lastModifiedBy>
  <dcterms:modified xsi:type="dcterms:W3CDTF">2015-03-10T05:04:27Z</dcterms:modified>
  <cp:revision>165</cp:revision>
  <dc:subject/>
  <dc:title>Slide 1</dc:title>
</cp:coreProperties>
</file>