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5B5-0A3B-45DD-BE17-EEB76CFA9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3ACB-AD26-4713-9B80-404F29BB7E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F586-516D-4DD5-849E-F17B1E91E9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947B-3F9E-424F-9463-DD6ABA6FCD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59F-1058-4F16-8876-D4F1538C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BF5-5F5D-449D-B433-568F34A0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02AF-5484-411B-B674-A7C07112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A05-1DF9-40FD-89B0-D0810A91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A205-30D5-4455-AF67-379FCFE2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BECA-EDDE-4A62-AE91-42E69927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C656-245F-4006-B376-B67BFAA1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39ED-EAAC-4939-B54C-A3979C7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1324-E2A2-4F50-B725-10D88BEF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0D3E-C92F-4754-9ADF-113C1074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9EA0-0444-45C1-B25C-62415491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70A9-1A21-4111-87C6-BCAEF5BF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679D-33DF-43AD-AE65-DF1C83CF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7C99-01C3-4417-A132-D8041402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FF73-7955-4788-9D6D-B95A4541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4D0A-85DA-4E3F-A849-50A3B200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E5DD-30D0-4BA8-99A1-FF8FD234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2EC6-82C0-4203-A746-7567452F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BEC-9DE9-48FA-AB4F-021651C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9CC-CDC7-4F3B-BDCE-A6DA8450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248-A77D-43BA-8E06-E013EE31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241-A16A-441F-9D0A-E9B6C2D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50E-C54C-4341-AF73-7120D69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51C-A95D-41F8-A1B2-28D49167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42F3-3F1E-4097-9009-8877192C7A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64a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64a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64a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64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64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64a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64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64a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9fb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C095-DE8F-4BA0-83F1-9EA999FF6EDE}" type="slidenum">
              <a:rPr b="0" lang="en-US" sz="1200" spc="-1" strike="noStrike">
                <a:solidFill>
                  <a:srgbClr val="ac9fb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roup_A_streptococcal_infection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"/>
          <p:cNvSpPr/>
          <p:nvPr/>
        </p:nvSpPr>
        <p:spPr>
          <a:xfrm>
            <a:off x="1249560" y="2514600"/>
            <a:ext cx="658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eece1"/>
                </a:solidFill>
                <a:latin typeface="Comic Sans MS"/>
                <a:ea typeface="Arial"/>
              </a:rPr>
              <a:t>Rheumatic Heart Dise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231200" y="4343400"/>
            <a:ext cx="647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Dr. Hend Alotaibi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Assistant professor &amp; Consulta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College of Medicine, King Saud University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  <a:ea typeface="Arial"/>
              </a:rPr>
              <a:t> Dermatology Department /KKU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Rheumatic fever  affect the peri-arteriolar connective tissu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t is believed to be caused by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antibody cross-re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his cross-reactivity is a 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  <a:ea typeface="Arial"/>
              </a:rPr>
              <a:t>Type II hypersensitivity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reaction and is termed </a:t>
            </a:r>
            <a:r>
              <a:rPr b="0" i="1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molecular mimicry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Group A streptococcus pyogenes has a cell wall composed of branched polymers which sometimes contain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"</a:t>
            </a:r>
            <a:r>
              <a:rPr b="1" i="1" lang="en-US" sz="2800" spc="-1" strike="noStrike">
                <a:solidFill>
                  <a:srgbClr val="00b0f0"/>
                </a:solidFill>
                <a:latin typeface="Comic Sans MS"/>
                <a:ea typeface="Arial"/>
              </a:rPr>
              <a:t>M proteins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"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that are highly antigenic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e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antibod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which the immune system generates against the "</a:t>
            </a:r>
            <a:r>
              <a:rPr b="0" i="1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M protei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" may cross react with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cardiac myofiber protein 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  <a:ea typeface="Arial"/>
              </a:rPr>
              <a:t>myosin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 and smooth muscle cells of arteri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, inducing cytokine release and tissue destru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his inflammation occurs through direct attachment of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complement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and Fc receptor-mediated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recruitment of neutrophils and macrophage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Image"/>
          <p:cNvPicPr/>
          <p:nvPr/>
        </p:nvPicPr>
        <p:blipFill>
          <a:blip r:embed="rId1"/>
          <a:stretch/>
        </p:blipFill>
        <p:spPr>
          <a:xfrm>
            <a:off x="609480" y="31680"/>
            <a:ext cx="8305920" cy="5459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533520" y="5527800"/>
            <a:ext cx="84582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gram illustrating the two hit theory of rheumatic heart disease. Group A streptococcal infection leads to the production of anti-group A carbohydrate antibody which cross-reacts with the valve endothelium as well as with the myocardium and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  <a:ea typeface="Arial"/>
              </a:rPr>
              <a:t>up-regulates vascular cell adhesion molecule-1 (VCAM-1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on the valve endothelium. T cells adhere to the VCAM-1 on valve endothelium and extravasate into the valve. </a:t>
            </a:r>
            <a:br>
              <a:rPr sz="1800"/>
            </a:br>
            <a:br>
              <a:rPr sz="18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576600" y="471600"/>
            <a:ext cx="1845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Image"/>
          <p:cNvPicPr/>
          <p:nvPr/>
        </p:nvPicPr>
        <p:blipFill>
          <a:blip r:embed="rId1"/>
          <a:stretch/>
        </p:blipFill>
        <p:spPr>
          <a:xfrm>
            <a:off x="30240" y="0"/>
            <a:ext cx="9113760" cy="5334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0" y="5257800"/>
            <a:ext cx="91440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gram illustrating the process of initial mimicry which leads to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</a:rPr>
              <a:t>granuloma formation, gamma interferon production and scarring in the valv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After the initial process has developed inflammation in the valve, other proteins in the valve may then be recognized by the immune system leading potentially to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</a:rPr>
              <a:t>epitope spread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responses against other valve proteins such as </a:t>
            </a:r>
            <a:r>
              <a:rPr b="0" lang="en-US" sz="1600" spc="-1" strike="noStrike">
                <a:solidFill>
                  <a:srgbClr val="eeece1"/>
                </a:solidFill>
                <a:latin typeface="Arial"/>
              </a:rPr>
              <a:t>vimentin and collagen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Molecular mimicry in the autoimmune pathogenesis of rheumatic heart disease” by L. Guilherme; J. Kalil; M.W. Cunningham. </a:t>
            </a:r>
            <a:br>
              <a:rPr sz="1400"/>
            </a:br>
            <a:br>
              <a:rPr sz="14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373960" cy="58438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Arial"/>
                <a:ea typeface="Arial"/>
              </a:rPr>
              <a:t>Immunofluorescent stainin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f heart muscle with serum obtained from an acute rheumatic fever pat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Pathophysi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uring a Strep. infection activated antigen presenting cells such as macrophages present the bacterial antigen to helper T cell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lper </a:t>
            </a: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T cells subsequently activate self reactive B cell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nd induce the production of antibodies against the cell wall of Streptococcu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  <a:ea typeface="Arial"/>
              </a:rPr>
              <a:t>However the antibodies may also react against the myocardium and joints, producing the symptom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tmpa83a24.png"/>
          <p:cNvPicPr/>
          <p:nvPr/>
        </p:nvPicPr>
        <p:blipFill>
          <a:blip r:embed="rId1"/>
          <a:stretch/>
        </p:blipFill>
        <p:spPr>
          <a:xfrm>
            <a:off x="130320" y="152280"/>
            <a:ext cx="8883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1981080" y="27432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  <a:ea typeface="Arial"/>
              </a:rPr>
              <a:t>Clinical Presen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Heart</a:t>
            </a:r>
            <a:r>
              <a:rPr b="0" lang="en-GB" sz="4400" spc="-1" strike="noStrike">
                <a:solidFill>
                  <a:srgbClr val="eeece1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Up to 60% of patients with ARF progress to Rheumatic Heart Disease (RHD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endocardium, pericardium, or myocardium may be affected (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pancarditi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alvular damage is the hallmark of rheumatic carditis. The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mitral valve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 almost always affect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3" descr="Rheumatic_heart_disease%2C_gross_pathology_20G0013_lores.jpg"/>
          <p:cNvPicPr/>
          <p:nvPr/>
        </p:nvPicPr>
        <p:blipFill>
          <a:blip r:embed="rId1"/>
          <a:stretch/>
        </p:blipFill>
        <p:spPr>
          <a:xfrm>
            <a:off x="4495680" y="1752480"/>
            <a:ext cx="4648320" cy="33879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4"/>
          <p:cNvSpPr/>
          <p:nvPr/>
        </p:nvSpPr>
        <p:spPr>
          <a:xfrm>
            <a:off x="4267080" y="5257800"/>
            <a:ext cx="4953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Left ventricle has been cut open to display characteristic severe thickening of mitral valve, thickened chordae tendineae, and hypertrophied left ventricul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ight Arrow 8"/>
          <p:cNvSpPr/>
          <p:nvPr/>
        </p:nvSpPr>
        <p:spPr>
          <a:xfrm>
            <a:off x="5486400" y="34290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ight Arrow 15"/>
          <p:cNvSpPr/>
          <p:nvPr/>
        </p:nvSpPr>
        <p:spPr>
          <a:xfrm>
            <a:off x="5334120" y="37339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ight Arrow 18"/>
          <p:cNvSpPr/>
          <p:nvPr/>
        </p:nvSpPr>
        <p:spPr>
          <a:xfrm>
            <a:off x="4876920" y="4343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  <a:ea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294920"/>
            <a:ext cx="8381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understand basis of rheumatic fever as an immunologically mediated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  <a:ea typeface="Arial"/>
              </a:rPr>
              <a:t>late complication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of Streptococcal infec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know that autoimmunity results from production of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  <a:ea typeface="Arial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gainst Streptococcal antige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describe rheumatic </a:t>
            </a:r>
            <a:r>
              <a:rPr b="0" lang="en-US" sz="2800" spc="-1" strike="noStrike">
                <a:solidFill>
                  <a:srgbClr val="92d050"/>
                </a:solidFill>
                <a:latin typeface="Calibri"/>
                <a:ea typeface="Arial"/>
              </a:rPr>
              <a:t>heart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s one of the several manifestations of rheumatic fev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o know the signs, symptoms, pathogenesis, treatment and prophylaxis of rheumatic heart disease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Joints (arthritis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s is usually polyarthritis, sometimes </a:t>
            </a:r>
            <a:r>
              <a:rPr b="0" lang="en-US" sz="2600" spc="-1" strike="noStrike">
                <a:solidFill>
                  <a:srgbClr val="eeece1"/>
                </a:solidFill>
                <a:latin typeface="Calibri"/>
              </a:rPr>
              <a:t>flitting</a:t>
            </a: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 from joint to joint (migratory), affecting the larger joints more than the smaller on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38840" indent="-438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welling, redness and tenderness are the common findings and occasionally joint effusion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Inflamed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Keen Joi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6" descr="4453-4463-5382-12617"/>
          <p:cNvPicPr/>
          <p:nvPr/>
        </p:nvPicPr>
        <p:blipFill>
          <a:blip r:embed="rId1"/>
          <a:stretch/>
        </p:blipFill>
        <p:spPr>
          <a:xfrm>
            <a:off x="4413240" y="2133720"/>
            <a:ext cx="450216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4267080" y="1981080"/>
            <a:ext cx="914400" cy="4208760"/>
          </a:xfrm>
          <a:prstGeom prst="rect">
            <a:avLst/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33"/>
                </a:solidFill>
                <a:latin typeface="Calibri"/>
                <a:ea typeface="Times New Roman"/>
              </a:rPr>
              <a:t>Skin (Erythema Marginatum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kin lesion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: The classical </a:t>
            </a:r>
            <a:r>
              <a:rPr b="0" lang="en-US" sz="2800" spc="-1" strike="noStrike">
                <a:solidFill>
                  <a:srgbClr val="99ff33"/>
                </a:solidFill>
                <a:latin typeface="Calibri"/>
              </a:rPr>
              <a:t>erythema marginatum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—lesions with prominent margins slightly rais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4" name="Picture 7" descr="fig12a"/>
          <p:cNvPicPr/>
          <p:nvPr/>
        </p:nvPicPr>
        <p:blipFill>
          <a:blip r:embed="rId1"/>
          <a:stretch/>
        </p:blipFill>
        <p:spPr>
          <a:xfrm>
            <a:off x="5105520" y="1981080"/>
            <a:ext cx="4043160" cy="487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Erythema-Marginatum-4.jpg"/>
          <p:cNvPicPr/>
          <p:nvPr/>
        </p:nvPicPr>
        <p:blipFill>
          <a:blip r:embed="rId2"/>
          <a:stretch/>
        </p:blipFill>
        <p:spPr>
          <a:xfrm>
            <a:off x="0" y="1981080"/>
            <a:ext cx="5105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Central nervous system (chorea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Calibri"/>
              </a:rPr>
              <a:t>Sydenham's chore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choreiform movements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ffect particularly the head and the upper limb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may be generalized or restricted to one side of the body (hemi-chorea)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horea eventually resolves completely, usually within 6 week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8" name="Picture 7" descr="Boys-Afflicted-with-Chorea-Known-as-St-Vitus-Dance-or-as-Danse-de-Saint-Guy-in-France-Giclee-Print-C12374586"/>
          <p:cNvPicPr/>
          <p:nvPr/>
        </p:nvPicPr>
        <p:blipFill>
          <a:blip r:embed="rId1"/>
          <a:stretch/>
        </p:blipFill>
        <p:spPr>
          <a:xfrm>
            <a:off x="4648320" y="167652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Subcutaneous nodu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</a:rPr>
              <a:t>Subcutaneous nodules :</a:t>
            </a:r>
            <a:r>
              <a:rPr b="0" lang="en-US" sz="2400" spc="-1" strike="noStrike" u="sng">
                <a:solidFill>
                  <a:srgbClr val="eeece1"/>
                </a:solidFill>
                <a:uFillTx/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se are painless, round, firm lumps overlaid by normal looking ski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range from a few millimeters to 1.5 cm in diameter, and are localized over bony prominences like the elbow, shin and spine.  They sometimes last longer than a mon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7" descr="fig11"/>
          <p:cNvPicPr/>
          <p:nvPr/>
        </p:nvPicPr>
        <p:blipFill>
          <a:blip r:embed="rId1"/>
          <a:stretch/>
        </p:blipFill>
        <p:spPr>
          <a:xfrm>
            <a:off x="5029200" y="1523880"/>
            <a:ext cx="3505320" cy="2670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1949_f1"/>
          <p:cNvPicPr/>
          <p:nvPr/>
        </p:nvPicPr>
        <p:blipFill>
          <a:blip r:embed="rId2"/>
          <a:stretch/>
        </p:blipFill>
        <p:spPr>
          <a:xfrm>
            <a:off x="5029200" y="4267080"/>
            <a:ext cx="3581280" cy="2532240"/>
          </a:xfrm>
          <a:prstGeom prst="rect">
            <a:avLst/>
          </a:prstGeom>
          <a:ln w="0">
            <a:noFill/>
          </a:ln>
        </p:spPr>
      </p:pic>
      <p:sp>
        <p:nvSpPr>
          <p:cNvPr id="153" name="Right Arrow 8"/>
          <p:cNvSpPr/>
          <p:nvPr/>
        </p:nvSpPr>
        <p:spPr>
          <a:xfrm>
            <a:off x="5029200" y="320040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ight Arrow 9"/>
          <p:cNvSpPr/>
          <p:nvPr/>
        </p:nvSpPr>
        <p:spPr>
          <a:xfrm>
            <a:off x="5867280" y="5334120"/>
            <a:ext cx="9144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1331341-1331372-1007946-1782447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Calibri"/>
                <a:ea typeface="Times New Roman"/>
              </a:rPr>
              <a:t>Investigation of Rheumatic Fev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nti-streptolysin O (ASO) tit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At least 80% of patients with ARF have an elevated </a:t>
            </a:r>
            <a:r>
              <a:rPr b="0" lang="en-US" sz="2400" spc="-1" strike="noStrike">
                <a:solidFill>
                  <a:srgbClr val="ff9900"/>
                </a:solidFill>
                <a:latin typeface="Calibri"/>
                <a:ea typeface="Arial"/>
              </a:rPr>
              <a:t>anti-streptolysin O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iter at present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Rising titer is more convincing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Anti-DNAse 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eeece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Anti-hyaluronidase tes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Throat cult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for group A streptococci (obtain 2 or 3 cultur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 – Clinical Cours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Subsequent attack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ncreased vulnerability to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reactivation of diseas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with subsequent strep infec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Same symptom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Carditis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worsens with each att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Heart valv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are frequently deformed (mitral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Hear failur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develops after decad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33"/>
                </a:solidFill>
                <a:latin typeface="Calibri"/>
                <a:ea typeface="Times New Roman"/>
              </a:rPr>
              <a:t>Acute, recurring, chronic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Symptoms prone to recur with subsequent Strep. infec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  <a:ea typeface="Arial"/>
              </a:rPr>
              <a:t>Chronic disease leads to fibrosis  (chordae of heart valves + valve cusps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3" descr="MS.bmp"/>
          <p:cNvPicPr/>
          <p:nvPr/>
        </p:nvPicPr>
        <p:blipFill>
          <a:blip r:embed="rId1"/>
          <a:stretch/>
        </p:blipFill>
        <p:spPr>
          <a:xfrm>
            <a:off x="990720" y="2743200"/>
            <a:ext cx="2638440" cy="350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S_1.bmp"/>
          <p:cNvPicPr/>
          <p:nvPr/>
        </p:nvPicPr>
        <p:blipFill>
          <a:blip r:embed="rId2"/>
          <a:stretch/>
        </p:blipFill>
        <p:spPr>
          <a:xfrm>
            <a:off x="5562720" y="2666880"/>
            <a:ext cx="2489040" cy="3581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152280" y="63244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Arial"/>
                <a:ea typeface="Arial"/>
              </a:rPr>
              <a:t>Stenotic mitral valve seen from left atriu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34120" y="63244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Arial"/>
                <a:ea typeface="Arial"/>
              </a:rPr>
              <a:t>Opened stenotic mitral val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Donut 8"/>
          <p:cNvSpPr/>
          <p:nvPr/>
        </p:nvSpPr>
        <p:spPr>
          <a:xfrm>
            <a:off x="1219320" y="3048120"/>
            <a:ext cx="2057400" cy="1981080"/>
          </a:xfrm>
          <a:custGeom>
            <a:avLst/>
            <a:gdLst/>
            <a:ahLst/>
            <a:rect l="l" t="t" r="r" b="b"/>
            <a:pathLst>
              <a:path w="2057400" h="1981200">
                <a:moveTo>
                  <a:pt x="0" y="990600"/>
                </a:moveTo>
                <a:cubicBezTo>
                  <a:pt x="0" y="443507"/>
                  <a:pt x="460565" y="0"/>
                  <a:pt x="1028700" y="0"/>
                </a:cubicBezTo>
                <a:cubicBezTo>
                  <a:pt x="1596835" y="0"/>
                  <a:pt x="2057400" y="443507"/>
                  <a:pt x="2057400" y="990600"/>
                </a:cubicBezTo>
                <a:cubicBezTo>
                  <a:pt x="2057400" y="1537693"/>
                  <a:pt x="1596835" y="1981200"/>
                  <a:pt x="1028700" y="1981200"/>
                </a:cubicBezTo>
                <a:cubicBezTo>
                  <a:pt x="460565" y="1981200"/>
                  <a:pt x="0" y="1537693"/>
                  <a:pt x="0" y="990600"/>
                </a:cubicBezTo>
                <a:close/>
                <a:moveTo>
                  <a:pt x="79486" y="990600"/>
                </a:moveTo>
                <a:cubicBezTo>
                  <a:pt x="79486" y="1493794"/>
                  <a:pt x="504464" y="1901714"/>
                  <a:pt x="1028700" y="1901714"/>
                </a:cubicBezTo>
                <a:cubicBezTo>
                  <a:pt x="1552936" y="1901714"/>
                  <a:pt x="1977914" y="1493794"/>
                  <a:pt x="1977914" y="990600"/>
                </a:cubicBezTo>
                <a:cubicBezTo>
                  <a:pt x="1977914" y="487406"/>
                  <a:pt x="1552936" y="79486"/>
                  <a:pt x="1028700" y="79486"/>
                </a:cubicBezTo>
                <a:cubicBezTo>
                  <a:pt x="504464" y="79486"/>
                  <a:pt x="79486" y="487406"/>
                  <a:pt x="79486" y="990600"/>
                </a:cubicBezTo>
                <a:close/>
              </a:path>
            </a:pathLst>
          </a:custGeom>
          <a:solidFill>
            <a:srgbClr val="00b0f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Treatment of 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reat first strep throat infection with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penicill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Treat other manifestations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symptomatical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Prophylacti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long term anti-strep therapy given to anyone who has had rheumatic fe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alibri"/>
                <a:ea typeface="Times New Roman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heumatic heart disease results from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cross reacting antibodies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binding the 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epeated attacks of Streptococcal throat infection over the years damage heart valves resulting in either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stenotic or incompetent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eart valv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Treatment involves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surgical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replacement of the damaged heart valv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n patients with rheumatic fever long term administration of </a:t>
            </a:r>
            <a:r>
              <a:rPr b="0" lang="en-US" sz="2800" spc="-1" strike="noStrike">
                <a:solidFill>
                  <a:srgbClr val="ff9900"/>
                </a:solidFill>
                <a:latin typeface="Calibri"/>
                <a:ea typeface="Arial"/>
              </a:rPr>
              <a:t>penicillin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is recommended for prevention of future infections by group A Streptococcus 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libri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Epidemiology of Rheumatic Fever (RF)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~3% of persons with untreated </a:t>
            </a:r>
            <a:r>
              <a:rPr b="0" lang="en-GB" sz="2800" spc="-1" strike="noStrike">
                <a:solidFill>
                  <a:srgbClr val="00b0f0"/>
                </a:solidFill>
                <a:latin typeface="Calibri"/>
              </a:rPr>
              <a:t>group A streptococcal pharyngitis 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develop rheumatic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5-20 million new cases a year in developing countries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Risk fa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ow standard of liv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ow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286000" y="2666880"/>
            <a:ext cx="502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ff33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Arial"/>
              </a:rPr>
              <a:t>Individual (HLA) susceptibility is  also importa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Antigen-presenting cells bearing the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HLA-DR7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molecule from RHD patients preferentially recognize heart-tissue protei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(Guilherme L, Kalil J. Ann  N Y Acd Sci    2007,1107:426-43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Calibri"/>
                <a:ea typeface="Times New Roman"/>
              </a:rPr>
              <a:t>Rheumatic fev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Rheumatic fev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is an inflammatory disease  which may develop after a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Group A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Streptococcal infe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such as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Strep. throat infection or scarlet fever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Can involve the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heart, joints, skin, and br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It commonly appears in </a:t>
            </a:r>
            <a:r>
              <a:rPr b="0" lang="en-US" sz="3200" spc="-1" strike="noStrike">
                <a:solidFill>
                  <a:srgbClr val="ffc000"/>
                </a:solidFill>
                <a:latin typeface="Calibri"/>
                <a:ea typeface="Arial"/>
              </a:rPr>
              <a:t>childre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ages 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  <a:ea typeface="Arial"/>
              </a:rPr>
              <a:t>5 through 1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  <a:ea typeface="Times New Roman"/>
              </a:rPr>
              <a:t>Organis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Caused by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group A streptococc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There is a latent period of </a:t>
            </a:r>
            <a:r>
              <a:rPr b="0" lang="en-US" sz="2400" spc="-1" strike="noStrike">
                <a:solidFill>
                  <a:srgbClr val="eeece1"/>
                </a:solidFill>
                <a:latin typeface="Calibri"/>
                <a:ea typeface="Arial"/>
              </a:rPr>
              <a:t>~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  <a:ea typeface="Arial"/>
              </a:rPr>
              <a:t>3 weeks (1–5 weeks)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Arial"/>
              </a:rPr>
              <a:t>between the group A streptococcal infection and the appearance of the clinical features of RF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400" spc="-1" strike="noStrike">
              <a:solidFill>
                <a:srgbClr val="ffffff"/>
              </a:solidFill>
              <a:latin typeface="Calibri"/>
              <a:ea typeface="Arial"/>
            </a:endParaRPr>
          </a:p>
        </p:txBody>
      </p:sp>
      <p:pic>
        <p:nvPicPr>
          <p:cNvPr id="102" name="Picture 6" descr="767703_com_streptococ"/>
          <p:cNvPicPr/>
          <p:nvPr/>
        </p:nvPicPr>
        <p:blipFill>
          <a:blip r:embed="rId1"/>
          <a:stretch/>
        </p:blipFill>
        <p:spPr>
          <a:xfrm>
            <a:off x="4114800" y="1600200"/>
            <a:ext cx="502920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2d050"/>
                </a:solidFill>
                <a:latin typeface="Calibri"/>
              </a:rPr>
              <a:t>Group A </a:t>
            </a:r>
            <a:r>
              <a:rPr b="0" lang="en-GB" sz="4000" spc="-1" strike="noStrike">
                <a:solidFill>
                  <a:srgbClr val="92d050"/>
                </a:solidFill>
                <a:latin typeface="Symbol"/>
                <a:ea typeface="Symbol"/>
              </a:rPr>
              <a:t></a:t>
            </a:r>
            <a:r>
              <a:rPr b="0" lang="en-GB" sz="4000" spc="-1" strike="noStrike">
                <a:solidFill>
                  <a:srgbClr val="92d050"/>
                </a:solidFill>
                <a:latin typeface="Calibri"/>
              </a:rPr>
              <a:t>haemolytic streptococcu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Arial"/>
              </a:rPr>
              <a:t>All cases associated with recent infection (e.g. pharyngit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eece1"/>
                </a:solidFill>
                <a:latin typeface="Calibri"/>
                <a:ea typeface="Arial"/>
              </a:rPr>
              <a:t>Antibody and cellular immune response </a:t>
            </a:r>
            <a:r>
              <a:rPr b="0" lang="en-GB" sz="3200" spc="-1" strike="noStrike">
                <a:solidFill>
                  <a:srgbClr val="ffffff"/>
                </a:solidFill>
                <a:latin typeface="Calibri"/>
                <a:ea typeface="Arial"/>
              </a:rPr>
              <a:t>cross-reacts with human connective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26" descr="strept"/>
          <p:cNvPicPr/>
          <p:nvPr/>
        </p:nvPicPr>
        <p:blipFill>
          <a:blip r:embed="rId1"/>
          <a:srcRect l="7846" t="4539" r="6866" b="10021"/>
          <a:stretch/>
        </p:blipFill>
        <p:spPr>
          <a:xfrm>
            <a:off x="0" y="34920"/>
            <a:ext cx="9144000" cy="598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27"/>
          <p:cNvSpPr/>
          <p:nvPr/>
        </p:nvSpPr>
        <p:spPr>
          <a:xfrm>
            <a:off x="533520" y="61246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imishikavi S,  Stead L  Streptococcal Pharyngitis – Images in Clinical Medicine.   NEJM 2005: 352:e1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41200" y="0"/>
            <a:ext cx="729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omic Sans MS"/>
                <a:ea typeface="Arial"/>
              </a:rPr>
              <a:t>M prot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Attachment &amp; interferes with host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8680" y="1339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236840" y="990720"/>
            <a:ext cx="481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omic Sans MS"/>
                <a:ea typeface="Arial"/>
              </a:rPr>
              <a:t>Hyaluronic acid caps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  <a:ea typeface="Arial"/>
              </a:rPr>
              <a:t>Camouflages the bacter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17800" y="1644480"/>
            <a:ext cx="364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00"/>
                </a:solidFill>
                <a:uFillTx/>
                <a:latin typeface="Comic Sans MS"/>
                <a:ea typeface="Arial"/>
              </a:rPr>
              <a:t>Streptokin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Comic Sans MS"/>
                <a:ea typeface="Arial"/>
              </a:rPr>
              <a:t>Dissolves blood c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64880" y="2590920"/>
            <a:ext cx="828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33"/>
                </a:solidFill>
                <a:uFillTx/>
                <a:latin typeface="Comic Sans MS"/>
                <a:ea typeface="Arial"/>
              </a:rPr>
              <a:t>Peptid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Comic Sans MS"/>
                <a:ea typeface="Arial"/>
              </a:rPr>
              <a:t>Degrades proteins involved in immune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16840" y="3505320"/>
            <a:ext cx="50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64a2"/>
                </a:solidFill>
                <a:uFillTx/>
                <a:latin typeface="Comic Sans MS"/>
                <a:ea typeface="Arial"/>
              </a:rPr>
              <a:t>Pyrogenic 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64a2"/>
                </a:solidFill>
                <a:latin typeface="Comic Sans MS"/>
                <a:ea typeface="Arial"/>
              </a:rPr>
              <a:t>Stimulate fever, rash &amp;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97080" y="4267080"/>
            <a:ext cx="692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ffff"/>
                </a:solidFill>
                <a:uFillTx/>
                <a:latin typeface="Comic Sans MS"/>
                <a:ea typeface="Arial"/>
              </a:rPr>
              <a:t>Streptolys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Comic Sans MS"/>
                <a:ea typeface="Arial"/>
              </a:rPr>
              <a:t>Lyse erythrocytes, leukocytes &amp; platel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14400" y="52578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  <a:ea typeface="Arial"/>
              </a:rPr>
              <a:t>Post streptococcal glomerulonephritis is caused by streptococcal antigen-antibody immune complexes (</a:t>
            </a:r>
            <a:r>
              <a:rPr b="0" lang="en-US" sz="2400" spc="-1" strike="noStrike" u="sng">
                <a:solidFill>
                  <a:srgbClr val="ff9900"/>
                </a:solidFill>
                <a:uFillTx/>
                <a:latin typeface="Comic Sans MS"/>
                <a:ea typeface="Arial"/>
              </a:rPr>
              <a:t>Type III hypersensitivity reaction</a:t>
            </a:r>
            <a:r>
              <a:rPr b="0" lang="en-US" sz="2400" spc="-1" strike="noStrike">
                <a:solidFill>
                  <a:srgbClr val="ff9900"/>
                </a:solidFill>
                <a:latin typeface="Comic Sans MS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0T12:43:46Z</dcterms:created>
  <dc:creator>Dr.Hend</dc:creator>
  <dc:description/>
  <dc:language>en-US</dc:language>
  <cp:lastModifiedBy>GCUSER</cp:lastModifiedBy>
  <dcterms:modified xsi:type="dcterms:W3CDTF">2015-03-10T05:04:27Z</dcterms:modified>
  <cp:revision>165</cp:revision>
  <dc:subject/>
  <dc:title>Slide 1</dc:title>
</cp:coreProperties>
</file>