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97B2-AA7C-4BB9-B952-2FF92066A0D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ensive systemic plasminogen activation, with degradation of several plasma proteins including fibrinogen, factor V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factor VI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139A-49BC-4744-9170-C606DA3B269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BCBE-2E7D-47DF-808E-54D0AD64F1A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CDB2-C191-4FC4-A417-652E0C5EDC9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nternal bleeding; history of cerebrovascular accident; recent intracranial or intraspinal surgery or trauma; intracranial neoplasm, arteriovenous malformations, or aneurysm; known bleeding diathesis; severe uncontrolled hyper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0A48-7E30-4C2E-BB8E-FDC5D3A9FB6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EFB3-C2C3-48F0-A70E-6B18676EECF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AC35-75DB-4A26-948D-B207DB5C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D10-B16F-4EE0-B312-6B34F1B6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876-119C-4B4E-80ED-29CA10B7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EDD-89E1-47FA-9E0D-350C28EC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44D2-C4BB-4C41-A874-880BA85C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2DD8-0036-4CE3-B739-55FBE56B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FED9-0109-44D2-B511-C2487368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B0E9-52F8-4EEB-A238-283FDD16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75DD-0AAD-401D-99CA-A2704C74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E868-F1FA-44A1-9BDE-BA305360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009D-C7DE-458A-A5EE-67D1BD5D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26C-87A7-4FA0-9C3C-51F6C5DC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1291-9C11-40DA-B4D5-FBEB9BA2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76F4-151A-4A8C-8394-FC7424CD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F11B-6006-421D-92FA-13F62F9E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67F7-2B50-4EC3-9BCE-4A159E91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5B35-8D7D-4A7C-A2D5-A819CD7DF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BB3D-5B5C-4A79-A646-A17829BE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066-82F9-4173-938A-EE56DDF4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BFA-D7A9-4F19-96C8-9AAC43EA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EF2-B8BA-4B8C-ACB9-A627B62E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BF4-2693-4943-A75B-7E74460F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8C5-E70A-4D11-98B2-38AC665D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215-ADBA-42B1-83D1-3745EF79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F613-970F-4E51-8BA8-981619C7DB1B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6263-1C39-48A4-9BAE-3F7033CA70F9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1680" y="1928880"/>
            <a:ext cx="777240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ROMBOLYTIC DRUGS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Fibrinolytic drugs)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f. Hanan Hagar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95280" y="1484280"/>
            <a:ext cx="4140360" cy="3313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-fibrin speci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kin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streplas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643280" y="1484280"/>
            <a:ext cx="4392720" cy="460872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brin specifi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plasmin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ors (t-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c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accessmedicine.com/loadBinary.aspx?name=hurs13&amp;filename=%09hurs13_c061f008.gif"/>
          <p:cNvPicPr/>
          <p:nvPr/>
        </p:nvPicPr>
        <p:blipFill>
          <a:blip r:embed="rId1">
            <a:lum bright="-24000"/>
          </a:blip>
          <a:srcRect l="2827" t="3523" r="1414" b="51085"/>
          <a:stretch/>
        </p:blipFill>
        <p:spPr>
          <a:xfrm>
            <a:off x="0" y="1197000"/>
            <a:ext cx="9112320" cy="30956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192240" y="6211800"/>
            <a:ext cx="54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= plasminogen activator inhib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826920" y="333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brin specific plasminogen activ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179280" y="479268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rin specific plasminogen activators activate mainly plasminogen bound to clot surface and have less effect on circulating 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accessmedicine.com/loadBinary.aspx?name=hurs13&amp;filename=%09hurs13_c061f008.gif"/>
          <p:cNvPicPr/>
          <p:nvPr/>
        </p:nvPicPr>
        <p:blipFill>
          <a:blip r:embed="rId1">
            <a:lum bright="-20000"/>
          </a:blip>
          <a:srcRect l="2827" t="49324" r="4241" b="8807"/>
          <a:stretch/>
        </p:blipFill>
        <p:spPr>
          <a:xfrm>
            <a:off x="34920" y="692280"/>
            <a:ext cx="8929800" cy="36003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324000" y="11592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fibrin specific plasminogen activ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79280" y="4792680"/>
            <a:ext cx="878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fibrin specific plasminogen activators activate bo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sminogen bound to clot surfa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ulating plasminog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blood leading t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sive systemic plasminogen activation, with degradation of several plasma proteins including fibrinogen, factor V, and factor VI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69720" y="115920"/>
            <a:ext cx="856944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 fibrin-specific agent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9640" y="1484280"/>
            <a:ext cx="842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eptokin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istrepla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es plasminogen both i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o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t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ot su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us produce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ot lys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fibrinolys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ing to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eeding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5280" y="115560"/>
            <a:ext cx="8569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brin-specific agents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539640" y="1484280"/>
            <a:ext cx="8425080" cy="56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issue plaminogen acti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tepl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tepl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enectep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ve in action (clot or fibrin specif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preferentially to plasminogen at th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surface (non-circulating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irculat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inogen in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 of bleeding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ss th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pecific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is enhanced upon binding to fibr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69720" y="1844280"/>
            <a:ext cx="8569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 fibrin-specific plasminogen activator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2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14440" y="357336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eptokin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istrepla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rokin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58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kinase (S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cterial protein produc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-hemoly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reptococc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c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rect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forming plasminogen-streptokinase complex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"activator complex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onverts inactive plasminogen into active plas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kinase is non-fibrin specif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egrad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 clo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ell a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ibrino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other plasma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31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streptokin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Streptokin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124000" y="15969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835280" y="4308480"/>
            <a:ext cx="252072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338560" y="2346480"/>
            <a:ext cx="0" cy="180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22200" y="6021360"/>
            <a:ext cx="137016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140360" y="5705640"/>
            <a:ext cx="309708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degra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 flipH="1">
            <a:off x="2340000" y="3716280"/>
            <a:ext cx="1317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3"/>
          <p:cNvSpPr/>
          <p:nvPr/>
        </p:nvSpPr>
        <p:spPr>
          <a:xfrm>
            <a:off x="2338560" y="4997520"/>
            <a:ext cx="1440" cy="129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1835280" y="634536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708360" y="3324240"/>
            <a:ext cx="4105440" cy="830160"/>
          </a:xfrm>
          <a:prstGeom prst="rect">
            <a:avLst/>
          </a:prstGeom>
          <a:solidFill>
            <a:srgbClr val="f5f5e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ctivator compl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eptokinase + Plasmin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5219640" y="234792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4356000" y="234792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4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eptokin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1/2 = less than </a:t>
            </a:r>
            <a:r>
              <a:rPr b="1" lang="en-US" sz="3600" spc="-1" strike="noStrike" u="sng">
                <a:solidFill>
                  <a:srgbClr val="3366ff"/>
                </a:solidFill>
                <a:uFillTx/>
                <a:latin typeface="Times New Roman"/>
              </a:rPr>
              <a:t>20 minu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intravenous infus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50,000 U then 100,000 U/h for 24-72 h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the least expensive among other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venous or arterial thrombo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766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de effects of streptokin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genicit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titer antibodies develop 1 to 2 weeks after use, precluding retreatment until the titer dec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lergic re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ike rashes, fever, hypo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leed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e to activation of circulating plasminogen (systemic fibrinoly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fibrin specific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3366ff"/>
                </a:solidFill>
                <a:uFillTx/>
                <a:latin typeface="Times New Roman"/>
              </a:rPr>
              <a:t>Learning objective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now mechanism of action of thrombolytic therap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fferentiate between different types of thrombolytic dru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scribe indications, side effects and contraindications of thrombolytic dru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cognize the mechanisms, uses and side effects of antiplasm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280" y="260280"/>
            <a:ext cx="8442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ca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 in patients with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streptococcal infections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ious administration of the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patients may develop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ever, allergic reactions and resista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on treatment with streptokinase due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streptococcal antibo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istreplase (APSAC) 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3901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Times New Roman"/>
              </a:rPr>
              <a:t>Anisoylated Plasminogen Streptokinase Activator Complex (APSAC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cylat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minogen combined with streptokin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rodru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-acylated in circulation into the active plasminogen-streptokinase comp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/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3200" spc="-1" strike="noStrike" u="sng">
                <a:solidFill>
                  <a:srgbClr val="3366ff"/>
                </a:solidFill>
                <a:uFillTx/>
                <a:latin typeface="Times New Roman"/>
              </a:rPr>
              <a:t>70-120 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02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s a bolus I.V. injection (30 U over 3 - 5 min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er duration of action than streptokin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thrombolytic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r">
              <a:lnSpc>
                <a:spcPct val="100000"/>
              </a:lnSpc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lot sele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260280"/>
            <a:ext cx="851364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advant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but less than streptokinase alone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icit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eaction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fibrin specificit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25000"/>
              </a:lnSpc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lysi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xpensive than streptokin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kin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enzyme synthesized by the kidne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ed from either urine or cultures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embryonic kidney cell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 algn="r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rec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sminogen activa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19080">
              <a:lnSpc>
                <a:spcPct val="100000"/>
              </a:lnSpc>
              <a:spcBef>
                <a:spcPts val="1199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travenous infusion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,000U over 10 min then 300,000U/h for 12h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okinase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n elimination half-life of 12-20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he lyses of acute massive pulmonary emb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aphylaxis (not antigeni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fibrin specif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ic lysis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cts upon fibrin-bound and circulating plasminog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r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its use is now limit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560" y="213840"/>
            <a:ext cx="8785080" cy="63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ssue Plasminogen Activators (t-P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recombinant human tissue plasminogen activators (t–PA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recombinant DNA technolog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b2b2b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drugs a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00000"/>
              </a:lnSpc>
              <a:spcBef>
                <a:spcPts val="850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ectepl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560" y="331920"/>
            <a:ext cx="8607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t-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ctivat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ibrin-bound plasminog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her than free plasminogen in bl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action 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nhanced by the presence of fibr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199"/>
              </a:spcBef>
              <a:buClr>
                <a:srgbClr val="e7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bind to fibrin in a thrombus and convert the entrapped plasminogen to plasmin followed by activated local fibrinolysis with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limited systemic fibrinoly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50560" y="331920"/>
            <a:ext cx="8607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antages of t-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brin-specific drugs (clot specific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ed systemic fibrinolys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risk of ble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-antigenic (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be used in patients with recent streptococcal infections or antistreptococcal antibod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eplas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 recombinant form of human tP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very short half life (~5 min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usually administered as an intravenous bolus followed by an infus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60 mg i.v. bolus + 40 mg infusion over 2 h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T-elevation myocardial infarction (STEM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monary embolis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finition of Thrombolytic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rombolytic agent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re drugs used to lyse already formed blood clots in clinical settings where ischemia may be fat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62000" y="259920"/>
            <a:ext cx="88200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tepl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variant of recombinant tP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has longer duration than alteplase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(15 min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enhanced fibrin specificit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n as two I.V. bolus injections of 10 U each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U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ST-elevation myocardial infarction (STEMI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lmonary embolism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1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62000" y="260280"/>
            <a:ext cx="8820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nectepla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nother modified human t-P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epared by recombinant technolog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has half life of more than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30 m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ff"/>
                </a:solidFill>
                <a:latin typeface="Arial"/>
              </a:rPr>
              <a:t>It can be administered as a single IV bolus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more fibrin-specif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longer dur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n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teplas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e7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t is only approved for use in acute myocardial infarc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605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raindications to thrombo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internal bl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al hemorrhagic stro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ovascular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surgery within two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peptic ul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e uncontrolled hyper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990033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intracranial trauma or ne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Fibrinolytic Inhibitors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ntiplasmin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hibit plasminogen  activation   and   thus  inhibit  fibrinolysis  and </a:t>
            </a: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promote clot stab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Fibrinolytic Inhibitors</a:t>
            </a:r>
            <a:br>
              <a:rPr sz="4000"/>
            </a:b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Antiplasmins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66ff"/>
                </a:solidFill>
                <a:uFillTx/>
                <a:latin typeface="Arial"/>
              </a:rPr>
              <a:t>Aminocaproic Acid &amp; tranexamic 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s by competitive inhibition of plasminogen ac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o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Aproti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hibits fibrinolysis by blocking the action of plasm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plasmin antagon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en orally or i.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Uses of Fibrinolytic Inhibitors</a:t>
            </a:r>
            <a:br>
              <a:rPr sz="4000"/>
            </a:b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53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vant therapy in hemoph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inolytic therapy-induced bleeding (antido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surgical blee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990033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work like antidotes for fibrinolytic drugs. Similar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amine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dote of the anticoagulant, hepari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ntidote of the oral anticoagulant warfar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 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Thrombolytic therap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000" y="1420920"/>
            <a:ext cx="821844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lytic thera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one part of an overall antithrombotic plan that frequently include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coagul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ntiplatelet ag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echanical approaches to rapidly restore flow and prevent re-occl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mbolytic therap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rapid restoration of blood flo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occluded blood vessel by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ccelerating proteoly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thromb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ications of thrombolyt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he treatment of thromboembolic disorders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myocardial  infarction (ST elevation,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EM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ischemic stro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artery occl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venous thrombo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mbolis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Times New Roman"/>
              </a:rPr>
              <a:t>Rational for use of thrombolytic drugs in AMI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ational for use of thrombolytics in A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ment of ventricular fun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tion of the incidence of congestive heart fail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tion of mortality following AM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mbolytic drugs need to be given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mmediately to the patient after diagnosis of M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lay in administration will be of no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3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have common mechanism of action b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ng </a:t>
            </a: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lasminogen activation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ing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oge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proenzyme) to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ctive enzyme)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ysis of th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oluble fibrin clot into soluble derivative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731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lasm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nonspecific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prot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pable of breaking down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br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well as other circulating proteins, including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ibrinogen, factor V, and factor V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31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thrombolyt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771640" y="15573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771640" y="400536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s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3924360" y="2349360"/>
            <a:ext cx="0" cy="165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68360" y="5373720"/>
            <a:ext cx="2521080" cy="647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oluble fibr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5796000" y="5157720"/>
            <a:ext cx="3097080" cy="10080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ble degra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4932360" y="2637000"/>
            <a:ext cx="3960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omboly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Plasminogen activat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3995640" y="2997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3924360" y="46530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3203640" y="580536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5:15:36Z</dcterms:created>
  <dc:creator>mahmoud.khattab</dc:creator>
  <dc:description/>
  <dc:language>en-US</dc:language>
  <cp:lastModifiedBy>Hanan Hagar</cp:lastModifiedBy>
  <dcterms:modified xsi:type="dcterms:W3CDTF">2015-03-31T09:28:39Z</dcterms:modified>
  <cp:revision>125</cp:revision>
  <dc:subject/>
  <dc:title>THROMBOLYTIC DRUGS</dc:title>
</cp:coreProperties>
</file>