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4CD9-2B72-4DB1-B246-1366F98E2C0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tensive systemic plasminogen activation, with degradation of several plasma proteins including fibrinogen, factor V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factor VI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3641-9280-4D17-9C14-DE02D61BB42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0877-C2FD-4277-B83C-B57329B7807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F4DB-8DE8-41B8-B4D5-F7E342F0CA7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nternal bleeding; history of cerebrovascular accident; recent intracranial or intraspinal surgery or trauma; intracranial neoplasm, arteriovenous malformations, or aneurysm; known bleeding diathesis; severe uncontrolled hyper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BF35-6B72-472F-81BF-D2603A22B6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7DB8-4AC1-4073-AC31-38E98E14C2E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788-976F-4FA9-A7D8-53EC030D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7CB7-AD7C-4F83-A98E-B5831F19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76D-036A-44CE-85E6-9697A471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A03-E2A0-4EC6-8122-20522C2E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0454-026A-4F5B-A68C-80C3537D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2859-C722-4D87-9A7A-E9FBC9FE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6C41-7A67-489D-83B7-5593F185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2AB2-B778-4997-9E9B-63FC3EBD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1994-C0F1-4275-A6E9-B9BCC9C1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288B-29A2-41FA-911E-575486C0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6720-4516-4B7E-86D6-6B919666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01FF-9758-4048-ADBF-9336CE13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CE71-C1F3-499C-AD6E-822A6949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1C08-D690-4BB0-9B1C-DF8AE042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0AA8-2AC9-419F-80C1-6AB0E52A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BC59-6B5F-48C7-A097-BB72349E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6BB7-C97A-48DA-8331-B636F8CF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FEC3-C482-475F-BFE8-C9B016E3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C10-5EC0-4350-AB8A-9B50465C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6A45-38D6-45C8-A00F-4705943B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B97-E5E9-4BCE-B6C1-770B9C37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08F-B6FB-4B14-8BF6-1E80C583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2E34-FDD0-4936-BE20-2821CB35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0A0D-95D1-4810-8C71-0AB1C76A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CB14-B0A8-4A6F-9811-243E1F361CBD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F414-0483-4CB6-BC0D-CE2350EF7A51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680" y="192888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ROMBOLYTIC DRUGS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Fibrinolytic drugs)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f. Hanan Hagar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95280" y="1484280"/>
            <a:ext cx="4140360" cy="3313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fibrin specif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kin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streplas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643280" y="1484280"/>
            <a:ext cx="4392720" cy="46087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brin specif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plasmino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ors (t-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ec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accessmedicine.com/loadBinary.aspx?name=hurs13&amp;filename=%09hurs13_c061f008.gif"/>
          <p:cNvPicPr/>
          <p:nvPr/>
        </p:nvPicPr>
        <p:blipFill>
          <a:blip r:embed="rId1">
            <a:lum bright="-24000"/>
          </a:blip>
          <a:srcRect l="2827" t="3523" r="1414" b="51085"/>
          <a:stretch/>
        </p:blipFill>
        <p:spPr>
          <a:xfrm>
            <a:off x="0" y="1197000"/>
            <a:ext cx="9112320" cy="3095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192240" y="6211800"/>
            <a:ext cx="54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= plasminogen activator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826920" y="333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brin specific plasminogen activ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179280" y="479268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rin specific plasminogen activators activate mainly plasminogen bound to clot surface and have less effect on circulating plasmin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://accessmedicine.com/loadBinary.aspx?name=hurs13&amp;filename=%09hurs13_c061f008.gif"/>
          <p:cNvPicPr/>
          <p:nvPr/>
        </p:nvPicPr>
        <p:blipFill>
          <a:blip r:embed="rId1">
            <a:lum bright="-20000"/>
          </a:blip>
          <a:srcRect l="2827" t="49324" r="4241" b="8807"/>
          <a:stretch/>
        </p:blipFill>
        <p:spPr>
          <a:xfrm>
            <a:off x="34920" y="692280"/>
            <a:ext cx="8929800" cy="36003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324000" y="11592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fibrin specific plasminogen activ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79280" y="4792680"/>
            <a:ext cx="878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fibrin specific plasminogen activators activate bo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sminogen bound to clot surfa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ulating plasminog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lood leading t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ve systemic plasminogen activation, with degradation of several plasma proteins including fibrinogen, factor V, and factor VI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69720" y="115920"/>
            <a:ext cx="856944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thrombolyt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 fibrin-specific agent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9640" y="1484280"/>
            <a:ext cx="842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reptokin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istrepla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r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es plasminogen both i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lo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t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ot su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us produce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ot lys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stemic fibrinolys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ing t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eeding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115560"/>
            <a:ext cx="8569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brin-specific agent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39640" y="1484280"/>
            <a:ext cx="8425080" cy="56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issue plaminogen activ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tepl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tepl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nec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ve in action (clot or fibrin specif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preferentially to plasminogen at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 surface (non-circulating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her tha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irculat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inogen in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of bleeding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s th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specific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is enhanced upon binding to fibr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69720" y="1844280"/>
            <a:ext cx="8569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 fibrin-specific plasminogen activator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14440" y="357336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reptokin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istrepla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r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58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kinase (S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acterial protein produc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-hemoly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reptococc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ct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irect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forming plasminogen-streptokinase complex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"activator complex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onverts inactive plasminogen into active plas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kinase is non-fibrin specif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degrad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 clo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ell a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og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other plasma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31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streptokin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Streptokin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124000" y="159696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835280" y="4308480"/>
            <a:ext cx="25207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338560" y="2346480"/>
            <a:ext cx="0" cy="180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22200" y="6021360"/>
            <a:ext cx="13701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b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140360" y="5705640"/>
            <a:ext cx="309708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ble degra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 flipH="1">
            <a:off x="2340000" y="3716280"/>
            <a:ext cx="1317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2338560" y="4997520"/>
            <a:ext cx="1440" cy="12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1835280" y="634536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708360" y="3324240"/>
            <a:ext cx="4105440" cy="830160"/>
          </a:xfrm>
          <a:prstGeom prst="rect">
            <a:avLst/>
          </a:prstGeom>
          <a:solidFill>
            <a:srgbClr val="f5f5e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ctivator compl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eptokinase + Plasmino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5219640" y="234792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4356000" y="234792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442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kin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1/2 = less than </a:t>
            </a:r>
            <a:r>
              <a:rPr b="1" lang="en-US" sz="3600" spc="-1" strike="noStrike" u="sng">
                <a:solidFill>
                  <a:srgbClr val="3366ff"/>
                </a:solidFill>
                <a:uFillTx/>
                <a:latin typeface="Times New Roman"/>
              </a:rPr>
              <a:t>20 minu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s intravenous infus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50,000 U then 100,000 U/h for 24-72 h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least expensive among other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venous or arterial thrombosi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766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de effects of streptokin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igenicity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titer antibodies develop 1 to 2 weeks after use, precluding retreatment until the titer dec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lergic re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ike rashes, fever, hypo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lee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e to activation of circulating plasminogen (systemic fibrinoly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fibrin specific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66ff"/>
                </a:solidFill>
                <a:uFillTx/>
                <a:latin typeface="Times New Roman"/>
              </a:rPr>
              <a:t>Learning objectiv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now mechanism of action of thrombolytic thera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ifferentiate between different types of thrombolytic dru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cribe indications, side effects and contraindications of thrombolytic dru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cognize the mechanisms, uses and side effects of antiplasm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442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ca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 in patients with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 streptococcal infections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 administration of the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patients may develop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ever, allergic reactions and resi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on treatment with streptokinase due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streptococcal antibo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istreplase (APSAC)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3901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33"/>
                </a:solidFill>
                <a:uFillTx/>
                <a:latin typeface="Times New Roman"/>
              </a:rPr>
              <a:t>Anisoylated Plasminogen Streptokinase Activator Complex (APSAC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cylat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minogen combined with streptokin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prodru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-acylated in circulation into the active plasminogen-streptokinase comp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3200" spc="-1" strike="noStrike" u="sng">
                <a:solidFill>
                  <a:srgbClr val="3366ff"/>
                </a:solidFill>
                <a:uFillTx/>
                <a:latin typeface="Times New Roman"/>
              </a:rPr>
              <a:t>70-12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5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0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02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antag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s a bolus I.V. injection (30 U over 3 - 5 min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er duration of action than streptokin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rombolytic acti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lot sele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5136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advant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but less than streptokinase alone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icit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rgic react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fibrin specificit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lysi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expensive than streptokin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kin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enzyme synthesized by the kidne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ed from either urine or cultures o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embryonic kidney cell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rec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sminogen activa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travenous infusion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,000U over 10 min then 300,000U/h for 12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kinase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n elimination half-life of 12-20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he lyses of acute massive pulmonary emb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antag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naphylaxis (not antigeni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fibrin specif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lysis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cts upon fibrin-bound and circulating plasminog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ive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its use is now limit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560" y="213840"/>
            <a:ext cx="878508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ssue Plasminogen Activators (t-PA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recombinant human tissue plasminogen activators (t–PA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recombinant DNA technolog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drugs a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pl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epl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ectepl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560" y="331920"/>
            <a:ext cx="86072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t-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ctivat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brin-bound plasmino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her than free plasminogen in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action i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hanced by the presence of fibr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bind to fibrin in a thrombus and convert the entrapped plasminogen to plasmin followed by activated local fibrinolysis with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limited systemic fibrino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560" y="331920"/>
            <a:ext cx="86072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antages of t-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brin-specific drugs (clot specific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mited systemic fibrinoly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risk of ble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-antigenic (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be used in patients with recent streptococcal infections or antistreptococcal antibod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eplas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 recombinant form of human tP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very short half life (~5 min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usually administered as an intravenous bolus followed by an infus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60 mg i.v. bolus + 40 mg infusion over 2 h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ST-elevation myocardial infarction (STEM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lmonary embolism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inition of Thrombolytic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rombolytic agen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re drugs used to lyse already formed blood clots in clinical settings where ischemia may be fat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62000" y="259920"/>
            <a:ext cx="88200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tepla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variant of recombinant tP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has longer duration than alteplas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(15 min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enhanced fibrin specificit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ven as two I.V. bolus injections of 10 U each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U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ST-elevation myocardial infarction (STEM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lmonary embolism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nectepla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nother modified human t-P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pared by recombinant technolog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has half life of more than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30 m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It can be administered as a single IV bolu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more fibrin-specif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longer du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teplas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only approved for use in acute myocardial infarc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605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raindications to thromboly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internal ble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al hemorrhagic stro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ovascular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surgery within two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peptic ul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uncontrolled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 intracranial trauma or ne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Fibrinolytic Inhibitors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Antiplasmin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hibit plasminogen  activation   and   thus  inhibit  fibrinolysis  and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promote clot stabi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Fibrinolytic Inhibitors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Antiplasmin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ff"/>
                </a:solidFill>
                <a:uFillTx/>
                <a:latin typeface="Arial"/>
              </a:rPr>
              <a:t>Aminocaproic Acid &amp; tranexamic 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s by competitive inhibition of plasminogen 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or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Aproti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nhibits fibrinolysis by blocking the action of plasmi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plasmin antagon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en orally or i.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Uses of Fibrinolytic Inhibitors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vant therapy in hem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inolytic therapy-induced bleeding (antidot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surgical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work like antidotes for fibrinolytic drugs. Similar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amin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dote of the anticoagulant, hepari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dote of the oral anticoagulant warfar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 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hrombolytic therap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000" y="1420920"/>
            <a:ext cx="821844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mbolytic thera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s one part of an overall antithrombotic plan that frequently include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icoagul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iplatelet ag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echanical approaches to rapidly restore flow and prevent re-occl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mbolytic thera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apid restoration of blood fl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occluded blood vessel by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ccelerating proteoly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throm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ications of thromboly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he treatment of thromboembolic disorders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myocardial  infarction (ST elevation,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EM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ischemic stro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pheral artery occlu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 venous thrombo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mbolis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Rational for use of thrombolytic drugs in AMI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tional for use of thrombolytics in A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ment of ventricular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tion of the incidence of congestive heart fail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tion of mortality following AM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mbolytic drugs need to be given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mediately to the patient after diagnosis of 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lay in administration will be of no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31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ave common mechanism of action b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ng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lasminogen activation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ing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oge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roenzyme) to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ctive enzyme)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ysis of th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oluble fibrin clot into soluble derivative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31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nonspecific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t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pable of breaking dow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br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well as other circulating proteins, including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brinogen, factor V, and factor VI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31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thrombolyt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771640" y="155736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771640" y="400536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3924360" y="2349360"/>
            <a:ext cx="0" cy="16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537372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oluble fib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5796000" y="5157720"/>
            <a:ext cx="309708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ble degra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4932360" y="2637000"/>
            <a:ext cx="3960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ombo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Plasminogen activ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3995640" y="2997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3924360" y="4653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320364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5:15:36Z</dcterms:created>
  <dc:creator>mahmoud.khattab</dc:creator>
  <dc:description/>
  <dc:language>en-US</dc:language>
  <cp:lastModifiedBy>Hanan Hagar</cp:lastModifiedBy>
  <dcterms:modified xsi:type="dcterms:W3CDTF">2015-03-31T09:28:39Z</dcterms:modified>
  <cp:revision>125</cp:revision>
  <dc:subject/>
  <dc:title>THROMBOLYTIC DRUGS</dc:title>
</cp:coreProperties>
</file>