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20th Century Fon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20th Century Fon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976D-25A2-420F-90E3-A877DED92DA8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60A8-5A92-41F2-998E-EB516BD85F55}" type="slidenum">
              <a:rPr b="0" lang="en-US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A5F4-5A42-4007-A8FD-C1B3B8CDB383}" type="slidenum">
              <a:rPr b="0" lang="en-US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D02A-BD6E-4F69-8C11-5354F6A4D09F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8ABF-DFCE-4F0F-86CC-76C99C18D980}" type="slidenum">
              <a:rPr b="0" lang="en-US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DD26-19B8-42C2-AF40-B01BCACE636F}" type="slidenum">
              <a:rPr b="0" lang="en-GB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60A7-F919-4BD9-AA15-653E37ADB3AA}" type="slidenum">
              <a:rPr b="0" lang="en-US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6DCB-D53E-485B-B680-85F93DD64B6B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D0BB-D645-4E39-A7A8-E7188E3A1AED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4182-2B78-4D9B-BAAD-105D50A459D5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1557-8221-4489-A934-30974946E4B3}" type="slidenum">
              <a:rPr b="0" lang="en-US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4F4A-8AB9-4AD7-9F5A-5D98B1A3C286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7124-DE6A-43C4-A25A-CF15D1385975}" type="slidenum">
              <a:rPr b="0" lang="en-GB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8A69-BB6B-4BA6-AECC-2F1BDDE23CE2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9322-A503-440C-87A2-E9FD95D1152B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1B4A-FB6E-4470-AAA3-A750B576D451}" type="slidenum">
              <a:rPr b="0" lang="ar-SA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6518-F136-451B-9A76-E40F879462F8}" type="slidenum">
              <a:rPr b="0" lang="en-US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2B2E-6773-4329-A047-B0C2ED4E0DD5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94AE-D5F4-4D35-A847-F03236BD082E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92" name="عنصر نائب لرقم الشريحة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45F1-FF7C-4E17-B78B-D77E062442CB}" type="slidenum">
              <a:rPr b="0" lang="en-US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F3AD-2AAA-478E-A245-3FEC55C052A6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7D8A-352E-4A7C-A954-61FB60E4B1B1}" type="slidenum">
              <a:rPr b="0" lang="en-US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7928-B623-4C14-9DB1-D30F93EF4C5B}" type="slidenum">
              <a:rPr b="0" lang="en-US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F641-EAC9-42C8-85E2-5D2928E2BE46}" type="slidenum">
              <a:rPr b="0" lang="en-US" sz="1200" spc="-1" strike="noStrike">
                <a:solidFill>
                  <a:srgbClr val="000000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90A9-937D-42CD-AFB4-206AA1CB28CA}" type="slidenum">
              <a:rPr b="0" lang="en-US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BDB6-5D15-41D8-A22D-E282FA26CB01}" type="slidenum">
              <a:rPr b="0" lang="en-US" sz="1200" spc="-1" strike="noStrike">
                <a:solidFill>
                  <a:srgbClr val="000000"/>
                </a:solidFill>
                <a:latin typeface="20th Century Font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2C6-09E0-4676-B81C-20942BDF0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700A-BADE-4C6D-B531-BE5B9AF4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9B08-0546-4B68-93D4-F0CD0AE3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462-F15E-465E-9C60-FB359FCE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6C4D-6AFD-4E2F-94B1-7C89B033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5322-4B48-4D5F-96A2-1FE4ADD3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091A-7FBB-4350-AA89-1EBA095C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B079-632E-46D5-B843-BA74AE28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9056-615C-4F8E-A205-D7BC028D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6BC6-2AF8-4516-859E-6ABD79E0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E5A7-1764-4EE3-ABFC-AF7E5101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0F1D-20D0-40B6-A028-C048250F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A15F-5C20-4492-A43E-0F8DBCD4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FDEA-3D3E-4BBE-A1DC-79930DA9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AD1C-491F-404D-B13D-BF50DEEC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5DF6-32F4-4C1C-B701-7ABBF3AB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06EB-373F-4730-9021-FBEC9AB3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719-C23A-49F8-8782-79F4BC33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DCE-B130-4C21-B6D5-682E664C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582B-1518-4914-8CDC-F3F0CFF5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7CF-46AA-495A-8D41-748D33E8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D01-B48C-400E-A395-2E6D7BCA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EF53-988A-4A55-B9CB-A913AC5B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EB9-5BA5-4082-BB73-5830AACC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20th Century Fon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0824-6D0E-40F1-B8B3-33E427A3F586}" type="slidenum">
              <a:rPr b="0" lang="en-US" sz="1200" spc="-1" strike="noStrike">
                <a:solidFill>
                  <a:srgbClr val="898989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20th Century Fon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20th Century Fon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20th Century Fon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A538-500F-43D1-A33B-07E48353093D}" type="slidenum">
              <a:rPr b="0" lang="en-US" sz="1200" spc="-1" strike="noStrike">
                <a:solidFill>
                  <a:srgbClr val="898989"/>
                </a:solidFill>
                <a:latin typeface="20th Century Fon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EATMENT OF  HYPER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Antihypertensive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lly consists of lifestyle changes , such 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eight reduction , smoking cessatio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duction of salt, saturated fat, , exces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cohol intake , and increased exerci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fore drug therap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1013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dications for Drug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stained blood pressure elevations &gt; 150/ 90 mmH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en minimally elevated blood pressure is associated with other cardiovascular risk factors  (smoking, diabetes, obesity, hyperlipidemia, genetic predisposition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en end organs are affected by hypertension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heart, kidney , brain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</a:rPr>
              <a:t>Drug Management of Hyper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ure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dio inhibitory dru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a- bloc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lcium –channel block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drenoceptor block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ntrally acting sympatholyt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asodila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rugs acting on renin-angiotensin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dosterone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Content Placeholder 5" descr="antihypertensives.jpg"/>
          <p:cNvPicPr/>
          <p:nvPr/>
        </p:nvPicPr>
        <p:blipFill>
          <a:blip r:embed="rId1"/>
          <a:stretch/>
        </p:blipFill>
        <p:spPr>
          <a:xfrm>
            <a:off x="990720" y="990720"/>
            <a:ext cx="6095880" cy="45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Arial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-360" y="380520"/>
            <a:ext cx="1036332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Calibri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d0d"/>
                </a:solidFill>
                <a:latin typeface="Arial"/>
                <a:ea typeface="Arial"/>
              </a:rPr>
              <a:t>           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  <a:ea typeface="Arial"/>
              </a:rPr>
              <a:t>Diur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76092"/>
                </a:solidFill>
                <a:latin typeface="Calibri"/>
                <a:ea typeface="Arial"/>
              </a:rPr>
              <a:t> 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   </a:t>
            </a:r>
            <a:r>
              <a:rPr b="1" lang="en-US" sz="3600" spc="-1" strike="noStrike">
                <a:solidFill>
                  <a:srgbClr val="376092"/>
                </a:solidFill>
                <a:latin typeface="Arial"/>
                <a:ea typeface="Arial"/>
              </a:rPr>
              <a:t>-A: </a:t>
            </a:r>
            <a:r>
              <a:rPr b="1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thiazides ( hydrochlorothiazi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     </a:t>
            </a:r>
            <a:r>
              <a:rPr b="1" lang="en-US" sz="3200" spc="-1" strike="noStrike">
                <a:solidFill>
                  <a:srgbClr val="376092"/>
                </a:solidFill>
                <a:latin typeface="Arial"/>
                <a:ea typeface="Arial"/>
              </a:rPr>
              <a:t>B: Loop diuretics ( furosemide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ourier New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  <a:ea typeface="Arial"/>
              </a:rPr>
              <a:t> ►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cause sodium and water loss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decrease volume of blood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decrease cardiac outp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lower blood press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  <a:ea typeface="Arial"/>
              </a:rPr>
              <a:t> ►</a:t>
            </a:r>
            <a:r>
              <a:rPr b="1" lang="en-US" sz="3200" spc="-1" strike="noStrike">
                <a:solidFill>
                  <a:srgbClr val="0d0d0d"/>
                </a:solidFill>
                <a:latin typeface="Arial"/>
                <a:ea typeface="Arial"/>
              </a:rPr>
              <a:t>Thiazide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may be adequate in mild hyper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d0d0d"/>
                </a:solidFill>
                <a:latin typeface="Arial"/>
                <a:ea typeface="Arial"/>
              </a:rPr>
              <a:t>Loop agents used in moderate &amp; severe hyper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292720" y="393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5869080" y="35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4932360" y="443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1065960"/>
            <a:ext cx="914400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 algn="just">
              <a:lnSpc>
                <a:spcPct val="100000"/>
              </a:lnSpc>
              <a:buClr>
                <a:srgbClr val="376092"/>
              </a:buClr>
              <a:buFont typeface="20th Century Font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76092"/>
                </a:solidFill>
                <a:latin typeface="20th Century Font"/>
                <a:ea typeface="Arial"/>
              </a:rPr>
              <a:t>Potassium-sparing diuretics</a:t>
            </a:r>
            <a:endParaRPr b="0" lang="en-US" sz="3200" spc="-1" strike="noStrike">
              <a:solidFill>
                <a:srgbClr val="000000"/>
              </a:solidFill>
              <a:latin typeface="20th Century Font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20th Century Font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Amiloride</a:t>
            </a:r>
            <a:r>
              <a:rPr b="0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 as well as </a:t>
            </a:r>
            <a:r>
              <a:rPr b="0" i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spironolactone</a:t>
            </a:r>
            <a:r>
              <a:rPr b="0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reduce potassium loss in the urine. 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Spironolactone</a:t>
            </a:r>
            <a:r>
              <a:rPr b="0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 has the additional benefit of diminishing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the cardiac remodeling that occurs in heart failure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20th Century Font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ardio inhibitory Dru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0000"/>
                </a:solidFill>
                <a:latin typeface="Calibri"/>
                <a:ea typeface="Calibri"/>
              </a:rPr>
              <a:t>β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 -</a:t>
            </a:r>
            <a:r>
              <a:rPr b="0" lang="en-US" sz="4400" spc="-1" strike="noStrike">
                <a:solidFill>
                  <a:srgbClr val="ff0000"/>
                </a:solidFill>
                <a:latin typeface="Bernard MT Condensed"/>
              </a:rPr>
              <a:t>Adrenoceptor –Blocking DRU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 used as monotherapy  in  mild to moderate hyperten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severe cases used in combination with other dru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.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dolol  , Propranolol ( non cardio select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soprolol , Atenolol, metoprolol  ( cardio selectiv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betalol , carvidalol (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nd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drenergic blockers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</a:rPr>
              <a:t>Beta Adrenoceptor –Blocking DRU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n cardioselective (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rugs as propranol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 contraindicated in patients with asthmatic patient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Antihypertensive effects  of Beta –adrenergic receptor blocking dru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s sympathetic tone →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R &amp; 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yocardial contract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crease renin rel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0" y="-360"/>
            <a:ext cx="9144000" cy="7010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93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rial"/>
              </a:rPr>
              <a:t>Prof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rial"/>
              </a:rPr>
              <a:t>Azza El-Meda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rial"/>
              </a:rPr>
              <a:t>Department of Pharmacolo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ALCIUM CHANNEL BLOCK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62120" y="1066320"/>
            <a:ext cx="7772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hydropyridine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grou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         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fedipine, nicardipine , amlodipine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more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selective as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vasodilator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an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a cardiac depressant. This group is used for treatment of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hyperten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2120" y="1066320"/>
            <a:ext cx="77724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Classification ( continu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Verapamil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is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more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effective as cardiac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depressant , therefore  it is not used as antihypertensive agent, used a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ntiarrhythmic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Diltiazem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.Used mainly for treatment of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ngin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092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 ❏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lock the influx of calcium through L-type calc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annels resulting 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- Peripheral vasodilat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- Decrease cardiac contractility &amp; heart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th effects lower blood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5092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0000"/>
                </a:solidFill>
                <a:latin typeface="Arial"/>
                <a:ea typeface="Traditional Arabic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harmacokinetic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iven orally and intravenous inj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ll absorbed from G.I.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rapamil and nifedipine are highly bound to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sma protiens ( more than 9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ile diltiazem is less ( 70-8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(Cont’d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rtl="1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ff"/>
                </a:solidFill>
                <a:latin typeface="Arial"/>
                <a:ea typeface="Traditional Arab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nset of action  --- within 1-3 min  --- after i.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0 min – 2 h  --- after or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erapamil &amp; diltiazem have active metabolites,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ifedipine does n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stained-release preparations can perm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nce-daily do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Bernard MT Condensed"/>
              </a:rPr>
              <a:t>Clinical u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eatment of chronic hypertension with oral prepa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cardipine  can be given by I.V. route &amp; used in hypertensive emerg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ADVERS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33520" y="1219320"/>
          <a:ext cx="8229600" cy="42274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rapam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iltiaz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ifedip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ache , Flushing , Hypote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ache, Flushing, Hypote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ache , Flushing, Hypoten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pheral edema   (ankle ede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pheral edema   (ankle ede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pheral edema   (ankle ede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iac depression, A-V block , bradycar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diac depression , A-V block , bradycar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chycard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ip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α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adrenoceptor blocke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razocin , terazoc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vely block postsynaptic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drenergic receptors.  They dilate arterioles → lowering B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dded to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lockers for treatment of hypertension of pheochromocyt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403200" y="-545760"/>
            <a:ext cx="8352000" cy="78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20th Century Font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20th Century Font"/>
                <a:ea typeface="Arial"/>
              </a:rPr>
              <a:t> </a:t>
            </a:r>
            <a:r>
              <a:rPr b="1" i="1" lang="en-US" sz="3600" spc="-1" strike="noStrike">
                <a:solidFill>
                  <a:srgbClr val="ff3300"/>
                </a:solidFill>
                <a:latin typeface="20th Century Font"/>
                <a:ea typeface="Arial"/>
              </a:rPr>
              <a:t>Centrally acting sympatholytic drugs</a:t>
            </a:r>
            <a:endParaRPr b="0" lang="en-US" sz="36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20th Century Font"/>
                <a:ea typeface="Arial"/>
              </a:rPr>
              <a:t>   </a:t>
            </a:r>
            <a:r>
              <a:rPr b="1" i="1" lang="en-US" sz="2800" spc="-1" strike="noStrike">
                <a:solidFill>
                  <a:srgbClr val="0000ff"/>
                </a:solidFill>
                <a:latin typeface="20th Century Font"/>
                <a:ea typeface="Arial"/>
              </a:rPr>
              <a:t>e.g.     </a:t>
            </a:r>
            <a:r>
              <a:rPr b="1" i="1" lang="en-US" sz="2800" spc="-1" strike="noStrike">
                <a:solidFill>
                  <a:srgbClr val="ff3300"/>
                </a:solidFill>
                <a:latin typeface="20th Century Font"/>
                <a:ea typeface="Arial"/>
              </a:rPr>
              <a:t>Clonidine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α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20th Century Font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-agonist 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ff3300"/>
                </a:solidFill>
                <a:latin typeface="20th Century Font"/>
                <a:ea typeface="Arial"/>
              </a:rPr>
              <a:t>Reduce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 sympathetic outflow  to the   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heart  thereby decreasing cardiac 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output  ( by decreasing heart rate &amp; 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contractility ).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20th Century Font"/>
                <a:ea typeface="Arial"/>
              </a:rPr>
              <a:t>Reduced</a:t>
            </a:r>
            <a:r>
              <a:rPr b="1" lang="en-US" sz="2800" spc="-1" strike="noStrike">
                <a:solidFill>
                  <a:srgbClr val="000000"/>
                </a:solidFill>
                <a:latin typeface="20th Century Font"/>
                <a:ea typeface="Arial"/>
              </a:rPr>
              <a:t> sympathetic output to the vasculature, decreases sympathetic vascular tone , which causes vasodilation &amp; reduced systemic vascular resistance, which decreases arterial pressure. </a:t>
            </a: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the end of lectures , the students should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factors that control blood pres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the pharmacologic classes of drugs used in treatment of hyper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ow examples of each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l-GR" sz="4400" spc="-1" strike="noStrike">
                <a:solidFill>
                  <a:srgbClr val="ff0000"/>
                </a:solidFill>
                <a:latin typeface="Calibri"/>
              </a:rPr>
              <a:t>α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methyl dop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gonist is converted to methyl norepinephrine centrally to diminish the adrenergic outflow from the C.N.S. This lead to reduced total peripheral resistance, and a decreased blood press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afely used in  hypertensive pregnant wo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Side effects of centrally acting sympatholy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ry mouth  &amp; nasal muc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radycar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mpo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Calibri"/>
              </a:rPr>
              <a:t>Side effects ( continu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luid retention &amp; edema with chronic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brupt cessation  of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lonidine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may cause a serious rebound hyper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molytic anemia (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methyldopa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 the only antihypertensive drug associated with hemolytic anemia usually preceded by a positive Coombs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t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VASODILATOR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3"/>
          <p:cNvSpPr/>
          <p:nvPr/>
        </p:nvSpPr>
        <p:spPr>
          <a:xfrm>
            <a:off x="304920" y="711360"/>
            <a:ext cx="813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20th Century Font"/>
              </a:rPr>
              <a:t>Compensatory Response to Vasodilators</a:t>
            </a:r>
            <a:endParaRPr b="0" lang="en-US" sz="3200" spc="-1" strike="noStrike">
              <a:solidFill>
                <a:srgbClr val="000000"/>
              </a:solidFill>
              <a:latin typeface="20th Century Font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15920" y="1274760"/>
            <a:ext cx="9070920" cy="55641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143000" y="380880"/>
          <a:ext cx="7102440" cy="5664240"/>
        </p:xfrm>
        <a:graphic>
          <a:graphicData uri="http://schemas.openxmlformats.org/drawingml/2006/table">
            <a:tbl>
              <a:tblPr/>
              <a:tblGrid>
                <a:gridCol w="1371600"/>
                <a:gridCol w="1676520"/>
                <a:gridCol w="2133360"/>
                <a:gridCol w="1920960"/>
              </a:tblGrid>
              <a:tr h="70164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Vasodilator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dc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dralaz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inoxid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Na nitropruss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39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Site of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eriodi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eriodi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erio &amp; venodi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917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Mechanism of 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ing  of  potassium channels in smooth muscle membranes by minoxidil sulf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 active metabolite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ease of nitric oxide ( 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3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Route of adm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avenous inf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219320" y="609480"/>
          <a:ext cx="6487920" cy="4876920"/>
        </p:xfrm>
        <a:graphic>
          <a:graphicData uri="http://schemas.openxmlformats.org/drawingml/2006/table">
            <a:tbl>
              <a:tblPr/>
              <a:tblGrid>
                <a:gridCol w="1447560"/>
                <a:gridCol w="1536840"/>
                <a:gridCol w="123840"/>
                <a:gridCol w="1687320"/>
                <a:gridCol w="1692360"/>
              </a:tblGrid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i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sodil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dralaz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oxid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 nitroprus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7366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Therapeutic 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Moderate -severe hypertens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Moderate –severe hyper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Hpertensive emerg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133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Hypertensive pregnant wo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correction of bald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219320" y="457200"/>
          <a:ext cx="7046640" cy="5467320"/>
        </p:xfrm>
        <a:graphic>
          <a:graphicData uri="http://schemas.openxmlformats.org/drawingml/2006/table">
            <a:tbl>
              <a:tblPr/>
              <a:tblGrid>
                <a:gridCol w="1738080"/>
                <a:gridCol w="1727280"/>
                <a:gridCol w="1722600"/>
                <a:gridCol w="18586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in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sodil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dralaz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oxid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 nitroprus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248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Adverse ef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ension, reflex tachycardia, palpitation, angina, salt and water retention  ( edem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otension, reflex tachycardia, palpitation, angina, salt and water retention  ( edem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vere hypoten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234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Specific adverse eff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pus erythematosus like syndr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pertrichos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indicated in fem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Methemoglobinduring inf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Cyanide toxic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Thiocyanate toxicit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20th Century Font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e reason : </a:t>
            </a:r>
            <a:r>
              <a:rPr b="0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lockers &amp;  diuretics are added to vasodilators for treatment of hypertens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Content Placeholder 3" descr="ACE Inhibitors.jpg"/>
          <p:cNvPicPr/>
          <p:nvPr/>
        </p:nvPicPr>
        <p:blipFill>
          <a:blip r:embed="rId1"/>
          <a:stretch/>
        </p:blipFill>
        <p:spPr>
          <a:xfrm>
            <a:off x="1219320" y="990720"/>
            <a:ext cx="586728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OBJECTIVES ( continu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mechanism of action , therapeutic uses &amp; common adverse effects of  each class of drugs including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renoceptor blocking drugs  (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 &amp;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  <a:ea typeface="Tahoma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blocking drugs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Diur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Calcium channel blocking dr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Vasodila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3"/>
          <p:cNvGrpSpPr/>
          <p:nvPr/>
        </p:nvGrpSpPr>
        <p:grpSpPr>
          <a:xfrm>
            <a:off x="2052720" y="1557360"/>
            <a:ext cx="5981040" cy="3889080"/>
            <a:chOff x="2052720" y="1557360"/>
            <a:chExt cx="5981040" cy="3889080"/>
          </a:xfrm>
        </p:grpSpPr>
        <p:sp>
          <p:nvSpPr>
            <p:cNvPr id="157" name="Rectangle 5"/>
            <p:cNvSpPr/>
            <p:nvPr/>
          </p:nvSpPr>
          <p:spPr>
            <a:xfrm>
              <a:off x="4140360" y="2637000"/>
              <a:ext cx="2448000" cy="17287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58" name="Text Box 7"/>
            <p:cNvSpPr/>
            <p:nvPr/>
          </p:nvSpPr>
          <p:spPr>
            <a:xfrm>
              <a:off x="4455720" y="2927520"/>
              <a:ext cx="17809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20th Century Font"/>
                  <a:ea typeface="Arial"/>
                </a:rPr>
                <a:t>angiotensin-</a:t>
              </a:r>
              <a:endParaRPr b="0" lang="en-US" sz="20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20th Century Font"/>
                  <a:ea typeface="Arial"/>
                </a:rPr>
                <a:t>converting </a:t>
              </a:r>
              <a:endParaRPr b="0" lang="en-US" sz="20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20th Century Font"/>
                  <a:ea typeface="Arial"/>
                </a:rPr>
                <a:t>enzyme</a:t>
              </a:r>
              <a:endParaRPr b="0" lang="en-US" sz="20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59" name="Line 9"/>
            <p:cNvSpPr/>
            <p:nvPr/>
          </p:nvSpPr>
          <p:spPr>
            <a:xfrm>
              <a:off x="4267440" y="2276640"/>
              <a:ext cx="0" cy="2447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60" name="Text Box 12"/>
            <p:cNvSpPr/>
            <p:nvPr/>
          </p:nvSpPr>
          <p:spPr>
            <a:xfrm>
              <a:off x="3152160" y="1557360"/>
              <a:ext cx="160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  <a:ea typeface="Arial"/>
                </a:rPr>
                <a:t>Angiotensin I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  <a:ea typeface="Arial"/>
                </a:rPr>
                <a:t>(inactive)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2566800" y="4803840"/>
              <a:ext cx="265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  <a:ea typeface="Arial"/>
                </a:rPr>
                <a:t>Angiotensin II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  <a:ea typeface="Arial"/>
                </a:rPr>
                <a:t>(active vasoconstrictor)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5601240" y="1557360"/>
              <a:ext cx="21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  <a:ea typeface="Arial"/>
                </a:rPr>
                <a:t>Bradykinin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  <a:ea typeface="Arial"/>
                </a:rPr>
                <a:t>(active vasodilator)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sp>
          <p:nvSpPr>
            <p:cNvPr id="163" name="Text Box 15"/>
            <p:cNvSpPr/>
            <p:nvPr/>
          </p:nvSpPr>
          <p:spPr>
            <a:xfrm>
              <a:off x="5676840" y="4797360"/>
              <a:ext cx="235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20th Century Font"/>
                  <a:ea typeface="Arial"/>
                </a:rPr>
                <a:t>Inactive metabolites</a:t>
              </a:r>
              <a:endParaRPr b="0" lang="en-US" sz="1800" spc="-1" strike="noStrike">
                <a:solidFill>
                  <a:srgbClr val="000000"/>
                </a:solidFill>
                <a:latin typeface="20th Century Font"/>
              </a:endParaRPr>
            </a:p>
          </p:txBody>
        </p:sp>
        <p:grpSp>
          <p:nvGrpSpPr>
            <p:cNvPr id="164" name="Group 22"/>
            <p:cNvGrpSpPr/>
            <p:nvPr/>
          </p:nvGrpSpPr>
          <p:grpSpPr>
            <a:xfrm>
              <a:off x="2052720" y="3284640"/>
              <a:ext cx="1800360" cy="431640"/>
              <a:chOff x="2052720" y="3284640"/>
              <a:chExt cx="1800360" cy="431640"/>
            </a:xfrm>
          </p:grpSpPr>
          <p:sp>
            <p:nvSpPr>
              <p:cNvPr id="165" name="Line 17"/>
              <p:cNvSpPr/>
              <p:nvPr/>
            </p:nvSpPr>
            <p:spPr>
              <a:xfrm>
                <a:off x="2052720" y="3500280"/>
                <a:ext cx="1800360" cy="0"/>
              </a:xfrm>
              <a:prstGeom prst="line">
                <a:avLst/>
              </a:prstGeom>
              <a:ln w="127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20th Century Font"/>
                </a:endParaRPr>
              </a:p>
            </p:txBody>
          </p:sp>
          <p:grpSp>
            <p:nvGrpSpPr>
              <p:cNvPr id="166" name="Group 21"/>
              <p:cNvGrpSpPr/>
              <p:nvPr/>
            </p:nvGrpSpPr>
            <p:grpSpPr>
              <a:xfrm>
                <a:off x="2629080" y="3284640"/>
                <a:ext cx="432000" cy="431640"/>
                <a:chOff x="2629080" y="3284640"/>
                <a:chExt cx="432000" cy="431640"/>
              </a:xfrm>
            </p:grpSpPr>
            <p:sp>
              <p:nvSpPr>
                <p:cNvPr id="167" name="Oval 18"/>
                <p:cNvSpPr/>
                <p:nvPr/>
              </p:nvSpPr>
              <p:spPr>
                <a:xfrm>
                  <a:off x="2629080" y="3284640"/>
                  <a:ext cx="432000" cy="4316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20th Century Font"/>
                  </a:endParaRPr>
                </a:p>
              </p:txBody>
            </p:sp>
            <p:sp>
              <p:nvSpPr>
                <p:cNvPr id="168" name="Line 20"/>
                <p:cNvSpPr/>
                <p:nvPr/>
              </p:nvSpPr>
              <p:spPr>
                <a:xfrm>
                  <a:off x="2702160" y="350028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20th Century Font"/>
                  </a:endParaRPr>
                </a:p>
              </p:txBody>
            </p:sp>
          </p:grpSp>
        </p:grpSp>
      </p:grpSp>
      <p:sp>
        <p:nvSpPr>
          <p:cNvPr id="169" name="Text Box 24"/>
          <p:cNvSpPr/>
          <p:nvPr/>
        </p:nvSpPr>
        <p:spPr>
          <a:xfrm>
            <a:off x="306720" y="2997360"/>
            <a:ext cx="1789920" cy="88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20th Century Font"/>
                <a:ea typeface="Arial"/>
              </a:rPr>
              <a:t>ACE </a:t>
            </a:r>
            <a:endParaRPr b="0" lang="en-US" sz="2600" spc="-1" strike="noStrike">
              <a:solidFill>
                <a:srgbClr val="000000"/>
              </a:solidFill>
              <a:latin typeface="20th Century Fo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20th Century Font"/>
                <a:ea typeface="Arial"/>
              </a:rPr>
              <a:t>inhibitors</a:t>
            </a:r>
            <a:endParaRPr b="0" lang="en-US" sz="26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0" name="Rectangle 25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20th Century Font"/>
                <a:ea typeface="Arial"/>
              </a:rPr>
              <a:t>Mechanism of action of </a:t>
            </a:r>
            <a:r>
              <a:rPr b="1" lang="cs-CZ" sz="2000" spc="-1" strike="noStrike">
                <a:solidFill>
                  <a:srgbClr val="c0504d"/>
                </a:solidFill>
                <a:latin typeface="20th Century Font"/>
                <a:ea typeface="Arial"/>
              </a:rPr>
              <a:t> Angiotensin-converting enzyme inhibitors (ACEI)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6477120" y="2198520"/>
            <a:ext cx="0" cy="244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684360" y="393120"/>
            <a:ext cx="8135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0000"/>
                </a:solidFill>
                <a:latin typeface="20th Century Font"/>
                <a:ea typeface="Arial"/>
              </a:rPr>
              <a:t>Mechanism of action:</a:t>
            </a:r>
            <a:endParaRPr b="0" lang="en-US" sz="2200" spc="-1" strike="noStrike">
              <a:solidFill>
                <a:srgbClr val="000000"/>
              </a:solidFill>
              <a:latin typeface="20th Century Fon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20th Century Fo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20th Century Font"/>
                <a:ea typeface="Arial"/>
              </a:rPr>
              <a:t>Converting enzyme inhibitors lower blood pressure by reducing </a:t>
            </a:r>
            <a:r>
              <a:rPr b="1" lang="cs-CZ" sz="2200" spc="-1" strike="noStrike" u="sng">
                <a:solidFill>
                  <a:srgbClr val="000000"/>
                </a:solidFill>
                <a:uFillTx/>
                <a:latin typeface="20th Century Font"/>
                <a:ea typeface="Arial"/>
              </a:rPr>
              <a:t>angiotensin II</a:t>
            </a:r>
            <a:r>
              <a:rPr b="0" lang="cs-CZ" sz="2200" spc="-1" strike="noStrike">
                <a:solidFill>
                  <a:srgbClr val="000000"/>
                </a:solidFill>
                <a:latin typeface="20th Century Font"/>
                <a:ea typeface="Arial"/>
              </a:rPr>
              <a:t>, and also by increasing vasodilator peptides such as bradykinin. </a:t>
            </a:r>
            <a:endParaRPr b="0" lang="en-US" sz="22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330200" y="4572000"/>
            <a:ext cx="756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R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eduction of sympathetic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activity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Inhibition of aldosterone secretion 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Reduce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the arteriolar and left ventricular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20th Century Font"/>
                <a:ea typeface="Arial"/>
              </a:rPr>
              <a:t>remodelling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that are 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believed to be important in the pathogenesis of human essential 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hypertension and post-infarction state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1619280" y="2421000"/>
            <a:ext cx="60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Dilatation of arteriol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reduction of peripheral vascular resistance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(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↓</a:t>
            </a:r>
            <a:r>
              <a:rPr b="1" lang="cs-CZ" sz="1800" spc="-1" strike="noStrike">
                <a:solidFill>
                  <a:srgbClr val="ff0000"/>
                </a:solidFill>
                <a:latin typeface="20th Century Font"/>
                <a:ea typeface="Arial"/>
              </a:rPr>
              <a:t>afterload </a:t>
            </a:r>
            <a:r>
              <a:rPr b="1" lang="en-US" sz="1800" spc="-1" strike="noStrike">
                <a:solidFill>
                  <a:srgbClr val="ff0000"/>
                </a:solidFill>
                <a:latin typeface="20th Century Font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515960" y="3213000"/>
            <a:ext cx="600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Increase of Na</a:t>
            </a:r>
            <a:r>
              <a:rPr b="0" lang="cs-CZ" sz="1800" spc="-1" strike="noStrike" baseline="30000">
                <a:solidFill>
                  <a:srgbClr val="000000"/>
                </a:solidFill>
                <a:latin typeface="20th Century Font"/>
                <a:ea typeface="Arial"/>
              </a:rPr>
              <a:t>+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&amp; water 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excretion in kidney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(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↓preloa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611280" y="263700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611280" y="342900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611280" y="480060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534960" y="5575320"/>
            <a:ext cx="79236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611280" y="617220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81" name="Rectangle 19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611280" y="4038480"/>
            <a:ext cx="79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1619280" y="3881520"/>
            <a:ext cx="58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D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ecrease of K</a:t>
            </a:r>
            <a:r>
              <a:rPr b="0" lang="cs-CZ" sz="1800" spc="-1" strike="noStrike" baseline="30000">
                <a:solidFill>
                  <a:srgbClr val="000000"/>
                </a:solidFill>
                <a:latin typeface="20th Century Font"/>
                <a:ea typeface="Arial"/>
              </a:rPr>
              <a:t>+</a:t>
            </a:r>
            <a:r>
              <a:rPr b="0" lang="cs-CZ" sz="1800" spc="-1" strike="noStrike">
                <a:solidFill>
                  <a:srgbClr val="000000"/>
                </a:solidFill>
                <a:latin typeface="20th Century Font"/>
                <a:ea typeface="Arial"/>
              </a:rPr>
              <a:t> excretion in kidney</a:t>
            </a: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</a:rPr>
              <a:t>Pharmacoki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Captopril</a:t>
            </a:r>
            <a:r>
              <a:rPr b="1" lang="en-US" sz="2800" spc="-1" strike="noStrike">
                <a:solidFill>
                  <a:srgbClr val="666699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339933"/>
                </a:solidFill>
                <a:latin typeface="Calibri"/>
              </a:rPr>
              <a:t>enalapril </a:t>
            </a:r>
            <a:r>
              <a:rPr b="1" lang="en-US" sz="2800" spc="-1" strike="noStrike">
                <a:solidFill>
                  <a:srgbClr val="666699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339933"/>
                </a:solidFill>
                <a:latin typeface="Calibri"/>
              </a:rPr>
              <a:t>ramipril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l are rapidly absorbed from GIT after oral administ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od reduce their bioavail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alibri"/>
              </a:rPr>
              <a:t>Enalapril , ramipril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e prodrugs, converted to the active metabolite in the liv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ve a long half-life &amp; given once da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alibri"/>
              </a:rPr>
              <a:t>Enalaprilat</a:t>
            </a:r>
            <a:r>
              <a:rPr b="1" lang="en-US" sz="2800" spc="-1" strike="noStrike">
                <a:solidFill>
                  <a:srgbClr val="66669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alibri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 the active metabolite of enalapril given by i.v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ut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 hypertensive emerg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</a:rPr>
              <a:t>Phrmacokine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alibri"/>
              </a:rPr>
              <a:t>Captopril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 not a prodru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as a short half-life     &amp; given twice /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l ACEI are distributed to all tissues except C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</a:rPr>
              <a:t>Clinical u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eatment  of  hypertension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eatment of heart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abetic nephropathy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25092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DVERSE EFFEC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ute renal failure, especially in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bilateral renal artery stenosi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yperkal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istent c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gioneurotic ed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5092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(Cont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  <a:ea typeface="Arial"/>
              </a:rPr>
              <a:t> </a:t>
            </a:r>
            <a:r>
              <a:rPr b="1" lang="en-US" sz="2800" spc="-1" strike="noStrike">
                <a:solidFill>
                  <a:srgbClr val="898989"/>
                </a:solidFill>
                <a:latin typeface="Arial"/>
                <a:ea typeface="Arial"/>
              </a:rPr>
              <a:t>(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ugh &amp; angioneurotic edema due to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 i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bradykini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 </a:t>
            </a:r>
            <a:r>
              <a:rPr b="1" lang="en-US" sz="2800" spc="-1" strike="noStrike">
                <a:solidFill>
                  <a:srgbClr val="898989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vere hypotension in hypovolemic pati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due to diuretics, salt restriction or gastrointestin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luid lo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5092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(Cont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’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aste loss ( due to SH group i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aptopri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olecu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kin rash, fe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Calibri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</a:rPr>
              <a:t>Contraind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 absolutely contraindicated  pregnancy due to the risk of : fetal hypotension ,anuria ,renal failure &am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lformations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lateral renal artery stenosis or stenosis of a renal artery with  solitary kidney causing  acute renal failure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</a:rPr>
              <a:t>Drug inter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th potassium-sparing diuret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SAIDs impair their hypotensive eff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y blocking bradykinin-mediated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asodilatation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N.B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effective in African American Patients as monotherapy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OBJECTIVES ( 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ing enzyme inhibi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giotensin receptor block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advantages of ARBs over ACE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1675440" y="609480"/>
            <a:ext cx="58201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c0000"/>
                </a:solidFill>
                <a:latin typeface="20th Century Font"/>
                <a:ea typeface="Arial"/>
              </a:rPr>
              <a:t>   </a:t>
            </a:r>
            <a:r>
              <a:rPr b="1" lang="cs-CZ" sz="2000" spc="-1" strike="noStrike">
                <a:solidFill>
                  <a:srgbClr val="cc0000"/>
                </a:solidFill>
                <a:latin typeface="20th Century Font"/>
                <a:ea typeface="Arial"/>
              </a:rPr>
              <a:t>BLOCKERS OF AT</a:t>
            </a:r>
            <a:r>
              <a:rPr b="1" lang="cs-CZ" sz="2000" spc="-1" strike="noStrike" baseline="-25000">
                <a:solidFill>
                  <a:srgbClr val="cc0000"/>
                </a:solidFill>
                <a:latin typeface="20th Century Font"/>
                <a:ea typeface="Arial"/>
              </a:rPr>
              <a:t>1</a:t>
            </a:r>
            <a:r>
              <a:rPr b="1" lang="cs-CZ" sz="2000" spc="-1" strike="noStrike">
                <a:solidFill>
                  <a:srgbClr val="cc0000"/>
                </a:solidFill>
                <a:latin typeface="20th Century Font"/>
                <a:ea typeface="Arial"/>
              </a:rPr>
              <a:t> RECEPTOR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	</a:t>
            </a:r>
            <a:r>
              <a:rPr b="1" i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	</a:t>
            </a:r>
            <a:r>
              <a:rPr b="1" i="1" lang="cs-CZ" sz="2000" spc="-1" strike="noStrike">
                <a:solidFill>
                  <a:srgbClr val="ff0000"/>
                </a:solidFill>
                <a:latin typeface="20th Century Font"/>
                <a:ea typeface="Arial"/>
              </a:rPr>
              <a:t>losartan, val</a:t>
            </a:r>
            <a:r>
              <a:rPr b="1" i="1" lang="en-US" sz="2000" spc="-1" strike="noStrike">
                <a:solidFill>
                  <a:srgbClr val="ff0000"/>
                </a:solidFill>
                <a:latin typeface="20th Century Font"/>
                <a:ea typeface="Arial"/>
              </a:rPr>
              <a:t>sa</a:t>
            </a:r>
            <a:r>
              <a:rPr b="1" i="1" lang="cs-CZ" sz="2000" spc="-1" strike="noStrike">
                <a:solidFill>
                  <a:srgbClr val="ff0000"/>
                </a:solidFill>
                <a:latin typeface="20th Century Font"/>
                <a:ea typeface="Arial"/>
              </a:rPr>
              <a:t>rtan, irbesartan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57200" y="2017800"/>
            <a:ext cx="853452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- </a:t>
            </a:r>
            <a:r>
              <a:rPr b="1" i="1" lang="cs-CZ" sz="2000" spc="-1" strike="noStrike">
                <a:solidFill>
                  <a:srgbClr val="cc0000"/>
                </a:solidFill>
                <a:latin typeface="20th Century Font"/>
                <a:ea typeface="Arial"/>
              </a:rPr>
              <a:t>competitively inhibit angiotensin II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at its AT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20th Century Font"/>
                <a:ea typeface="Arial"/>
              </a:rPr>
              <a:t>1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receptor site 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most of the effects of angiotensin II - including vasoconstriction 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and aldosterone release - are mediated by the AT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20th Century Font"/>
                <a:ea typeface="Arial"/>
              </a:rPr>
              <a:t>1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receptor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they influence RAS more effective because of selective blockade   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(angiotensin II synthesis in tissue is not completely dependent only 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   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on renin release,  but could be promote by </a:t>
            </a:r>
            <a:r>
              <a:rPr b="1" lang="cs-CZ" sz="2000" spc="-1" strike="noStrike">
                <a:solidFill>
                  <a:srgbClr val="c0504d"/>
                </a:solidFill>
                <a:latin typeface="20th Century Font"/>
                <a:ea typeface="Arial"/>
              </a:rPr>
              <a:t>serin-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504d"/>
                </a:solidFill>
                <a:latin typeface="20th Century Font"/>
                <a:ea typeface="Arial"/>
              </a:rPr>
              <a:t>    </a:t>
            </a:r>
            <a:r>
              <a:rPr b="1" lang="cs-CZ" sz="2000" spc="-1" strike="noStrike">
                <a:solidFill>
                  <a:srgbClr val="c0504d"/>
                </a:solidFill>
                <a:latin typeface="20th Century Font"/>
                <a:ea typeface="Arial"/>
              </a:rPr>
              <a:t>protease</a:t>
            </a:r>
            <a:r>
              <a:rPr b="1" lang="cs-CZ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 -  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Oval 2"/>
          <p:cNvSpPr/>
          <p:nvPr/>
        </p:nvSpPr>
        <p:spPr>
          <a:xfrm>
            <a:off x="2514600" y="1295280"/>
            <a:ext cx="2971800" cy="990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887200" y="1546200"/>
            <a:ext cx="22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ngiote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ogen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2514600" y="3124080"/>
            <a:ext cx="2971800" cy="990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131640" y="337500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ngiote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 I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2514600" y="4952880"/>
            <a:ext cx="2971800" cy="9907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2953800" y="5203800"/>
            <a:ext cx="19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ngioten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 II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038480" y="23623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3962520" y="41911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100040" y="2403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nin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4025880" y="43084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6182280" y="331776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onrenin prote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ses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thepsin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-PA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4" name="Freeform 13"/>
          <p:cNvSpPr/>
          <p:nvPr/>
        </p:nvSpPr>
        <p:spPr>
          <a:xfrm>
            <a:off x="5638680" y="1828800"/>
            <a:ext cx="2006640" cy="152388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1264" h="960">
                <a:moveTo>
                  <a:pt x="0" y="0"/>
                </a:moveTo>
                <a:cubicBezTo>
                  <a:pt x="424" y="40"/>
                  <a:pt x="848" y="80"/>
                  <a:pt x="1056" y="240"/>
                </a:cubicBezTo>
                <a:cubicBezTo>
                  <a:pt x="1264" y="400"/>
                  <a:pt x="1256" y="680"/>
                  <a:pt x="1248" y="96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5" name="Freeform 14"/>
          <p:cNvSpPr/>
          <p:nvPr/>
        </p:nvSpPr>
        <p:spPr>
          <a:xfrm>
            <a:off x="5638680" y="441972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248" h="720">
                <a:moveTo>
                  <a:pt x="0" y="720"/>
                </a:moveTo>
                <a:cubicBezTo>
                  <a:pt x="400" y="708"/>
                  <a:pt x="800" y="696"/>
                  <a:pt x="1008" y="576"/>
                </a:cubicBezTo>
                <a:cubicBezTo>
                  <a:pt x="1216" y="456"/>
                  <a:pt x="1232" y="228"/>
                  <a:pt x="1248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6" name="Freeform 15"/>
          <p:cNvSpPr/>
          <p:nvPr/>
        </p:nvSpPr>
        <p:spPr>
          <a:xfrm>
            <a:off x="1384200" y="3581280"/>
            <a:ext cx="1054080" cy="2057400"/>
          </a:xfrm>
          <a:custGeom>
            <a:avLst/>
            <a:gdLst>
              <a:gd name="textAreaLeft" fmla="*/ 0 w 1054080"/>
              <a:gd name="textAreaRight" fmla="*/ 1054080 w 1054080"/>
              <a:gd name="textAreaTop" fmla="*/ 0 h 2057400"/>
              <a:gd name="textAreaBottom" fmla="*/ 2057760 h 2057400"/>
            </a:gdLst>
            <a:ahLst/>
            <a:rect l="textAreaLeft" t="textAreaTop" r="textAreaRight" b="textAreaBottom"/>
            <a:pathLst>
              <a:path w="664" h="1296">
                <a:moveTo>
                  <a:pt x="664" y="0"/>
                </a:moveTo>
                <a:cubicBezTo>
                  <a:pt x="448" y="56"/>
                  <a:pt x="232" y="112"/>
                  <a:pt x="136" y="288"/>
                </a:cubicBezTo>
                <a:cubicBezTo>
                  <a:pt x="40" y="464"/>
                  <a:pt x="0" y="888"/>
                  <a:pt x="88" y="1056"/>
                </a:cubicBezTo>
                <a:cubicBezTo>
                  <a:pt x="176" y="1224"/>
                  <a:pt x="420" y="1260"/>
                  <a:pt x="664" y="129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20th Century Font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1085400" y="4191120"/>
            <a:ext cx="129924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hym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se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GE</a:t>
            </a:r>
            <a:endParaRPr b="0" lang="en-US" sz="24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Bernard MT Condensed"/>
              </a:rPr>
              <a:t>Contin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hey have no effect on bradykinin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causing neither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:   cough, wheezing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r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angioedem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nard MT Condensed"/>
              </a:rPr>
              <a:t>Advers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s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ACEI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except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 cough ,wheezing , and 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angioed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ame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contraindications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s</a:t>
            </a:r>
            <a:r>
              <a:rPr b="1" lang="en-US" sz="3200" spc="-1" strike="noStrike">
                <a:solidFill>
                  <a:srgbClr val="666699"/>
                </a:solidFill>
                <a:latin typeface="Calibri"/>
              </a:rPr>
              <a:t> ACE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Drugs used for management of hypertensive emerg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P  &gt; 180/120 mmHg  associated with end-orga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dium nitropruss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alaz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ardip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alapri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etal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recaution in  management of hypertensive emerge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oid using short-acting nifedipine because of the risk of rapid , unpredictable hypotension &amp; the possibility of precipitating ischemic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Drugs used for management of hypertension in pregnan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yldopa ( the preferred first line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etal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alaz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ur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10" descr="camel"/>
          <p:cNvPicPr/>
          <p:nvPr/>
        </p:nvPicPr>
        <p:blipFill>
          <a:blip r:embed="rId1"/>
          <a:stretch/>
        </p:blipFill>
        <p:spPr>
          <a:xfrm>
            <a:off x="1258920" y="1557360"/>
            <a:ext cx="6899400" cy="4599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Hyperten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560" y="9903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898989"/>
                </a:solidFill>
                <a:latin typeface="Calibri"/>
                <a:ea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84807"/>
                </a:solidFill>
                <a:latin typeface="Calibri"/>
              </a:rPr>
              <a:t>Blood pressure is determined b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- Blood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2- Cardiac output ( rate &amp; contractility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3- Peripheral re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8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2189520" y="-25560"/>
            <a:ext cx="51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20th Century Font"/>
                <a:ea typeface="Arial"/>
              </a:rPr>
              <a:t>FACTORS IN BLOOD PRESSURE CONTROL</a:t>
            </a:r>
            <a:endParaRPr b="0" lang="en-US" sz="2000" spc="-1" strike="noStrike">
              <a:solidFill>
                <a:srgbClr val="000000"/>
              </a:solidFill>
              <a:latin typeface="20th Century Font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Blood Pressure.jpg"/>
          <p:cNvPicPr/>
          <p:nvPr/>
        </p:nvPicPr>
        <p:blipFill>
          <a:blip r:embed="rId1"/>
          <a:stretch/>
        </p:blipFill>
        <p:spPr>
          <a:xfrm>
            <a:off x="990720" y="10666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Hyper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 a major risk factor for cerebrovascul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sease, heart failure, renal insu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 myocardial infar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 is often asymptomatic until organ damages reaches a critical p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17:48:01Z</dcterms:created>
  <dc:creator>Christine Staake</dc:creator>
  <dc:description/>
  <dc:language>en-US</dc:language>
  <cp:lastModifiedBy>Azaa Almedany</cp:lastModifiedBy>
  <dcterms:modified xsi:type="dcterms:W3CDTF">2015-03-15T06:34:57Z</dcterms:modified>
  <cp:revision>252</cp:revision>
  <dc:subject/>
  <dc:title>Medical Press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368011033</vt:lpwstr>
  </property>
</Properties>
</file>