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730-6C07-4DB2-9853-68F34A24D10F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984-423C-4193-BE50-E9B4A8B6311B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71D-9717-432C-977E-3036435482CA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220-06E1-4806-A32D-FFC98340E28F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5934-69E7-49AD-A77E-AEFBA87CF1C7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AD45-924E-4C2D-9B56-50CB15124019}" type="slidenum">
              <a:rPr b="0" lang="en-GB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EDBF-0605-4CC5-A676-A0E36C6224E5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4B3-B326-4D41-9C79-A837856FC78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BBE4-62BD-458E-9A64-C9DED582F567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D11-E92F-432F-BD28-374E545BE9CA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1C1-F5F2-46DD-9FCB-A3A129E1CF5E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F2B-3892-4872-BF45-BB095618D92D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EE7-50B6-40F6-9716-2D8D72433913}" type="slidenum">
              <a:rPr b="0" lang="en-GB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54AD-777F-4270-A873-A38ED5FA8778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92C0-4BE0-4B4F-AD47-101E80CDA25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8B0A-BDF1-4543-83EB-E967F4DDED7C}" type="slidenum">
              <a:rPr b="0" lang="ar-SA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9B95-3328-43E8-A66D-156450A5FF7E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E266-DE11-4DC2-A053-3A83C986478C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920-A3D0-4670-A30B-131CE41F6387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2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BB5-AA79-4ADF-813F-6C75289F35D3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781E-6C6F-4EC9-80BA-F5569992E40D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798-CB60-417D-834D-3B8DB29E2EC5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F36-1DFD-4449-B10E-ED4DE95840AF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6B78-D3E9-4FBB-A6F1-89FFDC47103E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2A9-3BEA-4E6F-A54C-75D496D35BA8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7139-BFB1-4832-B95C-99546D33DCCC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8FB-71D1-43B5-827C-C6677C2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267-BD9E-4007-AAA0-8787250D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FE6-25B8-40F9-8130-4A6A13C0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2E-A063-427A-82A5-1FEF3084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FA22-2C70-4F14-B8F9-CF342144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3AC-F568-4784-8EC3-13D2D49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263E-8361-48A9-913E-E9EDEBA1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666-F049-4E67-B955-50C0108C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F894-DAE8-41E7-83E2-24EBF52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BDDE-3771-45F1-9913-DC859B7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BC3-F1D2-472F-9877-306CD2C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3AB-8770-4E11-BEB9-E20BFB89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0576-5819-4B87-9047-CB3E562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A00-754F-4422-A3C2-E5C72D9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4A8E-0935-4308-A02E-3CF6E691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94DF-FCD7-4E4F-9B28-76DA4240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BAE-794E-4F36-9B0B-B34634C1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33D-CA5B-4D72-921B-14EF6E0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AE4-4155-4960-BBA4-24315DF6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ABA-5219-4612-8781-F9C19A6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110-F895-43CA-9094-588DBF2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AB0-1BAC-445F-931A-568192C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FBB-8A2C-475C-BC2F-79589AA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63C-E72A-48CB-A425-B5D772A5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A476-389E-4D50-99D0-7921031C51F8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2E6A-847F-4C68-92F6-2810C50F2FE8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 HYPER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tihypertensive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lly consists of lifestyle changes , suc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ight reduction , smoking cessat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tion of salt, saturated fat, , exc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cohol intake , and increased exerci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fore drug thera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1013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dications for Drug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stained blood pressure elevations &gt; 150/ 90 mmH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n minimally elevated blood pressure is associated with other cardiovascular risk factors  (smoking, diabetes, obesity, hyperlipidemia, genetic predisposition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n end organs are affected by hypertension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heart, kidney , brain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Drug Management of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dio inhibitory dr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a-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ium –channel block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drenoceptor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ally acting sympatholy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sodil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ugs acting on renin-angiotensin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dosteron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5" descr="antihypertensives.jpg"/>
          <p:cNvPicPr/>
          <p:nvPr/>
        </p:nvPicPr>
        <p:blipFill>
          <a:blip r:embed="rId1"/>
          <a:stretch/>
        </p:blipFill>
        <p:spPr>
          <a:xfrm>
            <a:off x="990720" y="990720"/>
            <a:ext cx="609588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10363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 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-A: 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thiazides ( hydrochlorothiaz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B: Loop diuretics ( furosemid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urier Ne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cause sodium and water loss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volume of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cardiac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wer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Thiazide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may be adequate in mil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op agents used in moderate &amp; severe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292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86908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93236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06596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100000"/>
              </a:lnSpc>
              <a:buClr>
                <a:srgbClr val="376092"/>
              </a:buClr>
              <a:buFont typeface="20th Century Font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20th Century Font"/>
                <a:ea typeface="Arial"/>
              </a:rPr>
              <a:t>Potassium-sparing diuretic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Amilorid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as well as </a:t>
            </a: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spironolacton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reduce potassium loss in the urine.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Spironolacton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has the additional benefit of diminishing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the cardiac remodeling that occurs in heart failure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dio inhibitory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Calibri"/>
                <a:ea typeface="Calibri"/>
              </a:rPr>
              <a:t>β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 -</a:t>
            </a: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Adrenoceptor –Blocking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used as monotherapy  in  mild to moderate hyper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severe cases used in combination with other dru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dolol  , Propranolol ( non cardio sel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soprolol , Atenolol, metoprolol  ( cardio sel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betalol , carvidalol (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nergic blockers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Beta Adrenoceptor –Blocking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 cardioselective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rugs as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 contraindicated in patients with asthmatic patien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ntihypertensive effects  of Beta –adrenergic receptor blocking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s sympathetic tone 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R &amp;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yocardial contrac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crease renin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-360"/>
            <a:ext cx="9144000" cy="7010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Prof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Azza El-Med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Department of Pharmac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LCIUM CHANNEL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hydropyrid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fedipine, nicardipine , amlodip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selective as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vasodilator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an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 cardiac depressant. This group is used for treatment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Classification ( contin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erapamil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effective as cardiac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depressant , therefore  it is not used as antihypertensive agent, us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arrhythmic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ltiazem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.Used mainly for treatment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g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❏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ck the influx of calcium through L-type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nnels resulting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Peripheral vasodila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Decrease cardiac contractility &amp; hear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th effects lower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orally and intravenous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ll absorbed from G.I.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apamil and nifedipine are highly bound to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protiens ( more than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diltiazem is less ( 70-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Cont’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ff"/>
                </a:solidFill>
                <a:latin typeface="Arial"/>
                <a:ea typeface="Traditional Arab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set of action  --- within 1-3 min  --- after 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 min – 2 h  --- after or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apamil &amp; diltiazem have active metabolites,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fedipine does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stained-release preparations can per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ce-daily d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nard MT Condensed"/>
              </a:rPr>
              <a:t>Clinical u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ment of chronic hypertension with oral pre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ardipine  can be given by I.V. route &amp; used in hypertensive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121932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apam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ltiaz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ifedip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 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 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h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adrenoceptor block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azocin , terazoc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vely block postsynaptic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drenergic receptors.  They dilate arterioles → lowering 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lockers for treatment of hypertension of pheochromocyt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03200" y="-545760"/>
            <a:ext cx="835200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20th Century Font"/>
                <a:ea typeface="Arial"/>
              </a:rPr>
              <a:t>Centrally acting sympatholytic drugs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e.g.     </a:t>
            </a:r>
            <a:r>
              <a:rPr b="1" i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Clonidine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α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-agonist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Reduce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sympathetic outflow  to the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heart  thereby decreasing cardiac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output  ( by decreasing heart rate &amp;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contractility ).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Reduced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sympathetic output to the vasculature, decreases sympathetic vascular tone , which causes vasodilation &amp; reduced systemic vascular resistance, which decreases arterial pressure.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end of lectures , the students should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factors that control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pharmacologic classes of drugs used in treatment of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examples of each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methyl d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gonist is converted to methyl norepinephrine centrally to diminish the adrenergic outflow from the C.N.S. This lead to reduced total peripheral resistance, and a decreased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fely used in  hypertensive pregnant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ide effects of centrally acting sympatholy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y mouth  &amp; nasal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ide effect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uid retention &amp; edema with chron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upt cessation 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onid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y cause a serious rebou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olytic anemia (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thyldop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the only antihypertensive drug associated with hemolytic anemia usually preceded by a positive Coomb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ASODILA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304920" y="71136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20th Century Font"/>
              </a:rPr>
              <a:t>Compensatory Response to Vasodilator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5920" y="1274760"/>
            <a:ext cx="9070920" cy="556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143000" y="380880"/>
          <a:ext cx="7102440" cy="566424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2133360"/>
                <a:gridCol w="1920960"/>
              </a:tblGrid>
              <a:tr h="7016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asodilato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a nitroprus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3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 &amp; ven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 of  potassium channels in smooth muscle membranes by minoxidil sulf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active metaboli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of nitric oxide (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oute of ad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venous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219320" y="609480"/>
          <a:ext cx="6487920" cy="4876920"/>
        </p:xfrm>
        <a:graphic>
          <a:graphicData uri="http://schemas.openxmlformats.org/drawingml/2006/table">
            <a:tbl>
              <a:tblPr/>
              <a:tblGrid>
                <a:gridCol w="1447560"/>
                <a:gridCol w="1536840"/>
                <a:gridCol w="123840"/>
                <a:gridCol w="1687320"/>
                <a:gridCol w="1692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736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Therapeutic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-severe hypertens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–severe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Hypertensive pregnant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correction of bal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219320" y="457200"/>
          <a:ext cx="7046640" cy="5467320"/>
        </p:xfrm>
        <a:graphic>
          <a:graphicData uri="http://schemas.openxmlformats.org/drawingml/2006/table">
            <a:tbl>
              <a:tblPr/>
              <a:tblGrid>
                <a:gridCol w="1738080"/>
                <a:gridCol w="1727280"/>
                <a:gridCol w="1722600"/>
                <a:gridCol w="1858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48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e hypo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3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pecific 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us erythematosus like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ertricho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fe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ethemoglobinduring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yanide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Thiocyanate toxic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reason 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ckers &amp;  diuretics are added to vasodilators for treatment of hyperten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3" descr="ACE Inhibitors.jpg"/>
          <p:cNvPicPr/>
          <p:nvPr/>
        </p:nvPicPr>
        <p:blipFill>
          <a:blip r:embed="rId1"/>
          <a:stretch/>
        </p:blipFill>
        <p:spPr>
          <a:xfrm>
            <a:off x="1219320" y="99072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mechanism of action , therapeutic uses &amp; common adverse effects of  each class of drugs includ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noceptor blocking drugs  (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&amp;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blocking drug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lcium channel blocking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Vas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3"/>
          <p:cNvGrpSpPr/>
          <p:nvPr/>
        </p:nvGrpSpPr>
        <p:grpSpPr>
          <a:xfrm>
            <a:off x="2052720" y="1557360"/>
            <a:ext cx="5981040" cy="3889080"/>
            <a:chOff x="2052720" y="1557360"/>
            <a:chExt cx="5981040" cy="3889080"/>
          </a:xfrm>
        </p:grpSpPr>
        <p:sp>
          <p:nvSpPr>
            <p:cNvPr id="157" name="Rectangle 5"/>
            <p:cNvSpPr/>
            <p:nvPr/>
          </p:nvSpPr>
          <p:spPr>
            <a:xfrm>
              <a:off x="4140360" y="263700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4455720" y="292752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267440" y="227664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3152160" y="155736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566800" y="480384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601240" y="155736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5676840" y="479736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164" name="Group 22"/>
            <p:cNvGrpSpPr/>
            <p:nvPr/>
          </p:nvGrpSpPr>
          <p:grpSpPr>
            <a:xfrm>
              <a:off x="2052720" y="3284640"/>
              <a:ext cx="1800360" cy="431640"/>
              <a:chOff x="2052720" y="3284640"/>
              <a:chExt cx="1800360" cy="431640"/>
            </a:xfrm>
          </p:grpSpPr>
          <p:sp>
            <p:nvSpPr>
              <p:cNvPr id="165" name="Line 17"/>
              <p:cNvSpPr/>
              <p:nvPr/>
            </p:nvSpPr>
            <p:spPr>
              <a:xfrm>
                <a:off x="2052720" y="350028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166" name="Group 21"/>
              <p:cNvGrpSpPr/>
              <p:nvPr/>
            </p:nvGrpSpPr>
            <p:grpSpPr>
              <a:xfrm>
                <a:off x="2629080" y="3284640"/>
                <a:ext cx="432000" cy="431640"/>
                <a:chOff x="2629080" y="3284640"/>
                <a:chExt cx="432000" cy="431640"/>
              </a:xfrm>
            </p:grpSpPr>
            <p:sp>
              <p:nvSpPr>
                <p:cNvPr id="167" name="Oval 18"/>
                <p:cNvSpPr/>
                <p:nvPr/>
              </p:nvSpPr>
              <p:spPr>
                <a:xfrm>
                  <a:off x="2629080" y="328464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168" name="Line 20"/>
                <p:cNvSpPr/>
                <p:nvPr/>
              </p:nvSpPr>
              <p:spPr>
                <a:xfrm>
                  <a:off x="2702160" y="35002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  <p:sp>
        <p:nvSpPr>
          <p:cNvPr id="169" name="Text Box 24"/>
          <p:cNvSpPr/>
          <p:nvPr/>
        </p:nvSpPr>
        <p:spPr>
          <a:xfrm>
            <a:off x="306720" y="2997360"/>
            <a:ext cx="1789920" cy="8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  <a:ea typeface="Arial"/>
              </a:rPr>
              <a:t>ACE 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  <a:ea typeface="Arial"/>
              </a:rPr>
              <a:t>inhibitors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Mechanism of action of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Angiotensin-converting enzyme inhibitors (ACEI)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6477120" y="2198520"/>
            <a:ext cx="0" cy="24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84360" y="393120"/>
            <a:ext cx="81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20th Century Font"/>
                <a:ea typeface="Arial"/>
              </a:rPr>
              <a:t>Mechanism of action: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20th Century Font"/>
                <a:ea typeface="Arial"/>
              </a:rPr>
              <a:t>Converting enzyme inhibitors lower blood pressure by reducing </a:t>
            </a:r>
            <a:r>
              <a:rPr b="1" lang="cs-CZ" sz="2200" spc="-1" strike="noStrike" u="sng">
                <a:solidFill>
                  <a:srgbClr val="000000"/>
                </a:solidFill>
                <a:uFillTx/>
                <a:latin typeface="20th Century Font"/>
                <a:ea typeface="Arial"/>
              </a:rPr>
              <a:t>angiotensin II</a:t>
            </a:r>
            <a:r>
              <a:rPr b="0" lang="cs-CZ" sz="2200" spc="-1" strike="noStrike">
                <a:solidFill>
                  <a:srgbClr val="000000"/>
                </a:solidFill>
                <a:latin typeface="20th Century Font"/>
                <a:ea typeface="Arial"/>
              </a:rPr>
              <a:t>, and also by increasing vasodilator peptides such as bradykinin. 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330200" y="4572000"/>
            <a:ext cx="756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duction of sympathetic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Inhibition of aldosterone secre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Reduce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the arteriolar and left ventricular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  <a:ea typeface="Arial"/>
              </a:rPr>
              <a:t>remodelling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that are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believed to be important in the pathogenesis of human essential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hypertension and post-infarction state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619280" y="242100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Dilatation of arterio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reduction of peripheral vascular resistance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↓</a:t>
            </a:r>
            <a:r>
              <a:rPr b="1" lang="cs-CZ" sz="1800" spc="-1" strike="noStrike">
                <a:solidFill>
                  <a:srgbClr val="ff0000"/>
                </a:solidFill>
                <a:latin typeface="20th Century Font"/>
                <a:ea typeface="Arial"/>
              </a:rPr>
              <a:t>afterload </a:t>
            </a:r>
            <a:r>
              <a:rPr b="1" lang="en-US" sz="1800" spc="-1" strike="noStrike">
                <a:solidFill>
                  <a:srgbClr val="ff0000"/>
                </a:solidFill>
                <a:latin typeface="20th Century Font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515960" y="3213000"/>
            <a:ext cx="60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Increase of N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&amp; water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xcretion in kidney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↓prelo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611280" y="263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611280" y="3429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611280" y="48006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4960" y="5575320"/>
            <a:ext cx="7923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11280" y="61722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11280" y="403848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1619280" y="3881520"/>
            <a:ext cx="58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crease of K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excretion in kidne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Pha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ptopril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ramipril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re rapidly absorbed from GIT after oral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reduce their bioavail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 , ramipril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prodrugs, converted to the active metabolite in the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e a long half-life &amp; given once 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at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active metabolite of enalapril given by i.v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 hypertensive emerg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Ph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Captopril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not a prodru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s a short half-life     &amp; given twice 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CEI are distributed to all tissues except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eatment  of  hypertens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eatment of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betic nephropath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ute renal failure, especially in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bilateral renal artery steno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istent c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gioneurotic ed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gh &amp; angioneurotic edema due to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radykini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vere hypotension in hypovolemic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ue to diuretics, salt restriction or gastrointest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 lo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loss ( due to SH group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ptopr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lecu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in rash,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absolutely contraindicated  pregnancy due to the risk of : fetal hypotension ,anuria ,renal failure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formation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lateral renal artery stenosis or stenosis of a renal artery with  solitary kidney causing  acute renal failu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Drug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potassium-sparing diuret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SAIDs impair their hypotensiv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blocking bradykinin-mediated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sodilatation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.B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effective in African American Patients as monotherapy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 ( 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ing enzyme inhibi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iotensin receptor bloc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advantages of ARBs over AC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75440" y="609480"/>
            <a:ext cx="5820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   </a:t>
            </a: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BLOCKERS OF AT</a:t>
            </a:r>
            <a:r>
              <a:rPr b="1" lang="cs-CZ" sz="2000" spc="-1" strike="noStrike" baseline="-25000">
                <a:solidFill>
                  <a:srgbClr val="cc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i="1" lang="cs-CZ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losartan, val</a:t>
            </a:r>
            <a:r>
              <a:rPr b="1" i="1" lang="en-US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sa</a:t>
            </a:r>
            <a:r>
              <a:rPr b="1" i="1" lang="cs-CZ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rtan, irbesarta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57200" y="2017800"/>
            <a:ext cx="85345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- </a:t>
            </a:r>
            <a:r>
              <a:rPr b="1" i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competitively inhibit angiotensin II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at its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receptor site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most of the effects of angiotensin II - including vasoconstriction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and aldosterone release - are mediated by the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they influence RAS more effective because of selective blockade 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(angiotensin II synthesis in tissue is not completely dependent only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on renin release,  but could be promote by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serin-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protease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2514600" y="12952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887200" y="15462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oge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514600" y="31240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131640" y="337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2514600" y="49528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953800" y="520380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I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038480" y="2362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3962520" y="4191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10004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n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025880" y="43084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182280" y="33177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nrenin prot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e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theps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-PA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4" name="Freeform 13"/>
          <p:cNvSpPr/>
          <p:nvPr/>
        </p:nvSpPr>
        <p:spPr>
          <a:xfrm>
            <a:off x="5638680" y="1828800"/>
            <a:ext cx="2006640" cy="15238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264" h="960">
                <a:moveTo>
                  <a:pt x="0" y="0"/>
                </a:moveTo>
                <a:cubicBezTo>
                  <a:pt x="424" y="40"/>
                  <a:pt x="848" y="80"/>
                  <a:pt x="1056" y="240"/>
                </a:cubicBezTo>
                <a:cubicBezTo>
                  <a:pt x="1264" y="400"/>
                  <a:pt x="1256" y="680"/>
                  <a:pt x="1248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5" name="Freeform 14"/>
          <p:cNvSpPr/>
          <p:nvPr/>
        </p:nvSpPr>
        <p:spPr>
          <a:xfrm>
            <a:off x="5638680" y="441972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0" y="720"/>
                </a:moveTo>
                <a:cubicBezTo>
                  <a:pt x="400" y="708"/>
                  <a:pt x="800" y="696"/>
                  <a:pt x="1008" y="576"/>
                </a:cubicBezTo>
                <a:cubicBezTo>
                  <a:pt x="1216" y="456"/>
                  <a:pt x="1232" y="228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1384200" y="3581280"/>
            <a:ext cx="1054080" cy="20574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64" h="1296">
                <a:moveTo>
                  <a:pt x="664" y="0"/>
                </a:moveTo>
                <a:cubicBezTo>
                  <a:pt x="448" y="56"/>
                  <a:pt x="232" y="112"/>
                  <a:pt x="136" y="288"/>
                </a:cubicBezTo>
                <a:cubicBezTo>
                  <a:pt x="40" y="464"/>
                  <a:pt x="0" y="888"/>
                  <a:pt x="88" y="1056"/>
                </a:cubicBezTo>
                <a:cubicBezTo>
                  <a:pt x="176" y="1224"/>
                  <a:pt x="420" y="1260"/>
                  <a:pt x="664" y="12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085400" y="4191120"/>
            <a:ext cx="12992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y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G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 have no effect on bradykini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ausing neithe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:   cough, wheez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angioede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CE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cept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cough ,wheezing , and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angio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contraindication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CE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rugs used for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  &gt; 180/120 mmHg  associated with end-orga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nitroprus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ardi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lapri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caution in 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using short-acting nifedipine because of the risk of rapid , unpredictable hypotension &amp; the possibility of precipitating ischemic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rugs used for management of hypertension in pregna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( the preferred first lin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0" descr="camel"/>
          <p:cNvPicPr/>
          <p:nvPr/>
        </p:nvPicPr>
        <p:blipFill>
          <a:blip r:embed="rId1"/>
          <a:stretch/>
        </p:blipFill>
        <p:spPr>
          <a:xfrm>
            <a:off x="1258920" y="1557360"/>
            <a:ext cx="6899400" cy="459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Hyper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Blood pressure is determin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Blood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Cardiac output ( rate &amp; contractil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Peripheral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189520" y="-255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FACTORS IN BLOOD PRESSURE CONTROL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lood Pressure.jpg"/>
          <p:cNvPicPr/>
          <p:nvPr/>
        </p:nvPicPr>
        <p:blipFill>
          <a:blip r:embed="rId1"/>
          <a:stretch/>
        </p:blipFill>
        <p:spPr>
          <a:xfrm>
            <a:off x="990720" y="1066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a major risk factor for cerebrovas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ease, heart failure, renal in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myocardial infar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ymptomatic until organ damages reaches a critical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8:01Z</dcterms:created>
  <dc:creator>Christine Staake</dc:creator>
  <dc:description/>
  <dc:language>en-US</dc:language>
  <cp:lastModifiedBy>Azaa Almedany</cp:lastModifiedBy>
  <dcterms:modified xsi:type="dcterms:W3CDTF">2015-03-15T06:34:57Z</dcterms:modified>
  <cp:revision>252</cp:revision>
  <dc:subject/>
  <dc:title>Medic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11033</vt:lpwstr>
  </property>
</Properties>
</file>