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3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77600" cy="9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96640" y="701640"/>
            <a:ext cx="4683240" cy="351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889272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08240" y="889272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7662D-97E2-4A8C-8D77-E9A7E2BE8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D99AFC-D7D5-4A3D-89FB-B45F84470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DF31AF-C513-42BC-81E5-8D7F2E71D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B48149-4308-4391-AB2F-787F43190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979D-E766-44DB-A7C3-5F3261A6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04B-5F9A-4438-ACD9-D6D8957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EDD2-F2A4-42AA-B56A-5C07FBC76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270-9332-4D91-A472-AB8AB0B2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FEC7-6277-4947-816E-E730BACB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4BDF-09CF-480B-A914-CDC19282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DFBD-CE1D-4B66-A29C-78601541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A258E-2DEA-45FE-A5C0-E74F55A7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57A5-C85A-471D-8D37-57225DA8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E7FF-2D3C-4BB9-AFA8-2B7BC7C7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9F34-E3AF-499E-AFFD-BFC10ABC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2884-1572-4C7A-979A-8D5C272E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BFC0-19EF-425D-992A-A7E1F1FE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B65D-59C2-4115-B673-84D9B42C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EA78-1415-4970-8342-7B5EB3CF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2BCD-BFA3-4314-AA9A-B106B630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40F3-49AF-48A6-A68A-37D43B8F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5A03-9333-4A3C-B53B-3BB30968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56A90-F70D-44C4-A2FF-20E1ED2E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D097F-B8BF-459B-8E60-EBC79E85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02A8-42ED-4E58-8006-E93FA093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9FC6-BA6C-4BF1-86F5-7A102C8E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814E-DF6C-4958-9A5C-8635F399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501B-9682-4711-A3C9-42D6BABB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1F743-AAFE-4BC3-894B-37FA64F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ACB4-40F1-47B8-BF7A-55615ADA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3BB08-A446-46B2-B001-03C27AC4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F3F1-892F-43F8-A5F9-188C697E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88D91-735C-4DE7-97DC-4FD9E3AD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4732-C23B-4844-9495-52E99D52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BA80-9A03-4D70-93E6-6BAF6D15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7C430-CB58-4EFD-AAFB-F1806FD2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2BC2-11A0-4BFA-92AC-B4B60363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CED-B4B3-4083-B5FB-49BA9395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86DE-8372-48C2-9AF4-AB9459E3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54518-34AA-4FC7-8167-2AFF6B43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A883A-883A-4504-A01C-39C2310D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A4829-31AC-4B16-859B-586B20F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A39E-91B0-437A-87CA-C716432D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867E3-B686-4653-9EA2-C08E2B35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C171D-97F3-4A06-AECE-0AA88869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0DC7-40D6-4BCF-92BD-1D3003FC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379E-E8DD-4AB5-82EB-9E5EA009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779-E46C-4EFE-A036-816EBB77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4C9-87CD-47CC-AF5D-DD2B939D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C12-0966-4BD2-93F3-EAD383D5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3AA-DFB2-4AE6-AF1F-4927D131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89A-C072-4BAA-A632-92F66A76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B2D7E-5A09-4867-B94F-10046DAACFF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9446A6-45B6-40DA-8915-4A9FCF4C899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79B6E-0D0F-409F-8F43-DE522093126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29C975-6158-4B37-BEE7-AB22D4EED0E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en.wikibooks.org/wiki/File:Heart_frontally_PDA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7912080" cy="2189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7962840" y="98280"/>
            <a:ext cx="1073160" cy="1170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160" y="397944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nstantia"/>
              <a:ea typeface="ヒラギノ明朝 ProN W6"/>
            </a:endParaRPr>
          </a:p>
        </p:txBody>
      </p:sp>
      <p:pic>
        <p:nvPicPr>
          <p:cNvPr id="205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521240"/>
            <a:ext cx="1981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16383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rst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econd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ird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1133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irst degree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rolong P-R interval (0.2 secon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Picture 2" descr="http://www.studentconsult.com/common/showimage.cfm?mediaISBN=0721602401&amp;FigFile=S02401-013-f005.jpg&amp;size=fullsize"/>
          <p:cNvPicPr/>
          <p:nvPr/>
        </p:nvPicPr>
        <p:blipFill>
          <a:blip r:embed="rId1"/>
          <a:srcRect l="14987" t="0" r="16116" b="18141"/>
          <a:stretch/>
        </p:blipFill>
        <p:spPr>
          <a:xfrm>
            <a:off x="1476360" y="4002120"/>
            <a:ext cx="56167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4617b"/>
                </a:solidFill>
                <a:uFillTx/>
                <a:latin typeface="Constantia"/>
              </a:rPr>
              <a:t>Second Degree Block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P-R interval &gt; 0.25 secon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Only few impulses pass to the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atria beat faster than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dropped beat</a:t>
            </a:r>
            <a:r>
              <a:rPr b="0" lang="ja-JP" sz="2800" spc="-1" strike="noStrike">
                <a:solidFill>
                  <a:srgbClr val="000000"/>
                </a:solidFill>
                <a:latin typeface="Constanti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of the ventric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2" descr="http://www.studentconsult.com/common/showimage.cfm?mediaISBN=0721602401&amp;FigFile=S02401-013-f006.jpg&amp;size=fullsize"/>
          <p:cNvPicPr/>
          <p:nvPr/>
        </p:nvPicPr>
        <p:blipFill>
          <a:blip r:embed="rId1"/>
          <a:srcRect l="15179" t="0" r="15331" b="11976"/>
          <a:stretch/>
        </p:blipFill>
        <p:spPr>
          <a:xfrm>
            <a:off x="1908000" y="4437000"/>
            <a:ext cx="489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557360"/>
            <a:ext cx="8229600" cy="3076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Third degree block (comple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Complete dissociation of P wave and QRS wav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4617b"/>
                </a:solidFill>
                <a:uFillTx/>
                <a:latin typeface="Constantia"/>
              </a:rPr>
              <a:t>Ventricle escape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 from the influence of S-A node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dd9"/>
                </a:solidFill>
                <a:latin typeface="Constantia"/>
              </a:rPr>
              <a:t>Atrial rate is 100 beats/m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9dd9"/>
                </a:solidFill>
                <a:latin typeface="Constantia"/>
              </a:rPr>
              <a:t>Ventricular rate is 40 beats/min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 u="sng">
                <a:solidFill>
                  <a:srgbClr val="04617b"/>
                </a:solidFill>
                <a:uFillTx/>
                <a:latin typeface="Constantia"/>
              </a:rPr>
              <a:t>Stokes-Adams Syndrome</a:t>
            </a:r>
            <a:r>
              <a:rPr b="0" lang="en-US" sz="2700" spc="-1" strike="noStrike">
                <a:solidFill>
                  <a:srgbClr val="04617b"/>
                </a:solidFill>
                <a:latin typeface="Constantia"/>
              </a:rPr>
              <a:t>: AV block comes and goes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ypes of the A-V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Picture 2" descr="http://www.studentconsult.com/common/showimage.cfm?mediaISBN=0721602401&amp;FigFile=S02401-013-f007.jpg&amp;size=fullsize"/>
          <p:cNvPicPr/>
          <p:nvPr/>
        </p:nvPicPr>
        <p:blipFill>
          <a:blip r:embed="rId1"/>
          <a:srcRect l="14806" t="0" r="16077" b="15513"/>
          <a:stretch/>
        </p:blipFill>
        <p:spPr>
          <a:xfrm>
            <a:off x="1763640" y="4834080"/>
            <a:ext cx="56167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remature contraction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Premature contractions, </a:t>
            </a:r>
            <a:r>
              <a:rPr b="0" i="1" lang="en-US" sz="2400" spc="-1" strike="noStrike">
                <a:solidFill>
                  <a:srgbClr val="7030a0"/>
                </a:solidFill>
                <a:latin typeface="Constantia"/>
              </a:rPr>
              <a:t>extrasystoles, or 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ectopic beat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result from </a:t>
            </a:r>
            <a:r>
              <a:rPr b="0" i="1" lang="en-US" sz="2400" spc="-1" strike="noStrike">
                <a:solidFill>
                  <a:srgbClr val="7030a0"/>
                </a:solidFill>
                <a:latin typeface="Constantia"/>
              </a:rPr>
              <a:t>ectopic foci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that generate abnormal cardiac impulses (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pulse defici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schem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rritation of cardiac muscle by calcified foci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rugs like caffe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Ectopic foci can cause premature contractions that originate i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The atri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A-V  jun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f6fc6"/>
                </a:solidFill>
                <a:latin typeface="Constantia"/>
              </a:rPr>
              <a:t>The ventric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9dd9"/>
                </a:solidFill>
                <a:uFillTx/>
                <a:latin typeface="Calibri"/>
              </a:rPr>
              <a:t>Premature Atrial Contractions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447560"/>
            <a:ext cx="8229600" cy="2469960"/>
          </a:xfrm>
          <a:prstGeom prst="rect">
            <a:avLst/>
          </a:prstGeom>
          <a:noFill/>
          <a:ln w="9360">
            <a:solidFill>
              <a:srgbClr val="0bd0d9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bd0d9"/>
                </a:solidFill>
                <a:uFillTx/>
                <a:latin typeface="Constantia"/>
              </a:rPr>
              <a:t>Short P-R interval </a:t>
            </a:r>
            <a:r>
              <a:rPr b="1" lang="en-US" sz="2600" spc="-1" strike="noStrike">
                <a:solidFill>
                  <a:srgbClr val="0bd0d9"/>
                </a:solidFill>
                <a:latin typeface="Constantia"/>
              </a:rPr>
              <a:t>depending on how far  the ectopic foci from the AV no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Pulse deficit </a:t>
            </a: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if there is no time for the ventricles to fill with bloo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The time between the premature contraction and the succeeding beat is increased (</a:t>
            </a:r>
            <a:r>
              <a:rPr b="1" i="1" lang="en-US" sz="2600" spc="-1" strike="noStrike" u="sng">
                <a:solidFill>
                  <a:srgbClr val="04617b"/>
                </a:solidFill>
                <a:uFillTx/>
                <a:latin typeface="Constantia"/>
              </a:rPr>
              <a:t>Compensatory pause</a:t>
            </a:r>
            <a:r>
              <a:rPr b="1" lang="en-US" sz="2600" spc="-1" strike="noStrike">
                <a:solidFill>
                  <a:srgbClr val="0bd0d9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http://www.studentconsult.com/common/showimage.cfm?mediaISBN=0721602401&amp;FigFile=S02401-013-f009.jpg&amp;size=fullsize"/>
          <p:cNvPicPr/>
          <p:nvPr/>
        </p:nvPicPr>
        <p:blipFill>
          <a:blip r:embed="rId1"/>
          <a:srcRect l="15410" t="0" r="15382" b="12035"/>
          <a:stretch/>
        </p:blipFill>
        <p:spPr>
          <a:xfrm>
            <a:off x="1395360" y="4248000"/>
            <a:ext cx="5769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700280"/>
            <a:ext cx="8229600" cy="2233440"/>
          </a:xfrm>
          <a:prstGeom prst="rect">
            <a:avLst/>
          </a:prstGeom>
          <a:noFill/>
          <a:ln w="9360">
            <a:solidFill>
              <a:srgbClr val="10cf9b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cf9b"/>
                </a:solidFill>
                <a:latin typeface="Constantia"/>
              </a:rPr>
              <a:t>P</a:t>
            </a:r>
            <a:r>
              <a:rPr b="1" lang="en-US" sz="1800" spc="-1" strike="noStrike" u="sng">
                <a:solidFill>
                  <a:srgbClr val="10cf9b"/>
                </a:solidFill>
                <a:uFillTx/>
                <a:latin typeface="Constantia"/>
              </a:rPr>
              <a:t>rolong QRS complex </a:t>
            </a:r>
            <a:r>
              <a:rPr b="1" lang="en-US" sz="1800" spc="-1" strike="noStrike">
                <a:solidFill>
                  <a:srgbClr val="10cf9b"/>
                </a:solidFill>
                <a:latin typeface="Constantia"/>
              </a:rPr>
              <a:t>because the impulses are carried out with myocardial fibers with slower conduction rate than Purkinje fiber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4617b"/>
                </a:solidFill>
                <a:uFillTx/>
                <a:latin typeface="Constantia"/>
              </a:rPr>
              <a:t>Increase QRS</a:t>
            </a:r>
            <a:r>
              <a:rPr b="1" lang="en-US" sz="1800" spc="-1" strike="noStrike">
                <a:solidFill>
                  <a:srgbClr val="04617b"/>
                </a:solidFill>
                <a:latin typeface="Constantia"/>
              </a:rPr>
              <a:t> complexes voltage because QRS wave from one ventricle can not neutralize the one from the other ventric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After PVCs, the </a:t>
            </a:r>
            <a:r>
              <a:rPr b="1" lang="en-US" sz="1800" spc="-1" strike="noStrike" u="sng">
                <a:solidFill>
                  <a:srgbClr val="0f6fc6"/>
                </a:solidFill>
                <a:uFillTx/>
                <a:latin typeface="Constantia"/>
              </a:rPr>
              <a:t>T wave has an electrical potential of opposite polarity </a:t>
            </a:r>
            <a:r>
              <a:rPr b="1" lang="en-US" sz="1800" spc="-1" strike="noStrike">
                <a:solidFill>
                  <a:srgbClr val="0f6fc6"/>
                </a:solidFill>
                <a:latin typeface="Constantia"/>
              </a:rPr>
              <a:t>of that of the QRS because of the slow conduction in the myocardial fibers, the fibers that depolarizes first will repolarize firs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bd0d9"/>
                </a:solidFill>
                <a:uFillTx/>
                <a:latin typeface="Constantia"/>
              </a:rPr>
              <a:t>Causes: </a:t>
            </a:r>
            <a:r>
              <a:rPr b="1" lang="en-US" sz="1800" spc="-1" strike="noStrike">
                <a:solidFill>
                  <a:srgbClr val="0bd0d9"/>
                </a:solidFill>
                <a:latin typeface="Constantia"/>
              </a:rPr>
              <a:t>drugs, caffeine, smoking, lack of sleep, emotional irritation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0cf9b"/>
                </a:solidFill>
                <a:uFillTx/>
                <a:latin typeface="Calibri"/>
              </a:rPr>
              <a:t>Premature Ventricular Contractions (PVCs)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http://www.studentconsult.com/common/showimage.cfm?mediaISBN=0721602401&amp;FigFile=S02401-013-f011.jpg&amp;size=fullsize"/>
          <p:cNvPicPr/>
          <p:nvPr/>
        </p:nvPicPr>
        <p:blipFill>
          <a:blip r:embed="rId1"/>
          <a:srcRect l="14021" t="0" r="14998" b="55043"/>
          <a:stretch/>
        </p:blipFill>
        <p:spPr>
          <a:xfrm>
            <a:off x="2023920" y="4149720"/>
            <a:ext cx="4780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The most serious of all a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Cause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: impulses stimulate one part of the ventricles, then another, then itself. Many part contracts at the same time while other parts relax </a:t>
            </a:r>
            <a:r>
              <a:rPr b="0" i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(Circus movemen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4809960" y="2349360"/>
            <a:ext cx="4226040" cy="36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557360"/>
            <a:ext cx="8229600" cy="41752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bd0d9"/>
                </a:solidFill>
                <a:uFillTx/>
                <a:latin typeface="Constantia"/>
              </a:rPr>
              <a:t>Causes: </a:t>
            </a: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sudden electrical shock, ischemi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chycar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rregular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road QRS compl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 P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4" descr="http://www.studentconsult.com/common/showimage.cfm?mediaISBN=0721602401&amp;FigFile=S02401-013-f016.jpg&amp;size=fullsize"/>
          <p:cNvPicPr/>
          <p:nvPr/>
        </p:nvPicPr>
        <p:blipFill>
          <a:blip r:embed="rId1"/>
          <a:srcRect l="14992" t="0" r="15721" b="14428"/>
          <a:stretch/>
        </p:blipFill>
        <p:spPr>
          <a:xfrm>
            <a:off x="1763640" y="3992400"/>
            <a:ext cx="504036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reatment : DC sh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entricular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4" name="Picture 2" descr="http://www.studentconsult.com/common/showimage.cfm?mediaISBN=0721602401&amp;FigFile=S02401-013-f017.jpg&amp;size=fullsize"/>
          <p:cNvPicPr/>
          <p:nvPr/>
        </p:nvPicPr>
        <p:blipFill>
          <a:blip r:embed="rId1"/>
          <a:srcRect l="13552" t="0" r="0" b="7681"/>
          <a:stretch/>
        </p:blipFill>
        <p:spPr>
          <a:xfrm>
            <a:off x="2268360" y="2852640"/>
            <a:ext cx="413244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Lecture 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3365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sinus ar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 the main pathophysiological causes of cardiac arrhythm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the mechanism of cardiac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plain the origin of an ectopic foc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numerate the common arrhythmias and describe the basic ECG chan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trial Fibrilla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413000"/>
            <a:ext cx="8229600" cy="31701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ame mechanism as ventricular fibrillation. It can occur only in atria without affecting the ventri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t occurs more frequently in patients with </a:t>
            </a:r>
            <a:r>
              <a:rPr b="0" i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nlarged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he atria do not pump if they are fibrilla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efficiency of ventricular filling is decreased 20 to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No P wave, or high frequency of low voltage P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reatment: DC sho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rcRect l="0" t="0" r="0" b="11846"/>
          <a:stretch/>
        </p:blipFill>
        <p:spPr>
          <a:xfrm>
            <a:off x="762120" y="4649760"/>
            <a:ext cx="76183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486080"/>
            <a:ext cx="8229600" cy="259056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single large wave travels around and around in the at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The atria contracts at high rate (250 beats/mi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b2c9"/>
                </a:solidFill>
                <a:latin typeface="Constantia"/>
              </a:rPr>
              <a:t>Because one area of the atria is contracted and another one is relaxed, the amount of blood pumped by the atria is sligh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The refractory period of the AV node causes 2-3 beats of atria for one single ventricular beat 2:1 or 2:3 rhyth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trial Flutter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5173560" y="4365720"/>
            <a:ext cx="3935520" cy="23763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"/>
          <p:cNvPicPr/>
          <p:nvPr/>
        </p:nvPicPr>
        <p:blipFill>
          <a:blip r:embed="rId2"/>
          <a:srcRect l="0" t="0" r="0" b="12785"/>
          <a:stretch/>
        </p:blipFill>
        <p:spPr>
          <a:xfrm>
            <a:off x="0" y="4702320"/>
            <a:ext cx="51735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Ischemia and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5000"/>
            <a:ext cx="8229600" cy="32227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ne of the common uses of the ECG is in acute assessment of chest pai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Cause: restriction of blood flow to the myocardium, eithe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versible: angina pector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Irreversible: myocardial infar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Ischemia </a:t>
            </a:r>
            <a:r>
              <a:rPr b="1" i="1" lang="en-US" sz="26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 injury </a:t>
            </a:r>
            <a:r>
              <a:rPr b="1" i="1" lang="en-US" sz="2600" spc="-1" strike="noStrike">
                <a:solidFill>
                  <a:srgbClr val="04617b"/>
                </a:solidFill>
                <a:latin typeface="Symbol"/>
                <a:ea typeface="Symbol"/>
              </a:rPr>
              <a:t></a:t>
            </a:r>
            <a:r>
              <a:rPr b="1" i="1" lang="en-US" sz="2600" spc="-1" strike="noStrike">
                <a:solidFill>
                  <a:srgbClr val="04617b"/>
                </a:solidFill>
                <a:latin typeface="Constantia"/>
              </a:rPr>
              <a:t> infar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Reversible ischemi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0150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Inverted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T segment depress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277" descr="D:\SCContent\0721602401\graphics\fullsize\S02401-012-f023.jpg"/>
          <p:cNvPicPr/>
          <p:nvPr/>
        </p:nvPicPr>
        <p:blipFill>
          <a:blip r:embed="rId1"/>
          <a:srcRect l="14987" t="0" r="14987" b="9555"/>
          <a:stretch/>
        </p:blipFill>
        <p:spPr>
          <a:xfrm>
            <a:off x="1835280" y="3500280"/>
            <a:ext cx="4465440" cy="213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Myocardial Infarctio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5000"/>
            <a:ext cx="8229600" cy="47340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loss of blood supply to the myocardium resulting in necrosis or death of tiss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T segment elev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eep Q w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9" name="Picture 2" descr="http://www.benbest.com/health/elevation.jpg"/>
          <p:cNvPicPr/>
          <p:nvPr/>
        </p:nvPicPr>
        <p:blipFill>
          <a:blip r:embed="rId1"/>
          <a:stretch/>
        </p:blipFill>
        <p:spPr>
          <a:xfrm>
            <a:off x="3851280" y="3495600"/>
            <a:ext cx="432432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otassium and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568240"/>
            <a:ext cx="4038480" cy="29480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Hypokalemi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lat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Hyperkalemi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all peaked T wa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2" descr="http://www.merckmanuals.com/media/professional/figures/MMPE_12END_156_02_eps.gif"/>
          <p:cNvPicPr/>
          <p:nvPr/>
        </p:nvPicPr>
        <p:blipFill>
          <a:blip r:embed="rId1"/>
          <a:stretch/>
        </p:blipFill>
        <p:spPr>
          <a:xfrm>
            <a:off x="4648320" y="2492280"/>
            <a:ext cx="4451400" cy="301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or further readings and diagra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35000"/>
            <a:ext cx="8229600" cy="18748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extbook of Medical Physiology by Guyton &amp; H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hapter 10 (Cardiac Arrhythmias and their Electrocardiographic Interpretat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07640"/>
            <a:ext cx="8229600" cy="22417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gul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gle p-wave precedes every QRS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-R interval is constant and within normal ran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-P interval is consta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031840" y="5035680"/>
            <a:ext cx="50803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auses of Cardiac Arrhythmi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151000"/>
            <a:ext cx="8229600" cy="34876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normal rhythmicity of the pacema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Shift of the pacemaker from the sinus node to another place in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Blocks at different points during the spread of the impulse through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Abnormal pathways of impulse transmission through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pontaneous generation of spurious impulses in almost any part of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auses of Cardiac Arrhythmia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150640"/>
            <a:ext cx="8229600" cy="2141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te above or below norm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cf9b"/>
                </a:solidFill>
                <a:latin typeface="Constantia"/>
              </a:rPr>
              <a:t>Regular or irregular 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Narrow or broad QRS comple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Relation to P wa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23880" indent="-514440"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57000"/>
            <a:ext cx="8229600" cy="316692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achycardi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increase in the heart ra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Heart rate &gt; 100 beats per 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creased body tempera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ympathetic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Drugs: digital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s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http://www.studentconsult.com/common/showimage.cfm?mediaISBN=0721602401&amp;FigFile=S02401-013-f001.jpg&amp;size=fullsize"/>
          <p:cNvPicPr/>
          <p:nvPr/>
        </p:nvPicPr>
        <p:blipFill>
          <a:blip r:embed="rId1"/>
          <a:srcRect l="15060" t="0" r="15664" b="16004"/>
          <a:stretch/>
        </p:blipFill>
        <p:spPr>
          <a:xfrm>
            <a:off x="2050920" y="4941720"/>
            <a:ext cx="451008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Sinus Rhyth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483920"/>
            <a:ext cx="8229600" cy="2808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radycardia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Constantia"/>
              </a:rPr>
              <a:t>Slow heart rate &lt; 60 beats per minu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Parasympathetic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Expi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http://www.studentconsult.com/common/showimage.cfm?mediaISBN=0721602401&amp;FigFile=S02401-013-f002.jpg&amp;size=fullsize"/>
          <p:cNvPicPr/>
          <p:nvPr/>
        </p:nvPicPr>
        <p:blipFill>
          <a:blip r:embed="rId1"/>
          <a:srcRect l="15060" t="0" r="15664" b="19012"/>
          <a:stretch/>
        </p:blipFill>
        <p:spPr>
          <a:xfrm>
            <a:off x="1158840" y="4508640"/>
            <a:ext cx="60055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Cardiac Rhythms that Result from Impulse Conduction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28280"/>
            <a:ext cx="8229600" cy="3149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Sinoatrial Bloc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ckasde of the S-A node impulse before entering atrial muscl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essation of P wa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dd9"/>
                </a:solidFill>
                <a:uFillTx/>
                <a:latin typeface="Constantia"/>
              </a:rPr>
              <a:t>Cause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Ischemia of the A-V nod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Compression of the A-V node by scar formation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Inflammation of the A-V node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9dd9"/>
                </a:solidFill>
                <a:latin typeface="Constantia"/>
              </a:rPr>
              <a:t>Strong vagal stimulation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90000"/>
              </a:lnSpc>
              <a:spcBef>
                <a:spcPts val="5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rcRect l="0" t="0" r="0" b="12579"/>
          <a:stretch/>
        </p:blipFill>
        <p:spPr>
          <a:xfrm>
            <a:off x="762120" y="4881600"/>
            <a:ext cx="761832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bnormal Cardiac Rhythms that Result from Impulse Conduction Block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314964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A-V Blo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impulse from the S-A node is block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Caus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schemia of the A-V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Compression of the A-V node by scar 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Inflammation of the A-V no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Strong vagal stimul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3:52:32Z</dcterms:created>
  <dc:creator>Mona Soliman</dc:creator>
  <dc:description/>
  <dc:language>en-US</dc:language>
  <cp:lastModifiedBy>Hanan albackr</cp:lastModifiedBy>
  <cp:lastPrinted>2013-03-05T15:13:40Z</cp:lastPrinted>
  <dcterms:modified xsi:type="dcterms:W3CDTF">2015-03-14T19:52:30Z</dcterms:modified>
  <cp:revision>84</cp:revision>
  <dc:subject/>
  <dc:title>Arrhythmias</dc:title>
</cp:coreProperties>
</file>