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96640" y="701640"/>
            <a:ext cx="4683240" cy="351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9272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08240" y="889272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D60C5-A5E5-47F8-A0F5-DAC128952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31DA0-FE98-4F1A-B807-9269890FD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8CC08-6630-4664-AC53-BDCF3F65A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25A3C-DC07-4517-80FB-CCD92118B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826-8ABB-4299-8008-92787B24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100-6407-415A-91A5-E34C04D9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378-5C25-4B5E-999D-4D6A0C68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171-6E28-43CD-8880-5DBE32D5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8701-85F9-4951-9A76-7D780C95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608D-2CD1-449E-AE4B-B784EA8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198-4180-4F5E-9022-7DEC3C38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1C67-5930-4CA4-93EA-261B27FD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D8CB-13AF-4991-B570-B17B03D1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4F1-54F7-430C-8116-89488A23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9F4-3B75-44F7-AB70-A1E205D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6C2-9D5B-4404-AEC6-53E59568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AC91-FA31-47F7-8AC7-A3A20DB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63F-B6BA-4E97-B025-307BBC8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8A20-ABA8-4EB7-A515-1BC5FE4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024-F512-4803-817C-4AC59856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264E-DA31-4D19-A29B-2F393989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2569-988A-4D42-8E11-91958FC4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B00E-7829-4389-B06A-FB3DC70A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9049-F909-4C3B-9EDF-61ADCBFC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1765-2B64-4E0A-B4D9-DA1C7B5D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395E-C61D-450B-BE50-53EC9B0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559-6BD6-4D25-9B89-194F294D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D687-4D43-40A9-A5FD-FC69F6F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CE8A-02F2-426B-B4A7-CF78E5E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B4B8-4257-48A0-9037-DCC8217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6DE4-13D2-40D2-B0FB-653E6E7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335D-BEA7-4012-9679-3CD995FE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45F2-C6E0-4119-A23A-1248A036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3C2A-ECE6-44A5-A71A-849B53C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C661-3A50-4FD8-A4EC-738D9492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714A-4722-4E1F-BA7F-2D521F22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9C2C-344D-4C35-B8A1-EB6E381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9EE-BAAD-4485-BD3D-48F5F61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7CFD-F271-4C34-9303-92F22BB4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7D95-EA75-46E1-BAC7-D8814DF5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0489A-69CC-46E7-9922-058E2355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C506-9F97-43FD-963A-E49139F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50EC-132D-4894-921F-2C8DFB2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0CB2-5B74-4CDE-A767-65708DC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9A6A-75D1-45F5-ADAA-A62452D7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33BE-CDD6-4000-9FE4-D1C8AAE3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202C-D49B-4CCB-8BF4-7B4BA680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BE0-7824-49C5-A9A2-5D23D45F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52B-CDFD-41EC-A2AB-B8A0228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908-B4CD-4104-9719-1B68B5E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EFC-B91E-4A3B-AB8B-C28C11D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A8A-7005-48FE-B26D-43BDEC3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53A8-A441-4826-ADD6-A829DF1840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BE93D-A082-4884-96F9-6BE3A8918A6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3DB57-6BF4-40E7-A07D-4CEEBF225E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A6578-8D67-41B9-AB73-723602A1EB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books.org/wiki/File:Heart_frontally_PDA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912080" cy="218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7962840" y="98280"/>
            <a:ext cx="1073160" cy="1170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97944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nstantia"/>
              <a:ea typeface="ヒラギノ明朝 ProN W6"/>
            </a:endParaRPr>
          </a:p>
        </p:txBody>
      </p:sp>
      <p:pic>
        <p:nvPicPr>
          <p:cNvPr id="205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21240"/>
            <a:ext cx="1981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1638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econ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ir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1133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long P-R interval (0.2 seco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http://www.studentconsult.com/common/showimage.cfm?mediaISBN=0721602401&amp;FigFile=S02401-013-f005.jpg&amp;size=fullsize"/>
          <p:cNvPicPr/>
          <p:nvPr/>
        </p:nvPicPr>
        <p:blipFill>
          <a:blip r:embed="rId1"/>
          <a:srcRect l="14987" t="0" r="16116" b="18141"/>
          <a:stretch/>
        </p:blipFill>
        <p:spPr>
          <a:xfrm>
            <a:off x="1476360" y="4002120"/>
            <a:ext cx="5616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Second Degree Block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P-R interval &gt; 0.25 seco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Only few impulses pass to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atria beat faster than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opped beat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f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http://www.studentconsult.com/common/showimage.cfm?mediaISBN=0721602401&amp;FigFile=S02401-013-f006.jpg&amp;size=fullsize"/>
          <p:cNvPicPr/>
          <p:nvPr/>
        </p:nvPicPr>
        <p:blipFill>
          <a:blip r:embed="rId1"/>
          <a:srcRect l="15179" t="0" r="15331" b="11976"/>
          <a:stretch/>
        </p:blipFill>
        <p:spPr>
          <a:xfrm>
            <a:off x="1908000" y="4437000"/>
            <a:ext cx="489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57360"/>
            <a:ext cx="8229600" cy="3076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Third degree block (compl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mplete dissociation of P wave and QRS wav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Ventricle escap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from the influence of S-A nod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Atrial rate is 10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Ventricular rate is 4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Stokes-Adams Syndrom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: AV block comes and go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2" descr="http://www.studentconsult.com/common/showimage.cfm?mediaISBN=0721602401&amp;FigFile=S02401-013-f007.jpg&amp;size=fullsize"/>
          <p:cNvPicPr/>
          <p:nvPr/>
        </p:nvPicPr>
        <p:blipFill>
          <a:blip r:embed="rId1"/>
          <a:srcRect l="14806" t="0" r="16077" b="15513"/>
          <a:stretch/>
        </p:blipFill>
        <p:spPr>
          <a:xfrm>
            <a:off x="1763640" y="4834080"/>
            <a:ext cx="5616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remature contra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Premature contractions,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xtrasystoles, or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ectopic beat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result from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ctopic foci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that generate abnormal cardiac impulses (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pulse defici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chem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rritation of cardiac muscle by calcified fo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ugs like caffe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ctopic foci can cause premature contractions that originate i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at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A-V  j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ventric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alibri"/>
              </a:rPr>
              <a:t>Premature Atrial Contraction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447560"/>
            <a:ext cx="8229600" cy="2469960"/>
          </a:xfrm>
          <a:prstGeom prst="rect">
            <a:avLst/>
          </a:prstGeom>
          <a:noFill/>
          <a:ln w="9360">
            <a:solidFill>
              <a:srgbClr val="0bd0d9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Short P-R interval 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depending on how far  the ectopic foci from the AV no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Pulse deficit 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if there is no time for the ventricles to fill with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The time between the premature contraction and the succeeding beat is increased (</a:t>
            </a:r>
            <a:r>
              <a:rPr b="1" i="1" lang="en-US" sz="2600" spc="-1" strike="noStrike" u="sng">
                <a:solidFill>
                  <a:srgbClr val="04617b"/>
                </a:solidFill>
                <a:uFillTx/>
                <a:latin typeface="Constantia"/>
              </a:rPr>
              <a:t>Compensatory pause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http://www.studentconsult.com/common/showimage.cfm?mediaISBN=0721602401&amp;FigFile=S02401-013-f009.jpg&amp;size=fullsize"/>
          <p:cNvPicPr/>
          <p:nvPr/>
        </p:nvPicPr>
        <p:blipFill>
          <a:blip r:embed="rId1"/>
          <a:srcRect l="15410" t="0" r="15382" b="12035"/>
          <a:stretch/>
        </p:blipFill>
        <p:spPr>
          <a:xfrm>
            <a:off x="1395360" y="4248000"/>
            <a:ext cx="5769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700280"/>
            <a:ext cx="8229600" cy="2233440"/>
          </a:xfrm>
          <a:prstGeom prst="rect">
            <a:avLst/>
          </a:prstGeom>
          <a:noFill/>
          <a:ln w="9360">
            <a:solidFill>
              <a:srgbClr val="10cf9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10cf9b"/>
                </a:solidFill>
                <a:uFillTx/>
                <a:latin typeface="Constantia"/>
              </a:rPr>
              <a:t>rolong QRS complex </a:t>
            </a: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because the impulses are carried out with myocardial fibers with slower conduction rate than Purkinje fib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4617b"/>
                </a:solidFill>
                <a:uFillTx/>
                <a:latin typeface="Constantia"/>
              </a:rPr>
              <a:t>Increase QRS</a:t>
            </a:r>
            <a:r>
              <a:rPr b="1" lang="en-US" sz="1800" spc="-1" strike="noStrike">
                <a:solidFill>
                  <a:srgbClr val="04617b"/>
                </a:solidFill>
                <a:latin typeface="Constantia"/>
              </a:rPr>
              <a:t> complexes voltage because QRS wave from one ventricle can not neutralize the one from the other ventric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After PVCs, the </a:t>
            </a:r>
            <a:r>
              <a:rPr b="1" lang="en-US" sz="1800" spc="-1" strike="noStrike" u="sng">
                <a:solidFill>
                  <a:srgbClr val="0f6fc6"/>
                </a:solidFill>
                <a:uFillTx/>
                <a:latin typeface="Constantia"/>
              </a:rPr>
              <a:t>T wave has an electrical potential of opposite polarity </a:t>
            </a: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of that of the QRS because of the slow conduction in the myocardial fibers, the fibers that depolarizes first will repolarize fir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1" lang="en-US" sz="1800" spc="-1" strike="noStrike">
                <a:solidFill>
                  <a:srgbClr val="0bd0d9"/>
                </a:solidFill>
                <a:latin typeface="Constantia"/>
              </a:rPr>
              <a:t>drugs, caffeine, smoking, lack of sleep, emotional irrit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cf9b"/>
                </a:solidFill>
                <a:uFillTx/>
                <a:latin typeface="Calibri"/>
              </a:rPr>
              <a:t>Premature Ventricular Contractions (PVCs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http://www.studentconsult.com/common/showimage.cfm?mediaISBN=0721602401&amp;FigFile=S02401-013-f011.jpg&amp;size=fullsize"/>
          <p:cNvPicPr/>
          <p:nvPr/>
        </p:nvPicPr>
        <p:blipFill>
          <a:blip r:embed="rId1"/>
          <a:srcRect l="14021" t="0" r="14998" b="55043"/>
          <a:stretch/>
        </p:blipFill>
        <p:spPr>
          <a:xfrm>
            <a:off x="2023920" y="4149720"/>
            <a:ext cx="4780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most serious of all a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Cause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: impulses stimulate one part of the ventricles, then another, then itself. Many part contracts at the same time while other parts relax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(Circus move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4809960" y="2349360"/>
            <a:ext cx="422604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sudden electrical shock, ischem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egular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oad QR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4" descr="http://www.studentconsult.com/common/showimage.cfm?mediaISBN=0721602401&amp;FigFile=S02401-013-f016.jpg&amp;size=fullsize"/>
          <p:cNvPicPr/>
          <p:nvPr/>
        </p:nvPicPr>
        <p:blipFill>
          <a:blip r:embed="rId1"/>
          <a:srcRect l="14992" t="0" r="15721" b="14428"/>
          <a:stretch/>
        </p:blipFill>
        <p:spPr>
          <a:xfrm>
            <a:off x="1763640" y="3992400"/>
            <a:ext cx="504036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reatment : DC sh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http://www.studentconsult.com/common/showimage.cfm?mediaISBN=0721602401&amp;FigFile=S02401-013-f017.jpg&amp;size=fullsize"/>
          <p:cNvPicPr/>
          <p:nvPr/>
        </p:nvPicPr>
        <p:blipFill>
          <a:blip r:embed="rId1"/>
          <a:srcRect l="13552" t="0" r="0" b="7681"/>
          <a:stretch/>
        </p:blipFill>
        <p:spPr>
          <a:xfrm>
            <a:off x="2268360" y="2852640"/>
            <a:ext cx="413244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Lecture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3365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sinus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main pathophysiological causes of cardiac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mechanism of cardiac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origin of an ectopic fo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umerate the common arrhythmias and describe the basic ECG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13000"/>
            <a:ext cx="8229600" cy="3170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ame mechanism as ventricular fibrillation. It can occur only in atria without affecting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t occurs more frequently in patients with </a:t>
            </a:r>
            <a:r>
              <a:rPr b="0" i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nlarg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do not pump if they are fibrilla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fficiency of ventricular filling is decreased 20 to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No P wave, or high frequency of low voltage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reatment: DC sho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rcRect l="0" t="0" r="0" b="11846"/>
          <a:stretch/>
        </p:blipFill>
        <p:spPr>
          <a:xfrm>
            <a:off x="762120" y="4649760"/>
            <a:ext cx="7618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486080"/>
            <a:ext cx="8229600" cy="2590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ingle large wave travels around and around in the at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contracts at high rate (250 beats/m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Constantia"/>
              </a:rPr>
              <a:t>Because one area of the atria is contracted and another one is relaxed, the amount of blood pumped by the atria is s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The refractory period of the AV node causes 2-3 beats of atria for one single ventricular beat 2:1 or 2:3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lut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5173560" y="4365720"/>
            <a:ext cx="3935520" cy="2376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rcRect l="0" t="0" r="0" b="12785"/>
          <a:stretch/>
        </p:blipFill>
        <p:spPr>
          <a:xfrm>
            <a:off x="0" y="4702320"/>
            <a:ext cx="51735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Ischemia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5000"/>
            <a:ext cx="8229600" cy="3222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of the common uses of the ECG is in acute assessment of chest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Cause: restriction of blood flow to the myocardium, eith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versible: angina pecto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rreversible: myocardial infar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Ischemia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jury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Reversible ischemi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0150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nvert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T segment de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77" descr="D:\SCContent\0721602401\graphics\fullsize\S02401-012-f023.jpg"/>
          <p:cNvPicPr/>
          <p:nvPr/>
        </p:nvPicPr>
        <p:blipFill>
          <a:blip r:embed="rId1"/>
          <a:srcRect l="14987" t="0" r="14987" b="9555"/>
          <a:stretch/>
        </p:blipFill>
        <p:spPr>
          <a:xfrm>
            <a:off x="1835280" y="3500280"/>
            <a:ext cx="4465440" cy="213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loss of blood supply to the myocardium resulting in necrosis or death of tiss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 segment ele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ep Q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2" descr="http://www.benbest.com/health/elevation.jpg"/>
          <p:cNvPicPr/>
          <p:nvPr/>
        </p:nvPicPr>
        <p:blipFill>
          <a:blip r:embed="rId1"/>
          <a:stretch/>
        </p:blipFill>
        <p:spPr>
          <a:xfrm>
            <a:off x="3851280" y="3495600"/>
            <a:ext cx="4324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otassium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568240"/>
            <a:ext cx="4038480" cy="29480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ypokalemi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Hyperkalem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all peak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www.merckmanuals.com/media/professional/figures/MMPE_12END_156_02_eps.gif"/>
          <p:cNvPicPr/>
          <p:nvPr/>
        </p:nvPicPr>
        <p:blipFill>
          <a:blip r:embed="rId1"/>
          <a:stretch/>
        </p:blipFill>
        <p:spPr>
          <a:xfrm>
            <a:off x="4648320" y="2492280"/>
            <a:ext cx="4451400" cy="301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or further readings and diagra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5000"/>
            <a:ext cx="8229600" cy="18748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extbook of Medical Physiology by Guyton &amp; H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hapter 10 (Cardiac Arrhythmias and their Electrocardiographic Interpret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07640"/>
            <a:ext cx="8229600" cy="2241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gle p-wave precedes every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R interval is constant and within normal ran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P interval is cons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031840" y="5035680"/>
            <a:ext cx="5080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151000"/>
            <a:ext cx="8229600" cy="34876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normal rhythmicity of the pacem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Shift of the pacemaker from the sinus node to another place in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Blocks at different points during the spread of the impulse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Abnormal pathways of impulse transmission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pontaneous generation of spurious impulses in almost any part of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150640"/>
            <a:ext cx="8229600" cy="2141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bove or below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cf9b"/>
                </a:solidFill>
                <a:latin typeface="Constantia"/>
              </a:rPr>
              <a:t>Regular or irregular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Narrow or broad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Relation to P w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achycard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crease in the heart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Heart rate &gt; 10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creased body 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rugs: digit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http://www.studentconsult.com/common/showimage.cfm?mediaISBN=0721602401&amp;FigFile=S02401-013-f001.jpg&amp;size=fullsize"/>
          <p:cNvPicPr/>
          <p:nvPr/>
        </p:nvPicPr>
        <p:blipFill>
          <a:blip r:embed="rId1"/>
          <a:srcRect l="15060" t="0" r="15664" b="16004"/>
          <a:stretch/>
        </p:blipFill>
        <p:spPr>
          <a:xfrm>
            <a:off x="2050920" y="4941720"/>
            <a:ext cx="4510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3920"/>
            <a:ext cx="8229600" cy="2808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radycardia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Constantia"/>
              </a:rPr>
              <a:t>Slow heart rate &lt; 6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ara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Ex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www.studentconsult.com/common/showimage.cfm?mediaISBN=0721602401&amp;FigFile=S02401-013-f002.jpg&amp;size=fullsize"/>
          <p:cNvPicPr/>
          <p:nvPr/>
        </p:nvPicPr>
        <p:blipFill>
          <a:blip r:embed="rId1"/>
          <a:srcRect l="15060" t="0" r="15664" b="19012"/>
          <a:stretch/>
        </p:blipFill>
        <p:spPr>
          <a:xfrm>
            <a:off x="1158840" y="4508640"/>
            <a:ext cx="60055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2828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Sinoatrial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ckasde of the S-A node impulse before entering atrial musc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ssation of P wa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rcRect l="0" t="0" r="0" b="12579"/>
          <a:stretch/>
        </p:blipFill>
        <p:spPr>
          <a:xfrm>
            <a:off x="762120" y="4881600"/>
            <a:ext cx="7618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-V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mpulse from the S-A node is block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52:32Z</dcterms:created>
  <dc:creator>Mona Soliman</dc:creator>
  <dc:description/>
  <dc:language>en-US</dc:language>
  <cp:lastModifiedBy>Hanan albackr</cp:lastModifiedBy>
  <cp:lastPrinted>2013-03-05T15:13:40Z</cp:lastPrinted>
  <dcterms:modified xsi:type="dcterms:W3CDTF">2015-03-14T19:52:30Z</dcterms:modified>
  <cp:revision>84</cp:revision>
  <dc:subject/>
  <dc:title>Arrhythmias</dc:title>
</cp:coreProperties>
</file>