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3.png" ContentType="image/pn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3B42-05A8-4F0A-A75B-2636E470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5A02-8CAD-4716-8EB3-F9D5386A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8566-AB4F-4E2C-80D8-4BE2E5227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8B78-537F-48C0-8FE1-D62BAC31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ED33-126C-4735-8AAD-2FFA9E33B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4FB0-2C40-40CA-85D7-A3D3A9315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EDA8-C907-498D-BA7F-32EE99FE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AC8F-3001-4817-956F-3C7781AE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DC0D-67F1-4D4F-8CAB-3E354B59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D2CB-8380-428E-B393-6A89FFAC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B337-D215-4730-A00B-9C86DCB0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2FA0-7E10-4F8D-A1C3-5ABD2504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D5A8-43CE-45C4-934E-A6721566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7D90-2F1A-45FF-AC10-ABCC87DF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F525-D0F1-4DE9-A7B1-679B44A9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CB71-32DE-49EB-88BB-D2C6A657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8DFF-F240-4609-AB1A-A51B6EF25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5DC47-C529-4C3D-861C-3623C9DB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84BEB-52A1-42D3-985B-43194E44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2184D-9991-44E3-9067-4DC31B12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79EDB-1298-4086-831D-241BFFC0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BF7ED-6449-4CA0-9CA0-5BA9342D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27B7-074D-482A-BFD6-E7E21337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7DD53-8ACE-4F82-B88D-835C2480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EBAFA-4812-44C4-AFFB-14D2D198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9C784-C72A-498F-9616-4A790041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1DBA8-0356-46D9-BC17-710186B2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A8A47-22C1-4587-8635-E8083003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0D704-3309-4CB3-8A0C-3AFFC43D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D3694-2F07-4039-939B-016FC2A3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C8A73-8BCC-48D1-BC4B-EA83974CE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FAFB3-D91A-4C27-9E67-586E9B0A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83473-FA25-4269-A6B6-E86008EB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0786-24EA-4A02-800F-D9CB2A35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9C21A-AE68-4070-8FC3-B21217CD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3004B-7F73-447E-81DC-17200FDE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60E6A-C126-4903-82FF-B375EBCB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02E92-06E4-48E9-BD4F-898392E2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9386B-97B5-44C2-8F47-75309B29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15449-2C9D-436F-A826-E8965412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99792-A66F-4BB1-9753-488B301D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B87DC-BD13-4A4C-B0C5-1118D2AD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4F7EA-9CF2-4462-821B-2D54EEEC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18080-56DC-40F5-8781-B4336496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2639-1627-4CCA-8687-734E46DF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718C9-61A9-4B13-BC56-212C0C00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3F423-BCF8-4F67-B7AF-A95C1D0C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EF459-01BF-44DD-ADFD-7EC595F6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E08B1-4AF6-41B9-883C-2629F10A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6D70C-2DF2-4D0A-90F1-977318E6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A40C2-14BE-4CAB-9CBF-9112F78D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FD0A3-5789-4660-8075-1FB701CC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A50A7-B6E9-41F4-8ADF-6625EA8C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CA868-61A3-47FA-B452-A5DD9E69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7AE55-3E0A-4591-94EB-98BAC1CD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0443-8DFD-4639-9304-09C6FD3D7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FF829-B584-420A-8329-54EE52BC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457F8-3762-4188-BC8A-17113DB4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FF885-9D8A-41FF-92D1-566D4B15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64DF3-53AA-4B7F-B03D-195A9BB6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02930-4AA6-42A4-A6E2-AFBB7CC6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B081E-FA87-4F66-99A8-C5F84BF6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59C9B-8372-4E01-93A1-E4995C5A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F0DAC-5F00-4BDC-9BC3-F6F4796F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1BFD5-F604-4BA0-AD81-A729636B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D72DA-84D2-4F09-8D6D-D23442C6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9B05-0CF1-41C0-94DD-360AD6E0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301F8-28CE-4F49-B314-43393867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63ECD-49BB-4AC7-A2D6-9FB68B46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11AC2-E282-42FD-B8C2-D7524B58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AF2A4-6B40-4C2B-B9B9-D4B565B7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6787E-B9D1-4373-9698-4596CEAC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BFBC5-F03F-4C00-9860-AA1DA8E5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05697-19C2-4CFA-9C9C-4D00A0B8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DA9D1-C716-4199-9C6E-885EB66B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78411-CFCE-445E-A545-F79ED8C9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371D9-18A1-4F14-971D-BA617B66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08E-885B-4AAE-AC38-E33B2B53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E4ED7-DB36-41AF-AF02-BD79A4DE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2D0A7-C0B5-4C09-BA06-DEDE3B13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15822-7161-413D-B865-57EB7CAB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38F00-4A90-4567-A4ED-DC2E224D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80EC1-C867-4DAA-84E1-C5F3C27A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76B2B-DE59-4D9D-8694-D1D9AEDE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D0A6B-D572-40CE-A812-DC82A5E4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60485-5DFB-4B3B-BC91-7AC2D4DF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FC1A1-C362-4B61-95D0-57181CC0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86E9C-D99A-46EC-9CCA-2ED97D29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1346-60FA-4A5F-81C8-983C4AFA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6CC20-9769-4934-881E-E6414E72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208B6-EB4A-40D2-8CC5-966DDE79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44A22-C640-462C-BB96-FCDE65D5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DFD36-77B2-4DBC-BD9D-8A09356A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9FB69-994F-4409-BE54-0AA56C11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48633-11D2-465E-88BF-2B21B98B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B4E71-F5D7-45ED-878A-BDF7CCFE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FB3E-8BA0-475F-A50A-888F6FDD1A2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3D8C-226A-4EE6-832E-B2E761BD3FE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AB3F-43FE-4B86-894E-56CCD56E20E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448C-B3B9-42CB-846B-BBEC18B191A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E9F1-FCEA-4FA9-9E8A-B1CEAB3C7A1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A56E-089E-474A-BCFE-C3276BCDD25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0009-C8DD-4BD6-9FB6-734CAAB622C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C62D-E5AF-48F5-AD95-7590A6118DD4}" type="slidenum">
              <a:rPr b="0" lang="ar-SA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rterial Blood Pressure-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Dr. Eman El Et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572314"/>
                </a:solidFill>
                <a:latin typeface="Gill Sans MT"/>
              </a:rPr>
              <a:t>TPR and vessel diameter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5406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light changes in the diameter of a vessel cause tremendous changes in the vessel's ability to conduct blood when the blood flow is streamlined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though the diameters of these vessels increase only fourfold, the respective flows are 1, 16, and 256 ml/mm, which is a 256-fold increase in flow. Thus, the conductance of the vessel increases in proportion to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ourth power of the diameter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0" name="Picture 4" descr="S02401-014-f009"/>
          <p:cNvPicPr/>
          <p:nvPr/>
        </p:nvPicPr>
        <p:blipFill>
          <a:blip r:embed="rId1"/>
          <a:srcRect l="0" t="0" r="0" b="56137"/>
          <a:stretch/>
        </p:blipFill>
        <p:spPr>
          <a:xfrm>
            <a:off x="2987640" y="1700280"/>
            <a:ext cx="3338640" cy="93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actors affecting vessel diameter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Vasodilator agents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868320" indent="-282600">
              <a:lnSpc>
                <a:spcPct val="90000"/>
              </a:lnSpc>
              <a:spcBef>
                <a:spcPts val="326"/>
              </a:spcBef>
              <a:buClr>
                <a:srgbClr val="3891a7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itric oxid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8320" indent="-282600">
              <a:lnSpc>
                <a:spcPct val="90000"/>
              </a:lnSpc>
              <a:spcBef>
                <a:spcPts val="326"/>
              </a:spcBef>
              <a:buClr>
                <a:srgbClr val="3891a7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istamin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8320" indent="-282600">
              <a:lnSpc>
                <a:spcPct val="90000"/>
              </a:lnSpc>
              <a:spcBef>
                <a:spcPts val="326"/>
              </a:spcBef>
              <a:buClr>
                <a:srgbClr val="3891a7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trial natriuretic peptide (ANP)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8320" indent="-282600">
              <a:lnSpc>
                <a:spcPct val="90000"/>
              </a:lnSpc>
              <a:spcBef>
                <a:spcPts val="326"/>
              </a:spcBef>
              <a:buClr>
                <a:srgbClr val="3891a7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rostacycli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Vasoconstrictor agents: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868320" indent="-282600">
              <a:lnSpc>
                <a:spcPct val="90000"/>
              </a:lnSpc>
              <a:spcBef>
                <a:spcPts val="326"/>
              </a:spcBef>
              <a:buClr>
                <a:srgbClr val="3891a7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repinephrin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8320" indent="-282600">
              <a:lnSpc>
                <a:spcPct val="90000"/>
              </a:lnSpc>
              <a:spcBef>
                <a:spcPts val="326"/>
              </a:spcBef>
              <a:buClr>
                <a:srgbClr val="3891a7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ngiotensin II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8320" indent="-282600">
              <a:lnSpc>
                <a:spcPct val="90000"/>
              </a:lnSpc>
              <a:spcBef>
                <a:spcPts val="326"/>
              </a:spcBef>
              <a:buClr>
                <a:srgbClr val="3891a7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asopressi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8320" indent="-282600">
              <a:lnSpc>
                <a:spcPct val="90000"/>
              </a:lnSpc>
              <a:spcBef>
                <a:spcPts val="326"/>
              </a:spcBef>
              <a:buClr>
                <a:srgbClr val="3891a7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ndothelin-1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8320" indent="-282600">
              <a:lnSpc>
                <a:spcPct val="90000"/>
              </a:lnSpc>
              <a:spcBef>
                <a:spcPts val="326"/>
              </a:spcBef>
              <a:buClr>
                <a:srgbClr val="3891a7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romboxane 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Why is it important to control blood pressure?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2209680"/>
            <a:ext cx="82296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mportanc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lood pressure is a key factor for providing blood (thus oxygen and energy) to organs especially heart, kidney and brai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32d2e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Neural control ; medullary CVCs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06" name="Picture 7" descr="figure_14_29_l"/>
          <p:cNvPicPr/>
          <p:nvPr/>
        </p:nvPicPr>
        <p:blipFill>
          <a:blip r:embed="rId1"/>
          <a:stretch/>
        </p:blipFill>
        <p:spPr>
          <a:xfrm>
            <a:off x="4648320" y="2144880"/>
            <a:ext cx="4038480" cy="3198600"/>
          </a:xfrm>
          <a:prstGeom prst="rect">
            <a:avLst/>
          </a:prstGeom>
          <a:ln w="0">
            <a:noFill/>
          </a:ln>
        </p:spPr>
      </p:pic>
      <p:sp>
        <p:nvSpPr>
          <p:cNvPr id="407" name="TextBox 3"/>
          <p:cNvSpPr/>
          <p:nvPr/>
        </p:nvSpPr>
        <p:spPr>
          <a:xfrm>
            <a:off x="457200" y="1981080"/>
            <a:ext cx="320040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somotor center integrates all thes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somotor sends decision to the ANS cen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parasympathetic and sympathetic innervate the S/A nod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accelerate or slow down the hear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ympathetic NS innervates the myocardium and the smooth muscle of the arteries and vein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motes vasoconstr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Regulation of blood pressur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09" name="Picture 3" descr=""/>
          <p:cNvPicPr/>
          <p:nvPr/>
        </p:nvPicPr>
        <p:blipFill>
          <a:blip r:embed="rId1"/>
          <a:stretch/>
        </p:blipFill>
        <p:spPr>
          <a:xfrm>
            <a:off x="247680" y="1828800"/>
            <a:ext cx="8018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gulation of ABP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.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Short term regulation (nervous)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.  Baroreceptor reflex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.  Chemoreceptor reflex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.  CNS ischemic respons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.  Atrial reflexe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. 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Intermediate regula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3. Long-term regula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Gill Sans MT"/>
              </a:rPr>
              <a:t>1-Baroreceptor reflexes: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3" name="TextBox 3"/>
          <p:cNvSpPr/>
          <p:nvPr/>
        </p:nvSpPr>
        <p:spPr>
          <a:xfrm>
            <a:off x="457200" y="1828800"/>
            <a:ext cx="3505320" cy="37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560" indent="-411120">
              <a:lnSpc>
                <a:spcPct val="90000"/>
              </a:lnSpc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oreceptor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tch recep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ed in: Carotid sinus and aortic arch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sense the blood pressure in the aortic arch and internal carotid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d signal to the vasomotor center in the medulla oblongata along vagus and glossopharyngeal 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90000"/>
              </a:lnSpc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respond to a rapidly changing BP. In the range 60-180 mmH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2" descr=""/>
          <p:cNvPicPr/>
          <p:nvPr/>
        </p:nvPicPr>
        <p:blipFill>
          <a:blip r:embed="rId1"/>
          <a:stretch/>
        </p:blipFill>
        <p:spPr>
          <a:xfrm>
            <a:off x="4495680" y="1523880"/>
            <a:ext cx="3353040" cy="45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aroreceptor reflexes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flexes initiated by barorecepto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ABP    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etch of receptors         rate of firing   and  impulses travel along  vagus &amp; glossopharyngeal to the medullary CVCs: The responses will b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. (+) vagal center : decrease HR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. (-) vasoconstrictor center: V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ABP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    inhibitory impulse discharge from baroreceptors       vasomotor center is released from inhibition resulting i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.  (+) heart:  HR &amp; contractility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.  (+) sympathetic VC tone: VC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417" name="Straight Arrow Connector 8"/>
          <p:cNvCxnSpPr/>
          <p:nvPr/>
        </p:nvCxnSpPr>
        <p:spPr>
          <a:xfrm flipV="1">
            <a:off x="1827720" y="1904760"/>
            <a:ext cx="3960" cy="381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8" name="Straight Arrow Connector 16"/>
          <p:cNvCxnSpPr/>
          <p:nvPr/>
        </p:nvCxnSpPr>
        <p:spPr>
          <a:xfrm>
            <a:off x="2743200" y="2133720"/>
            <a:ext cx="53424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19" name="Straight Arrow Connector 18"/>
          <p:cNvCxnSpPr/>
          <p:nvPr/>
        </p:nvCxnSpPr>
        <p:spPr>
          <a:xfrm>
            <a:off x="5866920" y="2133720"/>
            <a:ext cx="38196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20" name="Straight Arrow Connector 20"/>
          <p:cNvCxnSpPr/>
          <p:nvPr/>
        </p:nvCxnSpPr>
        <p:spPr>
          <a:xfrm flipV="1">
            <a:off x="6399720" y="1904760"/>
            <a:ext cx="3960" cy="381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21" name="Straight Arrow Connector 22"/>
          <p:cNvCxnSpPr/>
          <p:nvPr/>
        </p:nvCxnSpPr>
        <p:spPr>
          <a:xfrm flipH="1">
            <a:off x="1904760" y="3886200"/>
            <a:ext cx="3600" cy="381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22" name="Straight Arrow Connector 24"/>
          <p:cNvCxnSpPr/>
          <p:nvPr/>
        </p:nvCxnSpPr>
        <p:spPr>
          <a:xfrm>
            <a:off x="2666880" y="4191120"/>
            <a:ext cx="45792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23" name="Straight Arrow Connector 28"/>
          <p:cNvCxnSpPr/>
          <p:nvPr/>
        </p:nvCxnSpPr>
        <p:spPr>
          <a:xfrm flipH="1">
            <a:off x="3276360" y="3962520"/>
            <a:ext cx="3600" cy="30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24" name="Straight Arrow Connector 14"/>
          <p:cNvCxnSpPr/>
          <p:nvPr/>
        </p:nvCxnSpPr>
        <p:spPr>
          <a:xfrm>
            <a:off x="3809520" y="4571640"/>
            <a:ext cx="381960" cy="10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gulation of Blood Pressur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1833480" y="6361200"/>
            <a:ext cx="542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Figure 15-22: The baroreceptor reflex: the response to increased blood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rcRect l="0" t="593" r="0" b="3489"/>
          <a:stretch/>
        </p:blipFill>
        <p:spPr>
          <a:xfrm>
            <a:off x="797040" y="1219320"/>
            <a:ext cx="7508880" cy="51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Baroreceptors, continued: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aroreceptors are important in maintaining ABP constant during changes in body posture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en you change your posture from supine to erect, a drop in ABP in the head and upper part of the body will occu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s barorecptor reflex becomes activated, strong sympathetic impulses lead to VC and minimize the decrease in BP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bjectiv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By the end of this lecture the students are expected to: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525600" indent="-39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Understand the concept of mean blood pressure, systolic, diastolic, and pulse pressure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525600" indent="-39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Calculate mean BP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525600" indent="-39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Understand normal variations in ABP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525600" indent="-39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Understand the relationship between CO, BP and total peripheral resistance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525600" indent="-39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Describe and understand factors determining blood pressure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525600" indent="-39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Regulation of arterial blood pressure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Baroreceptors, continued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 Sans MT"/>
              </a:rPr>
              <a:t>Resetting of baroreceptor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property makes baroreceptors not suitable for long term regulation of ABP, as they are rapidly reset to the new pressur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daptation of a receptor means decrease in impulse discharge from the receptor despite persistence of the stimulu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ill Sans MT"/>
              </a:rPr>
              <a:t>What is the effect of denervation of baroreceptors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emoreceptors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1905120" y="1100160"/>
            <a:ext cx="48765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en-US" sz="4300" spc="-1" strike="noStrike">
                <a:solidFill>
                  <a:srgbClr val="c00000"/>
                </a:solidFill>
                <a:latin typeface="Gill Sans MT"/>
              </a:rPr>
              <a:t>2-Chemoreceptor reflex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mosensitive cells, stimulated in response to: O2 lack, CO2 excess, H+ exces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y have a very high blood flow (1200 ml/min/g tissue). This makes it easy for these cells to detect changes in O2, CO2, and H+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come activated when ABP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Gill Sans MT"/>
              </a:rPr>
              <a:t>becomes less than 60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mHg. So, they are not involved in ABP control at normal range. When blood flow to chemoreceptors decreases it leads to   O2,  CO2,  H+     (+) chemo.   Signals (+) CVS       V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438" name="Straight Arrow Connector 18"/>
          <p:cNvCxnSpPr/>
          <p:nvPr/>
        </p:nvCxnSpPr>
        <p:spPr>
          <a:xfrm flipH="1">
            <a:off x="4571280" y="4571640"/>
            <a:ext cx="3960" cy="30564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39" name="Straight Arrow Connector 20"/>
          <p:cNvCxnSpPr/>
          <p:nvPr/>
        </p:nvCxnSpPr>
        <p:spPr>
          <a:xfrm flipV="1">
            <a:off x="5180400" y="4571640"/>
            <a:ext cx="3960" cy="3816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0" name="Straight Arrow Connector 24"/>
          <p:cNvCxnSpPr/>
          <p:nvPr/>
        </p:nvCxnSpPr>
        <p:spPr>
          <a:xfrm>
            <a:off x="6552720" y="4800600"/>
            <a:ext cx="30564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1" name="Straight Arrow Connector 26"/>
          <p:cNvCxnSpPr/>
          <p:nvPr/>
        </p:nvCxnSpPr>
        <p:spPr>
          <a:xfrm>
            <a:off x="3886200" y="5181120"/>
            <a:ext cx="381600" cy="25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2" name="Straight Arrow Connector 28"/>
          <p:cNvCxnSpPr/>
          <p:nvPr/>
        </p:nvCxnSpPr>
        <p:spPr>
          <a:xfrm flipV="1">
            <a:off x="6019920" y="4571640"/>
            <a:ext cx="3600" cy="4579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Chemoreceptor reflex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5" name="Picture 5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7690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00000"/>
                </a:solidFill>
                <a:latin typeface="Gill Sans MT"/>
              </a:rPr>
              <a:t>3-CNS ischemic response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It operates as an emergency arterial pressure control system that acts rapidly and powerfully to prevent further decrease in ABP whenever blood flow to the brain decreases to lethal level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531000" indent="-39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It is one of the most powerful activators of the sympathetic vasoconstrictor system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531000" indent="-39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When BP &lt; 20 mmHg        cerebral ischemia of vasomotor center         strong excitation of vasomotor center (due to accumulation of CO2, lactic acid,….)      strong VC of blood vessels including the kidney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448" name="Straight Arrow Connector 4"/>
          <p:cNvCxnSpPr/>
          <p:nvPr/>
        </p:nvCxnSpPr>
        <p:spPr>
          <a:xfrm>
            <a:off x="5257800" y="4114800"/>
            <a:ext cx="53424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49" name="Straight Arrow Connector 6"/>
          <p:cNvCxnSpPr/>
          <p:nvPr/>
        </p:nvCxnSpPr>
        <p:spPr>
          <a:xfrm>
            <a:off x="4647960" y="4419720"/>
            <a:ext cx="610200" cy="21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50" name="Straight Arrow Connector 7"/>
          <p:cNvCxnSpPr/>
          <p:nvPr/>
        </p:nvCxnSpPr>
        <p:spPr>
          <a:xfrm>
            <a:off x="4114800" y="5181120"/>
            <a:ext cx="381600" cy="10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00000"/>
                </a:solidFill>
                <a:latin typeface="Gill Sans MT"/>
              </a:rPr>
              <a:t>4- Atrial Reflex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ptors: Low pressure receptors especially in the R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9840" indent="-39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pond to changes in blood volum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9840" indent="-3902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happen if blood volume is increased? e.g infusing 500 ml into a pers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9840" indent="-39024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lood volume      stretch of the atria leading t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9840" indent="-39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 (+) ANP release   VD of renal vessels, diuresis, natriuresi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9840" indent="-39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 Hypothalamu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9840" indent="-39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. (-) ADH      water diuresi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9840" indent="-39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. (-) sympathetic discharge      VD of renal vess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9840" indent="-39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 stretch SAN and increase H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cxnSp>
        <p:nvCxnSpPr>
          <p:cNvPr id="453" name="Straight Arrow Connector 4"/>
          <p:cNvCxnSpPr/>
          <p:nvPr/>
        </p:nvCxnSpPr>
        <p:spPr>
          <a:xfrm flipV="1">
            <a:off x="1141920" y="3351960"/>
            <a:ext cx="3960" cy="38196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54" name="Straight Arrow Connector 6"/>
          <p:cNvCxnSpPr/>
          <p:nvPr/>
        </p:nvCxnSpPr>
        <p:spPr>
          <a:xfrm>
            <a:off x="3048120" y="3580920"/>
            <a:ext cx="457920" cy="25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55" name="Straight Arrow Connector 9"/>
          <p:cNvCxnSpPr/>
          <p:nvPr/>
        </p:nvCxnSpPr>
        <p:spPr>
          <a:xfrm>
            <a:off x="2819520" y="4876560"/>
            <a:ext cx="381600" cy="10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56" name="Straight Arrow Connector 11"/>
          <p:cNvCxnSpPr/>
          <p:nvPr/>
        </p:nvCxnSpPr>
        <p:spPr>
          <a:xfrm>
            <a:off x="4876920" y="5333760"/>
            <a:ext cx="381600" cy="10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Control of blood volume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8" name="TextBox 3"/>
          <p:cNvSpPr/>
          <p:nvPr/>
        </p:nvSpPr>
        <p:spPr>
          <a:xfrm>
            <a:off x="1676520" y="1752480"/>
            <a:ext cx="3276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diuretic hormone = AD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reted by the posterior pituitary in response 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↑blood osmolarity (often due to dehydr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c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e water reabsorption by the kidney tubul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H2O moves back into the bloo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ess urine 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6" descr="figure14h"/>
          <p:cNvPicPr/>
          <p:nvPr/>
        </p:nvPicPr>
        <p:blipFill>
          <a:blip r:embed="rId1"/>
          <a:stretch/>
        </p:blipFill>
        <p:spPr>
          <a:xfrm>
            <a:off x="5791320" y="1523880"/>
            <a:ext cx="2311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trial reflexes, continued,…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happens if there is sudden loss of blood volume by 800 ml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ong Term Regul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ole of the kidney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kidney excretes excess salt and water (natriuresis and diuresis)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Gill Sans MT"/>
              </a:rPr>
              <a:t>Juxtaglomerular Apparatu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637f26"/>
                </a:solidFill>
                <a:latin typeface="Gill Sans MT"/>
              </a:rPr>
              <a:t>Physiological variation in arterial blood pressure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TextBox 3"/>
          <p:cNvSpPr/>
          <p:nvPr/>
        </p:nvSpPr>
        <p:spPr>
          <a:xfrm>
            <a:off x="1143000" y="1752480"/>
            <a:ext cx="320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P range:  90-140/60-90 mmH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birth: 50/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 : 120/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 age 170/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S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males have higher BP than F before meanopa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Body buil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crease in obe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Emotions (   B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Exercise. (   B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Meals. (  B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Sleep  (  B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4800600" y="1905120"/>
            <a:ext cx="3657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Grav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essure in any vessel below heart level is increased while decreases in a vessel above heart level due to effect of Gravity. Gravitational effect = 0.77 mmHg/cm at the density of normal bl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ult human in upright position, if mean BP at heart level = 100 mmHg, the mean pressure in an artery at the head (50 cm above heart) = 100-[0.77X 50] = 62 mmH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Straight Arrow Connector 9"/>
          <p:cNvCxnSpPr/>
          <p:nvPr/>
        </p:nvCxnSpPr>
        <p:spPr>
          <a:xfrm flipV="1">
            <a:off x="2666520" y="4647960"/>
            <a:ext cx="1080" cy="3052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4" name="Straight Arrow Connector 11"/>
          <p:cNvCxnSpPr/>
          <p:nvPr/>
        </p:nvCxnSpPr>
        <p:spPr>
          <a:xfrm flipV="1">
            <a:off x="2666520" y="5104800"/>
            <a:ext cx="1080" cy="1530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5" name="Straight Arrow Connector 13"/>
          <p:cNvCxnSpPr/>
          <p:nvPr/>
        </p:nvCxnSpPr>
        <p:spPr>
          <a:xfrm flipV="1">
            <a:off x="2361960" y="5409360"/>
            <a:ext cx="1080" cy="2293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76" name="Straight Arrow Connector 17"/>
          <p:cNvCxnSpPr/>
          <p:nvPr/>
        </p:nvCxnSpPr>
        <p:spPr>
          <a:xfrm>
            <a:off x="2361960" y="5714640"/>
            <a:ext cx="1080" cy="15300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cc"/>
                </a:solidFill>
                <a:latin typeface="Gill Sans MT"/>
              </a:rPr>
              <a:t>Juxtaglomerular Apparatu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65" name="Picture 3" descr="0809L"/>
          <p:cNvPicPr/>
          <p:nvPr/>
        </p:nvPicPr>
        <p:blipFill>
          <a:blip r:embed="rId1"/>
          <a:srcRect l="0" t="12526" r="0" b="0"/>
          <a:stretch/>
        </p:blipFill>
        <p:spPr>
          <a:xfrm>
            <a:off x="457200" y="990720"/>
            <a:ext cx="8129520" cy="5333760"/>
          </a:xfrm>
          <a:prstGeom prst="rect">
            <a:avLst/>
          </a:prstGeom>
          <a:ln w="0">
            <a:noFill/>
          </a:ln>
        </p:spPr>
      </p:pic>
      <p:grpSp>
        <p:nvGrpSpPr>
          <p:cNvPr id="466" name="Group 4"/>
          <p:cNvGrpSpPr/>
          <p:nvPr/>
        </p:nvGrpSpPr>
        <p:grpSpPr>
          <a:xfrm>
            <a:off x="6823440" y="4129200"/>
            <a:ext cx="1976400" cy="2501640"/>
            <a:chOff x="6823440" y="4129200"/>
            <a:chExt cx="1976400" cy="2501640"/>
          </a:xfrm>
        </p:grpSpPr>
        <p:sp>
          <p:nvSpPr>
            <p:cNvPr id="467" name="Text Box 5"/>
            <p:cNvSpPr/>
            <p:nvPr/>
          </p:nvSpPr>
          <p:spPr>
            <a:xfrm>
              <a:off x="6823440" y="4129200"/>
              <a:ext cx="149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vasomo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6"/>
            <p:cNvSpPr/>
            <p:nvPr/>
          </p:nvSpPr>
          <p:spPr>
            <a:xfrm>
              <a:off x="6924240" y="6110280"/>
              <a:ext cx="187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- 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monitor salin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cc"/>
                </a:solidFill>
                <a:latin typeface="Gill Sans MT"/>
              </a:rPr>
              <a:t>Role of the kidney in ABP regulati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470" name="Group 5"/>
          <p:cNvGrpSpPr/>
          <p:nvPr/>
        </p:nvGrpSpPr>
        <p:grpSpPr>
          <a:xfrm>
            <a:off x="506520" y="1371600"/>
            <a:ext cx="8129520" cy="5410080"/>
            <a:chOff x="506520" y="1371600"/>
            <a:chExt cx="8129520" cy="5410080"/>
          </a:xfrm>
        </p:grpSpPr>
        <p:pic>
          <p:nvPicPr>
            <p:cNvPr id="471" name="Picture 3" descr="H:\$$SaladinPowerPoints\Images\Ch-23labeled\0811L.JPG"/>
            <p:cNvPicPr/>
            <p:nvPr/>
          </p:nvPicPr>
          <p:blipFill>
            <a:blip r:embed="rId1"/>
            <a:srcRect l="0" t="11274" r="0" b="0"/>
            <a:stretch/>
          </p:blipFill>
          <p:spPr>
            <a:xfrm>
              <a:off x="506520" y="1371600"/>
              <a:ext cx="812952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 Box 4"/>
            <p:cNvSpPr/>
            <p:nvPr/>
          </p:nvSpPr>
          <p:spPr>
            <a:xfrm>
              <a:off x="4355640" y="5881680"/>
              <a:ext cx="198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-efferent arterio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cc"/>
                </a:solidFill>
                <a:latin typeface="Gill Sans MT"/>
              </a:rPr>
              <a:t>Effects of Angiotensin II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474" name="Picture 3" descr="H:\$$SaladinPowerPoints\Images\Ch-23labeled\0812L.JPG"/>
          <p:cNvPicPr/>
          <p:nvPr/>
        </p:nvPicPr>
        <p:blipFill>
          <a:blip r:embed="rId1"/>
          <a:srcRect l="25308" t="13772" r="0" b="0"/>
          <a:stretch/>
        </p:blipFill>
        <p:spPr>
          <a:xfrm>
            <a:off x="1828800" y="1295280"/>
            <a:ext cx="6072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figure_14_08_l"/>
          <p:cNvPicPr/>
          <p:nvPr/>
        </p:nvPicPr>
        <p:blipFill>
          <a:blip r:embed="rId1"/>
          <a:stretch/>
        </p:blipFill>
        <p:spPr>
          <a:xfrm>
            <a:off x="2133720" y="1219320"/>
            <a:ext cx="5967360" cy="54086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Arterial blood pressure measurement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04560" y="1066320"/>
            <a:ext cx="88390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Korotkoff Sound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Blood pressure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8" name="Picture 6" descr="figure_14_09_l"/>
          <p:cNvPicPr/>
          <p:nvPr/>
        </p:nvPicPr>
        <p:blipFill>
          <a:blip r:embed="rId1"/>
          <a:stretch/>
        </p:blipFill>
        <p:spPr>
          <a:xfrm>
            <a:off x="4419720" y="1905120"/>
            <a:ext cx="4495680" cy="3105000"/>
          </a:xfrm>
          <a:prstGeom prst="rect">
            <a:avLst/>
          </a:prstGeom>
          <a:ln w="0">
            <a:noFill/>
          </a:ln>
        </p:spPr>
      </p:pic>
      <p:sp>
        <p:nvSpPr>
          <p:cNvPr id="379" name="TextBox 3"/>
          <p:cNvSpPr/>
          <p:nvPr/>
        </p:nvSpPr>
        <p:spPr>
          <a:xfrm>
            <a:off x="990720" y="1828800"/>
            <a:ext cx="297180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90000"/>
              </a:lnSpc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se pressu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 = SP-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arterial blood pressure (MAB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BP = Diastolic + PP/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 =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P = CO X T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Determinants of arterial blood pressure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TextBox 3"/>
          <p:cNvSpPr/>
          <p:nvPr/>
        </p:nvSpPr>
        <p:spPr>
          <a:xfrm>
            <a:off x="609480" y="1676520"/>
            <a:ext cx="327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1-Cardiac outp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P = CO X T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4"/>
          <p:cNvSpPr/>
          <p:nvPr/>
        </p:nvSpPr>
        <p:spPr>
          <a:xfrm>
            <a:off x="4495680" y="1752480"/>
            <a:ext cx="3733920" cy="39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90000"/>
              </a:lnSpc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= HR X S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buClr>
                <a:srgbClr val="c32d2e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P= HRxSVxTP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t rate, stroke volume and peripheral resistance affect MA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2314"/>
                </a:solidFill>
                <a:latin typeface="Gill Sans MT"/>
              </a:rPr>
              <a:t>Determinants of ABP, continued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,..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533520" y="2413080"/>
            <a:ext cx="32763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2- Elasticity of blood vess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in great vessels elasticity affects BP. Atherosclerosis makes blood vessel like a tube, so during systole as blood is ejected into the arteries, they don’t distend and pressure increases  significan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4"/>
          <p:cNvSpPr/>
          <p:nvPr/>
        </p:nvSpPr>
        <p:spPr>
          <a:xfrm>
            <a:off x="4724280" y="2362320"/>
            <a:ext cx="33530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3- Blood volu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crease  in blood volume         CO                          increase AB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crease in blood volume as in Hege, dehydration-      decrease  VR-     decrease CO  decrease V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Straight Arrow Connector 6"/>
          <p:cNvCxnSpPr/>
          <p:nvPr/>
        </p:nvCxnSpPr>
        <p:spPr>
          <a:xfrm>
            <a:off x="6171840" y="3276360"/>
            <a:ext cx="305640" cy="10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87" name="Straight Arrow Connector 8"/>
          <p:cNvCxnSpPr/>
          <p:nvPr/>
        </p:nvCxnSpPr>
        <p:spPr>
          <a:xfrm flipV="1">
            <a:off x="6629040" y="3123360"/>
            <a:ext cx="1080" cy="22932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88" name="Straight Arrow Connector 10"/>
          <p:cNvCxnSpPr/>
          <p:nvPr/>
        </p:nvCxnSpPr>
        <p:spPr>
          <a:xfrm>
            <a:off x="6629040" y="4647960"/>
            <a:ext cx="305640" cy="10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89" name="Straight Arrow Connector 12"/>
          <p:cNvCxnSpPr/>
          <p:nvPr/>
        </p:nvCxnSpPr>
        <p:spPr>
          <a:xfrm>
            <a:off x="5714640" y="4876560"/>
            <a:ext cx="305640" cy="10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390" name="Straight Arrow Connector 14"/>
          <p:cNvCxnSpPr/>
          <p:nvPr/>
        </p:nvCxnSpPr>
        <p:spPr>
          <a:xfrm>
            <a:off x="7467120" y="4876560"/>
            <a:ext cx="381960" cy="1080"/>
          </a:xfrm>
          <a:prstGeom prst="straightConnector1">
            <a:avLst/>
          </a:prstGeom>
          <a:ln w="9360">
            <a:solidFill>
              <a:srgbClr val="3891a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6560" y="436680"/>
            <a:ext cx="87627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Atherosclerosis: decreases elasticity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2228760" y="6361200"/>
            <a:ext cx="463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5-24: The development of atherosclerotic pla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"/>
          <p:cNvPicPr/>
          <p:nvPr/>
        </p:nvPicPr>
        <p:blipFill>
          <a:blip r:embed="rId1"/>
          <a:srcRect l="776" t="9698" r="596" b="13187"/>
          <a:stretch/>
        </p:blipFill>
        <p:spPr>
          <a:xfrm>
            <a:off x="914400" y="1859040"/>
            <a:ext cx="678168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72314"/>
                </a:solidFill>
                <a:latin typeface="Gill Sans MT"/>
              </a:rPr>
              <a:t>Determinants of ABP, continued,..</a:t>
            </a:r>
            <a:br>
              <a:rPr sz="2500"/>
            </a:br>
            <a:br>
              <a:rPr sz="2500"/>
            </a:b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4-Total peripheral resistance: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98072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PB is directly proportional to TP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PR is determined by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. diameter of blood vessel (r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 Blood viscosity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. Red ce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lycythemia increases viscosity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. Plasma protei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ypoprotenimia decreases viscosity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tal peripheral resistance: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BP is directly proportional to TP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ange in blood vessels’ diameter by increase or decrease will affect blood pressur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PR Is inversely proportional to blood vessel diameter (r) 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 </a:t>
            </a:r>
            <a:r>
              <a:rPr b="0" lang="el-GR" sz="3200" spc="-1" strike="noStrike">
                <a:solidFill>
                  <a:srgbClr val="000000"/>
                </a:solidFill>
                <a:latin typeface="Corbe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1/r4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47560" indent="-41112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r is doubled, TPR is reduced by 16, and so on……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21:09:33Z</dcterms:created>
  <dc:creator>hp</dc:creator>
  <dc:description/>
  <dc:language>en-US</dc:language>
  <cp:lastModifiedBy>user</cp:lastModifiedBy>
  <dcterms:modified xsi:type="dcterms:W3CDTF">2014-03-16T19:21:45Z</dcterms:modified>
  <cp:revision>67</cp:revision>
  <dc:subject/>
  <dc:title>Arterial Blood Pressure</dc:title>
</cp:coreProperties>
</file>