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3.png" ContentType="image/pn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7D53-13BF-48B9-82E8-ADEC8869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52B-BABD-4D65-B38C-59AE8446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1CE8-C460-4169-B62A-0784C7BE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EF9F-0AD2-40AA-AA6D-3C5BEBDE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3FB5-DFE1-4B65-BF59-B04DEE06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4421-00AF-4FE9-81E1-93F8B550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2D63-A918-4C61-8C30-D3D66285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9D6E-F483-4E96-833C-EC878DAD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88FC-2BDC-4282-98C2-8B1A5454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A57D-A6E7-41A0-8B35-95E03903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E6E9-1E32-430D-9565-6CE53132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8D74-B96A-4633-BADE-EDE92672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97D7-4F51-4BA9-BC67-65BC7146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B5AF-8011-418D-BE60-FB7C7CD6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8D12-2DB2-42E8-ADC8-D4338822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5768-2686-4F3B-8940-83498834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84CA-D20A-42B2-9FD2-AE8729CC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7488A-9D36-4C7E-949C-449290E1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97E90-DE36-43B4-86F0-A59A2C73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3873B-A1BB-4351-BF35-21059969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3D792-9D6D-4EB0-B585-6F4E4DB4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19DC5-00FF-4468-AC5E-10671AAA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86B4-17E5-4C96-AA23-15747D6D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B8996-9AEF-4971-AF31-45E8944E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6FFD5-795A-4E87-B439-F42985F7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E78ED-FB62-4D43-BA36-317D855D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CAFCA-7692-4EF0-8A6A-37204F59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E2B19-9807-48B6-BD88-B852C421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6C0F3-AD41-44FF-920E-CF3066B4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F54AE-0E5D-4FB2-8C01-C3223412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167FA-DCED-44C3-9D41-1F310A85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F283C-FE8F-4DBF-BAFE-CE902ABE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7010D-FD25-412D-8DCA-7525CC6C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65B8-5775-4E68-9612-32A78EB2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9587D-DAE4-4799-A494-6BDDA131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FDB65-DFD1-4284-B83E-60335417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53497-DF30-46C0-A484-8923A490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D196C-58AD-4F12-B722-DCB6C36E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1A47D-C623-46DF-817D-EC761F6E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D32A5-942D-40AA-981A-ADDE5EB5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CAC3F-8350-4406-AEE9-05808166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0C11A-AAC1-409E-8617-459745B2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7F059-FFB9-4168-A494-FB7687F2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8D671-CEA7-475A-94F3-226470FD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BC07-151B-4D6C-A9F2-7436A84E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7CC8F-9857-4199-805C-DB8D6932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6878A-3B9A-411E-A34A-B927D517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90413-2F92-443A-AE3F-0970AF94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7A564-7F5A-4AFA-83B9-BFC26895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1157A-10F4-479B-9D79-EF87FF41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86CF6-8E3F-4379-97A9-3B29A7BE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9668B-001F-4ED2-9CF9-C3FC250C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8CA9C-681B-4DF6-9E29-DA2AAAB4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6BEBE-058E-4C3F-B7D1-19B13C1E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7EEB2-70B1-4B8F-9791-F9D7470A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DA9-5CA1-46F6-8426-D8FE8056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3B690-CFEC-4249-BCEA-16CBA505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40959-30E1-465A-81C6-F2E68222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EEB39-232D-4CE1-84AB-7D37CA1A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8E865-5016-4A39-B238-BF0FD0CC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970A6-6CD4-488D-9DFE-8C554811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6D1CF-B96A-47DA-9B35-CEA6A58B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0FA68-FC38-4BD7-80FB-20CCC91F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C77DA-D6E3-4951-B98E-CF401121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F7761-60B4-4B8A-B581-A3B13315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3AB30-3588-4F0E-8D43-ADC8E212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408-861B-498D-8BD3-7D4C84FE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81F71-D9FE-4C1F-91C4-D28B38F4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7E9BD-3699-43B2-8CEA-2DB59E38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CB497-3B0B-45FA-86B6-759BC6C6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E7BC3-064D-4523-BC18-4181174C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1ADD5-B21C-4815-A9C2-84A27750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14005-58BF-4267-AAC1-B948C7C3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E3088-1DFD-482A-A516-9B3CF7C2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65AFE-9DE5-436F-9C2E-23D6EE0C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9BF0E-ACA7-4513-8FDE-D62B0721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0F658-86D9-4F9A-94FA-6B847E2B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6A76-9750-499E-9848-3B224F87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15715-88F3-4FC6-B12F-0EBA1E0D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89F0B-39B3-494C-80F6-12F0A6B7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C2EB8-1ADF-4B07-9B6C-725B3494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56DC1-42BE-44AA-AE32-FFF0C521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B0ECA-01E4-451A-B5DC-087858D3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112CF-79A3-4CD4-8CE2-AE37F375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50A60-A847-4F49-8162-F80E68DF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68091-4060-4509-A5F6-01611300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1C9A3-192A-4928-8471-72B5C4F1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7B4DC-1A4E-46D1-88BC-A7B1014D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433-8C1E-42DF-B559-69245228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00DD1-AD22-49A5-9C08-A18F97F9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87C2D-9C74-4F29-8416-431DC1FB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48C9B-4E58-4169-9D32-296A6226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78E1C-0B1A-4297-861D-41979F2C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C7405-AF78-443A-A92F-B0051B2E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F98CA-DA7C-4189-A66C-89345896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9E28D-9435-41B5-BDA9-F1C15C64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3967-17CF-468C-99FA-012ECAA5095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310D-9714-4442-B110-884BD7FCC65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1F74-14A0-419B-A448-B9C64EEB439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1842-E480-4454-BD71-7AD3D4C15CB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AFB1-FE5F-42D5-9043-623BBACB19B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8BBD-46CF-474D-BB6A-E1AA31F6AA6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4090-399D-45DC-9543-2193705B107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133F-37AA-4CE9-B5FA-E0F48124417B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rterial Blood Pressure-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Dr. Eman El Et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72314"/>
                </a:solidFill>
                <a:latin typeface="Gill Sans MT"/>
              </a:rPr>
              <a:t>TPR and vessel diameter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5406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light changes in the diameter of a vessel cause tremendous changes in the vessel's ability to conduct blood when the blood flow is streamlined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though the diameters of these vessels increase only fourfold, the respective flows are 1, 16, and 256 ml/mm, which is a 256-fold increase in flow. Thus, the conductance of the vessel increases in proportion to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ourth power of the diamet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0" name="Picture 4" descr="S02401-014-f009"/>
          <p:cNvPicPr/>
          <p:nvPr/>
        </p:nvPicPr>
        <p:blipFill>
          <a:blip r:embed="rId1"/>
          <a:srcRect l="0" t="0" r="0" b="56137"/>
          <a:stretch/>
        </p:blipFill>
        <p:spPr>
          <a:xfrm>
            <a:off x="2987640" y="1700280"/>
            <a:ext cx="3338640" cy="9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actors affecting vessel diameter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Vasodilator agents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282600">
              <a:lnSpc>
                <a:spcPct val="90000"/>
              </a:lnSpc>
              <a:spcBef>
                <a:spcPts val="326"/>
              </a:spcBef>
              <a:buClr>
                <a:srgbClr val="3891a7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itric oxid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282600">
              <a:lnSpc>
                <a:spcPct val="90000"/>
              </a:lnSpc>
              <a:spcBef>
                <a:spcPts val="326"/>
              </a:spcBef>
              <a:buClr>
                <a:srgbClr val="3891a7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istamin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282600">
              <a:lnSpc>
                <a:spcPct val="90000"/>
              </a:lnSpc>
              <a:spcBef>
                <a:spcPts val="326"/>
              </a:spcBef>
              <a:buClr>
                <a:srgbClr val="3891a7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trial natriuretic peptide (ANP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282600">
              <a:lnSpc>
                <a:spcPct val="90000"/>
              </a:lnSpc>
              <a:spcBef>
                <a:spcPts val="326"/>
              </a:spcBef>
              <a:buClr>
                <a:srgbClr val="3891a7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stacycli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Vasoconstrictor agents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282600">
              <a:lnSpc>
                <a:spcPct val="90000"/>
              </a:lnSpc>
              <a:spcBef>
                <a:spcPts val="326"/>
              </a:spcBef>
              <a:buClr>
                <a:srgbClr val="3891a7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repinephrin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282600">
              <a:lnSpc>
                <a:spcPct val="90000"/>
              </a:lnSpc>
              <a:spcBef>
                <a:spcPts val="326"/>
              </a:spcBef>
              <a:buClr>
                <a:srgbClr val="3891a7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giotensin II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282600">
              <a:lnSpc>
                <a:spcPct val="90000"/>
              </a:lnSpc>
              <a:spcBef>
                <a:spcPts val="326"/>
              </a:spcBef>
              <a:buClr>
                <a:srgbClr val="3891a7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asopressi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282600">
              <a:lnSpc>
                <a:spcPct val="90000"/>
              </a:lnSpc>
              <a:spcBef>
                <a:spcPts val="326"/>
              </a:spcBef>
              <a:buClr>
                <a:srgbClr val="3891a7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ndothelin-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282600">
              <a:lnSpc>
                <a:spcPct val="90000"/>
              </a:lnSpc>
              <a:spcBef>
                <a:spcPts val="326"/>
              </a:spcBef>
              <a:buClr>
                <a:srgbClr val="3891a7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romboxane 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Why is it important to control blood pressure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2209680"/>
            <a:ext cx="82296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portanc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lood pressure is a key factor for providing blood (thus oxygen and energy) to organs especially heart, kidney and brai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Neural control ; medullary CVC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06" name="Picture 7" descr="figure_14_29_l"/>
          <p:cNvPicPr/>
          <p:nvPr/>
        </p:nvPicPr>
        <p:blipFill>
          <a:blip r:embed="rId1"/>
          <a:stretch/>
        </p:blipFill>
        <p:spPr>
          <a:xfrm>
            <a:off x="4648320" y="2144880"/>
            <a:ext cx="4038480" cy="3198600"/>
          </a:xfrm>
          <a:prstGeom prst="rect">
            <a:avLst/>
          </a:prstGeom>
          <a:ln w="0">
            <a:noFill/>
          </a:ln>
        </p:spPr>
      </p:pic>
      <p:sp>
        <p:nvSpPr>
          <p:cNvPr id="407" name="TextBox 3"/>
          <p:cNvSpPr/>
          <p:nvPr/>
        </p:nvSpPr>
        <p:spPr>
          <a:xfrm>
            <a:off x="457200" y="1981080"/>
            <a:ext cx="320040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somotor center integrates all thes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somotor sends decision to the ANS cen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parasympathetic and sympathetic innervate the S/A nod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accelerate or slow down the hear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mpathetic NS innervates the myocardium and the smooth muscle of the arteries and vein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motes vasoconst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Regulation of blood pressur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247680" y="1828800"/>
            <a:ext cx="8018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gulation of AB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.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Short term regulation (nervous)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.  Baroreceptor reflex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.  Chemoreceptor reflex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.  CNS ischemic respons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.  Atrial reflex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ntermediate regul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3. Long-term regul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Gill Sans MT"/>
              </a:rPr>
              <a:t>1-Baroreceptor reflexes: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3" name="TextBox 3"/>
          <p:cNvSpPr/>
          <p:nvPr/>
        </p:nvSpPr>
        <p:spPr>
          <a:xfrm>
            <a:off x="457200" y="1828800"/>
            <a:ext cx="3505320" cy="37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>
              <a:lnSpc>
                <a:spcPct val="90000"/>
              </a:lnSpc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oreceptor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tch recep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ed in: Carotid sinus and aortic arch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sense the blood pressure in the aortic arch and internal caroti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d signal to the vasomotor center in the medulla oblongata along vagus and glossopharyngeal 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respond to a rapidly changing BP. In the range 60-180 mmH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335304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aroreceptor reflexes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flexes initiated by barorecepto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ABP 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etch of receptors         rate of firing   and  impulses travel along  vagus &amp; glossopharyngeal to the medullary CVCs: The responses will b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. (+) vagal center : decrease H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. (-) vasoconstrictor center: V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ABP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    inhibitory impulse discharge from baroreceptors       vasomotor center is released from inhibition resulting i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.  (+) heart:  HR &amp; contractility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.  (+) sympathetic VC tone: V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417" name="Straight Arrow Connector 8"/>
          <p:cNvCxnSpPr/>
          <p:nvPr/>
        </p:nvCxnSpPr>
        <p:spPr>
          <a:xfrm flipV="1">
            <a:off x="1827720" y="1904760"/>
            <a:ext cx="3960" cy="381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8" name="Straight Arrow Connector 16"/>
          <p:cNvCxnSpPr/>
          <p:nvPr/>
        </p:nvCxnSpPr>
        <p:spPr>
          <a:xfrm>
            <a:off x="2743200" y="2133720"/>
            <a:ext cx="53424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9" name="Straight Arrow Connector 18"/>
          <p:cNvCxnSpPr/>
          <p:nvPr/>
        </p:nvCxnSpPr>
        <p:spPr>
          <a:xfrm>
            <a:off x="5866920" y="2133720"/>
            <a:ext cx="38196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20" name="Straight Arrow Connector 20"/>
          <p:cNvCxnSpPr/>
          <p:nvPr/>
        </p:nvCxnSpPr>
        <p:spPr>
          <a:xfrm flipV="1">
            <a:off x="6399720" y="1904760"/>
            <a:ext cx="3960" cy="381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21" name="Straight Arrow Connector 22"/>
          <p:cNvCxnSpPr/>
          <p:nvPr/>
        </p:nvCxnSpPr>
        <p:spPr>
          <a:xfrm flipH="1">
            <a:off x="1904760" y="3886200"/>
            <a:ext cx="3600" cy="381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22" name="Straight Arrow Connector 24"/>
          <p:cNvCxnSpPr/>
          <p:nvPr/>
        </p:nvCxnSpPr>
        <p:spPr>
          <a:xfrm>
            <a:off x="2666880" y="4191120"/>
            <a:ext cx="45792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23" name="Straight Arrow Connector 28"/>
          <p:cNvCxnSpPr/>
          <p:nvPr/>
        </p:nvCxnSpPr>
        <p:spPr>
          <a:xfrm flipH="1">
            <a:off x="3276360" y="3962520"/>
            <a:ext cx="3600" cy="30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24" name="Straight Arrow Connector 14"/>
          <p:cNvCxnSpPr/>
          <p:nvPr/>
        </p:nvCxnSpPr>
        <p:spPr>
          <a:xfrm>
            <a:off x="3809520" y="4571640"/>
            <a:ext cx="381960" cy="10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gulation of Blood Pressur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1833480" y="6361200"/>
            <a:ext cx="542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Figure 15-22: The baroreceptor reflex: the response to increased blood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rcRect l="0" t="593" r="0" b="3489"/>
          <a:stretch/>
        </p:blipFill>
        <p:spPr>
          <a:xfrm>
            <a:off x="797040" y="1219320"/>
            <a:ext cx="7508880" cy="51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Baroreceptors, continued: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aroreceptors are important in maintaining ABP constant during changes in body posture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you change your posture from supine to erect, a drop in ABP in the head and upper part of the body will occu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s barorecptor reflex becomes activated, strong sympathetic impulses lead to VC and minimize the decrease in BP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bjectiv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By the end of this lecture the students are expected to: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525600" indent="-39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Understand the concept of mean blood pressure, systolic, diastolic, and pulse pressure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525600" indent="-39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alculate mean BP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525600" indent="-39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Understand normal variations in ABP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525600" indent="-39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Understand the relationship between CO, BP and total peripheral resistance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525600" indent="-39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Describe and understand factors determining blood pressure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525600" indent="-39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Regulation of arterial blood pressure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Baroreceptors, continued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 Sans MT"/>
              </a:rPr>
              <a:t>Resetting of baroreceptor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property makes baroreceptors not suitable for long term regulation of ABP, as they are rapidly reset to the new pressur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aptation of a receptor means decrease in impulse discharge from the receptor despite persistence of the stimulu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 Sans MT"/>
              </a:rPr>
              <a:t>What is the effect of denervation of baroreceptor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emoreceptors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1905120" y="1100160"/>
            <a:ext cx="48765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4300" spc="-1" strike="noStrike">
                <a:solidFill>
                  <a:srgbClr val="c00000"/>
                </a:solidFill>
                <a:latin typeface="Gill Sans MT"/>
              </a:rPr>
              <a:t>2-Chemoreceptor reflex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mosensitive cells, stimulated in response to: O2 lack, CO2 excess, H+ exces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y have a very high blood flow (1200 ml/min/g tissue). This makes it easy for these cells to detect changes in O2, CO2, and H+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come activated when ABP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Gill Sans MT"/>
              </a:rPr>
              <a:t>becomes less than 60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mHg. So, they are not involved in ABP control at normal range. When blood flow to chemoreceptors decreases it leads to   O2,  CO2,  H+     (+) chemo.   Signals (+) CVS       V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438" name="Straight Arrow Connector 18"/>
          <p:cNvCxnSpPr/>
          <p:nvPr/>
        </p:nvCxnSpPr>
        <p:spPr>
          <a:xfrm flipH="1">
            <a:off x="4571280" y="4571640"/>
            <a:ext cx="3960" cy="3056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39" name="Straight Arrow Connector 20"/>
          <p:cNvCxnSpPr/>
          <p:nvPr/>
        </p:nvCxnSpPr>
        <p:spPr>
          <a:xfrm flipV="1">
            <a:off x="5180400" y="4571640"/>
            <a:ext cx="3960" cy="381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0" name="Straight Arrow Connector 24"/>
          <p:cNvCxnSpPr/>
          <p:nvPr/>
        </p:nvCxnSpPr>
        <p:spPr>
          <a:xfrm>
            <a:off x="6552720" y="4800600"/>
            <a:ext cx="30564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1" name="Straight Arrow Connector 26"/>
          <p:cNvCxnSpPr/>
          <p:nvPr/>
        </p:nvCxnSpPr>
        <p:spPr>
          <a:xfrm>
            <a:off x="3886200" y="5181120"/>
            <a:ext cx="381600" cy="25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2" name="Straight Arrow Connector 28"/>
          <p:cNvCxnSpPr/>
          <p:nvPr/>
        </p:nvCxnSpPr>
        <p:spPr>
          <a:xfrm flipV="1">
            <a:off x="6019920" y="4571640"/>
            <a:ext cx="3600" cy="457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Chemoreceptor reflex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5" name="Picture 5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7690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00000"/>
                </a:solidFill>
                <a:latin typeface="Gill Sans MT"/>
              </a:rPr>
              <a:t>3-CNS ischemic response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It operates as an emergency arterial pressure control system that acts rapidly and powerfully to prevent further decrease in ABP whenever blood flow to the brain decreases to lethal level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531000" indent="-39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It is one of the most powerful activators of the sympathetic vasoconstrictor system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531000" indent="-39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When BP &lt; 20 mmHg        cerebral ischemia of vasomotor center         strong excitation of vasomotor center (due to accumulation of CO2, lactic acid,….)      strong VC of blood vessels including the kidney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448" name="Straight Arrow Connector 4"/>
          <p:cNvCxnSpPr/>
          <p:nvPr/>
        </p:nvCxnSpPr>
        <p:spPr>
          <a:xfrm>
            <a:off x="5257800" y="4114800"/>
            <a:ext cx="53424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9" name="Straight Arrow Connector 6"/>
          <p:cNvCxnSpPr/>
          <p:nvPr/>
        </p:nvCxnSpPr>
        <p:spPr>
          <a:xfrm>
            <a:off x="4647960" y="4419720"/>
            <a:ext cx="61020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50" name="Straight Arrow Connector 7"/>
          <p:cNvCxnSpPr/>
          <p:nvPr/>
        </p:nvCxnSpPr>
        <p:spPr>
          <a:xfrm>
            <a:off x="4114800" y="5181120"/>
            <a:ext cx="381600" cy="10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00000"/>
                </a:solidFill>
                <a:latin typeface="Gill Sans MT"/>
              </a:rPr>
              <a:t>4- Atrial Reflex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ptors: Low pressure receptors especially in the R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9840" indent="-39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d to changes in blood volum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9840" indent="-3902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happen if blood volume is increased? e.g infusing 500 ml into a pers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9840" indent="-3902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lood volume      stretch of the atria leading t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9840" indent="-39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 (+) ANP release   VD of renal vessels, diuresis, natriuresi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9840" indent="-39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 Hypothalamu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9840" indent="-39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. (-) ADH      water diuresi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9840" indent="-39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 (-) sympathetic discharge      VD of renal vess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9840" indent="-39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 stretch SAN and increase H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453" name="Straight Arrow Connector 4"/>
          <p:cNvCxnSpPr/>
          <p:nvPr/>
        </p:nvCxnSpPr>
        <p:spPr>
          <a:xfrm flipV="1">
            <a:off x="1141920" y="3351960"/>
            <a:ext cx="3960" cy="3819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54" name="Straight Arrow Connector 6"/>
          <p:cNvCxnSpPr/>
          <p:nvPr/>
        </p:nvCxnSpPr>
        <p:spPr>
          <a:xfrm>
            <a:off x="3048120" y="3580920"/>
            <a:ext cx="457920" cy="25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55" name="Straight Arrow Connector 9"/>
          <p:cNvCxnSpPr/>
          <p:nvPr/>
        </p:nvCxnSpPr>
        <p:spPr>
          <a:xfrm>
            <a:off x="2819520" y="4876560"/>
            <a:ext cx="381600" cy="10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56" name="Straight Arrow Connector 11"/>
          <p:cNvCxnSpPr/>
          <p:nvPr/>
        </p:nvCxnSpPr>
        <p:spPr>
          <a:xfrm>
            <a:off x="4876920" y="5333760"/>
            <a:ext cx="381600" cy="10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ontrol of blood volume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1676520" y="1752480"/>
            <a:ext cx="3276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diuretic hormone = AD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ed by the posterior pituitary in response 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↑blood osmolarity (often due to dehydr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water reabsorption by the kidney tubul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2O moves back into the bloo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ess urine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6" descr="figure14h"/>
          <p:cNvPicPr/>
          <p:nvPr/>
        </p:nvPicPr>
        <p:blipFill>
          <a:blip r:embed="rId1"/>
          <a:stretch/>
        </p:blipFill>
        <p:spPr>
          <a:xfrm>
            <a:off x="5791320" y="1523880"/>
            <a:ext cx="2311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trial reflexes, continued,…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happens if there is sudden loss of blood volume by 800 ml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ong Term Regul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ole of the kidney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kidney excretes excess salt and water (natriuresis and diuresis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Gill Sans MT"/>
              </a:rPr>
              <a:t>Juxtaglomerular Apparatu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637f26"/>
                </a:solidFill>
                <a:latin typeface="Gill Sans MT"/>
              </a:rPr>
              <a:t>Physiological variation in arterial blood pressure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1143000" y="1752480"/>
            <a:ext cx="320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P range:  90-140/60-90 mmH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birth: 50/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 : 120/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age 17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S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ales have higher BP than F before meanopa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ody bui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crease in obe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Emotions (   B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Exercise. (   B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Meals. (  B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Sleep  (  B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4800600" y="1905120"/>
            <a:ext cx="365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Gra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essure in any vessel below heart level is increased while decreases in a vessel above heart level due to effect of Gravity. Gravitational effect = 0.77 mmHg/cm at the density of normal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ult human in upright position, if mean BP at heart level = 100 mmHg, the mean pressure in an artery at the head (50 cm above heart) = 100-[0.77X 50] = 62 mmH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Straight Arrow Connector 9"/>
          <p:cNvCxnSpPr/>
          <p:nvPr/>
        </p:nvCxnSpPr>
        <p:spPr>
          <a:xfrm flipV="1">
            <a:off x="2666520" y="4647960"/>
            <a:ext cx="1080" cy="30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4" name="Straight Arrow Connector 11"/>
          <p:cNvCxnSpPr/>
          <p:nvPr/>
        </p:nvCxnSpPr>
        <p:spPr>
          <a:xfrm flipV="1">
            <a:off x="2666520" y="5104800"/>
            <a:ext cx="1080" cy="1530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5" name="Straight Arrow Connector 13"/>
          <p:cNvCxnSpPr/>
          <p:nvPr/>
        </p:nvCxnSpPr>
        <p:spPr>
          <a:xfrm flipV="1">
            <a:off x="2361960" y="5409360"/>
            <a:ext cx="1080" cy="2293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6" name="Straight Arrow Connector 17"/>
          <p:cNvCxnSpPr/>
          <p:nvPr/>
        </p:nvCxnSpPr>
        <p:spPr>
          <a:xfrm>
            <a:off x="2361960" y="5714640"/>
            <a:ext cx="1080" cy="1530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cc"/>
                </a:solidFill>
                <a:latin typeface="Gill Sans MT"/>
              </a:rPr>
              <a:t>Juxtaglomerular Apparatu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65" name="Picture 3" descr="0809L"/>
          <p:cNvPicPr/>
          <p:nvPr/>
        </p:nvPicPr>
        <p:blipFill>
          <a:blip r:embed="rId1"/>
          <a:srcRect l="0" t="12526" r="0" b="0"/>
          <a:stretch/>
        </p:blipFill>
        <p:spPr>
          <a:xfrm>
            <a:off x="457200" y="990720"/>
            <a:ext cx="8129520" cy="5333760"/>
          </a:xfrm>
          <a:prstGeom prst="rect">
            <a:avLst/>
          </a:prstGeom>
          <a:ln w="0">
            <a:noFill/>
          </a:ln>
        </p:spPr>
      </p:pic>
      <p:grpSp>
        <p:nvGrpSpPr>
          <p:cNvPr id="466" name="Group 4"/>
          <p:cNvGrpSpPr/>
          <p:nvPr/>
        </p:nvGrpSpPr>
        <p:grpSpPr>
          <a:xfrm>
            <a:off x="6823440" y="4129200"/>
            <a:ext cx="1976400" cy="2501640"/>
            <a:chOff x="6823440" y="4129200"/>
            <a:chExt cx="1976400" cy="2501640"/>
          </a:xfrm>
        </p:grpSpPr>
        <p:sp>
          <p:nvSpPr>
            <p:cNvPr id="467" name="Text Box 5"/>
            <p:cNvSpPr/>
            <p:nvPr/>
          </p:nvSpPr>
          <p:spPr>
            <a:xfrm>
              <a:off x="6823440" y="4129200"/>
              <a:ext cx="149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vaso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6"/>
            <p:cNvSpPr/>
            <p:nvPr/>
          </p:nvSpPr>
          <p:spPr>
            <a:xfrm>
              <a:off x="6924240" y="6110280"/>
              <a:ext cx="187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monitor salin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cc"/>
                </a:solidFill>
                <a:latin typeface="Gill Sans MT"/>
              </a:rPr>
              <a:t>Role of the kidney in ABP regulati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470" name="Group 5"/>
          <p:cNvGrpSpPr/>
          <p:nvPr/>
        </p:nvGrpSpPr>
        <p:grpSpPr>
          <a:xfrm>
            <a:off x="506520" y="1371600"/>
            <a:ext cx="8129520" cy="5410080"/>
            <a:chOff x="506520" y="1371600"/>
            <a:chExt cx="8129520" cy="5410080"/>
          </a:xfrm>
        </p:grpSpPr>
        <p:pic>
          <p:nvPicPr>
            <p:cNvPr id="471" name="Picture 3" descr="H:\$$SaladinPowerPoints\Images\Ch-23labeled\0811L.JPG"/>
            <p:cNvPicPr/>
            <p:nvPr/>
          </p:nvPicPr>
          <p:blipFill>
            <a:blip r:embed="rId1"/>
            <a:srcRect l="0" t="11274" r="0" b="0"/>
            <a:stretch/>
          </p:blipFill>
          <p:spPr>
            <a:xfrm>
              <a:off x="506520" y="1371600"/>
              <a:ext cx="812952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 Box 4"/>
            <p:cNvSpPr/>
            <p:nvPr/>
          </p:nvSpPr>
          <p:spPr>
            <a:xfrm>
              <a:off x="4355640" y="5881680"/>
              <a:ext cx="198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-efferent arterio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cc"/>
                </a:solidFill>
                <a:latin typeface="Gill Sans MT"/>
              </a:rPr>
              <a:t>Effects of Angiotensin II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74" name="Picture 3" descr="H:\$$SaladinPowerPoints\Images\Ch-23labeled\0812L.JPG"/>
          <p:cNvPicPr/>
          <p:nvPr/>
        </p:nvPicPr>
        <p:blipFill>
          <a:blip r:embed="rId1"/>
          <a:srcRect l="25308" t="13772" r="0" b="0"/>
          <a:stretch/>
        </p:blipFill>
        <p:spPr>
          <a:xfrm>
            <a:off x="1828800" y="1295280"/>
            <a:ext cx="6072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figure_14_08_l"/>
          <p:cNvPicPr/>
          <p:nvPr/>
        </p:nvPicPr>
        <p:blipFill>
          <a:blip r:embed="rId1"/>
          <a:stretch/>
        </p:blipFill>
        <p:spPr>
          <a:xfrm>
            <a:off x="2133720" y="1219320"/>
            <a:ext cx="5967360" cy="54086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Arterial blood pressure measurement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04560" y="1066320"/>
            <a:ext cx="88390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Korotkoff Sound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Blood pressure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8" name="Picture 6" descr="figure_14_09_l"/>
          <p:cNvPicPr/>
          <p:nvPr/>
        </p:nvPicPr>
        <p:blipFill>
          <a:blip r:embed="rId1"/>
          <a:stretch/>
        </p:blipFill>
        <p:spPr>
          <a:xfrm>
            <a:off x="4419720" y="1905120"/>
            <a:ext cx="4495680" cy="3105000"/>
          </a:xfrm>
          <a:prstGeom prst="rect">
            <a:avLst/>
          </a:prstGeom>
          <a:ln w="0">
            <a:noFill/>
          </a:ln>
        </p:spPr>
      </p:pic>
      <p:sp>
        <p:nvSpPr>
          <p:cNvPr id="379" name="TextBox 3"/>
          <p:cNvSpPr/>
          <p:nvPr/>
        </p:nvSpPr>
        <p:spPr>
          <a:xfrm>
            <a:off x="990720" y="1828800"/>
            <a:ext cx="297180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90000"/>
              </a:lnSpc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se pressu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 = SP-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arterial blood pressure (MAB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BP = Diastolic + PP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P = CO X 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Determinants of arterial blood pressure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TextBox 3"/>
          <p:cNvSpPr/>
          <p:nvPr/>
        </p:nvSpPr>
        <p:spPr>
          <a:xfrm>
            <a:off x="609480" y="1676520"/>
            <a:ext cx="327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1-Cardiac 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P = CO X T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4"/>
          <p:cNvSpPr/>
          <p:nvPr/>
        </p:nvSpPr>
        <p:spPr>
          <a:xfrm>
            <a:off x="4495680" y="1752480"/>
            <a:ext cx="3733920" cy="39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90000"/>
              </a:lnSpc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= HR X S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P= HRxSVxTP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 rate, stroke volume and peripheral resistance affect MA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Determinants of ABP, continued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,.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533520" y="2413080"/>
            <a:ext cx="3276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2- Elasticity of blood vess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in great vessels elasticity affects BP. Atherosclerosis makes blood vessel like a tube, so during systole as blood is ejected into the arteries, they don’t distend and pressure increases  significan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4724280" y="2362320"/>
            <a:ext cx="33530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3- Blood volu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crease  in blood volume         CO                          increase AB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crease in blood volume as in Hege, dehydration-      decrease  VR-     decrease CO  decrease V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Straight Arrow Connector 6"/>
          <p:cNvCxnSpPr/>
          <p:nvPr/>
        </p:nvCxnSpPr>
        <p:spPr>
          <a:xfrm>
            <a:off x="6171840" y="3276360"/>
            <a:ext cx="305640" cy="10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87" name="Straight Arrow Connector 8"/>
          <p:cNvCxnSpPr/>
          <p:nvPr/>
        </p:nvCxnSpPr>
        <p:spPr>
          <a:xfrm flipV="1">
            <a:off x="6629040" y="3123360"/>
            <a:ext cx="1080" cy="2293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88" name="Straight Arrow Connector 10"/>
          <p:cNvCxnSpPr/>
          <p:nvPr/>
        </p:nvCxnSpPr>
        <p:spPr>
          <a:xfrm>
            <a:off x="6629040" y="4647960"/>
            <a:ext cx="305640" cy="10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89" name="Straight Arrow Connector 12"/>
          <p:cNvCxnSpPr/>
          <p:nvPr/>
        </p:nvCxnSpPr>
        <p:spPr>
          <a:xfrm>
            <a:off x="5714640" y="4876560"/>
            <a:ext cx="305640" cy="10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90" name="Straight Arrow Connector 14"/>
          <p:cNvCxnSpPr/>
          <p:nvPr/>
        </p:nvCxnSpPr>
        <p:spPr>
          <a:xfrm>
            <a:off x="7467120" y="4876560"/>
            <a:ext cx="381960" cy="10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6560" y="436680"/>
            <a:ext cx="87627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therosclerosis: decreases elasticity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2228760" y="6361200"/>
            <a:ext cx="463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5-24: The development of atherosclerotic pla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rcRect l="776" t="9698" r="596" b="13187"/>
          <a:stretch/>
        </p:blipFill>
        <p:spPr>
          <a:xfrm>
            <a:off x="914400" y="1859040"/>
            <a:ext cx="678168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72314"/>
                </a:solidFill>
                <a:latin typeface="Gill Sans MT"/>
              </a:rPr>
              <a:t>Determinants of ABP, continued,..</a:t>
            </a:r>
            <a:br>
              <a:rPr sz="2500"/>
            </a:br>
            <a:br>
              <a:rPr sz="2500"/>
            </a:b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4-Total peripheral resistance: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98072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PB is directly proportional to TP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PR is determined by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. diameter of blood vessel (r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 Blood viscosity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. Red ce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lycythemia increases viscosit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. Plasma protei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ypoprotenimia decreases viscosit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tal peripheral resistance: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BP is directly proportional to TP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ange in blood vessels’ diameter by increase or decrease will affect blood pressur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PR Is inversely proportional to blood vessel diameter (r)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 </a:t>
            </a:r>
            <a:r>
              <a:rPr b="0" lang="el-GR" sz="3200" spc="-1" strike="noStrike">
                <a:solidFill>
                  <a:srgbClr val="000000"/>
                </a:solidFill>
                <a:latin typeface="Corbe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1/r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r is doubled, TPR is reduced by 16, and so on……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21:09:33Z</dcterms:created>
  <dc:creator>hp</dc:creator>
  <dc:description/>
  <dc:language>en-US</dc:language>
  <cp:lastModifiedBy>user</cp:lastModifiedBy>
  <dcterms:modified xsi:type="dcterms:W3CDTF">2014-03-16T19:21:45Z</dcterms:modified>
  <cp:revision>67</cp:revision>
  <dc:subject/>
  <dc:title>Arterial Blood Pressure</dc:title>
</cp:coreProperties>
</file>