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29B4-C7DE-4580-ADEE-9F03F41E06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61B1-740B-4766-90E1-E67B9B3D0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9D234-33C5-482F-96FC-53C30B18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EE68B-C9C2-4F4E-B88B-CD79A920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63F8-82DE-46A7-BBC0-51FDFD0D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22272-632F-47F4-AB9D-351A0B384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82ADB-34C3-42F3-AEDA-3D8506940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E1CC7-5A53-42B5-9A9B-9EA33901A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16E4D-E6E5-472E-8D99-06FFF5648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EB8AE-435D-4B55-8708-9099775BF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D7DB9-F773-4B16-9487-7E6D08C41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6988F-5FCB-4FAE-B68F-B8D9A4740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A8E22-BF96-4E06-AB98-D1E77499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31D02-560D-4553-98CC-D40D5628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A30CE-0EE4-4F53-A8D3-688753A86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6CE14-3E8B-42E2-91B8-7545D9B29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2B38C-D121-41A3-8E2E-90425164D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A9BA4-E488-419C-8716-0ECD13C90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98A50-C481-4B46-A95A-DE5EDEAD3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6BF68-419B-4706-8184-D38B970B8A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65991-44AD-4DB3-B624-CA6E2B8B2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FDE4B-9E2E-42CF-92E8-AF34E3392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CE364-7AD6-479B-A719-632766771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AB36D-5EC2-4560-B272-0C040F1DB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57EBE-AE4A-4768-B8DF-1CB115DB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E6F91-87CF-403C-A79D-989FA096E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9D056-878D-4D63-B6D5-0E0CD00FF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44179-CC14-496D-9C6F-384D36AAB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2CF06-2E1F-433A-8A3D-B94B36B13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4A51E-11EB-4C29-9CD4-31F06D41A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6394C-CBBC-4BEF-9A30-2EADB902EF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77C9C5-B304-476A-85C5-A72583E2D1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199286-5ADE-484B-ADA6-C2793D3B0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20B1A-E60E-402D-926B-0DD6FCEA0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0D09A-B9D4-4491-93CE-B804C907F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1F07-32DB-4247-8977-5F12D6AB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42A47-A6DA-47A4-AE35-828FFF49C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6D17C-97C8-452A-9112-11FB3513C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72A87-C210-4853-91D8-194A8EF42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9BD9A-6CBB-42B0-8575-E61833B31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C1F8F-B72D-4513-B508-563578C0C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FEF27-2D0E-4232-B66C-269A717DB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E4E78-B292-406B-ABBC-0636D0C6F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081E27-0E25-42F5-A635-9720AC0AE1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DDF60-9B4F-4CDB-BF7D-AD836454D2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CBD375-96FE-46AF-ADF5-CB8113B4D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7F7CD-47E5-46EB-A62E-1C34D9A7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A2C19-2DCB-4C38-8526-57CC55E65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0FDB9F-3866-4196-81B2-73017271E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8A4D4-0D8D-4831-AD2D-F867D733E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BCEAC-0662-4AF8-9A82-BE25C30DBC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E1D22-DD9C-46CC-BF5E-B91E88864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B42E7-8A43-4993-9BF2-A4A7648B1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E70F5-F7B2-4474-9C6A-B433AB213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3275F-E997-46CF-8797-4158C5A80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D0132-299C-44F4-93DE-957651F3E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5EC9AC-D9BE-4CEB-BF6C-94604A5C7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F82B9-163B-4946-ADAD-49C678FB6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7CD77E-AD67-4E62-990F-A720EF9FE2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260328-3789-4F72-8115-34A5A14D49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62FA8-558A-4FBF-A374-6888B10CB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D5EB6-FA36-49F4-94F9-3A64D4905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95939-6B32-464A-B198-F9713F24F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B3AFF-070F-4FD4-AC2C-6BFD9A8F7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4AE7D-7F7E-422A-AF71-79269219C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106B7-50DD-4FC8-928F-9C6C48121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879C1-DA52-4E41-936B-F159E82F4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7A2C6-60C9-41EC-8F8A-2BEC68A51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299C-1AF3-4761-A36F-B43A7025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F1752-A55B-4731-95FF-B062B8776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833DDE-D6CD-4B51-BECB-0172645559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BEE32F-E2D0-4250-9A8D-7CF084426E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B735F0-9686-4A13-AFFA-33B4CF166F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AAF216-4374-41B9-8053-20330E2D9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1DE32-18F1-4F21-A086-E27C3350C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6FE01-8700-4316-8F57-2432A95F7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031EC-2709-4D71-BEA6-9C2931B92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FB08B-35AF-4AF5-93C7-96F842B28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718C4-84A3-4DEE-AC03-4A123A88A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DB81-5303-47D2-8168-CAA16D423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69CD6-88B5-43A1-9323-777593792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0C2BF-F216-429A-A85E-93C890D81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835344-E5A6-4634-A298-C3269DA9C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8AA1F5-A8C0-46DC-96E6-8B0D592A27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30329D-2604-4B16-AE59-77EE49944F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B1B9-3FA9-45B7-88E5-9388CE8F1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5CC8-BDC3-4B93-B8FA-A5AA70A5C89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1BE4-C953-4988-A09B-0638C3D7612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7C09-B382-47C4-BE04-77FAE4B707A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BB2F-17A1-4217-86C9-44B48F98191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D217-352C-4CB5-BB7B-D10CB2822E5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FD69-DA12-4C85-B843-F2F3679EECE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FB05-E863-4C43-9A37-0108E7A3F17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ock &amp; Hemorrhage</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Eman EL Eter</a:t>
            </a:r>
            <a:endParaRPr b="0" lang="en-US" sz="2600" spc="-1" strike="noStrike">
              <a:solidFill>
                <a:srgbClr val="000000"/>
              </a:solidFill>
              <a:latin typeface="Gill Sans MT"/>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b80a"/>
                </a:solidFill>
                <a:latin typeface="Gill Sans MT"/>
              </a:rPr>
              <a:t>Pathophysiology of hypovolemic shock, cont.,…….</a:t>
            </a:r>
            <a:endParaRPr b="0" lang="en-US" sz="2400" spc="-1" strike="noStrike">
              <a:solidFill>
                <a:srgbClr val="572314"/>
              </a:solidFill>
              <a:latin typeface="Gill Sans MT"/>
            </a:endParaRPr>
          </a:p>
        </p:txBody>
      </p:sp>
      <p:sp>
        <p:nvSpPr>
          <p:cNvPr id="344" name=""/>
          <p:cNvSpPr txBox="1"/>
          <p:nvPr/>
        </p:nvSpPr>
        <p:spPr>
          <a:xfrm>
            <a:off x="457200" y="2057040"/>
            <a:ext cx="8229600" cy="394956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Stages of shock:</a:t>
            </a:r>
            <a:endParaRPr b="0" lang="en-US" sz="2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Gill Sans MT"/>
              </a:rPr>
              <a:t>Reversible stage.</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2100" spc="-1" strike="noStrike">
                <a:solidFill>
                  <a:srgbClr val="000000"/>
                </a:solidFill>
                <a:latin typeface="Gill Sans MT"/>
              </a:rPr>
              <a:t>In which compensatory reactions &amp; appropriate treatment help restoration of blood pressure  &amp;  blood loss.</a:t>
            </a:r>
            <a:endParaRPr b="0" lang="en-US" sz="21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Gill Sans MT"/>
              </a:rPr>
              <a:t>Irreversible stage.</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2100" spc="-1" strike="noStrike">
                <a:solidFill>
                  <a:srgbClr val="000000"/>
                </a:solidFill>
                <a:latin typeface="Gill Sans MT"/>
              </a:rPr>
              <a:t>In which series of positive feed back mechanisms take place leading to further deterioration &amp; tissue hypoxia. This depends on amount of blood lost. When blood loss is excess and not immediately replaced and proper treatment is delayed, this stage is reached and patient die. There is also failure of compensatory mechanisms. </a:t>
            </a:r>
            <a:endParaRPr b="0" lang="en-US" sz="2100" spc="-1" strike="noStrike">
              <a:solidFill>
                <a:srgbClr val="000000"/>
              </a:solidFill>
              <a:latin typeface="Gill Sans MT"/>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Reversible stage:</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racterized by compensatory rea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30e"/>
                </a:solidFill>
                <a:latin typeface="Gill Sans MT"/>
              </a:rPr>
              <a:t>A.  Rapid compensatory rea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30e"/>
                </a:solidFill>
                <a:latin typeface="Gill Sans MT"/>
              </a:rPr>
              <a:t>    </a:t>
            </a:r>
            <a:r>
              <a:rPr b="0" lang="en-US" sz="3200" spc="-1" strike="noStrike">
                <a:solidFill>
                  <a:srgbClr val="27130e"/>
                </a:solidFill>
                <a:latin typeface="Gill Sans MT"/>
              </a:rPr>
              <a:t>(act within seconds-minut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Gill Sans MT"/>
              </a:rPr>
              <a:t>B. Responses Activated within hour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Gill Sans MT"/>
              </a:rPr>
              <a:t>C. Responses activated from hours-day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45684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Gill Sans MT"/>
              </a:rPr>
              <a:t>Pathophysiology of hypovolemic shock, </a:t>
            </a:r>
            <a:br>
              <a:rPr sz="2400"/>
            </a:br>
            <a:r>
              <a:rPr b="0" lang="en-US" sz="2400" spc="-1" strike="noStrike">
                <a:solidFill>
                  <a:srgbClr val="feb80a"/>
                </a:solidFill>
                <a:latin typeface="Gill Sans MT"/>
              </a:rPr>
              <a:t>Reversible stage, cont.,…</a:t>
            </a:r>
            <a:br>
              <a:rPr sz="2800"/>
            </a:br>
            <a:endParaRPr b="0" lang="en-US" sz="2400" spc="-1" strike="noStrike">
              <a:solidFill>
                <a:srgbClr val="572314"/>
              </a:solidFill>
              <a:latin typeface="Gill Sans MT"/>
            </a:endParaRPr>
          </a:p>
        </p:txBody>
      </p:sp>
      <p:sp>
        <p:nvSpPr>
          <p:cNvPr id="348" name=""/>
          <p:cNvSpPr txBox="1"/>
          <p:nvPr/>
        </p:nvSpPr>
        <p:spPr>
          <a:xfrm>
            <a:off x="457200" y="1295280"/>
            <a:ext cx="8229600" cy="4711680"/>
          </a:xfrm>
          <a:prstGeom prst="rect">
            <a:avLst/>
          </a:prstGeom>
          <a:noFill/>
          <a:ln w="0">
            <a:noFill/>
          </a:ln>
        </p:spPr>
        <p:txBody>
          <a:bodyPr lIns="90000" rIns="90000" tIns="46800" bIns="46800" anchor="t">
            <a:normAutofit fontScale="80000"/>
          </a:bodyPr>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ill Sans MT"/>
              </a:rPr>
              <a:t>A. Rapid compensatory reactions:</a:t>
            </a:r>
            <a:endParaRPr b="0" lang="en-US" sz="28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ill Sans MT"/>
              </a:rPr>
              <a:t>i. Vasoconstriction</a:t>
            </a:r>
            <a:r>
              <a:rPr b="0" lang="en-US" sz="2400" spc="-1" strike="noStrike">
                <a:solidFill>
                  <a:srgbClr val="000000"/>
                </a:solidFill>
                <a:latin typeface="Gill Sans MT"/>
              </a:rPr>
              <a:t>: this increases TPR and hence ABP. It is produced by:</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Baroreceptor refelexes.</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Chemoreceptor reflex.</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Vasopressin-vasoconstrictor mechanism.</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Noreadrenaline-adrenaline vasoconstrictor mechanism (due to activation of adrenal medulla).</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asoconstriction is marked in:</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kin: cold, pale.</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idneys: drop in GFR &amp; urine volume.</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scera.</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          </a:t>
            </a:r>
            <a:r>
              <a:rPr b="1" lang="en-US" sz="2400" spc="-1" strike="noStrike">
                <a:solidFill>
                  <a:srgbClr val="ff0000"/>
                </a:solidFill>
                <a:latin typeface="Gill Sans MT"/>
              </a:rPr>
              <a:t>Heart and brain are spared.</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Gill Sans MT"/>
              </a:rPr>
              <a:t>Reversible stage in response to heamorrage, cont,……</a:t>
            </a:r>
            <a:endParaRPr b="0" lang="en-US" sz="2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Gill Sans MT"/>
              </a:rPr>
              <a:t>ii. Tachycardia:</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Produced by:</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aroreceptor reflex.</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hemoreceptor reflex.</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creased sympathetic activity.</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Gill Sans MT"/>
              </a:rPr>
              <a:t>iii. Venoconstriction:</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aused by sympathetic activity. It is important to:</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intain filling pressure of the heart.</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hift blood from reservoirs into the circulation.</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endParaRPr b="0" lang="en-US" sz="3000" spc="-1" strike="noStrike">
              <a:solidFill>
                <a:srgbClr val="000000"/>
              </a:solidFill>
              <a:latin typeface="Gill Sans MT"/>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2" name=""/>
          <p:cNvSpPr txBox="1"/>
          <p:nvPr/>
        </p:nvSpPr>
        <p:spPr>
          <a:xfrm>
            <a:off x="1447920" y="1980720"/>
            <a:ext cx="7238880" cy="432756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Gill Sans MT"/>
              </a:rPr>
              <a:t>iv. Tachypnea:</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aused by activation of chemoreceptor reflex and sympathetic over activity.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Imporatanc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rease O2 delivery.</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rease thoracic pump activity….help VR.</a:t>
            </a:r>
            <a:endParaRPr b="0" lang="en-US" sz="2800" spc="-1" strike="noStrike">
              <a:solidFill>
                <a:srgbClr val="000000"/>
              </a:solidFill>
              <a:latin typeface="Gill Sans MT"/>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2282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4" name=""/>
          <p:cNvSpPr txBox="1"/>
          <p:nvPr/>
        </p:nvSpPr>
        <p:spPr>
          <a:xfrm>
            <a:off x="1447920" y="1828800"/>
            <a:ext cx="7238880" cy="4479840"/>
          </a:xfrm>
          <a:prstGeom prst="rect">
            <a:avLst/>
          </a:prstGeom>
          <a:noFill/>
          <a:ln w="0">
            <a:noFill/>
          </a:ln>
        </p:spPr>
        <p:txBody>
          <a:bodyPr lIns="90000" rIns="90000" tIns="46800" bIns="46800"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 Restlessness </a:t>
            </a:r>
            <a:r>
              <a:rPr b="0" lang="en-US" sz="2400" spc="-1" strike="noStrike">
                <a:solidFill>
                  <a:srgbClr val="000000"/>
                </a:solidFill>
                <a:latin typeface="Gill Sans MT"/>
              </a:rPr>
              <a:t>: due to sympathetic overactivity.</a:t>
            </a: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ncreases sk. Ms. Pump activity.</a:t>
            </a: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i. Release of vasoconstrictor factors/hormones:</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echolamines by adrenal medulla.</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sopressin (antidiuretic hormone) by posterior pituitary : causes vasoconstriction and restores fluid volume by reducing urine output.</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in-angiotensin-aldosterone. (preserve salt and water).</a:t>
            </a:r>
            <a:endParaRPr b="0" lang="en-US" sz="2400" spc="-1" strike="noStrike">
              <a:solidFill>
                <a:srgbClr val="000000"/>
              </a:solidFill>
              <a:latin typeface="Gill Sans MT"/>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6" name=""/>
          <p:cNvSpPr txBox="1"/>
          <p:nvPr/>
        </p:nvSpPr>
        <p:spPr>
          <a:xfrm>
            <a:off x="1142640" y="1676160"/>
            <a:ext cx="7543800" cy="46321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B. Responses Activated within hour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movement of interstitial fluid into capillaries (</a:t>
            </a:r>
            <a:r>
              <a:rPr b="0" lang="en-US" sz="2400" spc="-1" strike="noStrike">
                <a:solidFill>
                  <a:srgbClr val="c00000"/>
                </a:solidFill>
                <a:latin typeface="Gill Sans MT"/>
              </a:rPr>
              <a:t>capillary fluid shift</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secretion of glucocorticoids by adrenal cortex. (help to maintain blood sugar)</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2,3 DPG concentration in RBCs: important to help HB deliver more O2 to the tissues (shift O2 dissociation curve to the right)</a:t>
            </a:r>
            <a:endParaRPr b="0" lang="en-US" sz="2400" spc="-1" strike="noStrike">
              <a:solidFill>
                <a:srgbClr val="000000"/>
              </a:solidFill>
              <a:latin typeface="Gill Sans MT"/>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versible stage, continued,………</a:t>
            </a:r>
            <a:endParaRPr b="0" lang="en-US" sz="28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lIns="90000" rIns="90000" tIns="46800" bIns="46800" anchor="t">
            <a:normAutofit fontScale="82000"/>
          </a:bodyPr>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C. Responses activated in hours-days</a:t>
            </a:r>
            <a:r>
              <a:rPr b="0" lang="en-US" sz="3200" spc="-1" strike="noStrike">
                <a:solidFill>
                  <a:srgbClr val="c00000"/>
                </a:solidFill>
                <a:latin typeface="Gill Sans MT"/>
              </a:rPr>
              <a:t>:</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circulatory plasma volume. Takes 12-72 hrs after moderate hemorrhage.</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plasma proteins: occur in 2 stage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Rapid entry of preformed albumin from extracellular store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Hepatic synthesis of proteins over 3-4 day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RBC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60" name=""/>
          <p:cNvSpPr txBox="1"/>
          <p:nvPr/>
        </p:nvSpPr>
        <p:spPr>
          <a:xfrm>
            <a:off x="457200" y="2133360"/>
            <a:ext cx="8229600" cy="4174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toration of RBC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increase RBCs count in response to erythropoeitin within 10 day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restroration of red cell mass within 4-8 weeks.</a:t>
            </a:r>
            <a:endParaRPr b="0" lang="en-US" sz="2800" spc="-1" strike="noStrike">
              <a:solidFill>
                <a:srgbClr val="000000"/>
              </a:solidFill>
              <a:latin typeface="Gill Sans MT"/>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ve feedback mechanisms lead to drop in C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1. Cardiac depress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drop in APB leads to drop in coronary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low               (-) heart          drop C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2. Vasomotor failure</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esults from depression of vasomotor center, the heart becomes depressed and CO drops.</a:t>
            </a:r>
            <a:endParaRPr b="0" lang="en-US" sz="2400" spc="-1" strike="noStrike">
              <a:solidFill>
                <a:srgbClr val="000000"/>
              </a:solidFill>
              <a:latin typeface="Gill Sans MT"/>
            </a:endParaRPr>
          </a:p>
        </p:txBody>
      </p:sp>
      <p:cxnSp>
        <p:nvCxnSpPr>
          <p:cNvPr id="363" name="Straight Arrow Connector 4"/>
          <p:cNvCxnSpPr/>
          <p:nvPr/>
        </p:nvCxnSpPr>
        <p:spPr>
          <a:xfrm>
            <a:off x="1905120" y="3809520"/>
            <a:ext cx="838800" cy="1080"/>
          </a:xfrm>
          <a:prstGeom prst="straightConnector1">
            <a:avLst/>
          </a:prstGeom>
          <a:ln w="9360">
            <a:solidFill>
              <a:srgbClr val="3891a7"/>
            </a:solidFill>
            <a:miter/>
            <a:tailEnd len="med" type="arrow" w="med"/>
          </a:ln>
        </p:spPr>
      </p:cxnSp>
      <p:cxnSp>
        <p:nvCxnSpPr>
          <p:cNvPr id="364" name="Straight Arrow Connector 6"/>
          <p:cNvCxnSpPr/>
          <p:nvPr/>
        </p:nvCxnSpPr>
        <p:spPr>
          <a:xfrm>
            <a:off x="3962160" y="3809520"/>
            <a:ext cx="686520" cy="1080"/>
          </a:xfrm>
          <a:prstGeom prst="straightConnector1">
            <a:avLst/>
          </a:prstGeom>
          <a:ln w="9360">
            <a:solidFill>
              <a:srgbClr val="3891a7"/>
            </a:solidFill>
            <a:miter/>
            <a:tailEnd len="med" type="arrow" w="med"/>
          </a:ln>
        </p:spPr>
      </p:cxn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the end of this lecture the students are expected to:</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fine circulatory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st types and causes of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 the body compensatory mechanisms during the reversible phase of  hemorrhagic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s the mechanisms responsible for the irreversible phase of hemorrhagic shock</a:t>
            </a:r>
            <a:endParaRPr b="0" lang="en-US" sz="3200" spc="-1" strike="noStrike">
              <a:solidFill>
                <a:srgbClr val="000000"/>
              </a:solidFill>
              <a:latin typeface="Gill Sans MT"/>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66" name=""/>
          <p:cNvSpPr txBox="1"/>
          <p:nvPr/>
        </p:nvSpPr>
        <p:spPr>
          <a:xfrm>
            <a:off x="1218960" y="2057040"/>
            <a:ext cx="7467480" cy="3949560"/>
          </a:xfrm>
          <a:prstGeom prst="rect">
            <a:avLst/>
          </a:prstGeom>
          <a:noFill/>
          <a:ln w="0">
            <a:noFill/>
          </a:ln>
        </p:spPr>
        <p:txBody>
          <a:bodyPr lIns="90000" rIns="90000" tIns="46800" bIns="46800" anchor="t">
            <a:normAutofit fontScale="82000"/>
          </a:bodyPr>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Release of toxins by ischemic tissues.</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g. histamine, tissue enzymes, potassium, ...</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Endotoxin:</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eleased from gram +ve bacteria when blood flow to intestine decreases       absorption of toxins          </a:t>
            </a:r>
            <a:r>
              <a:rPr b="0" lang="en-US" sz="3200" spc="-1" strike="noStrike">
                <a:solidFill>
                  <a:srgbClr val="1e190d"/>
                </a:solidFill>
                <a:latin typeface="Gill Sans MT"/>
              </a:rPr>
              <a:t>Cardiac depression</a:t>
            </a:r>
            <a:r>
              <a:rPr b="0" lang="en-US" sz="3200" spc="-1" strike="noStrike">
                <a:solidFill>
                  <a:srgbClr val="ff0000"/>
                </a:solidFill>
                <a:latin typeface="Gill Sans MT"/>
              </a:rPr>
              <a:t>.</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cxnSp>
        <p:nvCxnSpPr>
          <p:cNvPr id="367" name="Straight Arrow Connector 4"/>
          <p:cNvCxnSpPr/>
          <p:nvPr/>
        </p:nvCxnSpPr>
        <p:spPr>
          <a:xfrm>
            <a:off x="2742840" y="5562720"/>
            <a:ext cx="610200" cy="2160"/>
          </a:xfrm>
          <a:prstGeom prst="straightConnector1">
            <a:avLst/>
          </a:prstGeom>
          <a:ln w="38160">
            <a:solidFill>
              <a:srgbClr val="637f26"/>
            </a:solidFill>
            <a:miter/>
            <a:tailEnd len="med" type="triangle" w="med"/>
          </a:ln>
        </p:spPr>
      </p:cxnSp>
      <p:cxnSp>
        <p:nvCxnSpPr>
          <p:cNvPr id="368" name="Straight Arrow Connector 6"/>
          <p:cNvCxnSpPr/>
          <p:nvPr/>
        </p:nvCxnSpPr>
        <p:spPr>
          <a:xfrm>
            <a:off x="5715000" y="5105160"/>
            <a:ext cx="457920" cy="1080"/>
          </a:xfrm>
          <a:prstGeom prst="straightConnector1">
            <a:avLst/>
          </a:prstGeom>
          <a:ln w="38160">
            <a:solidFill>
              <a:srgbClr val="637f26"/>
            </a:solidFill>
            <a:miter/>
            <a:tailEnd len="med" type="triangle" w="med"/>
          </a:ln>
        </p:spPr>
      </p:cxn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70" name=""/>
          <p:cNvSpPr txBox="1"/>
          <p:nvPr/>
        </p:nvSpPr>
        <p:spPr>
          <a:xfrm>
            <a:off x="1295280" y="1828800"/>
            <a:ext cx="7391520" cy="41781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Generalized cellular deterioration:</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of mitochondrial activity inside the cells lead to decrease in ATP.</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of cellular metabolism, especially glucose.</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upture of many lysosomes.</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op in active transport of Na+ and K+ across the cell           </a:t>
            </a:r>
            <a:r>
              <a:rPr b="0" lang="en-US" sz="2400" spc="-1" strike="noStrike">
                <a:solidFill>
                  <a:srgbClr val="000000"/>
                </a:solidFill>
                <a:latin typeface="Gill Sans MT"/>
              </a:rPr>
              <a:t>	</a:t>
            </a:r>
            <a:r>
              <a:rPr b="0" lang="en-US" sz="2400" spc="-1" strike="noStrike">
                <a:solidFill>
                  <a:srgbClr val="000000"/>
                </a:solidFill>
                <a:latin typeface="Gill Sans MT"/>
              </a:rPr>
              <a:t>Na+ accumulate inside the cell.</a:t>
            </a:r>
            <a:endParaRPr b="0" lang="en-US" sz="2400" spc="-1" strike="noStrike">
              <a:solidFill>
                <a:srgbClr val="000000"/>
              </a:solidFill>
              <a:latin typeface="Gill Sans MT"/>
            </a:endParaRPr>
          </a:p>
        </p:txBody>
      </p:sp>
      <p:cxnSp>
        <p:nvCxnSpPr>
          <p:cNvPr id="371" name="Straight Arrow Connector 4"/>
          <p:cNvCxnSpPr/>
          <p:nvPr/>
        </p:nvCxnSpPr>
        <p:spPr>
          <a:xfrm>
            <a:off x="1600200" y="4647960"/>
            <a:ext cx="534240" cy="1080"/>
          </a:xfrm>
          <a:prstGeom prst="straightConnector1">
            <a:avLst/>
          </a:prstGeom>
          <a:ln w="9360">
            <a:solidFill>
              <a:srgbClr val="3891a7"/>
            </a:solidFill>
            <a:miter/>
            <a:tailEnd len="med" type="arrow" w="med"/>
          </a:ln>
        </p:spPr>
      </p:cxn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152280"/>
            <a:ext cx="7499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Gill Sans MT"/>
                <a:ea typeface="Traditional Arabic"/>
              </a:rPr>
              <a:t>Summary of compensatory mechanisms of hypovolemic shock</a:t>
            </a:r>
            <a:endParaRPr b="0" lang="en-US" sz="2000" spc="-1" strike="noStrike">
              <a:solidFill>
                <a:srgbClr val="572314"/>
              </a:solidFill>
              <a:latin typeface="Gill Sans MT"/>
            </a:endParaRPr>
          </a:p>
        </p:txBody>
      </p:sp>
      <p:pic>
        <p:nvPicPr>
          <p:cNvPr id="373" name="Picture 4" descr=""/>
          <p:cNvPicPr/>
          <p:nvPr/>
        </p:nvPicPr>
        <p:blipFill>
          <a:blip r:embed="rId1"/>
          <a:stretch/>
        </p:blipFill>
        <p:spPr>
          <a:xfrm>
            <a:off x="2075040" y="647640"/>
            <a:ext cx="5849640" cy="621036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tion</a:t>
            </a:r>
            <a:endParaRPr b="0" lang="en-US" sz="4300" spc="-1" strike="noStrike">
              <a:solidFill>
                <a:srgbClr val="572314"/>
              </a:solidFill>
              <a:latin typeface="Gill Sans MT"/>
            </a:endParaRPr>
          </a:p>
        </p:txBody>
      </p:sp>
      <p:sp>
        <p:nvSpPr>
          <p:cNvPr id="330" name=""/>
          <p:cNvSpPr txBox="1"/>
          <p:nvPr/>
        </p:nvSpPr>
        <p:spPr>
          <a:xfrm>
            <a:off x="457200" y="2514240"/>
            <a:ext cx="8229600" cy="34923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adequate tissue perfusion with relatively or absolutely inadequate cardiac outpu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amp; causes:</a:t>
            </a:r>
            <a:endParaRPr b="0" lang="en-US" sz="4300" spc="-1" strike="noStrike">
              <a:solidFill>
                <a:srgbClr val="572314"/>
              </a:solidFill>
              <a:latin typeface="Gill Sans MT"/>
            </a:endParaRPr>
          </a:p>
        </p:txBody>
      </p:sp>
      <p:sp>
        <p:nvSpPr>
          <p:cNvPr id="332" name=""/>
          <p:cNvSpPr txBox="1"/>
          <p:nvPr/>
        </p:nvSpPr>
        <p:spPr>
          <a:xfrm>
            <a:off x="457200" y="2286000"/>
            <a:ext cx="8229600" cy="37209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ypovolem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stributive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diogen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structive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34" name=""/>
          <p:cNvSpPr txBox="1"/>
          <p:nvPr/>
        </p:nvSpPr>
        <p:spPr>
          <a:xfrm>
            <a:off x="1676160" y="2057040"/>
            <a:ext cx="7010280" cy="394956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ill Sans MT"/>
              </a:rPr>
              <a:t>Hypovolemic shock</a:t>
            </a:r>
            <a:r>
              <a:rPr b="0" lang="en-US" sz="2700" spc="-1" strike="noStrike">
                <a:solidFill>
                  <a:srgbClr val="000000"/>
                </a:solidFill>
                <a:latin typeface="Gill Sans MT"/>
              </a:rPr>
              <a:t>: </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Loss of blood volume  due to</a:t>
            </a:r>
            <a:r>
              <a:rPr b="0" lang="en-US" sz="2700" spc="-1" strike="noStrike">
                <a:solidFill>
                  <a:srgbClr val="000000"/>
                </a:solidFill>
                <a:latin typeface="Gill Sans MT"/>
              </a:rPr>
              <a: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emorrhage.</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rauma.</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urgery.</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Fluid loss due to:</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evere vomiting or diarrhea.</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Plasma loss;</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 in burns.</a:t>
            </a:r>
            <a:endParaRPr b="0" lang="en-US" sz="2700" spc="-1" strike="noStrike">
              <a:solidFill>
                <a:srgbClr val="000000"/>
              </a:solidFill>
              <a:latin typeface="Gill Sans MT"/>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36" name=""/>
          <p:cNvSpPr txBox="1"/>
          <p:nvPr/>
        </p:nvSpPr>
        <p:spPr>
          <a:xfrm>
            <a:off x="1295280" y="1980720"/>
            <a:ext cx="7391520" cy="402588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Gill Sans MT"/>
              </a:rPr>
              <a:t>Distributive shock:</a:t>
            </a:r>
            <a:endParaRPr b="0" lang="en-US" sz="30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so called vasogenic, low resistance shock) There is marked vasodilation caused by;</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naphylaxis (due to antigen-antibody reaction, e.g drug –induced..)</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epsis.</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eurogenic: </a:t>
            </a:r>
            <a:endParaRPr b="0" lang="en-US" sz="30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Vasovagal, acute venous dilation,… </a:t>
            </a:r>
            <a:endParaRPr b="0" lang="en-US" sz="3000" spc="-1" strike="noStrike">
              <a:solidFill>
                <a:srgbClr val="000000"/>
              </a:solidFill>
              <a:latin typeface="Gill Sans MT"/>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a:t>
            </a:r>
            <a:endParaRPr b="0" lang="en-US" sz="2800" spc="-1" strike="noStrike">
              <a:solidFill>
                <a:srgbClr val="572314"/>
              </a:solidFill>
              <a:latin typeface="Gill Sans MT"/>
            </a:endParaRPr>
          </a:p>
        </p:txBody>
      </p:sp>
      <p:sp>
        <p:nvSpPr>
          <p:cNvPr id="338" name=""/>
          <p:cNvSpPr txBox="1"/>
          <p:nvPr/>
        </p:nvSpPr>
        <p:spPr>
          <a:xfrm>
            <a:off x="1676160" y="2209680"/>
            <a:ext cx="7010280" cy="379728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Cardiogen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ults from inadequate output caused by diseased heart:</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yocardial infarction.</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gestive heart failure.</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rhythmias. </a:t>
            </a:r>
            <a:endParaRPr b="0" lang="en-US" sz="3200" spc="-1" strike="noStrike">
              <a:solidFill>
                <a:srgbClr val="000000"/>
              </a:solidFill>
              <a:latin typeface="Gill Sans MT"/>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40" name=""/>
          <p:cNvSpPr txBox="1"/>
          <p:nvPr/>
        </p:nvSpPr>
        <p:spPr>
          <a:xfrm>
            <a:off x="1218960" y="2286000"/>
            <a:ext cx="7467480" cy="37209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Obstructive shock:</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ue to obstruction to the flow of the blood:</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nsion pneumothorax.</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lmonary embolis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b80a"/>
                </a:solidFill>
                <a:latin typeface="Gill Sans MT"/>
              </a:rPr>
              <a:t>Pathophysiology of hypovolemic shock</a:t>
            </a:r>
            <a:endParaRPr b="0" lang="en-US" sz="3600" spc="-1" strike="noStrike">
              <a:solidFill>
                <a:srgbClr val="572314"/>
              </a:solidFill>
              <a:latin typeface="Gill Sans MT"/>
            </a:endParaRPr>
          </a:p>
        </p:txBody>
      </p:sp>
      <p:sp>
        <p:nvSpPr>
          <p:cNvPr id="342" name=""/>
          <p:cNvSpPr txBox="1"/>
          <p:nvPr/>
        </p:nvSpPr>
        <p:spPr>
          <a:xfrm>
            <a:off x="1523520" y="2133360"/>
            <a:ext cx="7162920" cy="3873240"/>
          </a:xfrm>
          <a:prstGeom prst="rect">
            <a:avLst/>
          </a:prstGeom>
          <a:noFill/>
          <a:ln w="0">
            <a:noFill/>
          </a:ln>
        </p:spPr>
        <p:txBody>
          <a:bodyPr lIns="90000" rIns="90000" tIns="46800" bIns="46800"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ill Sans MT"/>
              </a:rPr>
              <a:t>Characterized by:</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otensio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apid thready pulse.</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Cold, pale ski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tense thirst.</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apid respiratio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stlessness.</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ccording to the cause hypovolemic shock is subdivided into; hemorrhagic, traumatic, surgical, burn shock.</a:t>
            </a:r>
            <a:endParaRPr b="0" lang="en-US" sz="2700" spc="-1" strike="noStrike">
              <a:solidFill>
                <a:srgbClr val="000000"/>
              </a:solidFill>
              <a:latin typeface="Gill Sans MT"/>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07:03Z</dcterms:created>
  <dc:creator>hp</dc:creator>
  <dc:description/>
  <dc:language>en-US</dc:language>
  <cp:lastModifiedBy>user</cp:lastModifiedBy>
  <dcterms:modified xsi:type="dcterms:W3CDTF">2015-03-17T03:57:22Z</dcterms:modified>
  <cp:revision>25</cp:revision>
  <dc:subject/>
  <dc:title>Shock &amp; Heamorrhage</dc:title>
</cp:coreProperties>
</file>