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E9944-E0CD-42EC-9E2D-4738A7BDE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F7A6-FD2E-42D1-BA05-A3A644A5D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B09AE-2779-4B89-980A-AE2E70A58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3358C-BC17-4B2C-9B58-E7E58EA44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3E9F6-C996-4748-AFD8-95D1EE078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8FF94-5218-49CB-B15A-74501605A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BE477-3944-4468-B9FE-219A211B7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16589-4467-4908-A798-3BB2E1A1B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B68D0-4E36-41A7-B58F-46D47889A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6796-2781-46DA-B514-6FA49E648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9D7D-9EA0-4BC5-A0EC-100022210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B0F4D-8D7E-4582-8E72-1A4586459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80B38-FB38-4825-9C4E-77C946A71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70E92-7FD3-4196-84C1-1F509AD6D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FAEC2-4BBD-49B4-8969-F8ACAF1FF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EE073-99F4-4BC7-8D07-F07E296A4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90377-7BC1-4959-ADCE-74B6FB536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6A5386-EFCE-4C67-B936-C6BD94DAF8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E609E-F171-4980-A50C-4DCD30E65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58BDF-759B-4623-8882-B6934D445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F2AC3-0FCA-4229-A29E-8E2C04E4F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E1EFE-EBAF-45AE-A672-CC6FBD2CD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6C1A8-01F9-4070-A417-71890367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DB87A-1100-48AF-907C-75752627F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46FA1-B08B-4597-A5C1-1D39C256B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089AF-40B6-4CAC-B363-E1F4BB426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B49C5-856B-4EBF-8D2E-FE4A8315A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DF4FA-ECED-492D-AE88-F2E7A459A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C02A4-0E00-4DD0-AA83-0792A9E28D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1954AC-B86D-499E-BFF1-90E6F1324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094B4E-E0C5-4F3B-872F-F129161765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7DB1A-F4F7-4DCC-9A2D-3069C3230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AD2DD-B31F-4B00-866D-ED905E827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6BD9-1C00-4999-A982-7E06381EA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928B4-ECF8-498E-8597-B99A2B135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F226F-EA18-4AB3-82DF-ACE70936A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2529DD-982B-4AE2-8C18-2BDC2C2BE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31A97-8E27-4C70-ABC1-26B29C784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25BC5-FF3C-488C-830B-CC0610675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5C71F-DBC1-4333-8748-9F063618A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58432-6854-4365-A981-AB8A94F6E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9D98E-8EC2-4C68-8223-E6EA100BB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E7941-A49E-4DA3-B1F9-A8A14CE75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EFD4F3-A979-4FB1-917C-30218B8177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E84DF-7BB2-41E2-BA81-F82FB18E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F8B82F-7A39-43BC-9B2A-42677943C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A4DE2-5492-43D1-956B-167DD79A0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0FC0E-5467-4D15-AF87-C52A17B68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D8A2F-48F0-453A-83E4-1A247C789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4C5C5-7FBB-4D09-BE75-92BA45253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E4CD9-C67B-4FB8-8C08-B9305EC43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A6DF2-9A6D-4AFF-896E-3CEF1BD7A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2D6F3-6A49-45B7-81EC-F834C583C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D2683-EB4F-4D5F-AD2A-9C048DC80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429B76-BD33-4681-8055-5ECB59D59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C2C5-BE63-4EE5-B9B4-B6BA3D78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79A4E9-5E7C-4700-8D54-894EF114E5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9C9F3-28DA-49DC-B86A-5D8F55A9F7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8F60E-5A99-41BA-97C4-5552CB58B4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96CAF-F0E5-42DA-865F-4CEA94A93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77DC2-081C-45D2-9E2C-15589FCF0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B3A36-67AC-4BF3-924B-270C28E0E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AEEA5-080C-4A6B-9F09-B1F77524C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A6A66-4E09-49D9-923B-4B8AEB7D3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62021-A8CC-4CB8-B6FE-2CD752CE5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EE77A-F488-47F1-AA20-20D34EC96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F71B-6DCD-4BCB-98D3-7E2D0695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9979A-960C-4A5E-8D2A-A4D1AC717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86493E-94E6-4B13-B842-A6532F257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876A4-391F-4477-949F-03408B2F06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1CFA38-07A8-4FAD-8527-4C1CBEFC85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CE627-20AF-48EB-9C23-43777C1E6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B3CAC-9DD4-48C9-8D2C-0D2736E0C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312AF-C201-4773-8C1B-8864CB471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6CB33-32F5-44D2-B4F6-F2A1F0305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F0245-2949-4C11-A671-6F2FAABBA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C7B64-7E44-4EC7-97C1-04009A819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9AF1-87EE-4C59-93AE-0233CA334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78470-B122-43C3-904A-5CA6CCB9B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E584D-D912-4AA3-86F5-A2ACA5584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A6802F-1700-4A14-99DC-56C0D0E02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0BBC85-686C-4061-9001-034619093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197B7C-B3E7-40E9-9245-A5108BF507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4072-2910-4CBE-B4C7-F88943729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478B-6357-4765-A8D5-91C12F48AFA4}"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1A57-4077-46B3-B212-BB344FF0861C}"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1204-E93A-4E46-B5A6-29050EDC2C3E}"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E6F6-323C-4F3D-8A2D-8A54EC06FFE2}"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A89-AF95-446F-ACBE-CFB6A9F0F2B8}"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EA21-12DE-40F6-8919-995278D8809F}"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5073-13D3-4D99-9A8A-26469D7B8165}"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9040" y="4243320"/>
            <a:ext cx="79977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Majalla UI"/>
              </a:rPr>
              <a:t>DR. Eman El Et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557360"/>
            <a:ext cx="8229600" cy="4767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ea typeface="Majalla UI"/>
              </a:rPr>
              <a:t>3- Nervous regulation:</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rbel"/>
                <a:ea typeface="Majalla UI"/>
              </a:rPr>
              <a:t>Activation of sympathetic </a:t>
            </a:r>
            <a:r>
              <a:rPr b="0" lang="en-US" sz="2400" spc="-1" strike="noStrike">
                <a:solidFill>
                  <a:srgbClr val="ffffff"/>
                </a:solidFill>
                <a:latin typeface="Corbel"/>
                <a:ea typeface="Majalla UI"/>
              </a:rPr>
              <a:t>nerves innervating the coronary vasculature causes only transient vasoconstriction mediated </a:t>
            </a:r>
            <a:r>
              <a:rPr b="0" lang="en-US" sz="2400" spc="-1" strike="noStrike">
                <a:solidFill>
                  <a:srgbClr val="ff0000"/>
                </a:solidFill>
                <a:latin typeface="Corbel"/>
                <a:ea typeface="Majalla UI"/>
              </a:rPr>
              <a:t> </a:t>
            </a:r>
            <a:r>
              <a:rPr b="0" lang="en-US" sz="2400" spc="-1" strike="noStrike">
                <a:solidFill>
                  <a:srgbClr val="ffffff"/>
                </a:solidFill>
                <a:latin typeface="Corbel"/>
                <a:ea typeface="Majalla UI"/>
              </a:rPr>
              <a:t>by a1-adrenoceptors.  This brief vasoconstrictor response is followed by vasodilation caused by enhanced production of vasodilator metabolites (active hyperemia) due to increased mechanical and metabolic activity of the heart resulting from b1-adrenoceptors</a:t>
            </a:r>
            <a:r>
              <a:rPr b="0" lang="en-US" sz="2400" spc="-1" strike="noStrike">
                <a:solidFill>
                  <a:srgbClr val="ff0000"/>
                </a:solidFill>
                <a:latin typeface="Corbel"/>
                <a:ea typeface="Majalla UI"/>
              </a:rPr>
              <a:t> </a:t>
            </a:r>
            <a:r>
              <a:rPr b="0" lang="en-US" sz="2400" spc="-1" strike="noStrike">
                <a:solidFill>
                  <a:srgbClr val="ffffff"/>
                </a:solidFill>
                <a:latin typeface="Corbel"/>
                <a:ea typeface="Majalla UI"/>
              </a:rPr>
              <a:t>activation of the myocardium.  </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Therefore, sympathetic activation to the heart results in coronary vasodilation and increased coronary flow due to increased metabolic activity (increased heart rate, contractility) despite direct vasoconstrictor effects of sympathetic activation on the coronaries. </a:t>
            </a:r>
            <a:endParaRPr b="0" lang="en-US" sz="2400" spc="-1" strike="noStrike">
              <a:solidFill>
                <a:srgbClr val="ffffff"/>
              </a:solidFill>
              <a:latin typeface="Corbel"/>
            </a:endParaRPr>
          </a:p>
        </p:txBody>
      </p:sp>
      <p:sp>
        <p:nvSpPr>
          <p:cNvPr id="390" name="TextBox 2"/>
          <p:cNvSpPr/>
          <p:nvPr/>
        </p:nvSpPr>
        <p:spPr>
          <a:xfrm>
            <a:off x="684360" y="404640"/>
            <a:ext cx="66243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Factors affecting coronary blood flow, cont</a:t>
            </a:r>
            <a:r>
              <a:rPr b="0" lang="en-US" sz="2400" spc="-1" strike="noStrike">
                <a:solidFill>
                  <a:srgbClr val="c000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88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olas"/>
                <a:ea typeface="Traditional Arabic"/>
              </a:rPr>
              <a:t>Factors affecting coronary blood flow, cont.,….</a:t>
            </a:r>
            <a:endParaRPr b="0" lang="en-US" sz="28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ea typeface="Majalla UI"/>
              </a:rPr>
              <a:t>Parasympathetic stimulation of the heart:</a:t>
            </a:r>
            <a:endParaRPr b="0" lang="en-US" sz="28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Causes modest coronary vasodilation (due to the direct effects of released acetylcholine on the coronaries). </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However, if parasympathetic activation of the heart results in a significant decrease in myocardial oxygen demand due to a reduction in heart rate, then intrinsic metabolic mechanisms will increase coronary vascular resistance by constricting the vessels. </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557360"/>
            <a:ext cx="8229600" cy="47671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In summary, Sympathetic activation to the heart results in coronary vasodilation and increased coronary flow due to increased metabolic activity (increased heart rate, contractility).</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Parasympathetic activation of the heart results in a significant decrease in myocardial oxygen demand due to a reduction in heart rate,  and so decreases coronary blood flow.</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94" name="TextBox 2"/>
          <p:cNvSpPr/>
          <p:nvPr/>
        </p:nvSpPr>
        <p:spPr>
          <a:xfrm>
            <a:off x="684360" y="404640"/>
            <a:ext cx="66243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Factors affecting coronary blood flow, cont</a:t>
            </a:r>
            <a:r>
              <a:rPr b="0" lang="en-US" sz="2400" spc="-1" strike="noStrike">
                <a:solidFill>
                  <a:srgbClr val="c000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900" spc="-1" strike="noStrike">
                <a:solidFill>
                  <a:srgbClr val="c00000"/>
                </a:solidFill>
                <a:latin typeface="Consolas"/>
                <a:ea typeface="Majalla UI"/>
              </a:rPr>
              <a:t>What is the most vulnerable portion of the heart to ischemia?</a:t>
            </a:r>
            <a:endParaRPr b="0" lang="en-US" sz="2900" spc="-1" strike="noStrike">
              <a:solidFill>
                <a:srgbClr val="c1eeff"/>
              </a:solidFill>
              <a:latin typeface="Consolas"/>
            </a:endParaRPr>
          </a:p>
        </p:txBody>
      </p:sp>
      <p:sp>
        <p:nvSpPr>
          <p:cNvPr id="396" name=""/>
          <p:cNvSpPr txBox="1"/>
          <p:nvPr/>
        </p:nvSpPr>
        <p:spPr>
          <a:xfrm>
            <a:off x="914400" y="1784520"/>
            <a:ext cx="7772400" cy="4572000"/>
          </a:xfrm>
          <a:prstGeom prst="rect">
            <a:avLst/>
          </a:prstGeom>
          <a:noFill/>
          <a:ln w="0">
            <a:noFill/>
          </a:ln>
        </p:spPr>
        <p:txBody>
          <a:bodyPr anchor="t">
            <a:normAutofit fontScale="96000"/>
          </a:bodyPr>
          <a:p>
            <a:pPr marL="306000" indent="-306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ecause there is no blood flow during systole in the subendocardial portion of the left ventricle, this region is prone to ischemic damage and is the most common site of myocardial infarction.</a:t>
            </a:r>
            <a:endParaRPr b="0" lang="en-US" sz="2800" spc="-1" strike="noStrike">
              <a:solidFill>
                <a:srgbClr val="ffffff"/>
              </a:solidFill>
              <a:latin typeface="Corbel"/>
            </a:endParaRPr>
          </a:p>
          <a:p>
            <a:pPr marL="306000" indent="-306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lood flow to the left ventricle is decreased in patients with stenotic aortic valves because in aortic stenosis the pressure in the left ventricle must be much higher than that in the aorta to eject blood. Consequently, coronary vessels are severely compressed during systole. These patients are more prone to develop myocardial ischemi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57120"/>
            <a:ext cx="8229600" cy="76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nsolas"/>
                <a:ea typeface="Traditional Arabic"/>
              </a:rPr>
              <a:t>Oxygen consumption by the heart and energy substrate</a:t>
            </a:r>
            <a:endParaRPr b="0" lang="en-US" sz="3200" spc="-1" strike="noStrike">
              <a:solidFill>
                <a:srgbClr val="c1eeff"/>
              </a:solidFill>
              <a:latin typeface="Consolas"/>
            </a:endParaRPr>
          </a:p>
        </p:txBody>
      </p:sp>
      <p:sp>
        <p:nvSpPr>
          <p:cNvPr id="398" name=""/>
          <p:cNvSpPr txBox="1"/>
          <p:nvPr/>
        </p:nvSpPr>
        <p:spPr>
          <a:xfrm>
            <a:off x="457200" y="1628640"/>
            <a:ext cx="8229600" cy="4695840"/>
          </a:xfrm>
          <a:prstGeom prst="rect">
            <a:avLst/>
          </a:prstGeom>
          <a:noFill/>
          <a:ln w="0">
            <a:noFill/>
          </a:ln>
        </p:spPr>
        <p:txBody>
          <a:bodyPr anchor="t">
            <a:normAutofit/>
          </a:bodyPr>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At rest, O2 consumption by beating heart = 9 ml/100 g/min.</a:t>
            </a:r>
            <a:endParaRPr b="0" lang="en-US" sz="2600" spc="-1" strike="noStrike">
              <a:solidFill>
                <a:srgbClr val="ffffff"/>
              </a:solidFill>
              <a:latin typeface="Corbel"/>
            </a:endParaRPr>
          </a:p>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During ms.ex increases in myocardial O2 consumption are met by increases in CBF.</a:t>
            </a:r>
            <a:endParaRPr b="0" lang="en-US" sz="2600" spc="-1" strike="noStrike">
              <a:solidFill>
                <a:srgbClr val="ffffff"/>
              </a:solidFill>
              <a:latin typeface="Corbel"/>
            </a:endParaRPr>
          </a:p>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O2 consumption by the heart is determined by:</a:t>
            </a:r>
            <a:endParaRPr b="0" lang="en-US" sz="26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Intra-myocardial tension.</a:t>
            </a:r>
            <a:endParaRPr b="0" lang="en-US" sz="22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Contractile state of the myocardium.</a:t>
            </a:r>
            <a:endParaRPr b="0" lang="en-US" sz="22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Heart rate.</a:t>
            </a:r>
            <a:endParaRPr b="0" lang="en-US" sz="2200" spc="-1" strike="noStrike">
              <a:solidFill>
                <a:srgbClr val="ffffff"/>
              </a:solidFill>
              <a:latin typeface="Corbel"/>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	</a:t>
            </a:r>
            <a:endParaRPr b="0" lang="en-US" sz="2200" spc="-1" strike="noStrike">
              <a:solidFill>
                <a:srgbClr val="ffffff"/>
              </a:solidFill>
              <a:latin typeface="Corbel"/>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Work load: An increase in afterload causes greater increase in O2 consumption than an increase in preload does. This is why angina due to deficient delivery of O2 to the myocardium is more common in aortic stenosis than in aortic regurg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nsolas"/>
                <a:ea typeface="Traditional Arabic"/>
              </a:rPr>
              <a:t>Oxygen consumption by the heart and energy substrate, cont…….</a:t>
            </a:r>
            <a:endParaRPr b="0" lang="en-US" sz="24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eart has the largest metabolic demands</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r gram of any organ in the body. Adequate</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ounts of </a:t>
            </a:r>
            <a:r>
              <a:rPr b="0" lang="en-US" sz="3000" spc="-1" strike="noStrike">
                <a:solidFill>
                  <a:srgbClr val="ff0000"/>
                </a:solidFill>
                <a:latin typeface="Corbel"/>
              </a:rPr>
              <a:t>chemical fuel</a:t>
            </a:r>
            <a:r>
              <a:rPr b="0" lang="en-US" sz="3000" spc="-1" strike="noStrike">
                <a:solidFill>
                  <a:srgbClr val="ffffff"/>
                </a:solidFill>
                <a:latin typeface="Corbel"/>
              </a:rPr>
              <a:t>, namely adenosine</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iphosphate (ATP), must be generated to support  the heart’s contractile demands and maintain viability. </a:t>
            </a:r>
            <a:endParaRPr b="0" lang="en-US" sz="30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Fatty acids</a:t>
            </a:r>
            <a:r>
              <a:rPr b="0" lang="en-US" sz="3000" spc="-1" strike="noStrike">
                <a:solidFill>
                  <a:srgbClr val="ffffff"/>
                </a:solidFill>
                <a:latin typeface="Corbel"/>
              </a:rPr>
              <a:t>, </a:t>
            </a:r>
            <a:r>
              <a:rPr b="0" lang="en-US" sz="3000" spc="-1" strike="noStrike">
                <a:solidFill>
                  <a:srgbClr val="ff0000"/>
                </a:solidFill>
                <a:latin typeface="Corbel"/>
              </a:rPr>
              <a:t>ketone</a:t>
            </a:r>
            <a:r>
              <a:rPr b="0" lang="en-US" sz="3000" spc="-1" strike="noStrike">
                <a:solidFill>
                  <a:srgbClr val="ffffff"/>
                </a:solidFill>
                <a:latin typeface="Corbel"/>
              </a:rPr>
              <a:t> bodies, and </a:t>
            </a:r>
            <a:r>
              <a:rPr b="0" lang="en-US" sz="3000" spc="-1" strike="noStrike">
                <a:solidFill>
                  <a:srgbClr val="ff0000"/>
                </a:solidFill>
                <a:latin typeface="Corbel"/>
              </a:rPr>
              <a:t>carbohydrates</a:t>
            </a:r>
            <a:r>
              <a:rPr b="0" lang="en-US" sz="3000" spc="-1" strike="noStrike">
                <a:solidFill>
                  <a:srgbClr val="ffffff"/>
                </a:solidFill>
                <a:latin typeface="Corbel"/>
              </a:rPr>
              <a:t> are the primary substrates of the heart  and are metabolized to generate ATP.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nsolas"/>
                <a:ea typeface="Traditional Arabic"/>
              </a:rPr>
              <a:t>Oxygen consumption by the heart and energy substrate, cont…….</a:t>
            </a:r>
            <a:endParaRPr b="0" lang="en-US" sz="24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Optimal cardiac function depends on the efficient matching of energy generation pathways to energy expenditure. This balance requires the close communication and regulation of various metabolic pathways.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Fatty acids </a:t>
            </a:r>
            <a:r>
              <a:rPr b="0" lang="en-US" sz="2800" spc="-1" strike="noStrike">
                <a:solidFill>
                  <a:srgbClr val="ffffff"/>
                </a:solidFill>
                <a:latin typeface="Corbel"/>
              </a:rPr>
              <a:t>are the major source of acetyl coenzyme A for the Krebs cycle and of the oxidative production of ATP.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Glycolysis</a:t>
            </a:r>
            <a:r>
              <a:rPr b="0" lang="en-US" sz="2800" spc="-1" strike="noStrike">
                <a:solidFill>
                  <a:srgbClr val="ffffff"/>
                </a:solidFill>
                <a:latin typeface="Corbel"/>
              </a:rPr>
              <a:t> converts glucose to pyruvate and provides a relatively small amount of ATP to the normal adult heart.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onsolas"/>
                <a:ea typeface="Arial"/>
              </a:rPr>
              <a:t>Risk factors for coronary artery disease</a:t>
            </a:r>
            <a:endParaRPr b="0" lang="en-US" sz="3600" spc="-1" strike="noStrike">
              <a:solidFill>
                <a:srgbClr val="c1eeff"/>
              </a:solidFill>
              <a:latin typeface="Consolas"/>
            </a:endParaRPr>
          </a:p>
        </p:txBody>
      </p:sp>
      <p:sp>
        <p:nvSpPr>
          <p:cNvPr id="404" name="TextBox 3"/>
          <p:cNvSpPr/>
          <p:nvPr/>
        </p:nvSpPr>
        <p:spPr>
          <a:xfrm>
            <a:off x="900000" y="2133720"/>
            <a:ext cx="4289400" cy="2654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Conventional risk factors</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Older age</a:t>
            </a:r>
            <a:r>
              <a:rPr b="0" lang="en-US" sz="1800" spc="-1" strike="noStrike">
                <a:solidFill>
                  <a:srgbClr val="ffffff"/>
                </a:solidFill>
                <a:latin typeface="Arial"/>
                <a:ea typeface="Arial"/>
              </a:rPr>
              <a:t>: Over age 45 years in men and over age 55 years in women</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Family history </a:t>
            </a:r>
            <a:r>
              <a:rPr b="0" lang="en-US" sz="1800" spc="-1" strike="noStrike">
                <a:solidFill>
                  <a:srgbClr val="ffffff"/>
                </a:solidFill>
                <a:latin typeface="Arial"/>
                <a:ea typeface="Arial"/>
              </a:rPr>
              <a:t>of early heart disease</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Race</a:t>
            </a:r>
            <a:r>
              <a:rPr b="0" lang="en-US" sz="1800" spc="-1" strike="noStrike">
                <a:solidFill>
                  <a:srgbClr val="ffffff"/>
                </a:solidFill>
                <a:latin typeface="Arial"/>
                <a:ea typeface="Arial"/>
              </a:rPr>
              <a:t>: Among persons with CAD, the cardiovascular death rate for African Americans is reported to be particularly high</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5" name="Picture 5" descr="http://circ.ahajournals.org/content/111/25/3481/F4.medium.gif"/>
          <p:cNvPicPr/>
          <p:nvPr/>
        </p:nvPicPr>
        <p:blipFill>
          <a:blip r:embed="rId1"/>
          <a:stretch/>
        </p:blipFill>
        <p:spPr>
          <a:xfrm>
            <a:off x="5435640" y="2205000"/>
            <a:ext cx="355428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nsolas"/>
                <a:ea typeface="Arial"/>
              </a:rPr>
              <a:t>Risk factors for coronary artery disease, cont……..</a:t>
            </a:r>
            <a:endParaRPr b="0" lang="en-US" sz="2800" spc="-1" strike="noStrike">
              <a:solidFill>
                <a:srgbClr val="c1eeff"/>
              </a:solidFill>
              <a:latin typeface="Consolas"/>
            </a:endParaRPr>
          </a:p>
        </p:txBody>
      </p:sp>
      <p:sp>
        <p:nvSpPr>
          <p:cNvPr id="407" name=""/>
          <p:cNvSpPr txBox="1"/>
          <p:nvPr/>
        </p:nvSpPr>
        <p:spPr>
          <a:xfrm>
            <a:off x="914400" y="2133720"/>
            <a:ext cx="7772400" cy="42228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Corbel"/>
              </a:rPr>
              <a:t>Modifiable risk factors</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High blood cholesterol levels (specifically, low-density lipoprotein cholesterol [LDL-C])</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High blood pressure</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Cigarette smoking: Cessation of cigarette smoking constitutes the single most important preventive measure for CAD</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Diabetes mellitus</a:t>
            </a:r>
            <a:r>
              <a:rPr b="0" lang="en-US" sz="2100" spc="-1" strike="noStrike" baseline="30000">
                <a:solidFill>
                  <a:srgbClr val="ffffff"/>
                </a:solidFill>
                <a:latin typeface="Corbel"/>
              </a:rPr>
              <a:t>[1]</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Obesity</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Lack of physical activity</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Metabolic syndrome</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Mental stress and depression</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ions of coronaries</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4" descr="http://circ.ahajournals.org/content/111/25/3481/F1.medium.gif"/>
          <p:cNvPicPr/>
          <p:nvPr/>
        </p:nvPicPr>
        <p:blipFill>
          <a:blip r:embed="rId1"/>
          <a:stretch/>
        </p:blipFill>
        <p:spPr>
          <a:xfrm>
            <a:off x="395280" y="1422360"/>
            <a:ext cx="8748720" cy="50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28760"/>
            <a:ext cx="8229600" cy="100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onsolas"/>
                <a:ea typeface="Traditional Arabic"/>
              </a:rPr>
              <a:t>Coronary Arteries</a:t>
            </a:r>
            <a:endParaRPr b="0" lang="en-US" sz="4000" spc="-1" strike="noStrike">
              <a:solidFill>
                <a:srgbClr val="c1eeff"/>
              </a:solidFill>
              <a:latin typeface="Consolas"/>
            </a:endParaRPr>
          </a:p>
        </p:txBody>
      </p:sp>
      <p:pic>
        <p:nvPicPr>
          <p:cNvPr id="371" name="Picture 3" descr=""/>
          <p:cNvPicPr/>
          <p:nvPr/>
        </p:nvPicPr>
        <p:blipFill>
          <a:blip r:embed="rId1"/>
          <a:stretch/>
        </p:blipFill>
        <p:spPr>
          <a:xfrm>
            <a:off x="684360" y="1703520"/>
            <a:ext cx="3958920" cy="3378240"/>
          </a:xfrm>
          <a:prstGeom prst="rect">
            <a:avLst/>
          </a:prstGeom>
          <a:ln w="0">
            <a:noFill/>
          </a:ln>
        </p:spPr>
      </p:pic>
      <p:sp>
        <p:nvSpPr>
          <p:cNvPr id="372" name=""/>
          <p:cNvSpPr txBox="1"/>
          <p:nvPr/>
        </p:nvSpPr>
        <p:spPr>
          <a:xfrm>
            <a:off x="4648320" y="1484280"/>
            <a:ext cx="4038480" cy="5113440"/>
          </a:xfrm>
          <a:prstGeom prst="rect">
            <a:avLst/>
          </a:prstGeom>
          <a:noFill/>
          <a:ln w="0">
            <a:noFill/>
          </a:ln>
        </p:spPr>
        <p:txBody>
          <a:bodyPr anchor="t">
            <a:normAutofit fontScale="94000"/>
          </a:bodyPr>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Corbel"/>
              </a:rPr>
              <a:t>	</a:t>
            </a:r>
            <a:r>
              <a:rPr b="0" lang="en-US" sz="2600" spc="-1" strike="noStrike">
                <a:solidFill>
                  <a:srgbClr val="ffffff"/>
                </a:solidFill>
                <a:latin typeface="Corbel"/>
              </a:rPr>
              <a:t>The major  vessels of the coronary circulation are:</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1- </a:t>
            </a:r>
            <a:r>
              <a:rPr b="1" lang="en-US" sz="2600" spc="-1" strike="noStrike">
                <a:solidFill>
                  <a:srgbClr val="ffffff"/>
                </a:solidFill>
                <a:latin typeface="Corbel"/>
              </a:rPr>
              <a:t>left main coronary </a:t>
            </a:r>
            <a:r>
              <a:rPr b="0" lang="en-US" sz="2600" spc="-1" strike="noStrike">
                <a:solidFill>
                  <a:srgbClr val="ffffff"/>
                </a:solidFill>
                <a:latin typeface="Corbel"/>
              </a:rPr>
              <a:t>that divides into left anterior descending and circumflex branches,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2- </a:t>
            </a:r>
            <a:r>
              <a:rPr b="1" lang="en-US" sz="2600" spc="-1" strike="noStrike">
                <a:solidFill>
                  <a:srgbClr val="ffffff"/>
                </a:solidFill>
                <a:latin typeface="Corbel"/>
              </a:rPr>
              <a:t>right  coronary </a:t>
            </a:r>
            <a:r>
              <a:rPr b="0" lang="en-US" sz="2600" spc="-1" strike="noStrike">
                <a:solidFill>
                  <a:srgbClr val="ffffff"/>
                </a:solidFill>
                <a:latin typeface="Corbel"/>
              </a:rPr>
              <a:t>artery.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left and right coronary arteries originate at the base of the aorta from openings called the coronary ostia located behind the aortic valve leaflets.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1371600" y="1066680"/>
            <a:ext cx="6246720" cy="2754360"/>
          </a:xfrm>
          <a:prstGeom prst="rect">
            <a:avLst/>
          </a:prstGeom>
          <a:ln w="0">
            <a:noFill/>
          </a:ln>
        </p:spPr>
      </p:pic>
      <p:sp>
        <p:nvSpPr>
          <p:cNvPr id="412" name="PlaceHolder 1"/>
          <p:cNvSpPr>
            <a:spLocks noGrp="1"/>
          </p:cNvSpPr>
          <p:nvPr>
            <p:ph type="title"/>
          </p:nvPr>
        </p:nvSpPr>
        <p:spPr>
          <a:xfrm>
            <a:off x="533520" y="472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1eeff"/>
                </a:solidFill>
                <a:latin typeface="Consolas"/>
              </a:rPr>
              <a:t>Electrocardiographic changes during</a:t>
            </a:r>
            <a:br>
              <a:rPr sz="2900"/>
            </a:br>
            <a:r>
              <a:rPr b="1" lang="en-US" sz="2900" spc="-1" strike="noStrike">
                <a:solidFill>
                  <a:srgbClr val="c1eeff"/>
                </a:solidFill>
                <a:latin typeface="Consolas"/>
              </a:rPr>
              <a:t>exercise test. </a:t>
            </a:r>
            <a:r>
              <a:rPr b="0" lang="en-US" sz="2900" spc="-1" strike="noStrike">
                <a:solidFill>
                  <a:srgbClr val="c1eeff"/>
                </a:solidFill>
                <a:latin typeface="Consolas"/>
              </a:rPr>
              <a:t>Upper trace – significant horizontal ST segment depression during exercise.</a:t>
            </a:r>
            <a:br>
              <a:rPr sz="4200"/>
            </a:br>
            <a:endParaRPr b="0" lang="en-US" sz="2900" spc="-1" strike="noStrike">
              <a:solidFill>
                <a:srgbClr val="c1eeff"/>
              </a:solidFill>
              <a:latin typeface="Consolas"/>
            </a:endParaRPr>
          </a:p>
        </p:txBody>
      </p:sp>
      <p:sp>
        <p:nvSpPr>
          <p:cNvPr id="413" name="Slide Number Placeholder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2E7F-B15E-4324-976E-01697EA99B17}"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2700360" y="44280"/>
            <a:ext cx="3887640" cy="6813720"/>
          </a:xfrm>
          <a:prstGeom prst="rect">
            <a:avLst/>
          </a:prstGeom>
          <a:ln w="0">
            <a:noFill/>
          </a:ln>
        </p:spPr>
      </p:pic>
      <p:sp>
        <p:nvSpPr>
          <p:cNvPr id="415"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C174-9D02-4493-96BE-8AD558FE5CA2}"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onsolas"/>
                <a:ea typeface="Traditional Arabic"/>
              </a:rPr>
              <a:t>Coronary blood flow:</a:t>
            </a:r>
            <a:endParaRPr b="0" lang="en-US" sz="4000" spc="-1" strike="noStrike">
              <a:solidFill>
                <a:srgbClr val="c1eeff"/>
              </a:solidFill>
              <a:latin typeface="Consolas"/>
            </a:endParaRPr>
          </a:p>
        </p:txBody>
      </p:sp>
      <p:sp>
        <p:nvSpPr>
          <p:cNvPr id="374" name=""/>
          <p:cNvSpPr txBox="1"/>
          <p:nvPr/>
        </p:nvSpPr>
        <p:spPr>
          <a:xfrm>
            <a:off x="465120" y="1770120"/>
            <a:ext cx="4038480" cy="4525920"/>
          </a:xfrm>
          <a:prstGeom prst="rect">
            <a:avLst/>
          </a:prstGeom>
          <a:noFill/>
          <a:ln w="0">
            <a:noFill/>
          </a:ln>
        </p:spPr>
        <p:txBody>
          <a:bodyPr anchor="t">
            <a:normAutofit fontScale="95000"/>
          </a:bodyPr>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The right coronary artery has a greater flow in 50% of population.</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The left has a greater flow in 20% .</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Flow is equal in 30%.</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Coronary blood flow at rest in humans = 250 ml/min (5% of cardiac output)</a:t>
            </a:r>
            <a:endParaRPr b="0" lang="en-US" sz="2600" spc="-1" strike="noStrike">
              <a:solidFill>
                <a:srgbClr val="ffffff"/>
              </a:solidFill>
              <a:latin typeface="Corbel"/>
            </a:endParaRPr>
          </a:p>
        </p:txBody>
      </p:sp>
      <p:sp>
        <p:nvSpPr>
          <p:cNvPr id="375" name=""/>
          <p:cNvSpPr txBox="1"/>
          <p:nvPr/>
        </p:nvSpPr>
        <p:spPr>
          <a:xfrm>
            <a:off x="4656240" y="1770120"/>
            <a:ext cx="4038480" cy="4525920"/>
          </a:xfrm>
          <a:prstGeom prst="rect">
            <a:avLst/>
          </a:prstGeom>
          <a:noFill/>
          <a:ln w="0">
            <a:noFill/>
          </a:ln>
        </p:spPr>
        <p:txBody>
          <a:bodyPr anchor="t">
            <a:normAutofit/>
          </a:bodyPr>
          <a:p>
            <a:pPr marL="318960" indent="-3189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orbel"/>
                <a:ea typeface="Majalla UI"/>
              </a:rPr>
              <a:t>Venous blood</a:t>
            </a:r>
            <a:r>
              <a:rPr b="0" lang="en-US" sz="2600" spc="-1" strike="noStrike">
                <a:solidFill>
                  <a:srgbClr val="ffffff"/>
                </a:solidFill>
                <a:latin typeface="Corbel"/>
                <a:ea typeface="Majalla UI"/>
              </a:rPr>
              <a:t>:</a:t>
            </a:r>
            <a:endParaRPr b="0" lang="en-US" sz="2600" spc="-1" strike="noStrike">
              <a:solidFill>
                <a:srgbClr val="ffffff"/>
              </a:solidFill>
              <a:latin typeface="Corbel"/>
            </a:endParaRPr>
          </a:p>
          <a:p>
            <a:pPr marL="318960" indent="-3189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Most of the venous drainage of the heart returns through the coronary sinus and anterior cardiac vein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olas"/>
                <a:ea typeface="Arial"/>
              </a:rPr>
              <a:t>Coronary blood flow, cont…….</a:t>
            </a:r>
            <a:endParaRPr b="0" lang="en-US" sz="2400" spc="-1" strike="noStrike">
              <a:solidFill>
                <a:srgbClr val="c1eeff"/>
              </a:solidFill>
              <a:latin typeface="Consolas"/>
            </a:endParaRPr>
          </a:p>
        </p:txBody>
      </p:sp>
      <p:sp>
        <p:nvSpPr>
          <p:cNvPr id="377" name=""/>
          <p:cNvSpPr txBox="1"/>
          <p:nvPr/>
        </p:nvSpPr>
        <p:spPr>
          <a:xfrm>
            <a:off x="465120" y="1770120"/>
            <a:ext cx="4038480" cy="4525920"/>
          </a:xfrm>
          <a:prstGeom prst="rect">
            <a:avLst/>
          </a:prstGeom>
          <a:noFill/>
          <a:ln w="0">
            <a:noFill/>
          </a:ln>
        </p:spPr>
        <p:txBody>
          <a:bodyPr anchor="t">
            <a:normAutofit/>
          </a:bodyPr>
          <a:p>
            <a:pPr marL="318960" indent="-3189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rest the heart extracts 60-70% of oxygen from blood delivered to the heart.</a:t>
            </a:r>
            <a:endParaRPr b="0" lang="en-US" sz="2800" spc="-1" strike="noStrike">
              <a:solidFill>
                <a:srgbClr val="ffffff"/>
              </a:solidFill>
              <a:latin typeface="Corbel"/>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	</a:t>
            </a:r>
            <a:r>
              <a:rPr b="0" lang="en-US" sz="2800" spc="-1" strike="noStrike">
                <a:solidFill>
                  <a:srgbClr val="ffffff"/>
                </a:solidFill>
                <a:latin typeface="Corbel"/>
              </a:rPr>
              <a:t>Why?</a:t>
            </a:r>
            <a:endParaRPr b="0" lang="en-US" sz="2800" spc="-1" strike="noStrike">
              <a:solidFill>
                <a:srgbClr val="ffffff"/>
              </a:solidFill>
              <a:latin typeface="Corbel"/>
            </a:endParaRPr>
          </a:p>
        </p:txBody>
      </p:sp>
      <p:sp>
        <p:nvSpPr>
          <p:cNvPr id="378" name=""/>
          <p:cNvSpPr txBox="1"/>
          <p:nvPr/>
        </p:nvSpPr>
        <p:spPr>
          <a:xfrm>
            <a:off x="4656240" y="1770120"/>
            <a:ext cx="4038480" cy="4525920"/>
          </a:xfrm>
          <a:prstGeom prst="rect">
            <a:avLst/>
          </a:prstGeom>
          <a:noFill/>
          <a:ln w="0">
            <a:noFill/>
          </a:ln>
        </p:spPr>
        <p:txBody>
          <a:bodyPr anchor="t">
            <a:normAutofit fontScale="96000"/>
          </a:bodyPr>
          <a:p>
            <a:pPr marL="306000" indent="-306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ecause:</a:t>
            </a:r>
            <a:endParaRPr b="0" lang="en-US" sz="2800" spc="-1" strike="noStrike">
              <a:solidFill>
                <a:srgbClr val="ffffff"/>
              </a:solidFill>
              <a:latin typeface="Corbel"/>
            </a:endParaRPr>
          </a:p>
          <a:p>
            <a:pPr marL="306000" indent="-306000">
              <a:lnSpc>
                <a:spcPct val="90000"/>
              </a:lnSpc>
              <a:spcBef>
                <a:spcPts val="700"/>
              </a:spcBef>
              <a:buClr>
                <a:srgbClr val="d6ecff"/>
              </a:buClr>
              <a:buSzPct val="9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art muscle has more mitochondria (40% cell volume) that generate energy for cardiac contraction by aerobic metabolism.</a:t>
            </a:r>
            <a:endParaRPr b="0" lang="en-US" sz="2800" spc="-1" strike="noStrike">
              <a:solidFill>
                <a:srgbClr val="ffffff"/>
              </a:solidFill>
              <a:latin typeface="Corbel"/>
            </a:endParaRPr>
          </a:p>
          <a:p>
            <a:pPr marL="306000" indent="-306000">
              <a:lnSpc>
                <a:spcPct val="90000"/>
              </a:lnSpc>
              <a:spcBef>
                <a:spcPts val="700"/>
              </a:spcBef>
              <a:buClr>
                <a:srgbClr val="d6ecff"/>
              </a:buClr>
              <a:buSzPct val="9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When more O2 is needed as during ex., coronary blood flow increas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1280" y="260280"/>
            <a:ext cx="81532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Consolas"/>
              </a:rPr>
              <a:t>What is the function of coronary arteries?</a:t>
            </a:r>
            <a:endParaRPr b="0" lang="en-US" sz="36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3000"/>
          </a:bodyPr>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coronary arteries supply blood flow to the heart, and when functioning normally, they ensure adequate oxygenation of the myocardium at all levels of cardiac activity. </a:t>
            </a:r>
            <a:endParaRPr b="0" lang="en-US" sz="2800" spc="-1" strike="noStrike">
              <a:solidFill>
                <a:srgbClr val="ffffff"/>
              </a:solidFill>
              <a:latin typeface="Corbel"/>
            </a:endParaRPr>
          </a:p>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striction and dilation of the coronary arteries, governed primarily by local regulatory mechanisms,  regulate the amount of blood flow to the myocardium in a manner that matches the amount of oxygen delivered to the myocardium with the myocardial demand for oxyge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nsolas"/>
              </a:rPr>
              <a:t>Coronary blood flow during Cardiac cycle</a:t>
            </a:r>
            <a:endParaRPr b="0" lang="en-US" sz="3600" spc="-1" strike="noStrike">
              <a:solidFill>
                <a:srgbClr val="c1eeff"/>
              </a:solidFill>
              <a:latin typeface="Consolas"/>
            </a:endParaRPr>
          </a:p>
        </p:txBody>
      </p:sp>
      <p:pic>
        <p:nvPicPr>
          <p:cNvPr id="382" name="Picture 3" descr=""/>
          <p:cNvPicPr/>
          <p:nvPr/>
        </p:nvPicPr>
        <p:blipFill>
          <a:blip r:embed="rId1"/>
          <a:stretch/>
        </p:blipFill>
        <p:spPr>
          <a:xfrm>
            <a:off x="457200" y="2000160"/>
            <a:ext cx="7859880" cy="41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28760"/>
            <a:ext cx="822960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nsolas"/>
                <a:ea typeface="Traditional Arabic"/>
              </a:rPr>
              <a:t>Coronary blood flow during Cardiac cycle</a:t>
            </a:r>
            <a:endParaRPr b="0" lang="en-US" sz="3200" spc="-1" strike="noStrike">
              <a:solidFill>
                <a:srgbClr val="c1eeff"/>
              </a:solidFill>
              <a:latin typeface="Consolas"/>
            </a:endParaRPr>
          </a:p>
        </p:txBody>
      </p:sp>
      <p:sp>
        <p:nvSpPr>
          <p:cNvPr id="384" name=""/>
          <p:cNvSpPr txBox="1"/>
          <p:nvPr/>
        </p:nvSpPr>
        <p:spPr>
          <a:xfrm>
            <a:off x="457200" y="1500120"/>
            <a:ext cx="8229600" cy="5168880"/>
          </a:xfrm>
          <a:prstGeom prst="rect">
            <a:avLst/>
          </a:prstGeom>
          <a:noFill/>
          <a:ln w="0">
            <a:noFill/>
          </a:ln>
        </p:spPr>
        <p:txBody>
          <a:bodyPr anchor="t">
            <a:normAutofit fontScale="95000"/>
          </a:bodyPr>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Most of the coronary flow occurs </a:t>
            </a:r>
            <a:r>
              <a:rPr b="0" lang="en-US" sz="2800" spc="-1" strike="noStrike">
                <a:solidFill>
                  <a:srgbClr val="c00000"/>
                </a:solidFill>
                <a:latin typeface="Corbel"/>
                <a:ea typeface="Majalla UI"/>
              </a:rPr>
              <a:t>during diastole</a:t>
            </a:r>
            <a:r>
              <a:rPr b="0" lang="en-US" sz="2800" spc="-1" strike="noStrike">
                <a:solidFill>
                  <a:srgbClr val="ffffff"/>
                </a:solidFill>
                <a:latin typeface="Corbel"/>
                <a:ea typeface="Majalla UI"/>
              </a:rPr>
              <a:t>.</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Extravascular compression during systole markedly reduces coronary flow.</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At low coronary perfusion pressures, the </a:t>
            </a:r>
            <a:r>
              <a:rPr b="0" lang="en-US" sz="2800" spc="-1" strike="noStrike">
                <a:solidFill>
                  <a:srgbClr val="ff0000"/>
                </a:solidFill>
                <a:latin typeface="Corbel"/>
                <a:ea typeface="Majalla UI"/>
              </a:rPr>
              <a:t>endocardium</a:t>
            </a:r>
            <a:r>
              <a:rPr b="0" lang="en-US" sz="2800" spc="-1" strike="noStrike">
                <a:solidFill>
                  <a:srgbClr val="ffffff"/>
                </a:solidFill>
                <a:latin typeface="Corbel"/>
                <a:ea typeface="Majalla UI"/>
              </a:rPr>
              <a:t> is more susceptible to ischemia. This is  because of extravascular compression.</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Tachycardia  shortens coronary filling time during diastole  – this is particularly significant in patients with coronary artery disease where coronary flow is reduced.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56760"/>
            <a:ext cx="8229600" cy="85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onsolas"/>
                <a:ea typeface="Traditional Arabic"/>
              </a:rPr>
              <a:t>Factors Affecting Coronary Blood Flow</a:t>
            </a:r>
            <a:endParaRPr b="0" lang="en-US" sz="4000" spc="-1" strike="noStrike">
              <a:solidFill>
                <a:srgbClr val="c1eeff"/>
              </a:solidFill>
              <a:latin typeface="Consolas"/>
            </a:endParaRPr>
          </a:p>
        </p:txBody>
      </p:sp>
      <p:sp>
        <p:nvSpPr>
          <p:cNvPr id="386" name=""/>
          <p:cNvSpPr txBox="1"/>
          <p:nvPr/>
        </p:nvSpPr>
        <p:spPr>
          <a:xfrm>
            <a:off x="457200" y="1773360"/>
            <a:ext cx="8229600" cy="4551120"/>
          </a:xfrm>
          <a:prstGeom prst="rect">
            <a:avLst/>
          </a:prstGeom>
          <a:solidFill>
            <a:srgbClr val="000000"/>
          </a:solidFill>
          <a:ln w="0">
            <a:noFill/>
          </a:ln>
        </p:spPr>
        <p:txBody>
          <a:bodyPr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rbel"/>
                <a:ea typeface="Majalla UI"/>
              </a:rPr>
              <a:t>1- Autoregulation:</a:t>
            </a:r>
            <a:endParaRPr b="0" lang="en-US" sz="2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Flow is tightly coupled to oxygen demand.  This is necessary because the heart has a very high basal </a:t>
            </a:r>
            <a:r>
              <a:rPr b="0" lang="en-US" sz="2400" spc="-1" strike="noStrike" u="sng">
                <a:solidFill>
                  <a:srgbClr val="ffffff"/>
                </a:solidFill>
                <a:uFillTx/>
                <a:latin typeface="Corbel"/>
                <a:ea typeface="Majalla UI"/>
              </a:rPr>
              <a:t>oxygen consumption </a:t>
            </a:r>
            <a:r>
              <a:rPr b="0" lang="en-US" sz="2400" spc="-1" strike="noStrike">
                <a:solidFill>
                  <a:srgbClr val="ffffff"/>
                </a:solidFill>
                <a:latin typeface="Corbel"/>
                <a:ea typeface="Majalla UI"/>
              </a:rPr>
              <a:t>(8-10 ml O2/min/100g). </a:t>
            </a:r>
            <a:endParaRPr b="0" lang="en-US" sz="24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In </a:t>
            </a:r>
            <a:r>
              <a:rPr b="1" lang="en-US" sz="2400" spc="-1" strike="noStrike">
                <a:solidFill>
                  <a:srgbClr val="ffffff"/>
                </a:solidFill>
                <a:latin typeface="Corbel"/>
                <a:ea typeface="Majalla UI"/>
              </a:rPr>
              <a:t>non-diseased coronary </a:t>
            </a:r>
            <a:r>
              <a:rPr b="0" lang="en-US" sz="2400" spc="-1" strike="noStrike">
                <a:solidFill>
                  <a:srgbClr val="ffffff"/>
                </a:solidFill>
                <a:latin typeface="Corbel"/>
                <a:ea typeface="Majalla UI"/>
              </a:rPr>
              <a:t>vessels, whenever cardiac  activity and oxygen consumption increases, there is an increase in coronary blood flow (active hyperemia) that is nearly </a:t>
            </a:r>
            <a:r>
              <a:rPr b="1" lang="en-US" sz="2400" spc="-1" strike="noStrike">
                <a:solidFill>
                  <a:srgbClr val="ffffff"/>
                </a:solidFill>
                <a:latin typeface="Corbel"/>
                <a:ea typeface="Majalla UI"/>
              </a:rPr>
              <a:t>proportionate t</a:t>
            </a:r>
            <a:r>
              <a:rPr b="0" lang="en-US" sz="2400" spc="-1" strike="noStrike">
                <a:solidFill>
                  <a:srgbClr val="ffffff"/>
                </a:solidFill>
                <a:latin typeface="Corbel"/>
                <a:ea typeface="Majalla UI"/>
              </a:rPr>
              <a:t>o the increase in oxygen consumption. </a:t>
            </a:r>
            <a:endParaRPr b="0" lang="en-US" sz="24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Good </a:t>
            </a:r>
            <a:r>
              <a:rPr b="0" lang="en-US" sz="2400" spc="-1" strike="noStrike" u="sng">
                <a:solidFill>
                  <a:srgbClr val="ff0000"/>
                </a:solidFill>
                <a:uFillTx/>
                <a:latin typeface="Corbel"/>
                <a:ea typeface="Majalla UI"/>
              </a:rPr>
              <a:t>autoregulation </a:t>
            </a:r>
            <a:r>
              <a:rPr b="0" lang="en-US" sz="2400" spc="-1" strike="noStrike">
                <a:solidFill>
                  <a:srgbClr val="ffffff"/>
                </a:solidFill>
                <a:latin typeface="Corbel"/>
                <a:ea typeface="Majalla UI"/>
              </a:rPr>
              <a:t>between 60 and 200 mmHg perfusion pressure helps to maintain normal coronary blood flow whenever coronary perfusion pressure changes due to changes in aortic pressure.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0000"/>
                </a:solidFill>
                <a:latin typeface="Consolas"/>
                <a:ea typeface="Traditional Arabic"/>
              </a:rPr>
              <a:t>Factors affecting coronary blood flow, cont.,….</a:t>
            </a:r>
            <a:endParaRPr b="0" lang="en-US" sz="29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ea typeface="Majalla UI"/>
              </a:rPr>
              <a:t>2- Chemical factors:</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a. Adenosine  :</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An important mediator of active hyperemia and autoregulation.  An important coronary vasodilator.</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 Nitric oxide: coronary vasodilator.</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c. Other chemical factors: hypoxia, excess CO2, H+, lactic acid</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5:40:14Z</dcterms:created>
  <dc:creator>Dr.IMAN</dc:creator>
  <dc:description/>
  <dc:language>en-US</dc:language>
  <cp:lastModifiedBy>DR.EMAN</cp:lastModifiedBy>
  <dcterms:modified xsi:type="dcterms:W3CDTF">2015-03-29T09:51:34Z</dcterms:modified>
  <cp:revision>45</cp:revision>
  <dc:subject/>
  <dc:title>Cardiac Cycle</dc:title>
</cp:coreProperties>
</file>