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537A-EBB0-4AC5-BF61-F15B7D1AF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3EBA-7485-4B22-BF8A-B72B0B6E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D1F1-12E2-4AB2-90E5-B38FD2D37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53B4-BF2E-4ADF-8822-F77EF52E2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3A7F4-D962-460E-90F1-3040736E1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E8EDD-0092-45D4-8127-B64AD504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07B6-B204-4FDC-8EA9-BB769E6C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508B6-6351-4A71-AAED-9EE1A8B0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39B3-19EA-4844-A07C-36BAD32D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B0841-FAF2-4425-8285-76C6189F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5DEA-35A9-4BCC-8777-C5DF5F29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EA5F-B72B-4170-AB7D-FE4F6417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9F81-017B-465B-A389-B58D1A98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8314-CA51-4151-B6B8-7C37E401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2D02-68E7-4B05-810A-14FA2E56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6C73-57E9-458E-984C-424F4CF20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CC3BC-AED8-4FFD-AE43-E94C3D983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7D299-13A7-4963-812E-A0221D494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167EF-9A85-4949-AF6E-21CED76F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2A4FD-9AEE-4EBC-AABA-4B5499EE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96A31-FF42-4BF1-A82A-DB0BB950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1C685-A391-4DD4-885F-B6109140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2420-1F2D-47B1-8A3F-1B5BEE83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047C4-7D57-4103-B9E8-AB2DFFD2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77365-DA56-4B45-B65F-69CDB0A6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8A09B-9E89-4FC9-9D4E-5A03B431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2EA1E-0A86-4172-95CC-71352C1C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949DC-C181-4AA5-86A7-8E0C157A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A0794-C230-40AE-A528-52A1F98D2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FF321-C1F7-43D1-B98D-E44583DE6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9112B-D7E3-42B1-B500-493445940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D3840-8F91-4EE9-A57B-7F1F489E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BD26D-50C8-4D2F-9A7B-F62822DC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6D5A-3A85-43DC-B0B6-EAA71365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5DB2C-390D-4F04-B712-7D8E6110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3D2CA-4B50-4B97-A49B-8CBB196A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22628-9A0A-4D4F-8B66-A0AD658F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06F57-0F4E-4716-9535-7E09253F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172F1-3C07-48E0-BFAC-949716EE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F446F-6508-433D-81E5-C8139331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BCDD3-96F9-4645-A91D-DAC5A8E1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9A20B-FD5E-40DA-9723-32D607BCD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82ACF-C5C9-428D-91EE-D7B04EE25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8A44-DDB0-44F4-9B2D-BAEBA74E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E4D4-E378-4558-BB7A-D61D5DF6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A8EE-02A5-4AE1-A786-F2AB1D07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8870-C4CE-4E20-933D-15CF64B3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E2A0-80EE-4823-AF46-0AEF9FB7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B097-50DA-4BD8-86FA-FF2C26C3098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B9A8-53A7-4159-859B-A221CAEF0F9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ACB7-1B3B-471A-9EF7-B7E5F6402E4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2D70-4003-4214-93F2-075A9DCB77D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hyperlink" Target="http://en.wikibooks.org/wiki/File:Heart_frontally_PDA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1" descr=""/>
          <p:cNvPicPr/>
          <p:nvPr/>
        </p:nvPicPr>
        <p:blipFill>
          <a:blip r:embed="rId1"/>
          <a:stretch/>
        </p:blipFill>
        <p:spPr>
          <a:xfrm>
            <a:off x="530280" y="1371600"/>
            <a:ext cx="7912080" cy="19512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449532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368280" indent="-368280" algn="r">
              <a:lnSpc>
                <a:spcPct val="6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Dr. Mona Soliman, MBBS, MSc, PhD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68280" indent="-368280" algn="r">
              <a:lnSpc>
                <a:spcPct val="6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Department of 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Physiology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68280" indent="-368280" algn="r">
              <a:lnSpc>
                <a:spcPct val="64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Chair of Cardiovascular Block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68280" indent="-368280" algn="r">
              <a:lnSpc>
                <a:spcPct val="64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College of Medicin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68280" indent="-368280" algn="r">
              <a:lnSpc>
                <a:spcPct val="64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King Saud University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2"/>
          <a:stretch/>
        </p:blipFill>
        <p:spPr>
          <a:xfrm>
            <a:off x="7696080" y="125280"/>
            <a:ext cx="1073160" cy="1170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4267080"/>
            <a:ext cx="1981080" cy="23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http://www.studentconsult.com/common/showimage.cfm?mediaISBN=0721602401&amp;FigFile=S02401-011-f001.jpg&amp;size=fullsize"/>
          <p:cNvPicPr/>
          <p:nvPr/>
        </p:nvPicPr>
        <p:blipFill>
          <a:blip r:embed="rId1"/>
          <a:srcRect l="15280" t="0" r="15472" b="6696"/>
          <a:stretch/>
        </p:blipFill>
        <p:spPr>
          <a:xfrm>
            <a:off x="914400" y="1100160"/>
            <a:ext cx="7155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Methods for Recording Electrocardiogram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Constantia"/>
              </a:rPr>
              <a:t>Computer-based and electronic displa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44720" y="1752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2d050"/>
                </a:solidFill>
                <a:uFillTx/>
                <a:latin typeface="Constantia"/>
              </a:rPr>
              <a:t>Pen recorder and a moving shee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42A5-C3C4-4496-8F59-220BE9661F82}" type="slidenum">
              <a:rPr b="0" lang="en-US" sz="1200" spc="-1" strike="noStrike">
                <a:solidFill>
                  <a:srgbClr val="045c75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27" name="Picture 2" descr="http://www.mortonmedical.co.uk/images/Seca_CT8000i_ECG_Machine_Interpretive.jpg"/>
          <p:cNvPicPr/>
          <p:nvPr/>
        </p:nvPicPr>
        <p:blipFill>
          <a:blip r:embed="rId1"/>
          <a:stretch/>
        </p:blipFill>
        <p:spPr>
          <a:xfrm>
            <a:off x="4800600" y="2573280"/>
            <a:ext cx="3294000" cy="3292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http://www.firstaidwarehouse.co.uk/pic/280x280/10/63/seca_ct110_cardioconcept_pc_based_ecg_1063.jpg"/>
          <p:cNvPicPr/>
          <p:nvPr/>
        </p:nvPicPr>
        <p:blipFill>
          <a:blip r:embed="rId2"/>
          <a:srcRect l="0" t="14298" r="0" b="16322"/>
          <a:stretch/>
        </p:blipFill>
        <p:spPr>
          <a:xfrm>
            <a:off x="457200" y="3200400"/>
            <a:ext cx="373392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Flow of Electrical current in the Hear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8240" y="2422080"/>
            <a:ext cx="4267080" cy="298764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normal ventricles, current flows fro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negativ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positiv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from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bas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the heart toward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apex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The first area that depolarizes is the </a:t>
            </a:r>
            <a:r>
              <a:rPr b="0" i="1" lang="en-US" sz="2400" spc="-1" strike="noStrike" u="sng">
                <a:solidFill>
                  <a:srgbClr val="009dd9"/>
                </a:solidFill>
                <a:uFillTx/>
                <a:latin typeface="Constantia"/>
              </a:rPr>
              <a:t>ventricular  septum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0DF8-72E2-4816-8CAB-DF9F876F4F7D}" type="slidenum">
              <a:rPr b="0" lang="en-US" sz="1200" spc="-1" strike="noStrike">
                <a:solidFill>
                  <a:srgbClr val="045c75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32" name="Picture 5" descr="http://www.studentconsult.com/common/showimage.cfm?mediaISBN=0721602401&amp;FigFile=S02401-011-f005.jpg&amp;size=fullsize"/>
          <p:cNvPicPr/>
          <p:nvPr/>
        </p:nvPicPr>
        <p:blipFill>
          <a:blip r:embed="rId1"/>
          <a:stretch/>
        </p:blipFill>
        <p:spPr>
          <a:xfrm>
            <a:off x="4648320" y="2343240"/>
            <a:ext cx="4038480" cy="358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57200" y="1965240"/>
            <a:ext cx="4038480" cy="46641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urrent flows from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electronegativ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nner surface of the heart to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electropositiv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uter surface                                (from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bas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the heart to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apex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An electrode placed near the </a:t>
            </a:r>
            <a:r>
              <a:rPr b="1" lang="en-US" sz="2400" spc="-1" strike="noStrike" u="sng">
                <a:solidFill>
                  <a:srgbClr val="0f6fc6"/>
                </a:solidFill>
                <a:uFillTx/>
                <a:latin typeface="Constantia"/>
              </a:rPr>
              <a:t>base 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of the heart is </a:t>
            </a:r>
            <a:r>
              <a:rPr b="1" lang="en-US" sz="2400" spc="-1" strike="noStrike" u="sng">
                <a:solidFill>
                  <a:srgbClr val="0f6fc6"/>
                </a:solidFill>
                <a:uFillTx/>
                <a:latin typeface="Constantia"/>
              </a:rPr>
              <a:t>electronegative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,                 and near the </a:t>
            </a:r>
            <a:r>
              <a:rPr b="1" lang="en-US" sz="2400" spc="-1" strike="noStrike" u="sng">
                <a:solidFill>
                  <a:srgbClr val="0f6fc6"/>
                </a:solidFill>
                <a:uFillTx/>
                <a:latin typeface="Constantia"/>
              </a:rPr>
              <a:t>apex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 is </a:t>
            </a:r>
            <a:r>
              <a:rPr b="1" lang="en-US" sz="2400" spc="-1" strike="noStrike" u="sng">
                <a:solidFill>
                  <a:srgbClr val="0f6fc6"/>
                </a:solidFill>
                <a:uFillTx/>
                <a:latin typeface="Constantia"/>
              </a:rPr>
              <a:t>electropositiv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Flow of Electrical current in the Hear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5" name="Content Placeholder 5" descr="http://www.studentconsult.com/common/showimage.cfm?mediaISBN=0721602401&amp;FigFile=S02401-011-f005.jpg&amp;size=fullsize"/>
          <p:cNvPicPr/>
          <p:nvPr/>
        </p:nvPicPr>
        <p:blipFill>
          <a:blip r:embed="rId1"/>
          <a:stretch/>
        </p:blipFill>
        <p:spPr>
          <a:xfrm>
            <a:off x="4648320" y="2343240"/>
            <a:ext cx="4038480" cy="358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The ECG Lead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5000"/>
            <a:ext cx="8229600" cy="3246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311040" indent="-311040"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Lead: two wires and their electrodes to make a complete circui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11040" indent="-311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11040" indent="-311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70c0"/>
                </a:solidFill>
                <a:uFillTx/>
                <a:latin typeface="Constantia"/>
              </a:rPr>
              <a:t>The Bipolar Limb Leads: </a:t>
            </a:r>
            <a:r>
              <a:rPr b="1" lang="en-US" sz="2600" spc="-1" strike="noStrike">
                <a:solidFill>
                  <a:srgbClr val="0070c0"/>
                </a:solidFill>
                <a:latin typeface="Constantia"/>
              </a:rPr>
              <a:t>(I, II, II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11040" indent="-311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b0f0"/>
                </a:solidFill>
                <a:uFillTx/>
                <a:latin typeface="Constantia"/>
              </a:rPr>
              <a:t>Chest Leads: </a:t>
            </a:r>
            <a:r>
              <a:rPr b="1" lang="en-US" sz="2600" spc="-1" strike="noStrike">
                <a:solidFill>
                  <a:srgbClr val="00b0f0"/>
                </a:solidFill>
                <a:latin typeface="Constantia"/>
              </a:rPr>
              <a:t>(V1, V2, V3, V4, V5, V6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11040" indent="-311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10cf9b"/>
                </a:solidFill>
                <a:uFillTx/>
                <a:latin typeface="Constantia"/>
              </a:rPr>
              <a:t>Augmented Unipolar Limb Leads (aVR, aVL, aVF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70c0"/>
                </a:solidFill>
                <a:uFillTx/>
                <a:latin typeface="Calibri"/>
              </a:rPr>
              <a:t>The Bipolar Limb Lead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736280"/>
            <a:ext cx="4038480" cy="44355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0f0"/>
                </a:solidFill>
                <a:uFillTx/>
                <a:latin typeface="Constantia"/>
              </a:rPr>
              <a:t>Bipolar: </a:t>
            </a:r>
            <a:r>
              <a:rPr b="0" lang="en-US" sz="2800" spc="-1" strike="noStrike">
                <a:solidFill>
                  <a:srgbClr val="00b0f0"/>
                </a:solidFill>
                <a:latin typeface="Constantia"/>
              </a:rPr>
              <a:t>means that the ECG is recorded from two electrod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7030a0"/>
                </a:solidFill>
                <a:uFillTx/>
                <a:latin typeface="Constantia"/>
              </a:rPr>
              <a:t>Lead I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7030a0"/>
                </a:solidFill>
                <a:latin typeface="Constantia"/>
              </a:rPr>
              <a:t>The right arm : –v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7030a0"/>
                </a:solidFill>
                <a:latin typeface="Constantia"/>
              </a:rPr>
              <a:t>The left arm: +v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70c0"/>
                </a:solidFill>
                <a:uFillTx/>
                <a:latin typeface="Constantia"/>
              </a:rPr>
              <a:t>Lead II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70c0"/>
                </a:solidFill>
                <a:latin typeface="Constantia"/>
              </a:rPr>
              <a:t>The right arm: -v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70c0"/>
                </a:solidFill>
                <a:latin typeface="Constantia"/>
              </a:rPr>
              <a:t>The left leg: +v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b0f0"/>
                </a:solidFill>
                <a:uFillTx/>
                <a:latin typeface="Constantia"/>
              </a:rPr>
              <a:t>Lead III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b0f0"/>
                </a:solidFill>
                <a:latin typeface="Constantia"/>
              </a:rPr>
              <a:t>The left arm: -v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b0f0"/>
                </a:solidFill>
                <a:latin typeface="Constantia"/>
              </a:rPr>
              <a:t>The left leg: +v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5082-4787-46A3-B119-21F30ECD68A9}" type="slidenum">
              <a:rPr b="0" lang="en-US" sz="1200" spc="-1" strike="noStrike">
                <a:solidFill>
                  <a:srgbClr val="045c75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41" name="Picture 5" descr="http://www.studentconsult.com/common/showimage.cfm?mediaISBN=0721602401&amp;FigFile=S02401-011-f006.jpg&amp;size=fullsize"/>
          <p:cNvPicPr/>
          <p:nvPr/>
        </p:nvPicPr>
        <p:blipFill>
          <a:blip r:embed="rId1"/>
          <a:stretch/>
        </p:blipFill>
        <p:spPr>
          <a:xfrm>
            <a:off x="4676760" y="1752480"/>
            <a:ext cx="3981600" cy="44341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Chest Lead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371240"/>
            <a:ext cx="4038480" cy="53341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nstantia"/>
              </a:rPr>
              <a:t>Recorded </a:t>
            </a: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from the anterior surface of the chest </a:t>
            </a:r>
            <a:r>
              <a:rPr b="0" lang="en-US" sz="2800" spc="-1" strike="noStrike" u="sng">
                <a:solidFill>
                  <a:srgbClr val="0f6fc6"/>
                </a:solidFill>
                <a:uFillTx/>
                <a:latin typeface="Constantia"/>
              </a:rPr>
              <a:t>(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nstantia"/>
              </a:rPr>
              <a:t>V1, V2, V3, V4, V5, V6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Positive electrode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n the ches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Th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indifferent electrode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s the negative electrode connected to the right arm, left arm, and left le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7EE6-F9A0-4BFA-8043-E96AA57715C0}" type="slidenum">
              <a:rPr b="0" lang="en-US" sz="1200" spc="-1" strike="noStrike">
                <a:solidFill>
                  <a:srgbClr val="045c75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45" name="Picture 2" descr="http://www.studentconsult.com/common/showimage.cfm?mediaISBN=0721602401&amp;FigFile=S02401-011-f008.jpg&amp;size=fullsize"/>
          <p:cNvPicPr/>
          <p:nvPr/>
        </p:nvPicPr>
        <p:blipFill>
          <a:blip r:embed="rId1"/>
          <a:stretch/>
        </p:blipFill>
        <p:spPr>
          <a:xfrm>
            <a:off x="4648320" y="2162160"/>
            <a:ext cx="4038480" cy="395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Chest Lead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76160"/>
            <a:ext cx="8229600" cy="19810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Constantia"/>
              </a:rPr>
              <a:t>V1 and V2: </a:t>
            </a:r>
            <a:r>
              <a:rPr b="0" lang="en-US" sz="2800" spc="-1" strike="noStrike">
                <a:solidFill>
                  <a:srgbClr val="0070c0"/>
                </a:solidFill>
                <a:latin typeface="Constantia"/>
              </a:rPr>
              <a:t>QRS are mainly 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nstantia"/>
              </a:rPr>
              <a:t>negative</a:t>
            </a:r>
            <a:r>
              <a:rPr b="0" lang="en-US" sz="2800" spc="-1" strike="noStrike">
                <a:solidFill>
                  <a:srgbClr val="0070c0"/>
                </a:solidFill>
                <a:latin typeface="Constantia"/>
              </a:rPr>
              <a:t> because the chest leads are nearer to the base of the hear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30a0"/>
                </a:solidFill>
                <a:uFillTx/>
                <a:latin typeface="Constantia"/>
              </a:rPr>
              <a:t>V3,V4 and V6 </a:t>
            </a:r>
            <a:r>
              <a:rPr b="0" lang="en-US" sz="2800" spc="-1" strike="noStrike">
                <a:solidFill>
                  <a:srgbClr val="7030a0"/>
                </a:solidFill>
                <a:latin typeface="Constantia"/>
              </a:rPr>
              <a:t>are mainly </a:t>
            </a:r>
            <a:r>
              <a:rPr b="0" lang="en-US" sz="2800" spc="-1" strike="noStrike" u="sng">
                <a:solidFill>
                  <a:srgbClr val="7030a0"/>
                </a:solidFill>
                <a:uFillTx/>
                <a:latin typeface="Constantia"/>
              </a:rPr>
              <a:t>positive</a:t>
            </a:r>
            <a:r>
              <a:rPr b="0" lang="en-US" sz="2800" spc="-1" strike="noStrike">
                <a:solidFill>
                  <a:srgbClr val="7030a0"/>
                </a:solidFill>
                <a:latin typeface="Constantia"/>
              </a:rPr>
              <a:t> because the chest electrode are nearer to the apex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8" name="Picture 2" descr="http://www.studentconsult.com/common/showimage.cfm?mediaISBN=0721602401&amp;FigFile=S02401-011-f009.jpg&amp;size=fullsize"/>
          <p:cNvPicPr/>
          <p:nvPr/>
        </p:nvPicPr>
        <p:blipFill>
          <a:blip r:embed="rId1"/>
          <a:srcRect l="15128" t="0" r="14637" b="10007"/>
          <a:stretch/>
        </p:blipFill>
        <p:spPr>
          <a:xfrm>
            <a:off x="1828800" y="3886200"/>
            <a:ext cx="4952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Augmented Unipolar Lead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294920"/>
            <a:ext cx="8229600" cy="3505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two limbs are connected to the negative terminal of the ECG, and the third limb is connected to the positiv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en the positive terminal is on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714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70c0"/>
                </a:solidFill>
                <a:uFillTx/>
                <a:latin typeface="Constantia"/>
              </a:rPr>
              <a:t>The right arm (aVR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714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70c0"/>
                </a:solidFill>
                <a:uFillTx/>
                <a:latin typeface="Constantia"/>
              </a:rPr>
              <a:t>The left arm (aV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714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70c0"/>
                </a:solidFill>
                <a:uFillTx/>
                <a:latin typeface="Constantia"/>
              </a:rPr>
              <a:t>The left leg (aVF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All are similar to the                                                     standard limb lea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030a0"/>
                </a:solidFill>
                <a:uFillTx/>
                <a:latin typeface="Constantia"/>
              </a:rPr>
              <a:t>aVR </a:t>
            </a:r>
            <a:r>
              <a:rPr b="0" lang="en-US" sz="2400" spc="-1" strike="noStrike">
                <a:solidFill>
                  <a:srgbClr val="7030a0"/>
                </a:solidFill>
                <a:latin typeface="Constantia"/>
              </a:rPr>
              <a:t>lead is invert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3A9C-3493-4F1C-B236-128C767FDF71}" type="slidenum">
              <a:rPr b="0" lang="en-US" sz="1200" spc="-1" strike="noStrike">
                <a:solidFill>
                  <a:srgbClr val="045c75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52" name="Picture 2" descr="http://www.studentconsult.com/common/showimage.cfm?mediaISBN=0721602401&amp;FigFile=S02401-011-f010.jpg&amp;size=fullsize"/>
          <p:cNvPicPr/>
          <p:nvPr/>
        </p:nvPicPr>
        <p:blipFill>
          <a:blip r:embed="rId1"/>
          <a:srcRect l="14303" t="0" r="15286" b="9087"/>
          <a:stretch/>
        </p:blipFill>
        <p:spPr>
          <a:xfrm>
            <a:off x="3962520" y="2971800"/>
            <a:ext cx="487656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Practical use of the ECG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onstantia"/>
              </a:rPr>
              <a:t>Heart r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rmal interva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f6fc6"/>
                </a:solidFill>
                <a:latin typeface="Constantia"/>
              </a:rPr>
              <a:t>Rhyth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Regula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Single p-wave precedes every QRS complex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P-R interval is constant and within normal ran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Cardiac axis Ax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5" name="Picture 2" descr="http://www.studentconsult.com/common/showimage.cfm?mediaISBN=0721602401&amp;FigFile=S02401-011-f001.jpg&amp;size=fullsize"/>
          <p:cNvPicPr/>
          <p:nvPr/>
        </p:nvPicPr>
        <p:blipFill>
          <a:blip r:embed="rId1"/>
          <a:srcRect l="15280" t="0" r="15472" b="6696"/>
          <a:stretch/>
        </p:blipFill>
        <p:spPr>
          <a:xfrm>
            <a:off x="4648320" y="2641680"/>
            <a:ext cx="403848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Lecture Objectiv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2239560"/>
            <a:ext cx="8229600" cy="210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76280" indent="-476280">
              <a:buClr>
                <a:srgbClr val="0bd0d9"/>
              </a:buClr>
              <a:buSzPct val="99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Identify waves of the normal ECG and the physiological cause of eac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76280" indent="-476280">
              <a:spcBef>
                <a:spcPts val="649"/>
              </a:spcBef>
              <a:buClr>
                <a:srgbClr val="0bd0d9"/>
              </a:buClr>
              <a:buSzPct val="99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f0"/>
                </a:solidFill>
                <a:latin typeface="Constantia"/>
              </a:rPr>
              <a:t>Define the normal intervals in the ECG tra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76280" indent="-476280">
              <a:spcBef>
                <a:spcPts val="649"/>
              </a:spcBef>
              <a:buClr>
                <a:srgbClr val="0bd0d9"/>
              </a:buClr>
              <a:buSzPct val="99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termine the bipolar, unipolar and chest lead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Einthoven’s Triangl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28600" y="1523520"/>
            <a:ext cx="4572000" cy="44355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b0f0"/>
                </a:solidFill>
                <a:uFillTx/>
                <a:latin typeface="Constantia"/>
              </a:rPr>
              <a:t>Enthoven’s Triangle</a:t>
            </a:r>
            <a:r>
              <a:rPr b="0" lang="en-US" sz="2400" spc="-1" strike="noStrike">
                <a:solidFill>
                  <a:srgbClr val="00b0f0"/>
                </a:solidFill>
                <a:latin typeface="Constantia"/>
              </a:rPr>
              <a:t>: is drawn around the area of the hea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The two apices at the upper part of the triangle represent the points at which the two arms connect electricall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cf9b"/>
                </a:solidFill>
                <a:latin typeface="Constantia"/>
              </a:rPr>
              <a:t>The lower apex is the point at which the left leg connec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9C94-55A7-4B34-8A0A-40ACB9FCE35A}" type="slidenum">
              <a:rPr b="0" lang="en-US" sz="1200" spc="-1" strike="noStrike">
                <a:solidFill>
                  <a:srgbClr val="045c75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59" name="Content Placeholder 5" descr="http://www.studentconsult.com/common/showimage.cfm?mediaISBN=0721602401&amp;FigFile=S02401-011-f006.jpg&amp;size=fullsize"/>
          <p:cNvPicPr/>
          <p:nvPr/>
        </p:nvPicPr>
        <p:blipFill>
          <a:blip r:embed="rId1"/>
          <a:stretch/>
        </p:blipFill>
        <p:spPr>
          <a:xfrm>
            <a:off x="4933800" y="1523880"/>
            <a:ext cx="3981600" cy="44341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2392200"/>
            <a:ext cx="8229600" cy="195120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nstantia"/>
              </a:rPr>
              <a:t>Einthoven’s Law</a:t>
            </a:r>
            <a:r>
              <a:rPr b="0" lang="en-US" sz="2800" spc="-1" strike="noStrike">
                <a:solidFill>
                  <a:srgbClr val="0070c0"/>
                </a:solidFill>
                <a:latin typeface="Constantia"/>
              </a:rPr>
              <a:t>: if the electrical potential of  any two of the three bipolar limb leads are known, the third one can be determined mathematically by summing the first two (note the +ve and -ve signs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Einthoven’s Law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2133720" y="4648320"/>
            <a:ext cx="4724280" cy="12675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6fc6"/>
                </a:solidFill>
                <a:latin typeface="Constantia"/>
              </a:rPr>
              <a:t>The sum of the voltage in               Lead I + Lead III= Lead I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f6fc6"/>
                </a:solidFill>
                <a:uFillTx/>
                <a:latin typeface="Constantia"/>
              </a:rPr>
              <a:t>Einthoven’s law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For further readings and diagrams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5000"/>
            <a:ext cx="8229600" cy="187488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f6fc6"/>
                </a:solidFill>
                <a:uFillTx/>
                <a:latin typeface="Constantia"/>
              </a:rPr>
              <a:t>Textbook of Medical Physiology by Guyton &amp; Ha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Chapter 11 (The Normal Electrocardiogram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The Normal Electrocardiogram (ECG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onstantia"/>
              </a:rPr>
              <a:t>The depolarization wave spread through the hear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f6fc6"/>
                </a:solidFill>
                <a:latin typeface="Constantia"/>
              </a:rPr>
              <a:t>electrical currents pass into the surrounding tiss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part of the current reaches the surface of the bod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The electrical potentials generated by these currents can be recorded from electrodes placed on the skin opposite the hear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 fontScale="90000"/>
          </a:bodyPr>
          <a:p>
            <a:pPr marL="279720" indent="-279720"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7030a0"/>
                </a:solidFill>
                <a:uFillTx/>
                <a:latin typeface="Constantia"/>
              </a:rPr>
              <a:t>The Electrocardiogram (ECG)</a:t>
            </a:r>
            <a:r>
              <a:rPr b="1" lang="en-US" sz="2800" spc="-1" strike="noStrike">
                <a:solidFill>
                  <a:srgbClr val="7030a0"/>
                </a:solidFill>
                <a:latin typeface="Constantia"/>
              </a:rPr>
              <a:t> is a recording of the electrical activity of the hear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The Normal Electrocardiogram (ECG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Picture 2" descr="http://www.studentconsult.com/common/showimage.cfm?mediaISBN=0721602401&amp;FigFile=S02401-011-f001.jpg&amp;size=fullsize"/>
          <p:cNvPicPr/>
          <p:nvPr/>
        </p:nvPicPr>
        <p:blipFill>
          <a:blip r:embed="rId1"/>
          <a:srcRect l="15280" t="0" r="15472" b="6696"/>
          <a:stretch/>
        </p:blipFill>
        <p:spPr>
          <a:xfrm>
            <a:off x="2438280" y="3200400"/>
            <a:ext cx="442296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The Normal Electrocardiogram (ECG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20600"/>
            <a:ext cx="4038480" cy="326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11040" indent="-311040"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Constantia"/>
              </a:rPr>
              <a:t>P wave:</a:t>
            </a: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onstantia"/>
              </a:rPr>
              <a:t>is caused by atrial depolariz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11040" indent="-311040">
              <a:spcBef>
                <a:spcPts val="15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Constantia"/>
              </a:rPr>
              <a:t>QRS complex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: is caused by depolarization of the ventric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11040" indent="-311040">
              <a:spcBef>
                <a:spcPts val="15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b0f0"/>
                </a:solidFill>
                <a:uFillTx/>
                <a:latin typeface="Constantia"/>
              </a:rPr>
              <a:t>T wave: </a:t>
            </a:r>
            <a:r>
              <a:rPr b="0" lang="en-US" sz="2400" spc="-1" strike="noStrike">
                <a:solidFill>
                  <a:srgbClr val="00b0f0"/>
                </a:solidFill>
                <a:latin typeface="Constantia"/>
              </a:rPr>
              <a:t>repolarization of the ventric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2" descr="http://www.studentconsult.com/common/showimage.cfm?mediaISBN=0721602401&amp;FigFile=S02401-011-f001.jpg&amp;size=fullsize"/>
          <p:cNvPicPr/>
          <p:nvPr/>
        </p:nvPicPr>
        <p:blipFill>
          <a:blip r:embed="rId1"/>
          <a:srcRect l="15280" t="0" r="15472" b="6696"/>
          <a:stretch/>
        </p:blipFill>
        <p:spPr>
          <a:xfrm>
            <a:off x="4621320" y="1981080"/>
            <a:ext cx="442440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Voltage and Calibration of the ECG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76320" y="1920960"/>
            <a:ext cx="4038480" cy="44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The vertical calibration line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:  Voltage(millivol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onstantia"/>
              </a:rPr>
              <a:t>5 small lines = 1 mV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dd9"/>
                </a:solidFill>
                <a:uFillTx/>
                <a:latin typeface="Constantia"/>
              </a:rPr>
              <a:t>The horizontal calibration </a:t>
            </a:r>
            <a:r>
              <a:rPr b="0" lang="en-US" sz="2400" spc="-1" strike="noStrike" u="sng">
                <a:solidFill>
                  <a:srgbClr val="00b0f0"/>
                </a:solidFill>
                <a:uFillTx/>
                <a:latin typeface="Constantia"/>
              </a:rPr>
              <a:t>lines: Time (second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onstantia"/>
              </a:rPr>
              <a:t>1 inch(25 small lines) = 1 secon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onstantia"/>
              </a:rPr>
              <a:t>Each inch is divided by 5 dark vertical line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onstantia"/>
              </a:rPr>
              <a:t>The interval between the dark lines= 0.2 secon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onstantia"/>
              </a:rPr>
              <a:t>thin line=0.04 secon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6112-9084-42EA-944F-FB4EE41DF7EB}" type="slidenum">
              <a:rPr b="0" lang="en-US" sz="1200" spc="-1" strike="noStrike">
                <a:solidFill>
                  <a:srgbClr val="045c75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12" name="Picture 2" descr="http://www.studentconsult.com/common/showimage.cfm?mediaISBN=0721602401&amp;FigFile=S02401-011-f001.jpg&amp;size=fullsize"/>
          <p:cNvPicPr/>
          <p:nvPr/>
        </p:nvPicPr>
        <p:blipFill>
          <a:blip r:embed="rId1"/>
          <a:srcRect l="15280" t="0" r="15472" b="6696"/>
          <a:stretch/>
        </p:blipFill>
        <p:spPr>
          <a:xfrm>
            <a:off x="4270320" y="2133720"/>
            <a:ext cx="4724280" cy="35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P-R interva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4038480" cy="5181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t is the time between the beginning of the 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P wave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d the beginning of the 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QRS complex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f6fc6"/>
                </a:solidFill>
                <a:latin typeface="Constantia"/>
              </a:rPr>
              <a:t>It is the interval between the beginning of electrical excitation of the atria and the beginning of excitation of the ventric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The P-R interval is about </a:t>
            </a:r>
            <a:r>
              <a:rPr b="0" lang="en-US" sz="2600" spc="-1" strike="noStrike" u="sng">
                <a:solidFill>
                  <a:srgbClr val="009dd9"/>
                </a:solidFill>
                <a:uFillTx/>
                <a:latin typeface="Constantia"/>
              </a:rPr>
              <a:t>0.16 secon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8D9F-F42B-42A9-827C-AAF924CE8FAF}" type="slidenum">
              <a:rPr b="0" lang="en-US" sz="1200" spc="-1" strike="noStrike">
                <a:solidFill>
                  <a:srgbClr val="045c75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16" name="Picture 2" descr="http://www.studentconsult.com/common/showimage.cfm?mediaISBN=0721602401&amp;FigFile=S02401-011-f001.jpg&amp;size=fullsize"/>
          <p:cNvPicPr/>
          <p:nvPr/>
        </p:nvPicPr>
        <p:blipFill>
          <a:blip r:embed="rId1"/>
          <a:srcRect l="15280" t="0" r="15472" b="6696"/>
          <a:stretch/>
        </p:blipFill>
        <p:spPr>
          <a:xfrm>
            <a:off x="4648320" y="2362320"/>
            <a:ext cx="4416480" cy="327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Q-T interva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828440"/>
            <a:ext cx="4038480" cy="42670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traction of the ventricles last from the beginning of the Q wave to the end of the T wav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dd9"/>
                </a:solidFill>
                <a:uFillTx/>
                <a:latin typeface="Constantia"/>
              </a:rPr>
              <a:t>Q-T interval </a:t>
            </a: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is the time from the beginning of the </a:t>
            </a:r>
            <a:r>
              <a:rPr b="0" i="1" lang="en-US" sz="2600" spc="-1" strike="noStrike" u="sng">
                <a:solidFill>
                  <a:srgbClr val="009dd9"/>
                </a:solidFill>
                <a:uFillTx/>
                <a:latin typeface="Constantia"/>
              </a:rPr>
              <a:t>Q wave </a:t>
            </a: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to the end of the </a:t>
            </a:r>
            <a:r>
              <a:rPr b="0" i="1" lang="en-US" sz="2600" spc="-1" strike="noStrike" u="sng">
                <a:solidFill>
                  <a:srgbClr val="009dd9"/>
                </a:solidFill>
                <a:uFillTx/>
                <a:latin typeface="Constantia"/>
              </a:rPr>
              <a:t>T wav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onstantia"/>
              </a:rPr>
              <a:t>Q-T interval is about </a:t>
            </a:r>
            <a:r>
              <a:rPr b="0" lang="en-US" sz="2600" spc="-1" strike="noStrike" u="sng">
                <a:solidFill>
                  <a:srgbClr val="04617b"/>
                </a:solidFill>
                <a:uFillTx/>
                <a:latin typeface="Constantia"/>
              </a:rPr>
              <a:t>0.35 secon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2" descr="http://www.studentconsult.com/common/showimage.cfm?mediaISBN=0721602401&amp;FigFile=S02401-011-f001.jpg&amp;size=fullsize"/>
          <p:cNvPicPr/>
          <p:nvPr/>
        </p:nvPicPr>
        <p:blipFill>
          <a:blip r:embed="rId1"/>
          <a:srcRect l="15280" t="0" r="15472" b="6696"/>
          <a:stretch/>
        </p:blipFill>
        <p:spPr>
          <a:xfrm>
            <a:off x="4648320" y="2438280"/>
            <a:ext cx="4313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Heart Rat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05120"/>
            <a:ext cx="8229600" cy="22096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onstantia"/>
              </a:rPr>
              <a:t>The heart rate is the repetition of  the time interval between two successive heartbeat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If the interval between 2 beats is 1 second , the heart rate is 60 beats per minut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9T05:08:58Z</dcterms:created>
  <dc:creator>Dr Mona Soliman</dc:creator>
  <dc:description/>
  <cp:keywords/>
  <dc:language>en-US</dc:language>
  <cp:lastModifiedBy>sara</cp:lastModifiedBy>
  <dcterms:modified xsi:type="dcterms:W3CDTF">2014-03-05T16:11:47Z</dcterms:modified>
  <cp:revision>90</cp:revision>
  <dc:subject/>
  <dc:title>Cardiovascular System Block Electrocardiogram</dc:title>
</cp:coreProperties>
</file>