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133-C1D5-4ACB-9CF2-36DFCC95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2B51-F12F-4907-9D3E-C7E0EF3C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762-2E1F-4182-9D4D-35439CD6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10EC-FCFB-41DF-B817-B6809834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55EA-1C36-411D-A0CC-468D95DE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86B9-7461-4899-B193-51FAE5F9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757-2268-4F0A-953D-8DA6E419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7277-FA33-413A-8239-722A38D7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439D-0ED1-4247-9836-8AFD3694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F32F-79E3-4450-A1C7-CFD75D17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90BF-5C50-4871-ADB5-15745415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A673-38F6-400A-9C2C-D7CDD51D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804C-FEEF-4588-9A68-80747AD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77E9-10D1-4B02-A8A3-BEC29C1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34CD-25EA-4964-9F6C-BFDE2ECE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18DB-A0B9-427F-B058-2DDD0665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7384-1816-4BF8-9029-4CC22DE4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0F8A-40F0-4660-8B17-57B84A7E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04E2-46DA-48F7-997B-6F2098A6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DADBE-9104-4691-8A34-D757723C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3BEE8-5952-469C-83A4-4EFA20FB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53388-4084-457E-9DC9-05E2FEF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BB2-B4AE-42F8-89D3-52FD86A0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AA4E-9052-4DA8-9996-A44373AD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44874-EB01-4E26-8E7F-1A80D34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B5AF7-4359-45FB-B344-FF3D3710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0AEDB-F2F7-40A6-8CF8-73EB5321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D3263-495C-4124-8536-F379416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8954-37EB-46DB-A29D-D2A3B240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1536-BD9B-42B9-AD87-E31686FC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8782B-B520-4CFB-9877-E1C79FBD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90B3-0EBD-4360-8397-421FC278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5318-F46B-4D94-A12C-B15E8AA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D1D-0537-4401-9455-B19C982E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2F23E-221F-455A-82EE-FB6C0C14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B5DE-1656-487B-9B08-75068036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8A8D-F2B5-4AEE-BC17-5666924E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0B97-96E0-42BE-AD81-296EEDA7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53238-1C0E-4F26-8C77-434C4E76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A9A8A-8ABC-406E-8D8E-02E4DEEE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B79CF-7856-456B-80A7-98F2942B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E097A-C6C2-4411-9B20-F8461276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D029-72CF-403C-B2B8-BEE1E44B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7DD-E01E-443A-B40E-7B1D4D0F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ECC-8198-44BB-8BF6-572949A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9BD5-E8DC-4623-A892-25A307F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978-4F4E-4254-A14F-124B89A8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AED-9255-444A-94C9-2B12C36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974C-1FAA-4157-8F06-4219811666C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1F5-5AF3-460A-BEC9-D40A71BDA9B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2678-DEEC-46C8-ADCA-E55F9BE293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80808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E1C-5DB2-45D7-90CF-425DDC22B1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hyperlink" Target="http://en.wikibooks.org/wiki/File:Heart_frontally_PDA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1" descr=""/>
          <p:cNvPicPr/>
          <p:nvPr/>
        </p:nvPicPr>
        <p:blipFill>
          <a:blip r:embed="rId1"/>
          <a:stretch/>
        </p:blipFill>
        <p:spPr>
          <a:xfrm>
            <a:off x="530280" y="1371600"/>
            <a:ext cx="7912080" cy="1951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4953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68280" indent="-368280" algn="r">
              <a:lnSpc>
                <a:spcPct val="6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Dr. Mona Soliman, MBBS, MSc, PhD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Department of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Physiology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hair of Cardiovascular Block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368280" indent="-368280" algn="r">
              <a:lnSpc>
                <a:spcPct val="6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King Saud University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7696080" y="125280"/>
            <a:ext cx="1073160" cy="1170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267080"/>
            <a:ext cx="198108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914400" y="1100160"/>
            <a:ext cx="7155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Methods for Recording Electrocardiogram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Computer-based and electronic dis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44720" y="1752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2d050"/>
                </a:solidFill>
                <a:uFillTx/>
                <a:latin typeface="Constantia"/>
              </a:rPr>
              <a:t>Pen recorder and a moving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080B-D679-4B7D-BD63-5D894902D004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27" name="Picture 2" descr="http://www.mortonmedical.co.uk/images/Seca_CT8000i_ECG_Machine_Interpretive.jpg"/>
          <p:cNvPicPr/>
          <p:nvPr/>
        </p:nvPicPr>
        <p:blipFill>
          <a:blip r:embed="rId1"/>
          <a:stretch/>
        </p:blipFill>
        <p:spPr>
          <a:xfrm>
            <a:off x="4800600" y="2573280"/>
            <a:ext cx="3294000" cy="3292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http://www.firstaidwarehouse.co.uk/pic/280x280/10/63/seca_ct110_cardioconcept_pc_based_ecg_1063.jpg"/>
          <p:cNvPicPr/>
          <p:nvPr/>
        </p:nvPicPr>
        <p:blipFill>
          <a:blip r:embed="rId2"/>
          <a:srcRect l="0" t="14298" r="0" b="16322"/>
          <a:stretch/>
        </p:blipFill>
        <p:spPr>
          <a:xfrm>
            <a:off x="457200" y="3200400"/>
            <a:ext cx="373392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low of Electrical current in the Hear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240" y="2422080"/>
            <a:ext cx="4267080" cy="298764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normal ventricles, current flows fro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egati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from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eart toward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p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The first area that depolarizes is the </a:t>
            </a: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ventricular  septum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FADD-DC79-4721-802A-6BB2A4CA8CBA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32" name="Picture 5" descr="http://www.studentconsult.com/common/showimage.cfm?mediaISBN=0721602401&amp;FigFile=S02401-011-f005.jpg&amp;size=fullsize"/>
          <p:cNvPicPr/>
          <p:nvPr/>
        </p:nvPicPr>
        <p:blipFill>
          <a:blip r:embed="rId1"/>
          <a:stretch/>
        </p:blipFill>
        <p:spPr>
          <a:xfrm>
            <a:off x="4648320" y="2343240"/>
            <a:ext cx="4038480" cy="35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965240"/>
            <a:ext cx="4038480" cy="46641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urrent flows from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lectronega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nner surface of the heart to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electropositiv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uter surface                                (from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f the heart to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An electrode placed near the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base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of the heart is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lectronegative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,                 and near the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apex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is </a:t>
            </a:r>
            <a:r>
              <a:rPr b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lectroposi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low of Electrical current in the Hear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Content Placeholder 5" descr="http://www.studentconsult.com/common/showimage.cfm?mediaISBN=0721602401&amp;FigFile=S02401-011-f005.jpg&amp;size=fullsize"/>
          <p:cNvPicPr/>
          <p:nvPr/>
        </p:nvPicPr>
        <p:blipFill>
          <a:blip r:embed="rId1"/>
          <a:stretch/>
        </p:blipFill>
        <p:spPr>
          <a:xfrm>
            <a:off x="4648320" y="2343240"/>
            <a:ext cx="4038480" cy="35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ECG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5000"/>
            <a:ext cx="8229600" cy="3246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311040" indent="-3110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onstantia"/>
              </a:rPr>
              <a:t>Lead: two wires and their electrodes to make a complete circui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onstantia"/>
              </a:rPr>
              <a:t>The Bipolar Limb Leads: </a:t>
            </a: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(I, II, II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b0f0"/>
                </a:solidFill>
                <a:uFillTx/>
                <a:latin typeface="Constantia"/>
              </a:rPr>
              <a:t>Chest Leads: </a:t>
            </a:r>
            <a:r>
              <a:rPr b="1" lang="en-US" sz="2600" spc="-1" strike="noStrike">
                <a:solidFill>
                  <a:srgbClr val="00b0f0"/>
                </a:solidFill>
                <a:latin typeface="Constantia"/>
              </a:rPr>
              <a:t>(V1, V2, V3, V4, V5, V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0cf9b"/>
                </a:solidFill>
                <a:uFillTx/>
                <a:latin typeface="Constantia"/>
              </a:rPr>
              <a:t>Augmented Unipolar Limb Leads (aVR, aVL, aV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The Bipolar Limb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36280"/>
            <a:ext cx="4038480" cy="4435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0f0"/>
                </a:solidFill>
                <a:uFillTx/>
                <a:latin typeface="Constantia"/>
              </a:rPr>
              <a:t>Bipolar: </a:t>
            </a:r>
            <a:r>
              <a:rPr b="0" lang="en-US" sz="2800" spc="-1" strike="noStrike">
                <a:solidFill>
                  <a:srgbClr val="00b0f0"/>
                </a:solidFill>
                <a:latin typeface="Constantia"/>
              </a:rPr>
              <a:t>means that the ECG is recorded from two electro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7030a0"/>
                </a:solidFill>
                <a:uFillTx/>
                <a:latin typeface="Constantia"/>
              </a:rPr>
              <a:t>Lead 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The right arm : –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030a0"/>
                </a:solidFill>
                <a:latin typeface="Constantia"/>
              </a:rPr>
              <a:t>The left arm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70c0"/>
                </a:solidFill>
                <a:uFillTx/>
                <a:latin typeface="Constantia"/>
              </a:rPr>
              <a:t>Lead I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The right arm: -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The left leg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f0"/>
                </a:solidFill>
                <a:uFillTx/>
                <a:latin typeface="Constantia"/>
              </a:rPr>
              <a:t>Lead III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f0"/>
                </a:solidFill>
                <a:latin typeface="Constantia"/>
              </a:rPr>
              <a:t>The left arm: -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b0f0"/>
                </a:solidFill>
                <a:latin typeface="Constantia"/>
              </a:rPr>
              <a:t>The left leg: +v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3646-E479-4C42-A8D5-113E4A99850F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1" name="Picture 5" descr="http://www.studentconsult.com/common/showimage.cfm?mediaISBN=0721602401&amp;FigFile=S02401-011-f006.jpg&amp;size=fullsize"/>
          <p:cNvPicPr/>
          <p:nvPr/>
        </p:nvPicPr>
        <p:blipFill>
          <a:blip r:embed="rId1"/>
          <a:stretch/>
        </p:blipFill>
        <p:spPr>
          <a:xfrm>
            <a:off x="4676760" y="1752480"/>
            <a:ext cx="3981600" cy="4434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hest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371240"/>
            <a:ext cx="4038480" cy="533412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Recorded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from the anterior surface of the chest </a:t>
            </a:r>
            <a:r>
              <a:rPr b="0" lang="en-US" sz="2800" spc="-1" strike="noStrike" u="sng">
                <a:solidFill>
                  <a:srgbClr val="0f6fc6"/>
                </a:solidFill>
                <a:uFillTx/>
                <a:latin typeface="Constantia"/>
              </a:rPr>
              <a:t>(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V1, V2, V3, V4, V5, V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Positive electro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the che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different electrode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s the negative electrode connected to the right arm, left arm, and left le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9C98-C176-4F47-93C2-B09EFE32C3A3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45" name="Picture 2" descr="http://www.studentconsult.com/common/showimage.cfm?mediaISBN=0721602401&amp;FigFile=S02401-011-f008.jpg&amp;size=fullsize"/>
          <p:cNvPicPr/>
          <p:nvPr/>
        </p:nvPicPr>
        <p:blipFill>
          <a:blip r:embed="rId1"/>
          <a:stretch/>
        </p:blipFill>
        <p:spPr>
          <a:xfrm>
            <a:off x="4648320" y="2162160"/>
            <a:ext cx="4038480" cy="395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Chest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76160"/>
            <a:ext cx="8229600" cy="19810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V1 and V2: 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QRS are mainly 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negative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 because the chest leads are nearer to the base of the he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V3,V4 and V6 </a:t>
            </a:r>
            <a:r>
              <a:rPr b="0" lang="en-US" sz="2800" spc="-1" strike="noStrike">
                <a:solidFill>
                  <a:srgbClr val="7030a0"/>
                </a:solidFill>
                <a:latin typeface="Constantia"/>
              </a:rPr>
              <a:t>are mainly </a:t>
            </a:r>
            <a:r>
              <a:rPr b="0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positive</a:t>
            </a:r>
            <a:r>
              <a:rPr b="0" lang="en-US" sz="2800" spc="-1" strike="noStrike">
                <a:solidFill>
                  <a:srgbClr val="7030a0"/>
                </a:solidFill>
                <a:latin typeface="Constantia"/>
              </a:rPr>
              <a:t> because the chest electrode are nearer to the apex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http://www.studentconsult.com/common/showimage.cfm?mediaISBN=0721602401&amp;FigFile=S02401-011-f009.jpg&amp;size=fullsize"/>
          <p:cNvPicPr/>
          <p:nvPr/>
        </p:nvPicPr>
        <p:blipFill>
          <a:blip r:embed="rId1"/>
          <a:srcRect l="15128" t="0" r="14637" b="10007"/>
          <a:stretch/>
        </p:blipFill>
        <p:spPr>
          <a:xfrm>
            <a:off x="1828800" y="3886200"/>
            <a:ext cx="4952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Augmented Unipolar Lead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two limbs are connected to the negative terminal of the ECG, and the third limb is connected to the positi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en the positive terminal is on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right arm (aV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left arm (aV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2120" indent="-2714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The left leg (aV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All are similar to the                                                     standard limb l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Constantia"/>
              </a:rPr>
              <a:t>aVR </a:t>
            </a:r>
            <a:r>
              <a:rPr b="0" lang="en-US" sz="2400" spc="-1" strike="noStrike">
                <a:solidFill>
                  <a:srgbClr val="7030a0"/>
                </a:solidFill>
                <a:latin typeface="Constantia"/>
              </a:rPr>
              <a:t>lead is inver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482E-14F4-4AA2-9881-1DC11A0C099D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2" name="Picture 2" descr="http://www.studentconsult.com/common/showimage.cfm?mediaISBN=0721602401&amp;FigFile=S02401-011-f010.jpg&amp;size=fullsize"/>
          <p:cNvPicPr/>
          <p:nvPr/>
        </p:nvPicPr>
        <p:blipFill>
          <a:blip r:embed="rId1"/>
          <a:srcRect l="14303" t="0" r="15286" b="9087"/>
          <a:stretch/>
        </p:blipFill>
        <p:spPr>
          <a:xfrm>
            <a:off x="3962520" y="2971800"/>
            <a:ext cx="48765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ractical use of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Heart r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rmal interv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Regul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Single p-wave precedes every QRS comple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P-R interval is constant and within normal r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Cardiac axis Ax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641680"/>
            <a:ext cx="4038480" cy="29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Lecture Objectives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239560"/>
            <a:ext cx="8229600" cy="210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76280" indent="-476280"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onstantia"/>
              </a:rPr>
              <a:t>Identify waves of the normal ECG and the physiological cause of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6280" indent="-476280">
              <a:spcBef>
                <a:spcPts val="649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f0"/>
                </a:solidFill>
                <a:latin typeface="Constantia"/>
              </a:rPr>
              <a:t>Define the normal intervals in the ECG tr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76280" indent="-476280">
              <a:spcBef>
                <a:spcPts val="649"/>
              </a:spcBef>
              <a:buClr>
                <a:srgbClr val="0bd0d9"/>
              </a:buClr>
              <a:buSzPct val="99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termine the bipolar, unipolar and chest lea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Einthoven’s Triangl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28600" y="1523520"/>
            <a:ext cx="4572000" cy="4435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Enthoven’s Triangle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: is drawn around the area of the he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he two apices at the upper part of the triangle represent the points at which the two arms connect electrical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cf9b"/>
                </a:solidFill>
                <a:latin typeface="Constantia"/>
              </a:rPr>
              <a:t>The lower apex is the point at which the left leg conn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EDAA-FC2B-406A-A625-42CAFC2A5DEC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59" name="Content Placeholder 5" descr="http://www.studentconsult.com/common/showimage.cfm?mediaISBN=0721602401&amp;FigFile=S02401-011-f006.jpg&amp;size=fullsize"/>
          <p:cNvPicPr/>
          <p:nvPr/>
        </p:nvPicPr>
        <p:blipFill>
          <a:blip r:embed="rId1"/>
          <a:stretch/>
        </p:blipFill>
        <p:spPr>
          <a:xfrm>
            <a:off x="4933800" y="1523880"/>
            <a:ext cx="3981600" cy="4434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2392200"/>
            <a:ext cx="8229600" cy="195120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nstantia"/>
              </a:rPr>
              <a:t>Einthoven’s Law</a:t>
            </a:r>
            <a:r>
              <a:rPr b="0" lang="en-US" sz="2800" spc="-1" strike="noStrike">
                <a:solidFill>
                  <a:srgbClr val="0070c0"/>
                </a:solidFill>
                <a:latin typeface="Constantia"/>
              </a:rPr>
              <a:t>: if the electrical potential of  any two of the three bipolar limb leads are known, the third one can be determined mathematically by summing the first two (note the +ve and -ve sign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Einthoven’s Law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2133720" y="4648320"/>
            <a:ext cx="4724280" cy="12675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6fc6"/>
                </a:solidFill>
                <a:latin typeface="Constantia"/>
              </a:rPr>
              <a:t>The sum of the voltage in               Lead I + Lead III= Lead II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f6fc6"/>
                </a:solidFill>
                <a:uFillTx/>
                <a:latin typeface="Constantia"/>
              </a:rPr>
              <a:t>Einthoven’s la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For further readings and diagrams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5000"/>
            <a:ext cx="8229600" cy="18748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f6fc6"/>
                </a:solidFill>
                <a:uFillTx/>
                <a:latin typeface="Constantia"/>
              </a:rPr>
              <a:t>Textbook of Medical Physiology by Guyton &amp; H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hapter 11 (The Normal Electrocardiogram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The depolarization wave spread through th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electrical currents pass into the surrounding tiss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part of the current reaches the surface of the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dd9"/>
                </a:solidFill>
                <a:latin typeface="Constantia"/>
              </a:rPr>
              <a:t>The electrical potentials generated by these currents can be recorded from electrodes placed on the skin opposite the hea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9360">
            <a:solidFill>
              <a:srgbClr val="04617b"/>
            </a:solidFill>
            <a:miter/>
          </a:ln>
        </p:spPr>
        <p:txBody>
          <a:bodyPr anchor="t">
            <a:normAutofit fontScale="90000"/>
          </a:bodyPr>
          <a:p>
            <a:pPr marL="279720" indent="-27972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7030a0"/>
                </a:solidFill>
                <a:uFillTx/>
                <a:latin typeface="Constantia"/>
              </a:rPr>
              <a:t>The Electrocardiogram (ECG)</a:t>
            </a:r>
            <a:r>
              <a:rPr b="1" lang="en-US" sz="2800" spc="-1" strike="noStrike">
                <a:solidFill>
                  <a:srgbClr val="7030a0"/>
                </a:solidFill>
                <a:latin typeface="Constantia"/>
              </a:rPr>
              <a:t> is a recording of the electrical activity of the he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2438280" y="3200400"/>
            <a:ext cx="44229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The Normal Electrocardiogram (ECG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600"/>
            <a:ext cx="4038480" cy="326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11040" indent="-3110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P wave: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is caused by atrial depolariz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15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QRS complex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: is caused by depolarization of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1040" indent="-311040">
              <a:spcBef>
                <a:spcPts val="15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T wave: </a:t>
            </a:r>
            <a:r>
              <a:rPr b="0" lang="en-US" sz="2400" spc="-1" strike="noStrike">
                <a:solidFill>
                  <a:srgbClr val="00b0f0"/>
                </a:solidFill>
                <a:latin typeface="Constantia"/>
              </a:rPr>
              <a:t>repolarization of the ventri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21320" y="1981080"/>
            <a:ext cx="44244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Voltage and Calibration of the ECG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76320" y="1920960"/>
            <a:ext cx="4038480" cy="44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The vertical calibration line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:  Voltage(millivol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5 small lines = 1 mV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dd9"/>
                </a:solidFill>
                <a:uFillTx/>
                <a:latin typeface="Constantia"/>
              </a:rPr>
              <a:t>The horizontal calibration </a:t>
            </a:r>
            <a:r>
              <a:rPr b="0" lang="en-US" sz="2400" spc="-1" strike="noStrike" u="sng">
                <a:solidFill>
                  <a:srgbClr val="00b0f0"/>
                </a:solidFill>
                <a:uFillTx/>
                <a:latin typeface="Constantia"/>
              </a:rPr>
              <a:t>lines: Time (second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1 inch(25 small lines) = 1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Each inch is divided by 5 dark vertical lin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The interval between the dark lines= 0.2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thin line=0.04 secon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9EB1-0A3A-4AE5-A549-4429F7850F18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2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270320" y="2133720"/>
            <a:ext cx="472428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P-R interv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4038480" cy="5181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time between the beginning of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P w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the beginning of the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QRS complex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f6fc6"/>
                </a:solidFill>
                <a:latin typeface="Constantia"/>
              </a:rPr>
              <a:t>It is the interval between the beginning of electrical excitation of the atria and the beginning of excitation of the ventric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he P-R interval is about </a:t>
            </a: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0.16 seco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8E30-CD85-46C8-85E9-582E09CE1CC6}" type="slidenum">
              <a:rPr b="0" lang="en-US" sz="1200" spc="-1" strike="noStrike">
                <a:solidFill>
                  <a:srgbClr val="045c75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216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362320"/>
            <a:ext cx="4416480" cy="32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Q-T interva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4038480" cy="42670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traction of the ventricles last from the beginning of the Q wave to the end of the T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Q-T interval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s the time from the beginning of the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Q wave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to the end of the </a:t>
            </a:r>
            <a:r>
              <a:rPr b="0" i="1" lang="en-US" sz="2600" spc="-1" strike="noStrike" u="sng">
                <a:solidFill>
                  <a:srgbClr val="009dd9"/>
                </a:solidFill>
                <a:uFillTx/>
                <a:latin typeface="Constantia"/>
              </a:rPr>
              <a:t>T wa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Q-T interval is about </a:t>
            </a:r>
            <a:r>
              <a:rPr b="0" lang="en-US" sz="2600" spc="-1" strike="noStrike" u="sng">
                <a:solidFill>
                  <a:srgbClr val="04617b"/>
                </a:solidFill>
                <a:uFillTx/>
                <a:latin typeface="Constantia"/>
              </a:rPr>
              <a:t>0.35 seco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studentconsult.com/common/showimage.cfm?mediaISBN=0721602401&amp;FigFile=S02401-011-f001.jpg&amp;size=fullsize"/>
          <p:cNvPicPr/>
          <p:nvPr/>
        </p:nvPicPr>
        <p:blipFill>
          <a:blip r:embed="rId1"/>
          <a:srcRect l="15280" t="0" r="15472" b="6696"/>
          <a:stretch/>
        </p:blipFill>
        <p:spPr>
          <a:xfrm>
            <a:off x="4648320" y="2438280"/>
            <a:ext cx="4313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 u="sng">
                <a:solidFill>
                  <a:srgbClr val="04617b"/>
                </a:solidFill>
                <a:uFillTx/>
                <a:latin typeface="Calibri"/>
              </a:rPr>
              <a:t>Heart Rat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onstantia"/>
              </a:rPr>
              <a:t>The heart rate is the repetition of  the time interval between two successive heartbea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If the interval between 2 beats is 1 second , the heart rate is 60 beats per minu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05:08:58Z</dcterms:created>
  <dc:creator>Dr Mona Soliman</dc:creator>
  <dc:description/>
  <cp:keywords/>
  <dc:language>en-US</dc:language>
  <cp:lastModifiedBy>sara</cp:lastModifiedBy>
  <dcterms:modified xsi:type="dcterms:W3CDTF">2014-03-05T16:11:47Z</dcterms:modified>
  <cp:revision>90</cp:revision>
  <dc:subject/>
  <dc:title>Cardiovascular System Block Electrocardiogram</dc:title>
</cp:coreProperties>
</file>