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1B7-D16A-4746-B944-1002C4C8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CE55-E7FB-48CE-A3ED-C99396A7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0BB-5761-4E72-88AB-6778D5DC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E51-9F34-47FA-AA7E-6CF196BF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FE8-08EB-466C-A875-E4D54FA8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9804-2D23-4F71-9F11-9B3D37C2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D02-9FCA-4D95-B11B-8E0984B7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58C7-C747-4E22-A187-4F037D1D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A05-0430-4B24-86CA-340C5780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C7ED-6FB3-4E3E-997C-962FF013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C154-D894-44E6-85F0-5956339A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19E2-1DF4-4826-8BED-E1FB5494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9408-B386-4A42-A74E-90AB61FE2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44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3520" y="4191120"/>
            <a:ext cx="289548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15000" y="4343400"/>
            <a:ext cx="274320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Essam Sa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76720" y="3505320"/>
            <a:ext cx="2365200" cy="30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3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396252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posterior aortic si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ses forwa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ween the pulmonary trunk and the left au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nter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atrioventricular  groove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s into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artery  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ircumflex</a:t>
            </a:r>
            <a:r>
              <a:rPr b="1" i="1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Content Placeholder 4" descr=""/>
          <p:cNvPicPr/>
          <p:nvPr/>
        </p:nvPicPr>
        <p:blipFill>
          <a:blip r:embed="rId2"/>
          <a:stretch/>
        </p:blipFill>
        <p:spPr>
          <a:xfrm>
            <a:off x="4267080" y="990720"/>
            <a:ext cx="4343400" cy="4717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7315200" y="2286000"/>
            <a:ext cx="1219320" cy="53352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3" descr="C:\Documents and Settings\User\My Documents\Student Gray\3. Thorax\F66122-003-f068.jpg"/>
          <p:cNvPicPr/>
          <p:nvPr/>
        </p:nvPicPr>
        <p:blipFill>
          <a:blip r:embed="rId3"/>
          <a:srcRect l="12825" t="0" r="12825" b="3121"/>
          <a:stretch/>
        </p:blipFill>
        <p:spPr>
          <a:xfrm>
            <a:off x="4267080" y="4876920"/>
            <a:ext cx="1349640" cy="1442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Title 1"/>
          <p:cNvGrpSpPr/>
          <p:nvPr/>
        </p:nvGrpSpPr>
        <p:grpSpPr>
          <a:xfrm>
            <a:off x="1030320" y="731880"/>
            <a:ext cx="7242120" cy="1120680"/>
            <a:chOff x="1030320" y="731880"/>
            <a:chExt cx="7242120" cy="1120680"/>
          </a:xfrm>
        </p:grpSpPr>
        <p:pic>
          <p:nvPicPr>
            <p:cNvPr id="170" name="Title 1" descr=""/>
            <p:cNvPicPr/>
            <p:nvPr/>
          </p:nvPicPr>
          <p:blipFill>
            <a:blip r:embed="rId1"/>
            <a:stretch/>
          </p:blipFill>
          <p:spPr>
            <a:xfrm>
              <a:off x="1030320" y="731880"/>
              <a:ext cx="72421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143000" y="765360"/>
              <a:ext cx="68389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Anterior interventricular 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 txBox="1"/>
          <p:nvPr/>
        </p:nvSpPr>
        <p:spPr>
          <a:xfrm>
            <a:off x="4572000" y="1676520"/>
            <a:ext cx="4038480" cy="50292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escends in the anterior interventricular groove toward the      apex of the heart , (in most individuals  it passes around the apex and anastomoses with the right coronary 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e posterior IV groove, in one third ends at the apex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upplies major part of the heart including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ight and left ventric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nterior part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tricular Septu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eft diagonal artery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; one of the Ventricular branches, or  may arise  from trunk of the left coro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Left conus arte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2" descr="C:\Documents and Settings\User\My Documents\Student Gray\3. Thorax\F66122-003-f072a.jpg"/>
          <p:cNvPicPr/>
          <p:nvPr/>
        </p:nvPicPr>
        <p:blipFill>
          <a:blip r:embed="rId2"/>
          <a:srcRect l="0" t="0" r="0" b="4215"/>
          <a:stretch/>
        </p:blipFill>
        <p:spPr>
          <a:xfrm>
            <a:off x="457200" y="2362320"/>
            <a:ext cx="4038480" cy="3733560"/>
          </a:xfrm>
          <a:prstGeom prst="rect">
            <a:avLst/>
          </a:prstGeom>
          <a:ln w="0">
            <a:noFill/>
          </a:ln>
        </p:spPr>
      </p:pic>
      <p:sp>
        <p:nvSpPr>
          <p:cNvPr id="174" name="Oval 4"/>
          <p:cNvSpPr/>
          <p:nvPr/>
        </p:nvSpPr>
        <p:spPr>
          <a:xfrm>
            <a:off x="3048120" y="4876920"/>
            <a:ext cx="228600" cy="152280"/>
          </a:xfrm>
          <a:prstGeom prst="ellipse">
            <a:avLst/>
          </a:prstGeom>
          <a:solidFill>
            <a:srgbClr val="fdff6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5"/>
          <p:cNvSpPr/>
          <p:nvPr/>
        </p:nvSpPr>
        <p:spPr>
          <a:xfrm>
            <a:off x="2362320" y="4648320"/>
            <a:ext cx="152280" cy="22860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876560" y="1447560"/>
            <a:ext cx="426708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ds around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ft margin of the heart in the atrioventricular groove it gives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Left Marginal artery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eft margin of the left ventricle til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ventricula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sterior ventricula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nches to the left ventric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tri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nches to the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WordArt 7"/>
          <p:cNvSpPr txBox="1"/>
          <p:nvPr/>
        </p:nvSpPr>
        <p:spPr>
          <a:xfrm>
            <a:off x="1757520" y="549360"/>
            <a:ext cx="562896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533520" y="1828800"/>
            <a:ext cx="4114800" cy="36939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6"/>
          <p:cNvSpPr/>
          <p:nvPr/>
        </p:nvSpPr>
        <p:spPr>
          <a:xfrm>
            <a:off x="2209680" y="609480"/>
            <a:ext cx="5181840" cy="7642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Circumflex arte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3124080" y="4495680"/>
            <a:ext cx="152640" cy="76320"/>
          </a:xfrm>
          <a:prstGeom prst="ellipse">
            <a:avLst/>
          </a:prstGeom>
          <a:solidFill>
            <a:srgbClr val="6086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2971800" y="4038480"/>
            <a:ext cx="152280" cy="1224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2971800" y="3429000"/>
            <a:ext cx="76320" cy="460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3124080" y="3809880"/>
            <a:ext cx="76320" cy="7632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Oval 9"/>
          <p:cNvSpPr/>
          <p:nvPr/>
        </p:nvSpPr>
        <p:spPr>
          <a:xfrm>
            <a:off x="3276720" y="2971800"/>
            <a:ext cx="990360" cy="457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3505320" y="3886200"/>
            <a:ext cx="99036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19360" y="22096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(90 %) of population,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dominanc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rest (10%),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Interventricular arte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2" descr="C:\Documents and Settings\User\My Documents\Student Gray\3. Thorax\F66122-003-f072a.jpg"/>
          <p:cNvPicPr/>
          <p:nvPr/>
        </p:nvPicPr>
        <p:blipFill>
          <a:blip r:embed="rId1"/>
          <a:srcRect l="0" t="0" r="0" b="4215"/>
          <a:stretch/>
        </p:blipFill>
        <p:spPr>
          <a:xfrm>
            <a:off x="685800" y="2209680"/>
            <a:ext cx="3809880" cy="396252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080" y="4647960"/>
            <a:ext cx="5522760" cy="718920"/>
          </a:xfrm>
          <a:prstGeom prst="rect">
            <a:avLst/>
          </a:prstGeom>
          <a:solidFill>
            <a:srgbClr val="feff9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d7f00"/>
                </a:solidFill>
                <a:latin typeface="Times New Roman"/>
              </a:rPr>
              <a:t>Coronary Anastomosis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2640" y="5333760"/>
            <a:ext cx="6553080" cy="1143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stomoses between terminal branches of the right and left coronaries exist bu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large enoug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provide adequate blood supp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Content Placeholder 4" descr=""/>
          <p:cNvPicPr/>
          <p:nvPr/>
        </p:nvPicPr>
        <p:blipFill>
          <a:blip r:embed="rId1"/>
          <a:srcRect l="0" t="1235" r="0" b="1235"/>
          <a:stretch/>
        </p:blipFill>
        <p:spPr>
          <a:xfrm>
            <a:off x="1447920" y="612720"/>
            <a:ext cx="5867280" cy="4114800"/>
          </a:xfrm>
          <a:prstGeom prst="rect">
            <a:avLst/>
          </a:prstGeom>
          <a:ln w="0">
            <a:noFill/>
          </a:ln>
        </p:spPr>
      </p:pic>
      <p:sp>
        <p:nvSpPr>
          <p:cNvPr id="193" name="Oval 5"/>
          <p:cNvSpPr/>
          <p:nvPr/>
        </p:nvSpPr>
        <p:spPr>
          <a:xfrm>
            <a:off x="4495680" y="2590920"/>
            <a:ext cx="381240" cy="304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6"/>
          <p:cNvSpPr/>
          <p:nvPr/>
        </p:nvSpPr>
        <p:spPr>
          <a:xfrm>
            <a:off x="4572000" y="3200400"/>
            <a:ext cx="380880" cy="304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itle 1"/>
          <p:cNvGrpSpPr/>
          <p:nvPr/>
        </p:nvGrpSpPr>
        <p:grpSpPr>
          <a:xfrm>
            <a:off x="1152360" y="596880"/>
            <a:ext cx="6918480" cy="1744560"/>
            <a:chOff x="1152360" y="596880"/>
            <a:chExt cx="6918480" cy="1744560"/>
          </a:xfrm>
        </p:grpSpPr>
        <p:pic>
          <p:nvPicPr>
            <p:cNvPr id="196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596880"/>
              <a:ext cx="691848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152360" y="641520"/>
              <a:ext cx="683928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</a:rPr>
                <a:t>Arterial Supply of</a:t>
              </a:r>
              <a:br>
                <a:rPr sz="4000"/>
              </a:b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</a:rPr>
                <a:t>Conducting Syste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 txBox="1"/>
          <p:nvPr/>
        </p:nvSpPr>
        <p:spPr>
          <a:xfrm>
            <a:off x="4648320" y="2209680"/>
            <a:ext cx="44956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nuatrial node (SAN), atrioventricular node (AVN) &amp; atrioventricular bundle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 usually supplied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eae"/>
                </a:solidFill>
                <a:latin typeface="Times New Roman"/>
                <a:ea typeface="Times New Roman"/>
              </a:rPr>
              <a:t>Right bundle branch (RBB) of 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eae"/>
                </a:solidFill>
                <a:latin typeface="Times New Roman"/>
                <a:ea typeface="Times New Roman"/>
              </a:rPr>
              <a:t>Left bundle branch (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) of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both right and left coronaries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228600" y="2666880"/>
            <a:ext cx="4724280" cy="3353040"/>
          </a:xfrm>
          <a:prstGeom prst="rect">
            <a:avLst/>
          </a:prstGeom>
          <a:ln w="0">
            <a:noFill/>
          </a:ln>
        </p:spPr>
      </p:pic>
      <p:sp>
        <p:nvSpPr>
          <p:cNvPr id="200" name="Oval 5"/>
          <p:cNvSpPr/>
          <p:nvPr/>
        </p:nvSpPr>
        <p:spPr>
          <a:xfrm>
            <a:off x="2438280" y="297180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2286000" y="4419720"/>
            <a:ext cx="685800" cy="4572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2360" y="911160"/>
            <a:ext cx="6839280" cy="76824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d of the heart is drained into the right atrium through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onary sin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ly into the right atriu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62160" y="1599840"/>
            <a:ext cx="518148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1" i="1" lang="en-US" sz="2400" spc="-1" strike="noStrike" u="sng">
                <a:solidFill>
                  <a:srgbClr val="00b0f0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Great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Middle Cardiac Vei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Small Cardiac Ve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Times New Roman"/>
              </a:rPr>
              <a:t>Oblique vein of left atriu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6" name="Picture 2" descr="C:\Documents and Settings\User\My Documents\Student Gray\3. Thorax\F66122-003-f074.jpg"/>
          <p:cNvPicPr/>
          <p:nvPr/>
        </p:nvPicPr>
        <p:blipFill>
          <a:blip r:embed="rId1"/>
          <a:srcRect l="0" t="0" r="0" b="2595"/>
          <a:stretch/>
        </p:blipFill>
        <p:spPr>
          <a:xfrm>
            <a:off x="457200" y="167652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6"/>
          <p:cNvSpPr/>
          <p:nvPr/>
        </p:nvSpPr>
        <p:spPr>
          <a:xfrm flipV="1" rot="10800000">
            <a:off x="2209680" y="684720"/>
            <a:ext cx="4572000" cy="6858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2666880" y="5715000"/>
            <a:ext cx="68580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124080" y="5105520"/>
            <a:ext cx="685800" cy="22860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685800" y="4572000"/>
            <a:ext cx="762120" cy="152280"/>
          </a:xfrm>
          <a:prstGeom prst="rect">
            <a:avLst/>
          </a:prstGeom>
          <a:noFill/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724280" y="1599840"/>
            <a:ext cx="365760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opens into </a:t>
            </a:r>
            <a:r>
              <a:rPr b="1" lang="en-US" sz="2400" spc="-1" strike="noStrike">
                <a:solidFill>
                  <a:srgbClr val="063de8"/>
                </a:solidFill>
                <a:latin typeface="Times New Roman"/>
              </a:rPr>
              <a:t>Right Atrium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guarded by a val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15" name="Oval 6"/>
          <p:cNvSpPr/>
          <p:nvPr/>
        </p:nvSpPr>
        <p:spPr>
          <a:xfrm>
            <a:off x="2666880" y="6172200"/>
            <a:ext cx="1067040" cy="30492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362320" y="762120"/>
            <a:ext cx="4495680" cy="642600"/>
          </a:xfrm>
          <a:prstGeom prst="rect">
            <a:avLst/>
          </a:prstGeom>
          <a:solidFill>
            <a:srgbClr val="feff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876560" y="1915920"/>
            <a:ext cx="4267080" cy="42145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Ve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1. Anterior cardiac veins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open directly into the  Right Atrium.</a:t>
            </a: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Venae Cordis minime ; small vein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open directly into the heart champ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685800" y="190512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2590920" y="762120"/>
            <a:ext cx="411480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</a:rPr>
              <a:t>Venous Draina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80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657600" y="1600200"/>
            <a:ext cx="51055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5"/>
          <p:cNvCxnSpPr/>
          <p:nvPr/>
        </p:nvCxnSpPr>
        <p:spPr>
          <a:xfrm flipH="1">
            <a:off x="6400440" y="2971440"/>
            <a:ext cx="53424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934320" y="24382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onary art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343400" y="1828800"/>
            <a:ext cx="4114800" cy="190512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scending Aorta.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Immediately above the aortic valv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976320" y="1600200"/>
            <a:ext cx="3214800" cy="41432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6"/>
          <p:cNvSpPr/>
          <p:nvPr/>
        </p:nvSpPr>
        <p:spPr>
          <a:xfrm>
            <a:off x="2133720" y="3276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Straight Arrow Connector 10"/>
          <p:cNvCxnSpPr/>
          <p:nvPr/>
        </p:nvCxnSpPr>
        <p:spPr>
          <a:xfrm flipH="1" flipV="1">
            <a:off x="1218600" y="2057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Straight Arrow Connector 13"/>
          <p:cNvCxnSpPr/>
          <p:nvPr/>
        </p:nvCxnSpPr>
        <p:spPr>
          <a:xfrm flipV="1">
            <a:off x="2818440" y="1904760"/>
            <a:ext cx="53388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Box 14"/>
          <p:cNvSpPr/>
          <p:nvPr/>
        </p:nvSpPr>
        <p:spPr>
          <a:xfrm>
            <a:off x="32004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Title 1"/>
          <p:cNvGrpSpPr/>
          <p:nvPr/>
        </p:nvGrpSpPr>
        <p:grpSpPr>
          <a:xfrm>
            <a:off x="457200" y="237960"/>
            <a:ext cx="8156520" cy="1011240"/>
            <a:chOff x="457200" y="237960"/>
            <a:chExt cx="8156520" cy="1011240"/>
          </a:xfrm>
        </p:grpSpPr>
        <p:pic>
          <p:nvPicPr>
            <p:cNvPr id="131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37960"/>
              <a:ext cx="81565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475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aortic sinu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forward between pulmonary   trunk and right auric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etween the Right Auricle and    the Pulmonary trunk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is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ous posterioly along the atrioventricular groov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 artery in the posterior interventricular groove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coronary-aa"/>
          <p:cNvPicPr/>
          <p:nvPr/>
        </p:nvPicPr>
        <p:blipFill>
          <a:blip r:embed="rId2"/>
          <a:srcRect l="7699" t="1462" r="0" b="41504"/>
          <a:stretch/>
        </p:blipFill>
        <p:spPr>
          <a:xfrm>
            <a:off x="4724280" y="1523880"/>
            <a:ext cx="4114800" cy="480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7010280" y="2362320"/>
            <a:ext cx="609840" cy="30456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876920" y="3886200"/>
            <a:ext cx="533160" cy="228600"/>
          </a:xfrm>
          <a:prstGeom prst="rect">
            <a:avLst/>
          </a:pr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952880" y="1523520"/>
            <a:ext cx="3733920" cy="480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Coronary Art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 ventricle &amp; Atrioventricular septum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40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00279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Oval 9"/>
          <p:cNvSpPr/>
          <p:nvPr/>
        </p:nvSpPr>
        <p:spPr>
          <a:xfrm>
            <a:off x="2514600" y="4038480"/>
            <a:ext cx="152280" cy="228600"/>
          </a:xfrm>
          <a:prstGeom prst="ellipse">
            <a:avLst/>
          </a:prstGeom>
          <a:solidFill>
            <a:srgbClr val="3da5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495680" y="1523520"/>
            <a:ext cx="4648320" cy="53341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1) Right Conus artery: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infundibulum and the upper part of the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nterior Ventricular arteries; (2 or 3 branche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2)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rginal artery;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 the largest  branch, runs along the inferior margin toward the 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819520" y="685800"/>
            <a:ext cx="3504960" cy="70344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Branch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209680" y="34290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31f74"/>
                </a:solidFill>
                <a:latin typeface="Times New Roman"/>
              </a:rPr>
              <a:t>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8" name="Straight Arrow Connector 11"/>
          <p:cNvCxnSpPr>
            <a:stCxn id="147" idx="1"/>
            <a:endCxn id="147" idx="1"/>
          </p:cNvCxnSpPr>
          <p:nvPr/>
        </p:nvCxnSpPr>
        <p:spPr>
          <a:xfrm flipH="1" flipV="1">
            <a:off x="2208960" y="3582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9" name="Straight Arrow Connector 13"/>
          <p:cNvCxnSpPr/>
          <p:nvPr/>
        </p:nvCxnSpPr>
        <p:spPr>
          <a:xfrm flipH="1" flipV="1">
            <a:off x="2133000" y="3276000"/>
            <a:ext cx="229320" cy="229320"/>
          </a:xfrm>
          <a:prstGeom prst="straightConnector1">
            <a:avLst/>
          </a:prstGeom>
          <a:ln w="12600">
            <a:solidFill>
              <a:srgbClr val="050824"/>
            </a:solidFill>
            <a:miter/>
            <a:tailEnd len="med" type="arrow" w="med"/>
          </a:ln>
        </p:spPr>
      </p:cxnSp>
      <p:pic>
        <p:nvPicPr>
          <p:cNvPr id="150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152280" y="1523880"/>
            <a:ext cx="4343400" cy="4800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"/>
          <p:cNvSpPr/>
          <p:nvPr/>
        </p:nvSpPr>
        <p:spPr>
          <a:xfrm>
            <a:off x="1905120" y="4343400"/>
            <a:ext cx="914400" cy="15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11"/>
          <p:cNvSpPr/>
          <p:nvPr/>
        </p:nvSpPr>
        <p:spPr>
          <a:xfrm flipV="1">
            <a:off x="1600200" y="3351960"/>
            <a:ext cx="1143000" cy="22860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209680" y="4724280"/>
            <a:ext cx="68580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038840" cy="533412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4) Posterior ventricular arteries; (2 branche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the diaphragmatic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(5) Atrial branches: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o the right atrium; anterior and lateral su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sterior surface of both atr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(6)The Artery of the SAN,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lso supplies both atri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914400"/>
            <a:ext cx="4419720" cy="5410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2209680" y="1143000"/>
            <a:ext cx="685800" cy="380880"/>
          </a:xfrm>
          <a:prstGeom prst="rect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343040" y="1295280"/>
            <a:ext cx="4800600" cy="50292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7) Posterior interventricular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rteri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uns toward the apex, to supplies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aphragmatic surface of the R &amp; L Ventricles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Posterior part of the IVS excluding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Septal branch to the AV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N.b) in 10% it is replaced by a branch from the left corona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1266840" y="404640"/>
            <a:ext cx="661032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Picture 2" descr="G:\heart\scan0001.jpg"/>
          <p:cNvPicPr/>
          <p:nvPr/>
        </p:nvPicPr>
        <p:blipFill>
          <a:blip r:embed="rId1"/>
          <a:srcRect l="1871" t="0" r="4745" b="0"/>
          <a:stretch/>
        </p:blipFill>
        <p:spPr>
          <a:xfrm>
            <a:off x="228600" y="1523880"/>
            <a:ext cx="3921120" cy="48006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371600" y="3124080"/>
            <a:ext cx="1066680" cy="22860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2514600" y="5867280"/>
            <a:ext cx="1219320" cy="304920"/>
          </a:xfrm>
          <a:prstGeom prst="rect">
            <a:avLst/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cp:keywords/>
  <dc:language>en-US</dc:language>
  <cp:lastModifiedBy>عبدالرحمن</cp:lastModifiedBy>
  <cp:lastPrinted>2009-04-22T19:24:48Z</cp:lastPrinted>
  <dcterms:modified xsi:type="dcterms:W3CDTF">2015-03-29T08:23:38Z</dcterms:modified>
  <cp:revision>146</cp:revision>
  <dc:subject/>
  <dc:title>Ch 21: Cardiovascular System - The Heart -</dc:title>
</cp:coreProperties>
</file>