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DFE-5A2E-4379-B5A1-09F677A1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656-7575-4294-A1F2-2B72483E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9E5-FE3A-483B-9DF9-A5830D02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14D-5506-4506-A412-CAE8CE5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7C7-C879-47A7-9BF4-A87C606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34A-E983-4030-AD2C-651AB64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E77-B4EA-4567-9911-1144BC8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26-8A11-4B06-8494-EC78F6F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52A-76CB-4BF6-993E-46FBC29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BA3-108E-4E52-B765-6EFC2B3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B9C-01DA-41C4-B965-5D436599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F90-C8A5-4FC1-A39F-A77B35F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1A0-EE45-450C-850C-CBC6BF416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3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ses for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pulmonary trunk and the left au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t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atrioventricular  groove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s i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artery 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Content Placeholder 4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43400" cy="4717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315200" y="2286000"/>
            <a:ext cx="1219320" cy="5335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3" descr="C:\Documents and Settings\User\My Documents\Student Gray\3. Thorax\F66122-003-f068.jpg"/>
          <p:cNvPicPr/>
          <p:nvPr/>
        </p:nvPicPr>
        <p:blipFill>
          <a:blip r:embed="rId3"/>
          <a:srcRect l="12825" t="0" r="12825" b="3121"/>
          <a:stretch/>
        </p:blipFill>
        <p:spPr>
          <a:xfrm>
            <a:off x="4267080" y="4876920"/>
            <a:ext cx="1349640" cy="14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Title 1"/>
          <p:cNvGrpSpPr/>
          <p:nvPr/>
        </p:nvGrpSpPr>
        <p:grpSpPr>
          <a:xfrm>
            <a:off x="1030320" y="731880"/>
            <a:ext cx="7242120" cy="1120680"/>
            <a:chOff x="1030320" y="731880"/>
            <a:chExt cx="7242120" cy="1120680"/>
          </a:xfrm>
        </p:grpSpPr>
        <p:pic>
          <p:nvPicPr>
            <p:cNvPr id="170" name="Title 1" descr=""/>
            <p:cNvPicPr/>
            <p:nvPr/>
          </p:nvPicPr>
          <p:blipFill>
            <a:blip r:embed="rId1"/>
            <a:stretch/>
          </p:blipFill>
          <p:spPr>
            <a:xfrm>
              <a:off x="1030320" y="731880"/>
              <a:ext cx="724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143000" y="765360"/>
              <a:ext cx="68389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nterior interventricular 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4572000" y="1676520"/>
            <a:ext cx="403848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cends in the anterior interventricular groove toward the      apex of the heart , (in most individuals  it passes around the apex and anastomoses with the right coronary 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posterior IV groove, in one third ends at the apex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upplies major part of the heart including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and left ventric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terior part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ricular Sept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eft diagonal artery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 one of the Ventricular branches, or  may arise  from trunk of the left coro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eft conus arte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2" descr="C:\Documents and Settings\User\My Documents\Student Gray\3. Thorax\F66122-003-f072a.jpg"/>
          <p:cNvPicPr/>
          <p:nvPr/>
        </p:nvPicPr>
        <p:blipFill>
          <a:blip r:embed="rId2"/>
          <a:srcRect l="0" t="0" r="0" b="4215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sp>
        <p:nvSpPr>
          <p:cNvPr id="174" name="Oval 4"/>
          <p:cNvSpPr/>
          <p:nvPr/>
        </p:nvSpPr>
        <p:spPr>
          <a:xfrm>
            <a:off x="3048120" y="4876920"/>
            <a:ext cx="228600" cy="152280"/>
          </a:xfrm>
          <a:prstGeom prst="ellipse">
            <a:avLst/>
          </a:prstGeom>
          <a:solidFill>
            <a:srgbClr val="fdff6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2362320" y="4648320"/>
            <a:ext cx="152280" cy="2286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76560" y="1447560"/>
            <a:ext cx="42670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ds around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ft margin of the heart in the atrioventricular groove it gives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eft Marginal artery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eft margin of the left ventricle ti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sterior 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es to the left ventri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tri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es to the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1757520" y="549360"/>
            <a:ext cx="562896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533520" y="1828800"/>
            <a:ext cx="4114800" cy="3693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2209680" y="609480"/>
            <a:ext cx="5181840" cy="7642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rcumflex ar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3124080" y="4495680"/>
            <a:ext cx="152640" cy="76320"/>
          </a:xfrm>
          <a:prstGeom prst="ellipse">
            <a:avLst/>
          </a:prstGeom>
          <a:solidFill>
            <a:srgbClr val="6086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2971800" y="4038480"/>
            <a:ext cx="152280" cy="122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2971800" y="3429000"/>
            <a:ext cx="7632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124080" y="3809880"/>
            <a:ext cx="76320" cy="7632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3276720" y="2971800"/>
            <a:ext cx="99036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3505320" y="3886200"/>
            <a:ext cx="99036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19360" y="2209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(90 %) of population,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dominanc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st (10%),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art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685800" y="2209680"/>
            <a:ext cx="3809880" cy="396252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080" y="4647960"/>
            <a:ext cx="5522760" cy="718920"/>
          </a:xfrm>
          <a:prstGeom prst="rect">
            <a:avLst/>
          </a:prstGeom>
          <a:solidFill>
            <a:srgbClr val="feff9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f00"/>
                </a:solidFill>
                <a:latin typeface="Times New Roman"/>
              </a:rPr>
              <a:t>Coronary Anastomo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655308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stomoses between terminal branches of the right and left coronaries exist bu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large enoug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adequate blood su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rcRect l="0" t="1235" r="0" b="1235"/>
          <a:stretch/>
        </p:blipFill>
        <p:spPr>
          <a:xfrm>
            <a:off x="1447920" y="612720"/>
            <a:ext cx="586728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Oval 5"/>
          <p:cNvSpPr/>
          <p:nvPr/>
        </p:nvSpPr>
        <p:spPr>
          <a:xfrm>
            <a:off x="4495680" y="2590920"/>
            <a:ext cx="381240" cy="304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4572000" y="3200400"/>
            <a:ext cx="380880" cy="304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196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4648320" y="2209680"/>
            <a:ext cx="44956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nuatrial node (SAN), atrioventricular node (AVN) &amp; atrioventricular bundle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usually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eae"/>
                </a:solidFill>
                <a:latin typeface="Times New Roman"/>
                <a:ea typeface="Times New Roman"/>
              </a:rPr>
              <a:t>Right bundle branch (RBB) of 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eae"/>
                </a:solidFill>
                <a:latin typeface="Times New Roman"/>
                <a:ea typeface="Times New Roman"/>
              </a:rPr>
              <a:t>Left bundle branch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both right and left coronari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00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2360" y="911160"/>
            <a:ext cx="6839280" cy="7682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of the heart is drained into the right atrium through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nary sin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into the right atr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51814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Great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Middle Cardiac Vei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Small Cardiac Ve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Oblique vein of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6" name="Picture 2" descr="C:\Documents and Settings\User\My Documents\Student Gray\3. Thorax\F66122-003-f074.jpg"/>
          <p:cNvPicPr/>
          <p:nvPr/>
        </p:nvPicPr>
        <p:blipFill>
          <a:blip r:embed="rId1"/>
          <a:srcRect l="0" t="0" r="0" b="2595"/>
          <a:stretch/>
        </p:blipFill>
        <p:spPr>
          <a:xfrm>
            <a:off x="457200" y="16765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 flipV="1" rot="10800000">
            <a:off x="2209680" y="684720"/>
            <a:ext cx="4572000" cy="6858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2666880" y="5715000"/>
            <a:ext cx="68580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124080" y="5105520"/>
            <a:ext cx="685800" cy="22860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85800" y="4572000"/>
            <a:ext cx="76212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724280" y="1599840"/>
            <a:ext cx="365760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opens into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Right Atriu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15" name="Oval 6"/>
          <p:cNvSpPr/>
          <p:nvPr/>
        </p:nvSpPr>
        <p:spPr>
          <a:xfrm>
            <a:off x="2666880" y="6172200"/>
            <a:ext cx="1067040" cy="3049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362320" y="762120"/>
            <a:ext cx="4495680" cy="642600"/>
          </a:xfrm>
          <a:prstGeom prst="rect">
            <a:avLst/>
          </a:prstGeom>
          <a:solidFill>
            <a:srgbClr val="fef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876560" y="1915920"/>
            <a:ext cx="4267080" cy="42145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1. Anterior cardiac veins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open directly into the  Right Atrium.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Venae Cordis minime ; small vein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pen directly into the heart champ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685800" y="19051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2590920" y="762120"/>
            <a:ext cx="411480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400440" y="2971440"/>
            <a:ext cx="53424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onary ar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343400" y="1828800"/>
            <a:ext cx="4114800" cy="190512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cending Aorta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mmediately above the aortic val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6320" y="160020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33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10"/>
          <p:cNvCxnSpPr/>
          <p:nvPr/>
        </p:nvCxnSpPr>
        <p:spPr>
          <a:xfrm flipH="1" flipV="1">
            <a:off x="1218600" y="2057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Straight Arrow Connector 13"/>
          <p:cNvCxnSpPr/>
          <p:nvPr/>
        </p:nvCxnSpPr>
        <p:spPr>
          <a:xfrm flipV="1">
            <a:off x="2818440" y="1904760"/>
            <a:ext cx="53388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14"/>
          <p:cNvSpPr/>
          <p:nvPr/>
        </p:nvSpPr>
        <p:spPr>
          <a:xfrm>
            <a:off x="32004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Title 1"/>
          <p:cNvGrpSpPr/>
          <p:nvPr/>
        </p:nvGrpSpPr>
        <p:grpSpPr>
          <a:xfrm>
            <a:off x="457200" y="237960"/>
            <a:ext cx="8156520" cy="1011240"/>
            <a:chOff x="457200" y="237960"/>
            <a:chExt cx="8156520" cy="1011240"/>
          </a:xfrm>
        </p:grpSpPr>
        <p:pic>
          <p:nvPicPr>
            <p:cNvPr id="131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37960"/>
              <a:ext cx="81565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aortic sin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forward between pulmonary   trunk and right auric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etween the Right Auricle and    the Pulmonary trun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ous posterioly along the atrioventricular groov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 artery in the posterior interventricular groov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coronary-aa"/>
          <p:cNvPicPr/>
          <p:nvPr/>
        </p:nvPicPr>
        <p:blipFill>
          <a:blip r:embed="rId2"/>
          <a:srcRect l="7699" t="1462" r="0" b="41504"/>
          <a:stretch/>
        </p:blipFill>
        <p:spPr>
          <a:xfrm>
            <a:off x="4724280" y="1523880"/>
            <a:ext cx="4114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7010280" y="2362320"/>
            <a:ext cx="609840" cy="3045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876920" y="3886200"/>
            <a:ext cx="533160" cy="2286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52880" y="1523520"/>
            <a:ext cx="3733920" cy="480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Coronary Art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0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2514600" y="4038480"/>
            <a:ext cx="152280" cy="228600"/>
          </a:xfrm>
          <a:prstGeom prst="ellipse">
            <a:avLst/>
          </a:prstGeom>
          <a:solidFill>
            <a:srgbClr val="3d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1) Right Conus artery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infundibulum and the upper part of the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erior Ventricular arteries; (2 or 3 branch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rginal artery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largest  branch, runs along the inferior margin toward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819520" y="685800"/>
            <a:ext cx="350496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ran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2096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1f74"/>
                </a:solidFill>
                <a:latin typeface="Times New Roman"/>
              </a:rPr>
              <a:t>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Straight Arrow Connector 11"/>
          <p:cNvCxnSpPr>
            <a:stCxn id="147" idx="1"/>
            <a:endCxn id="147" idx="1"/>
          </p:cNvCxnSpPr>
          <p:nvPr/>
        </p:nvCxnSpPr>
        <p:spPr>
          <a:xfrm flipH="1" flipV="1">
            <a:off x="2208960" y="3582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9" name="Straight Arrow Connector 13"/>
          <p:cNvCxnSpPr/>
          <p:nvPr/>
        </p:nvCxnSpPr>
        <p:spPr>
          <a:xfrm flipH="1" flipV="1">
            <a:off x="2133000" y="3276000"/>
            <a:ext cx="229320" cy="229320"/>
          </a:xfrm>
          <a:prstGeom prst="straightConnector1">
            <a:avLst/>
          </a:prstGeom>
          <a:ln w="12600">
            <a:solidFill>
              <a:srgbClr val="050824"/>
            </a:solidFill>
            <a:miter/>
            <a:tailEnd len="med" type="arrow" w="med"/>
          </a:ln>
        </p:spPr>
      </p:cxnSp>
      <p:pic>
        <p:nvPicPr>
          <p:cNvPr id="150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152280" y="152388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905120" y="4343400"/>
            <a:ext cx="914400" cy="15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 flipV="1">
            <a:off x="1600200" y="3351960"/>
            <a:ext cx="1143000" cy="2286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209680" y="4724280"/>
            <a:ext cx="6858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03884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4) Posterior ventricular arteries; (2 branch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diaphragmatic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5) Atrial branche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 the right atrium; anterior and lateral su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sterior surface of both a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6)The Artery of the SAN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so supplies both atr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914400"/>
            <a:ext cx="4419720" cy="5410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2209680" y="1143000"/>
            <a:ext cx="685800" cy="38088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7) Posterior interventricula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ter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uns toward the apex, to supplies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phragmatic surface of the R &amp; L Ventricle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Posterior part of the IVS excluding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Septal branch to the AV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.b) in 10% it is replaced by a branch from the left corona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1266840" y="404640"/>
            <a:ext cx="661032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1523880"/>
            <a:ext cx="392112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371600" y="3124080"/>
            <a:ext cx="1066680" cy="2286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514600" y="5867280"/>
            <a:ext cx="1219320" cy="3049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cp:keywords/>
  <dc:language>en-US</dc:language>
  <cp:lastModifiedBy>عبدالرحمن</cp:lastModifiedBy>
  <cp:lastPrinted>2009-04-22T19:24:48Z</cp:lastPrinted>
  <dcterms:modified xsi:type="dcterms:W3CDTF">2015-03-29T08:23:38Z</dcterms:modified>
  <cp:revision>146</cp:revision>
  <dc:subject/>
  <dc:title>Ch 21: Cardiovascular System - The Heart -</dc:title>
</cp:coreProperties>
</file>