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2BA-885F-4C33-B1E2-6D6E81C0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573-0002-4292-B2B2-95FD35D7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CF4-9BC1-461C-A31D-7C5B90DD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2D20-84C8-4446-B2D7-3AB6E25F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B80E-73D6-4211-A6D3-908353ADE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0CA4-80DC-4ECA-AE76-98EC2EE0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CC41-6C22-455C-95AE-123E3402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D389-95AF-4135-8D17-8987E6E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1478-67DC-4903-AB65-F8274FD6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B0CF-6E87-4103-B52C-2FCDA387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C251-1BB8-47B1-9691-2337283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9AE4-2190-4625-869E-F8E224C6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19A1-40DA-4FDA-B8D0-F16100E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EC12-BAFA-436A-A6DB-4BCE36AA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6A44-34BE-4811-AA7A-361100A6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A932-BCAB-489B-92EB-A71E36CB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395F-CD13-4843-9415-551E7942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2B0C-DE3D-40E5-A55B-66A8AF61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BE3-F57F-4051-B475-783CB23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6A9-116D-4C28-B34D-D02FB945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1578-C486-45CA-A5DE-322900AC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50F1-D73D-42E0-B2B2-27904BD3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938-BA76-4D0F-BEA9-F58CDAB1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52D-8E9B-4E02-86D4-08D72206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08C-9E6A-48C7-AC17-F41EF3053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69C7-90C7-46C0-BF85-9F57507200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UG</cp:lastModifiedBy>
  <dcterms:modified xsi:type="dcterms:W3CDTF">2015-03-08T07:43:22Z</dcterms:modified>
  <cp:revision>44</cp:revision>
  <dc:subject/>
  <dc:title>Slide 1</dc:title>
</cp:coreProperties>
</file>