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152-0E5B-43E1-BCDD-E3D691BA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FC8-CF55-4591-AA3F-CED8656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E8B-E7CE-49F1-9B62-DCAEC4FE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8A3-EFD4-4B53-B8DE-CF034507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52E-17BD-4132-BA49-AB79C853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C8C4-D0DE-4A09-A731-08EB723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ACC9-0F1C-469F-A132-90599D5C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14AB-41CC-4EF0-A2E9-3AC61551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6F1-49B6-4A9B-8217-9AF56692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BE2C-5CF3-47B6-973B-D44E9B7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742-31EF-4D08-A568-BE305A1F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79C-822D-42C9-8E4C-B97B2276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372E-A2E4-4122-AF97-AD30F9B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615-A373-48F2-A8D8-EC8B704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F26A-F10D-4D7C-AA98-3E5909A8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5B8E-046B-425C-BCCD-93C187C1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29EA-CC79-403E-8C9B-7E4E7FD1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3A5-C1F6-4954-BBC1-9678C4C5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D71-34BE-4E15-BD90-44824CA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4B0-BB81-4D00-808A-AF17BD3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3C6-B361-4C30-BDED-52FE4B7F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2D7-4C21-416B-96BE-78AE33F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48A-08F1-4005-9BB8-69569DC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BF3-B7C9-4234-B6A4-CDF2B90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E56-253E-470C-B938-39D9658E8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829-7AFF-4A69-AB62-396857E1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UG</cp:lastModifiedBy>
  <dcterms:modified xsi:type="dcterms:W3CDTF">2015-03-08T07:43:22Z</dcterms:modified>
  <cp:revision>44</cp:revision>
  <dc:subject/>
  <dc:title>Slide 1</dc:title>
</cp:coreProperties>
</file>